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ADE9-7E36-4D56-BFA7-726B5A18C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A9F9-5041-4582-B8BF-8FD25F6F23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3395-D363-4DE6-99FA-BA42D0DC23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20CF-D3FF-4302-B445-0116A57117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A7B7-6767-4BEE-BAC9-855BEF8DD93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EE21-C836-4C12-8903-3EB744F0CEF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A3F9-8962-4D41-94E7-718FE46895C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2AF6-A57B-4AAA-A41B-B7232A580C4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29B6-F808-4EEA-9B27-F495E9B4671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EC62-2B45-42BA-A796-546740B08B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6EA9-DBBC-4A4B-AEEE-CBD38F65137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145E0-263C-4687-ABFE-0040AC27C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3D92-2019-4D15-AA9C-19B9AF8FB23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2A870-2345-4CE2-914C-D4B203DF20A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9676B-635A-4F58-9C1E-30FDDBAE5E8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827B0-F2BF-4812-841E-FC99BAA036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B9A37-CAF1-4FA2-B10A-E1E3547041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3BC1F-B123-41AF-BCE1-3297691B097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1F6F1-92BA-43F0-9F18-E9E1F0DE4DB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B1ABF-9D10-458A-9473-E7F136412A4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B43B7-E2B2-443D-BD8E-2E58F270D4A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708A5-A8F3-4BF0-AC16-5404A70C625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3254C-4364-487F-B4C9-605F9E897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4808-3641-41E9-9C4E-57E9D5B0B6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9E8C2-E021-4170-B6F8-DE8DF11B9DF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F93DA-85CC-4B1B-8CEF-DAC9EF9BAFA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28A06-B605-47E0-980E-3B5F87B4965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762FB-CE49-4A06-B32E-8A32118AC91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9B1FA-9524-48D7-987E-84663D9B753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CB894-30A9-46E1-A44B-7096B48A526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CD00C-3625-42D4-8279-1785CBBE562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7EA83-3434-45F4-88A7-3C62380ECA0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82925-7788-4D35-A260-94AC0AB6457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9C95E-FAA4-4C06-9BB0-6BEEA2CED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5830-1310-457A-AB3B-F0A27E9015D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5B7D4-0AAC-491F-B8A5-93282C69273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E8D62-41A8-428B-8FE8-33B5D6CE5C6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F1A2E-E96A-4452-8934-E1842F0C14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5D1E-C69A-448B-A7ED-82A88DA471C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B20C-21F5-4410-BA54-C41085B801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0251-63A4-40F6-B1A7-BDABB71E342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0470-E562-4A86-9517-A976FAA59E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2089-7728-4446-9E01-69BE28F7EAE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5CDE-DADD-4D61-973D-BB5AE2A1101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02914-746C-420E-A25E-F8F4F96CA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8F12-6492-44FE-8137-004AE542B86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C8B8-EDC5-4559-9F68-76A6AF9EF8B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DDBD-E7CF-4EAA-9CEA-BF90D42DB7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B405-7E1B-4973-B887-8BB359545C0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792B-CCB8-4675-B32B-DE0B7438C4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3406-4103-40F9-9577-D9FE6176BA8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F7C886-76CC-4269-B766-7CB9AB77077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559B02-FB41-493C-A46B-16CBAB99DA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1B660A-E243-4CCD-9E67-FABBC71159C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52D508-007D-4E17-B9E5-D7EFED2F1AE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882835-360D-42E8-8A78-AFC00700E0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E4FE-0FC7-4A90-AA7F-FBBFDDDA5FA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F84CB-E525-438A-9E2F-5FED4BC3166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AC7D49-619A-487E-94AF-E7F42118DB6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A357D3-0F11-46A3-AE95-EB515C97D82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58D17-9726-474B-A98C-5913619A85C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669E8B-2736-4EF6-926C-ED78E19D096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152EB4-C590-4B36-837C-1C5EA00706A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C4F5B-3EA6-4C48-BA38-7E51B2469FF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EC483-8EF3-49BE-8512-C59DE788DC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E80FD-B0B8-4D69-93A1-0F6E4650681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581CA-A53B-4AAD-A8EE-C72161849F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7613-538B-490E-AA9E-0F92B359C8A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516F1-DD62-4DF4-A8F2-E6CB9544F28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5D755-1320-4D1E-8C04-D5DE50F3326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916BA-EE9E-4AE8-956D-E30EF344948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7DAA4-BF74-420D-AB26-B0CCCF941DE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0B219-4A3D-4CDA-BA2C-1CC1124D3EA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98E44-27D4-4BCB-9B9E-C26B945601C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C41BD-D334-41A9-8CAF-87381C1CAEA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A5D84-2FC4-4EBB-9A7A-F5921E8F5B8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A6841-B4C1-4C4C-A08F-38B22421BE3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391F-E8DC-4D0E-B70F-C23EDF5D70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0CF2-98D5-4031-8F38-D0C3240A47E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0BFF-BF94-43C1-9977-6C1449D798F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5F1B-1775-45C9-A1E8-5F0AF5F18CB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C2D68-3892-404D-A3DC-6473BE515E0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007A9-C7C1-4231-95AB-BC77EED3741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7D07D-2396-45C1-900B-F76DEC6497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B4373-71B8-41F2-B0A5-9F3486EC44A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800BD-F466-4477-AADD-EDA67BAC384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0E0B-9904-4E79-BE25-E4A36D535AC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C777B-4964-4CDA-AE2A-747C7EEF65B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FC63-A045-445A-8BE9-EFCDFCAD4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A601-A417-4142-B5C6-27D5B37C1CC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B2336-2606-4B78-B15B-443A1CC35EC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8E5A3A-2F64-4574-A58C-BFCEEE63383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29044-CBDE-4223-9A08-5B0EDD5822B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C603FA-A054-4FF1-AE84-061E17AAACA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FA027-9F3F-456E-9AE1-E58D944E50B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FAD3B0-66EB-45A2-BC37-3844D82A987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A80C42-92AF-4378-BC84-A1D9191C6AD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4BDEC-1333-4BC7-BCE7-19144C33E7C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ED523-AB75-43F9-974F-C93B224CE00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D62539-30D5-467E-9783-AB92352CF1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93E6-4433-4EA9-A345-AF0A2984AC4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BB5131-9787-4129-9445-AEE6965DCFA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F6DDEC-ED4B-4BB5-9D02-A5B70C9F3EC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3E0E5A-0C2C-4D97-ADDF-1B59445FD84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77DCC-F099-4EAA-AC61-08965E0270D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E471F-9C0A-4322-86DB-91E8EB2ABEC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A0CB8-BD55-4726-A37C-710DEEAA370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A3486-A977-4B55-BE16-BB5808A69B3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2DAD6-D373-40D8-B4CF-EF1E5999BFA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495E0-728E-41D0-8453-8C1E9319176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B0E96-B268-4C70-83D0-2587D1965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CF4B-CA7E-4F89-8B16-103E2C293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1F1D-8108-48F3-8547-3261F49A25A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F3A70-FACA-4644-8F0B-BFCA074C58A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1EB03-9553-4261-95C8-A01168D8DDA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0BCB8-C9F1-4E95-9CEA-900232F2400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7593D-6246-464A-A1DE-FD07963081F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CA45C-DA03-48C8-80CD-11967BED6F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6154-E8B7-4C23-9266-7B0F03B89D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A19C-0FF1-4E00-875A-8123091995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819D-D838-4693-9D85-8EDA0A370F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1478-3983-4496-9D0B-12F26F6012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AC4-F04D-40D2-B8CF-BE7C6C932B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58A-C920-4BA1-AD5D-B899A80602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ED1-752D-4D2B-B006-06B1484C18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456-D535-4F49-97D7-AE11550FB4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85A-0BB1-40D6-BF3B-D6CA9E0BE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53F4-2412-4B63-915F-D8D9950D12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DD0-47C1-4284-9D0B-1C9CB83E3C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9DE-9ECE-4437-9F84-15D465C0AA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45E-5FBC-4FF9-905F-FEADC04D4A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A4C-ECEB-4E85-A31C-CAF080D8C1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CD7-9506-494D-941A-9B6AD1771E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F89-93C1-4740-889B-2B42328870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D02-5881-4987-A411-5C5EDD8EDC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D7FD6-8603-4BEC-A0ED-8D641C1F3D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3DC9B-251B-4E78-ADB0-C03E0D36CE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240DF-DABE-4F02-938F-ED70F5748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DDE1-515B-4C98-A5FB-A36B772CCD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A7840-498D-441A-9789-809ADAE97C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816F8-D186-4C88-9DB4-283EA2F1ED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7475A-9E2A-45DA-A1F8-D4555CA2D3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A2237-A015-493F-BCDE-896D54B51B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B914E-5481-433B-8C38-26B6995F6A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F547F-B799-4A73-A93D-FAC73CD51F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21140-A720-4AF7-BDC9-3C2EF8B04E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B694B-B938-4EEB-9F3C-09344F3217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09BB4-BF1F-4751-A5F9-47B50D623D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7AC06-3302-4DA8-BEC8-353661EC3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96E8-88A8-4493-BC95-E62A40169D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89277-8359-4BCF-ADAF-B18339F9CF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E3FC9-4350-48AF-967B-96B79F72FDF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C6728-B791-4059-A6F2-47F767F3E4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AF8C5-7FC3-4E8C-BE76-114FD1C2DA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942A6-21C7-46F9-BC53-73D8B64204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1282A-915A-47A8-A663-950187E4C8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6F2E9-5E22-40CE-AF93-5891DD4E43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A0F73-E7B3-49A0-B8B0-C77450809C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AF01F-40F0-4454-AC6D-F5F1F37AC8D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EF770-6FB9-4C56-9AFD-69016B85C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D02A-E202-436A-83CA-CD0560C593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185EA-9740-4C89-8E59-0081BDBE6F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B63E-0047-4452-B1D5-B73C8C5032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5C59-45EE-4A8A-BDCC-FE09E98EEB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745C-117F-4316-A461-572842EADA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775-FB5C-44B0-9241-709ABBEB5A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845D-B0D4-439B-BBC3-1BBD5D0A5E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BA45-57E6-44F3-ACB6-053768D101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8E33-B9E7-40EC-BCD8-FD447EF0EB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B469-EEE4-44F7-A170-1F334AAFAA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3FBA-3F34-430A-AE89-832F5887D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3DF9-72A6-4EFD-8A9A-FE0F90E4F5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52C8-C277-4C23-96B3-00B99D65FEC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9050-D6C4-4477-8ABF-5DE9C06A82E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6B9C-06F0-471D-A682-4BFBD5CED5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2945CE-16DF-4AE6-A5D1-0A7CE9D36D2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158379-A7D0-4EB6-B2DD-6EF2F6B6B9F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5032B-7EE2-4002-9170-8FC855385F1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A85E4-9E2A-45C3-AFBD-876C321008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07D636-4EE8-4A5E-BE4C-DBE3528A951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71B9C-D313-4F3B-8D2C-F72C9C0698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09FCF-EB84-4024-A19F-CF1368F67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3E95-B0F7-4865-A8BA-7B1C532E21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5CF9C-98B3-4A13-A233-FE5E7F3933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811F2-8B10-4010-A6D5-8765A314FD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CED75-23DE-48B0-A81A-39DA75DE98F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F0D4F-5F29-414E-97CD-80ADDEA580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6513C-8DE3-4CC0-AD8D-1CB6E3A618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A3B3D-C262-4166-8373-68A08E8E6E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35981-BBF9-4254-B63D-BBA0A3D5BF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B20CF-6245-4949-983E-E6B39D1D823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55F26-8592-4956-9D96-193E6EDE6F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AFA41-E505-4C21-B442-0ADEB7BA2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4FC9-EC29-47D1-901D-340F335913B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DD7BD-5E0B-4D65-859E-6796024610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EA7DE-003D-447B-B5D4-B9B7468A800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DDE92-B6C4-42A2-9331-4592814AEC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24EEA-9150-4F87-ADF4-2B450B96E28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6399D-EB77-44EE-A797-9D7D8C9BAA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7D964-53D2-486A-8D39-993E0ADF19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47105-3ED8-433C-BDCC-86B261898C0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65FF-59B4-4C22-ACF5-9229A5BBCC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B4CD-C1A6-4870-9A17-0C0771DB473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32BD-BA3D-4DB5-A55A-36995C0F7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ru-RU" sz="2800" spc="-1" strike="noStrike">
                <a:solidFill>
                  <a:srgbClr val="ffcccc"/>
                </a:solidFill>
                <a:latin typeface="Monotype Corsiva"/>
                <a:ea typeface="Segoe UI"/>
              </a:defRPr>
            </a:lvl1pPr>
          </a:lstStyle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E77554-17C4-4BFC-8292-31D8459F23EB}" type="slidenum">
              <a:rPr b="0" i="1" lang="ru-RU" sz="2800" spc="-1" strike="noStrike">
                <a:solidFill>
                  <a:srgbClr val="ffcccc"/>
                </a:solidFill>
                <a:latin typeface="Monotype Corsiva"/>
                <a:ea typeface="Segoe UI"/>
              </a:rPr>
              <a:t>&lt;number&gt;</a:t>
            </a:fld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82D40-44F4-48AE-ADA1-D75C4A727FC4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3EA37-CAEF-4B04-B903-EC5039A102EB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77F38-095B-4CEB-B230-3409713485C4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D110F-CEC3-4429-84B5-F36B7151E6CB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EE00-1B58-42A0-83CD-4551C8CFF10F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5E732-9FE9-4656-9591-A88B85B6BB67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4C411-BDEE-41A5-B69F-41F2CED92AFE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0D50B-B4DA-4584-B91D-EE4248DBE848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1574F-08E5-4F7A-ADA3-E001038AF689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985E0-4175-4004-B155-51EAC89A533B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D2396-D469-43A5-963F-1ADF874D17C0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5B91E-1306-4724-9B93-53C24486BEBD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3114D-B140-41A5-ADDC-4FB2041F51A3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32BBC-82CD-40D2-B0F2-6C61A772452F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E9B10-F366-4B07-99CD-CC3D7AB3408F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454EB-6129-4291-9B0D-81F90B4166EA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0666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рдость земли Донской</a:t>
            </a:r>
            <a:endParaRPr b="0" i="1" lang="en-US" sz="44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43" name=""/>
          <p:cNvSpPr/>
          <p:nvPr/>
        </p:nvSpPr>
        <p:spPr>
          <a:xfrm>
            <a:off x="3352680" y="4038480"/>
            <a:ext cx="502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еализация проекта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«Воспитан на Дону»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 МБОУ Какичевская ООШ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езентацию составила: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Семерникова А.Д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116000" y="301680"/>
            <a:ext cx="684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    </a:t>
            </a:r>
            <a:r>
              <a:rPr b="0" i="1" lang="ru-RU" sz="1200" spc="-1" strike="noStrike">
                <a:solidFill>
                  <a:srgbClr val="0000cc"/>
                </a:solidFill>
                <a:latin typeface="Verdana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00cc"/>
                </a:solidFill>
                <a:latin typeface="Verdana"/>
                <a:ea typeface="Times New Roman"/>
              </a:rPr>
              <a:t>В честь выдающегося российского писателя А.В.Калинина в день его рождения 22 августа в Пухляковском хуторе проводится</a:t>
            </a:r>
            <a:r>
              <a:rPr b="0" i="1" lang="ru-RU" sz="12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 </a:t>
            </a:r>
            <a:r>
              <a:rPr b="0" i="1" lang="ru-RU" sz="1200" spc="-1" strike="noStrike">
                <a:solidFill>
                  <a:srgbClr val="0000cc"/>
                </a:solidFill>
                <a:latin typeface="Verdana"/>
                <a:ea typeface="Times New Roman"/>
              </a:rPr>
              <a:t> литературно-фольклорный праздник </a:t>
            </a:r>
            <a:r>
              <a:rPr b="0" i="1" lang="ru-RU" sz="12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«</a:t>
            </a:r>
            <a:r>
              <a:rPr b="0" i="1" lang="ru-RU" sz="1200" spc="-1" strike="noStrike">
                <a:solidFill>
                  <a:srgbClr val="0000cc"/>
                </a:solidFill>
                <a:latin typeface="Verdana"/>
                <a:ea typeface="Times New Roman"/>
              </a:rPr>
              <a:t>Калининское лето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7308720" y="1052640"/>
            <a:ext cx="1511280" cy="17287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7308720" y="314172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900000" y="1197000"/>
            <a:ext cx="1656000" cy="14558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4"/>
          <a:stretch/>
        </p:blipFill>
        <p:spPr>
          <a:xfrm>
            <a:off x="3924360" y="981000"/>
            <a:ext cx="1942920" cy="180036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5"/>
          <a:stretch/>
        </p:blipFill>
        <p:spPr>
          <a:xfrm>
            <a:off x="7093080" y="4797360"/>
            <a:ext cx="1726920" cy="1816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179280" y="2924280"/>
            <a:ext cx="1656000" cy="1728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1908000" y="3357720"/>
            <a:ext cx="4751640" cy="335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395280" y="620640"/>
            <a:ext cx="646272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годный литературный фестиваль «Калининское лето» в честь памяти донского писателя еще раз подтверждает, насколько близок и дорог нам Калинин, его творчество и наследие.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Когда меня уже не будет,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след мой пеплом заметет,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е то же розовое чудо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ять над островом всплывет.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, распахнув свои ресницы,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кой прольет на землю свет,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то даже я в своей темнице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рю вдруг, что смерти нет.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то не зарыт я, а посеян,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часа преданный кресту,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гда опять, землей взлелеян,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встречу солнцу прорасту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67200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568080" y="4428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– в России год кино .Герои произведений А.В.Калинина в театре и кино</a:t>
            </a:r>
            <a:endParaRPr b="0" i="1" lang="en-US" sz="1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77" name=""/>
          <p:cNvSpPr/>
          <p:nvPr/>
        </p:nvSpPr>
        <p:spPr>
          <a:xfrm>
            <a:off x="3132000" y="774360"/>
            <a:ext cx="5688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" spc="-1" strike="noStrike">
                <a:solidFill>
                  <a:srgbClr val="777777"/>
                </a:solidFill>
                <a:latin typeface="Monotype Corsiva"/>
                <a:ea typeface="Times New Roman"/>
              </a:rPr>
              <a:t>                    </a:t>
            </a:r>
            <a:r>
              <a:rPr b="0" i="1" lang="ru-RU" sz="12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рои произведений А.В.Калинина полюбились не только у нас в стране, но и за рубежом. Со страниц книг они перекочевали на театральные подмостки и киносъёмочные площадки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4 году по повести А.В.Калинина «Возврата нет» сценаристом-постановщиком А.Салтыковым  в хуторе Пухляковский и соседней станице Раздорской был снят одноимённый фильм. Главные роли сыграли «звёзды» российского кино:  Нонна Мордюкова, Алексей Баталов, Владислав Дворжецкий, Николай Ерёменко-младший, Татьяна Самойлова, Ольга Прохорова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известным и популярным произведением А.В.Калинина является  роман «Цыган». Судьба  цыгана Будулая, потерявшего в годы войны семью и встретившего в донском хуторе свою любовь - казачку Клавдию Пухлякову, вот уже более сорока  лет волнует читателей и людей творческих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2000 раз шла постановка «Цыгана» в московском театре «Ромэн», на сценах других театров страны. В марте 2005 года в Ростовском музыкальном театре состоялась премьера оперы «Цыган» поставленная  композитором Л.П.Клиничевым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особую славу А.В.Калинину принесли кино и телефильмы, снятые по роману «Цыган». Образы главных героев романа Клавдии и Будулая стали визитной карточкой, как самого писателя, так и хутора  Пухляковского, в котором «жили» эти герои во время киносъёмок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фильм «Цыган»  по одноимённой повести А.В.Калинина вышел  на экраны в 1967 году. Сценаристом - постановщиком  фильма, а также исполнителем роли Будулая был Евгений Матвеев. Клавдию Пухлякову сыграла актриса Людмила Хитяева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м Е.С.Матвеева получил небывалый успех в стране и за её пределами. Под напором писем  зрителей, как признался  сам А.В.Калинин, «Будулай снова позвал меня  в дорогу и  повесть сама собой переросла в роман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089080" cy="12956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2089080" cy="12240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2376720" cy="1655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179280" y="5157720"/>
            <a:ext cx="2448000" cy="153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84360" y="206280"/>
            <a:ext cx="76327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 1979 году по мотивам романа режиссером-постановщиком А.Бланком был снят сначала четырёхсерийный фильм «Цыган», а  в 1985 году его продолжение - пятисерийный фильм «Возвращение Будулая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блистательной игре актёров - Клары Лучко (Клавдия), Михая Волонтира (Будулай),   Нины Руслановой, Майи Булгаковой, Ивана Лапикова, Матлюбы Алимовой сериал завоевал всенародную любовь. Вскоре после его  выхода на телеэкран Кларе Степановне Лучко и Михаю Ермолаевичу Волонтиру были присвоены звания народных артистов СССР.          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гласно социологического опроса, проведённого «Российской газетой» в 1997 году, «Цыган» вошёл в число ста лучших фильмов за всю историю российского кинематографа, а по количеству демонстраций по каналам телевидения России занял ведущее место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версия романа «Цыган» была осуществлена режиссёром-постановщиком А.Фенько. В 1993 году был снят четырёхсерийный телефильм «Цыганский остров», а в 1994 году на его основе  кинофильм «Будулай, которого не ждут». Съёмки  фильмов прошли в основном в хуторе Каныгин. Клавдию сыграла народная артистка РСФСР Ирина Купченко, а Будулая - грузинский актёр Отар Мегвинетухуцеси. В других ролях снялись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ые актёры  Георгий Юматов, Юрий Назаров, Татьяна Васильева, Вадим Андреев и «звезда» нынешнего </a:t>
            </a:r>
            <a:r>
              <a:rPr b="0" i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ино Лидия Вележева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5761080" cy="3095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6443640" y="3141720"/>
            <a:ext cx="2476440" cy="33782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5761080" cy="309564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4"/>
          <a:stretch/>
        </p:blipFill>
        <p:spPr>
          <a:xfrm>
            <a:off x="395280" y="3429000"/>
            <a:ext cx="57610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816360" cy="47527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4572000" y="148428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А. В. Калинин умер 12 июня 2008 года на хуторе Пухляковском Ростовской области.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4067280" y="765000"/>
            <a:ext cx="4681440" cy="33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его могилу греет теплое солнышко! Пролетит тучка и окропит слезою. Пусть люди сохраняют ПАМЯТЬ! Никогда книги его не исчезнут с книжных полок. Пусть живут его творенья! Жизнь человеческая коротка, но искусство вечно . Время неумолимо уносит из жизни верных сынов великой России.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ротел тихий Дон, опечалилась Россия. Похоронили Анатолия Вениаминовича на его подворье, у самого Дона, в его любимом хуторе Пухляковском, где прошли его лучшие творческие годы. Мы очень много потеряли с уходом Анатолия Вениаминовича Калинина – талантливого российского писателя, русского интеллигента, честного и  справедливого человека, бескорыстно любившего свой народ, свой край и свою Родину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90" name=""/>
          <p:cNvSpPr/>
          <p:nvPr/>
        </p:nvSpPr>
        <p:spPr>
          <a:xfrm>
            <a:off x="611280" y="2602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Яркий свет таланта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…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91" name=""/>
          <p:cNvSpPr/>
          <p:nvPr/>
        </p:nvSpPr>
        <p:spPr>
          <a:xfrm>
            <a:off x="2286000" y="479736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кто его сможет забыть… вот он… посмеивается, глаза и губы его улыбаются. Он покачивает головой, красивой, убеленной, словно вылепленной талантливым скульптором</a:t>
            </a: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…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20364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86000" y="54936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дет 100, 200 лет, а книги А. Калинина по-прежнему будут нести людям добро, славить народ, которому он, великий романтик, отдал всю свою душу, всю свою долгую жизнь. Все почитатели чистого и честного таланта Анатолия Вениаминовича навсегда сохранят в своих сердцах и делах во имя России все светлое и доброе, что так щедро посеяно на земле и на страницах его  талантливых творений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4572000" y="1444680"/>
            <a:ext cx="4032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Анатолий Вениаминович Калинин (22 августа 1916– 12 июня 2008 )талантливый российский писатель, русский интеллигент, замечательный, честный и справедливый человек, бескорыстно любивший свой народ, свой край и свою Родину. «Гордость земли Донской…».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3"/>
          <a:stretch/>
        </p:blipFill>
        <p:spPr>
          <a:xfrm>
            <a:off x="900000" y="765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4"/>
          <a:stretch/>
        </p:blipFill>
        <p:spPr>
          <a:xfrm>
            <a:off x="900000" y="76500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0767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1258920" y="558972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Хутор </a:t>
            </a: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Пухляковский</a:t>
            </a: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 - малая родина Анатолия </a:t>
            </a: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Калинина</a:t>
            </a: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 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1158840" y="981000"/>
            <a:ext cx="90457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О  родителях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:Вениамин Александрович и Евгения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Ивановна были  учителями,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их  хорошо  знали в Каменске.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0–30-е годы  учительствовали в разных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ицах и хуторах Дона.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ними был и маленький Анатолий.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е, тревожное время тех годов оставило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ий след в душе будущего писателя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58988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88360" cy="51814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2451240" y="5877000"/>
            <a:ext cx="424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Домик </a:t>
            </a: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Анатолия</a:t>
            </a: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 </a:t>
            </a: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Калинина. Новочеркасск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514440" y="130320"/>
            <a:ext cx="81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77777"/>
                </a:solidFill>
                <a:latin typeface="Monotype Corsiva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b050"/>
                </a:solidFill>
                <a:latin typeface="Verdana"/>
                <a:ea typeface="Times New Roman"/>
              </a:rPr>
              <a:t>А начиналось всё под тютиной над Доном</a:t>
            </a:r>
            <a:r>
              <a:rPr b="1" i="1" lang="ru-RU" sz="24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»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57" name=""/>
          <p:cNvSpPr/>
          <p:nvPr/>
        </p:nvSpPr>
        <p:spPr>
          <a:xfrm>
            <a:off x="468360" y="836640"/>
            <a:ext cx="638964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41 году А.В.Калинин вступает в  ряды  КПСС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7 году выходит книга «Неумирающие корни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1 году в г.Ростове-на-Дону печатаются повести : «На юге», «Товарищи»,вышел роман «Красное знамя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3 году  в газете «Правда» опубликован очерк «На среднем уровне». Это был смелый злободневный разговор писателя о развитии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ой деревни. Сам писатель  так сказал об этом: «С очерка «На среднем уровне» и последовавшего за ним очерка «Лунные ночи» и начинаюсь я, в чём совершенно твёрдо уверен как писатель…Эти очерки укрепили меня в сознании важности и необходимости того, о чём пишу. Был огромный поток читательских писем, обязывающих, но и окрыляющих …»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5 году вышел очерк «Лунные ночи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58 году А.В.Калинин написал роман «Суровое поле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2 году выходит роман «Запретная зона», посвящённый строительству Волго-Донского канала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1960-1974 годы в начале как повесть, а затем перерастает в роман, выходит одно из главных и знаменитых произведений А.В.Калинина роман «Цыган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3 году – повесть «Эхо войны», а  в 1971 году – повесть «Возврата нет». За эти произведения в 1973 году А.В.Калинин удостоен звания лауреата Государственной премии РСФСР им. М.Горького в области литературы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67 году выходит роман «Гремите, колокола!». Посвящён роман проблемам нравственного и эстетического воспитания молодёжи в семье и, как другие произведения привлекает    анализом духовного мира героев</a:t>
            </a:r>
            <a:r>
              <a:rPr b="0" i="1" lang="ru-RU" sz="1200" spc="-1" strike="noStrike" u="sng">
                <a:solidFill>
                  <a:srgbClr val="bbe0e3"/>
                </a:solidFill>
                <a:uFillTx/>
                <a:latin typeface="Times New Roman"/>
                <a:ea typeface="Times New Roman"/>
              </a:rPr>
              <a:t>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7740720" y="692280"/>
            <a:ext cx="1144440" cy="18000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381040" cy="307656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3995640" y="4797360"/>
            <a:ext cx="1656000" cy="187164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1297080" cy="172728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7667640" y="765000"/>
            <a:ext cx="11444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4487760" cy="3241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6:18:24Z</dcterms:created>
  <dc:creator>Гуляева Оксана Олеговна</dc:creator>
  <dc:description/>
  <dc:language>en-US</dc:language>
  <cp:lastModifiedBy/>
  <dcterms:modified xsi:type="dcterms:W3CDTF">2017-10-09T19:08:13Z</dcterms:modified>
  <cp:revision>83</cp:revision>
  <dc:subject>"В человеке всё должно быть прекрасно..." (Страницы жизни и творчества А.П.Чехова)</dc:subject>
  <dc:title>Урок-презентац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