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98F9-3496-4931-919C-833E9C4A17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E396-E33F-4581-8225-C786A0212A6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AF569-FD77-4646-A5AB-69EEB548EC2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8E11C-C325-4086-B3EB-7BD16F6BB78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02E27-8337-4A53-A29F-0220290251C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F0242-C8D9-4C4C-AD78-8B78E60CC96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EFC55-DD6A-4B76-80B0-7946CC2FFEF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9BC2D-8508-48AA-827E-5B0863DCD33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54E2A-D09C-43CE-A16E-4EAA08CD38E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BF3A4-B38B-4822-9C37-543C810D06B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6A0EA-8F88-4095-B8D5-404B8837EDB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F520AD-CBD8-4DBE-B4C5-ACC0FFC7A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E4E7-208E-40AF-BAC2-CDF26722B6B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7516EC-083A-4938-95BE-6ECC836D5A2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B9E296-B2BA-4F93-B0AF-A7956ECC15AA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E824C1-17CE-4568-97E0-94D4DE95A32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1B5E8F-B50D-4FE0-B9F4-4C6C4CF00E6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8B37E8-E248-428F-97B6-27C211D5A85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9B7ED6-95D7-48BC-A5ED-244ABCE106B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6ED57F-462A-4DDD-A2CE-2C2F3D64899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CC7571-AA91-4E3F-A937-4A45B0A67A4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C5E1A4-DF48-45F6-A874-B78E6D2AAF8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6D71A8-2F80-4046-A0D7-34B282EFF2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B5432-0B0F-4884-81D3-1276D679F40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BD2230-01B2-4D7C-B228-2FEC0840C21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7CDA2D-96D7-4270-A8EA-088C569B382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272E15-86F0-4506-B029-F8995805EA1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8DBBC-81F5-43EF-86F2-31E577908D5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8BC8D-FAC0-4DDB-8742-90B9BBA4AE9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D85A0C-5292-4880-84C3-BBA89100DC9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EDD046-0452-4A1E-ACFA-AA52CC14DDE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590189-1B8B-4D49-86FC-110D7062999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2300C1-BAF3-47EA-809B-43379E0799C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BB1946-6318-45CC-ADFF-AF88D3713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8FB7C-2315-4128-A752-091C27BEC2E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4450A6-85DF-475E-BBA0-F303B3CFBAE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633F1C-FDCA-4B2A-95E7-762C50632B4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48DE15-3317-4171-837B-FD017A0D8C4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8BC72-2EC4-419D-B421-A542639CE00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E47E3-249B-48A8-ACB8-73F758DB4EF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431B9-974C-460D-BC62-A2E4B64EB6A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E3417-DA38-4A7C-973C-8E96FE1E045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E0567-502E-4266-AC40-55B97585C26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1A136-9A49-4860-AFAE-B7E82E94C2B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669F7-6644-48BB-B024-E45972625F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9055A-619C-4BC2-A478-ACE493E249E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908F8-14A3-434E-8ACE-C356F442417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33733-D0CC-4968-980A-11A1C2186B4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68593-B287-43E5-9028-161B1F8D62F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595E0-A7B2-477F-B814-5F14938B9EC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EB3AE-EF87-464F-8FE4-644AC6B5347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29A78C-7DED-4076-8DF7-10A12317B67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CE954E-22B4-42F3-B8B8-7E2C5364DDA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3ED63F-287C-4AB1-8409-620A57C28FB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DF5267-A1F6-47AA-B2AE-F4B0D2D98A0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0D3184-7B8F-4BD8-A9AC-CACB6E5E87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6C69-D6D1-401B-9706-501DF7BB49D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FB6621-BE95-4464-BFAC-36EF337C27D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CB1D6B-1E60-45AF-860D-011C210E97F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2E8802-1721-4F65-97B8-0026007D8A4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5FA31B-1421-405D-85C7-D62E2624568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8BCE9F-428C-4388-A5A7-D5E7F2667DB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BC3C17-FC08-4056-9CB8-976D9146688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D08403-EB31-4F12-9AA8-327EBD7E101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5676F-6A0D-4B8F-810F-FBC9B6452466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7EA34F-6F75-4AFF-93B7-145D47F1525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4B1676-7420-47E4-A89D-1DA0071EB1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76B0-7D28-4E5C-B46D-7ACE732E53B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70D727-4569-45A9-918B-01D669B1F8E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5D6569-4EFD-49F8-BE52-F828C949CE9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31591-13CD-4B51-9F54-B7E7584621A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A24E64-EA31-43FE-952E-494949F7323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51B08-3E03-4F99-BA3B-0E2C3EC6775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932EB-E5AF-4D29-AC66-F5D2943C0D2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A22E44-7226-4563-8A72-791C884A12F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4C0A5C-8346-4E90-A8CE-7B7E4FC532B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DCFB65-7346-4523-90CB-3B827E98B1E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BCCC7-2B83-474E-BE6C-4A8D8FD21C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9832E-C5D4-4220-9A70-8455A3F2F63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171B4-C4FC-4291-9DF4-E17472826C0B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3DE7C-D63D-4325-84A0-F0E72D2173A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44070-E1F6-4086-B8CE-793C4BCBCF9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694CD-0C06-41F1-900F-67FBCA38582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B0EB6-7ABC-49ED-BBDD-A59A07B3E6F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3FA13-86E3-4F77-B958-1D5EA31672E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1C883-792F-4A7A-8CB0-29B18A4D8A7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C7F17-B3CE-4AC7-905E-0B3AECE04BE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9C288-8D51-4E42-A7B3-726E40E423D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E2845-346D-4E19-909C-C9D35F39A7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749EB-2694-4147-96FD-4F7DA2F1710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B5487-89A4-443A-82F7-1D0D4D8DBAF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21AF8F-B94B-4E42-AE88-63DA4B96695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1944AD-FB4D-4892-B85B-8226332B2A2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71E3FD-814A-4BD5-AEE8-3F4E966302E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F1916F-EF7E-4479-8C24-F09D48214FC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B06D1F-D845-44FB-86CE-A03FB6EBAB8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301C3E-CED0-492C-8C72-AADCF89087C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F55285-19DF-4AAF-861C-626254C88F8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B4E473-53FD-42BB-A681-C4185239119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A7374D-0DA0-4B45-A97C-BB794689AD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587BC-4CC8-4F84-B35D-848389063E5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9E4375-39B7-4E48-9BE7-DE4EAB43D6B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B4EEE3-C6F9-4DAD-88FF-FA19152D71B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9B887F-82C3-4C0C-AA33-1A2B89952CF5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F16C78-57EA-427A-B193-51E7C4BED5F0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BBE89D-74BF-49AB-B29F-016BE0B5714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9921DD-0CF1-4A08-930A-4D23716300E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AD3D5F-D19B-4AC9-9F2E-BADD03C7EAE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DA2358-DB21-435B-9CB0-C84B9241CD2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07B5D-CA61-4483-AFD4-F86D6A937749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7D58CE-C27E-4864-833C-F007420EE9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4E0FD-C5EF-4E36-B921-7EAC2151E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33FF-BDDE-452A-A768-FB70741471C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51BCE2-5B23-404A-8DC9-37C85F9D928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4233E0-FB3C-4566-88D3-A7E4D76E4CB0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A09B32-15FA-4718-A6B1-9079C3FFDB3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BE19EA-ED67-429C-8B77-F49D02FCE81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050138-D38B-4CB5-AF42-9A90FD315F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DCFE-254D-4972-BEF2-EC2F64939B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2114-500E-425D-9188-A59DB7CED1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1A1CB-FA85-4644-AB92-E54F3BA70C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C9656-AF76-4F67-A0FE-306555E14F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FF6-B0B1-485E-893E-B5E64F46CF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D75-2766-420E-BDAB-51A4ED69D1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C16-B548-4109-AA90-A0DD3BF567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3B66-B098-46DA-B5E1-F0ECA60C67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3890-6992-488C-AC01-4886B1585B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7C1C8-FB9C-41B6-9882-9D2FFCE237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BC94-70CB-478B-B001-BBD8C9E37A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F2B0-C9E0-4F58-9E1B-4326A719F8B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3A0-372B-4AC7-8214-A8DDD4019A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A657-B0C9-425F-96C4-00C2AC6D3B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D798-9A29-463E-ABF1-34F395623A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3879-1C35-439D-B3D0-D47A14A928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9E2-3FE4-4F44-AB50-25FAE55AD29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A5B5AE-ABFD-4021-8702-0AA2C256DDD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66B8C-7A40-4694-963F-95339FDA91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4AF7A-F9B0-4489-9204-C4E464F19A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DBC3-0A02-46E0-9F4F-098B4CB3AD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3F084-E495-4A54-A5A3-398F4B6967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6A7A9-B25B-46E7-BE93-CAB9A76225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459FD2-6B70-409D-81F0-8241A26D0FE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0C92D-64FC-4620-8219-5DF9F2C69DB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DC3E8-A4AF-4685-A7B6-7D00F79757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37F123-3596-48B9-BBEB-62CBAFCCBB5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DE621-D35D-406C-9653-0CD6FC2366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B9F13-360C-49E0-B22B-1BA18EED01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5C538-EABB-4EDA-8D21-4F801D3C89A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9965E-633D-4BAE-9C53-B8484194F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61C10-06B6-41E7-8598-8331F8C60D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EA8E0-BC46-4234-A445-ECEF97D41F6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B3699-3C15-4898-8160-9EB7C838B3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D06B8-72E1-4E8D-8981-A2398644BEB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4D636-9468-4375-B7E4-1DC4DBE2F2C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FF1D4-1BCD-4E12-9581-864CDD79720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DB960-92C3-462C-843E-0FA521AEA63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A2F07-ECCF-46BD-9DE0-560E389196C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4BDA0-A3B1-4AE5-85CC-83FFC711E98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191A7-989A-4646-A721-EEECA17DCD1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5AB62-0DC3-488D-9D21-42D5AEFEA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06A8-A7A6-4A76-A704-DEB97801A2C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8A274-13C5-44B4-A3AC-EC008B0C3A4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9FE16-38A5-48C3-87BB-17AD138DBE9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0049-5D23-4012-BF51-934EBD8FAD3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8DD5-B935-46A7-A2B1-0E25C8CD3AB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01C1-C621-4BAC-8C6F-EFEAF05BEFF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0E87-4860-44AF-9215-B4AD6D1B16F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70EE-65B4-426F-A3BC-D5A82657C8B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E18D-7E23-471F-885E-F56F11B2EE3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E66F-965C-4C53-8B32-146430C096B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0C0A-E584-4A43-A42E-65C6217A1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FBB64-B2C1-4C61-AEF8-740A1C2DBA0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F7F81-C081-44E7-A51B-87292CC33D2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0968-4242-4659-9A87-268BC33B54C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77BE-7331-4741-9615-568A9165604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0981A0-700B-4171-A0D5-A8719B98D07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40C6BD-CCA4-44EB-87B6-23492361CE2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52276C-D19B-4398-9239-4B5B2E15053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C46D30-D8D1-4DB0-ADE1-526A5F881A1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35122B-EE14-4D5F-8DA0-B2F2A8D959C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9E2DAE-C1A1-4E52-92FC-D228638B614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7BBD0E-883E-46D4-9ABE-C8E8364A2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C8CD-D8CA-4FBB-B575-36DBD533409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C344A7-0AE8-4CB4-BCED-97C1AC94348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F68A7A-DBFE-41D4-8105-8A3964CAFE5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2F3D8-24ED-471E-9718-6A0FB760429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7DEFB3-BC4D-4FBE-9494-209EACBF9E0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B4EC6E-03A0-4B0F-B484-53A4C8AEC54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58545-BFB1-4B9C-96EA-0D1BD54EAB7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B677F-9D06-4E3C-9A40-E0399AC210D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FF0DA-3CF3-4D13-BD73-AAA2C2C91E3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5BBAD-31CF-4967-AE5B-54953909D75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B7317-F97D-4C11-93BA-C0321D340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9DE35-7743-4D21-BD14-3E773FE57C2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F19865-A602-4FCE-A0E5-BD2AA2C7BB6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B6AFE-044F-4A3C-80FE-1F9931711B3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21F43-96A1-4CF0-A4ED-60D5160D298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B02D6C-4E10-4F05-BD2B-A3723D695E5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5FDDB-52D7-483D-B959-FAC6BCA9453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E42BF-DCB2-422F-B5A2-DFEFA2759B1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D8FF1-C593-445D-8C9A-164354DDB05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CBCA0-3141-4002-B3A1-E33FC53F717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7AF5-2DA5-4266-866E-EBC4390FFA9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BA99B-A47F-4240-8AB6-E7D03ED85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i="1" lang="ru-RU" sz="2800" spc="-1" strike="noStrike">
                <a:solidFill>
                  <a:srgbClr val="ffcccc"/>
                </a:solidFill>
                <a:latin typeface="Monotype Corsiva"/>
                <a:ea typeface="Segoe UI"/>
              </a:defRPr>
            </a:lvl1pPr>
          </a:lstStyle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1D8943-163F-4CEE-AE93-2EBFACA610DF}" type="slidenum">
              <a:rPr b="0" i="1" lang="ru-RU" sz="2800" spc="-1" strike="noStrike">
                <a:solidFill>
                  <a:srgbClr val="ffcccc"/>
                </a:solidFill>
                <a:latin typeface="Monotype Corsiva"/>
                <a:ea typeface="Segoe UI"/>
              </a:rPr>
              <a:t>&lt;number&gt;</a:t>
            </a:fld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A0E22-C194-478D-84FF-E95C94731249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17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727AB-D7D4-4541-86B5-0D472F8FC586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6B155-FF9B-4A7E-A008-05D68B293F2C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499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21B26-4127-4316-A74A-04F03EAC8AD8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540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32D4D-EFFA-43EB-AD85-C5A0C8CDCB9B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50C48-68F7-449C-A6E2-69AD5F661436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622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B9B7F-86D9-44A8-937A-AA35B8563675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663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A5E23-830F-44BA-AEA8-948116F35377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6640" cy="6855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7944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80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26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71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852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68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52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889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397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20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2560" cy="70488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8400" cy="274680"/>
            </a:xfrm>
            <a:custGeom>
              <a:avLst/>
              <a:gdLst>
                <a:gd name="textAreaLeft" fmla="*/ 0 w 9158400"/>
                <a:gd name="textAreaRight" fmla="*/ 9158760 w 91584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EE6CC3-B5E1-4408-BCF3-738FB40F7F08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6640" cy="6855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7944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80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26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71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852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68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52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889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397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20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2560" cy="70488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8400" cy="274680"/>
            </a:xfrm>
            <a:custGeom>
              <a:avLst/>
              <a:gdLst>
                <a:gd name="textAreaLeft" fmla="*/ 0 w 9158400"/>
                <a:gd name="textAreaRight" fmla="*/ 9158760 w 9158400"/>
                <a:gd name="textAreaTop" fmla="*/ 0 h 274680"/>
                <a:gd name="textAreaBottom" fmla="*/ 275040 h 2746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2800" spc="-1" strike="noStrike">
                <a:solidFill>
                  <a:srgbClr val="ffcccc"/>
                </a:solidFill>
                <a:latin typeface="Monotype Corsiv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0B6A9-0862-460D-865F-E19D0A4913FA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4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7A31E-4A3A-4046-8722-A26A1A456204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39304-9704-4021-AC59-F23496716026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A0649-B3EC-4C35-80A2-3B6C6AA17AB0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7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CD20D-6F15-4120-B07A-33AAEA65A229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99E9CB-ABC8-450E-9516-EA97DC7E05AD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i="1" lang="ru-RU" sz="1000" spc="-1" strike="noStrike">
                <a:solidFill>
                  <a:srgbClr val="ffffff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D2281-059E-44F8-85E8-EA678A738CF2}" type="slidenum">
              <a:rPr b="0" i="1" lang="ru-RU" sz="1000" spc="-1" strike="noStrike">
                <a:solidFill>
                  <a:srgbClr val="ffffff"/>
                </a:solidFill>
                <a:latin typeface="Tahoma"/>
                <a:ea typeface="Segoe UI"/>
              </a:rPr>
              <a:t>&lt;number&gt;</a:t>
            </a:fld>
            <a:endParaRPr b="0" i="1" lang="en-US" sz="10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0666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рдость земли Донской</a:t>
            </a:r>
            <a:endParaRPr b="0" i="1" lang="en-US" sz="44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743" name=""/>
          <p:cNvSpPr/>
          <p:nvPr/>
        </p:nvSpPr>
        <p:spPr>
          <a:xfrm>
            <a:off x="3352680" y="4038480"/>
            <a:ext cx="502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еализация проекта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«Воспитан на Дону»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в МБОУ Какичевская ООШ.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езентацию составила: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 Семерникова А.Д.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1116000" y="301680"/>
            <a:ext cx="684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6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       </a:t>
            </a:r>
            <a:r>
              <a:rPr b="0" i="1" lang="ru-RU" sz="1200" spc="-1" strike="noStrike">
                <a:solidFill>
                  <a:srgbClr val="0000cc"/>
                </a:solidFill>
                <a:latin typeface="Verdana"/>
                <a:ea typeface="Times New Roman"/>
              </a:rPr>
              <a:t> </a:t>
            </a:r>
            <a:r>
              <a:rPr b="0" i="1" lang="ru-RU" sz="1200" spc="-1" strike="noStrike">
                <a:solidFill>
                  <a:srgbClr val="0000cc"/>
                </a:solidFill>
                <a:latin typeface="Verdana"/>
                <a:ea typeface="Times New Roman"/>
              </a:rPr>
              <a:t>В честь выдающегося российского писателя А.В.Калинина в день его рождения 22 августа в Пухляковском хуторе проводится</a:t>
            </a:r>
            <a:r>
              <a:rPr b="0" i="1" lang="ru-RU" sz="12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 </a:t>
            </a:r>
            <a:r>
              <a:rPr b="0" i="1" lang="ru-RU" sz="1200" spc="-1" strike="noStrike">
                <a:solidFill>
                  <a:srgbClr val="0000cc"/>
                </a:solidFill>
                <a:latin typeface="Verdana"/>
                <a:ea typeface="Times New Roman"/>
              </a:rPr>
              <a:t> литературно-фольклорный праздник </a:t>
            </a:r>
            <a:r>
              <a:rPr b="0" i="1" lang="ru-RU" sz="1200" spc="-1" strike="noStrike">
                <a:solidFill>
                  <a:srgbClr val="0000cc"/>
                </a:solidFill>
                <a:latin typeface="Monotype Corsiva"/>
                <a:ea typeface="Times New Roman"/>
              </a:rPr>
              <a:t>«</a:t>
            </a:r>
            <a:r>
              <a:rPr b="0" i="1" lang="ru-RU" sz="1200" spc="-1" strike="noStrike">
                <a:solidFill>
                  <a:srgbClr val="0000cc"/>
                </a:solidFill>
                <a:latin typeface="Verdana"/>
                <a:ea typeface="Times New Roman"/>
              </a:rPr>
              <a:t>Калининское лето»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7308720" y="1052640"/>
            <a:ext cx="1511280" cy="1728720"/>
          </a:xfrm>
          <a:prstGeom prst="rect">
            <a:avLst/>
          </a:prstGeom>
          <a:ln w="0">
            <a:noFill/>
          </a:ln>
        </p:spPr>
      </p:pic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7308720" y="314172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769" name="" descr=""/>
          <p:cNvPicPr/>
          <p:nvPr/>
        </p:nvPicPr>
        <p:blipFill>
          <a:blip r:embed="rId3"/>
          <a:stretch/>
        </p:blipFill>
        <p:spPr>
          <a:xfrm>
            <a:off x="900000" y="1197000"/>
            <a:ext cx="1656000" cy="145584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4"/>
          <a:stretch/>
        </p:blipFill>
        <p:spPr>
          <a:xfrm>
            <a:off x="3924360" y="981000"/>
            <a:ext cx="1942920" cy="1800360"/>
          </a:xfrm>
          <a:prstGeom prst="rect">
            <a:avLst/>
          </a:prstGeom>
          <a:ln w="0">
            <a:noFill/>
          </a:ln>
        </p:spPr>
      </p:pic>
      <p:pic>
        <p:nvPicPr>
          <p:cNvPr id="771" name="" descr=""/>
          <p:cNvPicPr/>
          <p:nvPr/>
        </p:nvPicPr>
        <p:blipFill>
          <a:blip r:embed="rId5"/>
          <a:stretch/>
        </p:blipFill>
        <p:spPr>
          <a:xfrm>
            <a:off x="7093080" y="4797360"/>
            <a:ext cx="1726920" cy="1816200"/>
          </a:xfrm>
          <a:prstGeom prst="rect">
            <a:avLst/>
          </a:prstGeom>
          <a:ln w="0">
            <a:noFill/>
          </a:ln>
        </p:spPr>
      </p:pic>
      <p:pic>
        <p:nvPicPr>
          <p:cNvPr id="772" name="" descr=""/>
          <p:cNvPicPr/>
          <p:nvPr/>
        </p:nvPicPr>
        <p:blipFill>
          <a:blip r:embed="rId6"/>
          <a:stretch/>
        </p:blipFill>
        <p:spPr>
          <a:xfrm>
            <a:off x="179280" y="2924280"/>
            <a:ext cx="1656000" cy="1728720"/>
          </a:xfrm>
          <a:prstGeom prst="rect">
            <a:avLst/>
          </a:prstGeom>
          <a:ln w="0">
            <a:noFill/>
          </a:ln>
        </p:spPr>
      </p:pic>
      <p:pic>
        <p:nvPicPr>
          <p:cNvPr id="773" name="" descr=""/>
          <p:cNvPicPr/>
          <p:nvPr/>
        </p:nvPicPr>
        <p:blipFill>
          <a:blip r:embed="rId7"/>
          <a:stretch/>
        </p:blipFill>
        <p:spPr>
          <a:xfrm>
            <a:off x="1908000" y="3357720"/>
            <a:ext cx="4751640" cy="3355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395280" y="620640"/>
            <a:ext cx="646272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Monotype Corsiva"/>
              </a:rPr>
              <a:t> </a:t>
            </a: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Ежегодный литературный фестиваль «Калининское лето» в честь памяти донского писателя еще раз подтверждает, насколько близок и дорог нам Калинин, его творчество и наследие.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Когда меня уже не будет,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 след мой пеплом заметет,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Все то же розовое чудо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ять над островом всплывет.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И, распахнув свои ресницы,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Такой прольет на землю свет,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то даже я в своей темнице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верю вдруг, что смерти нет.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Что не зарыт я, а посеян,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 часа преданный кресту,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огда опять, землей взлелеян,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встречу солнцу прорасту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5003640" y="2492280"/>
            <a:ext cx="3672000" cy="324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568080" y="44280"/>
            <a:ext cx="80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 – в России год кино .Герои произведений А.В.Калинина в театре и кино</a:t>
            </a:r>
            <a:endParaRPr b="0" i="1" lang="en-US" sz="1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777" name=""/>
          <p:cNvSpPr/>
          <p:nvPr/>
        </p:nvSpPr>
        <p:spPr>
          <a:xfrm>
            <a:off x="3132000" y="774360"/>
            <a:ext cx="5688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600" spc="-1" strike="noStrike">
                <a:solidFill>
                  <a:srgbClr val="777777"/>
                </a:solidFill>
                <a:latin typeface="Monotype Corsiva"/>
                <a:ea typeface="Times New Roman"/>
              </a:rPr>
              <a:t>                    </a:t>
            </a:r>
            <a:r>
              <a:rPr b="0" i="1" lang="ru-RU" sz="1200" spc="-1" strike="noStrike">
                <a:solidFill>
                  <a:srgbClr val="777777"/>
                </a:solidFill>
                <a:latin typeface="Times New Roman"/>
                <a:ea typeface="Times New Roman"/>
              </a:rPr>
              <a:t> 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ерои произведений А.В.Калинина полюбились не только у нас в стране, но и за рубежом. Со страниц книг они перекочевали на театральные подмостки и киносъёмочные площадки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74 году по повести А.В.Калинина «Возврата нет» сценаристом-постановщиком А.Салтыковым  в хуторе Пухляковский и соседней станице Раздорской был снят одноимённый фильм. Главные роли сыграли «звёзды» российского кино:  Нонна Мордюкова, Алексей Баталов, Владислав Дворжецкий, Николай Ерёменко-младший, Татьяна Самойлова, Ольга Прохорова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м известным и популярным произведением А.В.Калинина является  роман «Цыган». Судьба  цыгана Будулая, потерявшего в годы войны семью и встретившего в донском хуторе свою любовь - казачку Клавдию Пухлякову, вот уже более сорока  лет волнует читателей и людей творческих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2000 раз шла постановка «Цыгана» в московском театре «Ромэн», на сценах других театров страны. В марте 2005 года в Ростовском музыкальном театре состоялась премьера оперы «Цыган» поставленная  композитором Л.П.Клиничевым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о особую славу А.В.Калинину принесли кино и телефильмы, снятые по роману «Цыган». Образы главных героев романа Клавдии и Будулая стали визитной карточкой, как самого писателя, так и хутора  Пухляковского, в котором «жили» эти герои во время киносъёмок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й фильм «Цыган»  по одноимённой повести А.В.Калинина вышел  на экраны в 1967 году. Сценаристом - постановщиком  фильма, а также исполнителем роли Будулая был Евгений Матвеев. Клавдию Пухлякову сыграла актриса Людмила Хитяева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ьм Е.С.Матвеева получил небывалый успех в стране и за её пределами. Под напором писем  зрителей, как признался  сам А.В.Калинин, «Будулай снова позвал меня  в дорогу и  повесть сама собой переросла в роман»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089080" cy="1295640"/>
          </a:xfrm>
          <a:prstGeom prst="rect">
            <a:avLst/>
          </a:prstGeom>
          <a:ln w="0">
            <a:noFill/>
          </a:ln>
        </p:spPr>
      </p:pic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2089080" cy="12240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3"/>
          <a:stretch/>
        </p:blipFill>
        <p:spPr>
          <a:xfrm>
            <a:off x="179280" y="3357720"/>
            <a:ext cx="2376720" cy="16556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4"/>
          <a:stretch/>
        </p:blipFill>
        <p:spPr>
          <a:xfrm>
            <a:off x="179280" y="5157720"/>
            <a:ext cx="2448000" cy="153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84360" y="206280"/>
            <a:ext cx="763272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6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  1979 году по мотивам романа режиссером-постановщиком А.Бланком был снят сначала четырёхсерийный фильм «Цыган», а  в 1985 году его продолжение - пятисерийный фильм «Возвращение Будулая»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блистательной игре актёров - Клары Лучко (Клавдия), Михая Волонтира (Будулай),   Нины Руслановой, Майи Булгаковой, Ивана Лапикова, Матлюбы Алимовой сериал завоевал всенародную любовь. Вскоре после его  выхода на телеэкран Кларе Степановне Лучко и Михаю Ермолаевичу Волонтиру были присвоены звания народных артистов СССР.          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гласно социологического опроса, проведённого «Российской газетой» в 1997 году, «Цыган» вошёл в число ста лучших фильмов за всю историю российского кинематографа, а по количеству демонстраций по каналам телевидения России занял ведущее место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тья версия романа «Цыган» была осуществлена режиссёром-постановщиком А.Фенько. В 1993 году был снят четырёхсерийный телефильм «Цыганский остров», а в 1994 году на его основе  кинофильм «Будулай, которого не ждут». Съёмки  фильмов прошли в основном в хуторе Каныгин. Клавдию сыграла народная артистка РСФСР Ирина Купченко, а Будулая - грузинский актёр Отар Мегвинетухуцеси. В других ролях снялись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естные актёры  Георгий Юматов, Юрий Назаров, Татьяна Васильева, Вадим Андреев и «звезда» нынешнего </a:t>
            </a:r>
            <a:r>
              <a:rPr b="0" i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ино Лидия Вележева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395280" y="3429000"/>
            <a:ext cx="5761080" cy="309564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6443640" y="3141720"/>
            <a:ext cx="2476440" cy="337824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3"/>
          <a:stretch/>
        </p:blipFill>
        <p:spPr>
          <a:xfrm>
            <a:off x="395280" y="3429000"/>
            <a:ext cx="5761080" cy="309564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4"/>
          <a:stretch/>
        </p:blipFill>
        <p:spPr>
          <a:xfrm>
            <a:off x="395280" y="3429000"/>
            <a:ext cx="5761080" cy="3095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816360" cy="47527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4572000" y="1484280"/>
            <a:ext cx="381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Monotype Corsiva"/>
              </a:rPr>
              <a:t>А. В. Калинин умер 12 июня 2008 года на хуторе Пухляковском Ростовской области. 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4067280" y="765000"/>
            <a:ext cx="4681440" cy="33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его могилу греет теплое солнышко! Пролетит тучка и окропит слезою. Пусть люди сохраняют ПАМЯТЬ! Никогда книги его не исчезнут с книжных полок. Пусть живут его творенья! Жизнь человеческая коротка, но искусство вечно . Время неумолимо уносит из жизни верных сынов великой России.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ротел тихий Дон, опечалилась Россия. Похоронили Анатолия Вениаминовича на его подворье, у самого Дона, в его любимом хуторе Пухляковском, где прошли его лучшие творческие годы. Мы очень много потеряли с уходом Анатолия Вениаминовича Калинина – талантливого российского писателя, русского интеллигента, честного и  справедливого человека, бескорыстно любившего свой народ, свой край и свою Родину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790" name=""/>
          <p:cNvSpPr/>
          <p:nvPr/>
        </p:nvSpPr>
        <p:spPr>
          <a:xfrm>
            <a:off x="611280" y="26028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Яркий свет таланта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… 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791" name=""/>
          <p:cNvSpPr/>
          <p:nvPr/>
        </p:nvSpPr>
        <p:spPr>
          <a:xfrm>
            <a:off x="2286000" y="479736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кто его сможет забыть… вот он… посмеивается, глаза и губы его улыбаются. Он покачивает головой, красивой, убеленной, словно вылепленной талантливым скульптором</a:t>
            </a:r>
            <a:r>
              <a:rPr b="0" i="1" lang="ru-RU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… </a:t>
            </a:r>
            <a:endParaRPr b="0" i="1" lang="en-US" sz="1400" spc="-1" strike="noStrike">
              <a:solidFill>
                <a:srgbClr val="ffcccc"/>
              </a:solidFill>
              <a:latin typeface="Monotype Corsiv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3203640" cy="3167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86000" y="54936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йдет 100, 200 лет, а книги А. Калинина по-прежнему будут нести людям добро, славить народ, которому он, великий романтик, отдал всю свою душу, всю свою долгую жизнь. Все почитатели чистого и честного таланта Анатолия Вениаминовича навсегда сохранят в своих сердцах и делах во имя России все светлое и доброе, что так щедро посеяно на земле и на страницах его  талантливых творений.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4572000" y="1444680"/>
            <a:ext cx="403236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Анатолий Вениаминович Калинин (22 августа 1916– 12 июня 2008 )талантливый российский писатель, русский интеллигент, замечательный, честный и справедливый человек, бескорыстно любивший свой народ, свой край и свою Родину. «Гордость земли Донской…». 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024360" cy="3456000"/>
          </a:xfrm>
          <a:prstGeom prst="rect">
            <a:avLst/>
          </a:prstGeom>
          <a:ln w="0">
            <a:noFill/>
          </a:ln>
        </p:spPr>
      </p:pic>
      <p:pic>
        <p:nvPicPr>
          <p:cNvPr id="747" name="" descr=""/>
          <p:cNvPicPr/>
          <p:nvPr/>
        </p:nvPicPr>
        <p:blipFill>
          <a:blip r:embed="rId2"/>
          <a:stretch/>
        </p:blipFill>
        <p:spPr>
          <a:xfrm>
            <a:off x="826920" y="765000"/>
            <a:ext cx="3024360" cy="34560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3"/>
          <a:stretch/>
        </p:blipFill>
        <p:spPr>
          <a:xfrm>
            <a:off x="900000" y="765000"/>
            <a:ext cx="3024360" cy="345600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4"/>
          <a:stretch/>
        </p:blipFill>
        <p:spPr>
          <a:xfrm>
            <a:off x="900000" y="765000"/>
            <a:ext cx="3024360" cy="34560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96000" cy="507672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1258920" y="5589720"/>
            <a:ext cx="71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Monotype Corsiva"/>
              </a:rPr>
              <a:t>Хутор </a:t>
            </a:r>
            <a:r>
              <a:rPr b="1" i="1" lang="ru-RU" sz="2800" spc="-1" strike="noStrike">
                <a:solidFill>
                  <a:srgbClr val="7030a0"/>
                </a:solidFill>
                <a:latin typeface="Monotype Corsiva"/>
              </a:rPr>
              <a:t>Пухляковский</a:t>
            </a:r>
            <a:r>
              <a:rPr b="0" i="1" lang="ru-RU" sz="2800" spc="-1" strike="noStrike">
                <a:solidFill>
                  <a:srgbClr val="7030a0"/>
                </a:solidFill>
                <a:latin typeface="Monotype Corsiva"/>
              </a:rPr>
              <a:t> - малая родина Анатолия </a:t>
            </a:r>
            <a:r>
              <a:rPr b="1" i="1" lang="ru-RU" sz="2800" spc="-1" strike="noStrike">
                <a:solidFill>
                  <a:srgbClr val="7030a0"/>
                </a:solidFill>
                <a:latin typeface="Monotype Corsiva"/>
              </a:rPr>
              <a:t>Калинина</a:t>
            </a:r>
            <a:r>
              <a:rPr b="0" i="1" lang="ru-RU" sz="2800" spc="-1" strike="noStrike">
                <a:solidFill>
                  <a:srgbClr val="7030a0"/>
                </a:solidFill>
                <a:latin typeface="Monotype Corsiva"/>
              </a:rPr>
              <a:t> 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1158840" y="981000"/>
            <a:ext cx="904572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Monotype Corsiva"/>
              </a:rPr>
              <a:t>О  родителях </a:t>
            </a: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:Вениамин Александрович и Евгения 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Ивановна были  учителями, 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Monotype Corsiva"/>
              </a:rPr>
              <a:t>их  хорошо  знали в Каменске.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0–30-е годы  учительствовали в разных 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ицах и хуторах Дона. 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с ними был и маленький Анатолий.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ее, тревожное время тех годов оставило 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окий след в душе будущего писателя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58988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8388360" cy="518148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2451240" y="5877000"/>
            <a:ext cx="424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Monotype Corsiva"/>
              </a:rPr>
              <a:t>Домик </a:t>
            </a:r>
            <a:r>
              <a:rPr b="1" i="1" lang="ru-RU" sz="2800" spc="-1" strike="noStrike">
                <a:solidFill>
                  <a:srgbClr val="7030a0"/>
                </a:solidFill>
                <a:latin typeface="Monotype Corsiva"/>
              </a:rPr>
              <a:t>Анатолия</a:t>
            </a:r>
            <a:r>
              <a:rPr b="0" i="1" lang="ru-RU" sz="2800" spc="-1" strike="noStrike">
                <a:solidFill>
                  <a:srgbClr val="7030a0"/>
                </a:solidFill>
                <a:latin typeface="Monotype Corsiva"/>
              </a:rPr>
              <a:t> </a:t>
            </a:r>
            <a:r>
              <a:rPr b="1" i="1" lang="ru-RU" sz="2800" spc="-1" strike="noStrike">
                <a:solidFill>
                  <a:srgbClr val="7030a0"/>
                </a:solidFill>
                <a:latin typeface="Monotype Corsiva"/>
              </a:rPr>
              <a:t>Калинина. Новочеркасск</a:t>
            </a:r>
            <a:endParaRPr b="0" i="1" lang="en-US" sz="2800" spc="-1" strike="noStrike">
              <a:solidFill>
                <a:srgbClr val="ffcccc"/>
              </a:solidFill>
              <a:latin typeface="Monotype Corsiva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/>
          <p:nvPr/>
        </p:nvSpPr>
        <p:spPr>
          <a:xfrm>
            <a:off x="514440" y="130320"/>
            <a:ext cx="81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77777"/>
                </a:solidFill>
                <a:latin typeface="Monotype Corsiva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00b050"/>
                </a:solidFill>
                <a:latin typeface="Verdana"/>
                <a:ea typeface="Times New Roman"/>
              </a:rPr>
              <a:t>А начиналось всё под тютиной над Доном</a:t>
            </a:r>
            <a:r>
              <a:rPr b="1" i="1" lang="ru-RU" sz="2400" spc="-1" strike="noStrike">
                <a:solidFill>
                  <a:srgbClr val="00b050"/>
                </a:solidFill>
                <a:latin typeface="Monotype Corsiva"/>
                <a:ea typeface="Times New Roman"/>
              </a:rPr>
              <a:t>»</a:t>
            </a:r>
            <a:endParaRPr b="0" i="1" lang="en-US" sz="2400" spc="-1" strike="noStrike">
              <a:solidFill>
                <a:srgbClr val="ffcccc"/>
              </a:solidFill>
              <a:latin typeface="Monotype Corsiva"/>
            </a:endParaRPr>
          </a:p>
        </p:txBody>
      </p:sp>
      <p:sp>
        <p:nvSpPr>
          <p:cNvPr id="757" name=""/>
          <p:cNvSpPr/>
          <p:nvPr/>
        </p:nvSpPr>
        <p:spPr>
          <a:xfrm>
            <a:off x="468360" y="836640"/>
            <a:ext cx="638964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1941 году А.В.Калинин вступает в  ряды  КПСС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47 году выходит книга «Неумирающие корни»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51 году в г.Ростове-на-Дону печатаются повести : «На юге», «Товарищи»,вышел роман «Красное знамя»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53 году  в газете «Правда» опубликован очерк «На среднем уровне». Это был смелый злободневный разговор писателя о развитии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тской деревни. Сам писатель  так сказал об этом: «С очерка «На среднем уровне» и последовавшего за ним очерка «Лунные ночи» и начинаюсь я, в чём совершенно твёрдо уверен как писатель…Эти очерки укрепили меня в сознании важности и необходимости того, о чём пишу. Был огромный поток читательских писем, обязывающих, но и окрыляющих …»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55 году вышел очерк «Лунные ночи»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1958 году А.В.Калинин написал роман «Суровое поле»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62 году выходит роман «Запретная зона», посвящённый строительству Волго-Донского канала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1960-1974 годы в начале как повесть, а затем перерастает в роман, выходит одно из главных и знаменитых произведений А.В.Калинина роман «Цыган»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63 году – повесть «Эхо войны», а  в 1971 году – повесть «Возврата нет». За эти произведения в 1973 году А.В.Калинин удостоен звания лауреата Государственной премии РСФСР им. М.Горького в области литературы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1967 году выходит роман «Гремите, колокола!». Посвящён роман проблемам нравственного и эстетического воспитания молодёжи в семье и, как другие произведения привлекает    анализом духовного мира героев</a:t>
            </a:r>
            <a:r>
              <a:rPr b="0" i="1" lang="ru-RU" sz="1200" spc="-1" strike="noStrike" u="sng">
                <a:solidFill>
                  <a:srgbClr val="bbe0e3"/>
                </a:solidFill>
                <a:uFillTx/>
                <a:latin typeface="Times New Roman"/>
                <a:ea typeface="Times New Roman"/>
              </a:rPr>
              <a:t>.</a:t>
            </a:r>
            <a:endParaRPr b="0" i="1" lang="en-US" sz="1200" spc="-1" strike="noStrike">
              <a:solidFill>
                <a:srgbClr val="ffcccc"/>
              </a:solidFill>
              <a:latin typeface="Monotype Corsiva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7740720" y="692280"/>
            <a:ext cx="1144440" cy="180000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6659640" y="3645000"/>
            <a:ext cx="2381040" cy="307656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3"/>
          <a:stretch/>
        </p:blipFill>
        <p:spPr>
          <a:xfrm>
            <a:off x="3995640" y="4797360"/>
            <a:ext cx="1656000" cy="187164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4"/>
          <a:stretch/>
        </p:blipFill>
        <p:spPr>
          <a:xfrm>
            <a:off x="826920" y="4941720"/>
            <a:ext cx="1297080" cy="172728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5"/>
          <a:stretch/>
        </p:blipFill>
        <p:spPr>
          <a:xfrm>
            <a:off x="7667640" y="765000"/>
            <a:ext cx="114444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4211640" y="40464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764" name="" descr=""/>
          <p:cNvPicPr/>
          <p:nvPr/>
        </p:nvPicPr>
        <p:blipFill>
          <a:blip r:embed="rId2"/>
          <a:stretch/>
        </p:blipFill>
        <p:spPr>
          <a:xfrm>
            <a:off x="755640" y="306864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765" name="" descr=""/>
          <p:cNvPicPr/>
          <p:nvPr/>
        </p:nvPicPr>
        <p:blipFill>
          <a:blip r:embed="rId3"/>
          <a:stretch/>
        </p:blipFill>
        <p:spPr>
          <a:xfrm>
            <a:off x="250920" y="115920"/>
            <a:ext cx="4487760" cy="3241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6:18:24Z</dcterms:created>
  <dc:creator>Гуляева Оксана Олеговна</dc:creator>
  <dc:description/>
  <dc:language>en-US</dc:language>
  <cp:lastModifiedBy/>
  <dcterms:modified xsi:type="dcterms:W3CDTF">2017-10-09T19:08:13Z</dcterms:modified>
  <cp:revision>83</cp:revision>
  <dc:subject>"В человеке всё должно быть прекрасно..." (Страницы жизни и творчества А.П.Чехова)</dc:subject>
  <dc:title>Урок-презентация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