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3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57.jpeg" ContentType="image/jpeg"/>
  <Override PartName="/ppt/media/image41.png" ContentType="image/png"/>
  <Override PartName="/ppt/media/image3.jpeg" ContentType="image/jpeg"/>
  <Override PartName="/ppt/media/image23.jpeg" ContentType="image/jpeg"/>
  <Override PartName="/ppt/media/image38.jpeg" ContentType="image/jpeg"/>
  <Override PartName="/ppt/media/image1.jpeg" ContentType="image/jpeg"/>
  <Override PartName="/ppt/media/image47.png" ContentType="image/png"/>
  <Override PartName="/ppt/media/image35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9.jpeg" ContentType="image/jpeg"/>
  <Override PartName="/ppt/media/image2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52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EB5-9C08-485C-8A4A-99E600FB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91D-E4FC-4592-A413-776E85C4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AEE-D2A0-4FC0-8C15-3D641194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E62-7D7C-4805-9DCF-8D94F41E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9E3-4826-48B1-9D59-F0F3A329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6DD-2AEC-4C94-9BDE-BF96B097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02F-D6DA-4BEA-86DB-7571A86E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061-E1BB-4CB8-A24E-5649CB5C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D11-D7BD-45A1-82F7-80F9163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085-9006-4DD3-8E75-83ABAACC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ABD-1470-48DF-90DA-E451DC9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FEA-4989-4DEB-B859-27AA8A30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DD65-03F3-41C8-AFA7-C10A0A72A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pn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19280" y="1773360"/>
            <a:ext cx="6192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я и рекла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093080" y="4724280"/>
            <a:ext cx="2050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ца 9-а к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СШ №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ванова Тать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1280539"/>
          <p:cNvPicPr/>
          <p:nvPr/>
        </p:nvPicPr>
        <p:blipFill>
          <a:blip r:embed="rId1"/>
          <a:stretch/>
        </p:blipFill>
        <p:spPr>
          <a:xfrm>
            <a:off x="0" y="0"/>
            <a:ext cx="2771640" cy="314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1280540"/>
          <p:cNvPicPr/>
          <p:nvPr/>
        </p:nvPicPr>
        <p:blipFill>
          <a:blip r:embed="rId2"/>
          <a:stretch/>
        </p:blipFill>
        <p:spPr>
          <a:xfrm>
            <a:off x="5749920" y="0"/>
            <a:ext cx="3394080" cy="2544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1280541"/>
          <p:cNvPicPr/>
          <p:nvPr/>
        </p:nvPicPr>
        <p:blipFill>
          <a:blip r:embed="rId3"/>
          <a:stretch/>
        </p:blipFill>
        <p:spPr>
          <a:xfrm>
            <a:off x="0" y="4454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1280542"/>
          <p:cNvPicPr/>
          <p:nvPr/>
        </p:nvPicPr>
        <p:blipFill>
          <a:blip r:embed="rId4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P1280544"/>
          <p:cNvPicPr/>
          <p:nvPr/>
        </p:nvPicPr>
        <p:blipFill>
          <a:blip r:embed="rId5"/>
          <a:stretch/>
        </p:blipFill>
        <p:spPr>
          <a:xfrm>
            <a:off x="5219640" y="3375000"/>
            <a:ext cx="3924360" cy="348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P1280549"/>
          <p:cNvPicPr/>
          <p:nvPr/>
        </p:nvPicPr>
        <p:blipFill>
          <a:blip r:embed="rId6"/>
          <a:stretch/>
        </p:blipFill>
        <p:spPr>
          <a:xfrm>
            <a:off x="5102280" y="0"/>
            <a:ext cx="4041720" cy="328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P1280550"/>
          <p:cNvPicPr/>
          <p:nvPr/>
        </p:nvPicPr>
        <p:blipFill>
          <a:blip r:embed="rId7"/>
          <a:stretch/>
        </p:blipFill>
        <p:spPr>
          <a:xfrm>
            <a:off x="0" y="3456000"/>
            <a:ext cx="3276720" cy="340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P1280551"/>
          <p:cNvPicPr/>
          <p:nvPr/>
        </p:nvPicPr>
        <p:blipFill>
          <a:blip r:embed="rId8"/>
          <a:stretch/>
        </p:blipFill>
        <p:spPr>
          <a:xfrm>
            <a:off x="0" y="0"/>
            <a:ext cx="3059280" cy="311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P1280551"/>
          <p:cNvPicPr/>
          <p:nvPr/>
        </p:nvPicPr>
        <p:blipFill>
          <a:blip r:embed="rId9"/>
          <a:stretch/>
        </p:blipFill>
        <p:spPr>
          <a:xfrm>
            <a:off x="0" y="1484280"/>
            <a:ext cx="9144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2040554"/>
          <p:cNvPicPr/>
          <p:nvPr/>
        </p:nvPicPr>
        <p:blipFill>
          <a:blip r:embed="rId1"/>
          <a:stretch/>
        </p:blipFill>
        <p:spPr>
          <a:xfrm>
            <a:off x="1258920" y="83664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2040555"/>
          <p:cNvPicPr/>
          <p:nvPr/>
        </p:nvPicPr>
        <p:blipFill>
          <a:blip r:embed="rId2"/>
          <a:stretch/>
        </p:blipFill>
        <p:spPr>
          <a:xfrm>
            <a:off x="0" y="0"/>
            <a:ext cx="3274920" cy="4365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2040556"/>
          <p:cNvPicPr/>
          <p:nvPr/>
        </p:nvPicPr>
        <p:blipFill>
          <a:blip r:embed="rId3"/>
          <a:stretch/>
        </p:blipFill>
        <p:spPr>
          <a:xfrm>
            <a:off x="2124000" y="2681280"/>
            <a:ext cx="3132360" cy="41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P2040557"/>
          <p:cNvPicPr/>
          <p:nvPr/>
        </p:nvPicPr>
        <p:blipFill>
          <a:blip r:embed="rId4"/>
          <a:stretch/>
        </p:blipFill>
        <p:spPr>
          <a:xfrm>
            <a:off x="4643280" y="0"/>
            <a:ext cx="3132360" cy="417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P2040558"/>
          <p:cNvPicPr/>
          <p:nvPr/>
        </p:nvPicPr>
        <p:blipFill>
          <a:blip r:embed="rId5"/>
          <a:stretch/>
        </p:blipFill>
        <p:spPr>
          <a:xfrm>
            <a:off x="6086520" y="2781360"/>
            <a:ext cx="3057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2"/>
          <p:cNvGrpSpPr/>
          <p:nvPr/>
        </p:nvGrpSpPr>
        <p:grpSpPr>
          <a:xfrm>
            <a:off x="0" y="0"/>
            <a:ext cx="3995640" cy="3660840"/>
            <a:chOff x="0" y="0"/>
            <a:chExt cx="3995640" cy="3660840"/>
          </a:xfrm>
        </p:grpSpPr>
        <p:pic>
          <p:nvPicPr>
            <p:cNvPr id="9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95640" cy="36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P1280540"/>
            <p:cNvPicPr/>
            <p:nvPr/>
          </p:nvPicPr>
          <p:blipFill>
            <a:blip r:embed="rId2"/>
            <a:stretch/>
          </p:blipFill>
          <p:spPr>
            <a:xfrm>
              <a:off x="0" y="2708280"/>
              <a:ext cx="1187280" cy="89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0"/>
          <p:cNvGrpSpPr/>
          <p:nvPr/>
        </p:nvGrpSpPr>
        <p:grpSpPr>
          <a:xfrm>
            <a:off x="5003640" y="3738600"/>
            <a:ext cx="4140360" cy="3119400"/>
            <a:chOff x="5003640" y="3738600"/>
            <a:chExt cx="4140360" cy="3119400"/>
          </a:xfrm>
        </p:grpSpPr>
        <p:pic>
          <p:nvPicPr>
            <p:cNvPr id="101" name="Picture 6" descr=""/>
            <p:cNvPicPr/>
            <p:nvPr/>
          </p:nvPicPr>
          <p:blipFill>
            <a:blip r:embed="rId3"/>
            <a:stretch/>
          </p:blipFill>
          <p:spPr>
            <a:xfrm>
              <a:off x="5003640" y="3738600"/>
              <a:ext cx="4140360" cy="31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7" descr="P1280542"/>
            <p:cNvPicPr/>
            <p:nvPr/>
          </p:nvPicPr>
          <p:blipFill>
            <a:blip r:embed="rId4"/>
            <a:stretch/>
          </p:blipFill>
          <p:spPr>
            <a:xfrm>
              <a:off x="5076720" y="5697360"/>
              <a:ext cx="1548000" cy="11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076720" y="0"/>
            <a:ext cx="4066920" cy="3357360"/>
            <a:chOff x="5076720" y="0"/>
            <a:chExt cx="4066920" cy="3357360"/>
          </a:xfrm>
        </p:grpSpPr>
        <p:pic>
          <p:nvPicPr>
            <p:cNvPr id="104" name="Picture 8" descr=""/>
            <p:cNvPicPr/>
            <p:nvPr/>
          </p:nvPicPr>
          <p:blipFill>
            <a:blip r:embed="rId5"/>
            <a:stretch/>
          </p:blipFill>
          <p:spPr>
            <a:xfrm>
              <a:off x="5076720" y="0"/>
              <a:ext cx="4066920" cy="33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" descr="P1280541"/>
            <p:cNvPicPr/>
            <p:nvPr/>
          </p:nvPicPr>
          <p:blipFill>
            <a:blip r:embed="rId6"/>
            <a:stretch/>
          </p:blipFill>
          <p:spPr>
            <a:xfrm>
              <a:off x="5152320" y="2246400"/>
              <a:ext cx="135252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15"/>
          <p:cNvGrpSpPr/>
          <p:nvPr/>
        </p:nvGrpSpPr>
        <p:grpSpPr>
          <a:xfrm>
            <a:off x="0" y="3789360"/>
            <a:ext cx="4067280" cy="3068640"/>
            <a:chOff x="0" y="3789360"/>
            <a:chExt cx="4067280" cy="3068640"/>
          </a:xfrm>
        </p:grpSpPr>
        <p:pic>
          <p:nvPicPr>
            <p:cNvPr id="107" name="Picture 13" descr=""/>
            <p:cNvPicPr/>
            <p:nvPr/>
          </p:nvPicPr>
          <p:blipFill>
            <a:blip r:embed="rId7"/>
            <a:stretch/>
          </p:blipFill>
          <p:spPr>
            <a:xfrm>
              <a:off x="0" y="3789360"/>
              <a:ext cx="406728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4" descr="P1280539"/>
            <p:cNvPicPr/>
            <p:nvPr/>
          </p:nvPicPr>
          <p:blipFill>
            <a:blip r:embed="rId8"/>
            <a:stretch/>
          </p:blipFill>
          <p:spPr>
            <a:xfrm>
              <a:off x="0" y="5661000"/>
              <a:ext cx="898560" cy="119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16" descr=""/>
          <p:cNvPicPr/>
          <p:nvPr/>
        </p:nvPicPr>
        <p:blipFill>
          <a:blip r:embed="rId9"/>
          <a:stretch/>
        </p:blipFill>
        <p:spPr>
          <a:xfrm>
            <a:off x="3995640" y="836640"/>
            <a:ext cx="3459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0040720172031"/>
          <p:cNvPicPr/>
          <p:nvPr/>
        </p:nvPicPr>
        <p:blipFill>
          <a:blip r:embed="rId1"/>
          <a:stretch/>
        </p:blipFill>
        <p:spPr>
          <a:xfrm>
            <a:off x="0" y="0"/>
            <a:ext cx="4643280" cy="3095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788000" y="476280"/>
            <a:ext cx="37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43280" y="0"/>
            <a:ext cx="432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иральные порошки, которые «промывают до самой глубины волокон», «отстирывают то, что другим не под силу!»  - стали неотъемлемым признаком цивилизованного образа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11280" y="3933720"/>
            <a:ext cx="7705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ания «Проктер энд Гэмбл», показывала рекламный ролик про «Тайд» с заставкой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вы думаете, что все порошки отстирывают одинаково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 мы так думаем, так и есть на самом дел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79280" y="692280"/>
          <a:ext cx="8642520" cy="5948280"/>
        </p:xfrm>
        <a:graphic>
          <a:graphicData uri="http://schemas.openxmlformats.org/drawingml/2006/table">
            <a:tbl>
              <a:tblPr/>
              <a:tblGrid>
                <a:gridCol w="4179960"/>
                <a:gridCol w="4462560"/>
              </a:tblGrid>
              <a:tr h="891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авнительное моющее действие различных моющих сред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ющее сред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ющее действие при 50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ИЭ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ИСТ-Универс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Х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Т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Й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АН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ый ЛО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нко-би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5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ые Технологического института Санкт-Петербурга и Московского заводе СМ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239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7451640" y="23493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2"/>
          <p:cNvGrpSpPr/>
          <p:nvPr/>
        </p:nvGrpSpPr>
        <p:grpSpPr>
          <a:xfrm>
            <a:off x="5003640" y="4289400"/>
            <a:ext cx="3921120" cy="2568600"/>
            <a:chOff x="5003640" y="4289400"/>
            <a:chExt cx="3921120" cy="2568600"/>
          </a:xfrm>
        </p:grpSpPr>
        <p:pic>
          <p:nvPicPr>
            <p:cNvPr id="119" name="Picture 7" descr=""/>
            <p:cNvPicPr/>
            <p:nvPr/>
          </p:nvPicPr>
          <p:blipFill>
            <a:blip r:embed="rId2"/>
            <a:stretch/>
          </p:blipFill>
          <p:spPr>
            <a:xfrm>
              <a:off x="5003640" y="4289400"/>
              <a:ext cx="3921120" cy="25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1" descr="poroshok1"/>
            <p:cNvPicPr/>
            <p:nvPr/>
          </p:nvPicPr>
          <p:blipFill>
            <a:blip r:embed="rId3"/>
            <a:stretch/>
          </p:blipFill>
          <p:spPr>
            <a:xfrm>
              <a:off x="5003640" y="5865840"/>
              <a:ext cx="689040" cy="99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4"/>
          <p:cNvGrpSpPr/>
          <p:nvPr/>
        </p:nvGrpSpPr>
        <p:grpSpPr>
          <a:xfrm>
            <a:off x="2987640" y="2133720"/>
            <a:ext cx="3776760" cy="2570040"/>
            <a:chOff x="2987640" y="2133720"/>
            <a:chExt cx="3776760" cy="2570040"/>
          </a:xfrm>
        </p:grpSpPr>
        <p:pic>
          <p:nvPicPr>
            <p:cNvPr id="122" name="Picture 6" descr=""/>
            <p:cNvPicPr/>
            <p:nvPr/>
          </p:nvPicPr>
          <p:blipFill>
            <a:blip r:embed="rId4"/>
            <a:stretch/>
          </p:blipFill>
          <p:spPr>
            <a:xfrm>
              <a:off x="2987640" y="2133720"/>
              <a:ext cx="3776760" cy="24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3" descr="poroshok6"/>
            <p:cNvPicPr/>
            <p:nvPr/>
          </p:nvPicPr>
          <p:blipFill>
            <a:blip r:embed="rId5"/>
            <a:stretch/>
          </p:blipFill>
          <p:spPr>
            <a:xfrm>
              <a:off x="2987640" y="3500280"/>
              <a:ext cx="862200" cy="120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16"/>
          <p:cNvGrpSpPr/>
          <p:nvPr/>
        </p:nvGrpSpPr>
        <p:grpSpPr>
          <a:xfrm>
            <a:off x="0" y="0"/>
            <a:ext cx="3635280" cy="2779560"/>
            <a:chOff x="0" y="0"/>
            <a:chExt cx="3635280" cy="2779560"/>
          </a:xfrm>
        </p:grpSpPr>
        <p:pic>
          <p:nvPicPr>
            <p:cNvPr id="125" name="Picture 5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635280" cy="23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P4030677"/>
            <p:cNvPicPr/>
            <p:nvPr/>
          </p:nvPicPr>
          <p:blipFill>
            <a:blip r:embed="rId7"/>
            <a:stretch/>
          </p:blipFill>
          <p:spPr>
            <a:xfrm>
              <a:off x="0" y="1268280"/>
              <a:ext cx="99360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17"/>
          <p:cNvSpPr/>
          <p:nvPr/>
        </p:nvSpPr>
        <p:spPr>
          <a:xfrm>
            <a:off x="179280" y="5084640"/>
            <a:ext cx="28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рение рН раствора стирального порошка, с помощью прибор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мик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ё один текст телерекламы одного из популярных стиральных порошков: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Био-добавки нового «Лоска» любую грязь отстирают просто»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рокомментируем его. Перед вами  образцы тканей с пятнами: шоколад, кофе, ягоды, чай, ма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P4030655"/>
          <p:cNvPicPr/>
          <p:nvPr/>
        </p:nvPicPr>
        <p:blipFill>
          <a:blip r:embed="rId1"/>
          <a:stretch/>
        </p:blipFill>
        <p:spPr>
          <a:xfrm>
            <a:off x="0" y="1341360"/>
            <a:ext cx="3203640" cy="2401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P4030657"/>
          <p:cNvPicPr/>
          <p:nvPr/>
        </p:nvPicPr>
        <p:blipFill>
          <a:blip r:embed="rId2"/>
          <a:stretch/>
        </p:blipFill>
        <p:spPr>
          <a:xfrm>
            <a:off x="5940360" y="1268280"/>
            <a:ext cx="3203640" cy="2401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4030658"/>
          <p:cNvPicPr/>
          <p:nvPr/>
        </p:nvPicPr>
        <p:blipFill>
          <a:blip r:embed="rId3"/>
          <a:stretch/>
        </p:blipFill>
        <p:spPr>
          <a:xfrm>
            <a:off x="0" y="448308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P4030660"/>
          <p:cNvPicPr/>
          <p:nvPr/>
        </p:nvPicPr>
        <p:blipFill>
          <a:blip r:embed="rId4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4030664"/>
          <p:cNvPicPr/>
          <p:nvPr/>
        </p:nvPicPr>
        <p:blipFill>
          <a:blip r:embed="rId5"/>
          <a:stretch/>
        </p:blipFill>
        <p:spPr>
          <a:xfrm>
            <a:off x="2771640" y="263700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4030673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4030681"/>
          <p:cNvPicPr/>
          <p:nvPr/>
        </p:nvPicPr>
        <p:blipFill>
          <a:blip r:embed="rId2"/>
          <a:stretch/>
        </p:blipFill>
        <p:spPr>
          <a:xfrm>
            <a:off x="4392720" y="3295800"/>
            <a:ext cx="4751280" cy="356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4030682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31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4030684"/>
          <p:cNvPicPr/>
          <p:nvPr/>
        </p:nvPicPr>
        <p:blipFill>
          <a:blip r:embed="rId4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4030674"/>
          <p:cNvPicPr/>
          <p:nvPr/>
        </p:nvPicPr>
        <p:blipFill>
          <a:blip r:embed="rId1"/>
          <a:stretch/>
        </p:blipFill>
        <p:spPr>
          <a:xfrm>
            <a:off x="6300720" y="472428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4030670"/>
          <p:cNvPicPr/>
          <p:nvPr/>
        </p:nvPicPr>
        <p:blipFill>
          <a:blip r:embed="rId2"/>
          <a:stretch/>
        </p:blipFill>
        <p:spPr>
          <a:xfrm>
            <a:off x="0" y="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P4030698"/>
          <p:cNvPicPr/>
          <p:nvPr/>
        </p:nvPicPr>
        <p:blipFill>
          <a:blip r:embed="rId3"/>
          <a:stretch/>
        </p:blipFill>
        <p:spPr>
          <a:xfrm>
            <a:off x="2124000" y="1413000"/>
            <a:ext cx="2889360" cy="2166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P4030695"/>
          <p:cNvPicPr/>
          <p:nvPr/>
        </p:nvPicPr>
        <p:blipFill>
          <a:blip r:embed="rId4"/>
          <a:stretch/>
        </p:blipFill>
        <p:spPr>
          <a:xfrm>
            <a:off x="4140360" y="292428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poroshok6"/>
          <p:cNvPicPr/>
          <p:nvPr/>
        </p:nvPicPr>
        <p:blipFill>
          <a:blip r:embed="rId5"/>
          <a:stretch/>
        </p:blipFill>
        <p:spPr>
          <a:xfrm>
            <a:off x="6942240" y="0"/>
            <a:ext cx="2201760" cy="3075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179280" y="3357720"/>
            <a:ext cx="3816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</a:rPr>
              <a:t>Последний писк моды в области создания композиций для стирки - введение в порошки ферментов (почему-то называемых энзимами). Эти вещества весьма успешно справляются с биологическими загрязнениями типа пятен от яиц, крови, вина и т. д. Порошки с ферментами могут потребоваться при стирке, например, скатертей или детских вещей. </a:t>
            </a:r>
            <a:r>
              <a:rPr b="0" lang="ru-RU" sz="1400" spc="-1" strike="noStrike">
                <a:solidFill>
                  <a:srgbClr val="ff3300"/>
                </a:solidFill>
                <a:latin typeface="Arial Unicode MS"/>
              </a:rPr>
              <a:t>Но! Ферменты не выдерживают температуру более 50 градусов Цельсия</a:t>
            </a:r>
            <a:r>
              <a:rPr b="0" lang="ru-RU" sz="1400" spc="-1" strike="noStrike">
                <a:solidFill>
                  <a:srgbClr val="ffffff"/>
                </a:solidFill>
                <a:latin typeface="Arial Unicode MS"/>
              </a:rPr>
              <a:t>, так что при стирке постельного белья с кипячением порошок с ферментами использовать бессмысленно. Тем более что их присутствие обычно заметно удорожает порош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P4030677"/>
          <p:cNvPicPr/>
          <p:nvPr/>
        </p:nvPicPr>
        <p:blipFill>
          <a:blip r:embed="rId1"/>
          <a:stretch/>
        </p:blipFill>
        <p:spPr>
          <a:xfrm>
            <a:off x="7756560" y="0"/>
            <a:ext cx="1387440" cy="2233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P4030675"/>
          <p:cNvPicPr/>
          <p:nvPr/>
        </p:nvPicPr>
        <p:blipFill>
          <a:blip r:embed="rId2"/>
          <a:stretch/>
        </p:blipFill>
        <p:spPr>
          <a:xfrm>
            <a:off x="0" y="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4030678"/>
          <p:cNvPicPr/>
          <p:nvPr/>
        </p:nvPicPr>
        <p:blipFill>
          <a:blip r:embed="rId3"/>
          <a:stretch/>
        </p:blipFill>
        <p:spPr>
          <a:xfrm>
            <a:off x="2411280" y="1700280"/>
            <a:ext cx="2818080" cy="2112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250920" y="3141720"/>
            <a:ext cx="352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ые порошки, как правило, выпускают в виде мелких гранул, которые при высыпании не образуют облако пыли. Это довольно важный момент, поскольку пылящие стиральные порошки части вызывают появление аллергических реакций. Гранулирование тоже приводит к удорожанию порошка, но это цена, которую стоит запла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mages 2"/>
          <p:cNvPicPr/>
          <p:nvPr/>
        </p:nvPicPr>
        <p:blipFill>
          <a:blip r:embed="rId1"/>
          <a:stretch/>
        </p:blipFill>
        <p:spPr>
          <a:xfrm>
            <a:off x="0" y="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mages 3"/>
          <p:cNvPicPr/>
          <p:nvPr/>
        </p:nvPicPr>
        <p:blipFill>
          <a:blip r:embed="rId2"/>
          <a:stretch/>
        </p:blipFill>
        <p:spPr>
          <a:xfrm>
            <a:off x="0" y="5529240"/>
            <a:ext cx="3348000" cy="1328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images 4"/>
          <p:cNvPicPr/>
          <p:nvPr/>
        </p:nvPicPr>
        <p:blipFill>
          <a:blip r:embed="rId3"/>
          <a:stretch/>
        </p:blipFill>
        <p:spPr>
          <a:xfrm>
            <a:off x="6981840" y="4653000"/>
            <a:ext cx="216216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5040" y="-720"/>
            <a:ext cx="91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вательная резинк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с ксилитом и карбамидом – двойная защита от кариес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987640" y="476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илит не защищает от кариеса, но и не является его дополнительной причиной, т.к. обеспечивает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тольк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адкий в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843280" y="2205000"/>
            <a:ext cx="63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рту карбамид медленно разлагается с образованием аммиака, который обеспечивает щелочную среду и нейтрализует молочную кислоту, тем самым, защищая от кари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11280" y="422100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ому защита не двойная, а одинарн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poroshok1"/>
          <p:cNvPicPr/>
          <p:nvPr/>
        </p:nvPicPr>
        <p:blipFill>
          <a:blip r:embed="rId1"/>
          <a:stretch/>
        </p:blipFill>
        <p:spPr>
          <a:xfrm>
            <a:off x="7705800" y="0"/>
            <a:ext cx="1438200" cy="207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24000" y="4005360"/>
            <a:ext cx="34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ь загрязненности вещей, состав и цвет их тканей, а также наличие пятен на них, являются одними из главных критериев в выборе стирального поро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50920" y="189000"/>
          <a:ext cx="8713800" cy="6648480"/>
        </p:xfrm>
        <a:graphic>
          <a:graphicData uri="http://schemas.openxmlformats.org/drawingml/2006/table">
            <a:tbl>
              <a:tblPr/>
              <a:tblGrid>
                <a:gridCol w="2442960"/>
                <a:gridCol w="1998720"/>
                <a:gridCol w="1994040"/>
                <a:gridCol w="2278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о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страя стирка (холодная вода, 2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ная стирка (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 градусов, 6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окол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 7"/>
          <p:cNvPicPr/>
          <p:nvPr/>
        </p:nvPicPr>
        <p:blipFill>
          <a:blip r:embed="rId1"/>
          <a:stretch/>
        </p:blipFill>
        <p:spPr>
          <a:xfrm>
            <a:off x="3492360" y="2708280"/>
            <a:ext cx="2971800" cy="1506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2blendamed%20romashka%20white"/>
          <p:cNvPicPr/>
          <p:nvPr/>
        </p:nvPicPr>
        <p:blipFill>
          <a:blip r:embed="rId2"/>
          <a:stretch/>
        </p:blipFill>
        <p:spPr>
          <a:xfrm>
            <a:off x="611280" y="4365720"/>
            <a:ext cx="2049480" cy="2120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images 3"/>
          <p:cNvPicPr/>
          <p:nvPr/>
        </p:nvPicPr>
        <p:blipFill>
          <a:blip r:embed="rId3"/>
          <a:stretch/>
        </p:blipFill>
        <p:spPr>
          <a:xfrm>
            <a:off x="5219640" y="189000"/>
            <a:ext cx="3672000" cy="1457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3203640" y="4327560"/>
            <a:ext cx="594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не рекламируем товар  и  не отрицаем, необходимости рекламы и  её важной роли в жизни современного человека, но призываем вас относиться, очень вдумчиво и критично ко всему, что обрушивают на нас рекламные фирмы со страниц газет, с экранов телевизоров, многочисленных плакатов, листовок и брошю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6156360" y="620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G_BAM_egg_40.mpg" descr=""/>
          <p:cNvPicPr/>
          <p:nvPr/>
        </p:nvPicPr>
        <p:blipFill>
          <a:blip r:embed="rId1"/>
          <a:stretch/>
        </p:blipFill>
        <p:spPr>
          <a:xfrm>
            <a:off x="0" y="0"/>
            <a:ext cx="4964040" cy="3722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148360" y="0"/>
            <a:ext cx="399564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итая любую рекламу, наблюдая ее на экране телевизора,  мы попытались выяснить – не противоречит ли её содержание тем законам и понятиям естественных наук, которые изучали в школ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ет ли в тексте явных ошибок, неправильно написанных формул, неверно объясняемых с точки зрения химии процессов . Проанализировали несколько рекламных текстов и попробовали оценить и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верность с позиции хи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47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11843543586248"/>
          <p:cNvPicPr/>
          <p:nvPr/>
        </p:nvPicPr>
        <p:blipFill>
          <a:blip r:embed="rId1"/>
          <a:stretch/>
        </p:blipFill>
        <p:spPr>
          <a:xfrm>
            <a:off x="0" y="0"/>
            <a:ext cx="4211640" cy="1801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84360" y="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 тюб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419640" y="0"/>
            <a:ext cx="57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у нужно стараться узн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составе того продукта, которы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льзу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Ну например; что такое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убной паст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риклоза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что тако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урилсульфат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атр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971640" y="3870360"/>
            <a:ext cx="69134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Лаурилсульфат натрия(SLS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дешевый пенообразователь , получаемое из кокосового масла путём химического синтеза. Недавние исследования в Медицинском Колледже Университета показали, что SLS проникает в глаза, в мозг, в сердце, печень, изменяет белковый состав клеток глаз детей, задерживается там и выводится очень тру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116000" y="2060640"/>
            <a:ext cx="6624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Триклозан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антибиотик , будучи антибиотиком синтетическим, не разбирается какая микрофлора во рту полезная или вредная, ему всё равно - он синтетический. Он «выметает» всё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2blendamed%20romashka%20white"/>
          <p:cNvPicPr/>
          <p:nvPr/>
        </p:nvPicPr>
        <p:blipFill>
          <a:blip r:embed="rId1"/>
          <a:stretch/>
        </p:blipFill>
        <p:spPr>
          <a:xfrm>
            <a:off x="0" y="0"/>
            <a:ext cx="3201840" cy="331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ex_balance_1.jpg (44474 bytes)"/>
          <p:cNvPicPr/>
          <p:nvPr/>
        </p:nvPicPr>
        <p:blipFill>
          <a:blip r:embed="rId2"/>
          <a:stretch/>
        </p:blipFill>
        <p:spPr>
          <a:xfrm>
            <a:off x="0" y="3575160"/>
            <a:ext cx="4140360" cy="3108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1"/>
          <p:cNvSpPr/>
          <p:nvPr/>
        </p:nvSpPr>
        <p:spPr>
          <a:xfrm>
            <a:off x="8101080" y="62164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8172360" y="6308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7301"/>
                </a:moveTo>
                <a:lnTo>
                  <a:pt x="15497" y="7301"/>
                </a:lnTo>
                <a:lnTo>
                  <a:pt x="15880" y="7667"/>
                </a:lnTo>
                <a:lnTo>
                  <a:pt x="25088" y="7667"/>
                </a:lnTo>
                <a:lnTo>
                  <a:pt x="25645" y="8224"/>
                </a:lnTo>
                <a:lnTo>
                  <a:pt x="25645" y="8772"/>
                </a:lnTo>
                <a:lnTo>
                  <a:pt x="27490" y="8772"/>
                </a:lnTo>
                <a:lnTo>
                  <a:pt x="27856" y="8224"/>
                </a:lnTo>
                <a:lnTo>
                  <a:pt x="28596" y="8224"/>
                </a:lnTo>
                <a:lnTo>
                  <a:pt x="28596" y="13376"/>
                </a:lnTo>
                <a:lnTo>
                  <a:pt x="27856" y="13376"/>
                </a:lnTo>
                <a:lnTo>
                  <a:pt x="27490" y="12828"/>
                </a:lnTo>
                <a:lnTo>
                  <a:pt x="25645" y="12828"/>
                </a:lnTo>
                <a:lnTo>
                  <a:pt x="25645" y="14107"/>
                </a:lnTo>
                <a:lnTo>
                  <a:pt x="16062" y="14107"/>
                </a:lnTo>
                <a:lnTo>
                  <a:pt x="16062" y="9877"/>
                </a:lnTo>
                <a:lnTo>
                  <a:pt x="15880" y="9877"/>
                </a:lnTo>
                <a:lnTo>
                  <a:pt x="15497" y="10243"/>
                </a:lnTo>
                <a:lnTo>
                  <a:pt x="1458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2040559"/>
          <p:cNvPicPr/>
          <p:nvPr/>
        </p:nvPicPr>
        <p:blipFill>
          <a:blip r:embed="rId1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2040566"/>
          <p:cNvPicPr/>
          <p:nvPr/>
        </p:nvPicPr>
        <p:blipFill>
          <a:blip r:embed="rId2"/>
          <a:stretch/>
        </p:blipFill>
        <p:spPr>
          <a:xfrm>
            <a:off x="2627280" y="1989000"/>
            <a:ext cx="3311640" cy="310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2040565"/>
          <p:cNvPicPr/>
          <p:nvPr/>
        </p:nvPicPr>
        <p:blipFill>
          <a:blip r:embed="rId3"/>
          <a:stretch/>
        </p:blipFill>
        <p:spPr>
          <a:xfrm>
            <a:off x="5759280" y="3735360"/>
            <a:ext cx="3384720" cy="312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2110587"/>
          <p:cNvPicPr/>
          <p:nvPr/>
        </p:nvPicPr>
        <p:blipFill>
          <a:blip r:embed="rId4"/>
          <a:stretch/>
        </p:blipFill>
        <p:spPr>
          <a:xfrm>
            <a:off x="0" y="3762360"/>
            <a:ext cx="2863800" cy="309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P2110595"/>
          <p:cNvPicPr/>
          <p:nvPr/>
        </p:nvPicPr>
        <p:blipFill>
          <a:blip r:embed="rId5"/>
          <a:stretch/>
        </p:blipFill>
        <p:spPr>
          <a:xfrm>
            <a:off x="5391000" y="0"/>
            <a:ext cx="3753000" cy="281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P2110598"/>
          <p:cNvPicPr/>
          <p:nvPr/>
        </p:nvPicPr>
        <p:blipFill>
          <a:blip r:embed="rId6"/>
          <a:stretch/>
        </p:blipFill>
        <p:spPr>
          <a:xfrm>
            <a:off x="2340000" y="1844640"/>
            <a:ext cx="3833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2040572"/>
          <p:cNvPicPr/>
          <p:nvPr/>
        </p:nvPicPr>
        <p:blipFill>
          <a:blip r:embed="rId1"/>
          <a:stretch/>
        </p:blipFill>
        <p:spPr>
          <a:xfrm>
            <a:off x="0" y="0"/>
            <a:ext cx="2916360" cy="378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P2110605"/>
          <p:cNvPicPr/>
          <p:nvPr/>
        </p:nvPicPr>
        <p:blipFill>
          <a:blip r:embed="rId2"/>
          <a:stretch/>
        </p:blipFill>
        <p:spPr>
          <a:xfrm>
            <a:off x="2268360" y="2133720"/>
            <a:ext cx="3240360" cy="338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P2110602"/>
          <p:cNvPicPr/>
          <p:nvPr/>
        </p:nvPicPr>
        <p:blipFill>
          <a:blip r:embed="rId3"/>
          <a:stretch/>
        </p:blipFill>
        <p:spPr>
          <a:xfrm>
            <a:off x="5364000" y="3745080"/>
            <a:ext cx="3780000" cy="311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P2110608"/>
          <p:cNvPicPr/>
          <p:nvPr/>
        </p:nvPicPr>
        <p:blipFill>
          <a:blip r:embed="rId4"/>
          <a:stretch/>
        </p:blipFill>
        <p:spPr>
          <a:xfrm>
            <a:off x="5907240" y="0"/>
            <a:ext cx="3236760" cy="350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P2110592"/>
          <p:cNvPicPr/>
          <p:nvPr/>
        </p:nvPicPr>
        <p:blipFill>
          <a:blip r:embed="rId5"/>
          <a:stretch/>
        </p:blipFill>
        <p:spPr>
          <a:xfrm>
            <a:off x="0" y="3727440"/>
            <a:ext cx="3635280" cy="313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2040575"/>
          <p:cNvPicPr/>
          <p:nvPr/>
        </p:nvPicPr>
        <p:blipFill>
          <a:blip r:embed="rId6"/>
          <a:stretch/>
        </p:blipFill>
        <p:spPr>
          <a:xfrm>
            <a:off x="2925720" y="907920"/>
            <a:ext cx="3203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L35_p09_p03"/>
          <p:cNvPicPr/>
          <p:nvPr/>
        </p:nvPicPr>
        <p:blipFill>
          <a:blip r:embed="rId1"/>
          <a:stretch/>
        </p:blipFill>
        <p:spPr>
          <a:xfrm>
            <a:off x="5983200" y="4487760"/>
            <a:ext cx="3160800" cy="237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L35_p09_p02"/>
          <p:cNvPicPr/>
          <p:nvPr/>
        </p:nvPicPr>
        <p:blipFill>
          <a:blip r:embed="rId2"/>
          <a:stretch/>
        </p:blipFill>
        <p:spPr>
          <a:xfrm>
            <a:off x="0" y="0"/>
            <a:ext cx="2004840" cy="270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P2040584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357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979640" y="0"/>
            <a:ext cx="4392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 уверяли в рекламе, что уникальная фтористая система флористат эффективно укрепляет зубную эмаль, и демонстрируют действительно впечатляющий опыт с куриным яйцом, которое после обработки этой пастой не растворяется в уксус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анным опыт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ы доказали обратное. Но это не значит, что надо отказываться от чистки зубов. Соблюдайте правила гигиены и чистите зубы два раза  - утром и вечером, а после каждого приема пищи полощите рот, и тогда вам придется меньше обращаться к стоматол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116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 Мойдодыра исполняет хи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620640"/>
            <a:ext cx="446580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ая характеристика любого моющего средства – щёлочность. От нё зависит эффективность действия моющего средства. Чем более щёлочную реакцию имеют мыло и шампунь, тем лучше они удаляют кожное сало; в то же время все щёлочные растворы сушат кожу, разрушают вол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действие сильнощелочных моющих средств может изменить нормальное значение рН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images 7"/>
          <p:cNvPicPr/>
          <p:nvPr/>
        </p:nvPicPr>
        <p:blipFill>
          <a:blip r:embed="rId1"/>
          <a:stretch/>
        </p:blipFill>
        <p:spPr>
          <a:xfrm>
            <a:off x="5145120" y="4830840"/>
            <a:ext cx="3998880" cy="2027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0" y="53737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д нами стояла задача -  определить какое мыло луч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P1280545"/>
          <p:cNvPicPr/>
          <p:nvPr/>
        </p:nvPicPr>
        <p:blipFill>
          <a:blip r:embed="rId2"/>
          <a:stretch/>
        </p:blipFill>
        <p:spPr>
          <a:xfrm>
            <a:off x="5884920" y="549360"/>
            <a:ext cx="3078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00:51Z</dcterms:created>
  <dc:creator>1</dc:creator>
  <dc:description/>
  <dc:language>en-US</dc:language>
  <cp:lastModifiedBy>Галина Клок</cp:lastModifiedBy>
  <dcterms:modified xsi:type="dcterms:W3CDTF">2017-10-09T12:56:13Z</dcterms:modified>
  <cp:revision>14</cp:revision>
  <dc:subject/>
  <dc:title>Слайд 1</dc:title>
</cp:coreProperties>
</file>