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28A4-0612-4419-B64C-209950B5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58E1-41AF-416E-BAED-B9602059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AC3-FD11-4C4E-A54B-68157472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208-F7A7-4717-8613-E5E561F7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52E-8BE1-49BD-A7DF-AE302AD2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7787-FE07-4E2F-84F0-8109B3CE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CA51-63E1-4A6E-9387-0A1A7486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FE0-B4D1-4E95-9C35-6E5FE68C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65D0-F318-42F1-B606-67F3C527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A483-5EB7-4415-A174-BF03CF2E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91FA-6944-4472-8900-D018CE91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E7B0-B865-4606-8709-31EC5296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25F1-8012-4BBC-B4B7-644AA8780F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1584-E9CA-44D2-B0B2-CE2F5C0634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Авторские игры для развития речевого дых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дуй листочек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Images\P26-12-12_17.25.jpg"/>
          <p:cNvPicPr/>
          <p:nvPr/>
        </p:nvPicPr>
        <p:blipFill>
          <a:blip r:embed="rId1"/>
          <a:stretch/>
        </p:blipFill>
        <p:spPr>
          <a:xfrm>
            <a:off x="2819520" y="2143080"/>
            <a:ext cx="5689440" cy="3876840"/>
          </a:xfrm>
          <a:prstGeom prst="rect">
            <a:avLst/>
          </a:prstGeom>
          <a:ln w="0">
            <a:noFill/>
          </a:ln>
        </p:spPr>
      </p:pic>
      <p:sp>
        <p:nvSpPr>
          <p:cNvPr id="44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Images\P26-12-12_17.32[1].jpg"/>
          <p:cNvPicPr/>
          <p:nvPr/>
        </p:nvPicPr>
        <p:blipFill>
          <a:blip r:embed="rId1"/>
          <a:stretch/>
        </p:blipFill>
        <p:spPr>
          <a:xfrm>
            <a:off x="762120" y="762120"/>
            <a:ext cx="7859520" cy="552456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Не дай лягушке поймать стрекоз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:\Images\P26-12-12_17.26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Сдуй туч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:\Images\P26-12-12_17.26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Флажк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Images\P26-12-12_17.27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Угадай кто спряталс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Images\P26-12-12_17.28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Горячий чай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Images\P26-12-12_17.28[2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Не дай кошке поймать птичку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Images\P26-12-12_17.29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Помоги мишке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Images\P26-12-12_17.29[1]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Images\P26-12-12_17.32.jpg"/>
          <p:cNvPicPr/>
          <p:nvPr/>
        </p:nvPicPr>
        <p:blipFill>
          <a:blip r:embed="rId1"/>
          <a:stretch/>
        </p:blipFill>
        <p:spPr>
          <a:xfrm>
            <a:off x="1117440" y="838080"/>
            <a:ext cx="6883560" cy="5162760"/>
          </a:xfrm>
          <a:prstGeom prst="rect">
            <a:avLst/>
          </a:prstGeom>
          <a:ln w="0">
            <a:noFill/>
          </a:ln>
        </p:spPr>
      </p:pic>
      <p:sp>
        <p:nvSpPr>
          <p:cNvPr id="67" name="Нижний колонтитул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Учитель-логопед Бузмакова А.Ф. МАДОУ "Детский сад № 395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8T19:34:32Z</dcterms:created>
  <dc:creator>User</dc:creator>
  <dc:description/>
  <dc:language>en-US</dc:language>
  <cp:lastModifiedBy>Бузмакова</cp:lastModifiedBy>
  <dcterms:modified xsi:type="dcterms:W3CDTF">2012-12-28T19:49:03Z</dcterms:modified>
  <cp:revision>2</cp:revision>
  <dc:subject/>
  <dc:title>Авторские игры для развития речевого дыхания</dc:title>
</cp:coreProperties>
</file>