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1B4F-345D-4FC1-83A3-D3A3A9BFE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297F-4201-4527-A6A6-02C8DB6D2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710D-CFE7-4295-B0E0-B5EE112C3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651E-933B-457F-A2B5-501C3CD60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0F18-8925-4759-BC03-02FFCBB6C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56F5-DED8-4108-82FB-2977559B7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3100-9F44-48A5-9A3E-951C60CA5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491A-B5F6-4863-8052-F942DFF85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A447-394B-468C-94C2-C22009C47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5A17-6548-473C-B4E7-77082973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238D-EF48-4467-9715-ED421555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2D5B-E2E2-4330-B65F-0E7CCAB4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C2BC4-7988-475F-8E9C-92EFCFD159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читель-логопед Бузмакова А.Ф. МАДОУ "Детский сад № 395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51DD5-F325-4BB8-9D2B-66323C0C3C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вторские игры для развития речевого дых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Сдуй листочек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:\Images\P26-12-12_17.25.jpg"/>
          <p:cNvPicPr/>
          <p:nvPr/>
        </p:nvPicPr>
        <p:blipFill>
          <a:blip r:embed="rId1"/>
          <a:stretch/>
        </p:blipFill>
        <p:spPr>
          <a:xfrm>
            <a:off x="2819520" y="2143080"/>
            <a:ext cx="5689440" cy="3876840"/>
          </a:xfrm>
          <a:prstGeom prst="rect">
            <a:avLst/>
          </a:prstGeom>
          <a:ln w="0">
            <a:noFill/>
          </a:ln>
        </p:spPr>
      </p:pic>
      <p:sp>
        <p:nvSpPr>
          <p:cNvPr id="4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читель-логопед Бузмакова А.Ф. МАДОУ "Детский сад № 395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H:\Images\P26-12-12_17.32[1].jpg"/>
          <p:cNvPicPr/>
          <p:nvPr/>
        </p:nvPicPr>
        <p:blipFill>
          <a:blip r:embed="rId1"/>
          <a:stretch/>
        </p:blipFill>
        <p:spPr>
          <a:xfrm>
            <a:off x="762120" y="762120"/>
            <a:ext cx="7859520" cy="5524560"/>
          </a:xfrm>
          <a:prstGeom prst="rect">
            <a:avLst/>
          </a:prstGeom>
          <a:ln w="0">
            <a:noFill/>
          </a:ln>
        </p:spPr>
      </p:pic>
      <p:sp>
        <p:nvSpPr>
          <p:cNvPr id="69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читель-логопед Бузмакова А.Ф. МАДОУ "Детский сад № 395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Не дай лягушке поймать стрекозу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H:\Images\P26-12-12_17.26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sp>
        <p:nvSpPr>
          <p:cNvPr id="47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читель-логопед Бузмакова А.Ф. МАДОУ "Детский сад № 395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Сдуй тучк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H:\Images\P26-12-12_17.26[1]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sp>
        <p:nvSpPr>
          <p:cNvPr id="5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читель-логопед Бузмакова А.Ф. МАДОУ "Детский сад № 395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Флажк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:\Images\P26-12-12_17.27[2]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sp>
        <p:nvSpPr>
          <p:cNvPr id="53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читель-логопед Бузмакова А.Ф. МАДОУ "Детский сад № 395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Угадай кто спряталс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:\Images\P26-12-12_17.28[1]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читель-логопед Бузмакова А.Ф. МАДОУ "Детский сад № 395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Горячий чай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:\Images\P26-12-12_17.28[2]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sp>
        <p:nvSpPr>
          <p:cNvPr id="59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читель-логопед Бузмакова А.Ф. МАДОУ "Детский сад № 395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Не дай кошке поймать птичку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:\Images\P26-12-12_17.29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sp>
        <p:nvSpPr>
          <p:cNvPr id="6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читель-логопед Бузмакова А.Ф. МАДОУ "Детский сад № 395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Помоги мишке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H:\Images\P26-12-12_17.29[1]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sp>
        <p:nvSpPr>
          <p:cNvPr id="6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читель-логопед Бузмакова А.Ф. МАДОУ "Детский сад № 395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:\Images\P26-12-12_17.32.jpg"/>
          <p:cNvPicPr/>
          <p:nvPr/>
        </p:nvPicPr>
        <p:blipFill>
          <a:blip r:embed="rId1"/>
          <a:stretch/>
        </p:blipFill>
        <p:spPr>
          <a:xfrm>
            <a:off x="1117440" y="838080"/>
            <a:ext cx="6883560" cy="5162760"/>
          </a:xfrm>
          <a:prstGeom prst="rect">
            <a:avLst/>
          </a:prstGeom>
          <a:ln w="0">
            <a:noFill/>
          </a:ln>
        </p:spPr>
      </p:pic>
      <p:sp>
        <p:nvSpPr>
          <p:cNvPr id="67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читель-логопед Бузмакова А.Ф. МАДОУ "Детский сад № 395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8T19:34:32Z</dcterms:created>
  <dc:creator>User</dc:creator>
  <dc:description/>
  <dc:language>en-US</dc:language>
  <cp:lastModifiedBy>Бузмакова</cp:lastModifiedBy>
  <dcterms:modified xsi:type="dcterms:W3CDTF">2012-12-28T19:49:03Z</dcterms:modified>
  <cp:revision>2</cp:revision>
  <dc:subject/>
  <dc:title>Авторские игры для развития речевого дыхания</dc:title>
</cp:coreProperties>
</file>