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3449-B5D3-4F9B-B6CE-B4949BB5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8BB2-CE0C-4980-BC50-70D6BBE11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5155-2259-4179-9448-56E2C293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9F67-10F7-463B-828C-3F2D9C53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1A23-0775-4D9C-82E4-4E740383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C30E-201C-49D8-BDB1-8EE2C510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85B4-ED5A-4575-B69C-422D06D3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9B8-4492-483A-B96E-37BA21AF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4BF7-2AFD-41D4-8569-B6F03C9C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6D9-EA3D-44B9-A7FE-E6D22A9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DE02-0263-49A3-AD0C-485EF80E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AEB-3100-4A1A-91A6-ACABD8BB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9118-01C6-4EFC-90F9-9C69AEE74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4.jpeg"/><Relationship Id="rId4" Type="http://schemas.openxmlformats.org/officeDocument/2006/relationships/hyperlink" Target="http://www.kremlin.ru/" TargetMode="External"/><Relationship Id="rId5" Type="http://schemas.openxmlformats.org/officeDocument/2006/relationships/hyperlink" Target="http://www.kremlin.ru/" TargetMode="Externa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hyperlink" Target="http://www.council.gov.ru/" TargetMode="External"/><Relationship Id="rId7" Type="http://schemas.openxmlformats.org/officeDocument/2006/relationships/hyperlink" Target="http://www.duma.gov.ru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hyperlink" Target="http://government.ru/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9320" y="2209680"/>
            <a:ext cx="670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итуция РФ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3671640" y="4343400"/>
            <a:ext cx="482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Мифтахова Лидия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Моркинская средняя (пол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ая школа №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380880" y="990720"/>
            <a:ext cx="853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1066680"/>
          <a:ext cx="8686800" cy="5253120"/>
        </p:xfrm>
        <a:graphic>
          <a:graphicData uri="http://schemas.openxmlformats.org/drawingml/2006/table">
            <a:tbl>
              <a:tblPr/>
              <a:tblGrid>
                <a:gridCol w="4648320"/>
                <a:gridCol w="4038480"/>
              </a:tblGrid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ава граж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язанности гражда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жиз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ть налог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свободу и личную неприкоснове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ять природу и окружающую сре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достоинство лич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щита Оте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сов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людать зак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храну здоровья и медицинское обслужи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 заботиться о нетрудоспособных родителя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частной собственности, ж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жен беречь памятники куль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ить основное общее 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труд и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язанность родителей воспитывать детей и заботиться о н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обода мысли и с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на благоприятную окружающую сре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о избирать и быть избранны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380880" y="990720"/>
            <a:ext cx="8534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тивное устройство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9"/>
          <p:cNvSpPr/>
          <p:nvPr/>
        </p:nvSpPr>
        <p:spPr>
          <a:xfrm>
            <a:off x="457200" y="2362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спублик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11"/>
          <p:cNvSpPr/>
          <p:nvPr/>
        </p:nvSpPr>
        <p:spPr>
          <a:xfrm>
            <a:off x="762120" y="3505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р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2"/>
          <p:cNvSpPr/>
          <p:nvPr/>
        </p:nvSpPr>
        <p:spPr>
          <a:xfrm>
            <a:off x="4648320" y="350532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ласти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5105520" y="2362320"/>
            <a:ext cx="350496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рода федерального зна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4"/>
          <p:cNvSpPr/>
          <p:nvPr/>
        </p:nvSpPr>
        <p:spPr>
          <a:xfrm>
            <a:off x="1676520" y="4724280"/>
            <a:ext cx="220968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номн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15"/>
          <p:cNvSpPr/>
          <p:nvPr/>
        </p:nvSpPr>
        <p:spPr>
          <a:xfrm>
            <a:off x="4343400" y="4724280"/>
            <a:ext cx="220968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тономный 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Прямая со стрелкой 17"/>
          <p:cNvCxnSpPr/>
          <p:nvPr/>
        </p:nvCxnSpPr>
        <p:spPr>
          <a:xfrm flipH="1">
            <a:off x="2133000" y="1599120"/>
            <a:ext cx="144828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3" name="Прямая со стрелкой 21"/>
          <p:cNvCxnSpPr>
            <a:stCxn id="135" idx="2"/>
          </p:cNvCxnSpPr>
          <p:nvPr/>
        </p:nvCxnSpPr>
        <p:spPr>
          <a:xfrm>
            <a:off x="4648320" y="1636560"/>
            <a:ext cx="1753200" cy="72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4" name="Прямая со стрелкой 23"/>
          <p:cNvCxnSpPr/>
          <p:nvPr/>
        </p:nvCxnSpPr>
        <p:spPr>
          <a:xfrm flipH="1">
            <a:off x="2513880" y="1676520"/>
            <a:ext cx="122004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5" name="Прямая со стрелкой 25"/>
          <p:cNvCxnSpPr/>
          <p:nvPr/>
        </p:nvCxnSpPr>
        <p:spPr>
          <a:xfrm>
            <a:off x="4342320" y="1676520"/>
            <a:ext cx="1067400" cy="182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" name="Прямая со стрелкой 27"/>
          <p:cNvCxnSpPr/>
          <p:nvPr/>
        </p:nvCxnSpPr>
        <p:spPr>
          <a:xfrm flipH="1">
            <a:off x="3199680" y="1752120"/>
            <a:ext cx="76284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7" name="Прямая со стрелкой 29"/>
          <p:cNvCxnSpPr/>
          <p:nvPr/>
        </p:nvCxnSpPr>
        <p:spPr>
          <a:xfrm>
            <a:off x="4191120" y="1752120"/>
            <a:ext cx="381600" cy="297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5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7"/>
          <p:cNvSpPr/>
          <p:nvPr/>
        </p:nvSpPr>
        <p:spPr>
          <a:xfrm>
            <a:off x="1523880" y="762120"/>
            <a:ext cx="64771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C:\Documents and Settings\Elena\Desktop\През.jpg"/>
          <p:cNvPicPr/>
          <p:nvPr/>
        </p:nvPicPr>
        <p:blipFill>
          <a:blip r:embed="rId3"/>
          <a:stretch/>
        </p:blipFill>
        <p:spPr>
          <a:xfrm>
            <a:off x="609480" y="1447920"/>
            <a:ext cx="2286000" cy="2935080"/>
          </a:xfrm>
          <a:prstGeom prst="rect">
            <a:avLst/>
          </a:prstGeom>
          <a:ln w="0">
            <a:noFill/>
          </a:ln>
        </p:spPr>
      </p:pic>
      <p:sp>
        <p:nvSpPr>
          <p:cNvPr id="155" name="Содержимое 3"/>
          <p:cNvSpPr/>
          <p:nvPr/>
        </p:nvSpPr>
        <p:spPr>
          <a:xfrm>
            <a:off x="3733920" y="1600200"/>
            <a:ext cx="52578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 Конституции РФ, прав и свобод человека и гражда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овный главнокомандующий Вооруженными силам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РФ избирается гражданами России сроком на </a:t>
            </a:r>
            <a:r>
              <a:rPr b="0" i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152280" y="4572000"/>
            <a:ext cx="365760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ладимир Владимирович Пут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езидент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Сайт Президента - 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Georgia"/>
                <a:hlinkClick r:id="rId4"/>
              </a:rPr>
              <a:t>http://www.kremlin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Georgia"/>
                <a:hlinkClick r:id="rId5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380880" y="609480"/>
            <a:ext cx="85345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Собр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ламент РФ, представительный и законодательный орган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685800" y="1600200"/>
            <a:ext cx="25146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сударственная Д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Elena\Desktop\парламнет.jpg"/>
          <p:cNvPicPr/>
          <p:nvPr/>
        </p:nvPicPr>
        <p:blipFill>
          <a:blip r:embed="rId3"/>
          <a:stretch/>
        </p:blipFill>
        <p:spPr>
          <a:xfrm>
            <a:off x="3886200" y="1523880"/>
            <a:ext cx="1397160" cy="10479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1"/>
          <p:cNvSpPr/>
          <p:nvPr/>
        </p:nvSpPr>
        <p:spPr>
          <a:xfrm>
            <a:off x="5867280" y="1600200"/>
            <a:ext cx="25146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вет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C:\Documents and Settings\Elena\Desktop\Матвиенко.jpg"/>
          <p:cNvPicPr/>
          <p:nvPr/>
        </p:nvPicPr>
        <p:blipFill>
          <a:blip r:embed="rId4"/>
          <a:stretch/>
        </p:blipFill>
        <p:spPr>
          <a:xfrm>
            <a:off x="6781680" y="2133720"/>
            <a:ext cx="990720" cy="148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C:\Documents and Settings\Elena\Desktop\Нарышкин.png"/>
          <p:cNvPicPr/>
          <p:nvPr/>
        </p:nvPicPr>
        <p:blipFill>
          <a:blip r:embed="rId5"/>
          <a:srcRect l="34849" t="0" r="0" b="0"/>
          <a:stretch/>
        </p:blipFill>
        <p:spPr>
          <a:xfrm>
            <a:off x="1447920" y="2133720"/>
            <a:ext cx="1139760" cy="14302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8"/>
          <p:cNvSpPr/>
          <p:nvPr/>
        </p:nvSpPr>
        <p:spPr>
          <a:xfrm>
            <a:off x="152280" y="365760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. Е. Нарышки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дседатель Государственной Дум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Федерального Собрания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6"/>
          <p:cNvSpPr/>
          <p:nvPr/>
        </p:nvSpPr>
        <p:spPr>
          <a:xfrm>
            <a:off x="4648320" y="36576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. И. Матвиенк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едседатель Совета Федерации Федерального Собрания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7"/>
          <p:cNvSpPr/>
          <p:nvPr/>
        </p:nvSpPr>
        <p:spPr>
          <a:xfrm>
            <a:off x="5715000" y="4495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Совета Федерации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council.gov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457200" y="44956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Государственной Думы -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duma.gov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9"/>
          <p:cNvSpPr/>
          <p:nvPr/>
        </p:nvSpPr>
        <p:spPr>
          <a:xfrm>
            <a:off x="5574960" y="4800600"/>
            <a:ext cx="2942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2 представителя от кажд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а РФ, по одному  о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ьног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ого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й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0"/>
          <p:cNvSpPr/>
          <p:nvPr/>
        </p:nvSpPr>
        <p:spPr>
          <a:xfrm>
            <a:off x="853920" y="4876920"/>
            <a:ext cx="2756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0 депутатов, избранных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орциональной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ирательной систе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77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304920" y="838080"/>
            <a:ext cx="85341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тельство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ьный орган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Elena\Desktop\20 лет Конституция\картинки\дом правительства.jpeg"/>
          <p:cNvPicPr/>
          <p:nvPr/>
        </p:nvPicPr>
        <p:blipFill>
          <a:blip r:embed="rId3"/>
          <a:stretch/>
        </p:blipFill>
        <p:spPr>
          <a:xfrm>
            <a:off x="5181480" y="190512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Documents and Settings\Elena\Desktop\20 лет Конституция\картинки\Медведев.jpg"/>
          <p:cNvPicPr/>
          <p:nvPr/>
        </p:nvPicPr>
        <p:blipFill>
          <a:blip r:embed="rId4"/>
          <a:stretch/>
        </p:blipFill>
        <p:spPr>
          <a:xfrm>
            <a:off x="1981080" y="1905120"/>
            <a:ext cx="1524240" cy="20336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5"/>
          <p:cNvSpPr/>
          <p:nvPr/>
        </p:nvSpPr>
        <p:spPr>
          <a:xfrm>
            <a:off x="685800" y="4952880"/>
            <a:ext cx="414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Правительства РФ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government.ru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1155600" y="4038480"/>
            <a:ext cx="30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А.Медведе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равительства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4"/>
          <p:cNvSpPr/>
          <p:nvPr/>
        </p:nvSpPr>
        <p:spPr>
          <a:xfrm>
            <a:off x="4825800" y="4114800"/>
            <a:ext cx="3931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едатель Правитель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и Председателя Правитель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е мин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04920" y="838080"/>
            <a:ext cx="85341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ебная власть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362320" y="1752480"/>
            <a:ext cx="6400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судие в России осуществляется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лько суд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сменяе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прикосновенн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ьи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зависи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одчиняются только Конституции и закон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ы высшей инстанци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Documents and Settings\Elena\Desktop\фемида.jpg"/>
          <p:cNvPicPr/>
          <p:nvPr/>
        </p:nvPicPr>
        <p:blipFill>
          <a:blip r:embed="rId3"/>
          <a:stretch/>
        </p:blipFill>
        <p:spPr>
          <a:xfrm>
            <a:off x="304920" y="1981080"/>
            <a:ext cx="1981080" cy="434340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17"/>
          <p:cNvSpPr/>
          <p:nvPr/>
        </p:nvSpPr>
        <p:spPr>
          <a:xfrm>
            <a:off x="2133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онный Суд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8"/>
          <p:cNvSpPr/>
          <p:nvPr/>
        </p:nvSpPr>
        <p:spPr>
          <a:xfrm>
            <a:off x="4419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ховный Суд РФ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19"/>
          <p:cNvSpPr/>
          <p:nvPr/>
        </p:nvSpPr>
        <p:spPr>
          <a:xfrm>
            <a:off x="6705720" y="4038480"/>
            <a:ext cx="2209680" cy="68580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сший Арбитражный Суд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21"/>
          <p:cNvSpPr/>
          <p:nvPr/>
        </p:nvSpPr>
        <p:spPr>
          <a:xfrm>
            <a:off x="2073960" y="5029200"/>
            <a:ext cx="230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 соответств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Ф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х зако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2"/>
          <p:cNvSpPr/>
          <p:nvPr/>
        </p:nvSpPr>
        <p:spPr>
          <a:xfrm>
            <a:off x="4438800" y="5029200"/>
            <a:ext cx="2439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о уголовны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м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м общей юрисди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3"/>
          <p:cNvSpPr/>
          <p:nvPr/>
        </p:nvSpPr>
        <p:spPr>
          <a:xfrm>
            <a:off x="6823800" y="5029200"/>
            <a:ext cx="234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по разрешен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х сп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202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Содержимое 3" descr="ВЛАСТЬ_(_0.tmp"/>
          <p:cNvPicPr/>
          <p:nvPr/>
        </p:nvPicPr>
        <p:blipFill>
          <a:blip r:embed="rId3"/>
          <a:stretch/>
        </p:blipFill>
        <p:spPr>
          <a:xfrm>
            <a:off x="390600" y="622440"/>
            <a:ext cx="8137440" cy="63021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3"/>
          <p:cNvSpPr/>
          <p:nvPr/>
        </p:nvSpPr>
        <p:spPr>
          <a:xfrm>
            <a:off x="228600" y="38088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ая Конституция самая лучшая?                               </a:t>
            </a:r>
            <a:br>
              <a:rPr sz="1800"/>
            </a:b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                Та, которая лучше всего исполняется.</a:t>
            </a:r>
            <a:br>
              <a:rPr sz="1800"/>
            </a:br>
            <a:r>
              <a:rPr b="0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. Бе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2"/>
          <a:stretch/>
        </p:blipFill>
        <p:spPr>
          <a:xfrm>
            <a:off x="3200400" y="1523880"/>
            <a:ext cx="2870280" cy="283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1371600"/>
            <a:ext cx="670536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тему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нституция РФ – основной закон государст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2"/>
          <p:cNvSpPr/>
          <p:nvPr/>
        </p:nvSpPr>
        <p:spPr>
          <a:xfrm>
            <a:off x="3976560" y="4876920"/>
            <a:ext cx="4822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Мифтахова Лидия Александро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Моркинская средняя (полная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образовательная школа №6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и Марий Э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одержимое 7" descr="Рисунок3.png"/>
          <p:cNvPicPr/>
          <p:nvPr/>
        </p:nvPicPr>
        <p:blipFill>
          <a:blip r:embed="rId3"/>
          <a:stretch/>
        </p:blipFill>
        <p:spPr>
          <a:xfrm>
            <a:off x="5867280" y="1523880"/>
            <a:ext cx="2810160" cy="3810240"/>
          </a:xfrm>
          <a:prstGeom prst="rect">
            <a:avLst/>
          </a:prstGeom>
          <a:ln w="0">
            <a:noFill/>
          </a:ln>
        </p:spPr>
      </p:pic>
      <p:sp>
        <p:nvSpPr>
          <p:cNvPr id="53" name="Прямоугольник 2"/>
          <p:cNvSpPr/>
          <p:nvPr/>
        </p:nvSpPr>
        <p:spPr>
          <a:xfrm>
            <a:off x="304920" y="1523880"/>
            <a:ext cx="5257800" cy="37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</a:t>
            </a:r>
            <a:r>
              <a:rPr b="0" i="1" lang="la-V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itutio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«устройство»)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закон государств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закрепляет основ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ого строя государства, права и свободы человека и гражданина, организацию высших органов государственной власти, государственную символи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зят из технического обор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 publicam constituire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м начинались акты римских императ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5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Государственный герб СССР"/>
          <p:cNvPicPr/>
          <p:nvPr/>
        </p:nvPicPr>
        <p:blipFill>
          <a:blip r:embed="rId3"/>
          <a:stretch/>
        </p:blipFill>
        <p:spPr>
          <a:xfrm>
            <a:off x="1828800" y="1219320"/>
            <a:ext cx="946080" cy="969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Герб РСФСР"/>
          <p:cNvPicPr/>
          <p:nvPr/>
        </p:nvPicPr>
        <p:blipFill>
          <a:blip r:embed="rId4"/>
          <a:stretch/>
        </p:blipFill>
        <p:spPr>
          <a:xfrm>
            <a:off x="6248520" y="1219320"/>
            <a:ext cx="799920" cy="85572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5265360" y="914400"/>
            <a:ext cx="271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919080" y="91440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и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6019920" y="2133720"/>
            <a:ext cx="2895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8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титуци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5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7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8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РСФ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8"/>
          <p:cNvSpPr/>
          <p:nvPr/>
        </p:nvSpPr>
        <p:spPr>
          <a:xfrm>
            <a:off x="1447920" y="2362320"/>
            <a:ext cx="2590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4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ституция    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6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Конституция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 г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итуция  ССС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Documents and Settings\Elena\Desktop\20 лет Конституция\1918.jpg"/>
          <p:cNvPicPr/>
          <p:nvPr/>
        </p:nvPicPr>
        <p:blipFill>
          <a:blip r:embed="rId5"/>
          <a:stretch/>
        </p:blipFill>
        <p:spPr>
          <a:xfrm>
            <a:off x="5029200" y="2057400"/>
            <a:ext cx="833400" cy="1216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304920" y="20574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D:\Мои документы\Загрузки\конституция ссср.jpg"/>
          <p:cNvPicPr/>
          <p:nvPr/>
        </p:nvPicPr>
        <p:blipFill>
          <a:blip r:embed="rId7"/>
          <a:stretch/>
        </p:blipFill>
        <p:spPr>
          <a:xfrm>
            <a:off x="304920" y="5105520"/>
            <a:ext cx="947520" cy="12985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ая соединительная линия 23"/>
          <p:cNvSpPr/>
          <p:nvPr/>
        </p:nvSpPr>
        <p:spPr>
          <a:xfrm flipH="1">
            <a:off x="1219320" y="2057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25"/>
          <p:cNvSpPr/>
          <p:nvPr/>
        </p:nvSpPr>
        <p:spPr>
          <a:xfrm flipH="1">
            <a:off x="304920" y="205740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27"/>
          <p:cNvSpPr/>
          <p:nvPr/>
        </p:nvSpPr>
        <p:spPr>
          <a:xfrm>
            <a:off x="304920" y="2057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29"/>
          <p:cNvSpPr/>
          <p:nvPr/>
        </p:nvSpPr>
        <p:spPr>
          <a:xfrm>
            <a:off x="304920" y="3200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8"/>
          <a:srcRect l="0" t="0" r="0" b="25346"/>
          <a:stretch/>
        </p:blipFill>
        <p:spPr>
          <a:xfrm>
            <a:off x="304920" y="3505320"/>
            <a:ext cx="1066680" cy="123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9"/>
          <a:stretch/>
        </p:blipFill>
        <p:spPr>
          <a:xfrm>
            <a:off x="5029200" y="3429000"/>
            <a:ext cx="838080" cy="1174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10"/>
          <a:srcRect l="0" t="0" r="0" b="10385"/>
          <a:stretch/>
        </p:blipFill>
        <p:spPr>
          <a:xfrm>
            <a:off x="5105520" y="5029200"/>
            <a:ext cx="887400" cy="1219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Documents and Settings\Elena\Desktop\20 лет Конституция\1993.jpg"/>
          <p:cNvPicPr/>
          <p:nvPr/>
        </p:nvPicPr>
        <p:blipFill>
          <a:blip r:embed="rId3"/>
          <a:stretch/>
        </p:blipFill>
        <p:spPr>
          <a:xfrm>
            <a:off x="457200" y="1905120"/>
            <a:ext cx="2687760" cy="3581280"/>
          </a:xfrm>
          <a:prstGeom prst="rect">
            <a:avLst/>
          </a:prstGeom>
          <a:ln w="0">
            <a:noFill/>
          </a:ln>
        </p:spPr>
      </p:pic>
      <p:sp>
        <p:nvSpPr>
          <p:cNvPr id="82" name="TextBox 30"/>
          <p:cNvSpPr/>
          <p:nvPr/>
        </p:nvSpPr>
        <p:spPr>
          <a:xfrm>
            <a:off x="3505320" y="2286000"/>
            <a:ext cx="541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 199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народным голосованием принята Конституция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декабр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Конституции, памятный день 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86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0"/>
          <p:cNvSpPr/>
          <p:nvPr/>
        </p:nvSpPr>
        <p:spPr>
          <a:xfrm>
            <a:off x="1219320" y="990720"/>
            <a:ext cx="6705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 законодательства стра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верховенство на всей территории государ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имеет высшую юридическую силу, прямое дей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ы не должны противоречить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1"/>
          <p:cNvSpPr/>
          <p:nvPr/>
        </p:nvSpPr>
        <p:spPr>
          <a:xfrm>
            <a:off x="3048120" y="251460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ститу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2"/>
          <p:cNvSpPr/>
          <p:nvPr/>
        </p:nvSpPr>
        <p:spPr>
          <a:xfrm>
            <a:off x="1752480" y="3352680"/>
            <a:ext cx="4800600" cy="38124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деральные конституционные зак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3"/>
          <p:cNvSpPr/>
          <p:nvPr/>
        </p:nvSpPr>
        <p:spPr>
          <a:xfrm>
            <a:off x="2971800" y="4114800"/>
            <a:ext cx="220968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законные а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152280" y="4876920"/>
            <a:ext cx="221004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казы Презид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2438280" y="4876920"/>
            <a:ext cx="350532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становления Прав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6"/>
          <p:cNvSpPr/>
          <p:nvPr/>
        </p:nvSpPr>
        <p:spPr>
          <a:xfrm>
            <a:off x="6019920" y="4876920"/>
            <a:ext cx="2971800" cy="380880"/>
          </a:xfrm>
          <a:prstGeom prst="rect">
            <a:avLst/>
          </a:prstGeom>
          <a:solidFill>
            <a:srgbClr val="d99694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поряжения министе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Прямая со стрелкой 18"/>
          <p:cNvCxnSpPr/>
          <p:nvPr/>
        </p:nvCxnSpPr>
        <p:spPr>
          <a:xfrm flipH="1">
            <a:off x="3960000" y="2897280"/>
            <a:ext cx="39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6" name="Прямая со стрелкой 19"/>
          <p:cNvCxnSpPr/>
          <p:nvPr/>
        </p:nvCxnSpPr>
        <p:spPr>
          <a:xfrm flipH="1">
            <a:off x="3962160" y="3733920"/>
            <a:ext cx="21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7" name="Прямая со стрелкой 21"/>
          <p:cNvCxnSpPr/>
          <p:nvPr/>
        </p:nvCxnSpPr>
        <p:spPr>
          <a:xfrm flipH="1">
            <a:off x="1751760" y="4494600"/>
            <a:ext cx="12214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8" name="Прямая со стрелкой 23"/>
          <p:cNvCxnSpPr/>
          <p:nvPr/>
        </p:nvCxnSpPr>
        <p:spPr>
          <a:xfrm>
            <a:off x="5182920" y="4495320"/>
            <a:ext cx="137052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9" name="Прямая со стрелкой 25"/>
          <p:cNvCxnSpPr/>
          <p:nvPr/>
        </p:nvCxnSpPr>
        <p:spPr>
          <a:xfrm flipH="1">
            <a:off x="3962160" y="4495320"/>
            <a:ext cx="21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0880" y="685800"/>
            <a:ext cx="8328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нститу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стоит из Преамбулы и двух разде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еамбуле характеризуются условия и цели принятия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 следуют разделы, которые делятся на главы. Главы состоят из ста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дел первый содержит 137 статей, сгруппированных в девяти главах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1 - Основы конституционного стро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2 - Права и свободы человека и граждан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3 - Федеративное устройство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4 - Президент Российской Федер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5 - Федеральное Собра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6 - Правительство Российской Федераци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7 - Судебная вла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8 - Местное самоуправлени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а 9 - Конституционные поправки и пересмотр Конститу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дел второй называется «3аключительные и переходные положени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содержит девять час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7617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амбула Конститу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многонациональный народ Российской Федер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диненные общей судьбой на своей земл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я права и свободы человека, гражданский мир и согласи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яя исторически сложившееся государственное единст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я память предков, передавших нам любовь и уважение к Отечеству, веру в добро и справедливост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ождая суверенную государственность России и утверждая незыблемость ее демократической основ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ясь обеспечить благополучие и процветание Росс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ответственности за свою Родину перед нынешним и будущими поколениям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вая себя частью мирового сообществ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ем КОНСТИТУЦИЮ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6"/>
          <p:cNvSpPr/>
          <p:nvPr/>
        </p:nvSpPr>
        <p:spPr>
          <a:xfrm>
            <a:off x="2590920" y="5562720"/>
            <a:ext cx="6019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3124080" y="38088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3915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b00000"/>
                </a:solidFill>
                <a:latin typeface="Times New Roman"/>
                <a:ea typeface="Times New Roman"/>
              </a:rPr>
              <a:t>Конституция РФ – основной закон государст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molodkrsk.ru/press/events/2012/12/1329/denkonst.jpg"/>
          <p:cNvPicPr/>
          <p:nvPr/>
        </p:nvPicPr>
        <p:blipFill>
          <a:blip r:embed="rId2"/>
          <a:stretch/>
        </p:blipFill>
        <p:spPr>
          <a:xfrm>
            <a:off x="304920" y="152280"/>
            <a:ext cx="1447560" cy="609840"/>
          </a:xfrm>
          <a:prstGeom prst="rect">
            <a:avLst/>
          </a:prstGeom>
          <a:ln w="0">
            <a:noFill/>
          </a:ln>
        </p:spPr>
      </p:pic>
      <p:sp>
        <p:nvSpPr>
          <p:cNvPr id="118" name="Прямая соединительная линия 10"/>
          <p:cNvSpPr/>
          <p:nvPr/>
        </p:nvSpPr>
        <p:spPr>
          <a:xfrm>
            <a:off x="152280" y="838080"/>
            <a:ext cx="883944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5029200" y="27432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762120" y="990720"/>
            <a:ext cx="731520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ы  конституционного стро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крат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анской формы 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тивного 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в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еренитета на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прав и свобод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ского 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ческого и политического многообраз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многообразия форм собств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ритета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17:43:26Z</dcterms:created>
  <dc:creator>Анна</dc:creator>
  <dc:description/>
  <dc:language>en-US</dc:language>
  <cp:lastModifiedBy>Завуч</cp:lastModifiedBy>
  <dcterms:modified xsi:type="dcterms:W3CDTF">2017-10-09T15:27:24Z</dcterms:modified>
  <cp:revision>138</cp:revision>
  <dc:subject/>
  <dc:title>Слайд 1</dc:title>
</cp:coreProperties>
</file>