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0DC-DE52-4A40-B0B0-12D60E31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EE0-62B5-4EF9-990F-28193BC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441-CE76-4E1F-825A-B4761A81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6BB-8F25-4B73-80F7-790D4457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722-9EF6-4534-95F9-166362CA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78F-7A77-47AE-9837-749FA403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FD1-025D-428A-8EB8-254A755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B2C-A226-4AEA-BAA6-A9B0640F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5B3-BA03-4E5B-A987-FAB8E2A3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FD1-BC56-4576-A4A6-E35E6DA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62D-9D0C-498F-89B6-C645F99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65F-AD1E-4EB9-97BF-4073C53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BE8-EAEF-4FE1-9FFA-21FAE1866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hyperlink" Target="http://www.kremlin.ru/" TargetMode="External"/><Relationship Id="rId5" Type="http://schemas.openxmlformats.org/officeDocument/2006/relationships/hyperlink" Target="http://www.kremlin.ru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hyperlink" Target="http://www.council.gov.ru/" TargetMode="External"/><Relationship Id="rId7" Type="http://schemas.openxmlformats.org/officeDocument/2006/relationships/hyperlink" Target="http://www.duma.gov.ru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government.ru/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209680"/>
            <a:ext cx="670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итуция РФ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3671640" y="4343400"/>
            <a:ext cx="482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Мифтахова Лидия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Моркинская средняя (пол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ая школа №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80880" y="9907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066680"/>
          <a:ext cx="8686800" cy="5253120"/>
        </p:xfrm>
        <a:graphic>
          <a:graphicData uri="http://schemas.openxmlformats.org/drawingml/2006/table">
            <a:tbl>
              <a:tblPr/>
              <a:tblGrid>
                <a:gridCol w="4648320"/>
                <a:gridCol w="40384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граж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и граж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ть нал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свободу и личную неприкосно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ять природу и окружающую сре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достоинство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Оте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сов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зак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храну здоровья и медицинско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 заботиться о нетрудоспособных родител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частной собственности, ж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 беречь памятники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основное 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труд и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родителей воспитывать детей и заботиться о 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мысли и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благоприятную окружающую сре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избирать и быть избра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880" y="99072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тивное устройство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457200" y="2362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спубли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762120" y="3505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4648320" y="3505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5105520" y="2362320"/>
            <a:ext cx="350496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а федераль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4"/>
          <p:cNvSpPr/>
          <p:nvPr/>
        </p:nvSpPr>
        <p:spPr>
          <a:xfrm>
            <a:off x="1676520" y="4724280"/>
            <a:ext cx="220968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номн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4343400" y="4724280"/>
            <a:ext cx="220968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ном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17"/>
          <p:cNvCxnSpPr/>
          <p:nvPr/>
        </p:nvCxnSpPr>
        <p:spPr>
          <a:xfrm flipH="1">
            <a:off x="2133000" y="1599120"/>
            <a:ext cx="14482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21"/>
          <p:cNvCxnSpPr>
            <a:stCxn id="135" idx="2"/>
          </p:cNvCxnSpPr>
          <p:nvPr/>
        </p:nvCxnSpPr>
        <p:spPr>
          <a:xfrm>
            <a:off x="4648320" y="1636560"/>
            <a:ext cx="175320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23"/>
          <p:cNvCxnSpPr/>
          <p:nvPr/>
        </p:nvCxnSpPr>
        <p:spPr>
          <a:xfrm flipH="1">
            <a:off x="2513880" y="1676520"/>
            <a:ext cx="122004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25"/>
          <p:cNvCxnSpPr/>
          <p:nvPr/>
        </p:nvCxnSpPr>
        <p:spPr>
          <a:xfrm>
            <a:off x="4342320" y="1676520"/>
            <a:ext cx="10674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27"/>
          <p:cNvCxnSpPr/>
          <p:nvPr/>
        </p:nvCxnSpPr>
        <p:spPr>
          <a:xfrm flipH="1">
            <a:off x="3199680" y="1752120"/>
            <a:ext cx="7628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29"/>
          <p:cNvCxnSpPr/>
          <p:nvPr/>
        </p:nvCxnSpPr>
        <p:spPr>
          <a:xfrm>
            <a:off x="4191120" y="1752120"/>
            <a:ext cx="38160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523880" y="762120"/>
            <a:ext cx="6477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:\Documents and Settings\Elena\Desktop\През.jpg"/>
          <p:cNvPicPr/>
          <p:nvPr/>
        </p:nvPicPr>
        <p:blipFill>
          <a:blip r:embed="rId3"/>
          <a:stretch/>
        </p:blipFill>
        <p:spPr>
          <a:xfrm>
            <a:off x="609480" y="1447920"/>
            <a:ext cx="2286000" cy="2935080"/>
          </a:xfrm>
          <a:prstGeom prst="rect">
            <a:avLst/>
          </a:prstGeom>
          <a:ln w="0">
            <a:noFill/>
          </a:ln>
        </p:spPr>
      </p:pic>
      <p:sp>
        <p:nvSpPr>
          <p:cNvPr id="155" name="Содержимое 3"/>
          <p:cNvSpPr/>
          <p:nvPr/>
        </p:nvSpPr>
        <p:spPr>
          <a:xfrm>
            <a:off x="373392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 Конституции РФ, прав и свобод человека и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ный главнокомандующий Вооруженными силам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Ф избирается гражданами России сроком на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52280" y="4572000"/>
            <a:ext cx="365760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ладимир Владимирович Пу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айт Президента -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Georgia"/>
                <a:hlinkClick r:id="rId4"/>
              </a:rPr>
              <a:t>http://www.kremlin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Georgia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80880" y="60948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Собр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 РФ, представительный и законодательный орган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685800" y="1600200"/>
            <a:ext cx="25146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Elena\Desktop\парламнет.jpg"/>
          <p:cNvPicPr/>
          <p:nvPr/>
        </p:nvPicPr>
        <p:blipFill>
          <a:blip r:embed="rId3"/>
          <a:stretch/>
        </p:blipFill>
        <p:spPr>
          <a:xfrm>
            <a:off x="3886200" y="1523880"/>
            <a:ext cx="1397160" cy="1047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1"/>
          <p:cNvSpPr/>
          <p:nvPr/>
        </p:nvSpPr>
        <p:spPr>
          <a:xfrm>
            <a:off x="5867280" y="1600200"/>
            <a:ext cx="25146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ет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Elena\Desktop\Матвиенко.jpg"/>
          <p:cNvPicPr/>
          <p:nvPr/>
        </p:nvPicPr>
        <p:blipFill>
          <a:blip r:embed="rId4"/>
          <a:stretch/>
        </p:blipFill>
        <p:spPr>
          <a:xfrm>
            <a:off x="6781680" y="2133720"/>
            <a:ext cx="990720" cy="148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Elena\Desktop\Нарышкин.png"/>
          <p:cNvPicPr/>
          <p:nvPr/>
        </p:nvPicPr>
        <p:blipFill>
          <a:blip r:embed="rId5"/>
          <a:srcRect l="34849" t="0" r="0" b="0"/>
          <a:stretch/>
        </p:blipFill>
        <p:spPr>
          <a:xfrm>
            <a:off x="1447920" y="2133720"/>
            <a:ext cx="1139760" cy="1430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8"/>
          <p:cNvSpPr/>
          <p:nvPr/>
        </p:nvSpPr>
        <p:spPr>
          <a:xfrm>
            <a:off x="152280" y="365760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. Е. Нарыш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дседатель Государственной Ду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едерального Собрания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4648320" y="36576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. И. Матвиен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дседатель Совета Федерации Федерального Собрания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57150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Совета Федерации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council.g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57200" y="44956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Государственной Думы 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duma.gov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>
            <a:off x="5574960" y="4800600"/>
            <a:ext cx="2942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2 представителя от кажд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, по одному 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ого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853920" y="4876920"/>
            <a:ext cx="275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депутатов, избранных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ьн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ной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304920" y="838080"/>
            <a:ext cx="8534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ый орган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Elena\Desktop\20 лет Конституция\картинки\дом правительства.jpeg"/>
          <p:cNvPicPr/>
          <p:nvPr/>
        </p:nvPicPr>
        <p:blipFill>
          <a:blip r:embed="rId3"/>
          <a:stretch/>
        </p:blipFill>
        <p:spPr>
          <a:xfrm>
            <a:off x="5181480" y="1905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Documents and Settings\Elena\Desktop\20 лет Конституция\картинки\Медведев.jpg"/>
          <p:cNvPicPr/>
          <p:nvPr/>
        </p:nvPicPr>
        <p:blipFill>
          <a:blip r:embed="rId4"/>
          <a:stretch/>
        </p:blipFill>
        <p:spPr>
          <a:xfrm>
            <a:off x="1981080" y="1905120"/>
            <a:ext cx="1524240" cy="2033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685800" y="4952880"/>
            <a:ext cx="414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Правительства РФ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government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1155600" y="4038480"/>
            <a:ext cx="30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А.Медвед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равительств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4825800" y="4114800"/>
            <a:ext cx="393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равитель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и Председателя Правитель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мин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04920" y="838080"/>
            <a:ext cx="8534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ая власть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62320" y="1752480"/>
            <a:ext cx="6400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удие в России осуществляется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су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меняе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прикосновен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зависи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дчиняются только Конституции и закон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Elena\Desktop\фемида.jpg"/>
          <p:cNvPicPr/>
          <p:nvPr/>
        </p:nvPicPr>
        <p:blipFill>
          <a:blip r:embed="rId3"/>
          <a:stretch/>
        </p:blipFill>
        <p:spPr>
          <a:xfrm>
            <a:off x="304920" y="1981080"/>
            <a:ext cx="198108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7"/>
          <p:cNvSpPr/>
          <p:nvPr/>
        </p:nvSpPr>
        <p:spPr>
          <a:xfrm>
            <a:off x="2133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онный Суд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419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ховный Суд РФ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6705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ший Арбитражный Суд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1"/>
          <p:cNvSpPr/>
          <p:nvPr/>
        </p:nvSpPr>
        <p:spPr>
          <a:xfrm>
            <a:off x="2073960" y="5029200"/>
            <a:ext cx="23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 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зак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4438800" y="5029200"/>
            <a:ext cx="243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о уголовны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м общей юрисди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6823800" y="5029200"/>
            <a:ext cx="23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о раз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х сп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Содержимое 3" descr="ВЛАСТЬ_(_0.tmp"/>
          <p:cNvPicPr/>
          <p:nvPr/>
        </p:nvPicPr>
        <p:blipFill>
          <a:blip r:embed="rId3"/>
          <a:stretch/>
        </p:blipFill>
        <p:spPr>
          <a:xfrm>
            <a:off x="390600" y="622440"/>
            <a:ext cx="8137440" cy="630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228600" y="3808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ая Конституция самая лучшая?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Та, которая лучше всего исполняется.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. Бе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70280" cy="28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6705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итуция РФ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3976560" y="4876920"/>
            <a:ext cx="482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Мифтахова Лидия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Моркинская средняя (пол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ая школа №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7" descr="Рисунок3.png"/>
          <p:cNvPicPr/>
          <p:nvPr/>
        </p:nvPicPr>
        <p:blipFill>
          <a:blip r:embed="rId3"/>
          <a:stretch/>
        </p:blipFill>
        <p:spPr>
          <a:xfrm>
            <a:off x="5867280" y="1523880"/>
            <a:ext cx="2810160" cy="3810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304920" y="1523880"/>
            <a:ext cx="52578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i="1" lang="la-V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устройство»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закон государств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закрепляет основ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ого строя государства, права и свободы человека и гражданина, организацию высших органов государственной власти, государственную символ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зят из технического обор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 publicam constituir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м начинались акты римских импер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Государственный герб СССР"/>
          <p:cNvPicPr/>
          <p:nvPr/>
        </p:nvPicPr>
        <p:blipFill>
          <a:blip r:embed="rId3"/>
          <a:stretch/>
        </p:blipFill>
        <p:spPr>
          <a:xfrm>
            <a:off x="1828800" y="1219320"/>
            <a:ext cx="946080" cy="96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Герб РСФСР"/>
          <p:cNvPicPr/>
          <p:nvPr/>
        </p:nvPicPr>
        <p:blipFill>
          <a:blip r:embed="rId4"/>
          <a:stretch/>
        </p:blipFill>
        <p:spPr>
          <a:xfrm>
            <a:off x="6248520" y="1219320"/>
            <a:ext cx="799920" cy="855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5265360" y="914400"/>
            <a:ext cx="27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919080" y="91440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6019920" y="2133720"/>
            <a:ext cx="289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8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титуц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8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447920" y="2362320"/>
            <a:ext cx="2590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4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ституция    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6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титуция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Elena\Desktop\20 лет Конституция\1918.jpg"/>
          <p:cNvPicPr/>
          <p:nvPr/>
        </p:nvPicPr>
        <p:blipFill>
          <a:blip r:embed="rId5"/>
          <a:stretch/>
        </p:blipFill>
        <p:spPr>
          <a:xfrm>
            <a:off x="5029200" y="2057400"/>
            <a:ext cx="833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304920" y="20574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Мои документы\Загрузки\конституция ссср.jpg"/>
          <p:cNvPicPr/>
          <p:nvPr/>
        </p:nvPicPr>
        <p:blipFill>
          <a:blip r:embed="rId7"/>
          <a:stretch/>
        </p:blipFill>
        <p:spPr>
          <a:xfrm>
            <a:off x="304920" y="5105520"/>
            <a:ext cx="947520" cy="1298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23"/>
          <p:cNvSpPr/>
          <p:nvPr/>
        </p:nvSpPr>
        <p:spPr>
          <a:xfrm flipH="1">
            <a:off x="1219320" y="2057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5"/>
          <p:cNvSpPr/>
          <p:nvPr/>
        </p:nvSpPr>
        <p:spPr>
          <a:xfrm flipH="1">
            <a:off x="304920" y="2057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7"/>
          <p:cNvSpPr/>
          <p:nvPr/>
        </p:nvSpPr>
        <p:spPr>
          <a:xfrm>
            <a:off x="304920" y="2057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9"/>
          <p:cNvSpPr/>
          <p:nvPr/>
        </p:nvSpPr>
        <p:spPr>
          <a:xfrm>
            <a:off x="304920" y="3200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8"/>
          <a:srcRect l="0" t="0" r="0" b="25346"/>
          <a:stretch/>
        </p:blipFill>
        <p:spPr>
          <a:xfrm>
            <a:off x="304920" y="3505320"/>
            <a:ext cx="1066680" cy="123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9"/>
          <a:stretch/>
        </p:blipFill>
        <p:spPr>
          <a:xfrm>
            <a:off x="5029200" y="3429000"/>
            <a:ext cx="838080" cy="117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10"/>
          <a:srcRect l="0" t="0" r="0" b="10385"/>
          <a:stretch/>
        </p:blipFill>
        <p:spPr>
          <a:xfrm>
            <a:off x="5105520" y="5029200"/>
            <a:ext cx="88740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Elena\Desktop\20 лет Конституция\1993.jpg"/>
          <p:cNvPicPr/>
          <p:nvPr/>
        </p:nvPicPr>
        <p:blipFill>
          <a:blip r:embed="rId3"/>
          <a:stretch/>
        </p:blipFill>
        <p:spPr>
          <a:xfrm>
            <a:off x="457200" y="1905120"/>
            <a:ext cx="2687760" cy="3581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0"/>
          <p:cNvSpPr/>
          <p:nvPr/>
        </p:nvSpPr>
        <p:spPr>
          <a:xfrm>
            <a:off x="3505320" y="22860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 199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народным голосованием принята Конституц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Конституции, памятный день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1219320" y="990720"/>
            <a:ext cx="670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конодательства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ерховенство на всей территори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имеет высшую юридическую силу, прямое 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не должны противоречить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3048120" y="251460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1752480" y="3352680"/>
            <a:ext cx="480060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ые конституционные 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"/>
          <p:cNvSpPr/>
          <p:nvPr/>
        </p:nvSpPr>
        <p:spPr>
          <a:xfrm>
            <a:off x="2971800" y="411480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законн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52280" y="4876920"/>
            <a:ext cx="221004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азы Презид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2438280" y="4876920"/>
            <a:ext cx="350532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6"/>
          <p:cNvSpPr/>
          <p:nvPr/>
        </p:nvSpPr>
        <p:spPr>
          <a:xfrm>
            <a:off x="6019920" y="4876920"/>
            <a:ext cx="29718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ряжения министе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8"/>
          <p:cNvCxnSpPr/>
          <p:nvPr/>
        </p:nvCxnSpPr>
        <p:spPr>
          <a:xfrm flipH="1">
            <a:off x="3960000" y="2897280"/>
            <a:ext cx="3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9"/>
          <p:cNvCxnSpPr/>
          <p:nvPr/>
        </p:nvCxnSpPr>
        <p:spPr>
          <a:xfrm flipH="1">
            <a:off x="3962160" y="373392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21"/>
          <p:cNvCxnSpPr/>
          <p:nvPr/>
        </p:nvCxnSpPr>
        <p:spPr>
          <a:xfrm flipH="1">
            <a:off x="1751760" y="4494600"/>
            <a:ext cx="12214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23"/>
          <p:cNvCxnSpPr/>
          <p:nvPr/>
        </p:nvCxnSpPr>
        <p:spPr>
          <a:xfrm>
            <a:off x="5182920" y="4495320"/>
            <a:ext cx="1370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5"/>
          <p:cNvCxnSpPr/>
          <p:nvPr/>
        </p:nvCxnSpPr>
        <p:spPr>
          <a:xfrm flipH="1">
            <a:off x="3962160" y="449532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0880" y="685800"/>
            <a:ext cx="8328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нститу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из Преамбулы и двух разде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амбуле характеризуются условия и цели принятия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следуют разделы, которые делятся на главы. Главы состоят из ста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дел первый содержит 137 статей, сгруппированных в девяти глав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 - Основы конституционного стро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 - Права и свободы человека и граждан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 - Федеративное устрой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4 - Президент Российской Федер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5 - Федеральное Собр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 - Правительство Российской Федер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 - Судебная вла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 - Местное самоуправ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 - Конституционные поправки и пересмотр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дел второй называется «3аключительные и переходные полож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содержит девять ч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7617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амбула Конститу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многонациональный народ Российской Федер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ные общей судьбой на своей земл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я права и свободы человека, гражданский мир и соглас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я исторически сложившееся государственное един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я память предков, передавших нам любовь и уважение к Отечеству, веру в добро и справедлив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ая суверенную государственность России и утверждая незыблемость ее демократической основ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сь обеспечить благополучие и процветание Росс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ответственности за свою Родину перед нынешним и будущими поколения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вая себя частью мирового сообще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м КОНСТИТУЦИЮ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762120" y="990720"/>
            <a:ext cx="73152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 конституционного стро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ой формы 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тивного 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ренитета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прав и свобод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ого и политического мног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многообразия форм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7:43:26Z</dcterms:created>
  <dc:creator>Анна</dc:creator>
  <dc:description/>
  <dc:language>en-US</dc:language>
  <cp:lastModifiedBy>Завуч</cp:lastModifiedBy>
  <dcterms:modified xsi:type="dcterms:W3CDTF">2017-10-09T15:27:24Z</dcterms:modified>
  <cp:revision>138</cp:revision>
  <dc:subject/>
  <dc:title>Слайд 1</dc:title>
</cp:coreProperties>
</file>