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C8551E-0CCE-4D32-ABCF-F50E27E20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9B4B62A-4226-498A-9EFC-915BD058DE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Num" idx="2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C60612D-84AC-4486-9EED-CA822621EE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C16DA3E-A484-402E-A05A-B7AE36DD4B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719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A84-C048-4F8C-8DD9-E9883DE0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61E-D957-4BCC-8A88-FA8FC41F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2FB-00BF-4457-A707-76217265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09A-7695-487F-BE65-1E04EDBC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864D-35C8-4658-8E89-682B84DA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F0E2-7368-407B-9E89-BA850B5C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64AB-F3FE-4961-AEF4-C8B31D4B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CB2D-7FAC-421A-8E83-198E3C88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66F2-E6A5-4A3B-BD05-26719F03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7C32-65EC-4D6C-AFC5-E6E68AD9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44F8-3DCA-4474-A437-B2AC9CB8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8D7-5F63-4AF2-9D5C-1986FAF6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4938-6190-4F22-BA67-A3A7D76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6335-3899-462E-911C-BE89EDF4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AA56-1A9D-419E-870F-A3DD716D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6DA1-9DC9-4272-8F6F-8E061BFA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3303-590E-4579-AC89-4C91F6CD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592B-76EA-4918-B5CE-72238901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0930-4E85-44CF-BCAC-68E6D13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A18D-E46A-4ED7-80E8-27072C0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7D1F-F414-47B1-9100-AD1908AB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B3B1-1CE1-4151-BE2D-75C8B4C0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DD6-5B67-425C-976B-F2CFA39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88E2-7E6E-47CA-A188-4FB5B2B7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F0BD-60AC-4658-8840-D5C32B05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8244-C1F0-418D-972D-4E21C030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54CD-1252-44CF-8344-E21C7166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DE84-8307-4DC5-9175-CF7A14EF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85B1-FA7C-48D7-8AAD-97F5A40E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9784-E409-4AD5-9DFB-E5E569A4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86409-0AE9-4E50-A01D-EB95286B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5B79-8D35-4339-A4A7-95D55445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B93B-A96A-477F-8E8C-87E8F71E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6D4-159C-4E64-BB1B-F380384E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C259-ABCD-4442-A2CC-58DB320F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D2B05-D2C1-494F-8FCA-13081BCA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2B806-F79F-40C2-8879-9B86B176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E27E9-B85E-4137-8DB5-A4E8FB46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662E-8B51-4F67-9F2E-43246BE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0EE1-6A87-491C-9BF0-9C1ECFA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C986-2509-4DB5-B6DD-A3335A08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E776-0A33-40E1-A649-45AA221B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1B9A-63A7-45D8-81CC-A57F2D11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5B176-7C85-412B-A846-731E62C7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6E4-E583-47FE-A33E-A9A30178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F7D32-54E0-4DCE-B62C-8EF5894C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7498A-99DC-4BA8-BC22-F43CB69A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EF8C4-41C6-4365-AB69-C88D5542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F247A-5BA9-451A-931B-B0EAF4BC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9559A-A8A3-45CF-91D4-A015D1C4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43B6-5289-4DC3-9248-0A5C6633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CF49A-5C96-4B3F-B07D-48A402E4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2679-D9D7-40CC-8F5E-1E71ACCE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184C-1F35-403C-B73E-F7425D27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D411A-FD57-4890-8B24-185B2D33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1A7-3444-4DA3-AC2E-3D8ADBBE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861F7-048D-46E1-B878-9426B07B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222-2010-47DB-B566-D638D156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D8F-4C49-42B8-A212-AD43A0F2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758-44EA-4852-8E54-C71334A8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23FCEAC-0603-44E1-BE02-749704FC1D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4877B06-1713-4313-9284-2CC8522D48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F4ECEC2-AB0D-4FA2-A095-9BE681212F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320" cy="4986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текста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S Gothic"/>
              </a:rPr>
              <a:t>Второй уровень</a:t>
            </a: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Gothic"/>
              </a:rPr>
              <a:t>Третий уровень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Четвертый уровень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3000"/>
              </a:lnSpc>
              <a:spcAft>
                <a:spcPts val="289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Пятый уровень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42759CC-9CDE-40AE-AAAF-63E1B3A158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720" y="301680"/>
            <a:ext cx="3315960" cy="1279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941640" y="301680"/>
            <a:ext cx="5635440" cy="6451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текста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S Gothic"/>
              </a:rPr>
              <a:t>Второй уровень</a:t>
            </a: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Gothic"/>
              </a:rPr>
              <a:t>Третий уровень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Четвертый уровень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3000"/>
              </a:lnSpc>
              <a:spcAft>
                <a:spcPts val="289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Пятый уровень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504720" y="1581120"/>
            <a:ext cx="3315960" cy="5171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50818B9-48EA-467F-A996-4F6860AA02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7" descr="school2106[1].png"/>
          <p:cNvPicPr/>
          <p:nvPr/>
        </p:nvPicPr>
        <p:blipFill>
          <a:blip r:embed="rId1"/>
          <a:stretch/>
        </p:blipFill>
        <p:spPr>
          <a:xfrm>
            <a:off x="0" y="2351160"/>
            <a:ext cx="3721680" cy="2785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039760" y="5637240"/>
            <a:ext cx="6048000" cy="88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14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897200" y="922320"/>
            <a:ext cx="6048000" cy="62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1" lang="ru-RU" sz="4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Урок - обобщение</a:t>
            </a:r>
            <a:endParaRPr b="0" lang="en-GB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826160" y="5208480"/>
            <a:ext cx="50382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Gulim"/>
              </a:rPr>
              <a:t>Жеребцова Ирина Дмитри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Gulim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Gulim"/>
              </a:rPr>
              <a:t>г. Тарко-Сале,  ЯН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А вот и крыша!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040200" y="5923080"/>
            <a:ext cx="4071600" cy="92844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3468600" y="2851200"/>
            <a:ext cx="3214440" cy="3071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51" name="Равнобедренный треугольник 7"/>
          <p:cNvSpPr/>
          <p:nvPr/>
        </p:nvSpPr>
        <p:spPr>
          <a:xfrm>
            <a:off x="3182760" y="1279440"/>
            <a:ext cx="3785760" cy="1571400"/>
          </a:xfrm>
          <a:prstGeom prst="triangle">
            <a:avLst>
              <a:gd name="adj" fmla="val 50000"/>
            </a:avLst>
          </a:prstGeom>
          <a:solidFill>
            <a:schemeClr val="accent2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52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397640" y="1351080"/>
            <a:ext cx="2374560" cy="282384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620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Реши задачу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682560" y="1565280"/>
            <a:ext cx="86436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Старшеклассники сделали к празднику 90 игрушек. 37 игрушек они подарили первоклассникам, 26 игрушек отнесли в детский сад, а остальные игрушки отдали своим братьям и сёстрам. Сколько игрушек ребята отдали своим братьям и сёстра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С окошками-то куда веселее!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3040200" y="5923080"/>
            <a:ext cx="4071600" cy="85680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3468600" y="2851200"/>
            <a:ext cx="3214440" cy="3071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58" name="Равнобедренный треугольник 7"/>
          <p:cNvSpPr/>
          <p:nvPr/>
        </p:nvSpPr>
        <p:spPr>
          <a:xfrm>
            <a:off x="3182760" y="1279440"/>
            <a:ext cx="3785760" cy="1571400"/>
          </a:xfrm>
          <a:prstGeom prst="triangle">
            <a:avLst>
              <a:gd name="adj" fmla="val 50000"/>
            </a:avLst>
          </a:prstGeom>
          <a:solidFill>
            <a:schemeClr val="accent2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59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397640" y="1351080"/>
            <a:ext cx="2374560" cy="2823840"/>
          </a:xfrm>
          <a:prstGeom prst="rect">
            <a:avLst/>
          </a:prstGeom>
          <a:ln w="9525">
            <a:noFill/>
          </a:ln>
        </p:spPr>
      </p:pic>
      <p:sp>
        <p:nvSpPr>
          <p:cNvPr id="260" name="Прямоугольник 8"/>
          <p:cNvSpPr/>
          <p:nvPr/>
        </p:nvSpPr>
        <p:spPr>
          <a:xfrm>
            <a:off x="3754440" y="3351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4754520" y="4494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2" name="Прямоугольник 11"/>
          <p:cNvSpPr/>
          <p:nvPr/>
        </p:nvSpPr>
        <p:spPr>
          <a:xfrm>
            <a:off x="3754440" y="4494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3" name="Прямоугольник 12"/>
          <p:cNvSpPr/>
          <p:nvPr/>
        </p:nvSpPr>
        <p:spPr>
          <a:xfrm>
            <a:off x="5683320" y="3351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4754520" y="3351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5754600" y="4494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96800" y="708120"/>
            <a:ext cx="707184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Задание на внимательность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6"/>
          <p:cNvSpPr/>
          <p:nvPr/>
        </p:nvSpPr>
        <p:spPr>
          <a:xfrm>
            <a:off x="754200" y="2708280"/>
            <a:ext cx="850068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MS Gothic"/>
              </a:rPr>
              <a:t>В комнате горело 50 свечей, 20 из них задули. Сколько свечей в комна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С окошками-то куда веселее!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3040200" y="5923080"/>
            <a:ext cx="4071600" cy="85680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3468600" y="2851200"/>
            <a:ext cx="3214440" cy="3071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1" name="Равнобедренный треугольник 7"/>
          <p:cNvSpPr/>
          <p:nvPr/>
        </p:nvSpPr>
        <p:spPr>
          <a:xfrm>
            <a:off x="3182760" y="1279440"/>
            <a:ext cx="3785760" cy="1571400"/>
          </a:xfrm>
          <a:prstGeom prst="triangle">
            <a:avLst>
              <a:gd name="adj" fmla="val 50000"/>
            </a:avLst>
          </a:prstGeom>
          <a:solidFill>
            <a:schemeClr val="accent2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72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397640" y="1351080"/>
            <a:ext cx="2374560" cy="2823840"/>
          </a:xfrm>
          <a:prstGeom prst="rect">
            <a:avLst/>
          </a:prstGeom>
          <a:ln w="9525">
            <a:noFill/>
          </a:ln>
        </p:spPr>
      </p:pic>
      <p:sp>
        <p:nvSpPr>
          <p:cNvPr id="273" name="Прямоугольник 8"/>
          <p:cNvSpPr/>
          <p:nvPr/>
        </p:nvSpPr>
        <p:spPr>
          <a:xfrm>
            <a:off x="3754440" y="3351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cxnSp>
        <p:nvCxnSpPr>
          <p:cNvPr id="274" name="Соединительная линия уступом 16"/>
          <p:cNvCxnSpPr/>
          <p:nvPr/>
        </p:nvCxnSpPr>
        <p:spPr>
          <a:xfrm>
            <a:off x="7111800" y="5922720"/>
            <a:ext cx="786240" cy="357480"/>
          </a:xfrm>
          <a:prstGeom prst="bentConnector2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275" name="Соединительная линия уступом 21"/>
          <p:cNvCxnSpPr/>
          <p:nvPr/>
        </p:nvCxnSpPr>
        <p:spPr>
          <a:xfrm>
            <a:off x="7897680" y="6279840"/>
            <a:ext cx="429120" cy="572040"/>
          </a:xfrm>
          <a:prstGeom prst="bentConnector2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276" name="Овал 22"/>
          <p:cNvSpPr/>
          <p:nvPr/>
        </p:nvSpPr>
        <p:spPr>
          <a:xfrm>
            <a:off x="4683240" y="3279600"/>
            <a:ext cx="785520" cy="499680"/>
          </a:xfrm>
          <a:prstGeom prst="ellipse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7" name="Трапеция 23"/>
          <p:cNvSpPr/>
          <p:nvPr/>
        </p:nvSpPr>
        <p:spPr>
          <a:xfrm>
            <a:off x="5683320" y="3351240"/>
            <a:ext cx="856800" cy="428400"/>
          </a:xfrm>
          <a:prstGeom prst="trapezoid">
            <a:avLst>
              <a:gd name="adj" fmla="val 25000"/>
            </a:avLst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8" name="Ромб 24"/>
          <p:cNvSpPr/>
          <p:nvPr/>
        </p:nvSpPr>
        <p:spPr>
          <a:xfrm>
            <a:off x="3611520" y="4422600"/>
            <a:ext cx="713880" cy="785520"/>
          </a:xfrm>
          <a:prstGeom prst="diamond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9" name="Правильный пятиугольник 25"/>
          <p:cNvSpPr/>
          <p:nvPr/>
        </p:nvSpPr>
        <p:spPr>
          <a:xfrm>
            <a:off x="4826160" y="4565520"/>
            <a:ext cx="642600" cy="6426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80" name="Прямоугольный треугольник 26"/>
          <p:cNvSpPr/>
          <p:nvPr/>
        </p:nvSpPr>
        <p:spPr>
          <a:xfrm>
            <a:off x="5826240" y="4637160"/>
            <a:ext cx="642600" cy="571320"/>
          </a:xfrm>
          <a:prstGeom prst="rtTriangle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cxnSp>
        <p:nvCxnSpPr>
          <p:cNvPr id="281" name="Прямая соединительная линия 29"/>
          <p:cNvCxnSpPr/>
          <p:nvPr/>
        </p:nvCxnSpPr>
        <p:spPr>
          <a:xfrm>
            <a:off x="8326440" y="6851520"/>
            <a:ext cx="1143360" cy="18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endParaRPr b="1" lang="en-GB" sz="20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  <p:pic>
        <p:nvPicPr>
          <p:cNvPr id="283" name="Рисунок 6" descr="1301043209_y_4bee6748[1].jpg"/>
          <p:cNvPicPr/>
          <p:nvPr/>
        </p:nvPicPr>
        <p:blipFill>
          <a:blip r:embed="rId1"/>
          <a:stretch/>
        </p:blipFill>
        <p:spPr>
          <a:xfrm>
            <a:off x="1152360" y="324000"/>
            <a:ext cx="7775280" cy="5040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S Gothic"/>
              </a:rPr>
              <a:t>Лунтик и его друзья благодарят вас, ребята!</a:t>
            </a:r>
            <a:endParaRPr b="0" lang="en-GB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70560" cy="1263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S Gothic"/>
              </a:rPr>
              <a:t>Отгадай загадку</a:t>
            </a:r>
            <a:br>
              <a:rPr sz="4400"/>
            </a:b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68360" y="1065240"/>
            <a:ext cx="907056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MS Gothic"/>
              </a:rPr>
              <a:t>Знают взрослые и дети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MS Gothic"/>
              </a:rPr>
              <a:t>Что упал с другой планеты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MS Gothic"/>
              </a:rPr>
              <a:t>Фиолетовый зверёк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MS Gothic"/>
              </a:rPr>
              <a:t>Детям маленький друж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968480" y="5494320"/>
            <a:ext cx="6048000" cy="1315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endParaRPr b="0" lang="en-GB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Лунтик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GB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endParaRPr b="0" lang="en-GB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endParaRPr b="0" lang="en-GB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8" descr="3a0d834ad1c7852d83933367af1d477a1[1].jpg"/>
          <p:cNvPicPr/>
          <p:nvPr/>
        </p:nvPicPr>
        <p:blipFill>
          <a:blip r:embed="rId1"/>
          <a:stretch/>
        </p:blipFill>
        <p:spPr>
          <a:xfrm>
            <a:off x="1976400" y="674640"/>
            <a:ext cx="6048000" cy="45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Дорогие ребята!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565280"/>
            <a:ext cx="8784720" cy="4986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   </a:t>
            </a: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Arial"/>
                <a:ea typeface="MS Gothic"/>
              </a:rPr>
              <a:t>«</a:t>
            </a: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Мы с дядюшкой Шером просим вас о помощи! Недавно мы  построили </a:t>
            </a:r>
            <a:r>
              <a:rPr b="0" lang="en-US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2</a:t>
            </a: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-х этажную школу для всех жителей нашей планеты, но братья гусеницы Пупсень и Вупсень заколдовали её. Чтобы расколдовать школу, необходимы ваши знания и умения!  Помогите нам пожалуйста!»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Ваш друг, Лунтик.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406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стный счет: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Таблица 3"/>
          <p:cNvGraphicFramePr/>
          <p:nvPr/>
        </p:nvGraphicFramePr>
        <p:xfrm>
          <a:off x="396720" y="922320"/>
          <a:ext cx="9215280" cy="5000400"/>
        </p:xfrm>
        <a:graphic>
          <a:graphicData uri="http://schemas.openxmlformats.org/drawingml/2006/table">
            <a:tbl>
              <a:tblPr/>
              <a:tblGrid>
                <a:gridCol w="4607640"/>
                <a:gridCol w="4607640"/>
              </a:tblGrid>
              <a:tr h="5000400">
                <a:tc>
                  <a:txBody>
                    <a:bodyPr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Найди сумму чисел 3 и 1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Первый множитель 5, второй 7. Найдите произвед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Из какого числа надо вычесть 5, чтобы получилось 43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Уменьшаемое 27, вычитаемое 8. Найдите разнос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MS Gothic"/>
                        </a:rPr>
                        <a:t>.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От суммы чисел 80 и 4 надо отнять 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6. На сколько 9 десятков больше 3 единиц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7. Найди произведение чисел 7         и 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8. Первое слагаемое 45. Чему равно второе слагаемое, если сумма равна 5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225" name="TextBox 5"/>
          <p:cNvSpPr/>
          <p:nvPr/>
        </p:nvSpPr>
        <p:spPr>
          <a:xfrm>
            <a:off x="1968480" y="6494400"/>
            <a:ext cx="6786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MS Gothic"/>
              </a:rPr>
              <a:t>19, 35, 48, 19, 81, 87, 63,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95280"/>
            <a:ext cx="9067320" cy="1871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MS Gothic"/>
              </a:rPr>
              <a:t>Первый </a:t>
            </a:r>
            <a:r>
              <a:rPr b="1" lang="ru-RU" sz="48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MS Gothic"/>
              </a:rPr>
              <a:t>этаж</a:t>
            </a: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MS Gothic"/>
              </a:rPr>
              <a:t> школы восстановлен!</a:t>
            </a:r>
            <a:br>
              <a:rPr sz="4400"/>
            </a:b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3040200" y="5208480"/>
            <a:ext cx="3785760" cy="142848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28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540560" y="1208160"/>
            <a:ext cx="2374560" cy="282384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Найдите периметр прямоугольника.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2754360" y="3780000"/>
            <a:ext cx="4357440" cy="142848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896760" y="4280040"/>
            <a:ext cx="1571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4325760" y="5423040"/>
            <a:ext cx="14284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8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3968640" y="4208400"/>
            <a:ext cx="2285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Р - ?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Два этажа школы восстановлены!</a:t>
            </a:r>
            <a:br>
              <a:rPr sz="4400"/>
            </a:b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Молодцы! 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3040200" y="5923080"/>
            <a:ext cx="4071600" cy="85680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3468600" y="2708280"/>
            <a:ext cx="3214440" cy="321444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37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469280" y="1208160"/>
            <a:ext cx="2374560" cy="282384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Реши примеры в тетради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320" cy="4986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17 + 20 = 37                       42 – 3 = 39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93 – 30 = 63                       100 – 50 = 50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82 + 7 = 89                         39 + 1 = 40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78 – 9 = 68                          66 + 5 = 71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2808000" y="2339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2736000" y="2987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2" name="Овал 6"/>
          <p:cNvSpPr/>
          <p:nvPr/>
        </p:nvSpPr>
        <p:spPr>
          <a:xfrm>
            <a:off x="2520000" y="3563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3" name="Овал 7"/>
          <p:cNvSpPr/>
          <p:nvPr/>
        </p:nvSpPr>
        <p:spPr>
          <a:xfrm>
            <a:off x="2520000" y="421200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4" name="Овал 8"/>
          <p:cNvSpPr/>
          <p:nvPr/>
        </p:nvSpPr>
        <p:spPr>
          <a:xfrm>
            <a:off x="7488720" y="428400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5" name="Овал 9"/>
          <p:cNvSpPr/>
          <p:nvPr/>
        </p:nvSpPr>
        <p:spPr>
          <a:xfrm>
            <a:off x="7416720" y="363600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6" name="Овал 10"/>
          <p:cNvSpPr/>
          <p:nvPr/>
        </p:nvSpPr>
        <p:spPr>
          <a:xfrm>
            <a:off x="7848720" y="2987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7" name="Овал 11"/>
          <p:cNvSpPr/>
          <p:nvPr/>
        </p:nvSpPr>
        <p:spPr>
          <a:xfrm>
            <a:off x="7416720" y="2339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34718</TotalTime>
  <Application>LibreOffice/7.4.7.2$Linux_X86_64 LibreOffice_project/40$Build-2</Application>
  <AppVersion>15.0000</AppVersion>
  <Words>350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6:44:04Z</dcterms:created>
  <dc:creator/>
  <dc:description/>
  <dc:language>en-US</dc:language>
  <cp:lastModifiedBy>Tata</cp:lastModifiedBy>
  <cp:lastPrinted>1601-01-01T00:00:00Z</cp:lastPrinted>
  <dcterms:modified xsi:type="dcterms:W3CDTF">2012-01-09T18:19:43Z</dcterms:modified>
  <cp:revision>35</cp:revision>
  <dc:subject/>
  <dc:title>Закрепление пройденного за 2 клас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Произвольный</vt:lpwstr>
  </property>
  <property fmtid="{D5CDD505-2E9C-101B-9397-08002B2CF9AE}" pid="4" name="Slides">
    <vt:r8>15</vt:r8>
  </property>
</Properties>
</file>