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FE0E96-1215-44B6-A6A2-B9400A4BE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Num" idx="19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423FDA5-0C2D-4BC0-8321-0704490E754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  <a:ea typeface="MS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Num" idx="20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59B48C82-5CF2-4284-9F70-10FAC791B43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93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  <a:ea typeface="MS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8096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Num" idx="21"/>
          </p:nvPr>
        </p:nvSpPr>
        <p:spPr>
          <a:xfrm>
            <a:off x="4278240" y="10156680"/>
            <a:ext cx="3277800" cy="531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B5EF128A-E5EB-48D5-B93B-838E616A05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120" cy="40064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3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6560" cy="4719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D30C-58BA-42C0-A1E2-54AD7643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76400" y="304452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2B23-3C96-4D63-8EDB-3D74C7A8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564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E374-BC82-4537-BD4B-FCFB0012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2156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636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7640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2156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636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A6B1-8442-425B-818F-95FED0CF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A32B-C399-4A8C-853B-2EDA8DA3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8623-8947-4603-A280-370F89AF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05A3-53B7-4512-A234-207C167E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8A28-109F-49B6-BF0B-295446DD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729D-BF56-4452-BFAC-AE745E96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976400" y="5291280"/>
            <a:ext cx="6048000" cy="28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01B3-6F8F-43E4-A5AE-354B3C4C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43513-8E1F-4530-A4A7-236F2F00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FC2-8E0F-432E-AA0E-08B0D71C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564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4459-34B9-4B2B-ADB9-30018C60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3A5D-33A3-41E0-BE3D-02DDE50F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976400" y="304452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ADD2-4664-4F85-9885-B2EEBD2D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564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E7B3-E1F1-476D-BDDA-92C5103E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2156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636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97640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02156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636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55A3-7A43-4B83-8EB8-112CEC6A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30EF0-AB60-40BE-9D6B-44219C88C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B9C7D-F51B-4154-BCAB-622E7D2D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2D682-B21D-43B9-AC64-22C721F1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51D42-DA4E-4986-B2C2-49AFB9AB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77C13-9C75-4059-B9B3-322DBD93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094-4743-4750-98B6-244D1C97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976400" y="5291280"/>
            <a:ext cx="6048000" cy="28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DED10-D24F-48E5-B242-92F99D3C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DC796-D53A-4873-A6D7-367A7C1A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7564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7E4B7-174D-4431-BD4B-E04C67A3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EE99B-8FAD-47CC-8983-362F3D70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976400" y="304452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1F65D-52FB-4CC3-8B7A-47BA1597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7564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D0273-44D0-498B-A406-D6BACC9C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2156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6636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97640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02156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6636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940D3-A7DA-4438-80AE-5C9BF739A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CB145-ACAE-4AE1-AFBF-73A3C23D9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D97BC-93FC-45CD-8AE6-42DED710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902F7-421D-4C5D-BF77-1A7BFF36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020D-3622-4C17-8006-E05E4D48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6E70F-45C5-46A2-A35A-AE4B21E7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CED13-E59E-4955-94B7-DBF9C614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976400" y="5291280"/>
            <a:ext cx="6048000" cy="28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DDCC8-4D31-40BE-968F-ACAC47C1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76409-411E-4CD8-A545-45628B62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564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C3EA1-6CBE-45C5-9833-8493CC1E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004FF-C0D3-4D70-962A-84A02168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976400" y="304452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D5EE1-0A5F-4EF2-A69F-CDF17AAA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07564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E4AA6-4C4E-46D9-983C-34E994E5A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02156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6636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97640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02156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6636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48F2C-1031-4AB4-A608-E9618018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49DD3-6BF0-4888-9459-0D5410D5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2B27-34B3-45A7-9D74-E6F0B8C8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3A386-4137-4F87-815D-E569EE13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D76C9-EBE3-4495-98A2-F06D2883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1D84D-5E84-45FB-853E-4E8EEFE1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FDD74-5C64-44F0-A658-FE713AAD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976400" y="5291280"/>
            <a:ext cx="6048000" cy="28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027A4-9F43-4FAD-9198-9A4B13A2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64FF4-555D-41FC-AC2F-4CAB44C5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7564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65425-1A03-42D3-BF2B-58FCB86F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91C95-9A4E-468A-94E9-AFF37549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76400" y="304452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E49D6-CB06-421F-A878-E4A751A5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07564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2EE2C-5708-4BA6-BDAD-2B7DBE67E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76400" y="5291280"/>
            <a:ext cx="6048000" cy="289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007-39B5-4327-918B-416186D5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02156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66360" y="67464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7640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02156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66360" y="3044520"/>
            <a:ext cx="194724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B8C3D-B47A-4D0F-BA05-C72330D7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FF1-2307-44FC-9EEB-28F304D2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45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5640" y="304452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26D0-3990-417F-9163-C33C3999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7640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5640" y="674640"/>
            <a:ext cx="295128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76400" y="3044520"/>
            <a:ext cx="604800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E682-F802-45F3-9EEB-5B4417AA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7e7e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p>
            <a:pPr indent="0">
              <a:lnSpc>
                <a:spcPct val="93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Образец заголовка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76400" y="674640"/>
            <a:ext cx="6048000" cy="45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976400" y="5916600"/>
            <a:ext cx="6048000" cy="887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28080" bIns="0" anchor="t">
            <a:no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S Gothic"/>
              </a:rPr>
              <a:t>Образец текста</a:t>
            </a: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1"/>
          </p:nvPr>
        </p:nvSpPr>
        <p:spPr>
          <a:xfrm>
            <a:off x="50328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1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6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02A2AD36-8624-4CA3-94AF-7CAA57C6543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7e7e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1258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S Gothic"/>
              </a:rPr>
              <a:t>Образец заголовка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0328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1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AD943892-C760-42C0-ABB4-B694C21FBD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7e7e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1258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S Gothic"/>
              </a:rPr>
              <a:t>Образец заголовка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0328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1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FDB1D7E3-AB57-4645-B2D5-D5806FF7C30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504000" y="1768680"/>
            <a:ext cx="9072000" cy="438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3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93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93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93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93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7e7e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1258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S Gothic"/>
              </a:rPr>
              <a:t>Образец заголовка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320" cy="4986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28080" bIns="0" anchor="t">
            <a:no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S Gothic"/>
              </a:rPr>
              <a:t>Образец текста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S Gothic"/>
              </a:rPr>
              <a:t>Второй уровень</a:t>
            </a: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Gothic"/>
              </a:rPr>
              <a:t>Третий уровень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marL="160020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Четвертый уровень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93000"/>
              </a:lnSpc>
              <a:spcAft>
                <a:spcPts val="289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Пятый уровень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50328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448080" y="6886440"/>
            <a:ext cx="31921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7E243524-064F-4E5C-A2F7-A7C438165C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e7e7e"/>
            </a:gs>
          </a:gsLst>
          <a:path path="circle">
            <a:fillToRect l="50000" t="0" r="50000" b="10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4720" y="301680"/>
            <a:ext cx="3315960" cy="1279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p>
            <a:pPr indent="0">
              <a:lnSpc>
                <a:spcPct val="93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Образец заголовка</a:t>
            </a:r>
            <a:endParaRPr b="0" lang="en-GB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3941640" y="301680"/>
            <a:ext cx="5635440" cy="64512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28080" bIns="0" anchor="t">
            <a:no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S Gothic"/>
              </a:rPr>
              <a:t>Образец текста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MS Gothic"/>
              </a:rPr>
              <a:t>Второй уровень</a:t>
            </a: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lnSpc>
                <a:spcPct val="93000"/>
              </a:lnSpc>
              <a:spcAft>
                <a:spcPts val="850"/>
              </a:spcAft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MS Gothic"/>
              </a:rPr>
              <a:t>Третий уровень</a:t>
            </a: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  <a:p>
            <a:pPr marL="160020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Четвертый уровень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93000"/>
              </a:lnSpc>
              <a:spcAft>
                <a:spcPts val="289"/>
              </a:spcAft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MS Gothic"/>
              </a:rPr>
              <a:t>Пятый уровень</a:t>
            </a: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body"/>
          </p:nvPr>
        </p:nvSpPr>
        <p:spPr>
          <a:xfrm>
            <a:off x="504720" y="1581120"/>
            <a:ext cx="3315960" cy="51717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28080" bIns="0" anchor="t">
            <a:no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MS Gothic"/>
              </a:rPr>
              <a:t>Образец текста</a:t>
            </a:r>
            <a:endParaRPr b="0" lang="en-GB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50328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3448080" y="6886440"/>
            <a:ext cx="31921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7227720" y="6886440"/>
            <a:ext cx="2344320" cy="51732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</a:tabLst>
            </a:pPr>
            <a:fld id="{99AC5228-F418-4BB9-A65C-4D40B6992A9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7" descr="school2106[1].png"/>
          <p:cNvPicPr/>
          <p:nvPr/>
        </p:nvPicPr>
        <p:blipFill>
          <a:blip r:embed="rId1"/>
          <a:stretch/>
        </p:blipFill>
        <p:spPr>
          <a:xfrm>
            <a:off x="0" y="2351160"/>
            <a:ext cx="3721680" cy="27856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039760" y="5637240"/>
            <a:ext cx="6048000" cy="887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28080" bIns="0" anchor="t">
            <a:noAutofit/>
          </a:bodyPr>
          <a:p>
            <a:pPr indent="0">
              <a:lnSpc>
                <a:spcPct val="93000"/>
              </a:lnSpc>
              <a:spcBef>
                <a:spcPts val="1417"/>
              </a:spcBef>
              <a:buNone/>
            </a:pPr>
            <a:endParaRPr b="0" lang="en-GB" sz="1400" spc="-1" strike="noStrike">
              <a:solidFill>
                <a:srgbClr val="000000"/>
              </a:solidFill>
              <a:latin typeface="Arial"/>
              <a:ea typeface="MS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897200" y="922320"/>
            <a:ext cx="6048000" cy="624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1" lang="ru-RU" sz="4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ea typeface="MS Gothic"/>
              </a:rPr>
              <a:t>Урок - обобщение</a:t>
            </a:r>
            <a:endParaRPr b="0" lang="en-GB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5"/>
          <p:cNvSpPr/>
          <p:nvPr/>
        </p:nvSpPr>
        <p:spPr>
          <a:xfrm>
            <a:off x="4826160" y="5208480"/>
            <a:ext cx="50382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</a:pP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Gulim"/>
              </a:rPr>
              <a:t>Жеребцова Ирина Дмитрие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Gulim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</a:pPr>
            <a:r>
              <a:rPr b="1" lang="ru-RU" sz="18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Gulim"/>
              </a:rPr>
              <a:t>г. Тарко-Сале,  ЯН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1258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А вот и крыша!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3040200" y="5923080"/>
            <a:ext cx="4071600" cy="928440"/>
          </a:xfrm>
          <a:prstGeom prst="rect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3468600" y="2851200"/>
            <a:ext cx="3214440" cy="30715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51" name="Равнобедренный треугольник 7"/>
          <p:cNvSpPr/>
          <p:nvPr/>
        </p:nvSpPr>
        <p:spPr>
          <a:xfrm>
            <a:off x="3182760" y="1279440"/>
            <a:ext cx="3785760" cy="1571400"/>
          </a:xfrm>
          <a:prstGeom prst="triangle">
            <a:avLst>
              <a:gd name="adj" fmla="val 50000"/>
            </a:avLst>
          </a:prstGeom>
          <a:solidFill>
            <a:schemeClr val="accent2">
              <a:lumMod val="60000"/>
              <a:lumOff val="4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pic>
        <p:nvPicPr>
          <p:cNvPr id="252" name="Picture 2" descr="http://funforkids.ru/pictures/luntik/luntik030.gif"/>
          <p:cNvPicPr/>
          <p:nvPr/>
        </p:nvPicPr>
        <p:blipFill>
          <a:blip r:embed="rId1"/>
          <a:stretch/>
        </p:blipFill>
        <p:spPr>
          <a:xfrm>
            <a:off x="7397640" y="1351080"/>
            <a:ext cx="2374560" cy="2823840"/>
          </a:xfrm>
          <a:prstGeom prst="rect">
            <a:avLst/>
          </a:prstGeom>
          <a:ln w="9525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620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Реши задачу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Прямоугольник 4"/>
          <p:cNvSpPr/>
          <p:nvPr/>
        </p:nvSpPr>
        <p:spPr>
          <a:xfrm>
            <a:off x="682560" y="1565280"/>
            <a:ext cx="86436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</a:tabLst>
            </a:pPr>
            <a:r>
              <a:rPr b="1" lang="ru-RU" sz="36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Старшеклассники сделали к празднику 90 игрушек. 37 игрушек они подарили первоклассникам, 26 игрушек отнесли в детский сад, а остальные игрушки отдали своим братьям и сёстрам. Сколько игрушек ребята отдали своим братьям и сёстра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1258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С окошками-то куда веселее!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рямоугольник 5"/>
          <p:cNvSpPr/>
          <p:nvPr/>
        </p:nvSpPr>
        <p:spPr>
          <a:xfrm>
            <a:off x="3040200" y="5923080"/>
            <a:ext cx="4071600" cy="856800"/>
          </a:xfrm>
          <a:prstGeom prst="rect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57" name="Прямоугольник 6"/>
          <p:cNvSpPr/>
          <p:nvPr/>
        </p:nvSpPr>
        <p:spPr>
          <a:xfrm>
            <a:off x="3468600" y="2851200"/>
            <a:ext cx="3214440" cy="30715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58" name="Равнобедренный треугольник 7"/>
          <p:cNvSpPr/>
          <p:nvPr/>
        </p:nvSpPr>
        <p:spPr>
          <a:xfrm>
            <a:off x="3182760" y="1279440"/>
            <a:ext cx="3785760" cy="1571400"/>
          </a:xfrm>
          <a:prstGeom prst="triangle">
            <a:avLst>
              <a:gd name="adj" fmla="val 50000"/>
            </a:avLst>
          </a:prstGeom>
          <a:solidFill>
            <a:schemeClr val="accent2">
              <a:lumMod val="60000"/>
              <a:lumOff val="4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pic>
        <p:nvPicPr>
          <p:cNvPr id="259" name="Picture 2" descr="http://funforkids.ru/pictures/luntik/luntik030.gif"/>
          <p:cNvPicPr/>
          <p:nvPr/>
        </p:nvPicPr>
        <p:blipFill>
          <a:blip r:embed="rId1"/>
          <a:stretch/>
        </p:blipFill>
        <p:spPr>
          <a:xfrm>
            <a:off x="7397640" y="1351080"/>
            <a:ext cx="2374560" cy="2823840"/>
          </a:xfrm>
          <a:prstGeom prst="rect">
            <a:avLst/>
          </a:prstGeom>
          <a:ln w="9525">
            <a:noFill/>
          </a:ln>
        </p:spPr>
      </p:pic>
      <p:sp>
        <p:nvSpPr>
          <p:cNvPr id="260" name="Прямоугольник 8"/>
          <p:cNvSpPr/>
          <p:nvPr/>
        </p:nvSpPr>
        <p:spPr>
          <a:xfrm>
            <a:off x="3754440" y="3351240"/>
            <a:ext cx="571320" cy="428400"/>
          </a:xfrm>
          <a:prstGeom prst="rect">
            <a:avLst/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4754520" y="4494240"/>
            <a:ext cx="571320" cy="428400"/>
          </a:xfrm>
          <a:prstGeom prst="rect">
            <a:avLst/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62" name="Прямоугольник 11"/>
          <p:cNvSpPr/>
          <p:nvPr/>
        </p:nvSpPr>
        <p:spPr>
          <a:xfrm>
            <a:off x="3754440" y="4494240"/>
            <a:ext cx="571320" cy="428400"/>
          </a:xfrm>
          <a:prstGeom prst="rect">
            <a:avLst/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63" name="Прямоугольник 12"/>
          <p:cNvSpPr/>
          <p:nvPr/>
        </p:nvSpPr>
        <p:spPr>
          <a:xfrm>
            <a:off x="5683320" y="3351240"/>
            <a:ext cx="571320" cy="428400"/>
          </a:xfrm>
          <a:prstGeom prst="rect">
            <a:avLst/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64" name="Прямоугольник 13"/>
          <p:cNvSpPr/>
          <p:nvPr/>
        </p:nvSpPr>
        <p:spPr>
          <a:xfrm>
            <a:off x="4754520" y="3351240"/>
            <a:ext cx="571320" cy="428400"/>
          </a:xfrm>
          <a:prstGeom prst="rect">
            <a:avLst/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65" name="Прямоугольник 14"/>
          <p:cNvSpPr/>
          <p:nvPr/>
        </p:nvSpPr>
        <p:spPr>
          <a:xfrm>
            <a:off x="5754600" y="4494240"/>
            <a:ext cx="571320" cy="428400"/>
          </a:xfrm>
          <a:prstGeom prst="rect">
            <a:avLst/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96800" y="708120"/>
            <a:ext cx="707184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Задание на внимательность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Прямоугольник 6"/>
          <p:cNvSpPr/>
          <p:nvPr/>
        </p:nvSpPr>
        <p:spPr>
          <a:xfrm>
            <a:off x="754200" y="2708280"/>
            <a:ext cx="850068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MS Gothic"/>
              </a:rPr>
              <a:t>В комнате горело 50 свечей, 20 из них задули. Сколько свечей в комнат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1258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С окошками-то куда веселее!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Прямоугольник 5"/>
          <p:cNvSpPr/>
          <p:nvPr/>
        </p:nvSpPr>
        <p:spPr>
          <a:xfrm>
            <a:off x="3040200" y="5923080"/>
            <a:ext cx="4071600" cy="856800"/>
          </a:xfrm>
          <a:prstGeom prst="rect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70" name="Прямоугольник 6"/>
          <p:cNvSpPr/>
          <p:nvPr/>
        </p:nvSpPr>
        <p:spPr>
          <a:xfrm>
            <a:off x="3468600" y="2851200"/>
            <a:ext cx="3214440" cy="3071520"/>
          </a:xfrm>
          <a:prstGeom prst="rect">
            <a:avLst/>
          </a:prstGeom>
          <a:solidFill>
            <a:schemeClr val="accent2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71" name="Равнобедренный треугольник 7"/>
          <p:cNvSpPr/>
          <p:nvPr/>
        </p:nvSpPr>
        <p:spPr>
          <a:xfrm>
            <a:off x="3182760" y="1279440"/>
            <a:ext cx="3785760" cy="1571400"/>
          </a:xfrm>
          <a:prstGeom prst="triangle">
            <a:avLst>
              <a:gd name="adj" fmla="val 50000"/>
            </a:avLst>
          </a:prstGeom>
          <a:solidFill>
            <a:schemeClr val="accent2">
              <a:lumMod val="60000"/>
              <a:lumOff val="40000"/>
            </a:schemeClr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pic>
        <p:nvPicPr>
          <p:cNvPr id="272" name="Picture 2" descr="http://funforkids.ru/pictures/luntik/luntik030.gif"/>
          <p:cNvPicPr/>
          <p:nvPr/>
        </p:nvPicPr>
        <p:blipFill>
          <a:blip r:embed="rId1"/>
          <a:stretch/>
        </p:blipFill>
        <p:spPr>
          <a:xfrm>
            <a:off x="7397640" y="1351080"/>
            <a:ext cx="2374560" cy="2823840"/>
          </a:xfrm>
          <a:prstGeom prst="rect">
            <a:avLst/>
          </a:prstGeom>
          <a:ln w="9525">
            <a:noFill/>
          </a:ln>
        </p:spPr>
      </p:pic>
      <p:sp>
        <p:nvSpPr>
          <p:cNvPr id="273" name="Прямоугольник 8"/>
          <p:cNvSpPr/>
          <p:nvPr/>
        </p:nvSpPr>
        <p:spPr>
          <a:xfrm>
            <a:off x="3754440" y="3351240"/>
            <a:ext cx="571320" cy="428400"/>
          </a:xfrm>
          <a:prstGeom prst="rect">
            <a:avLst/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cxnSp>
        <p:nvCxnSpPr>
          <p:cNvPr id="274" name="Соединительная линия уступом 16"/>
          <p:cNvCxnSpPr/>
          <p:nvPr/>
        </p:nvCxnSpPr>
        <p:spPr>
          <a:xfrm>
            <a:off x="7111800" y="5922720"/>
            <a:ext cx="786240" cy="357480"/>
          </a:xfrm>
          <a:prstGeom prst="bentConnector2">
            <a:avLst/>
          </a:prstGeom>
          <a:ln w="9525">
            <a:solidFill>
              <a:srgbClr val="000000"/>
            </a:solidFill>
            <a:round/>
          </a:ln>
        </p:spPr>
      </p:cxnSp>
      <p:cxnSp>
        <p:nvCxnSpPr>
          <p:cNvPr id="275" name="Соединительная линия уступом 21"/>
          <p:cNvCxnSpPr/>
          <p:nvPr/>
        </p:nvCxnSpPr>
        <p:spPr>
          <a:xfrm>
            <a:off x="7897680" y="6279840"/>
            <a:ext cx="429120" cy="572040"/>
          </a:xfrm>
          <a:prstGeom prst="bentConnector2">
            <a:avLst/>
          </a:prstGeom>
          <a:ln w="9525">
            <a:solidFill>
              <a:srgbClr val="000000"/>
            </a:solidFill>
            <a:round/>
          </a:ln>
        </p:spPr>
      </p:cxnSp>
      <p:sp>
        <p:nvSpPr>
          <p:cNvPr id="276" name="Овал 22"/>
          <p:cNvSpPr/>
          <p:nvPr/>
        </p:nvSpPr>
        <p:spPr>
          <a:xfrm>
            <a:off x="4683240" y="3279600"/>
            <a:ext cx="785520" cy="499680"/>
          </a:xfrm>
          <a:prstGeom prst="ellipse">
            <a:avLst/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77" name="Трапеция 23"/>
          <p:cNvSpPr/>
          <p:nvPr/>
        </p:nvSpPr>
        <p:spPr>
          <a:xfrm>
            <a:off x="5683320" y="3351240"/>
            <a:ext cx="856800" cy="428400"/>
          </a:xfrm>
          <a:prstGeom prst="trapezoid">
            <a:avLst>
              <a:gd name="adj" fmla="val 25000"/>
            </a:avLst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78" name="Ромб 24"/>
          <p:cNvSpPr/>
          <p:nvPr/>
        </p:nvSpPr>
        <p:spPr>
          <a:xfrm>
            <a:off x="3611520" y="4422600"/>
            <a:ext cx="713880" cy="785520"/>
          </a:xfrm>
          <a:prstGeom prst="diamond">
            <a:avLst/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79" name="Правильный пятиугольник 25"/>
          <p:cNvSpPr/>
          <p:nvPr/>
        </p:nvSpPr>
        <p:spPr>
          <a:xfrm>
            <a:off x="4826160" y="4565520"/>
            <a:ext cx="642600" cy="642600"/>
          </a:xfrm>
          <a:prstGeom prst="pentagon">
            <a:avLst>
              <a:gd name="hf" fmla="val 105146"/>
              <a:gd name="vf" fmla="val 110557"/>
            </a:avLst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80" name="Прямоугольный треугольник 26"/>
          <p:cNvSpPr/>
          <p:nvPr/>
        </p:nvSpPr>
        <p:spPr>
          <a:xfrm>
            <a:off x="5826240" y="4637160"/>
            <a:ext cx="642600" cy="571320"/>
          </a:xfrm>
          <a:prstGeom prst="rtTriangle">
            <a:avLst/>
          </a:prstGeom>
          <a:solidFill>
            <a:srgbClr val="ffc000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cxnSp>
        <p:nvCxnSpPr>
          <p:cNvPr id="281" name="Прямая соединительная линия 29"/>
          <p:cNvCxnSpPr/>
          <p:nvPr/>
        </p:nvCxnSpPr>
        <p:spPr>
          <a:xfrm>
            <a:off x="8326440" y="6851520"/>
            <a:ext cx="1143360" cy="1800"/>
          </a:xfrm>
          <a:prstGeom prst="straightConnector1">
            <a:avLst/>
          </a:prstGeom>
          <a:ln w="9525">
            <a:solidFill>
              <a:srgbClr val="000000"/>
            </a:solidFill>
            <a:round/>
          </a:ln>
        </p:spPr>
      </p:cxn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76400" y="5291280"/>
            <a:ext cx="6048000" cy="6249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b">
            <a:noAutofit/>
          </a:bodyPr>
          <a:p>
            <a:pPr indent="0">
              <a:lnSpc>
                <a:spcPct val="93000"/>
              </a:lnSpc>
              <a:buNone/>
            </a:pPr>
            <a:endParaRPr b="1" lang="en-GB" sz="2000" spc="-1" strike="noStrike">
              <a:solidFill>
                <a:srgbClr val="000000"/>
              </a:solidFill>
              <a:latin typeface="Arial"/>
              <a:ea typeface="MS Gothic"/>
            </a:endParaRPr>
          </a:p>
        </p:txBody>
      </p:sp>
      <p:pic>
        <p:nvPicPr>
          <p:cNvPr id="283" name="Рисунок 6" descr="1301043209_y_4bee6748[1].jpg"/>
          <p:cNvPicPr/>
          <p:nvPr/>
        </p:nvPicPr>
        <p:blipFill>
          <a:blip r:embed="rId1"/>
          <a:stretch/>
        </p:blipFill>
        <p:spPr>
          <a:xfrm>
            <a:off x="1152360" y="324000"/>
            <a:ext cx="7775280" cy="5040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76400" y="5916600"/>
            <a:ext cx="6048000" cy="8870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28080" bIns="0" anchor="t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MS Gothic"/>
              </a:rPr>
              <a:t>Лунтик и его друзья благодарят вас, ребята!</a:t>
            </a:r>
            <a:endParaRPr b="0" lang="en-GB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345960"/>
            <a:ext cx="9070560" cy="126324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MS Gothic"/>
              </a:rPr>
              <a:t>Отгадай загадку</a:t>
            </a:r>
            <a:br>
              <a:rPr sz="4400"/>
            </a:b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68360" y="1065240"/>
            <a:ext cx="9070560" cy="54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MS Gothic"/>
              </a:rPr>
              <a:t>Знают взрослые и дети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MS Gothic"/>
              </a:rPr>
              <a:t>Что упал с другой планеты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MS Gothic"/>
              </a:rPr>
              <a:t>Фиолетовый зверёк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MS Gothic"/>
              </a:rPr>
              <a:t>Детям маленький дружок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968480" y="5494320"/>
            <a:ext cx="6048000" cy="13158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endParaRPr b="0" lang="en-GB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r>
              <a:rPr b="0" lang="ru-RU" sz="5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ea typeface="MS Gothic"/>
              </a:rPr>
              <a:t>Лунтик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  <a:ea typeface="MS Gothic"/>
              </a:rPr>
              <a:t> </a:t>
            </a:r>
            <a:endParaRPr b="0" lang="en-GB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endParaRPr b="0" lang="en-GB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endParaRPr b="0" lang="en-GB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Рисунок 8" descr="3a0d834ad1c7852d83933367af1d477a1[1].jpg"/>
          <p:cNvPicPr/>
          <p:nvPr/>
        </p:nvPicPr>
        <p:blipFill>
          <a:blip r:embed="rId1"/>
          <a:stretch/>
        </p:blipFill>
        <p:spPr>
          <a:xfrm>
            <a:off x="1976400" y="674640"/>
            <a:ext cx="6048000" cy="4536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1258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ea typeface="MS Gothic"/>
              </a:rPr>
              <a:t>Дорогие ребята!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1280" y="1565280"/>
            <a:ext cx="8784720" cy="4986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28080" bIns="0" anchor="t">
            <a:noAutofit/>
          </a:bodyPr>
          <a:p>
            <a:pPr marL="343080" indent="0" algn="just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MS Gothic"/>
              </a:rPr>
              <a:t>   </a:t>
            </a: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Arial"/>
                <a:ea typeface="MS Gothic"/>
              </a:rPr>
              <a:t>«</a:t>
            </a: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ea typeface="MS Gothic"/>
              </a:rPr>
              <a:t>Мы с дядюшкой Шером просим вас о помощи! Недавно мы  построили </a:t>
            </a:r>
            <a:r>
              <a:rPr b="0" lang="en-US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ea typeface="MS Gothic"/>
              </a:rPr>
              <a:t>2</a:t>
            </a: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ea typeface="MS Gothic"/>
              </a:rPr>
              <a:t>-х этажную школу для всех жителей нашей планеты, но братья гусеницы Пупсень и Вупсень заколдовали её. Чтобы расколдовать школу, необходимы ваши знания и умения!  Помогите нам пожалуйста!»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  <a:ea typeface="MS Gothic"/>
              </a:rPr>
              <a:t>Ваш друг, Лунтик.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4060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Устный счет: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" name="Таблица 3"/>
          <p:cNvGraphicFramePr/>
          <p:nvPr/>
        </p:nvGraphicFramePr>
        <p:xfrm>
          <a:off x="396720" y="922320"/>
          <a:ext cx="9215280" cy="5000400"/>
        </p:xfrm>
        <a:graphic>
          <a:graphicData uri="http://schemas.openxmlformats.org/drawingml/2006/table">
            <a:tbl>
              <a:tblPr/>
              <a:tblGrid>
                <a:gridCol w="4607640"/>
                <a:gridCol w="4607640"/>
              </a:tblGrid>
              <a:tr h="5000400">
                <a:tc>
                  <a:txBody>
                    <a:bodyPr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MS Gothic"/>
                        </a:rPr>
                        <a:t>Найди сумму чисел 3 и 1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MS Gothic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MS Gothic"/>
                        </a:rPr>
                        <a:t>Первый множитель 5, второй 7. Найдите произвед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MS Gothic"/>
                        </a:rPr>
                        <a:t>Из какого числа надо вычесть 5, чтобы получилось 43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Times New Roman"/>
                        <a:buAutoNum type="arabicPeriod"/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MS Gothic"/>
                        </a:rPr>
                        <a:t>Уменьшаемое 27, вычитаемое 8. Найдите разнос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MS Gothic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  <a:ea typeface="MS Gothic"/>
                        </a:rPr>
                        <a:t>. </a:t>
                      </a: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MS Gothic"/>
                        </a:rPr>
                        <a:t>От суммы чисел 80 и 4 надо отнять 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14440" indent="-51444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MS Gothic"/>
                        </a:rPr>
                        <a:t>6. На сколько 9 десятков больше 3 единиц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1800" indent="-3618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MS Gothic"/>
                        </a:rPr>
                        <a:t>7. Найди произведение чисел 7         и 9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61800" indent="-361800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imes New Roman"/>
                          <a:ea typeface="MS Gothic"/>
                        </a:rPr>
                        <a:t>8. Первое слагаемое 45. Чему равно второе слагаемое, если сумма равна 50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</a:tbl>
          </a:graphicData>
        </a:graphic>
      </p:graphicFrame>
      <p:sp>
        <p:nvSpPr>
          <p:cNvPr id="225" name="TextBox 5"/>
          <p:cNvSpPr/>
          <p:nvPr/>
        </p:nvSpPr>
        <p:spPr>
          <a:xfrm>
            <a:off x="1968480" y="6494400"/>
            <a:ext cx="678636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MS Gothic"/>
              </a:rPr>
              <a:t>19, 35, 48, 19, 81, 87, 63,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395280"/>
            <a:ext cx="9067320" cy="187128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1" lang="ru-RU" sz="4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MS Gothic"/>
              </a:rPr>
              <a:t>Первый </a:t>
            </a:r>
            <a:r>
              <a:rPr b="1" lang="ru-RU" sz="48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MS Gothic"/>
              </a:rPr>
              <a:t>этаж</a:t>
            </a:r>
            <a:r>
              <a:rPr b="1" lang="ru-RU" sz="4400" spc="-1" strike="noStrike">
                <a:solidFill>
                  <a:schemeClr val="accent6">
                    <a:lumMod val="75000"/>
                  </a:schemeClr>
                </a:solidFill>
                <a:latin typeface="Arial"/>
                <a:ea typeface="MS Gothic"/>
              </a:rPr>
              <a:t> школы восстановлен!</a:t>
            </a:r>
            <a:br>
              <a:rPr sz="4400"/>
            </a:b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оугольник 4"/>
          <p:cNvSpPr/>
          <p:nvPr/>
        </p:nvSpPr>
        <p:spPr>
          <a:xfrm>
            <a:off x="3040200" y="5208480"/>
            <a:ext cx="3785760" cy="1428480"/>
          </a:xfrm>
          <a:prstGeom prst="rect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pic>
        <p:nvPicPr>
          <p:cNvPr id="228" name="Picture 2" descr="http://funforkids.ru/pictures/luntik/luntik030.gif"/>
          <p:cNvPicPr/>
          <p:nvPr/>
        </p:nvPicPr>
        <p:blipFill>
          <a:blip r:embed="rId1"/>
          <a:stretch/>
        </p:blipFill>
        <p:spPr>
          <a:xfrm>
            <a:off x="7540560" y="1208160"/>
            <a:ext cx="2374560" cy="2823840"/>
          </a:xfrm>
          <a:prstGeom prst="rect">
            <a:avLst/>
          </a:prstGeom>
          <a:ln w="9525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1258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Найдите периметр прямоугольника.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4"/>
          <p:cNvSpPr/>
          <p:nvPr/>
        </p:nvSpPr>
        <p:spPr>
          <a:xfrm>
            <a:off x="2754360" y="3780000"/>
            <a:ext cx="4357440" cy="1428480"/>
          </a:xfrm>
          <a:prstGeom prst="rect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31" name="TextBox 6"/>
          <p:cNvSpPr/>
          <p:nvPr/>
        </p:nvSpPr>
        <p:spPr>
          <a:xfrm>
            <a:off x="896760" y="4280040"/>
            <a:ext cx="15714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6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7"/>
          <p:cNvSpPr/>
          <p:nvPr/>
        </p:nvSpPr>
        <p:spPr>
          <a:xfrm>
            <a:off x="4325760" y="5423040"/>
            <a:ext cx="142848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8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8"/>
          <p:cNvSpPr/>
          <p:nvPr/>
        </p:nvSpPr>
        <p:spPr>
          <a:xfrm>
            <a:off x="3968640" y="4208400"/>
            <a:ext cx="22856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Р - ?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1258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Два этажа школы восстановлены!</a:t>
            </a:r>
            <a:br>
              <a:rPr sz="4400"/>
            </a:b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Молодцы! 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Прямоугольник 4"/>
          <p:cNvSpPr/>
          <p:nvPr/>
        </p:nvSpPr>
        <p:spPr>
          <a:xfrm>
            <a:off x="3040200" y="5923080"/>
            <a:ext cx="4071600" cy="856800"/>
          </a:xfrm>
          <a:prstGeom prst="rect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36" name="Прямоугольник 5"/>
          <p:cNvSpPr/>
          <p:nvPr/>
        </p:nvSpPr>
        <p:spPr>
          <a:xfrm>
            <a:off x="3468600" y="2708280"/>
            <a:ext cx="3214440" cy="3214440"/>
          </a:xfrm>
          <a:prstGeom prst="rect">
            <a:avLst/>
          </a:prstGeom>
          <a:solidFill>
            <a:schemeClr val="accent2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pic>
        <p:nvPicPr>
          <p:cNvPr id="237" name="Picture 2" descr="http://funforkids.ru/pictures/luntik/luntik030.gif"/>
          <p:cNvPicPr/>
          <p:nvPr/>
        </p:nvPicPr>
        <p:blipFill>
          <a:blip r:embed="rId1"/>
          <a:stretch/>
        </p:blipFill>
        <p:spPr>
          <a:xfrm>
            <a:off x="7469280" y="1208160"/>
            <a:ext cx="2374560" cy="2823840"/>
          </a:xfrm>
          <a:prstGeom prst="rect">
            <a:avLst/>
          </a:prstGeom>
          <a:ln w="9525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320" cy="125856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</a:pP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  <a:ea typeface="MS Gothic"/>
              </a:rPr>
              <a:t>Реши примеры в тетради</a:t>
            </a: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320" cy="4986000"/>
          </a:xfrm>
          <a:prstGeom prst="rect">
            <a:avLst/>
          </a:prstGeom>
          <a:noFill/>
          <a:ln w="9360">
            <a:noFill/>
          </a:ln>
        </p:spPr>
        <p:txBody>
          <a:bodyPr numCol="1" spcCol="0" lIns="0" rIns="0" tIns="28080" bIns="0" anchor="t">
            <a:no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17 + 20 = 37                       42 – 3 = 39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93 – 30 = 63                       100 – 50 = 50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82 + 7 = 89                         39 + 1 = 40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78 – 9 = 68                          66 + 5 = 71</a:t>
            </a: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Овал 4"/>
          <p:cNvSpPr/>
          <p:nvPr/>
        </p:nvSpPr>
        <p:spPr>
          <a:xfrm>
            <a:off x="2808000" y="2339640"/>
            <a:ext cx="719640" cy="575640"/>
          </a:xfrm>
          <a:prstGeom prst="ellipse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41" name="Овал 5"/>
          <p:cNvSpPr/>
          <p:nvPr/>
        </p:nvSpPr>
        <p:spPr>
          <a:xfrm>
            <a:off x="2736000" y="2987640"/>
            <a:ext cx="719640" cy="575640"/>
          </a:xfrm>
          <a:prstGeom prst="ellipse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42" name="Овал 6"/>
          <p:cNvSpPr/>
          <p:nvPr/>
        </p:nvSpPr>
        <p:spPr>
          <a:xfrm>
            <a:off x="2520000" y="3563640"/>
            <a:ext cx="719640" cy="575640"/>
          </a:xfrm>
          <a:prstGeom prst="ellipse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43" name="Овал 7"/>
          <p:cNvSpPr/>
          <p:nvPr/>
        </p:nvSpPr>
        <p:spPr>
          <a:xfrm>
            <a:off x="2520000" y="4212000"/>
            <a:ext cx="719640" cy="575640"/>
          </a:xfrm>
          <a:prstGeom prst="ellipse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44" name="Овал 8"/>
          <p:cNvSpPr/>
          <p:nvPr/>
        </p:nvSpPr>
        <p:spPr>
          <a:xfrm>
            <a:off x="7488720" y="4284000"/>
            <a:ext cx="719640" cy="575640"/>
          </a:xfrm>
          <a:prstGeom prst="ellipse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45" name="Овал 9"/>
          <p:cNvSpPr/>
          <p:nvPr/>
        </p:nvSpPr>
        <p:spPr>
          <a:xfrm>
            <a:off x="7416720" y="3636000"/>
            <a:ext cx="719640" cy="575640"/>
          </a:xfrm>
          <a:prstGeom prst="ellipse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46" name="Овал 10"/>
          <p:cNvSpPr/>
          <p:nvPr/>
        </p:nvSpPr>
        <p:spPr>
          <a:xfrm>
            <a:off x="7848720" y="2987640"/>
            <a:ext cx="719640" cy="575640"/>
          </a:xfrm>
          <a:prstGeom prst="ellipse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  <p:sp>
        <p:nvSpPr>
          <p:cNvPr id="247" name="Овал 11"/>
          <p:cNvSpPr/>
          <p:nvPr/>
        </p:nvSpPr>
        <p:spPr>
          <a:xfrm>
            <a:off x="7416720" y="2339640"/>
            <a:ext cx="719640" cy="575640"/>
          </a:xfrm>
          <a:prstGeom prst="ellipse">
            <a:avLst/>
          </a:prstGeom>
          <a:solidFill>
            <a:srgbClr val="00b8ff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endParaRPr b="0" lang="ru-RU" sz="1800" spc="-1" strike="noStrike">
              <a:solidFill>
                <a:srgbClr val="ffffff"/>
              </a:solidFill>
              <a:latin typeface="Arial"/>
              <a:ea typeface="MS Gothic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500"/>
                            </p:stCondLst>
                            <p:childTnLst>
                              <p:par>
                                <p:cTn id="4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Тема Office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34718</TotalTime>
  <Application>LibreOffice/7.4.7.2$Linux_X86_64 LibreOffice_project/40$Build-2</Application>
  <AppVersion>15.0000</AppVersion>
  <Words>350</Words>
  <Paragraphs>4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06:44:04Z</dcterms:created>
  <dc:creator/>
  <dc:description/>
  <dc:language>en-US</dc:language>
  <cp:lastModifiedBy>Tata</cp:lastModifiedBy>
  <cp:lastPrinted>1601-01-01T00:00:00Z</cp:lastPrinted>
  <dcterms:modified xsi:type="dcterms:W3CDTF">2012-01-09T18:19:43Z</dcterms:modified>
  <cp:revision>35</cp:revision>
  <dc:subject/>
  <dc:title>Закрепление пройденного за 2 класс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Произвольный</vt:lpwstr>
  </property>
  <property fmtid="{D5CDD505-2E9C-101B-9397-08002B2CF9AE}" pid="4" name="Slides">
    <vt:r8>15</vt:r8>
  </property>
</Properties>
</file>