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CEE-3A04-497F-96F4-04AAAC38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993-617E-4829-8E7C-C74773B4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2DF-D21A-42D1-8732-7D499CC8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73F9-EBE8-470C-A67C-F9D36FF5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6966BA-FB5E-414B-A2BF-9EB9AA761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0AB64C-30A5-456D-AB6A-9A6BB91D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BC6DC-7E42-4883-B8E0-49A89C77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6A637-7A33-4DB7-BEE1-5D57736A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8FD0A-BC0B-48B4-AE2C-E98471FA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6B166-B1A6-43D2-B619-82E6F9CB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E7010-BD00-4ED9-85BA-E3905C79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DEC-6D56-49D9-BD66-EA404CA1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F4738-D48E-49C3-9480-29B386B1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39CA5-D9F6-4E1F-9D9E-D62861CD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EEEBA-2BE4-4865-9473-04B2E45C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0A83C-D345-4455-8739-B9CCEA98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CAD81-9441-440A-9F13-AD9DC2CEE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4FC9-0725-41E4-A7AC-BCFA2291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8CA9-BE4D-4B28-8D60-AA3B2D69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8925-2B25-4D83-9B89-388356F6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4C7-3692-49C7-AB02-1D4FB792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CAE-A996-42AC-A48D-98BA92F3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7827-6951-45DD-BA3B-334F9460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BA9-4D96-407E-B863-85690FFC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D487-67CD-478B-9CDC-F1779F3EBE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0877-61AF-4850-9833-6BDFF519FA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115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Муниципальное</a:t>
            </a:r>
            <a:r>
              <a:rPr b="0" lang="en-US" sz="2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ahoma"/>
              </a:rPr>
              <a:t>образовательное дошкольное учреждение №10 «ЗВОНОЧЕ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5129280"/>
            <a:ext cx="878544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Проект по нравственно-патриотическому воспитанию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«РАСТИМ МАЛЕНЬКИХ ПАТРИОТОВ»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ahoma"/>
              </a:rPr>
              <a:t>Воспитатель: Джаримок М.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4465440" cy="334980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003640" y="2207880"/>
            <a:ext cx="38163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Правильное воспитание – это наша счастливая старость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плохое воспитание – это наш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будущее горе, это наши слезы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это наша вина перед другими людьми, перед всей стран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А.С. Макаренк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50920" y="260280"/>
            <a:ext cx="3889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5. «Защитники Отече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395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Встреча с ветеранам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Экскурсии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Сюжетно-ролевые иг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Создание мини-музея «Уголок Славы»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Посещение праздников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«9 Мая», «Защитники Отечества»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258920" y="3532320"/>
            <a:ext cx="3529080" cy="260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148360" y="404640"/>
            <a:ext cx="3744720" cy="25099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300720" y="3141720"/>
            <a:ext cx="2573280" cy="3335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Вывод: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Таким образом, можно сделать вывод, что работа проведенная с детьми была выбрана верно.  Дети стали узнавать и называть  профессии людей работающих в детском саду, профессии своих родителей,  легко вступать во взаимоотношения со сверстниками и сотрудниками ДОУ. Стали отражать  разные сюжеты из жизни семьи и детского сада в играх.  Безошибочно узнают все изученные памятники и достопримечательности города Майкопа, с удовольствием пополняют музей группы. В работе с родителями добилась того, что родители стали не пассивными наблюдателями, а активными участниками педагогического проце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3813120" cy="2859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859280" y="3500280"/>
            <a:ext cx="3956040" cy="29671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ahoma"/>
              </a:rPr>
              <a:t>Благодарю за внимание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ahoma"/>
              </a:rPr>
              <a:t>Проект по нравственно-патриотическому воспитанию «Растим маленьких патриото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57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Тип проекта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Информационно-познавательны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Цель проекта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Формирование у детей представления о Малой Родин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Участники проекта:</a:t>
            </a: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дети старшей группы МДОУ №10, родител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Сроки реализации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долгосрочный, сентябрь 2013г. - май 2014г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ahoma"/>
              </a:rPr>
              <a:t>Этапы реализации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Подготовительны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Исследовательски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аключительны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851280" y="3789360"/>
            <a:ext cx="4627440" cy="29019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ahoma"/>
              </a:rPr>
              <a:t>Этапы реализации проект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197000"/>
            <a:ext cx="8280360" cy="57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I этап: Подготовительны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(анализ проблемы и выявление более результативных методов и приемов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Цель: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определить уровень заинтересованности детей темой. Выяснить, какой опыт и знания имеют дети по тем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Мероприятия: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беседа с детьми по тематическому блоку «Знакомство с малой Родиной» (сентябрь-октябрь 2013г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II этап:  Исследовательский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(внедрение наиболее эффективных методов работы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Цель: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сформировать у детей представление о малой Родине посредством запланированной рабо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Формы, методы, средства: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 занятия, экскурсии, наблюдения, праздники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беседы, создание мини-музея, чтение литературы, разучивание стихов и песен, сюжетно-ролевые игры (октябрь 2013г. – апрель 2014г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990000"/>
                </a:solidFill>
                <a:uFillTx/>
                <a:latin typeface="Tahoma"/>
              </a:rPr>
              <a:t>III этап:  Заключитель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Цель: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обсуждение с детьми, что нового узнали, чему научились в процессе исследований - ожидаемые результа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Мероприятия: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беседа с детьми по тематическому блоку «Знакомство с малой Родиной» (апрель - май  2014г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Tahoma"/>
              </a:rPr>
              <a:t>Исследовательский этап: «Знакомство детей с Малой Родиной»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1905120" cy="3168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95280" y="4149720"/>
            <a:ext cx="3024360" cy="22575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492360" y="1484280"/>
            <a:ext cx="2592360" cy="170028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708360" y="3645000"/>
            <a:ext cx="2952720" cy="221436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6804000" y="1197000"/>
            <a:ext cx="2093760" cy="3486240"/>
          </a:xfrm>
          <a:prstGeom prst="rect">
            <a:avLst/>
          </a:prstGeom>
          <a:ln w="2844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000"/>
                            </p:stCondLst>
                            <p:childTnLst>
                              <p:par>
                                <p:cTn id="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92360" y="476280"/>
            <a:ext cx="5975280" cy="100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Tahoma"/>
              </a:rPr>
              <a:t>Тематические блоки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2060640"/>
            <a:ext cx="360036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1. «Мой дом – моя семь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2060640"/>
            <a:ext cx="3889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3. «Земля – наш общий до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148360" y="3573360"/>
            <a:ext cx="3673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4. «Родная сторо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3573360"/>
            <a:ext cx="417672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2. «Золотые правила этике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95640" y="5084640"/>
            <a:ext cx="417672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5. «Защитники Отече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19640" y="1484280"/>
            <a:ext cx="144360" cy="503280"/>
          </a:xfrm>
          <a:prstGeom prst="downArrow">
            <a:avLst>
              <a:gd name="adj1" fmla="val 50000"/>
              <a:gd name="adj2" fmla="val 87157"/>
            </a:avLst>
          </a:prstGeom>
          <a:solidFill>
            <a:srgbClr val="99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2997360"/>
            <a:ext cx="144360" cy="502920"/>
          </a:xfrm>
          <a:prstGeom prst="downArrow">
            <a:avLst>
              <a:gd name="adj1" fmla="val 50000"/>
              <a:gd name="adj2" fmla="val 87095"/>
            </a:avLst>
          </a:prstGeom>
          <a:solidFill>
            <a:srgbClr val="99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19640" y="4508640"/>
            <a:ext cx="144360" cy="502920"/>
          </a:xfrm>
          <a:prstGeom prst="downArrow">
            <a:avLst>
              <a:gd name="adj1" fmla="val 50000"/>
              <a:gd name="adj2" fmla="val 87095"/>
            </a:avLst>
          </a:prstGeom>
          <a:solidFill>
            <a:srgbClr val="99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1484280"/>
            <a:ext cx="144720" cy="503280"/>
          </a:xfrm>
          <a:prstGeom prst="downArrow">
            <a:avLst>
              <a:gd name="adj1" fmla="val 50000"/>
              <a:gd name="adj2" fmla="val 86940"/>
            </a:avLst>
          </a:prstGeom>
          <a:solidFill>
            <a:srgbClr val="99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67280" y="2997360"/>
            <a:ext cx="144720" cy="502920"/>
          </a:xfrm>
          <a:prstGeom prst="downArrow">
            <a:avLst>
              <a:gd name="adj1" fmla="val 50000"/>
              <a:gd name="adj2" fmla="val 86878"/>
            </a:avLst>
          </a:prstGeom>
          <a:solidFill>
            <a:srgbClr val="99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5640" y="404640"/>
            <a:ext cx="3960720" cy="72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1. «Мой дом – моя семь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395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Моя семь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Моё имя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накомство с профессиями родителей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Детский сад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Герб групп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накомство с профессиями сотрудников детского сада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5280" y="3573360"/>
            <a:ext cx="2214720" cy="2952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771640" y="3573360"/>
            <a:ext cx="2198880" cy="2930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5364000" y="4076640"/>
            <a:ext cx="3110040" cy="2332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580000" y="907920"/>
            <a:ext cx="3095640" cy="2268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0" y="404640"/>
            <a:ext cx="4248000" cy="720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2. «Золотые правила этикет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03640" y="1341360"/>
            <a:ext cx="3959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Словарь вежливых сл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накомство с правилами этикет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Наши добрые поступ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Как мы помогаем маме, папе дом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Мы дежурны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1484280"/>
            <a:ext cx="1214640" cy="1873440"/>
          </a:xfrm>
          <a:prstGeom prst="cube">
            <a:avLst>
              <a:gd name="adj" fmla="val 4703"/>
            </a:avLst>
          </a:prstGeom>
          <a:solidFill>
            <a:srgbClr val="00cc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СЛОВАР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ВЕЖЛИВЫ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ahoma"/>
              </a:rPr>
              <a:t>СЛ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765000"/>
            <a:ext cx="2492280" cy="33228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547640" y="4221000"/>
            <a:ext cx="3168720" cy="2376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219640" y="3933720"/>
            <a:ext cx="3324240" cy="24940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50920" y="260280"/>
            <a:ext cx="3889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3. «Земля – наш общий до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395928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Труд в природ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Экскурсии по детскому сад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анятия на экологическую тему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Наблюдения и отдых на природе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Юные защитники природ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9640" y="3860640"/>
            <a:ext cx="3888000" cy="27068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4032360" cy="30258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3973680" cy="29797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6012000" y="404640"/>
            <a:ext cx="2116080" cy="2821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932360" y="260280"/>
            <a:ext cx="3673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ahoma"/>
              </a:rPr>
              <a:t>4. «Родная сторо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1341360"/>
            <a:ext cx="39592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накомство с достопримечательностями го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накомство с  улицами  и транспортом горо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Создание патриотического уголка -  мини-музея групп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Занятия, праздники, развле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2349360" cy="31654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987640" y="1052640"/>
            <a:ext cx="1424160" cy="19699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2916360" y="3645000"/>
            <a:ext cx="1836720" cy="2448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940360" y="4417920"/>
            <a:ext cx="2746440" cy="2060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7T17:40:52Z</dcterms:created>
  <dc:creator>Рахманов</dc:creator>
  <dc:description/>
  <dc:language>en-US</dc:language>
  <cp:lastModifiedBy>Рахманов</cp:lastModifiedBy>
  <dcterms:modified xsi:type="dcterms:W3CDTF">2017-10-09T12:35:42Z</dcterms:modified>
  <cp:revision>17</cp:revision>
  <dc:subject/>
  <dc:title>Муниципальное образовательное дошкольное учреждение №10 «ЗВОНОЧЕК»</dc:title>
</cp:coreProperties>
</file>