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312-5164-4C0C-8512-333970EF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E2A-FCEB-4443-A715-F1D2C58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11C-B21E-4B87-93F3-747FC6F2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14F-D46D-49B2-B628-01E57160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16C46-9C5C-4705-B282-F2E15BDB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F6995-8E32-4657-AF67-3BD58EB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DF0A-F62A-47DE-94C2-87310D6E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71066-2CD8-4282-BA54-99B778BA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0792C-1D42-47E1-A3F1-8BC726D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1EE2-D7CF-4145-960C-1B3DB6D7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3B7B-3768-48B0-8865-0EA885E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97F-F60D-4343-9A7D-01308B25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4D45F-9689-4508-858F-C16B10C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93EAA-D3E0-4D16-AB5E-450FE07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65143-AA6F-465D-8E28-CF39783E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9BC3-3F84-4F11-A368-09BE49A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0793D-FD44-473A-955D-1387A64A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BDC-019B-4701-8BCB-754CFBE7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B8E-B157-43EC-ACDE-F54598E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AE2-1DFB-45FD-9DF6-CCB6C6F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BF8-80EC-459E-9318-5632114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DFA-20BA-4299-A398-D975F01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AF9-E2AB-4C43-A8D6-705BBF2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3CD-576F-4FDB-BC41-4D9806A7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5BC-0DEF-4A0D-B6CE-DE04254D4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BE44-1499-44F3-B21F-B8EDDA269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Муниципальное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образовательное дошкольное учреждение №10 «ЗВОНОЧЕ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5129280"/>
            <a:ext cx="8785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Проект по нравственно-патриотическому воспита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«РАСТИМ МАЛЕНЬКИХ ПАТРИОТОВ»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Воспитатель: Джаримок М.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465440" cy="3349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003640" y="220788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Правильное воспитание – это наша счастливая стар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плохое воспитание – это наш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будущее горе, это наши слез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это наша вина перед другими людьми, перед всей стра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А.С. Макаренк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26028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5.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Встреча с ветеран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Экскурс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южетно-ролевые иг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оздание мини-музея «Уголок Славы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осещение праздников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«9 Мая», «Защитники Отечества»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58920" y="3532320"/>
            <a:ext cx="3529080" cy="260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744720" cy="2509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00720" y="3141720"/>
            <a:ext cx="2573280" cy="33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Вывод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Таким образом, можно сделать вывод, что работа проведенная с детьми была выбрана верно.  Дети стали узнавать и называть  профессии людей работающих в детском саду, профессии своих родителей,  легко вступать во взаимоотношения со сверстниками и сотрудниками ДОУ. Стали отражать  разные сюжеты из жизни семьи и детского сада в играх.  Безошибочно узнают все изученные памятники и достопримечательности города Майкопа, с удовольствием пополняют музей группы. В работе с родителями добилась того, что родители стали не пассивными наблюдателями, а активными участниками педагогическ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813120" cy="2859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956040" cy="2967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Проект по нравственно-патриотическому воспитанию «Растим маленьких патриот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5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Тип проекта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Информационно-познавате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Цель проекта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Формирование у детей представления о Малой Род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Участники проекта: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ети старшей группы МДОУ №10, родите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Сроки реализации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долгосрочный, сентябрь 2013г. - май 201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Этапы реализаци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одготовитель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Исследовательск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ключительны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51280" y="3789360"/>
            <a:ext cx="4627440" cy="29019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Этапы реализаци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197000"/>
            <a:ext cx="828036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 этап: Подготовительны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анализ проблемы и выявление более результативных методов и прием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определить уровень заинтересованности детей темой. Выяснить, какой опыт и знания имеют дети по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Мероприятия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беседа с детьми по тематическому блоку «Знакомство с малой Родиной» (сентябрь-октябрь 2013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I этап:  Исследовательски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внедрение наиболее эффективных методов рабо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сформировать у детей представление о малой Родине посредством запланирован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Формы, методы, средства: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занятия, экскурсии, наблюдения, праздник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беседы, создание мини-музея, чтение литературы, разучивание стихов и песен, сюжетно-ролевые игры (октябрь 2013г. – апрель 2014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II этап:  Заключ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обсуждение с детьми, что нового узнали, чему научились в процессе исследований - ожидаемые результа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Мероприятия: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беседа с детьми по тематическому блоку «Знакомство с малой Родиной» (апрель - май  2014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ahoma"/>
              </a:rPr>
              <a:t>Исследовательский этап: «Знакомство детей с Малой Родиной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905120" cy="3168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3024360" cy="22575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592360" cy="17002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2952720" cy="2214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804000" y="1197000"/>
            <a:ext cx="2093760" cy="348624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97528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Tahoma"/>
              </a:rPr>
              <a:t>Тематические блок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060640"/>
            <a:ext cx="360036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. «Мой дом – моя сем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06064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3. «Земля – наш общий д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573360"/>
            <a:ext cx="3673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4. «Родная сторо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573360"/>
            <a:ext cx="417672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2. «Золотые правила этик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084640"/>
            <a:ext cx="417672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.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48428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997360"/>
            <a:ext cx="144360" cy="502920"/>
          </a:xfrm>
          <a:prstGeom prst="downArrow">
            <a:avLst>
              <a:gd name="adj1" fmla="val 50000"/>
              <a:gd name="adj2" fmla="val 87095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4508640"/>
            <a:ext cx="144360" cy="502920"/>
          </a:xfrm>
          <a:prstGeom prst="downArrow">
            <a:avLst>
              <a:gd name="adj1" fmla="val 50000"/>
              <a:gd name="adj2" fmla="val 87095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484280"/>
            <a:ext cx="144720" cy="503280"/>
          </a:xfrm>
          <a:prstGeom prst="downArrow">
            <a:avLst>
              <a:gd name="adj1" fmla="val 50000"/>
              <a:gd name="adj2" fmla="val 86940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997360"/>
            <a:ext cx="144720" cy="502920"/>
          </a:xfrm>
          <a:prstGeom prst="downArrow">
            <a:avLst>
              <a:gd name="adj1" fmla="val 50000"/>
              <a:gd name="adj2" fmla="val 86878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404640"/>
            <a:ext cx="396072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1. «Мой дом – моя сем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оя сем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оё им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офессиями род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етский са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Герб групп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офессиями сотрудников детского са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2214720" cy="2952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771640" y="3573360"/>
            <a:ext cx="2198880" cy="293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110040" cy="2332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3095640" cy="2268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0" y="404640"/>
            <a:ext cx="424800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2. «Золотые правила этик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1341360"/>
            <a:ext cx="3959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ловарь вежливых с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авилами этик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Наши добрые поступ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Как мы помогаем маме, папе до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ы дежур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484280"/>
            <a:ext cx="1214640" cy="1873440"/>
          </a:xfrm>
          <a:prstGeom prst="cube">
            <a:avLst>
              <a:gd name="adj" fmla="val 4703"/>
            </a:avLst>
          </a:prstGeom>
          <a:solidFill>
            <a:srgbClr val="00cc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ВЕЖЛИВ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С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2492280" cy="3322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47640" y="4221000"/>
            <a:ext cx="3168720" cy="2376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3324240" cy="2494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26028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3. «Земля – наш общий д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Труд в приро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Экскурсии по детскому сад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нятия на экологическую тем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Наблюдения и отдых на приро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Юные защитники прир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888000" cy="2706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32360" cy="3025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973680" cy="2979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116080" cy="2821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32360" y="260280"/>
            <a:ext cx="3673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4. «Родная сторо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341360"/>
            <a:ext cx="3959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достопримечательностями го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 улицами  и транспортом го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оздание патриотического уголка -  мини-музея груп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нятия, праздники, развл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2349360" cy="31654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1424160" cy="1969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16360" y="3645000"/>
            <a:ext cx="1836720" cy="244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40360" y="4417920"/>
            <a:ext cx="2746440" cy="2060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40:52Z</dcterms:created>
  <dc:creator>Рахманов</dc:creator>
  <dc:description/>
  <dc:language>en-US</dc:language>
  <cp:lastModifiedBy>Рахманов</cp:lastModifiedBy>
  <dcterms:modified xsi:type="dcterms:W3CDTF">2017-10-09T12:35:42Z</dcterms:modified>
  <cp:revision>17</cp:revision>
  <dc:subject/>
  <dc:title>Муниципальное образовательное дошкольное учреждение №10 «ЗВОНОЧЕК»</dc:title>
</cp:coreProperties>
</file>