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63E2-2059-4886-A474-36B11574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C364-E724-41DA-8834-D0DDF1BE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7CEC-C118-4CF5-BC27-5118D7E0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748E-6FA7-4FCE-916B-CCFE2A3C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9822-40E0-4F72-8B96-5D005EBD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165E-95BB-47AC-947C-A215E4A6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A7FB-1345-4B7D-9367-E276325B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9D08-D692-48CB-BC4D-D7F09E64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0074-AD8C-45DA-AC28-F594CC31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BA6F-20BB-4836-9310-0CEC17CA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9873-7198-45EB-A68C-BB5E787A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D477-A94B-4F94-9D20-3E998CE7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D2FD-DB17-41B1-AEBA-44D1B903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1F41-0A0B-4216-B68A-54A7AF31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6B7F-F556-4526-A1D0-E93B7501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D297-5209-4A48-BA43-AD1854319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F963-0A8F-4A70-A84A-B337E7F2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D3B3-0290-4444-A817-8A01641A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6B55-569E-4939-8E4B-8591BB81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6437-B089-4DD1-B145-6E5FAD77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740E-206B-4966-A78C-AECDC1BE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3B7B-7EF6-4A83-B9D2-9FDED64D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64A5-0F50-4F66-9B36-915C473A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CDCB-4F4B-44B3-99EF-A806F3E9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513D-A889-45FB-93DC-0BA42272C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01F3-B4AB-49DF-9EC5-7137A2B3C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2707920"/>
            <a:ext cx="50403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Творческий проект: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«Шарфик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40464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разовательное учреждение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ополнительного образования детей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Дом детского творчества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айгинского городского окру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4221000"/>
            <a:ext cx="2771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авленко Анн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тское объедин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«Волшебные петельк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уководитель проект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лексеева Н. 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Этапы выпол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41120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Изготовить четыре полос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 вязальной вилке одинаковой дли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94880" y="1482840"/>
            <a:ext cx="31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Соединить по схем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лос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116000" y="2708280"/>
            <a:ext cx="3141720" cy="3457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859280" y="3141720"/>
            <a:ext cx="3816360" cy="29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03800" y="33192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Соединить пет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краю шарфи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94880" y="2563920"/>
            <a:ext cx="30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Оформить шарф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ахромой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806640" cy="2670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356000" y="3789360"/>
            <a:ext cx="4535640" cy="28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Ажурный шарф готов!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800" y="110160"/>
            <a:ext cx="215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.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2500200" y="714240"/>
            <a:ext cx="3857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6913800" cy="44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24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Контроль качества изделия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1624320"/>
            <a:ext cx="7632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Шарфик получился недорогим по стоим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Соответствует нормам качества готового издел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Шарфик получился красивым, ажурным, оригинальны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зделие получилось очень нежным, воздушны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Оно прочное, выглядит аккуратно, красиво и оригинальн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5"/>
          <p:cNvSpPr/>
          <p:nvPr/>
        </p:nvSpPr>
        <p:spPr>
          <a:xfrm>
            <a:off x="1571760" y="35719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3643200" y="3000240"/>
            <a:ext cx="1857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3929040" y="321480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6640" y="395640"/>
            <a:ext cx="353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Самооце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1480680"/>
            <a:ext cx="78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время выполнения этой работы я научилась хорошо вязать на вилке. Мне хочется попробовать вязать в другой технике вязания. Ведь умение делать что-либо своими руками - это здорово! Ты  можешь доставить радость родным и близким. На мой взгляд, я полностью выполнила поставленные передо мной  зада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619280" y="1700640"/>
            <a:ext cx="590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Спасибо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за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внимание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6"/>
          <p:cNvSpPr/>
          <p:nvPr/>
        </p:nvSpPr>
        <p:spPr>
          <a:xfrm>
            <a:off x="250920" y="549360"/>
            <a:ext cx="7850160" cy="284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00ff"/>
              </a:gs>
              <a:gs pos="50000">
                <a:srgbClr val="ffcdff"/>
              </a:gs>
              <a:gs pos="100000">
                <a:srgbClr val="ff00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Цель проект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готовление   одежды  для    себ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бственными   рук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1476360" y="3645000"/>
            <a:ext cx="7451640" cy="2592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cc33"/>
              </a:gs>
              <a:gs pos="50000">
                <a:srgbClr val="dff7df"/>
              </a:gs>
              <a:gs pos="100000">
                <a:srgbClr val="33cc3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Совершенствовать технику вязания на вилк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Научиться соединять полоски, связанные на вилке различными способ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Выбор и обоснование проек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184464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укоделие при помощи спиц располагает множеством красивых ажурных узоров и узоров из ко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язание крючком, притягивает тем, что создавать вещи намного быстре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ллекция узоров намного больше, да и готовые изделия выходят более прочны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Филейное вяз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00000" y="1125000"/>
            <a:ext cx="7034400" cy="10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ередование пустых и заполненных клеток на сет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47640" y="2133720"/>
            <a:ext cx="5832720" cy="43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Тунисское вяз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Подзаголовок 2"/>
          <p:cNvSpPr/>
          <p:nvPr/>
        </p:nvSpPr>
        <p:spPr>
          <a:xfrm>
            <a:off x="900000" y="1125360"/>
            <a:ext cx="7034400" cy="10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95220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ебует использов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пециального длинного крюч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Тунисское вязание с бисером от Натальи Шютц maxdeti.ru"/>
          <p:cNvPicPr/>
          <p:nvPr/>
        </p:nvPicPr>
        <p:blipFill>
          <a:blip r:embed="rId2"/>
          <a:stretch/>
        </p:blipFill>
        <p:spPr>
          <a:xfrm>
            <a:off x="900000" y="2276640"/>
            <a:ext cx="7561440" cy="33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Вязание на вил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Вязание на вилке палантина - узоры и мотивы крючком &quot; Вязание крючком - схемы, видео, уроки"/>
          <p:cNvPicPr/>
          <p:nvPr/>
        </p:nvPicPr>
        <p:blipFill>
          <a:blip r:embed="rId2"/>
          <a:srcRect l="0" t="0" r="-3245" b="32779"/>
          <a:stretch/>
        </p:blipFill>
        <p:spPr>
          <a:xfrm>
            <a:off x="2124000" y="1916280"/>
            <a:ext cx="5256360" cy="4340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76360" y="126828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ребует использования специальной вил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Звездочка обдумы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284640"/>
            <a:ext cx="218448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СХЕМА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СОЕДИНЕНИЯ </a:t>
            </a:r>
            <a:br>
              <a:rPr sz="1100"/>
            </a:br>
            <a:r>
              <a:rPr b="0" lang="en-US" sz="11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ОЛОСО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1773360"/>
            <a:ext cx="158292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РЯЖ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56360" y="3284640"/>
            <a:ext cx="20876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ОДЕЖ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ДЛЯ       СЕБ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35280" y="3357720"/>
            <a:ext cx="182880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ШАРФИ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29040" y="3508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276720" y="4149720"/>
            <a:ext cx="91440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3716280"/>
            <a:ext cx="74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435280" y="3716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32360" y="4149720"/>
            <a:ext cx="8636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5084640"/>
            <a:ext cx="2184480" cy="93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НОЖ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КРЮЧ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ВЯЗАЛЬНАЯ ВИЛ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5157720"/>
            <a:ext cx="215424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ТЕХНИКА БЕЗОПАС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00720" y="2421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176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3120" y="19134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2984400"/>
            <a:ext cx="64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Варианты  издел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92489168.blog" descr="шапка и шарф на вилке. / шапка на вилке"/>
          <p:cNvPicPr/>
          <p:nvPr/>
        </p:nvPicPr>
        <p:blipFill>
          <a:blip r:embed="rId2"/>
          <a:srcRect l="9738" t="2205" r="5528" b="12260"/>
          <a:stretch/>
        </p:blipFill>
        <p:spPr>
          <a:xfrm>
            <a:off x="5651640" y="2492280"/>
            <a:ext cx="2760480" cy="2089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39640" y="1411920"/>
            <a:ext cx="326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647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ервоначальная идея №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36720" y="1988280"/>
            <a:ext cx="3193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647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ервоначальная идея №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20360" y="3933000"/>
            <a:ext cx="3193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647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ервоначальная идея №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011-copy-260x300" descr=""/>
          <p:cNvPicPr/>
          <p:nvPr/>
        </p:nvPicPr>
        <p:blipFill>
          <a:blip r:embed="rId3"/>
          <a:srcRect l="1715" t="17788" r="0" b="0"/>
          <a:stretch/>
        </p:blipFill>
        <p:spPr>
          <a:xfrm>
            <a:off x="971640" y="1916280"/>
            <a:ext cx="2232000" cy="1914480"/>
          </a:xfrm>
          <a:prstGeom prst="rect">
            <a:avLst/>
          </a:prstGeom>
          <a:ln w="0">
            <a:noFill/>
          </a:ln>
        </p:spPr>
      </p:pic>
      <p:pic>
        <p:nvPicPr>
          <p:cNvPr id="121" name="sharf_2-278x300" descr=""/>
          <p:cNvPicPr/>
          <p:nvPr/>
        </p:nvPicPr>
        <p:blipFill>
          <a:blip r:embed="rId4"/>
          <a:srcRect l="0" t="0" r="-2529" b="10557"/>
          <a:stretch/>
        </p:blipFill>
        <p:spPr>
          <a:xfrm>
            <a:off x="2124000" y="4437000"/>
            <a:ext cx="225756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9"/>
          <p:cNvSpPr/>
          <p:nvPr/>
        </p:nvSpPr>
        <p:spPr>
          <a:xfrm>
            <a:off x="1979640" y="18900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Правила   безопас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98100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Во время работы ножницы должны лежать справа на столе с сомкнутыми   лезвиями.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С крючком обращаться аккурат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Крючок и вязальную вилку хранить в специальной коробоч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350028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еред началом работы необходимо вымыть руки.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сточник света должен находиться слева.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Каждые 1 – 1,5 ч глазам необходим отдых для восстановления функций глаз.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Для сохранения здоровья во время работы полезно делать разминку для рук, глаз и спины.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Нельзя перекусывать нить зубами, от этого портится эмаль зубов, кроме того, можно поранить губы, десны и язы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3280" y="2924280"/>
            <a:ext cx="793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Санитарно – гигиенические треб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2:38:51Z</dcterms:created>
  <dc:creator>Korvina</dc:creator>
  <dc:description/>
  <dc:language>en-US</dc:language>
  <cp:lastModifiedBy>Пользователь Windows</cp:lastModifiedBy>
  <dcterms:modified xsi:type="dcterms:W3CDTF">2017-10-09T15:32:40Z</dcterms:modified>
  <cp:revision>134</cp:revision>
  <dc:subject/>
  <dc:title>ДОРОЖНЫЕ ЗНАКИ</dc:title>
</cp:coreProperties>
</file>