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49A-20E4-4DD7-BB45-54805C79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139B-8541-434B-B4CC-C55D5EC9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CA8D-D6CE-4CE3-AAE2-777D1F9EE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A70D-ADF1-44A3-A10E-55EB433BF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B5C5-FF06-40BF-92D1-CE749B72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2CC5-461F-4BBF-BCE3-28E82A70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04890-7C74-47E3-A6C5-5BF9724B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21B8-2760-4E1B-B0CC-89190321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BF38-D232-4058-8E8E-B3B8E300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D213-8BAA-4302-B5A8-5A1743E7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9E07-40C3-4034-B899-98E46020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D27E-4C0C-4579-AD9C-A52E7E95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A711-A007-4DCD-84F0-AE8B9012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2CE3-15B6-433C-AD6D-886170BF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1D26-6788-412D-94D0-599B4C26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0EF4-9E1B-48D6-93E4-6E2249BC8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F57B-FDE8-4140-810A-198F1549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E22C-A906-4E28-BB7C-117BA745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8D9-2DE2-4E9F-B678-91B5D0BF4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97E3-C867-4AFC-BE5C-21785F6D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CB8-C7EE-47AF-9A7F-DA65235E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4FC-A2EC-452A-9D8B-DA2A5A9E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D43-93ED-4C81-BF45-25C92491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4A10-1C8C-48ED-94D2-80084F98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D56F-64C9-4978-8C1A-BB7074465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8660-4D20-459D-9FFD-11CFF7F82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0560" y="2707920"/>
            <a:ext cx="5040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Творческий проект:</a:t>
            </a:r>
            <a:br>
              <a:rPr sz="4000"/>
            </a:b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imes New Roman"/>
              </a:rPr>
              <a:t>«Шарфик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40464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Муниципальное бюджетное образовательное учреждение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полнительного образования детей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«Дом детского творчества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Тайгинского городского окру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4221000"/>
            <a:ext cx="2771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ыполнил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авленко Анна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етское объедин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Волшебные петельк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лексеева Н. Л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Этапы выпол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4112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Изготовить четыре полоск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язальной вилке одинаковой длин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94880" y="1482840"/>
            <a:ext cx="31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Соединить по схем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лос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116000" y="2708280"/>
            <a:ext cx="3141720" cy="3457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859280" y="3141720"/>
            <a:ext cx="381636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703800" y="331920"/>
            <a:ext cx="27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Соединить пет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 краю шарфи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94880" y="2563920"/>
            <a:ext cx="30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Оформить шарф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ахромой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06640" cy="2670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356000" y="3789360"/>
            <a:ext cx="4535640" cy="283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Ажурный шарф готов!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0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6913800" cy="44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24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Контроль качества издел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1624320"/>
            <a:ext cx="763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Шарфик получился недорогим по стоим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оответствует нормам качества готового издел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Шарфик получился красивым, ажурным, оригиналь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зделие получилось очень нежным, воздушн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Оно прочное, выглядит аккуратно, красиво и оригинальн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6640" y="395640"/>
            <a:ext cx="353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Самооцен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480680"/>
            <a:ext cx="78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 время выполнения этой работы я научилась хорошо вязать на вилке. Мне хочется попробовать вязать в другой технике вязания. Ведь умение делать что-либо своими руками - это здорово! Ты  можешь доставить радость родным и близким. На мой взгляд, я полностью выполнила поставленные передо мной  задач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619280" y="1700640"/>
            <a:ext cx="590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Спасибо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за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внимание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6"/>
          <p:cNvSpPr/>
          <p:nvPr/>
        </p:nvSpPr>
        <p:spPr>
          <a:xfrm>
            <a:off x="250920" y="549360"/>
            <a:ext cx="7850160" cy="28432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00ff"/>
              </a:gs>
              <a:gs pos="50000">
                <a:srgbClr val="ffcdff"/>
              </a:gs>
              <a:gs pos="100000">
                <a:srgbClr val="ff00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Цель проект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готовление   одежды  для    себ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бственными   рук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1476360" y="3645000"/>
            <a:ext cx="7451640" cy="259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cc33"/>
              </a:gs>
              <a:gs pos="50000">
                <a:srgbClr val="dff7df"/>
              </a:gs>
              <a:gs pos="100000">
                <a:srgbClr val="33cc33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Совершенствовать технику вязания на вилке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Научиться соединять полоски, связанные на вилке различными способа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Выбор и обоснование проек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844640"/>
            <a:ext cx="7777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укоделие при помощи спиц располагает множеством красивых ажурных узоров и узоров из ко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язание крючком, притягивает тем, что создавать вещи намного быстре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ллекция узоров намного больше, да и готовые изделия выходят более проч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Филейное вяз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00000" y="1125000"/>
            <a:ext cx="7034400" cy="10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чередование пустых и заполненных клеток на сет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547640" y="2133720"/>
            <a:ext cx="583272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Тунисское вяз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Подзаголовок 2"/>
          <p:cNvSpPr/>
          <p:nvPr/>
        </p:nvSpPr>
        <p:spPr>
          <a:xfrm>
            <a:off x="900000" y="1125360"/>
            <a:ext cx="703440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95220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ует использ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пециального длинного крюч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Тунисское вязание с бисером от Натальи Шютц maxdeti.ru"/>
          <p:cNvPicPr/>
          <p:nvPr/>
        </p:nvPicPr>
        <p:blipFill>
          <a:blip r:embed="rId2"/>
          <a:stretch/>
        </p:blipFill>
        <p:spPr>
          <a:xfrm>
            <a:off x="900000" y="2276640"/>
            <a:ext cx="7561440" cy="33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Вязание на вил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Вязание на вилке палантина - узоры и мотивы крючком &quot; Вязание крючком - схемы, видео, уроки"/>
          <p:cNvPicPr/>
          <p:nvPr/>
        </p:nvPicPr>
        <p:blipFill>
          <a:blip r:embed="rId2"/>
          <a:srcRect l="0" t="0" r="-3245" b="32779"/>
          <a:stretch/>
        </p:blipFill>
        <p:spPr>
          <a:xfrm>
            <a:off x="2124000" y="1916280"/>
            <a:ext cx="5256360" cy="4340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6360" y="126828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ребует использования специальной вил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Звездочка обдумы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284640"/>
            <a:ext cx="21844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ХЕМ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СОЕДИНЕНИЯ </a:t>
            </a:r>
            <a:br>
              <a:rPr sz="1100"/>
            </a:br>
            <a:r>
              <a:rPr b="0" lang="en-US" sz="11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ОЛОСОК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08360" y="1773360"/>
            <a:ext cx="1582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Я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6360" y="3284640"/>
            <a:ext cx="20876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ОДЕЖ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ДЛЯ       СЕБ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35280" y="3357720"/>
            <a:ext cx="1828800" cy="799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ШАРФИ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29040" y="3508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276720" y="4149720"/>
            <a:ext cx="91440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3716280"/>
            <a:ext cx="74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435280" y="3716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149720"/>
            <a:ext cx="863640" cy="9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5084640"/>
            <a:ext cx="2184480" cy="935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НОЖ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КРЮЧ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ВЯЗАЛЬНАЯ ВИЛ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5157720"/>
            <a:ext cx="2154240" cy="863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ТЕХНИКА БЕЗОПАС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00720" y="2421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176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3120" y="19134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984400"/>
            <a:ext cx="64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Варианты  издел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92489168.blog" descr="шапка и шарф на вилке. / шапка на вилке"/>
          <p:cNvPicPr/>
          <p:nvPr/>
        </p:nvPicPr>
        <p:blipFill>
          <a:blip r:embed="rId2"/>
          <a:srcRect l="9738" t="2205" r="5528" b="12260"/>
          <a:stretch/>
        </p:blipFill>
        <p:spPr>
          <a:xfrm>
            <a:off x="5651640" y="2492280"/>
            <a:ext cx="2760480" cy="2089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39640" y="1411920"/>
            <a:ext cx="3265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ервоначальная идея №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36720" y="1988280"/>
            <a:ext cx="319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ервоначальная идея №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20360" y="3933000"/>
            <a:ext cx="3193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47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ервоначальная идея №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011-copy-260x300" descr=""/>
          <p:cNvPicPr/>
          <p:nvPr/>
        </p:nvPicPr>
        <p:blipFill>
          <a:blip r:embed="rId3"/>
          <a:srcRect l="1715" t="17788" r="0" b="0"/>
          <a:stretch/>
        </p:blipFill>
        <p:spPr>
          <a:xfrm>
            <a:off x="971640" y="1916280"/>
            <a:ext cx="2232000" cy="1914480"/>
          </a:xfrm>
          <a:prstGeom prst="rect">
            <a:avLst/>
          </a:prstGeom>
          <a:ln w="0">
            <a:noFill/>
          </a:ln>
        </p:spPr>
      </p:pic>
      <p:pic>
        <p:nvPicPr>
          <p:cNvPr id="121" name="sharf_2-278x300" descr=""/>
          <p:cNvPicPr/>
          <p:nvPr/>
        </p:nvPicPr>
        <p:blipFill>
          <a:blip r:embed="rId4"/>
          <a:srcRect l="0" t="0" r="-2529" b="10557"/>
          <a:stretch/>
        </p:blipFill>
        <p:spPr>
          <a:xfrm>
            <a:off x="2124000" y="4437000"/>
            <a:ext cx="225756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9"/>
          <p:cNvSpPr/>
          <p:nvPr/>
        </p:nvSpPr>
        <p:spPr>
          <a:xfrm>
            <a:off x="1979640" y="18900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Правила   безопас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9810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Во время работы ножницы должны лежать справа на столе с сомкнутыми   лезвиями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 крючком обращаться аккуратн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рючок и вязальную вилку хранить в специальной коробочк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3500280"/>
            <a:ext cx="828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еред началом работы необходимо вымыть руки.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Источник света должен находиться слева.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Каждые 1 – 1,5 ч глазам необходим отдых для восстановления функций глаз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ля сохранения здоровья во время работы полезно делать разминку для рук, глаз и спины.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Нельзя перекусывать нить зубами, от этого портится эмаль зубов, кроме того, можно поранить губы, десны и язык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3280" y="2924280"/>
            <a:ext cx="793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Санитарно – гигиенические треб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Пользователь Windows</cp:lastModifiedBy>
  <dcterms:modified xsi:type="dcterms:W3CDTF">2017-10-09T15:32:40Z</dcterms:modified>
  <cp:revision>134</cp:revision>
  <dc:subject/>
  <dc:title>ДОРОЖНЫЕ ЗНАКИ</dc:title>
</cp:coreProperties>
</file>