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C671-81CC-43BC-A722-47EF22FAE8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DE94-2341-4D0F-BB32-DDC2522247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570B-52F4-4C87-BB44-E5DD278E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A6A6-CB6C-4713-B977-BE05CDE7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64F5C-16C0-48CB-9405-ADE18E30A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BF46D-CEA0-4DC4-BF97-B77CBF353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2C4F-201D-45F3-B61B-35402047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4BCC-5E04-41F7-AAA4-74B9DF4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95D3-96CA-42AC-91B5-C99EA2E7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DB65-5D08-4680-9E8C-CB7F21ACC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4A3F-C0C5-4C44-AE98-82D10ABF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3880-44DA-40A9-96BB-03E8A3A8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ADE-4D61-4B85-84E2-11AE47C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AAC0C-8905-41E8-98E4-4FE8857C0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75B2-9113-4003-9F45-626E143B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2C7-27D5-4335-AE41-44C68CD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1709-082B-4839-A60D-BCC7C160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2268-3B43-48D0-AC69-C38A5222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9A53-1645-49A9-9872-BEF755B3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045C2-FCAB-4516-A2CA-E530F916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E7B77-C1A5-4517-8EAF-6C66DA8D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AA1C-8E79-4288-8B7A-4658C4D9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21C16-88B1-4040-83A7-8467D05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9B5D-5626-42A5-BADA-862F263A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C197-EBFE-4ED9-A635-5022E149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D4E4-9AF3-4EF3-93BA-A7E64663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62A1-D6A1-4AF9-9460-8B7DF6F3A4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F871-2AE1-4A2B-AE45-75663F3D3BE9}" type="slidenum">
              <a:rPr b="0" lang="ru-RU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214200"/>
            <a:ext cx="7772400" cy="365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60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сихогимнастика</a:t>
            </a:r>
            <a:br>
              <a:rPr sz="3300"/>
            </a:br>
            <a:r>
              <a:rPr b="1" lang="ru-RU" sz="33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</a:t>
            </a:r>
            <a:r>
              <a:rPr b="1" lang="ru-RU" sz="2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а занятиях физическими упражнения </a:t>
            </a:r>
            <a:br>
              <a:rPr sz="2900"/>
            </a:br>
            <a:r>
              <a:rPr b="1" lang="ru-RU" sz="2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 детьми дошкольного возраста</a:t>
            </a:r>
            <a:r>
              <a:rPr b="0" lang="ru-RU" sz="46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785840" y="4642920"/>
            <a:ext cx="374508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 воспитатель Корнилова Е.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ниципальное бюджетное дошкольное образовательное учреждение детский сад общеразвивающего вида с приоритетным осуществлением деятельности по направлению физического развития воспитанников № 27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торая младшая групп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Различие частей лица и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Имитация эмоциональных состояний(радость, грусть, удивление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Развитие правильного понимания детьми эмоционально – выразительных движений рук и адекватного использования жеста(«иди ко мне», «уходи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бучение выразительным движениям через образную игру(котенок выгибает спинку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редня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8760" y="1928520"/>
            <a:ext cx="8286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Закрепление знаний о частях лица, те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Имитация эмоциональных состояний (радость,чувство вины, удивление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Обучение свободному владению жест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Обучение детей выразительным движениям через образную игр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Обучение приемам саморасслаб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Работа с беспредметност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арша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00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Проживание эмоциональных состояний (страх, гнев,радость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Развитие умения адекватно пользоваться жес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Развитие лицевой моторики (надувать щеки, нахмуривать лоб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Развитие умения детей произвольно принимать условленную позу( пантомима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Развитие умения определять то. Что чувствует другой человек по его внешнему вид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Обучение выразительным движениям через образную игру и работа с беспредметност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дготовительная групп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68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Тренировка лицевой мускулату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Развитие умения называть свои чувства (нравственное чувство и отдельных черт характера и поведения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Развитие способности говорить об эмоциях и осознании и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зыка, музыкотерап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0" y="1500120"/>
            <a:ext cx="439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омощью музыки, музыкального ритма можн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установить равновес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и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нервной системы ребенка, умерить   возбужденные темпераменты и растормозить заторможенных дет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помощью музыкальных игр возможно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нятие психоэмоционального напряжения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274920" y="5645160"/>
            <a:ext cx="18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. М. Бехтер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7160" y="1643040"/>
            <a:ext cx="7570800" cy="21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, умеющие управлять эмоциями,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быстрее находят разрешение конфликтов и адекватно действуют в ситуациях эмоционального напряжения,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уникабельны и общительны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20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асибо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за внимание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571840" y="2500200"/>
            <a:ext cx="414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7142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ь – сохранение, укрепление психического здоровья и предупреждение эмоциональных расстройств у  де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4608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протяжении истории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человеку жизненно необходимы были навыки безупречного владения своим телом, психикой, энергети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 наше время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человек утрачивает контакт со своим душевным состоянием, возможность их понимать и управлять ими. Это имеет ряд тяжелых последствий для физического и психического здоровь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д влиянием физических упражнений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повышается устойчивость к заболеваниям, воздействию стрессовых ситуаций, укрепляется соматическое и психическое здоров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C:\Users\Korn\Desktop\medium_20100119095846288480.jpg"/>
          <p:cNvPicPr/>
          <p:nvPr/>
        </p:nvPicPr>
        <p:blipFill>
          <a:blip r:embed="rId1"/>
          <a:stretch/>
        </p:blipFill>
        <p:spPr>
          <a:xfrm>
            <a:off x="4929120" y="3286080"/>
            <a:ext cx="3834000" cy="298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648320" y="1981080"/>
            <a:ext cx="403848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ая гимнастика  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 из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ств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физического воспитания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кольника, основанная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звитии умения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влять своими эмоциями, воображением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48320" y="4000320"/>
            <a:ext cx="4038480" cy="186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занятиях психогимнастикой обучаются азбуке выражения эмоций – выразительным движениям</a:t>
            </a:r>
            <a:r>
              <a:rPr b="0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4067280" y="3284640"/>
            <a:ext cx="4562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395280" y="549360"/>
            <a:ext cx="842472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Психогимнастика» 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это 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бор  специальных упражнений: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игательных, вербальных и невербальных это </a:t>
            </a: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рс занятий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этюдов, упражнений, игр), направленных на развитие и коррекцию различных сторон психики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бенка: как ее познавательной, так и эмоционально-личностной сферы.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0117080" y="47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C:\Users\Korn\Desktop\978-5-431p4_enl.jpg"/>
          <p:cNvPicPr/>
          <p:nvPr/>
        </p:nvPicPr>
        <p:blipFill>
          <a:blip r:embed="rId1"/>
          <a:stretch/>
        </p:blipFill>
        <p:spPr>
          <a:xfrm>
            <a:off x="457200" y="244800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сихогимнастики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пособство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рекции страхов, агресс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ые реакции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 способы их выражения;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тивации на общение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тельные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цессы, формиро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сорные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эталон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атив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оображение, способность к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творчеству;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Учить детей владе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физической релаксацией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снимать двигательную, интеллектуальную и эмоциональную напряжен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Учить поддерживать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ственную и физическую работоспособность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Повышать физическую подготовленность и развитие физических качест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Способствовать осуществлению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я за физической нагрузк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Развивать у детей интерес к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ым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анятиям физкультуро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Воспитать у учащихся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режное отношение к своему здоровью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362800" cy="23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І фаза. Мимические и пантомимические этюды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ыразительное изображение отдельных эмоциональных состояний, связанных с переживанием телесного и психического довольства и недовольства. Модели выражения основных эмоций (радость, удивление, гнев, интерес, отвращение, презрение, страх и др.) и некоторых эмоционально окрашенных чувств (гордость, застенчивость, уверенность и др.). Дети знакомятся с элементами выразительных движений: мимикой, жестом, позой, поход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3573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ІІ фаза. Этюды и игры на выражение отдельных качеств характера и эмоц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00040" y="1999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разительное изображение черт, порождаемых социальной средой (жадность, доброта, честность и т.п.), их моральная оценка. Модели поведения персонажей с теми или иными чертами характера. Закрепление и расширение уже полученных ранее сведений, относящихся к их социальной компетентности. Гармонизация личности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изображении эмоций внимание детей привлекается ко всем компонентам выразительных движений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за носит психопрофилактический харак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ІІІ фаза. Этюды и игры, имеющие психотерапевтическую направленность на определенного ребенка или группу в цел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пользуются мимические и пантомимические способности детей для предельно естественного воплощения в заданный обр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рекция настроения и отдельных черт характера ребенка, тренинг моделирования стандартных ситуац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IV фаза. Психомышечная трениров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психоэмоционального напряжения, внушение желательного настроения, поведения, черт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ыразительные техник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лна( образы: рыбка,водоросл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пид(замедленные движ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бот(кукла, балерин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ин(ударна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4286160" y="192888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0:55:08Z</dcterms:created>
  <dc:creator>Ол</dc:creator>
  <dc:description/>
  <dc:language>en-US</dc:language>
  <cp:lastModifiedBy>Корнилов</cp:lastModifiedBy>
  <dcterms:modified xsi:type="dcterms:W3CDTF">2017-10-09T12:08:47Z</dcterms:modified>
  <cp:revision>62</cp:revision>
  <dc:subject/>
  <dc:title>Из опыта применения  психогимнастики  на занятиях физическими упражнения  с детьми дошкольного возраста.</dc:title>
</cp:coreProperties>
</file>