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ED4-B4D7-4C16-9CBA-079F169A6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169-609F-4427-9DEC-08D768F161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0DBA-82BA-4557-9B30-032C7E44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7C03-1377-409E-B885-D7C7670D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9CC5-94C8-4F2E-B4BC-05ED5B25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481D-8F65-445E-AD1A-11DA04CC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E02-D6B5-49BE-85B9-A7ED0504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99EB-B2CA-4298-A927-B5285CA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F8F1-81BE-4316-A805-A423B10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7F69-89A6-44ED-BA39-EA29165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9C1-0C50-422B-B4CC-D5456138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195-E66F-4818-AD25-3A1ADCA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75B7-6D58-4615-A3E5-068AEBB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301F-2277-477D-A860-CA3C918E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0F8-8AFF-4674-BB74-760B8AC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373-01D9-4FFF-95F8-73C4D7A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984-BC42-467C-83BF-26C0B06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E2C-3071-49CF-9ACE-F9F0F69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445-B600-4649-80D9-C54A3B1D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531F-C449-45B9-AF4C-338690F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D7A6-0AA9-4B4E-A000-1782F6A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CB4F-059A-48E8-93D1-9FF65299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1622-0819-4920-B53B-C6F6A17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7ADD-48DB-4DAC-9EB7-BAE94F56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CC0C-B15B-40E4-8F30-C2ADE84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8383-5890-4490-AAAE-405A0C7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5E19-9320-4AD1-94CF-DB00485337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9A3-5C58-4664-9DAE-BEA378591C2B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36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сихогимнастика</a:t>
            </a:r>
            <a:br>
              <a:rPr sz="3300"/>
            </a:br>
            <a:r>
              <a:rPr b="1" lang="ru-RU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 занятиях физическими упражнения </a:t>
            </a:r>
            <a:br>
              <a:rPr sz="2900"/>
            </a:br>
            <a:r>
              <a:rPr b="1" lang="ru-RU" sz="2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 детьми дошкольного возраста</a:t>
            </a:r>
            <a:r>
              <a:rPr b="0" lang="ru-RU" sz="4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785840" y="4642920"/>
            <a:ext cx="374508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воспитатель Корнилова Е.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направлению физического развития воспитанников № 27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младшая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азличие частей лица 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митация эмоциональных состояний(радость, грусть, удивле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звитие правильного понимания детьми эмоционально – выразительных движений рук и адекватного использования жеста(«иди ко мне», «уходи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бучение выразительным движениям через образную игру(котенок выгибает спинк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едня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Закрепление знаний о частях лица,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Имитация эмоциональных состояний (радость,чувство вины, удивле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Обучение свободному владению жес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бучение детей выразительным движениям через образную иг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бучение приемам саморасслаб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Работа с беспредмет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ша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Проживание эмоциональных состояний (страх, гнев,радость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Развитие умения адекватно пользоваться жес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Развитие лицевой моторики (надувать щеки, нахмуривать ло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Развитие умения детей произвольно принимать условленную позу( пантомим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Развитие умения определять то. Что чувствует другой человек по его внешнему в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Обучение выразительным движениям через образную игру и работа с беспредмет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Тренировка лицевой мускул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азвитие умения называть свои чувства (нравственное чувство и отдельных черт характера и повед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Развитие способности говорить об эмоциях и осознании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зыка, музыкотерап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0" y="1500120"/>
            <a:ext cx="439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омощью музыки, музыкального ритма можн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становить равновес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и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нервной системы ребенка, умерить   возбужденные темпераменты и растормозить заторможенных де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омощью музыкальных игр возможн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нятие психоэмоционального напряже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274920" y="56451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. М. Бехтер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7160" y="1643040"/>
            <a:ext cx="7570800" cy="21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, умеющие управлять эмоциями,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стрее находят разрешение конфликтов и адекватно действуют в ситуациях эмоционального напряжения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никабельны и общительны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414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4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– сохранение, укрепление психического здоровья и предупреждение эмоциональных расстройств у 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60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протяжении истори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ловеку жизненно необходимы были навыки безупречного владения своим телом, психикой, энерге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наше врем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человек утрачивает контакт со своим душевным состоянием, возможность их понимать и управлять ими. Это имеет ряд тяжелых последствий для физического и психического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д влиянием физических упражнений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повышается устойчивость к заболеваниям, воздействию стрессовых ситуаций, укрепляется соматическое и психическое здоров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:\Users\Korn\Desktop\medium_20100119095846288480.jpg"/>
          <p:cNvPicPr/>
          <p:nvPr/>
        </p:nvPicPr>
        <p:blipFill>
          <a:blip r:embed="rId1"/>
          <a:stretch/>
        </p:blipFill>
        <p:spPr>
          <a:xfrm>
            <a:off x="4929120" y="3286080"/>
            <a:ext cx="383400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4832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ая гимнастика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из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изического воспитани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кольника, основанная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звитии умени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ять своими эмоциями, воображение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4000320"/>
            <a:ext cx="403848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анятиях психогимнастикой обучаются азбуке выражения эмоций – выразительным движениям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067280" y="3284640"/>
            <a:ext cx="456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5280" y="549360"/>
            <a:ext cx="84247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сихогимнастика»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это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ор  специальных упражнений: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гательных, вербальных и невербальных эт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заняти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этюдов, упражнений, игр), направленных на развитие и коррекцию различных сторон психик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ка: как ее познавательной, так и эмоционально-личностной сферы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0117080" y="47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C:\Users\Korn\Desktop\978-5-431p4_enl.jpg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сихогимнастики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пособство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и страхов, агресс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ые реакции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 способы их выражения;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и на общение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ы, формиро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сорные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алон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атив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оображение, способность к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творчеству;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Учить детей владе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физической релаксацией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нимать двигательную, интеллектуальную и эмоциональную напряж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Учить поддерж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ственную и физическую работоспособ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овышать физическую подготовленность и развитие физических каче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пособствовать осуществлению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я за физической нагрузк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у детей интерес к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ым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нятиям физкультур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Воспитать у учащихся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жное отношение к своему здоровью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362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І фаза. Мимические и пантомимические этюд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разительное изображение отдельных эмоциональных состояний, связанных с переживанием телесного и психического довольства и недовольства. Модели выражения основных эмоций (радость, удивление, гнев, интерес, отвращение, презрение, страх и др.) и некоторых эмоционально окрашенных чувств (гордость, застенчивость, уверенность и др.). Дети знакомятся с элементами выразительных движений: мимикой, жестом, позой, поход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3573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ІІ фаза. Этюды и игры на выражение отдельных качеств характера и эмо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азительное изображение черт, порождаемых социальной средой (жадность, доброта, честность и т.п.), их моральная оценка. Модели поведения персонажей с теми или иными чертами характера. Закрепление и расширение уже полученных ранее сведений, относящихся к их социальной компетентности. Гармонизация личности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изображении эмоций внимание детей привлекается ко всем компонентам выразительных движений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за носит психопрофилактический харак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ІІІ фаза. Этюды и игры, имеющие психотерапевтическую направленность на определенного ребенка или группу в це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ются мимические и пантомимические способности детей для предельно естественного воплощения в заданный об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рекция настроения и отдельных черт характера ребенка, тренинг моделирования стандартных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IV фаза. Психомышечная трениров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психоэмоционального напряжения, внушение желательного настроения, поведения, черт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разительные тех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на( образы: рыбка,водорос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пид(замедленные движ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от(кукла, балер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ин(ударна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286160" y="192888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0:55:08Z</dcterms:created>
  <dc:creator>Ол</dc:creator>
  <dc:description/>
  <dc:language>en-US</dc:language>
  <cp:lastModifiedBy>Корнилов</cp:lastModifiedBy>
  <dcterms:modified xsi:type="dcterms:W3CDTF">2017-10-09T12:08:47Z</dcterms:modified>
  <cp:revision>62</cp:revision>
  <dc:subject/>
  <dc:title>Из опыта применения  психогимнастики  на занятиях физическими упражнения  с детьми дошкольного возраста.</dc:title>
</cp:coreProperties>
</file>