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21E-A3C9-4F53-85F6-4A7D0387E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C637-E0FA-4A85-AE62-2CF5164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CFA0-71F9-4613-BE22-3DF541AB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62C-A7FD-4B07-8B95-4757545E8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EE31-8875-427C-A423-3768C6D85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5606-8099-4C4E-8925-FBC0D4DAB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E909-00BA-48D0-A925-D19EB9C7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09B76-E31E-4CC2-B79F-CF48881B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B0C0-A64F-4175-AF10-9E0F2DFD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E26A-93F4-463D-8708-71474F19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D9FD-48A5-42FB-81BA-E3267E27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E611-6B0C-41EF-A95C-4BA85270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482C3-C125-4A26-B9B4-7A3BA35B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77CF-6871-433F-82C6-24E58950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901A8-BCFD-49D5-A270-FA2AD9213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74DE-FCAD-4F6E-8B1A-DC6FEB628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4979-2FDC-40FF-9C9E-BE4BDF393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6C5-5E6D-479C-9686-BF27128C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6F5-451C-430F-ABE2-205F5B2F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F03-CEC2-4944-A287-9F4A8479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F44-AA2D-4B6E-927C-7E6798AD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92F-AF94-4576-94F3-9BC250FB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77FF-1809-4EFF-B506-00986F1B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C3A-66DD-4009-A3BC-B2019D50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B4AE-C0A7-46F1-9DB6-5ED8610179FE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D348-BCFC-44E6-A6BE-A73A2937A1AF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95280" y="188640"/>
            <a:ext cx="82915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ОУ СОШ пос.Литов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ffff"/>
                </a:solidFill>
                <a:latin typeface="Times New Roman"/>
              </a:rPr>
              <a:t>Рисование  матрёшки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Мичурова Елена Николаев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2" descr="C:\Users\Дом\Pictures\small_1%20009_jpg.jpg"/>
          <p:cNvPicPr/>
          <p:nvPr/>
        </p:nvPicPr>
        <p:blipFill>
          <a:blip r:embed="rId1"/>
          <a:stretch/>
        </p:blipFill>
        <p:spPr>
          <a:xfrm>
            <a:off x="3635280" y="2133720"/>
            <a:ext cx="2087640" cy="3160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Матрешка, шаг 7"/>
          <p:cNvPicPr/>
          <p:nvPr/>
        </p:nvPicPr>
        <p:blipFill>
          <a:blip r:embed="rId1"/>
          <a:srcRect l="3905" t="718" r="-273" b="8296"/>
          <a:stretch/>
        </p:blipFill>
        <p:spPr>
          <a:xfrm>
            <a:off x="1706400" y="981000"/>
            <a:ext cx="5602320" cy="54723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3708360" y="47628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Матрешка, шаг 8"/>
          <p:cNvPicPr/>
          <p:nvPr/>
        </p:nvPicPr>
        <p:blipFill>
          <a:blip r:embed="rId1"/>
          <a:srcRect l="3905" t="718" r="-4451" b="8296"/>
          <a:stretch/>
        </p:blipFill>
        <p:spPr>
          <a:xfrm>
            <a:off x="1763640" y="896760"/>
            <a:ext cx="5688000" cy="55566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3635280" y="33336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1" descr="Матрешка"/>
          <p:cNvPicPr/>
          <p:nvPr/>
        </p:nvPicPr>
        <p:blipFill>
          <a:blip r:embed="rId1"/>
          <a:srcRect l="3884" t="718" r="0" b="7634"/>
          <a:stretch/>
        </p:blipFill>
        <p:spPr>
          <a:xfrm>
            <a:off x="1703520" y="979560"/>
            <a:ext cx="5676840" cy="55450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 flipH="1">
            <a:off x="3850560" y="26028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94920" y="333000"/>
            <a:ext cx="83026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атрёш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— русская деревянная игруш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виде расписной куклы, внутри которой находятся подобные ей куклы меньшего разме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чти всегда они имеют  яйцеподобную форму с плоским донцем и состоят из двух частей — верхней и нижней. По традиции рисуется женщина в красном сарафане и желтом платк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2" descr="C:\Users\Дом\Pictures\small_P9240094_JPG.jpg"/>
          <p:cNvPicPr/>
          <p:nvPr/>
        </p:nvPicPr>
        <p:blipFill>
          <a:blip r:embed="rId1"/>
          <a:stretch/>
        </p:blipFill>
        <p:spPr>
          <a:xfrm>
            <a:off x="395280" y="4797360"/>
            <a:ext cx="2089080" cy="177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Users\Дом\Pictures\small_P9240095_JPG.jpg"/>
          <p:cNvPicPr/>
          <p:nvPr/>
        </p:nvPicPr>
        <p:blipFill>
          <a:blip r:embed="rId2"/>
          <a:stretch/>
        </p:blipFill>
        <p:spPr>
          <a:xfrm>
            <a:off x="3635280" y="4797360"/>
            <a:ext cx="2089080" cy="1773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C:\Users\Дом\Pictures\small_P9240096_JPG.jpg"/>
          <p:cNvPicPr/>
          <p:nvPr/>
        </p:nvPicPr>
        <p:blipFill>
          <a:blip r:embed="rId3"/>
          <a:stretch/>
        </p:blipFill>
        <p:spPr>
          <a:xfrm>
            <a:off x="6659640" y="4797360"/>
            <a:ext cx="2089080" cy="1700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Дом\Pictures\small_1%20006_jpg.jpg"/>
          <p:cNvPicPr/>
          <p:nvPr/>
        </p:nvPicPr>
        <p:blipFill>
          <a:blip r:embed="rId1"/>
          <a:stretch/>
        </p:blipFill>
        <p:spPr>
          <a:xfrm>
            <a:off x="539640" y="1341360"/>
            <a:ext cx="2808360" cy="3959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Users\Дом\Pictures\small_1%20007_jpg.jpg"/>
          <p:cNvPicPr/>
          <p:nvPr/>
        </p:nvPicPr>
        <p:blipFill>
          <a:blip r:embed="rId2"/>
          <a:stretch/>
        </p:blipFill>
        <p:spPr>
          <a:xfrm>
            <a:off x="3348000" y="1341360"/>
            <a:ext cx="2952720" cy="395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C:\Users\Дом\Pictures\small_1%20008_jpg.jpg"/>
          <p:cNvPicPr/>
          <p:nvPr/>
        </p:nvPicPr>
        <p:blipFill>
          <a:blip r:embed="rId3"/>
          <a:stretch/>
        </p:blipFill>
        <p:spPr>
          <a:xfrm>
            <a:off x="6156360" y="1341360"/>
            <a:ext cx="2448000" cy="395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Users\Дом\Desktop\0_41e41_d1a2f87f_L.jpg"/>
          <p:cNvPicPr/>
          <p:nvPr/>
        </p:nvPicPr>
        <p:blipFill>
          <a:blip r:embed="rId1"/>
          <a:stretch/>
        </p:blipFill>
        <p:spPr>
          <a:xfrm>
            <a:off x="2268360" y="260280"/>
            <a:ext cx="4762800" cy="635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3" descr="Матрешка, шаг 1"/>
          <p:cNvPicPr/>
          <p:nvPr/>
        </p:nvPicPr>
        <p:blipFill>
          <a:blip r:embed="rId1"/>
          <a:srcRect l="2330" t="0" r="-1134" b="9524"/>
          <a:stretch/>
        </p:blipFill>
        <p:spPr>
          <a:xfrm>
            <a:off x="1763640" y="692280"/>
            <a:ext cx="5761080" cy="590544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2411280" y="115920"/>
            <a:ext cx="44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Матрешка, шаг 2"/>
          <p:cNvPicPr/>
          <p:nvPr/>
        </p:nvPicPr>
        <p:blipFill>
          <a:blip r:embed="rId1"/>
          <a:srcRect l="3905" t="718" r="-4451" b="8296"/>
          <a:stretch/>
        </p:blipFill>
        <p:spPr>
          <a:xfrm>
            <a:off x="1623960" y="836640"/>
            <a:ext cx="5894280" cy="5761080"/>
          </a:xfrm>
          <a:prstGeom prst="rect">
            <a:avLst/>
          </a:prstGeom>
          <a:ln w="0">
            <a:noFill/>
          </a:ln>
        </p:spPr>
      </p:pic>
      <p:sp>
        <p:nvSpPr>
          <p:cNvPr id="95" name="TextBox 2"/>
          <p:cNvSpPr/>
          <p:nvPr/>
        </p:nvSpPr>
        <p:spPr>
          <a:xfrm>
            <a:off x="2195640" y="26028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1" descr="Матрешка, шаг 3"/>
          <p:cNvPicPr/>
          <p:nvPr/>
        </p:nvPicPr>
        <p:blipFill>
          <a:blip r:embed="rId1"/>
          <a:srcRect l="3905" t="718" r="-4451" b="8296"/>
          <a:stretch/>
        </p:blipFill>
        <p:spPr>
          <a:xfrm>
            <a:off x="1701720" y="907920"/>
            <a:ext cx="5823000" cy="56898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050920" y="33336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1" descr="Матрешка, шаг 4"/>
          <p:cNvPicPr/>
          <p:nvPr/>
        </p:nvPicPr>
        <p:blipFill>
          <a:blip r:embed="rId1"/>
          <a:srcRect l="3905" t="718" r="-4451" b="8296"/>
          <a:stretch/>
        </p:blipFill>
        <p:spPr>
          <a:xfrm>
            <a:off x="1908000" y="981000"/>
            <a:ext cx="5759640" cy="561672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714760" y="476280"/>
            <a:ext cx="37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Матрешка, шаг 5"/>
          <p:cNvPicPr/>
          <p:nvPr/>
        </p:nvPicPr>
        <p:blipFill>
          <a:blip r:embed="rId1"/>
          <a:srcRect l="8104" t="718" r="3905" b="12094"/>
          <a:stretch/>
        </p:blipFill>
        <p:spPr>
          <a:xfrm>
            <a:off x="1700280" y="981000"/>
            <a:ext cx="5675400" cy="5543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635280" y="476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 эта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5:55:12Z</dcterms:created>
  <dc:creator>Настя</dc:creator>
  <dc:description/>
  <dc:language>en-US</dc:language>
  <cp:lastModifiedBy>user</cp:lastModifiedBy>
  <dcterms:modified xsi:type="dcterms:W3CDTF">2017-10-09T14:12:02Z</dcterms:modified>
  <cp:revision>9</cp:revision>
  <dc:subject/>
  <dc:title>Слайд 1</dc:title>
</cp:coreProperties>
</file>