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3D7-62C8-4BBF-8247-23D93031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9DA-82EB-4C8B-9507-90A8C33D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DFC-119C-4B7D-9ADC-BDA5D983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6E9-7C90-4E15-8634-83866056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ABC7-AB3F-41EA-8623-A126E1A8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8134-699D-4F56-A5BC-A79FC37B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E968-8026-49C6-9D0E-F9C5F1DC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CE3F-9532-4E63-9B45-B5478BF9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09A3-C8B1-4052-B92C-F6949B6D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32A-9438-4CCB-9C36-2A573B63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188D-2E04-4B51-AEBC-ECB8360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C28-2057-4587-AA5A-D9093335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07C6-0CCE-4E9C-80CD-66CB7DF9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01D4-BE75-4E04-988D-6791A08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2377-25E3-4634-A5DE-E63CFE7A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0195-3C22-41A9-9D5E-0941ACE0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2C9D-8B20-455A-A9F1-54E3B860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2CA-C7E6-480A-B960-2072A7A6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683-FC3E-417A-96B5-CC456587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189-A8EE-499E-9395-910A14F1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A88-D058-4E94-8B23-25BFAC2A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5BB-E661-4BA6-BFD5-EB8EE113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9C2-1605-4917-8329-8476600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00C-671A-48B1-87ED-D94D74E6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B497-49DB-4821-9E32-040091C12E9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689C-D127-4EC6-93D0-0D217A0DABC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188640"/>
            <a:ext cx="8291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ОУ СОШ пос.Литов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Рисование  матрёшк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ичурова Елена Никола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C:\Users\Дом\Pictures\small_1%20009_jpg.jpg"/>
          <p:cNvPicPr/>
          <p:nvPr/>
        </p:nvPicPr>
        <p:blipFill>
          <a:blip r:embed="rId1"/>
          <a:stretch/>
        </p:blipFill>
        <p:spPr>
          <a:xfrm>
            <a:off x="3635280" y="2133720"/>
            <a:ext cx="2087640" cy="316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Матрешка, шаг 7"/>
          <p:cNvPicPr/>
          <p:nvPr/>
        </p:nvPicPr>
        <p:blipFill>
          <a:blip r:embed="rId1"/>
          <a:srcRect l="3905" t="718" r="-273" b="8296"/>
          <a:stretch/>
        </p:blipFill>
        <p:spPr>
          <a:xfrm>
            <a:off x="1706400" y="981000"/>
            <a:ext cx="5602320" cy="5472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3708360" y="476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атрешка, шаг 8"/>
          <p:cNvPicPr/>
          <p:nvPr/>
        </p:nvPicPr>
        <p:blipFill>
          <a:blip r:embed="rId1"/>
          <a:srcRect l="3905" t="718" r="-4451" b="8296"/>
          <a:stretch/>
        </p:blipFill>
        <p:spPr>
          <a:xfrm>
            <a:off x="1763640" y="896760"/>
            <a:ext cx="5688000" cy="5556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635280" y="33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Матрешка"/>
          <p:cNvPicPr/>
          <p:nvPr/>
        </p:nvPicPr>
        <p:blipFill>
          <a:blip r:embed="rId1"/>
          <a:srcRect l="3884" t="718" r="0" b="7634"/>
          <a:stretch/>
        </p:blipFill>
        <p:spPr>
          <a:xfrm>
            <a:off x="1703520" y="979560"/>
            <a:ext cx="5676840" cy="55450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 flipH="1">
            <a:off x="3850560" y="26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4920" y="333000"/>
            <a:ext cx="83026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рёш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— русская деревянная игруш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виде расписной куклы, внутри которой находятся подобные ей куклы меньшего разме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чти всегда они имеют  яйцеподобную форму с плоским донцем и состоят из двух частей — верхней и нижней. По традиции рисуется женщина в красном сарафане и желтом платк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2" descr="C:\Users\Дом\Pictures\small_P9240094_JPG.jpg"/>
          <p:cNvPicPr/>
          <p:nvPr/>
        </p:nvPicPr>
        <p:blipFill>
          <a:blip r:embed="rId1"/>
          <a:stretch/>
        </p:blipFill>
        <p:spPr>
          <a:xfrm>
            <a:off x="395280" y="4797360"/>
            <a:ext cx="2089080" cy="177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Дом\Pictures\small_P9240095_JPG.jpg"/>
          <p:cNvPicPr/>
          <p:nvPr/>
        </p:nvPicPr>
        <p:blipFill>
          <a:blip r:embed="rId2"/>
          <a:stretch/>
        </p:blipFill>
        <p:spPr>
          <a:xfrm>
            <a:off x="3635280" y="4797360"/>
            <a:ext cx="2089080" cy="1773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Дом\Pictures\small_P9240096_JPG.jpg"/>
          <p:cNvPicPr/>
          <p:nvPr/>
        </p:nvPicPr>
        <p:blipFill>
          <a:blip r:embed="rId3"/>
          <a:stretch/>
        </p:blipFill>
        <p:spPr>
          <a:xfrm>
            <a:off x="6659640" y="4797360"/>
            <a:ext cx="2089080" cy="170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Дом\Pictures\small_1%20006_jpg.jpg"/>
          <p:cNvPicPr/>
          <p:nvPr/>
        </p:nvPicPr>
        <p:blipFill>
          <a:blip r:embed="rId1"/>
          <a:stretch/>
        </p:blipFill>
        <p:spPr>
          <a:xfrm>
            <a:off x="539640" y="1341360"/>
            <a:ext cx="280836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Дом\Pictures\small_1%20007_jpg.jpg"/>
          <p:cNvPicPr/>
          <p:nvPr/>
        </p:nvPicPr>
        <p:blipFill>
          <a:blip r:embed="rId2"/>
          <a:stretch/>
        </p:blipFill>
        <p:spPr>
          <a:xfrm>
            <a:off x="3348000" y="1341360"/>
            <a:ext cx="2952720" cy="395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Дом\Pictures\small_1%20008_jpg.jpg"/>
          <p:cNvPicPr/>
          <p:nvPr/>
        </p:nvPicPr>
        <p:blipFill>
          <a:blip r:embed="rId3"/>
          <a:stretch/>
        </p:blipFill>
        <p:spPr>
          <a:xfrm>
            <a:off x="6156360" y="1341360"/>
            <a:ext cx="244800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Дом\Desktop\0_41e41_d1a2f87f_L.jpg"/>
          <p:cNvPicPr/>
          <p:nvPr/>
        </p:nvPicPr>
        <p:blipFill>
          <a:blip r:embed="rId1"/>
          <a:stretch/>
        </p:blipFill>
        <p:spPr>
          <a:xfrm>
            <a:off x="2268360" y="260280"/>
            <a:ext cx="4762800" cy="635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Матрешка, шаг 1"/>
          <p:cNvPicPr/>
          <p:nvPr/>
        </p:nvPicPr>
        <p:blipFill>
          <a:blip r:embed="rId1"/>
          <a:srcRect l="2330" t="0" r="-1134" b="9524"/>
          <a:stretch/>
        </p:blipFill>
        <p:spPr>
          <a:xfrm>
            <a:off x="1763640" y="692280"/>
            <a:ext cx="5761080" cy="5905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2411280" y="11592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Матрешка, шаг 2"/>
          <p:cNvPicPr/>
          <p:nvPr/>
        </p:nvPicPr>
        <p:blipFill>
          <a:blip r:embed="rId1"/>
          <a:srcRect l="3905" t="718" r="-4451" b="8296"/>
          <a:stretch/>
        </p:blipFill>
        <p:spPr>
          <a:xfrm>
            <a:off x="1623960" y="836640"/>
            <a:ext cx="5894280" cy="5761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195640" y="260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Матрешка, шаг 3"/>
          <p:cNvPicPr/>
          <p:nvPr/>
        </p:nvPicPr>
        <p:blipFill>
          <a:blip r:embed="rId1"/>
          <a:srcRect l="3905" t="718" r="-4451" b="8296"/>
          <a:stretch/>
        </p:blipFill>
        <p:spPr>
          <a:xfrm>
            <a:off x="1701720" y="907920"/>
            <a:ext cx="5823000" cy="5689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050920" y="333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Матрешка, шаг 4"/>
          <p:cNvPicPr/>
          <p:nvPr/>
        </p:nvPicPr>
        <p:blipFill>
          <a:blip r:embed="rId1"/>
          <a:srcRect l="3905" t="718" r="-4451" b="8296"/>
          <a:stretch/>
        </p:blipFill>
        <p:spPr>
          <a:xfrm>
            <a:off x="1908000" y="981000"/>
            <a:ext cx="5759640" cy="5616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714760" y="476280"/>
            <a:ext cx="37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Матрешка, шаг 5"/>
          <p:cNvPicPr/>
          <p:nvPr/>
        </p:nvPicPr>
        <p:blipFill>
          <a:blip r:embed="rId1"/>
          <a:srcRect l="8104" t="718" r="3905" b="12094"/>
          <a:stretch/>
        </p:blipFill>
        <p:spPr>
          <a:xfrm>
            <a:off x="1700280" y="981000"/>
            <a:ext cx="5675400" cy="5543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635280" y="476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5:55:12Z</dcterms:created>
  <dc:creator>Настя</dc:creator>
  <dc:description/>
  <dc:language>en-US</dc:language>
  <cp:lastModifiedBy>user</cp:lastModifiedBy>
  <dcterms:modified xsi:type="dcterms:W3CDTF">2017-10-09T14:12:02Z</dcterms:modified>
  <cp:revision>9</cp:revision>
  <dc:subject/>
  <dc:title>Слайд 1</dc:title>
</cp:coreProperties>
</file>