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0C1-43DE-4C01-84EB-DDC292C91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7D1-FD74-4D59-A279-5B6E1E7D5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FEC-46BB-4AD5-80D3-7070CB31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D0-FCC8-4532-97C5-B6DCD5E6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E88-FD9A-4313-8938-6603ED09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400-75B9-4EE3-A8FD-265AAE7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48B-BCCE-4028-B977-22DB771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474-F113-42E4-A619-B7F8FC8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FA2-5BC0-4C1A-A96E-12D00CD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5A5-1D59-4A4C-83C2-F643C3C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071-7567-4854-BFBF-235344D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F45-465E-43E8-BB9C-26DBA98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8AC-C9E1-4A93-9742-B67C1C95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F8D-612E-4955-A945-9982FBA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AD9-A12F-4844-A152-DBF4C0BB4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MY GENEOLOGY</a:t>
            </a:r>
            <a:br>
              <a:rPr sz="7200"/>
            </a:br>
            <a:r>
              <a:rPr b="1" lang="ru-RU" sz="7200" spc="-1" strike="noStrike">
                <a:solidFill>
                  <a:srgbClr val="ff6600"/>
                </a:solidFill>
                <a:latin typeface="Rom Bsh"/>
              </a:rPr>
              <a:t>МИНЕ% Ш!Ж!Р!М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7156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uthor: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                                                                                             Авторы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Dmitrij Anufriev,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           Дмитрий Ануфр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chool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46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lass 6 ”a”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46-сы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3анлы 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                  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м1кт1бене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                  </a:t>
            </a:r>
            <a:r>
              <a:rPr b="0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6-сы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синыф у6ыусы3ы                     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Ufa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99cc00"/>
                </a:solidFill>
                <a:latin typeface="Rom Bsh"/>
              </a:rPr>
              <a:t>@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ф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P3140065"/>
          <p:cNvPicPr/>
          <p:nvPr/>
        </p:nvPicPr>
        <p:blipFill>
          <a:blip r:embed="rId1"/>
          <a:stretch/>
        </p:blipFill>
        <p:spPr>
          <a:xfrm>
            <a:off x="1116000" y="260280"/>
            <a:ext cx="5884920" cy="3882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830160" y="4214880"/>
            <a:ext cx="710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andmoth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ura Khabibrakhmanovna Safina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30-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y grandfath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Zakirjan Ajupovich Baishev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6-20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was a teacher of Maths, he was a liaison offi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, Фл9р1 Хабибрахман 6ы8ы Сафина 31м олатай, З1кирй1н !юпов улы Баиш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 математика у6ытусы3ы, олатай офицер бул7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84360" y="620640"/>
            <a:ext cx="779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аюп и самсикамал"/>
          <p:cNvPicPr/>
          <p:nvPr/>
        </p:nvPicPr>
        <p:blipFill>
          <a:blip r:embed="rId1"/>
          <a:stretch/>
        </p:blipFill>
        <p:spPr>
          <a:xfrm>
            <a:off x="684360" y="333360"/>
            <a:ext cx="7530840" cy="4452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0" y="47149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jup Baishe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875-21/04/194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y great-grandmother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msikamal Valejev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/8/1893-30/10/198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was a baker, he was a forest gu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yagutovo, 19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Олатай, Аюп Баишев 31м 2л1с1й, С1мсикамал В1лиева. 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 пекарь , олатай урман 6арауылсы3ы бул7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М1с179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DSC00035"/>
          <p:cNvPicPr/>
          <p:nvPr/>
        </p:nvPicPr>
        <p:blipFill>
          <a:blip r:embed="rId1"/>
          <a:stretch/>
        </p:blipFill>
        <p:spPr>
          <a:xfrm>
            <a:off x="468360" y="260280"/>
            <a:ext cx="4599000" cy="6337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5219640" y="214200"/>
            <a:ext cx="36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great-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amsikamal Vale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the center) with her sister Taifa (on the left) and her friend Nag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yagutovo, 19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л1с1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С1мсикамал В1л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уртала) Таифа исемле 3е5ле3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3ул я6та) 31м ду4ы Н17им1 мен1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6659640" y="4653000"/>
            <a:ext cx="1871640" cy="2205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s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ufrij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vk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050920" y="3284640"/>
            <a:ext cx="2521080" cy="17175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276720" y="234936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5580000" y="3357720"/>
            <a:ext cx="2376720" cy="1512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ina Dmitrije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uk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ovsk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635280" y="4869000"/>
            <a:ext cx="2376720" cy="16556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8-194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vk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050920" y="35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sim Gorky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2987640" y="486900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5148360" y="2205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5364000" y="1125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t’s 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mit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23"/>
          <p:cNvCxnSpPr/>
          <p:nvPr/>
        </p:nvCxnSpPr>
        <p:spPr>
          <a:xfrm flipV="1">
            <a:off x="4787640" y="4149000"/>
            <a:ext cx="6483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Line 24"/>
          <p:cNvSpPr/>
          <p:nvPr/>
        </p:nvSpPr>
        <p:spPr>
          <a:xfrm flipH="1" flipV="1">
            <a:off x="4500360" y="328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 flipV="1">
            <a:off x="5219640" y="314172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738036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vi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7380360" y="105264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28"/>
          <p:cNvCxnSpPr>
            <a:stCxn id="200" idx="3"/>
          </p:cNvCxnSpPr>
          <p:nvPr/>
        </p:nvCxnSpPr>
        <p:spPr>
          <a:xfrm>
            <a:off x="6875280" y="2776320"/>
            <a:ext cx="43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Line 29"/>
          <p:cNvSpPr/>
          <p:nvPr/>
        </p:nvSpPr>
        <p:spPr>
          <a:xfrm flipH="1" flipV="1">
            <a:off x="6587640" y="20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 flipV="1">
            <a:off x="7020000" y="2060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1"/>
          <p:cNvSpPr/>
          <p:nvPr/>
        </p:nvSpPr>
        <p:spPr>
          <a:xfrm>
            <a:off x="971640" y="2349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32"/>
          <p:cNvCxnSpPr>
            <a:stCxn id="210" idx="3"/>
          </p:cNvCxnSpPr>
          <p:nvPr/>
        </p:nvCxnSpPr>
        <p:spPr>
          <a:xfrm>
            <a:off x="2698920" y="2920680"/>
            <a:ext cx="50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AutoShape 33"/>
          <p:cNvSpPr/>
          <p:nvPr/>
        </p:nvSpPr>
        <p:spPr>
          <a:xfrm>
            <a:off x="826920" y="1197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4"/>
          <p:cNvSpPr/>
          <p:nvPr/>
        </p:nvSpPr>
        <p:spPr>
          <a:xfrm>
            <a:off x="3132000" y="1197000"/>
            <a:ext cx="15321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5"/>
          <p:cNvSpPr/>
          <p:nvPr/>
        </p:nvSpPr>
        <p:spPr>
          <a:xfrm>
            <a:off x="0" y="189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fathers ancestors are Russians  from Belebey district of Bashkortostan. Probably, they are the serfdom peasants of noblemans Osokin. The village was based at 18-19 centuries by settlers from Simbirs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 flipH="1" flipV="1">
            <a:off x="2195640" y="2133720"/>
            <a:ext cx="792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 flipV="1">
            <a:off x="2987640" y="2205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8"/>
          <p:cNvSpPr/>
          <p:nvPr/>
        </p:nvSpPr>
        <p:spPr>
          <a:xfrm>
            <a:off x="6012000" y="5516640"/>
            <a:ext cx="576000" cy="485640"/>
          </a:xfrm>
          <a:prstGeom prst="leftArrow">
            <a:avLst>
              <a:gd name="adj1" fmla="val 50000"/>
              <a:gd name="adj2" fmla="val 29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9"/>
          <p:cNvSpPr/>
          <p:nvPr/>
        </p:nvSpPr>
        <p:spPr>
          <a:xfrm>
            <a:off x="250920" y="4724280"/>
            <a:ext cx="2592360" cy="2133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exandra Mikhailo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fil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11-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k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41"/>
          <p:cNvCxnSpPr>
            <a:stCxn id="218" idx="3"/>
          </p:cNvCxnSpPr>
          <p:nvPr/>
        </p:nvCxnSpPr>
        <p:spPr>
          <a:xfrm>
            <a:off x="2843280" y="5790960"/>
            <a:ext cx="72144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6659640" y="4653000"/>
            <a:ext cx="1871640" cy="2205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вка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2050920" y="3284640"/>
            <a:ext cx="2521080" cy="17175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3276720" y="234936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715000" y="3357720"/>
            <a:ext cx="2241720" cy="1512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 Дмитри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у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3635280" y="4869000"/>
            <a:ext cx="2376720" cy="16556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8-194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вка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050920" y="35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аксим Горький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2987640" y="486900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5148360" y="2205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5364000" y="1125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М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23"/>
          <p:cNvCxnSpPr/>
          <p:nvPr/>
        </p:nvCxnSpPr>
        <p:spPr>
          <a:xfrm flipV="1">
            <a:off x="4787640" y="4149000"/>
            <a:ext cx="6483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Line 24"/>
          <p:cNvSpPr/>
          <p:nvPr/>
        </p:nvSpPr>
        <p:spPr>
          <a:xfrm flipH="1" flipV="1">
            <a:off x="4500360" y="328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 flipV="1">
            <a:off x="5219640" y="314172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738036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ьв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7380360" y="105264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28"/>
          <p:cNvCxnSpPr>
            <a:stCxn id="227" idx="3"/>
          </p:cNvCxnSpPr>
          <p:nvPr/>
        </p:nvCxnSpPr>
        <p:spPr>
          <a:xfrm>
            <a:off x="6875280" y="2776320"/>
            <a:ext cx="43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29"/>
          <p:cNvSpPr/>
          <p:nvPr/>
        </p:nvSpPr>
        <p:spPr>
          <a:xfrm flipH="1" flipV="1">
            <a:off x="6587640" y="20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"/>
          <p:cNvSpPr/>
          <p:nvPr/>
        </p:nvSpPr>
        <p:spPr>
          <a:xfrm flipV="1">
            <a:off x="7020000" y="2060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/>
          <p:cNvSpPr/>
          <p:nvPr/>
        </p:nvSpPr>
        <p:spPr>
          <a:xfrm>
            <a:off x="971640" y="2349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32"/>
          <p:cNvCxnSpPr>
            <a:stCxn id="237" idx="3"/>
          </p:cNvCxnSpPr>
          <p:nvPr/>
        </p:nvCxnSpPr>
        <p:spPr>
          <a:xfrm>
            <a:off x="2698920" y="2920680"/>
            <a:ext cx="50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AutoShape 33"/>
          <p:cNvSpPr/>
          <p:nvPr/>
        </p:nvSpPr>
        <p:spPr>
          <a:xfrm>
            <a:off x="826920" y="1197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>
            <a:off x="3132000" y="1197000"/>
            <a:ext cx="15321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Атай8ы5 тамыр8ары Баш6ортостанды5 Б1л1б1й районына барып тоташ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,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Б1лки, улар кр14ти1нд1р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the serfdom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крепостное право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peasants of noblemans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дворян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Osokin. The village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18-19 centuries by settl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еле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Simbirs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 flipH="1" flipV="1">
            <a:off x="2195640" y="2133720"/>
            <a:ext cx="792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7"/>
          <p:cNvSpPr/>
          <p:nvPr/>
        </p:nvSpPr>
        <p:spPr>
          <a:xfrm flipV="1">
            <a:off x="2987640" y="2205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8"/>
          <p:cNvSpPr/>
          <p:nvPr/>
        </p:nvSpPr>
        <p:spPr>
          <a:xfrm>
            <a:off x="6012000" y="5516640"/>
            <a:ext cx="576000" cy="485640"/>
          </a:xfrm>
          <a:prstGeom prst="leftArrow">
            <a:avLst>
              <a:gd name="adj1" fmla="val 50000"/>
              <a:gd name="adj2" fmla="val 29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250920" y="4724280"/>
            <a:ext cx="2592360" cy="2133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а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фи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11-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ок ауы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AutoShape 41"/>
          <p:cNvCxnSpPr>
            <a:stCxn id="245" idx="3"/>
          </p:cNvCxnSpPr>
          <p:nvPr/>
        </p:nvCxnSpPr>
        <p:spPr>
          <a:xfrm>
            <a:off x="2843280" y="5790960"/>
            <a:ext cx="72144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468360" y="4508640"/>
            <a:ext cx="3382920" cy="234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5435640" y="2565360"/>
            <a:ext cx="3168720" cy="25210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2195640" y="620640"/>
            <a:ext cx="2233440" cy="14302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547640" y="3068640"/>
            <a:ext cx="2737080" cy="143028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i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1/1900-6/04/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190880" y="515772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uk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ukhino vill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atskaya Gubern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796000" y="314172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katerina Andree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chin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2/1906-21/08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ry vill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atskaya Gubern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2987640" y="429264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11"/>
          <p:cNvCxnSpPr/>
          <p:nvPr/>
        </p:nvCxnSpPr>
        <p:spPr>
          <a:xfrm>
            <a:off x="4356000" y="378900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AutoShape 12"/>
          <p:cNvSpPr/>
          <p:nvPr/>
        </p:nvSpPr>
        <p:spPr>
          <a:xfrm>
            <a:off x="785880" y="7142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andmothers ancestors are from Vyat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territory of modern Kirovsk Region). All of them were the  peas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4211640" y="1413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6516720" y="119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250920" y="170028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194920" y="98100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grandmot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287600" y="1773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l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879600" y="14842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14520" y="2060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bov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7524720" y="1628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64000" y="981000"/>
            <a:ext cx="13687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788832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558216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4160" y="1268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v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0"/>
          <p:cNvSpPr/>
          <p:nvPr/>
        </p:nvSpPr>
        <p:spPr>
          <a:xfrm>
            <a:off x="0" y="263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82520" y="29242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dm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 flipH="1" flipV="1">
            <a:off x="1258560" y="2852280"/>
            <a:ext cx="33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3"/>
          <p:cNvSpPr/>
          <p:nvPr/>
        </p:nvSpPr>
        <p:spPr>
          <a:xfrm flipH="1" flipV="1">
            <a:off x="1618920" y="2349360"/>
            <a:ext cx="338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5"/>
          <p:cNvSpPr/>
          <p:nvPr/>
        </p:nvSpPr>
        <p:spPr>
          <a:xfrm flipH="1" flipV="1">
            <a:off x="4858920" y="2420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6"/>
          <p:cNvSpPr/>
          <p:nvPr/>
        </p:nvSpPr>
        <p:spPr>
          <a:xfrm flipV="1">
            <a:off x="5003640" y="1988640"/>
            <a:ext cx="79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7"/>
          <p:cNvSpPr/>
          <p:nvPr/>
        </p:nvSpPr>
        <p:spPr>
          <a:xfrm flipV="1">
            <a:off x="5076720" y="213336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8"/>
          <p:cNvSpPr/>
          <p:nvPr/>
        </p:nvSpPr>
        <p:spPr>
          <a:xfrm flipV="1">
            <a:off x="5076720" y="2491920"/>
            <a:ext cx="251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9"/>
          <p:cNvSpPr/>
          <p:nvPr/>
        </p:nvSpPr>
        <p:spPr>
          <a:xfrm flipH="1" flipV="1">
            <a:off x="3276360" y="184464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468360" y="4508640"/>
            <a:ext cx="3382920" cy="234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435640" y="2565360"/>
            <a:ext cx="3168720" cy="25210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2195640" y="620640"/>
            <a:ext cx="2233440" cy="14302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547640" y="3068640"/>
            <a:ext cx="2737080" cy="143028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1/1900-6/04/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082880" y="5157720"/>
            <a:ext cx="25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ин Сем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ухин ауы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Вятский губерния3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796000" y="314172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а Андреевна Овчин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2/1906-21/08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ри ауы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Вятский губерния3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2987640" y="429264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AutoShape 11"/>
          <p:cNvCxnSpPr/>
          <p:nvPr/>
        </p:nvCxnSpPr>
        <p:spPr>
          <a:xfrm>
            <a:off x="4356000" y="378900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AutoShape 12"/>
          <p:cNvSpPr/>
          <p:nvPr/>
        </p:nvSpPr>
        <p:spPr>
          <a:xfrm>
            <a:off x="785880" y="7142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Мине5 2л1с1йемде5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тамыр8ары Вятка ерен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Б2г2нг2 Киров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).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Улар8ы5 бары3ы ла кр14ти1н бул7ан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4211640" y="1413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5"/>
          <p:cNvSpPr/>
          <p:nvPr/>
        </p:nvSpPr>
        <p:spPr>
          <a:xfrm>
            <a:off x="6516720" y="119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250920" y="170028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255760" y="981000"/>
            <a:ext cx="21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m Bsh"/>
              </a:rPr>
              <a:t>Мине5 2л1с1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147560" y="1773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6840720" y="1484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64840" y="2060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7524720" y="1628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5364000" y="981000"/>
            <a:ext cx="13687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7775640" y="19890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5573880" y="134136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869040" y="1268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в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0"/>
          <p:cNvSpPr/>
          <p:nvPr/>
        </p:nvSpPr>
        <p:spPr>
          <a:xfrm>
            <a:off x="0" y="263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105840" y="29242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2"/>
          <p:cNvSpPr/>
          <p:nvPr/>
        </p:nvSpPr>
        <p:spPr>
          <a:xfrm flipH="1" flipV="1">
            <a:off x="1258560" y="2852280"/>
            <a:ext cx="33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H="1" flipV="1">
            <a:off x="1618920" y="2349360"/>
            <a:ext cx="338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5"/>
          <p:cNvSpPr/>
          <p:nvPr/>
        </p:nvSpPr>
        <p:spPr>
          <a:xfrm flipH="1" flipV="1">
            <a:off x="4858920" y="2420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6"/>
          <p:cNvSpPr/>
          <p:nvPr/>
        </p:nvSpPr>
        <p:spPr>
          <a:xfrm flipV="1">
            <a:off x="5003640" y="1988640"/>
            <a:ext cx="79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7"/>
          <p:cNvSpPr/>
          <p:nvPr/>
        </p:nvSpPr>
        <p:spPr>
          <a:xfrm flipV="1">
            <a:off x="5076720" y="213336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8"/>
          <p:cNvSpPr/>
          <p:nvPr/>
        </p:nvSpPr>
        <p:spPr>
          <a:xfrm flipV="1">
            <a:off x="5076720" y="2491920"/>
            <a:ext cx="251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9"/>
          <p:cNvSpPr/>
          <p:nvPr/>
        </p:nvSpPr>
        <p:spPr>
          <a:xfrm flipH="1" flipV="1">
            <a:off x="3276360" y="184464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P1010093"/>
          <p:cNvPicPr/>
          <p:nvPr/>
        </p:nvPicPr>
        <p:blipFill>
          <a:blip r:embed="rId1"/>
          <a:stretch/>
        </p:blipFill>
        <p:spPr>
          <a:xfrm>
            <a:off x="4211640" y="2349360"/>
            <a:ext cx="4589640" cy="3434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3140058"/>
          <p:cNvPicPr/>
          <p:nvPr/>
        </p:nvPicPr>
        <p:blipFill>
          <a:blip r:embed="rId2"/>
          <a:stretch/>
        </p:blipFill>
        <p:spPr>
          <a:xfrm>
            <a:off x="539640" y="1989000"/>
            <a:ext cx="3384720" cy="24894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8"/>
          <p:cNvSpPr/>
          <p:nvPr/>
        </p:nvSpPr>
        <p:spPr>
          <a:xfrm>
            <a:off x="2269440" y="333360"/>
            <a:ext cx="4485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 have a big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hen my relatives get toget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Rom Bsh"/>
              </a:rPr>
              <a:t>Бе8 берг1 йыйылыш6ан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5458680" y="17002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r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973800" y="472428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yagutovo, 1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1с179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5510160" y="595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enburg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914760" y="134136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t’s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314280" y="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have 7 cousins, 2 uncles, 1 aunt and  41 second cous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are so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Мине5 ете ике ту7андарым, ике а7айым 31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6ыр6 бер ике ту7андарым бар. Бе8 т2рл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валера"/>
          <p:cNvPicPr/>
          <p:nvPr/>
        </p:nvPicPr>
        <p:blipFill>
          <a:blip r:embed="rId1"/>
          <a:stretch/>
        </p:blipFill>
        <p:spPr>
          <a:xfrm>
            <a:off x="5508720" y="1628640"/>
            <a:ext cx="1546200" cy="2233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наташа"/>
          <p:cNvPicPr/>
          <p:nvPr/>
        </p:nvPicPr>
        <p:blipFill>
          <a:blip r:embed="rId2"/>
          <a:stretch/>
        </p:blipFill>
        <p:spPr>
          <a:xfrm>
            <a:off x="2340000" y="422100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виталик"/>
          <p:cNvPicPr/>
          <p:nvPr/>
        </p:nvPicPr>
        <p:blipFill>
          <a:blip r:embed="rId3"/>
          <a:stretch/>
        </p:blipFill>
        <p:spPr>
          <a:xfrm>
            <a:off x="565164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SCN0991"/>
          <p:cNvPicPr/>
          <p:nvPr/>
        </p:nvPicPr>
        <p:blipFill>
          <a:blip r:embed="rId4"/>
          <a:stretch/>
        </p:blipFill>
        <p:spPr>
          <a:xfrm>
            <a:off x="250920" y="1500120"/>
            <a:ext cx="2151000" cy="251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P1070978"/>
          <p:cNvPicPr/>
          <p:nvPr/>
        </p:nvPicPr>
        <p:blipFill>
          <a:blip r:embed="rId5"/>
          <a:stretch/>
        </p:blipFill>
        <p:spPr>
          <a:xfrm>
            <a:off x="7093080" y="1773360"/>
            <a:ext cx="1780920" cy="23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P1070941"/>
          <p:cNvPicPr/>
          <p:nvPr/>
        </p:nvPicPr>
        <p:blipFill>
          <a:blip r:embed="rId6"/>
          <a:stretch/>
        </p:blipFill>
        <p:spPr>
          <a:xfrm>
            <a:off x="2843280" y="1581120"/>
            <a:ext cx="2574720" cy="238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P1070902"/>
          <p:cNvPicPr/>
          <p:nvPr/>
        </p:nvPicPr>
        <p:blipFill>
          <a:blip r:embed="rId7"/>
          <a:stretch/>
        </p:blipFill>
        <p:spPr>
          <a:xfrm>
            <a:off x="468360" y="4292640"/>
            <a:ext cx="170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Изображение 035"/>
          <p:cNvPicPr/>
          <p:nvPr/>
        </p:nvPicPr>
        <p:blipFill>
          <a:blip r:embed="rId1"/>
          <a:stretch/>
        </p:blipFill>
        <p:spPr>
          <a:xfrm>
            <a:off x="-324000" y="-527040"/>
            <a:ext cx="9846000" cy="73850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0" y="571680"/>
            <a:ext cx="9786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 think, my family is like Urals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Мине5 7аил1м Уралда7ы йыл7алар т24л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 many peoples, histories and nationalit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К9м1к кешел1р, тарих 31м мил1тт1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should save the memory about our anc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ember WHO WE ARE.</a:t>
            </a: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Бе8 ата-бабаларыбы88ы онотмаяса6бы8 31м 98ебе88е5 кем ик1небе88е и4т1 тотаса6бы8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324000" y="1052640"/>
            <a:ext cx="44272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Dima Anufri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12 years 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ve and study in U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a big family: mother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, younger sister,   grandmother, grandf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cles, 1 aunt, 7 cousins, and a  lot of distant relatives in Russia and other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11"/>
          <p:cNvPicPr/>
          <p:nvPr/>
        </p:nvPicPr>
        <p:blipFill>
          <a:blip r:embed="rId1"/>
          <a:stretch/>
        </p:blipFill>
        <p:spPr>
          <a:xfrm>
            <a:off x="6643800" y="285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143680" y="2786040"/>
            <a:ext cx="371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е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5 исемем Дима Ануфриев. Ми5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1ш. Мин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л1 й1ш1йем 31м у6ыйым. Мине5 7аил1м 8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1с1й, атай, 3е5лем, 2л1с1й 31м олатай, ике а7ай, бер апай, ете ике ту7андарым 31м бик к9п алы4 илд1р81, Р1с1й81 й1ш1г1н ту7андарым б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выставка"/>
          <p:cNvPicPr/>
          <p:nvPr/>
        </p:nvPicPr>
        <p:blipFill>
          <a:blip r:embed="rId1"/>
          <a:stretch/>
        </p:blipFill>
        <p:spPr>
          <a:xfrm>
            <a:off x="2556000" y="214200"/>
            <a:ext cx="3587760" cy="4286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76200" y="4857840"/>
            <a:ext cx="80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Franklin Gothic Medium"/>
              </a:rPr>
              <a:t>It’s my family: mom, dad, sister and I.</a:t>
            </a:r>
            <a:r>
              <a:rPr b="0" lang="ru-RU" sz="3200" spc="-1" strike="noStrike">
                <a:solidFill>
                  <a:srgbClr val="ff66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Был мине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7аил1м</a:t>
            </a:r>
            <a:r>
              <a:rPr b="0" lang="en-US" sz="3200" spc="-1" strike="noStrike">
                <a:solidFill>
                  <a:srgbClr val="ff6600"/>
                </a:solidFill>
                <a:latin typeface="Franklin Gothic Medium"/>
              </a:rPr>
              <a:t> :</a:t>
            </a: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 1с1й, атай, 3е5лем 31м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Питер 2009 176"/>
          <p:cNvPicPr/>
          <p:nvPr/>
        </p:nvPicPr>
        <p:blipFill>
          <a:blip r:embed="rId1"/>
          <a:stretch/>
        </p:blipFill>
        <p:spPr>
          <a:xfrm>
            <a:off x="571680" y="285840"/>
            <a:ext cx="6249960" cy="4257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-425520" y="5000760"/>
            <a:ext cx="1036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younger sister Tanya is very f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he likes to sing, to dance and j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Мине5 3е5лем Таня. Ул йырлар7а, бейерг1 31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шаярыр7а я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нугуш"/>
          <p:cNvPicPr/>
          <p:nvPr/>
        </p:nvPicPr>
        <p:blipFill>
          <a:blip r:embed="rId1"/>
          <a:stretch/>
        </p:blipFill>
        <p:spPr>
          <a:xfrm>
            <a:off x="395280" y="90792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2180025"/>
          <p:cNvPicPr/>
          <p:nvPr/>
        </p:nvPicPr>
        <p:blipFill>
          <a:blip r:embed="rId2"/>
          <a:stretch/>
        </p:blipFill>
        <p:spPr>
          <a:xfrm>
            <a:off x="4788000" y="3500280"/>
            <a:ext cx="4030560" cy="3135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39640" y="429264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mom, Elvira  Baish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he is a biolog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!с1йем Эльвира Баишева. Ул би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076720" y="13572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dad,  Oleg Anufrie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e is an engineer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Rom Bsh"/>
              </a:rPr>
              <a:t>Атайым Олег Ануфриев. Ул инженер.</a:t>
            </a:r>
            <a:r>
              <a:rPr b="1" lang="en-US" sz="2400" spc="-1" strike="noStrike">
                <a:solidFill>
                  <a:srgbClr val="ff6600"/>
                </a:solidFill>
                <a:latin typeface="Rom B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5580000" y="558972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I’m Dmitry Anufriev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born at 18/01/1998 in U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68360" y="551664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younger sister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aty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1/2002, U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11280" y="4508640"/>
            <a:ext cx="3767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m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lvira Baishe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06/1969, Smole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292720" y="4437000"/>
            <a:ext cx="352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leg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2/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j District, 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979320" y="278136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lina Semuk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5/1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ovsk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644720" y="2781360"/>
            <a:ext cx="192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ikolai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03/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j Distr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843280" y="2781360"/>
            <a:ext cx="191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lura Saf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12/1930-1/07/199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vat Distr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81440" y="2781360"/>
            <a:ext cx="19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fa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Zakirjan Bais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/06/1926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02/20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van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 rot="16200000">
            <a:off x="-658080" y="117072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jup Baish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16200000">
            <a:off x="618120" y="11214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msikamal Vale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 rot="16200000">
            <a:off x="3137760" y="11214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rzana Sitd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 rot="16200000">
            <a:off x="1827360" y="120564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Khabibrakhman Sa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 rot="16200000">
            <a:off x="3921480" y="1129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van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 rot="16200000">
            <a:off x="5226840" y="9694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eksandraPanfi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 rot="16200000">
            <a:off x="6219000" y="106380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mitrij Semuk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 rot="16200000">
            <a:off x="7252560" y="11599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katerina Ovchin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2124000" y="3213000"/>
            <a:ext cx="9352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3851280" y="5013360"/>
            <a:ext cx="20890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6588000" y="3284640"/>
            <a:ext cx="432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971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3492360" y="1557360"/>
            <a:ext cx="648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>
            <a:off x="5435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6"/>
          <p:cNvSpPr/>
          <p:nvPr/>
        </p:nvSpPr>
        <p:spPr>
          <a:xfrm>
            <a:off x="774072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7"/>
          <p:cNvSpPr/>
          <p:nvPr/>
        </p:nvSpPr>
        <p:spPr>
          <a:xfrm>
            <a:off x="4788000" y="5013360"/>
            <a:ext cx="0" cy="1008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H="1">
            <a:off x="3924000" y="6021360"/>
            <a:ext cx="1584360" cy="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>
            <a:off x="2556000" y="3213000"/>
            <a:ext cx="0" cy="1295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877080" y="3284640"/>
            <a:ext cx="0" cy="115236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572436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8028000" y="1557360"/>
            <a:ext cx="144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378000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1258920" y="1557360"/>
            <a:ext cx="0" cy="115092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>
            <a:off x="1742400" y="64008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t’s the only small part of my family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5580000" y="5589720"/>
            <a:ext cx="338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Мин, Дима Ануфриев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/01/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68360" y="551664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№</a:t>
            </a: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е5л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1/2002,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1280" y="4508640"/>
            <a:ext cx="3767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!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Rom Bsh"/>
              </a:rPr>
              <a:t>Эльвира Баише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06/196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92720" y="4286160"/>
            <a:ext cx="35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ег Ануфри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2/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969600" y="2781360"/>
            <a:ext cx="21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л1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алина Семи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5/1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Ки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643280" y="2781360"/>
            <a:ext cx="21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Николай 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03/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2857680" y="2786040"/>
            <a:ext cx="189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л1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Фл9р1 Саф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12/1930-1/07/199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Салауат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-214200" y="278604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Олат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З1кирй1н Баи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/06/1926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02/2007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Дыуан рай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 rot="16200000">
            <a:off x="-694440" y="119448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ола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юп Баишев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 rot="16200000">
            <a:off x="472680" y="112140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2л1с1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1мсикамал В1л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 rot="16200000">
            <a:off x="3233880" y="847080"/>
            <a:ext cx="244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2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Ф1рз1н1 Ситд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 rot="16200000">
            <a:off x="1713960" y="106848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Хабибрахман Саф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 rot="16200000">
            <a:off x="4078440" y="112932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ван 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 rot="16200000">
            <a:off x="4919400" y="105228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2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лександра Панфи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 rot="16200000">
            <a:off x="6283440" y="10641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ла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митрий Сем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 rot="16200000">
            <a:off x="7159320" y="11595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Екатерина Овчин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2124000" y="3213000"/>
            <a:ext cx="9352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3851280" y="5013360"/>
            <a:ext cx="20890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2"/>
          <p:cNvSpPr/>
          <p:nvPr/>
        </p:nvSpPr>
        <p:spPr>
          <a:xfrm>
            <a:off x="6588000" y="3284640"/>
            <a:ext cx="432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971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3492360" y="1557360"/>
            <a:ext cx="648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5"/>
          <p:cNvSpPr/>
          <p:nvPr/>
        </p:nvSpPr>
        <p:spPr>
          <a:xfrm>
            <a:off x="5435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6"/>
          <p:cNvSpPr/>
          <p:nvPr/>
        </p:nvSpPr>
        <p:spPr>
          <a:xfrm>
            <a:off x="774072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4788000" y="5013360"/>
            <a:ext cx="0" cy="1008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H="1">
            <a:off x="3924000" y="6021360"/>
            <a:ext cx="1584360" cy="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9"/>
          <p:cNvSpPr/>
          <p:nvPr/>
        </p:nvSpPr>
        <p:spPr>
          <a:xfrm>
            <a:off x="2556000" y="3213000"/>
            <a:ext cx="0" cy="1295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0"/>
          <p:cNvSpPr/>
          <p:nvPr/>
        </p:nvSpPr>
        <p:spPr>
          <a:xfrm>
            <a:off x="6877080" y="3284640"/>
            <a:ext cx="0" cy="115236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1"/>
          <p:cNvSpPr/>
          <p:nvPr/>
        </p:nvSpPr>
        <p:spPr>
          <a:xfrm>
            <a:off x="572436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2"/>
          <p:cNvSpPr/>
          <p:nvPr/>
        </p:nvSpPr>
        <p:spPr>
          <a:xfrm flipH="1">
            <a:off x="8028000" y="1557360"/>
            <a:ext cx="144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>
            <a:off x="378000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4"/>
          <p:cNvSpPr/>
          <p:nvPr/>
        </p:nvSpPr>
        <p:spPr>
          <a:xfrm>
            <a:off x="1258920" y="1557360"/>
            <a:ext cx="0" cy="115092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68360" y="47628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!с1йемде5 тамыр8ары баш6орттар бул7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 tribe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племя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Sart-Aile.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Салауат 31м Дыуан райондарын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Тарихсылар 1йте9енс1</a:t>
            </a:r>
            <a:r>
              <a:rPr b="1" lang="en-US" sz="1800" spc="-1" strike="noStrike">
                <a:solidFill>
                  <a:srgbClr val="3333ff"/>
                </a:solidFill>
                <a:latin typeface="Rom Bsh"/>
              </a:rPr>
              <a:t>,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сарттар х18ерге (зб1кестандан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X – XII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  <a:ea typeface="Times New Roman"/>
              </a:rPr>
              <a:t>быуаттар8а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килг1нд1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143080" y="535788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0920" y="5516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564000" y="5445000"/>
            <a:ext cx="15127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жакил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72436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451640" y="537372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?1л1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41497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ю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01600" y="5950080"/>
            <a:ext cx="14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К9с1мб1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69236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143080" y="5857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987640" y="414972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С1мсика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6948360" y="573408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529272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320364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 rot="19185600">
            <a:off x="7524720" y="501300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21"/>
          <p:cNvCxnSpPr/>
          <p:nvPr/>
        </p:nvCxnSpPr>
        <p:spPr>
          <a:xfrm>
            <a:off x="4571640" y="4653000"/>
            <a:ext cx="1585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" name="AutoShape 22"/>
          <p:cNvSpPr/>
          <p:nvPr/>
        </p:nvSpPr>
        <p:spPr>
          <a:xfrm>
            <a:off x="1763640" y="28526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Ф1н9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3286080" y="27860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Р1й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485928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5"/>
          <p:cNvSpPr/>
          <p:nvPr/>
        </p:nvSpPr>
        <p:spPr>
          <a:xfrm>
            <a:off x="7596360" y="270828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З1кирй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630072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H="1" flipV="1">
            <a:off x="2410920" y="386028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 flipV="1">
            <a:off x="3924000" y="378900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V="1">
            <a:off x="529272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V="1">
            <a:off x="5580000" y="378900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5940360" y="3716280"/>
            <a:ext cx="22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6084720" y="155736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ьв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3214800" y="1571760"/>
            <a:ext cx="189360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 rot="19185600">
            <a:off x="7524360" y="234900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5076720" y="19890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rot="2039400">
            <a:off x="7451640" y="386028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68360" y="476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y mothers ancestors are Bashkirs  from the tribe Sart-Aile. The are from Duvan and Salavat  districts (North-Eastern Bashkortostan).  The historians believe, that Sarts have come from the territory of modern Uzbekistan at 9-12 centu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212400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50920" y="5516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3564000" y="5445000"/>
            <a:ext cx="15127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zhak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72436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451640" y="537372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6372360" y="41497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j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1600" y="5950080"/>
            <a:ext cx="14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semb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169236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126160" y="5877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2987640" y="414972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sika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6948360" y="573408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529272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320364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 rot="19185600">
            <a:off x="7524720" y="501300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21"/>
          <p:cNvCxnSpPr/>
          <p:nvPr/>
        </p:nvCxnSpPr>
        <p:spPr>
          <a:xfrm>
            <a:off x="4571640" y="4653000"/>
            <a:ext cx="1585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AutoShape 22"/>
          <p:cNvSpPr/>
          <p:nvPr/>
        </p:nvSpPr>
        <p:spPr>
          <a:xfrm>
            <a:off x="1763640" y="28526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nn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3"/>
          <p:cNvSpPr/>
          <p:nvPr/>
        </p:nvSpPr>
        <p:spPr>
          <a:xfrm>
            <a:off x="3276720" y="278136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485928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7596360" y="270828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kir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630072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 flipH="1" flipV="1">
            <a:off x="2410920" y="386028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H="1" flipV="1">
            <a:off x="3924000" y="378900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 flipV="1">
            <a:off x="529272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V="1">
            <a:off x="5580000" y="378900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 flipV="1">
            <a:off x="5940360" y="3716280"/>
            <a:ext cx="22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>
            <a:off x="6084720" y="155736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v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3"/>
          <p:cNvSpPr/>
          <p:nvPr/>
        </p:nvSpPr>
        <p:spPr>
          <a:xfrm>
            <a:off x="3132000" y="1628640"/>
            <a:ext cx="18939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itri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4"/>
          <p:cNvSpPr/>
          <p:nvPr/>
        </p:nvSpPr>
        <p:spPr>
          <a:xfrm rot="19185600">
            <a:off x="7524360" y="234900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5"/>
          <p:cNvSpPr/>
          <p:nvPr/>
        </p:nvSpPr>
        <p:spPr>
          <a:xfrm>
            <a:off x="5076720" y="19890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6"/>
          <p:cNvSpPr/>
          <p:nvPr/>
        </p:nvSpPr>
        <p:spPr>
          <a:xfrm rot="2039400">
            <a:off x="7451640" y="386028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2:40:33Z</dcterms:created>
  <dc:creator>Elvira and Oleg</dc:creator>
  <dc:description/>
  <dc:language>en-US</dc:language>
  <cp:lastModifiedBy>хабир</cp:lastModifiedBy>
  <dcterms:modified xsi:type="dcterms:W3CDTF">2017-10-09T20:46:26Z</dcterms:modified>
  <cp:revision>76</cp:revision>
  <dc:subject/>
  <dc:title>Слайд 1</dc:title>
</cp:coreProperties>
</file>