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1BC27-4452-4E57-B9E7-38F4E67AE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BB27-2967-4A17-AFF2-905FCC790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4CF2F4-0AD2-4841-825D-9A608A64C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F3A43-E4F2-495D-AA3A-502B10A48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37508F-B461-4B11-9513-FDAD61E9BD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D60D0F-F59D-4C48-9D78-3764FA2A1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C8DED9-2D03-4DD9-A8CA-05CDA2983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3C2D3-178D-4807-B34B-2EFE904F8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6073D-106E-4E03-8DF1-70BE0BF40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B6DED-79D6-4773-B114-36046FBF2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690A9-3331-420A-877D-A7B6BDAD2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CD37BC-9C85-4A9A-90CF-ABF93B38E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BDEDE-32D8-4359-AC44-475BA2786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E6FDB-0FCE-4FAF-8147-D763CB95F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4C38C-8D96-42ED-9CAB-8F80B0B4D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F2E73E-B871-473B-AE2C-D0C1EADF04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4B777E-3779-4E48-B2B4-B46A9FD9F0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C6D9FC-3EA0-405F-954B-CA25C8A20B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031444-BF6A-4E56-8023-6462411FB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81E46-3B42-421A-843D-E8556D0F4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414D09-55CA-4EC4-812A-C5BF842B63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829EFC-60AB-4E00-BB54-BB373C9EA4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47E2A-459D-4FD8-99E9-2128B17D9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8768D-7C6F-4736-AEBC-CE5E2CE63B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A6547-6021-4C40-A35E-81E1A91096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2775C-58C0-4E0B-8A31-443922139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F4A50-0BE8-4C28-B597-BE5E34B8AF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2332FC-5468-4B16-BC95-32DFE7672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DB2A6A-4028-4FA7-B5B4-79589CD76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A7EDB49-E912-4E77-ADF4-73E5169D12E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3BD7CC-F3E3-4197-B811-AF572C6E78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F04400B-0FAB-4173-BB72-38FF5F078B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74FA9-AB8D-411E-BBEF-4259AB00F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5883-566E-49C6-AD05-08805CEF3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088A4C-2F91-4D99-A43F-47DB75B66E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96E341-A4D3-4EAA-B0AD-9492C7AF6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7A8C71-22B4-4BB2-952E-F4B356D77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DB993C-4732-4F26-8E43-EEC7B5864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C2B54C-B7A9-4829-887B-D59E51931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EED0A9-7905-42CC-81FE-B128E08E83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D250BE-7CA8-420B-9647-816FA162B8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25C79B-7389-4B0C-8F7B-FE0DA64AB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A920EA-0EBD-4B4B-8A25-40CAC93ADA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BA3B4E-5B45-4448-A5FE-2C2419F9E0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CFBA6-AFA3-4D46-AD51-EE029EF10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16066E-5706-45E0-8D02-D29FB6F3B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9C444B-DD65-4984-9C28-3F14DD5783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4DBB1B-5D47-40A7-8892-D812C96D99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482F5F-29D7-4C36-B429-0BCAEAD3A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7B34DF-D165-4D4D-A421-9CC64FEF47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246A7E-CEB8-421A-B73A-E6DAC8C0E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55D53-4D73-4974-A0EE-2BA1C3274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EACF41-0542-4B1D-BDF8-1A80A49E05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C006A9-C8D4-4F83-9E21-08129496F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3E8F91-F046-4564-A2EE-96BFB87FF4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F45DD-29F1-4442-B1D3-3DC9F8C7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2817D-F0A9-46C3-A2EC-0A03A27CB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1706C8-F752-49C7-A130-22EDFB20D5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55211A-5715-4CAF-9352-A61C25B29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B580C-04A1-4D47-8F30-491592DDFA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A379E-0196-43C6-96C6-F85C8D883A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2E604F-FD08-4F0E-A3EF-3D4E18A6E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AFF1A6-2805-4B31-8192-A344D612F2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742F54-7BFD-4CE8-9A63-A4F6601D6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A8DE7E-D09F-484F-868D-A3A8B1F6CB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4BC1B-C829-4CE9-86D9-41015A5A99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8DC08-893D-4253-8538-6EF160668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561C11-E048-404A-9F81-5369A06EB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47D2243-5E7D-4184-9DB5-7ADAECB093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490109-F418-4AFE-AADF-07659C4BD1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C9C866-C46E-4C29-9397-ABFBB77F27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9CC68-5645-44F3-BC3D-C9B9D3D6BA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51CCF-8660-49DD-AE3C-701812C5B6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65B781-9864-4919-A2FA-21EF05BC1D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232D65-A383-4581-AB9E-A02D1CCBB0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AC91E5-39CA-4973-9C0F-E132866744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CE019-7967-4F17-AE03-FB07C202A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AD2B0-28CF-44D0-9D7E-B2328BEA2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2858E5-B99A-42C5-86E0-5B80BD1CBE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710BE0-305B-4673-A6EB-2B2A7D3611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3D5FB9-6470-4B9E-A6CE-FA57B6CB57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06F9C6-C5F9-448E-9613-4DA6A6836F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0193D1-DBFB-4DFE-9DA4-43778B74E2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1A137-D4FF-4628-8085-595EED3F4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2977-6DCD-4DEE-B868-DD5CEAD42622}"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Прямоугольник 31"/>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1" name="Прямоугольник 3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2" name="Прямоугольник 3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3" name="Прямоугольник 4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4" name="Прямоугольник 41"/>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5" name="Прямоугольник 55"/>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6" name="Прямоугольник 64"/>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7" name="Прямоугольник 65"/>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8" name="Прямоугольник 66"/>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C031-4EC8-4B1C-B0E4-CCF04B4DDD01}"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1"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2"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3"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4"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5"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6"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7"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8"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09" name="Полилиния 13"/>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48" y="3648"/>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0" name="Полилиния 14"/>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1" name="Полилиния 12"/>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2" name="Полилиния 15"/>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3" name="Полилиния 16"/>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4" name="Полилиния 17"/>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5" name="Полилиния 18"/>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6" name="Полилиния 19"/>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7" name="Полилиния 20"/>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8" name="Полилиния 21"/>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19" name="Полилиния 22"/>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0" name="Полилиния 23"/>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1" name="Полилиния 24"/>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2" name="Полилиния 25"/>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3" name="Полилиния 26"/>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anchor="t">
            <a:noAutofit/>
          </a:bodyPr>
          <a:p>
            <a:endParaRPr b="0" lang="en-US" sz="1800" spc="-1" strike="noStrike">
              <a:solidFill>
                <a:srgbClr val="ffffff"/>
              </a:solidFill>
              <a:latin typeface="Corbel"/>
            </a:endParaRPr>
          </a:p>
        </p:txBody>
      </p:sp>
      <p:sp>
        <p:nvSpPr>
          <p:cNvPr id="124" name="Прямоугольник 6"/>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5" name="Прямоугольник 7"/>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6" name="Прямоугольник 8"/>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7" name="Прямоугольник 9"/>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8" name="Прямоугольник 10"/>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29" name="Прямоугольник 11"/>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F673-44D6-43B7-8C41-F6510BB09C05}"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A33BA-1902-4DD4-B49E-E45B6A16D515}"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Прямоугольник 24"/>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3" name="Прямоугольник 15"/>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4" name="Прямоугольник 16"/>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5" name="Прямоугольник 17"/>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Прямоугольник 18"/>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Прямоугольник 19"/>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Прямоугольник 20"/>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Прямоугольник 21"/>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0" name="Прямоугольник 28"/>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1" name="Прямоугольник 29"/>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00A9-A3D9-4C85-BB41-EF6CC6A9FBE2}"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3F03-C154-4D47-80EB-3796B363E8FA}"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Прямоугольник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5" name="Прямоугольник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6" name="Прямоугольник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7" name="Прямоугольник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8" name="Прямоугольник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09" name="Прямоугольник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0" name="Прямоугольник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1" name="Прямоугольник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2" name="Прямоугольник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3" name="Прямоугольник 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14" name="Прямая соединительная линия 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grpSp>
        <p:nvGrpSpPr>
          <p:cNvPr id="315" name="Группа 9"/>
          <p:cNvGrpSpPr/>
          <p:nvPr/>
        </p:nvGrpSpPr>
        <p:grpSpPr>
          <a:xfrm>
            <a:off x="8516880" y="1217520"/>
            <a:ext cx="128160" cy="131760"/>
            <a:chOff x="8516880" y="1217520"/>
            <a:chExt cx="128160" cy="131760"/>
          </a:xfrm>
        </p:grpSpPr>
        <p:sp>
          <p:nvSpPr>
            <p:cNvPr id="316" name="Прямая соединительная линия 14"/>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17" name="Прямая соединительная линия 15"/>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18" name="Прямая соединительная линия 16"/>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19" name="Группа 13"/>
          <p:cNvGrpSpPr/>
          <p:nvPr/>
        </p:nvGrpSpPr>
        <p:grpSpPr>
          <a:xfrm>
            <a:off x="8669160" y="1370160"/>
            <a:ext cx="128880" cy="131760"/>
            <a:chOff x="8669160" y="1370160"/>
            <a:chExt cx="128880" cy="131760"/>
          </a:xfrm>
        </p:grpSpPr>
        <p:sp>
          <p:nvSpPr>
            <p:cNvPr id="320" name="Прямая соединительная линия 10"/>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1" name="Прямая соединительная линия 11"/>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2" name="Прямая соединительная линия 12"/>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grpSp>
        <p:nvGrpSpPr>
          <p:cNvPr id="323" name="Группа 17"/>
          <p:cNvGrpSpPr/>
          <p:nvPr/>
        </p:nvGrpSpPr>
        <p:grpSpPr>
          <a:xfrm>
            <a:off x="8321760" y="1473120"/>
            <a:ext cx="128160" cy="131760"/>
            <a:chOff x="8321760" y="1473120"/>
            <a:chExt cx="128160" cy="131760"/>
          </a:xfrm>
        </p:grpSpPr>
        <p:sp>
          <p:nvSpPr>
            <p:cNvPr id="324" name="Прямая соединительная линия 18"/>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Corbel"/>
              </a:endParaRPr>
            </a:p>
          </p:txBody>
        </p:sp>
        <p:sp>
          <p:nvSpPr>
            <p:cNvPr id="325" name="Прямая соединительная линия 19"/>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orbel"/>
              </a:endParaRPr>
            </a:p>
          </p:txBody>
        </p:sp>
        <p:sp>
          <p:nvSpPr>
            <p:cNvPr id="326" name="Прямая соединительная линия 20"/>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Corbe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d6ecff"/>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6ec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C296-911E-4995-841B-5E31D31B48AB}" type="slidenum">
              <a:rPr b="0" lang="ru-RU" sz="1200" spc="-1" strike="noStrike">
                <a:solidFill>
                  <a:srgbClr val="d6ec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347640" y="0"/>
            <a:ext cx="5545080" cy="1773360"/>
          </a:xfrm>
          <a:prstGeom prst="rect">
            <a:avLst/>
          </a:prstGeom>
          <a:noFill/>
          <a:ln w="0">
            <a:noFill/>
          </a:ln>
        </p:spPr>
        <p:txBody>
          <a:bodyPr lIns="100440" rIns="90000" bIns="4680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orbel"/>
              </a:rPr>
              <a:t> </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Corbel"/>
              </a:rPr>
              <a:t>«Надо называть вещи своими именами. Я много думал и передумал снова и снова. Тысячи сложных и сложнейших операций и … довольно много смертей. Среди них много таких, в которых я прямо виноват, нет, нет, это не убийства! Все во мне содрогается и протестует. Ведь я сознательно шёл на риск для спасения жизни».   </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Corbel"/>
              </a:rPr>
              <a:t>Н. М. Амосов</a:t>
            </a:r>
            <a:endParaRPr b="0" lang="en-US" sz="1700" spc="-1" strike="noStrike">
              <a:solidFill>
                <a:srgbClr val="ffffff"/>
              </a:solidFill>
              <a:latin typeface="Corbel"/>
            </a:endParaRPr>
          </a:p>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p:txBody>
      </p:sp>
      <p:sp>
        <p:nvSpPr>
          <p:cNvPr id="369" name=""/>
          <p:cNvSpPr/>
          <p:nvPr/>
        </p:nvSpPr>
        <p:spPr>
          <a:xfrm>
            <a:off x="1116000" y="1844640"/>
            <a:ext cx="621180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b8a3"/>
                </a:solidFill>
                <a:latin typeface="Arial"/>
              </a:rPr>
              <a:t>ТЕМ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b8a3"/>
                </a:solidFill>
                <a:latin typeface="Arial"/>
              </a:rPr>
              <a:t>МЕДИЦИНСКАЯ ОШИБКА</a:t>
            </a: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ВЫПОЛНИЛИ: СТУДЕНТЫ 4 КУРСА 41 ГРУППЫ</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ОРЛОВА НАДЕЖДА </a:t>
            </a:r>
            <a:endParaRPr b="0" lang="en-US" sz="1800" spc="-1" strike="noStrike">
              <a:solidFill>
                <a:srgbClr val="ffffff"/>
              </a:solidFill>
              <a:latin typeface="Corbe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bc0ef"/>
                </a:solidFill>
                <a:latin typeface="Arial"/>
              </a:rPr>
              <a:t>МУРАДАЛИЕВ МАМЕДРЗА</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24000" y="188640"/>
            <a:ext cx="8712000" cy="3384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1eeff"/>
                </a:solidFill>
                <a:latin typeface="Consolas"/>
              </a:rPr>
              <a:t>II</a:t>
            </a:r>
            <a:r>
              <a:rPr b="1" lang="ru-RU" sz="2000" spc="-1" strike="noStrike">
                <a:solidFill>
                  <a:srgbClr val="c1eeff"/>
                </a:solidFill>
                <a:latin typeface="Consolas"/>
              </a:rPr>
              <a:t>.Материальная ответственность </a:t>
            </a:r>
            <a:br>
              <a:rPr sz="2000"/>
            </a:br>
            <a:br>
              <a:rPr sz="1400"/>
            </a:br>
            <a:r>
              <a:rPr b="0" lang="ru-RU" sz="1400" spc="-1" strike="noStrike">
                <a:solidFill>
                  <a:srgbClr val="c1eeff"/>
                </a:solidFill>
                <a:latin typeface="Consolas"/>
              </a:rPr>
              <a:t>В соответствии с Основами законодательства об охране здоровья в России существуют три вида системы здравоохранения — государственная, муниципальная и частная. Право возмещения материального ущерба и морального вреда, нанесенного пациенту во время оказания ему некачественной медицинской помощи, в России закреплено статьями 1064-1101 ГК РФ; ст. 14-17 закона "О защите прав потребителей"; </a:t>
            </a:r>
            <a:br>
              <a:rPr sz="1400"/>
            </a:br>
            <a:r>
              <a:rPr b="0" lang="ru-RU" sz="1400" spc="-1" strike="noStrike">
                <a:solidFill>
                  <a:srgbClr val="c1eeff"/>
                </a:solidFill>
                <a:latin typeface="Consolas"/>
              </a:rPr>
              <a:t>ст. 66, 67, 69 "Основ законодательства в Российской Федерации об охране здоровья граждан". Вред — это всякое умаление какого-либо блага или охраняемого законом интереса. Вред делят на имущественный (материальный, включая физический вред) и моральный. Убытки — денежная оценка причиненного вреда. Моральный вред — физические и нравственные страдания (ст. 151 ГК РФ). Возмещению подлежит утраченный</a:t>
            </a:r>
            <a:br>
              <a:rPr sz="1400"/>
            </a:br>
            <a:r>
              <a:rPr b="0" lang="ru-RU" sz="1400" spc="-1" strike="noStrike">
                <a:solidFill>
                  <a:srgbClr val="c1eeff"/>
                </a:solidFill>
                <a:latin typeface="Consolas"/>
              </a:rPr>
              <a:t>заработок (доход), который гражданин имел либо определенно мог иметь, а также дополнительно понесенные расходы, вызванные повреждением здоровья, в том числе расходы на лечение, дополнительное питание, приобретение лекарств, протезирование, посторонний уход, санаторно-курортное лечение, приобретение специальных транспортных средств, подготовку к другой профессии.</a:t>
            </a:r>
            <a:endParaRPr b="0" lang="en-US" sz="1400" spc="-1" strike="noStrike">
              <a:solidFill>
                <a:srgbClr val="c1eeff"/>
              </a:solidFill>
              <a:latin typeface="Consolas"/>
            </a:endParaRPr>
          </a:p>
        </p:txBody>
      </p:sp>
      <p:sp>
        <p:nvSpPr>
          <p:cNvPr id="394" name=""/>
          <p:cNvSpPr txBox="1"/>
          <p:nvPr/>
        </p:nvSpPr>
        <p:spPr>
          <a:xfrm>
            <a:off x="250560" y="3645000"/>
            <a:ext cx="8893080" cy="3024000"/>
          </a:xfrm>
          <a:prstGeom prst="rect">
            <a:avLst/>
          </a:prstGeom>
          <a:noFill/>
          <a:ln w="0">
            <a:noFill/>
          </a:ln>
        </p:spPr>
        <p:txBody>
          <a:bodyPr lIns="90000" rIns="90000" tIns="46800" bIns="46800"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Вот тут то и возникают проблемы. В нашей стране до сих пор существует система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двойных стандартов, что очень осложняет определение размера возмещения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атериального вреда. Каким образом предусмотрено определение компенсации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орального вреда вообще не понятно. По крайней мере, закон такого определе-</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ия не имеет. Размер компенсации определяется только судом, и руководствует-</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я в своем решении определением – "разумность и справедливость, характер и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тепень страданий, степень вины причинителя" (1101 ГК РФ).</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ри самом благоприятном исходе для пострадавшего (вина доказана, суд </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выигран, у ответчика есть деньги) судебная оценка стоимости врачебной ошибки представляет</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ебольшие суммы, не покрывающие затраты на сбор доказательств, юридическую помощь и</a:t>
            </a:r>
            <a:endParaRPr b="0" lang="en-US" sz="14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отраченное время в процессах. </a:t>
            </a:r>
            <a:endParaRPr b="0" lang="en-US" sz="14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pic>
        <p:nvPicPr>
          <p:cNvPr id="395" name="Picture 2" descr="http://www.medicus.ru/images/upload/3927.jpg"/>
          <p:cNvPicPr/>
          <p:nvPr/>
        </p:nvPicPr>
        <p:blipFill>
          <a:blip r:embed="rId1"/>
          <a:stretch/>
        </p:blipFill>
        <p:spPr>
          <a:xfrm>
            <a:off x="7236000" y="3357720"/>
            <a:ext cx="1565280" cy="2054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316080"/>
            <a:ext cx="8229600" cy="59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c1eeff"/>
              </a:solidFill>
              <a:latin typeface="Consolas"/>
            </a:endParaRPr>
          </a:p>
        </p:txBody>
      </p:sp>
      <p:sp>
        <p:nvSpPr>
          <p:cNvPr id="397" name=""/>
          <p:cNvSpPr txBox="1"/>
          <p:nvPr/>
        </p:nvSpPr>
        <p:spPr>
          <a:xfrm>
            <a:off x="395280" y="765000"/>
            <a:ext cx="8291520" cy="5361120"/>
          </a:xfrm>
          <a:prstGeom prst="rect">
            <a:avLst/>
          </a:prstGeom>
          <a:noFill/>
          <a:ln w="0">
            <a:noFill/>
          </a:ln>
        </p:spPr>
        <p:txBody>
          <a:bodyPr lIns="90000" rIns="90000" tIns="46800" bIns="46800" anchor="t">
            <a:normAutofit fontScale="99000"/>
          </a:bodyPr>
          <a:p>
            <a:pPr marL="406800" indent="-339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По оценкам независимых экспертов смерть пациентов в результате ошибочных действий медицинских работников в российской Федерации наступает в 45-50 тыс. случаев ежегодно.</a:t>
            </a:r>
            <a:endParaRPr b="0" lang="en-US" sz="1900" spc="-1" strike="noStrike">
              <a:solidFill>
                <a:srgbClr val="ffffff"/>
              </a:solidFill>
              <a:latin typeface="Corbel"/>
            </a:endParaRPr>
          </a:p>
          <a:p>
            <a:pPr marL="406800" indent="-3391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orbel"/>
              </a:rPr>
              <a:t>Можно обвинять врачей в халатности и врачебных ошибках, можно говорить о низком уровне подготовки медицинских работников и недостаточном финансировании медицины в общем, можно использовать рецепты народной медицины — однако это не изменит ситуацию. Ясно одно, проблема не должна перерасти в "охоту на ведьм". Она должна стать крайней точкой, от которой необходимо в кратчайшие сроки пересмотреть всю законодательную систему в области медицины. При этом надо четко понимать, что закон должен защищать не только пациентов, но и врачей. На сегодняшний день на рассмотрении в Правительстве Российской Федерации находится проект "Концепции развития здравоохранения Российской Федерации до 2020 года", в соответствии с которой к числу первоочередных задач отнесено совершенствование законодательства в сфере здравоохранения, в том числе, разработка законов "О правах пациентов" и "О страховании профессиональной ответственности медицинских работников". Насколько эффективной будет проводимая работа в этой области, мы сможем судить в ближайшие годы.</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pic>
        <p:nvPicPr>
          <p:cNvPr id="399" name="Содержимое 2" descr=""/>
          <p:cNvPicPr/>
          <p:nvPr/>
        </p:nvPicPr>
        <p:blipFill>
          <a:blip r:embed="rId1"/>
          <a:stretch/>
        </p:blipFill>
        <p:spPr>
          <a:xfrm>
            <a:off x="907920" y="1566720"/>
            <a:ext cx="7785360" cy="479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3644640"/>
            <a:ext cx="8207280" cy="321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1eeff"/>
                </a:solidFill>
                <a:latin typeface="Consolas"/>
              </a:rPr>
              <a:t>В "Основах законодательства Российской Федерации об охране здоровья граждан" есть лишь упоминание о профессиональной ошибке, но ее содержание не раскрывается. Более того, на сегодня нет и юридического понятия "ошибки в профессиональной медицинской деятельности". Уголовный кодекс Российской Федерации также не содержит норму, раскрывающую содержание врачебной ошибки. Наиболее часто врачебная ошибка (ВО) характеризуется следующим определением:</a:t>
            </a:r>
            <a:br>
              <a:rPr sz="1800"/>
            </a:br>
            <a:r>
              <a:rPr b="0" lang="en-US" sz="1800" spc="-1" strike="noStrike">
                <a:solidFill>
                  <a:srgbClr val="c1eeff"/>
                </a:solidFill>
                <a:latin typeface="Consolas"/>
              </a:rPr>
              <a:t>      «неправильные действия или бездействие медработника при исполнении своих профессиональных обязанностей, не являющиеся следствием его недобросовестности и не содержащее состава преступления или признаков проступка».</a:t>
            </a:r>
            <a:br>
              <a:rPr sz="2000"/>
            </a:br>
            <a:endParaRPr b="0" lang="en-US" sz="1800" spc="-1" strike="noStrike">
              <a:solidFill>
                <a:srgbClr val="c1eeff"/>
              </a:solidFill>
              <a:latin typeface="Consolas"/>
            </a:endParaRPr>
          </a:p>
        </p:txBody>
      </p:sp>
      <p:sp>
        <p:nvSpPr>
          <p:cNvPr id="371" name=""/>
          <p:cNvSpPr txBox="1"/>
          <p:nvPr/>
        </p:nvSpPr>
        <p:spPr>
          <a:xfrm>
            <a:off x="179280" y="907560"/>
            <a:ext cx="6624720" cy="2737080"/>
          </a:xfrm>
          <a:prstGeom prst="rect">
            <a:avLst/>
          </a:prstGeom>
          <a:noFill/>
          <a:ln w="0">
            <a:noFill/>
          </a:ln>
        </p:spPr>
        <p:txBody>
          <a:bodyPr lIns="90000" rIns="90000" tIns="46800" bIns="46800" anchor="t">
            <a:normAutofit fontScale="92000"/>
          </a:bodyPr>
          <a:p>
            <a:pPr marL="378000" indent="-3150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378000" indent="-31500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Часть 1 Статья 41 Конституции Российской Федерации</a:t>
            </a:r>
            <a:br>
              <a:rPr sz="2000"/>
            </a:br>
            <a:r>
              <a:rPr b="0" i="1" lang="en-US" sz="2000" spc="-1" strike="noStrike">
                <a:solidFill>
                  <a:srgbClr val="ffffff"/>
                </a:solidFill>
                <a:latin typeface="Corbel"/>
              </a:rPr>
              <a:t>Каждый имеет право на охрану здоровья и медицинскую помощь. Медицинская помощь в государственных и муниципальных учреждениях здравоохранения оказывается гражданам бесплатно за счет средств соответствующего бюджета, страховых взносов, других поступлений.</a:t>
            </a:r>
            <a:br>
              <a:rPr sz="2000"/>
            </a:br>
            <a:br>
              <a:rPr sz="2100"/>
            </a:br>
            <a:endParaRPr b="0" lang="en-US" sz="2000" spc="-1" strike="noStrike">
              <a:solidFill>
                <a:srgbClr val="ffffff"/>
              </a:solidFill>
              <a:latin typeface="Corbel"/>
            </a:endParaRPr>
          </a:p>
        </p:txBody>
      </p:sp>
      <p:pic>
        <p:nvPicPr>
          <p:cNvPr id="372" name="Picture 2" descr="Картинка 164 из 31443"/>
          <p:cNvPicPr/>
          <p:nvPr/>
        </p:nvPicPr>
        <p:blipFill>
          <a:blip r:embed="rId1"/>
          <a:stretch/>
        </p:blipFill>
        <p:spPr>
          <a:xfrm>
            <a:off x="7164360" y="189000"/>
            <a:ext cx="1692360" cy="338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0"/>
            <a:ext cx="8229600" cy="90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Врачебная ошибка глазами древних</a:t>
            </a:r>
            <a:endParaRPr b="0" lang="en-US" sz="2400" spc="-1" strike="noStrike">
              <a:solidFill>
                <a:srgbClr val="c1eeff"/>
              </a:solidFill>
              <a:latin typeface="Consolas"/>
            </a:endParaRPr>
          </a:p>
        </p:txBody>
      </p:sp>
      <p:sp>
        <p:nvSpPr>
          <p:cNvPr id="374" name=""/>
          <p:cNvSpPr txBox="1"/>
          <p:nvPr/>
        </p:nvSpPr>
        <p:spPr>
          <a:xfrm>
            <a:off x="179280" y="765000"/>
            <a:ext cx="8569440" cy="5904000"/>
          </a:xfrm>
          <a:prstGeom prst="rect">
            <a:avLst/>
          </a:prstGeom>
          <a:noFill/>
          <a:ln w="0">
            <a:noFill/>
          </a:ln>
        </p:spPr>
        <p:txBody>
          <a:bodyPr lIns="90000" rIns="90000" tIns="46800" bIns="46800" anchor="t">
            <a:normAutofit fontScale="96000"/>
          </a:bodyPr>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Известно, что законодательство, регламентирующее ответственность медиков за врачебные ошибки, появилось еще в глубокой древности. Одним из наиболее известных законодательных актов, дошедших до нас, является высеченный на камне Свод законов Хаммурапи, который правил Вавилоном и объединенной Месопотамией </a:t>
            </a: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в 1792 — 1750 гг. до н.э. В нем ответственности за врачебную ошибку отведено три параграфа.</a:t>
            </a:r>
            <a:br>
              <a:rPr sz="1200"/>
            </a:b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В Древней Индии согласно Своду законов Ману (X — V вв. до н.э.) врач за ошибочное лечение подвергался штрафу, размер которого определялся в зависимости от кастового положения больного. </a:t>
            </a:r>
            <a:br>
              <a:rPr sz="1200"/>
            </a:br>
            <a:r>
              <a:rPr b="0" lang="en-US" sz="1200" spc="-1" strike="noStrike">
                <a:solidFill>
                  <a:srgbClr val="ffffff"/>
                </a:solidFill>
                <a:latin typeface="Corbel"/>
              </a:rPr>
              <a:t>В Древней Греции врачебное мастерство ценилось очень высоко, поэтому медики за ошибки освобождались от ответственности, если больной умирал "против воли врачующего". </a:t>
            </a:r>
            <a:br>
              <a:rPr sz="1200"/>
            </a:br>
            <a:endParaRPr b="0" lang="en-US" sz="1200" spc="-1" strike="noStrike">
              <a:solidFill>
                <a:srgbClr val="ffffff"/>
              </a:solidFill>
              <a:latin typeface="Corbel"/>
            </a:endParaRPr>
          </a:p>
          <a:p>
            <a:pPr marL="394560" indent="-3286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Римское право предусматривало наказание врача за грубые ошибки, причем понятие "врачебные ошибки" было весьма широким. Сюда относились и неопытность, и неосторожность врачей, и неоказание медицинской помощи. Римское право уже допускало правомерность смерти больного вследствие тяжести заболевания. Умышленное умерщвление больного, отравление его с помощью яда, аборт, кастрация не относились к профессиональным преступлениям, ответственность медиков за них была такой же, как и других граждан.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В Англии в XV веке хирург, который нанес ущерб пациенту, представал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перед судом мэра города, и по приговору последнего подвергался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штрафу, тюремному заключению или на определенный срок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лишался врачебной практики. </a:t>
            </a:r>
            <a:br>
              <a:rPr sz="1200"/>
            </a:b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В истории Древней Руси врачевание приравнивалось к волхованию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и чародейству. Поэтому за врачебные ошибки врач нес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ответственность как за умышленное преступление.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Примером может служить умерщвление лекаря Леона, который лечил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больного сына великого князя Иоанна III, но не смог его спасти</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от смерти. В 1686 г. в одном из царских указов лекари предупреждались, </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что "буде из них кто нарочно или не нарочно кого уморят, а про то</a:t>
            </a:r>
            <a:endParaRPr b="0" lang="en-US" sz="1200" spc="-1" strike="noStrike">
              <a:solidFill>
                <a:srgbClr val="ffffff"/>
              </a:solidFill>
              <a:latin typeface="Corbel"/>
            </a:endParaRPr>
          </a:p>
          <a:p>
            <a:pPr marL="394560" indent="-328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                                     </a:t>
            </a:r>
            <a:r>
              <a:rPr b="0" lang="en-US" sz="1200" spc="-1" strike="noStrike">
                <a:solidFill>
                  <a:srgbClr val="ffffff"/>
                </a:solidFill>
                <a:latin typeface="Corbel"/>
              </a:rPr>
              <a:t>сыщется, им быть казненными смертью". </a:t>
            </a:r>
            <a:endParaRPr b="0" lang="en-US" sz="1200" spc="-1" strike="noStrike">
              <a:solidFill>
                <a:srgbClr val="ffffff"/>
              </a:solidFill>
              <a:latin typeface="Corbel"/>
            </a:endParaRPr>
          </a:p>
        </p:txBody>
      </p:sp>
      <p:pic>
        <p:nvPicPr>
          <p:cNvPr id="375" name="Picture 4" descr="Картинка 10 из 31443"/>
          <p:cNvPicPr/>
          <p:nvPr/>
        </p:nvPicPr>
        <p:blipFill>
          <a:blip r:embed="rId1"/>
          <a:stretch/>
        </p:blipFill>
        <p:spPr>
          <a:xfrm>
            <a:off x="5580000" y="3511440"/>
            <a:ext cx="3384720" cy="290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0"/>
            <a:ext cx="822960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Из современной истории нашей страны</a:t>
            </a:r>
            <a:endParaRPr b="0" lang="en-US" sz="2400" spc="-1" strike="noStrike">
              <a:solidFill>
                <a:srgbClr val="c1eeff"/>
              </a:solidFill>
              <a:latin typeface="Consolas"/>
            </a:endParaRPr>
          </a:p>
        </p:txBody>
      </p:sp>
      <p:sp>
        <p:nvSpPr>
          <p:cNvPr id="377" name=""/>
          <p:cNvSpPr txBox="1"/>
          <p:nvPr/>
        </p:nvSpPr>
        <p:spPr>
          <a:xfrm>
            <a:off x="0" y="549360"/>
            <a:ext cx="8964720" cy="6480000"/>
          </a:xfrm>
          <a:prstGeom prst="rect">
            <a:avLst/>
          </a:prstGeom>
          <a:noFill/>
          <a:ln w="0">
            <a:noFill/>
          </a:ln>
        </p:spPr>
        <p:txBody>
          <a:bodyPr lIns="90000" rIns="90000" tIns="46800" bIns="46800" anchor="t">
            <a:normAutofit fontScale="94000"/>
          </a:bodyPr>
          <a:p>
            <a:pPr marL="386280" indent="-321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386280" indent="-3218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ffff"/>
                </a:solidFill>
                <a:latin typeface="Corbel"/>
              </a:rPr>
              <a:t>В 1928 г. И.В.Марковин, известный ученый, профессор кафедры судебной медицины Ростовского университета, возглавлявший судебно-медицинскую лабораторию в г. Ростов-на-Дону, в подробной статье, опубликованной в журнале "Судебно-медицинская экспертиза" (№8, с.81-95) отмечает заметный рост уголовных дел в отношении врачей по сравнению с дореволюционным временем. Этот период характеризуется вниманием к этому вопросу медицинских научных обществ, журналов, газет, съездов врачей, совещаний врачей и юристов. </a:t>
            </a:r>
            <a:br>
              <a:rPr sz="1300"/>
            </a:br>
            <a:br>
              <a:rPr sz="1300"/>
            </a:br>
            <a:r>
              <a:rPr b="0" lang="ru-RU" sz="1300" spc="-1" strike="noStrike">
                <a:solidFill>
                  <a:srgbClr val="ffffff"/>
                </a:solidFill>
                <a:latin typeface="Corbel"/>
              </a:rPr>
              <a:t>В двадцатые годы наметились противоречия между врачами и юристами по вопросу об отношении к врачебным дефектам. Дискуссию вызвало нашумевшее заявление российского акушерско-гинекологического общества, обратившегося в Народный Комиссариат здравоохранения (1925г.), в котором обращается внимание на непомерный рост уголовных обвинений врачей за ошибки и дефекты в их профессиональной работе. С 1921 по 1925 г.г. имело место 64 случая обвинений. Между тем, малая осведомленность обывательских групп в вопросах медицины создает преувеличенные надежды и необоснованные требования к врачам. В связи с этим предлагалось создание особых комиссий при здравотделах университетских городов для разбора дела и предания врача суду или покаянию, а в сложных случаях — для передачи дел Центральной экспертной комиссии при НКЗ для окончательного решения. </a:t>
            </a:r>
            <a:br>
              <a:rPr sz="1300"/>
            </a:br>
            <a:br>
              <a:rPr sz="1300"/>
            </a:br>
            <a:r>
              <a:rPr b="0" lang="ru-RU" sz="1300" spc="-1" strike="noStrike">
                <a:solidFill>
                  <a:srgbClr val="ffffff"/>
                </a:solidFill>
                <a:latin typeface="Corbel"/>
              </a:rPr>
              <a:t>Против такого взгляда резко отрицательно выступили юристы и часть медицинской общественности, которые подчеркивали равную со всеми гражданами правовую ответственность врачей. Поэтому они считали не нужным создавать какие-то дополнительные статьи в УК, а также специальные правила для врачей. И при возбуждении уголовных дел в отношении врачей руководствоваться общими. </a:t>
            </a:r>
            <a:br>
              <a:rPr sz="1300"/>
            </a:br>
            <a:br>
              <a:rPr sz="1300"/>
            </a:br>
            <a:r>
              <a:rPr b="0" lang="ru-RU" sz="1300" spc="-1" strike="noStrike">
                <a:solidFill>
                  <a:srgbClr val="ffffff"/>
                </a:solidFill>
                <a:latin typeface="Corbel"/>
              </a:rPr>
              <a:t>В 1970-1980 гг. сложилась определенная практика расследования и судебно-медицинской экспертизы, существующая и в настоящее время. Новый всплеск интереса и явных изменений в расследовании "врачебных дел", в характере ответственности медицинских работников произошел в девяностые годы ушедшего столетия. Они связаны с коренными изменениями общественно-политической, социальной, экономической жизни общества, в том числе и в области охраны здоровья населения. Например, с внедрением страховой медицины, развитием платных медицинских услуг, разрешением частной врачебной деятельности и целительства. Эти изменения в медицине, прежде всего, касаются принципиальных различий в правовых и морально-этических взаимоотношениях врача и больного до и после 1991-го и, в особенности, 1993-го, когда были приняты основы законодательства РФ об охране здоровья граждан. </a:t>
            </a:r>
            <a:endParaRPr b="0" lang="en-US" sz="13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47280" y="-360"/>
            <a:ext cx="7139160" cy="642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600" spc="-1" strike="noStrike">
              <a:solidFill>
                <a:srgbClr val="c1eeff"/>
              </a:solidFill>
              <a:latin typeface="Consolas"/>
            </a:endParaRPr>
          </a:p>
        </p:txBody>
      </p:sp>
      <p:sp>
        <p:nvSpPr>
          <p:cNvPr id="379" name=""/>
          <p:cNvSpPr txBox="1"/>
          <p:nvPr/>
        </p:nvSpPr>
        <p:spPr>
          <a:xfrm>
            <a:off x="3203640" y="333000"/>
            <a:ext cx="5472000" cy="633564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Corbel"/>
              </a:rPr>
              <a:t>Cудебно-медицинский эксперт и учёный Израиль Гамшеевич Вермель называл три условия, при наличии которых (всех одновременно), с его точки зрения, должна наступать уголовная ответственность медицинских работников за ненадлежащее лечение:</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Действия медицинского работника в конкретном случае были объективно неправильными, находящимися в противоречии с общепризнанными и общепринятыми правилами медицины.</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Медицинский работник в силу полученного образования и занимаемой должности должен был сознавать, что действия его являются неправильными и потому могут причинить вред больному.</a:t>
            </a:r>
            <a:endParaRPr b="0" lang="en-US" sz="19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ffffff"/>
                </a:solidFill>
                <a:latin typeface="Corbel"/>
              </a:rPr>
              <a:t>             </a:t>
            </a:r>
            <a:r>
              <a:rPr b="0" lang="ru-RU" sz="1900" spc="-1" strike="noStrike">
                <a:solidFill>
                  <a:srgbClr val="ffffff"/>
                </a:solidFill>
                <a:latin typeface="Symbol"/>
                <a:ea typeface="Symbol"/>
              </a:rPr>
              <a:t></a:t>
            </a:r>
            <a:r>
              <a:rPr b="0" lang="ru-RU" sz="1900" spc="-1" strike="noStrike">
                <a:solidFill>
                  <a:srgbClr val="ffffff"/>
                </a:solidFill>
                <a:latin typeface="Corbel"/>
              </a:rPr>
              <a:t> </a:t>
            </a:r>
            <a:r>
              <a:rPr b="0" lang="ru-RU" sz="1900" spc="-1" strike="noStrike">
                <a:solidFill>
                  <a:srgbClr val="ffffff"/>
                </a:solidFill>
                <a:latin typeface="Corbel"/>
              </a:rPr>
              <a:t>Эти объективно неправильные действия способствовали наступлению неблагоприятных последствий — смерти больного или причинение существенного вреда его здоровью.</a:t>
            </a:r>
            <a:endParaRPr b="0" lang="en-US" sz="1900" spc="-1" strike="noStrike">
              <a:solidFill>
                <a:srgbClr val="ffffff"/>
              </a:solidFill>
              <a:latin typeface="Corbel"/>
            </a:endParaRPr>
          </a:p>
          <a:p>
            <a:pPr marL="411120" indent="-342720" algn="just">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orbel"/>
            </a:endParaRPr>
          </a:p>
        </p:txBody>
      </p:sp>
      <p:pic>
        <p:nvPicPr>
          <p:cNvPr id="380" name="Picture 2" descr="Картинка 4 из 4755"/>
          <p:cNvPicPr/>
          <p:nvPr/>
        </p:nvPicPr>
        <p:blipFill>
          <a:blip r:embed="rId1"/>
          <a:stretch/>
        </p:blipFill>
        <p:spPr>
          <a:xfrm>
            <a:off x="468360" y="476280"/>
            <a:ext cx="2338200" cy="3440160"/>
          </a:xfrm>
          <a:prstGeom prst="rect">
            <a:avLst/>
          </a:prstGeom>
          <a:ln w="0">
            <a:noFill/>
          </a:ln>
        </p:spPr>
      </p:pic>
      <p:pic>
        <p:nvPicPr>
          <p:cNvPr id="381" name="Picture 6" descr="Картинка 59 из 4755"/>
          <p:cNvPicPr/>
          <p:nvPr/>
        </p:nvPicPr>
        <p:blipFill>
          <a:blip r:embed="rId2"/>
          <a:stretch/>
        </p:blipFill>
        <p:spPr>
          <a:xfrm>
            <a:off x="611280" y="4365720"/>
            <a:ext cx="2857320" cy="190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116000" y="0"/>
            <a:ext cx="7632720" cy="1052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Квалификация</a:t>
            </a:r>
            <a:endParaRPr b="0" lang="en-US" sz="2400" spc="-1" strike="noStrike">
              <a:solidFill>
                <a:srgbClr val="c1eeff"/>
              </a:solidFill>
              <a:latin typeface="Consolas"/>
            </a:endParaRPr>
          </a:p>
        </p:txBody>
      </p:sp>
      <p:sp>
        <p:nvSpPr>
          <p:cNvPr id="383" name=""/>
          <p:cNvSpPr txBox="1"/>
          <p:nvPr/>
        </p:nvSpPr>
        <p:spPr>
          <a:xfrm>
            <a:off x="468000" y="259920"/>
            <a:ext cx="8496360" cy="659772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ru-RU" sz="1400" spc="-1" strike="noStrike">
                <a:solidFill>
                  <a:srgbClr val="ffffff"/>
                </a:solidFill>
                <a:latin typeface="Corbel"/>
              </a:rPr>
              <a:t>С целью юридической квалификации необходимо выделить субъективные и объективные причины ошибок в медицинской практике. </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К </a:t>
            </a:r>
            <a:r>
              <a:rPr b="0" i="1" lang="ru-RU" sz="1400" spc="-1" strike="noStrike">
                <a:solidFill>
                  <a:srgbClr val="ffffff"/>
                </a:solidFill>
                <a:latin typeface="Corbel"/>
              </a:rPr>
              <a:t>объективным причинам </a:t>
            </a:r>
            <a:r>
              <a:rPr b="0" lang="ru-RU" sz="1400" spc="-1" strike="noStrike">
                <a:solidFill>
                  <a:srgbClr val="ffffff"/>
                </a:solidFill>
                <a:latin typeface="Corbel"/>
              </a:rPr>
              <a:t>стоит отнести наказуемые врачебные ошибки, совершенные вследствие неосторожности или недостаточности опыта, а так же знаний врача: например, при невнимательном обследовании, неадекватной оценке клинических и лабораторных данных, небрежном выполнении операций и других лечебно-профилактических мероприятий, небрежном уходе и наблюдении за пациентом, неудовлетворительной организации деятельности медицинских учреждений. </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Незаконное производство аборта, неоказание помощи больному происходят вследствие умышленных действий медицинских работников, но их отношение к отрицательным последствиям (собственно врачебным ошибкам) также может быть только в форме неосторожности. К врачебным ошибкам, не влекущим юридическую ответственность с учетом объективных причин, следует так же относить действия медицинских работников, не нарушающие правила, установленные законом и подзаконными актами, но повлекшие повреждение здоровья или смерть. (Например, вследствие недостаточной обеспеченности медицинских учреждений специалистами, оборудованием, лечебными препаратами, атипичного развития болезни, аномальных анатомических особенностей пациента, неожиданной аллергической реакции, которые не могли быть предвидены медицинскими работниками). </a:t>
            </a:r>
            <a:br>
              <a:rPr sz="1400"/>
            </a:br>
            <a:br>
              <a:rPr sz="1400"/>
            </a:br>
            <a:r>
              <a:rPr b="0" lang="ru-RU" sz="1400" spc="-1" strike="noStrike">
                <a:solidFill>
                  <a:srgbClr val="ffffff"/>
                </a:solidFill>
                <a:latin typeface="Corbel"/>
              </a:rPr>
              <a:t>Среди субъективных причин врачебной ошибки наиболее многочисленную группу составляют ошибки, которые обусловлены отсутствием у врача достаточного опыта, но не могут квалифицироваться как невежество. К </a:t>
            </a:r>
            <a:r>
              <a:rPr b="0" i="1" lang="ru-RU" sz="1400" spc="-1" strike="noStrike">
                <a:solidFill>
                  <a:srgbClr val="ffffff"/>
                </a:solidFill>
                <a:latin typeface="Corbel"/>
              </a:rPr>
              <a:t>субъективным причинам </a:t>
            </a:r>
            <a:r>
              <a:rPr b="0" lang="ru-RU" sz="1400" spc="-1" strike="noStrike">
                <a:solidFill>
                  <a:srgbClr val="ffffff"/>
                </a:solidFill>
                <a:latin typeface="Corbel"/>
              </a:rPr>
              <a:t>врачебной ошибки следует относить: неполноценный осмотр и обследование больного, пренебрежение доступным и информативным методом исследования, чрезмерная самоуверенность врача, отказ от совета коллеги, консилиума. А также использование устаревших методов диагностики и лечения, слепая вера во все новое, чрезмерная вера в интуицию, поспешное, поверхностное обследование больного, чрезмерное увлечение хирургической техникой, стремление врача прикрыться авторитетом консультанта, пренебрежение необычными симптомами.</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71280" y="0"/>
            <a:ext cx="7715160" cy="8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eeff"/>
                </a:solidFill>
                <a:latin typeface="Consolas"/>
              </a:rPr>
              <a:t>Виды ответственности</a:t>
            </a:r>
            <a:endParaRPr b="0" lang="en-US" sz="2400" spc="-1" strike="noStrike">
              <a:solidFill>
                <a:srgbClr val="c1eeff"/>
              </a:solidFill>
              <a:latin typeface="Consolas"/>
            </a:endParaRPr>
          </a:p>
        </p:txBody>
      </p:sp>
      <p:sp>
        <p:nvSpPr>
          <p:cNvPr id="385" name=""/>
          <p:cNvSpPr txBox="1"/>
          <p:nvPr/>
        </p:nvSpPr>
        <p:spPr>
          <a:xfrm>
            <a:off x="457200" y="764640"/>
            <a:ext cx="8578800" cy="6093000"/>
          </a:xfrm>
          <a:prstGeom prst="rect">
            <a:avLst/>
          </a:prstGeom>
          <a:noFill/>
          <a:ln w="0">
            <a:noFill/>
          </a:ln>
        </p:spPr>
        <p:txBody>
          <a:bodyPr lIns="90000" rIns="90000" tIns="46800" bIns="46800" anchor="t">
            <a:normAutofit fontScale="98000"/>
          </a:bodyPr>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rbel"/>
              </a:rPr>
              <a:t>I</a:t>
            </a:r>
            <a:r>
              <a:rPr b="1" lang="ru-RU" sz="2000" spc="-1" strike="noStrike">
                <a:solidFill>
                  <a:srgbClr val="ffffff"/>
                </a:solidFill>
                <a:latin typeface="Corbel"/>
              </a:rPr>
              <a:t>.Уголовная ответственность </a:t>
            </a:r>
            <a:endParaRPr b="0" lang="en-US" sz="20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Прежде всего, отметим, что уголовные дела в отношении медработников прекращаются в 70%</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лучаев. Анализ судебной практики дает основание сделать выводы о том, что чаще других</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медицинским работникам вменяются преступления, наказание за которые предусмотрены</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Corbel"/>
              </a:rPr>
              <a:t>следующими статьями Уголовного кодекса РФ:</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109, часть 2 (Причинение смерти по неосторожности);</a:t>
            </a:r>
            <a:endParaRPr b="0" lang="en-US" sz="1400" spc="-1" strike="noStrike">
              <a:solidFill>
                <a:srgbClr val="ffffff"/>
              </a:solidFill>
              <a:latin typeface="Corbel"/>
            </a:endParaRPr>
          </a:p>
          <a:p>
            <a:pPr marL="402840" indent="-335520" algn="ctr">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    </a:t>
            </a:r>
            <a:r>
              <a:rPr b="0" lang="ru-RU" sz="1200" spc="-1" strike="noStrike">
                <a:solidFill>
                  <a:srgbClr val="ffffff"/>
                </a:solidFill>
                <a:latin typeface="Corbel"/>
              </a:rPr>
              <a:t>3 апреля 2008 года. Калужский районный суд приговорил врача анестезиолога-реаниматолога муниципального учреждения здравоохранения "Больница скорой медицинской помощи" к двум годам условно по части 2 статьи 109 УК РФ (причинение смерти по неосторожности вследствие ненадлежащего исполнения своих профессиональных обязанностей). Суд установил, что погибший пациент поступил в приемный покой больницы с предварительным диагнозом "опийная наркомания". Однако врач при осмотре не произвел надлежащим образом обследование пациента, неполно собрал анамнез, не произвел осмотр верхних дыхательных путей, вследствие чего не поставил правильный диагноз и не организовал требуемого лечения больного.</a:t>
            </a: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            </a:t>
            </a:r>
            <a:r>
              <a:rPr b="0" lang="ru-RU" sz="1200" spc="-1" strike="noStrike">
                <a:solidFill>
                  <a:srgbClr val="ffffff"/>
                </a:solidFill>
                <a:latin typeface="Corbel"/>
              </a:rPr>
              <a:t>В результате бездействия врача у больного произошла остановка дыхательной и сердечной деятельности, и он умер. </a:t>
            </a: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 </a:t>
            </a:r>
            <a:r>
              <a:rPr b="1" lang="ru-RU" sz="1400" spc="-1" strike="noStrike">
                <a:solidFill>
                  <a:srgbClr val="ffffff"/>
                </a:solidFill>
                <a:latin typeface="Corbel"/>
              </a:rPr>
              <a:t>ст. 118, часть 2 (Причинение тяжкого вреда здоровью вследствие </a:t>
            </a:r>
            <a:endParaRPr b="0" lang="en-US" sz="1400" spc="-1" strike="noStrike">
              <a:solidFill>
                <a:srgbClr val="ffffff"/>
              </a:solidFill>
              <a:latin typeface="Corbel"/>
            </a:endParaRPr>
          </a:p>
          <a:p>
            <a:pPr marL="402840" indent="-335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ненадлежащего исполнения своих профессиональных обязанностей);</a:t>
            </a:r>
            <a:endParaRPr b="0" lang="en-US" sz="14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02840" indent="-3355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19 ноября 2007 года. Прикубанским судом г.Краснодара двум медикам детской инфекционной больницы Краснодара предъявлено обвинение по части 2 статьи 118 УК РФ (причинение тяжкого вреда здоровью по неосторожности, совершенное вследствие ненадлежащего исполнения лицом своих профессиональных обязанностей). Врачей приговорили к году лишения свободы в колонии поселении. По вине медработников двухмесячная Соня Куливец лишилась руки в результате неправильно введенного катетера: у девочки начался тромбоз артерии правого предплечья, что привело к ампутации.</a:t>
            </a:r>
            <a:endParaRPr b="0" lang="en-US" sz="1200" spc="-1" strike="noStrike">
              <a:solidFill>
                <a:srgbClr val="ffffff"/>
              </a:solidFill>
              <a:latin typeface="Corbel"/>
            </a:endParaRPr>
          </a:p>
          <a:p>
            <a:pPr marL="402840" indent="-3355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692000" y="-819000"/>
            <a:ext cx="6994440" cy="1093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87" name=""/>
          <p:cNvSpPr txBox="1"/>
          <p:nvPr/>
        </p:nvSpPr>
        <p:spPr>
          <a:xfrm>
            <a:off x="457200" y="475920"/>
            <a:ext cx="8229600" cy="6048360"/>
          </a:xfrm>
          <a:prstGeom prst="rect">
            <a:avLst/>
          </a:prstGeom>
          <a:noFill/>
          <a:ln w="0">
            <a:noFill/>
          </a:ln>
        </p:spPr>
        <p:txBody>
          <a:bodyPr lIns="90000" rIns="90000" tIns="46800" bIns="46800" anchor="t">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 </a:t>
            </a:r>
            <a:r>
              <a:rPr b="1" lang="en-US" sz="1400" spc="-1" strike="noStrike">
                <a:solidFill>
                  <a:srgbClr val="ffffff"/>
                </a:solidFill>
                <a:latin typeface="Corbel"/>
              </a:rPr>
              <a:t>ст. 122 (Заражение ВИЧ-инфекцией);</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В 2004 году в Калининградской области возбуждено уголовное дело по ст.122 УК РФ (заражение ВИЧ-инфекцией) в отношении врача реанимационного отделения и заведующего хирургическим отделением центральной районной больницы г.Пионерский. Пациент находился в тяжелом состоянии, ему требовалось срочное переливание крови. Свою кровь больному дал молодой человек — также житель Калининградской области. Позже оказалось, что донор инфицирован ВИЧ и гепатитом "С". Тем самым медицинский персонал больницы нарушил приказ Минздрава и сделал пациенту прямое переливание крови, что запрещено 2 года назад.</a:t>
            </a: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Стоит отметить, что чаще всего пациентов заражают ВИЧ инфекцией при переливании крови, однако в 90% случаев ответственность наступает по статье халатность).</a:t>
            </a: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rbel"/>
              </a:rPr>
              <a:t>    • </a:t>
            </a:r>
            <a:r>
              <a:rPr b="1" lang="en-US" sz="1400" spc="-1" strike="noStrike">
                <a:solidFill>
                  <a:srgbClr val="ffffff"/>
                </a:solidFill>
                <a:latin typeface="Corbel"/>
              </a:rPr>
              <a:t>ст. 123 (Незаконное производство аборта);</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rbel"/>
              </a:rPr>
              <a:t>В 2005 году приговором Казанского районного суда Тюменской области по ст. 123 УК РФ (Незаконное производство аборта) осуждена врач-гинеколог. Она приговорена к лишению свободы сроком на девять месяцев с лишением права заниматься один год медицинской деятельностью.</a:t>
            </a:r>
            <a:endParaRPr b="0" lang="en-US" sz="13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Corbel"/>
            </a:endParaRPr>
          </a:p>
        </p:txBody>
      </p:sp>
      <p:pic>
        <p:nvPicPr>
          <p:cNvPr id="388" name="Picture 2" descr="Картинка 44 из 4793"/>
          <p:cNvPicPr/>
          <p:nvPr/>
        </p:nvPicPr>
        <p:blipFill>
          <a:blip r:embed="rId1"/>
          <a:stretch/>
        </p:blipFill>
        <p:spPr>
          <a:xfrm>
            <a:off x="3132000" y="2708280"/>
            <a:ext cx="3024360" cy="1706400"/>
          </a:xfrm>
          <a:prstGeom prst="rect">
            <a:avLst/>
          </a:prstGeom>
          <a:ln w="0">
            <a:noFill/>
          </a:ln>
        </p:spPr>
      </p:pic>
      <p:pic>
        <p:nvPicPr>
          <p:cNvPr id="389" name="Picture 4" descr="Картинка 59 из 40197"/>
          <p:cNvPicPr/>
          <p:nvPr/>
        </p:nvPicPr>
        <p:blipFill>
          <a:blip r:embed="rId2"/>
          <a:stretch/>
        </p:blipFill>
        <p:spPr>
          <a:xfrm>
            <a:off x="6588000" y="2565360"/>
            <a:ext cx="2284560" cy="2090880"/>
          </a:xfrm>
          <a:prstGeom prst="rect">
            <a:avLst/>
          </a:prstGeom>
          <a:ln w="0">
            <a:noFill/>
          </a:ln>
        </p:spPr>
      </p:pic>
      <p:pic>
        <p:nvPicPr>
          <p:cNvPr id="390" name="Picture 6" descr="Картинка 252 из 40194"/>
          <p:cNvPicPr/>
          <p:nvPr/>
        </p:nvPicPr>
        <p:blipFill>
          <a:blip r:embed="rId3"/>
          <a:stretch/>
        </p:blipFill>
        <p:spPr>
          <a:xfrm>
            <a:off x="250920" y="2637000"/>
            <a:ext cx="2568600" cy="192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3348000" y="-747720"/>
            <a:ext cx="5338800" cy="1312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2" name=""/>
          <p:cNvSpPr txBox="1"/>
          <p:nvPr/>
        </p:nvSpPr>
        <p:spPr>
          <a:xfrm>
            <a:off x="324000" y="836280"/>
            <a:ext cx="8496000" cy="5173560"/>
          </a:xfrm>
          <a:prstGeom prst="rect">
            <a:avLst/>
          </a:prstGeom>
          <a:noFill/>
          <a:ln w="0">
            <a:noFill/>
          </a:ln>
        </p:spPr>
        <p:txBody>
          <a:bodyPr lIns="90000" rIns="90000" tIns="46800" bIns="46800" anchor="ctr">
            <a:normAutofit/>
          </a:bodyPr>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124 (Неоказание помощи больному);</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В феврале 2009 года Уссурийский суд Приморского края признал врача городской больницы виновным в совершении преступления, предусмотренного частью 2 статьи 124 УК РФ и приговорил к двум годам лишения свободы условно за отказ в госпитализации больному, который впоследствии скончался. Врач, находясь на дежурстве в Уссурийской городской больнице, при поступлении в приемное отделение мужчины с предварительным диагнозом "закрытая черепно-мозговая травма, сотрясение головного мозга, ушибленная рана лба" отказал пострадавшему в госпитализации.</a:t>
            </a: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orbel"/>
              </a:rPr>
              <a:t>• </a:t>
            </a:r>
            <a:r>
              <a:rPr b="1" lang="ru-RU" sz="1400" spc="-1" strike="noStrike">
                <a:solidFill>
                  <a:srgbClr val="ffffff"/>
                </a:solidFill>
                <a:latin typeface="Corbel"/>
              </a:rPr>
              <a:t>ст. 235 (Незаконное занятие частной медицинской практикой или частной фармацевтической деятельностью);</a:t>
            </a: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В июле 2008 года Тверской суд Москвы осудил на три года условно врача-косметолога, испортившего внешность телеведущей Оксаны Пушкиной. Врач была признана виновной по статьям 235 и 238 УК и приговорена к трем годам лишения свободы условно. Однако ее сразу же амнистировали по случаю 100-летия Госдумы.</a:t>
            </a:r>
            <a:br>
              <a:rPr sz="1200"/>
            </a:br>
            <a:endParaRPr b="0" lang="en-US" sz="1200" spc="-1" strike="noStrike">
              <a:solidFill>
                <a:srgbClr val="ffffff"/>
              </a:solidFill>
              <a:latin typeface="Corbel"/>
            </a:endParaRPr>
          </a:p>
          <a:p>
            <a:pPr marL="411120" indent="-3427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Corbel"/>
              </a:rPr>
              <a:t>Кроме вышеперечисленных статей в отдельных случаях в отношении медработников применяются статьи УК РФ 292 (Служебный подлог) и 293 (Халатность). Стоит отметить, что помимо специализированных составов возможно применение широкого спектра квалификаций деяний медиков по общеуголовным преступлениям. Отдельно хотелось бы отметить, что в марте 2009 г. Госдума исключила из УК РФ пункт об уголовной ответственности медиков за нанесение здоровью вреда средней тяжести по неосторожности, приняв сразу во втором и третьем чтениях соответствующие поправки в статью 124 УК РФ "Неоказание помощи больному". Внесенные в УК изменения фактически выводят из-под уголовной ответственности медиков, если в результате врачебной ошибки больным был причинен не слишком большой вред. Думцы полагают, что положение об ответственности врачей за причинение вреда средней тяжести никогда не работало.</a:t>
            </a:r>
            <a:endParaRPr b="0" lang="en-US" sz="1200" spc="-1" strike="noStrike">
              <a:solidFill>
                <a:srgbClr val="ffffff"/>
              </a:solidFill>
              <a:latin typeface="Corbe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9:14:50Z</dcterms:created>
  <dc:creator>Надюшка</dc:creator>
  <dc:description/>
  <dc:language>en-US</dc:language>
  <cp:lastModifiedBy>Uiry</cp:lastModifiedBy>
  <dcterms:modified xsi:type="dcterms:W3CDTF">2017-10-09T16:41:28Z</dcterms:modified>
  <cp:revision>16</cp:revision>
  <dc:subject/>
  <dc:title>Тема: Медицинская ошибка</dc:title>
</cp:coreProperties>
</file>