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361-7E33-4AE6-8878-B7F71682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D1B-E330-4241-AA8A-9A909350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AD9-6C3A-4B12-90BE-4C6F5C0E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0B8-ADDF-4FEE-948D-A6A64BA8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AD2B-47DC-4066-89CC-9AAF5653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EFF2-1931-42EC-BC57-5093C4B5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4903-4EF9-4159-BCEA-6304EEBD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7864-2136-43F8-91E7-DFE46ED8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21D0-2FF3-4BA3-83C6-FCEEC0E9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AE8F-38EB-4B12-A39F-22A307BE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DE0D-1280-48C1-A5C0-687A8D17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F50-778A-4455-836D-6ACA9BA6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71E1-4B64-43A2-A8C2-AEC33E26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7401-233A-4593-8F20-4C67AFEB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CA3E-5980-4FC1-B4DB-CE93FD94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0D91-7F36-4AD7-8818-172A4251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C5D3-EB75-43B6-8016-3E379A0F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BEE5E-5758-4981-AEBB-987E0017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AE5C3-72F7-4934-B409-FA62FFB2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A8D7B-E6C7-44CC-867F-A4276A77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C8C1E-9E97-462F-B43F-D2E4E160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0291E-9190-4135-853A-29EB6705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425-AF16-494F-B909-E445DDA1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C5F9E-40C1-4552-B748-772D7BCA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9EC4A-233F-43B8-BFE3-8AA715FA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79B9-579F-4DCC-8A38-3BF5B47B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4DFA4-0CCA-42BF-908A-4BC55FB9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C8B0E-EB01-4657-9EF6-8B1B2C3A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9915-D829-45DE-8E86-5BAF7E06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E2DE-B017-4495-B939-8FCA6563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7FFC0-BD95-467A-8A59-DF0A9CF9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CE8C0-3AA5-40A4-84AB-15ECD572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65A72-9C1F-4968-9208-3292FF36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C35-5B4A-4513-9D59-FF0ED457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B7CE0-A91F-44A9-AD18-9493ED82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8DFF6-09CE-400C-AAF4-5DFDF332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EDDF6-31EC-4DD4-BC24-CD46F08C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D1F76-C950-4FC2-8EB4-44022F05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A35A4-E50A-4E81-A7F8-DE185DAA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65642-D849-463B-8307-2D1877FC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99362-4022-4395-98B5-EDDBBFF7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53326-F434-4182-B73E-0433098B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9AD7F-41A0-4FC7-BFE7-5C4B4AB0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A36FE-7A48-4086-97F3-50A10620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251-22F4-4734-BCDD-3D48D1FC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36955-0D89-4B06-B619-E14C31C8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41FAF-814F-4557-AC6F-C1945C3D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A9F7D-C270-4835-B397-F58308B8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3A59B-F06D-41EE-9279-6918F77B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76E5B-FCBC-4771-9913-52D05FBC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1AF68-F6EA-4AC8-AAD7-FB714668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235C6-FDA8-4994-B5EA-3880E73D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56A19-2A21-4266-999F-7057B5FA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ABC14-BC5C-469A-AFB1-A7882B29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A8FE6-ED26-4FFD-B17B-2F008D2E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B3D-17D8-4BAA-BFE1-587EFA9C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7B822-E6FD-48C5-831B-7DACDAA8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9650D-F123-455C-B69B-82F83207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FF1DA-58B3-491F-99DE-8D7677E2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0B8B5-720E-4562-9A89-A3DB39E0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ACB89-C2C5-4409-9282-CF90F091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2A5C2-1741-4F8A-A6D5-A2177D0F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80409-7CAE-437B-8A84-A1A547CA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C4CC0-148E-4980-8489-A7CCFB71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D6DA5-60DE-4D99-AA19-62DEC51A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A53D4-4012-49C1-81DE-C775D1B8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B9D-1D65-49D0-AABF-BC0128F3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483EB-66F2-4F25-B305-D2385231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1F7D8-F351-4C7C-8C05-008BDCF2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0CC83-359D-4BFF-9230-424388B6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B7F54-E240-4320-BC5E-621B5ECE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9850C-D348-4A05-B588-53C005F5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A89E6-097A-40E7-833E-378C164A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53A78-AF19-4B1D-8DCC-F3F4AD1E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13A17-941F-427F-BC2C-64191471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8D22C-5105-4BDC-B1F2-2705DB0F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139AD-3C9D-497E-9BF8-124954DC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430-6477-4E56-9045-8E0CB874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B202D-A4D5-473D-A1BE-409D6B08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1C772-35EE-4CE2-AA43-8C0B1720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9C1B4-7E74-439E-8C11-1B0793FF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672F7-FB06-4A0D-AD14-5FE023CD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B3A79-88D6-4A30-A77A-F5EB468A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E57-8609-4F6F-9616-59DEB7C1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9874-1A23-4CC3-A896-43F05CD3DFB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4E29-D73B-4CBD-AD14-32D7E519B571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FC9B-DBB6-42C3-B232-BF2B5FD06648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BEB8-0E8F-4996-A303-E5C2F6C2337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51C9-6A3B-4A01-95EB-4A6D9C991CA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D66D-EE17-4DD5-B029-6989F1EC0F8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BF47-2C5C-4A73-802F-494772FFE64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.png"/><Relationship Id="rId3" Type="http://schemas.openxmlformats.org/officeDocument/2006/relationships/hyperlink" Target="http://www.detskiysad.ru/ped/ped251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639720" y="785880"/>
            <a:ext cx="8143920" cy="20001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13880" y="285732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ыполнила  ученица  6 класса В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БОУ «ООШ» г.  Котовск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Чернопятова  Софья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Учитель:  Уланова  Екатерина  Игоревна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39" name="Содержимое 2"/>
          <p:cNvGrpSpPr/>
          <p:nvPr/>
        </p:nvGrpSpPr>
        <p:grpSpPr>
          <a:xfrm>
            <a:off x="0" y="1500120"/>
            <a:ext cx="9144000" cy="5357880"/>
            <a:chOff x="0" y="1500120"/>
            <a:chExt cx="9144000" cy="5357880"/>
          </a:xfrm>
        </p:grpSpPr>
        <p:pic>
          <p:nvPicPr>
            <p:cNvPr id="340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0" y="1500120"/>
              <a:ext cx="9144000" cy="53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0" y="1500120"/>
              <a:ext cx="9144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3200" spc="-1" strike="noStrike">
                  <a:solidFill>
                    <a:srgbClr val="000000"/>
                  </a:solidFill>
                  <a:latin typeface="Corbel"/>
                </a:rPr>
                <a:t>Совместная игра – уникальный вид сотрудничества. Не случайно психологи считают, что подлинно демократические отношения между взрослыми и детьми возможны только в игре. И прежде всего, положительное влияние на их взаимоотношения оказывают игры с правилами – традиционное средство народной педагогик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3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45" name="Содержимое 2"/>
          <p:cNvGrpSpPr/>
          <p:nvPr/>
        </p:nvGrpSpPr>
        <p:grpSpPr>
          <a:xfrm>
            <a:off x="0" y="1500120"/>
            <a:ext cx="9144000" cy="5357880"/>
            <a:chOff x="0" y="1500120"/>
            <a:chExt cx="9144000" cy="5357880"/>
          </a:xfrm>
        </p:grpSpPr>
        <p:pic>
          <p:nvPicPr>
            <p:cNvPr id="34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0" y="1500120"/>
              <a:ext cx="9144000" cy="53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0" y="1500120"/>
              <a:ext cx="9144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Современные подвижные игры также продолжают это направлени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В играх больше, чем в других физических упражнениях, участники могут выполнять различные двигательные действия так, как им хочется, как позволяют им их индивидуальные особенност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Играя, дети удовлетворяют свойственную им потребность в движениях. В играх дети отличаются большой непосредственностью. Они полностью раскрывают положительные и отрицательные черты характера, а это имеет большое значение для лучшего изучения детей. При разучивании и проведении игр большое внимание обращается на воспитательную работу с учащимися. Игры должны дисциплинировать учеников, помогать созданию дружного, сплоченного коллектива, в котором взаимная поддержка, помощь, подчинение личных интересов интересам коллектива стали бы постоянными и привычными для дете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Содержимое 2"/>
          <p:cNvGrpSpPr/>
          <p:nvPr/>
        </p:nvGrpSpPr>
        <p:grpSpPr>
          <a:xfrm>
            <a:off x="0" y="1500120"/>
            <a:ext cx="9144000" cy="5357880"/>
            <a:chOff x="0" y="1500120"/>
            <a:chExt cx="9144000" cy="5357880"/>
          </a:xfrm>
        </p:grpSpPr>
        <p:pic>
          <p:nvPicPr>
            <p:cNvPr id="34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0" y="1500120"/>
              <a:ext cx="9144000" cy="53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0" y="1500120"/>
              <a:ext cx="9144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Этому способствует строгое соблюдение правил игры, точное выполнение участниками обязанностей, постоянное наблюдение учителя и его своевременные замечания, поправки и рекомендации. Обращается также внимание на бережное отношение учащихся к инвентарю и оборудованию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Заголовок 3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Содержимое 2"/>
          <p:cNvGrpSpPr/>
          <p:nvPr/>
        </p:nvGrpSpPr>
        <p:grpSpPr>
          <a:xfrm>
            <a:off x="0" y="1500120"/>
            <a:ext cx="9144000" cy="5357880"/>
            <a:chOff x="0" y="1500120"/>
            <a:chExt cx="9144000" cy="5357880"/>
          </a:xfrm>
        </p:grpSpPr>
        <p:pic>
          <p:nvPicPr>
            <p:cNvPr id="35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0" y="1500120"/>
              <a:ext cx="9144000" cy="53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0" y="1500120"/>
              <a:ext cx="9144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Игры позволяют более  действенно обеспечить гармоничное сочетание умственных, физических и эмоциональных нагрузок, общее комфортное состояние человека, дать заряд положительных эмоций, снять негативный настрой после прохождения некоторых уроков, дать общий эффект радости от общения от успешного преодоления трудностей, помогают  восстановить физические и духовные силы, рождают спортивный здоровый азарт, дух команды, дух стремления к победе, чувство гордости за удачно проведенные соревнования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7" name="Заголовок 3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59" name="Содержимое 2"/>
          <p:cNvGrpSpPr/>
          <p:nvPr/>
        </p:nvGrpSpPr>
        <p:grpSpPr>
          <a:xfrm>
            <a:off x="457200" y="1773360"/>
            <a:ext cx="8229600" cy="4627440"/>
            <a:chOff x="457200" y="1773360"/>
            <a:chExt cx="8229600" cy="4627440"/>
          </a:xfrm>
        </p:grpSpPr>
        <p:pic>
          <p:nvPicPr>
            <p:cNvPr id="360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57200" y="1773360"/>
              <a:ext cx="822960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57200" y="1774800"/>
              <a:ext cx="822960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Одной из главных проблем современного общества является гиподинамия, то есть низкая двигательная активность. Ее последствием является повышение уровня заболеваний. Современные дети предпочитают прогулкам на свежем воздухе и занятиям спортом телевизор и компьютер. Чтобы изменить положение необходимо с раннего возраста приобщать детей к занятиям в спортивном зале, к подвижным играм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Диаграмма 5" descr=""/>
          <p:cNvPicPr/>
          <p:nvPr/>
        </p:nvPicPr>
        <p:blipFill>
          <a:blip r:embed="rId2"/>
          <a:stretch/>
        </p:blipFill>
        <p:spPr>
          <a:xfrm>
            <a:off x="500040" y="1859040"/>
            <a:ext cx="8217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426960" y="11592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66" name="Содержимое 3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3071880" y="158760"/>
            <a:ext cx="264636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одержимое 2"/>
          <p:cNvGrpSpPr/>
          <p:nvPr/>
        </p:nvGrpSpPr>
        <p:grpSpPr>
          <a:xfrm>
            <a:off x="500040" y="1785960"/>
            <a:ext cx="8229600" cy="4627440"/>
            <a:chOff x="500040" y="1785960"/>
            <a:chExt cx="8229600" cy="4627440"/>
          </a:xfrm>
        </p:grpSpPr>
        <p:pic>
          <p:nvPicPr>
            <p:cNvPr id="30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500040" y="1785960"/>
              <a:ext cx="822960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500040" y="1785960"/>
              <a:ext cx="822960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Corbel"/>
                </a:rPr>
                <a:t>Определить:  каким  образом игровая деятельность влияет на настроение учащихся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68" name="Содержимое 2"/>
          <p:cNvGrpSpPr/>
          <p:nvPr/>
        </p:nvGrpSpPr>
        <p:grpSpPr>
          <a:xfrm>
            <a:off x="457200" y="1773360"/>
            <a:ext cx="8229600" cy="4627440"/>
            <a:chOff x="457200" y="1773360"/>
            <a:chExt cx="8229600" cy="4627440"/>
          </a:xfrm>
        </p:grpSpPr>
        <p:pic>
          <p:nvPicPr>
            <p:cNvPr id="369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57200" y="1773360"/>
              <a:ext cx="822960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457200" y="1774800"/>
              <a:ext cx="822960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Подвижные игры укрепляют общефизические, морально-волевые качества учащихся, воспитывают навыки взаимодействия с другими детьми в рамках коллектива, обучают совместным действиям для достижения общей цели, прививают понятия главенства общественных целей над личным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Улучшают настро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Повышают мотивацию для посещения уроков физ. культ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Мощное средство для борьбы с гиподинами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F:\Documents and Settings\Саша\Рабочий стол\фото с урока физры\P1000707.JPG"/>
          <p:cNvPicPr/>
          <p:nvPr/>
        </p:nvPicPr>
        <p:blipFill>
          <a:blip r:embed="rId1"/>
          <a:stretch/>
        </p:blipFill>
        <p:spPr>
          <a:xfrm>
            <a:off x="1487520" y="1774800"/>
            <a:ext cx="6168960" cy="4626000"/>
          </a:xfrm>
          <a:prstGeom prst="rect">
            <a:avLst/>
          </a:prstGeom>
          <a:ln w="0">
            <a:noFill/>
          </a:ln>
        </p:spPr>
      </p:pic>
      <p:pic>
        <p:nvPicPr>
          <p:cNvPr id="372" name="Заголовок 3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Содержимое 2"/>
          <p:cNvGrpSpPr/>
          <p:nvPr/>
        </p:nvGrpSpPr>
        <p:grpSpPr>
          <a:xfrm>
            <a:off x="457200" y="1773360"/>
            <a:ext cx="8229600" cy="4627440"/>
            <a:chOff x="457200" y="1773360"/>
            <a:chExt cx="8229600" cy="4627440"/>
          </a:xfrm>
        </p:grpSpPr>
        <p:pic>
          <p:nvPicPr>
            <p:cNvPr id="37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57200" y="1773360"/>
              <a:ext cx="822960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457200" y="1774800"/>
              <a:ext cx="822960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orbel"/>
                </a:rPr>
                <a:t>Гипотеза доказана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77" name="Содержимое 2"/>
          <p:cNvGrpSpPr/>
          <p:nvPr/>
        </p:nvGrpSpPr>
        <p:grpSpPr>
          <a:xfrm>
            <a:off x="457200" y="1773360"/>
            <a:ext cx="8229600" cy="4627440"/>
            <a:chOff x="457200" y="1773360"/>
            <a:chExt cx="8229600" cy="4627440"/>
          </a:xfrm>
        </p:grpSpPr>
        <p:pic>
          <p:nvPicPr>
            <p:cNvPr id="37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57200" y="1773360"/>
              <a:ext cx="822960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457200" y="1774800"/>
              <a:ext cx="822960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9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К. К. Платонов, Г. Г. Голубев. "Психология"</a:t>
              </a:r>
              <a:br>
                <a:rPr sz="2700"/>
              </a:b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"Высшая школа", Москва, 1977 г.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9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Портал для молодых родителей </a:t>
              </a:r>
              <a:r>
                <a:rPr b="0" lang="en-US" sz="2700" spc="-1" strike="noStrike" u="sng">
                  <a:solidFill>
                    <a:srgbClr val="168bba"/>
                  </a:solidFill>
                  <a:uFillTx/>
                  <a:latin typeface="Corbel"/>
                  <a:hlinkClick r:id="rId3"/>
                </a:rPr>
                <a:t>http://www.detskiysad.ru/ped/ped251.html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9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Абраменкова В.В мире детских игр // Воспитание школьников. – 2000.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9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Аникеева Н.П. Игра в педагогическом процессе. – Новосибирск. – Знание, 1989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9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Кларин М.В. Обучение как игра // Школьные технологии. – 200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9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Фестиваль педагогических идей «Открытый урок» 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http://festival.1september.ru/articles/549323/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2859120" y="158760"/>
            <a:ext cx="307188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10" name="Содержимое 2"/>
          <p:cNvGrpSpPr/>
          <p:nvPr/>
        </p:nvGrpSpPr>
        <p:grpSpPr>
          <a:xfrm>
            <a:off x="500040" y="1773360"/>
            <a:ext cx="8186760" cy="4584600"/>
            <a:chOff x="500040" y="1773360"/>
            <a:chExt cx="8186760" cy="4584600"/>
          </a:xfrm>
        </p:grpSpPr>
        <p:pic>
          <p:nvPicPr>
            <p:cNvPr id="311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500040" y="1773360"/>
              <a:ext cx="8186760" cy="45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500040" y="1774800"/>
              <a:ext cx="8186760" cy="45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Дать определение понятию «настроение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Выяснить являются ли подвижные игры средством педагогик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Определить виды воздействия подвижных игр на учащих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Выявить с помощью анкетирования  отношение детей к подвижным играм на уроках физкульт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14" name="Содержимое 2"/>
          <p:cNvGrpSpPr/>
          <p:nvPr/>
        </p:nvGrpSpPr>
        <p:grpSpPr>
          <a:xfrm>
            <a:off x="457200" y="1773360"/>
            <a:ext cx="8229600" cy="4627440"/>
            <a:chOff x="457200" y="1773360"/>
            <a:chExt cx="8229600" cy="4627440"/>
          </a:xfrm>
        </p:grpSpPr>
        <p:pic>
          <p:nvPicPr>
            <p:cNvPr id="31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57200" y="1773360"/>
              <a:ext cx="822960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57200" y="1774800"/>
              <a:ext cx="822960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rbel"/>
                </a:rPr>
                <a:t>Подвижные игры влияют не только на настроение учащихся, но и гармонически развивают личность в целом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18" name="Содержимое 2"/>
          <p:cNvGrpSpPr/>
          <p:nvPr/>
        </p:nvGrpSpPr>
        <p:grpSpPr>
          <a:xfrm>
            <a:off x="457200" y="1773360"/>
            <a:ext cx="8229600" cy="4627440"/>
            <a:chOff x="457200" y="1773360"/>
            <a:chExt cx="8229600" cy="4627440"/>
          </a:xfrm>
        </p:grpSpPr>
        <p:pic>
          <p:nvPicPr>
            <p:cNvPr id="319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57200" y="1773360"/>
              <a:ext cx="822960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457200" y="1774800"/>
              <a:ext cx="822960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Corbel"/>
                </a:rPr>
                <a:t>Гиподинамия – одна из главных проблем современного обществ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26960" y="146160"/>
            <a:ext cx="8229600" cy="1463400"/>
          </a:xfrm>
          <a:prstGeom prst="rect">
            <a:avLst/>
          </a:prstGeom>
          <a:ln w="0">
            <a:noFill/>
          </a:ln>
        </p:spPr>
      </p:pic>
      <p:pic>
        <p:nvPicPr>
          <p:cNvPr id="322" name="Содержимое 3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24" name="Содержимое 2"/>
          <p:cNvGrpSpPr/>
          <p:nvPr/>
        </p:nvGrpSpPr>
        <p:grpSpPr>
          <a:xfrm>
            <a:off x="0" y="1427040"/>
            <a:ext cx="9144000" cy="5430960"/>
            <a:chOff x="0" y="1427040"/>
            <a:chExt cx="9144000" cy="5430960"/>
          </a:xfrm>
        </p:grpSpPr>
        <p:pic>
          <p:nvPicPr>
            <p:cNvPr id="32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0" y="1427040"/>
              <a:ext cx="9144000" cy="543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0" y="1428840"/>
              <a:ext cx="914400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rbel"/>
                </a:rPr>
                <a:t>Настроение — это совокупность отдельных психических состояний, из которых какое-то состояние доминирует и придает сознанию соответствующую этому состоянию эмоциональную окраску. Настроение может быть бодрым, веселым, подавленным, грустным, радостным и т. д., в зависимости от того, какое из составляющих его психических состояний наиболее силь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Содержимое 2"/>
          <p:cNvGrpSpPr/>
          <p:nvPr/>
        </p:nvGrpSpPr>
        <p:grpSpPr>
          <a:xfrm>
            <a:off x="0" y="1773360"/>
            <a:ext cx="9144000" cy="5084640"/>
            <a:chOff x="0" y="1773360"/>
            <a:chExt cx="9144000" cy="5084640"/>
          </a:xfrm>
        </p:grpSpPr>
        <p:pic>
          <p:nvPicPr>
            <p:cNvPr id="32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0" y="1773360"/>
              <a:ext cx="9144000" cy="50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0" y="1774800"/>
              <a:ext cx="9144000" cy="50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Настроение как целостное психическое состояние весьма</a:t>
              </a:r>
              <a:r>
                <a:rPr b="0" lang="ru-RU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неустойчиво, оно может повышаться и понижаться, превращаться из положительного в отрицательное и наоборот в зависимости от стихийных воздействий среды. Однако эти колебания и изменения настроения человека могут вызываться и преднамеренно посредством, например, художественной литературы, театральных постановок, музыкальных произведений, телепередач, радиовещания, словесных разъяснений и внушений при общении и т. д.</a:t>
              </a:r>
              <a:br>
                <a:rPr sz="2700"/>
              </a:b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Преднамеренные изменения настроения учащихся в процессе обучения и производственной практики осуществляются эпизодически.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Заголовок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1" name="Заголовок 1"/>
          <p:cNvSpPr/>
          <p:nvPr/>
        </p:nvSpPr>
        <p:spPr>
          <a:xfrm>
            <a:off x="609480" y="30780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33" name="Содержимое 2"/>
          <p:cNvGrpSpPr/>
          <p:nvPr/>
        </p:nvGrpSpPr>
        <p:grpSpPr>
          <a:xfrm>
            <a:off x="0" y="1500120"/>
            <a:ext cx="9144000" cy="5357880"/>
            <a:chOff x="0" y="1500120"/>
            <a:chExt cx="9144000" cy="5357880"/>
          </a:xfrm>
        </p:grpSpPr>
        <p:pic>
          <p:nvPicPr>
            <p:cNvPr id="33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0" y="1500120"/>
              <a:ext cx="9144000" cy="53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0" y="1500120"/>
              <a:ext cx="9144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8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Corbel"/>
                </a:rPr>
                <a:t>Народные подвижные игры являются традиционным средством педагогики. Испокон веков в них ярко отражался образ жизни людей, их быт, труд, национальные устои, представления о чести, смелости, мужестве, желание обладать силой, ловкостью, выносливостью, быстротой и красотой движений, проявлять смекалку, выдержку, творческую выдумку, находчивость, волю и стремление к победе. Передовые представители культуры: К.Д. Ушинский, Ж.А. Покровский, Д.А. Колоцца, Г.А. Виноградов и др., заботясь о просвещении, образовании и воспитании народных масс, призывали повсеместно собирать и описывать народные игры, чтобы донести до потомков народный колорит обычаев, оригинальность самовыражения того или иного народа, своеобразие языка, формы и содержания разговорных текстов.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. Ю. Муштакова</cp:lastModifiedBy>
  <dcterms:modified xsi:type="dcterms:W3CDTF">2017-10-09T09:48:17Z</dcterms:modified>
  <cp:revision>72</cp:revision>
  <dc:subject/>
  <dc:title>Слайд 1</dc:title>
</cp:coreProperties>
</file>