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8C3-8B82-4428-B6A8-DB3F9A81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8BB6-BE7B-4F29-BD90-7A074F1E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AA0C-28D2-4888-851F-3126A06C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8501-737A-427A-AA6D-9E9641AC2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154F7-C67D-464D-BED0-4AE22A62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2106-8E0D-4719-AF25-EDE71986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E977-D4C9-46B3-B86B-EF55E762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E58D-E36B-4C93-9F4F-00240DA1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B6A6-F095-4028-8159-9D6B43C1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15C6-4F5D-472B-BC91-7102B5AF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5532-F83B-4163-859E-1D1EDA6A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5566-7FAA-421F-BC82-BE51C601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9C3C-DBCB-4323-953C-4E5AA9FE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34C92-F14C-4AC4-911B-1FC5E0A2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EE8B-C4B9-4C53-B810-FA878095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885F-87CA-4B42-99A7-E1C8E345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468A-BEBA-4D1C-8B51-23308588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AE6A-D139-4822-9ED9-2EFC476E0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4F649-AFD3-456E-8E45-8504C4AD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20261-D1EF-413C-8110-0D9ECA18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5A769-86F6-41F7-993E-95483F94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9066F-518D-48DB-8ADD-11D2CBFF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007-710E-479D-A118-44BCBF7D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AAF1F-11FB-4DC0-AB64-253E691F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6C5E6-07D6-4451-9FFF-91D4380E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F93BD-2FF2-490E-9873-B762BB53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E37B1-AA0F-435E-B206-1487CBA5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BCD11-8AD3-4FA5-AC62-3309C909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62A63-3DCC-4BE1-84D2-0ED700888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5ED0C-005B-4513-B386-07994EFA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E39FF-087A-41B9-AE30-991AE7330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96919-DD91-47C5-8D26-46979F57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CB4FE-0D61-4C7D-BD24-4BD0E0C8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2C49-3D45-4BE5-AC46-9A580478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6AB95-834F-4B59-B881-2E8F498A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CC6A7-7DA9-4347-A6C8-DE5117F0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1239C-CBC8-4884-8FB8-E9869014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1C440-6012-4AAF-BE51-C837ACEA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E61DF-7866-4561-B734-FEEE8271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D3197-7097-4FE6-A381-FE753789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1E88F-393B-4386-889D-0183CBD0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02764-5B2A-4B53-8EF3-19936A66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F0635-6192-4104-87DF-45E6C3581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BB75B-024C-4000-9007-61CDBA53F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7BB-CCE1-4BC2-B938-204BDDA6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0335C-8B1E-4F22-82E3-40353F28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0B83C-1859-4BB8-8966-70F45A1A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B308F-F53F-43EC-B972-0599DEC6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E66E3-BCBD-42B6-BEB3-1AB3BFA8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73ED3-2720-41B9-89ED-3788AFF1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1BE2C-18A4-4E66-A71F-F73A272B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86CDD-FFA1-484E-AF67-88799010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1AE94-EB2D-4E2F-8B4A-6DDFB643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19D1C-51A9-4741-95D7-D980D1DF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0335E-A2C9-46E0-ABD7-631933AE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3E7-09DC-42F1-B577-92E20F4C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C642A-CA48-4F3E-9F64-B5A6EF94F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3B942-F42B-4131-8A81-033A67C8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1F276-3C56-4C51-8FF7-7B11BEF6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4A7A3-8420-493B-8134-960A8E92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12F1E-0229-4C0F-BE26-1AE7F455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C77ED-DF24-4624-901D-24E77E47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04824-D69A-49A1-9535-051D1001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E4177-E8AB-457A-AE73-4BAE41B8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8FDEF-D64F-4071-9B14-5AA6941D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48966-6CB8-4617-8CA2-1FD50ABF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EE95-BE46-4D08-B61B-09612A73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66624-EE55-4783-824A-F46EDA12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41C42-6774-43B1-95F0-3F40B5BF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B90F3-F675-464C-9CB9-68FC03EB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4FA73-048B-4079-9F0D-3C4BF19D1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DD5E9-1120-48E7-960B-32984FE9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2E47F-637F-4316-9098-77350396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E1E39-289D-4DD9-919A-EE366994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ECE19-DE91-44AE-ACDE-3BAA09D5B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16915-DB84-4936-94B5-4FD5ED93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D4362-F87E-4BCB-9D39-F765FAA3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73B4-930B-41AF-8468-C23FEE7A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13B58-22C7-416F-9FD5-F6CC01DF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B4F619-A8E7-4B49-BD52-5E8ACCC5E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3B02E-896E-4FB4-A575-3A8BC7266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7276A-F948-474F-9CE8-2391DE53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89B43-EF0A-4B5F-8522-AEC487E1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C703-FF8F-40B6-8670-1F956D1E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B8C4-27E4-43F0-B61D-C89918EF1B8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B585-AF55-482D-B760-68676AB492F4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F620-2A4A-4049-B963-253DE476FACC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0D40-E5E2-4172-85F1-66A0FFCE261D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D99C-508D-4BFE-9F63-62A8167A3F6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F1334-DDAD-4162-B867-4FD1B8FD72A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2258-7E26-4E88-944D-460499A0A85C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4.png"/><Relationship Id="rId3" Type="http://schemas.openxmlformats.org/officeDocument/2006/relationships/hyperlink" Target="http://www.detskiysad.ru/ped/ped251.html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639720" y="785880"/>
            <a:ext cx="8143920" cy="20001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13880" y="285732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Выполнила  ученица  6 класса В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БОУ «ООШ» г.  Котовска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Чернопятова  Софья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Учитель:  Уланова  Екатерина  Игоревна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39" name="Содержимое 2"/>
          <p:cNvGrpSpPr/>
          <p:nvPr/>
        </p:nvGrpSpPr>
        <p:grpSpPr>
          <a:xfrm>
            <a:off x="0" y="1500120"/>
            <a:ext cx="9144000" cy="5357880"/>
            <a:chOff x="0" y="1500120"/>
            <a:chExt cx="9144000" cy="5357880"/>
          </a:xfrm>
        </p:grpSpPr>
        <p:pic>
          <p:nvPicPr>
            <p:cNvPr id="340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0" y="1500120"/>
              <a:ext cx="9144000" cy="53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0" y="1500120"/>
              <a:ext cx="9144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3200" spc="-1" strike="noStrike">
                  <a:solidFill>
                    <a:srgbClr val="000000"/>
                  </a:solidFill>
                  <a:latin typeface="Corbel"/>
                </a:rPr>
                <a:t>Совместная игра – уникальный вид сотрудничества. Не случайно психологи считают, что подлинно демократические отношения между взрослыми и детьми возможны только в игре. И прежде всего, положительное влияние на их взаимоотношения оказывают игры с правилами – традиционное средство народной педагогики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Заголовок 3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45" name="Содержимое 2"/>
          <p:cNvGrpSpPr/>
          <p:nvPr/>
        </p:nvGrpSpPr>
        <p:grpSpPr>
          <a:xfrm>
            <a:off x="0" y="1500120"/>
            <a:ext cx="9144000" cy="5357880"/>
            <a:chOff x="0" y="1500120"/>
            <a:chExt cx="9144000" cy="5357880"/>
          </a:xfrm>
        </p:grpSpPr>
        <p:pic>
          <p:nvPicPr>
            <p:cNvPr id="346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0" y="1500120"/>
              <a:ext cx="9144000" cy="53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0" y="1500120"/>
              <a:ext cx="9144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Современные подвижные игры также продолжают это направлени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В играх больше, чем в других физических упражнениях, участники могут выполнять различные двигательные действия так, как им хочется, как позволяют им их индивидуальные особенност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Играя, дети удовлетворяют свойственную им потребность в движениях. В играх дети отличаются большой непосредственностью. Они полностью раскрывают положительные и отрицательные черты характера, а это имеет большое значение для лучшего изучения детей. При разучивании и проведении игр большое внимание обращается на воспитательную работу с учащимися. Игры должны дисциплинировать учеников, помогать созданию дружного, сплоченного коллектива, в котором взаимная поддержка, помощь, подчинение личных интересов интересам коллектива стали бы постоянными и привычными для детей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Содержимое 2"/>
          <p:cNvGrpSpPr/>
          <p:nvPr/>
        </p:nvGrpSpPr>
        <p:grpSpPr>
          <a:xfrm>
            <a:off x="0" y="1500120"/>
            <a:ext cx="9144000" cy="5357880"/>
            <a:chOff x="0" y="1500120"/>
            <a:chExt cx="9144000" cy="5357880"/>
          </a:xfrm>
        </p:grpSpPr>
        <p:pic>
          <p:nvPicPr>
            <p:cNvPr id="34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0" y="1500120"/>
              <a:ext cx="9144000" cy="53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0" y="1500120"/>
              <a:ext cx="9144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Этому способствует строгое соблюдение правил игры, точное выполнение участниками обязанностей, постоянное наблюдение учителя и его своевременные замечания, поправки и рекомендации. Обращается также внимание на бережное отношение учащихся к инвентарю и оборудованию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1" name="Заголовок 3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Содержимое 2"/>
          <p:cNvGrpSpPr/>
          <p:nvPr/>
        </p:nvGrpSpPr>
        <p:grpSpPr>
          <a:xfrm>
            <a:off x="0" y="1500120"/>
            <a:ext cx="9144000" cy="5357880"/>
            <a:chOff x="0" y="1500120"/>
            <a:chExt cx="9144000" cy="5357880"/>
          </a:xfrm>
        </p:grpSpPr>
        <p:pic>
          <p:nvPicPr>
            <p:cNvPr id="355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0" y="1500120"/>
              <a:ext cx="9144000" cy="53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0" y="1500120"/>
              <a:ext cx="9144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Игры позволяют более  действенно обеспечить гармоничное сочетание умственных, физических и эмоциональных нагрузок, общее комфортное состояние человека, дать заряд положительных эмоций, снять негативный настрой после прохождения некоторых уроков, дать общий эффект радости от общения от успешного преодоления трудностей, помогают  восстановить физические и духовные силы, рождают спортивный здоровый азарт, дух команды, дух стремления к победе, чувство гордости за удачно проведенные соревнования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7" name="Заголовок 3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59" name="Содержимое 2"/>
          <p:cNvGrpSpPr/>
          <p:nvPr/>
        </p:nvGrpSpPr>
        <p:grpSpPr>
          <a:xfrm>
            <a:off x="457200" y="1773360"/>
            <a:ext cx="8229600" cy="4627440"/>
            <a:chOff x="457200" y="1773360"/>
            <a:chExt cx="8229600" cy="4627440"/>
          </a:xfrm>
        </p:grpSpPr>
        <p:pic>
          <p:nvPicPr>
            <p:cNvPr id="360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57200" y="1773360"/>
              <a:ext cx="822960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57200" y="1774800"/>
              <a:ext cx="822960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	</a:t>
              </a: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Одной из главных проблем современного общества является гиподинамия, то есть низкая двигательная активность. Ее последствием является повышение уровня заболеваний. Современные дети предпочитают прогулкам на свежем воздухе и занятиям спортом телевизор и компьютер. Чтобы изменить положение необходимо с раннего возраста приобщать детей к занятиям в спортивном зале, к подвижным играм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4" name="Диаграмма 5" descr=""/>
          <p:cNvPicPr/>
          <p:nvPr/>
        </p:nvPicPr>
        <p:blipFill>
          <a:blip r:embed="rId2"/>
          <a:stretch/>
        </p:blipFill>
        <p:spPr>
          <a:xfrm>
            <a:off x="500040" y="1859040"/>
            <a:ext cx="821700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Заголовок 1" descr=""/>
          <p:cNvPicPr/>
          <p:nvPr/>
        </p:nvPicPr>
        <p:blipFill>
          <a:blip r:embed="rId1"/>
          <a:stretch/>
        </p:blipFill>
        <p:spPr>
          <a:xfrm>
            <a:off x="426960" y="11592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366" name="Содержимое 3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3071880" y="158760"/>
            <a:ext cx="264636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одержимое 2"/>
          <p:cNvGrpSpPr/>
          <p:nvPr/>
        </p:nvGrpSpPr>
        <p:grpSpPr>
          <a:xfrm>
            <a:off x="500040" y="1785960"/>
            <a:ext cx="8229600" cy="4627440"/>
            <a:chOff x="500040" y="1785960"/>
            <a:chExt cx="8229600" cy="4627440"/>
          </a:xfrm>
        </p:grpSpPr>
        <p:pic>
          <p:nvPicPr>
            <p:cNvPr id="307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500040" y="1785960"/>
              <a:ext cx="822960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500040" y="1785960"/>
              <a:ext cx="822960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0000"/>
                  </a:solidFill>
                  <a:latin typeface="Corbel"/>
                </a:rPr>
                <a:t>Определить:  каким  образом игровая деятельность влияет на настроение учащихся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68" name="Содержимое 2"/>
          <p:cNvGrpSpPr/>
          <p:nvPr/>
        </p:nvGrpSpPr>
        <p:grpSpPr>
          <a:xfrm>
            <a:off x="457200" y="1773360"/>
            <a:ext cx="8229600" cy="4627440"/>
            <a:chOff x="457200" y="1773360"/>
            <a:chExt cx="8229600" cy="4627440"/>
          </a:xfrm>
        </p:grpSpPr>
        <p:pic>
          <p:nvPicPr>
            <p:cNvPr id="369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57200" y="1773360"/>
              <a:ext cx="822960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457200" y="1774800"/>
              <a:ext cx="822960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Подвижные игры укрепляют общефизические, морально-волевые качества учащихся, воспитывают навыки взаимодействия с другими детьми в рамках коллектива, обучают совместным действиям для достижения общей цели, прививают понятия главенства общественных целей над личными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Улучшают настро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Повышают мотивацию для посещения уроков физ. культ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rbel"/>
                </a:rPr>
                <a:t>Мощное средство для борьбы с гиподинамие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F:\Documents and Settings\Саша\Рабочий стол\фото с урока физры\P1000707.JPG"/>
          <p:cNvPicPr/>
          <p:nvPr/>
        </p:nvPicPr>
        <p:blipFill>
          <a:blip r:embed="rId1"/>
          <a:stretch/>
        </p:blipFill>
        <p:spPr>
          <a:xfrm>
            <a:off x="1487520" y="1774800"/>
            <a:ext cx="6168960" cy="4626000"/>
          </a:xfrm>
          <a:prstGeom prst="rect">
            <a:avLst/>
          </a:prstGeom>
          <a:ln w="0">
            <a:noFill/>
          </a:ln>
        </p:spPr>
      </p:pic>
      <p:pic>
        <p:nvPicPr>
          <p:cNvPr id="372" name="Заголовок 3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Содержимое 2"/>
          <p:cNvGrpSpPr/>
          <p:nvPr/>
        </p:nvGrpSpPr>
        <p:grpSpPr>
          <a:xfrm>
            <a:off x="457200" y="1773360"/>
            <a:ext cx="8229600" cy="4627440"/>
            <a:chOff x="457200" y="1773360"/>
            <a:chExt cx="8229600" cy="4627440"/>
          </a:xfrm>
        </p:grpSpPr>
        <p:pic>
          <p:nvPicPr>
            <p:cNvPr id="374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457200" y="1773360"/>
              <a:ext cx="822960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5" name=""/>
            <p:cNvSpPr/>
            <p:nvPr/>
          </p:nvSpPr>
          <p:spPr>
            <a:xfrm>
              <a:off x="457200" y="1774800"/>
              <a:ext cx="822960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600" spc="-1" strike="noStrike">
                  <a:solidFill>
                    <a:srgbClr val="000000"/>
                  </a:solidFill>
                  <a:latin typeface="Corbel"/>
                </a:rPr>
                <a:t>Гипотеза доказана.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77" name="Содержимое 2"/>
          <p:cNvGrpSpPr/>
          <p:nvPr/>
        </p:nvGrpSpPr>
        <p:grpSpPr>
          <a:xfrm>
            <a:off x="457200" y="1773360"/>
            <a:ext cx="8229600" cy="4627440"/>
            <a:chOff x="457200" y="1773360"/>
            <a:chExt cx="8229600" cy="4627440"/>
          </a:xfrm>
        </p:grpSpPr>
        <p:pic>
          <p:nvPicPr>
            <p:cNvPr id="378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57200" y="1773360"/>
              <a:ext cx="822960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457200" y="1774800"/>
              <a:ext cx="822960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9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К. К. Платонов, Г. Г. Голубев. "Психология"</a:t>
              </a:r>
              <a:br>
                <a:rPr sz="2700"/>
              </a:b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"Высшая школа", Москва, 1977 г.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9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Портал для молодых родителей </a:t>
              </a:r>
              <a:r>
                <a:rPr b="0" lang="en-US" sz="2700" spc="-1" strike="noStrike" u="sng">
                  <a:solidFill>
                    <a:srgbClr val="168bba"/>
                  </a:solidFill>
                  <a:uFillTx/>
                  <a:latin typeface="Corbel"/>
                  <a:hlinkClick r:id="rId3"/>
                </a:rPr>
                <a:t>http://www.detskiysad.ru/ped/ped251.html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9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Абраменкова В.В мире детских игр // Воспитание школьников. – 2000.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9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Аникеева Н.П. Игра в педагогическом процессе. – Новосибирск. – Знание, 1989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9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Кларин М.В. Обучение как игра // Школьные технологии. – 2004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9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Фестиваль педагогических идей «Открытый урок» </a:t>
              </a:r>
              <a:r>
                <a:rPr b="0" lang="en-US" sz="2700" spc="-1" strike="noStrike">
                  <a:solidFill>
                    <a:srgbClr val="000000"/>
                  </a:solidFill>
                  <a:latin typeface="Corbel"/>
                </a:rPr>
                <a:t>http://festival.1september.ru/articles/549323/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2859120" y="158760"/>
            <a:ext cx="307188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10" name="Содержимое 2"/>
          <p:cNvGrpSpPr/>
          <p:nvPr/>
        </p:nvGrpSpPr>
        <p:grpSpPr>
          <a:xfrm>
            <a:off x="500040" y="1773360"/>
            <a:ext cx="8186760" cy="4584600"/>
            <a:chOff x="500040" y="1773360"/>
            <a:chExt cx="8186760" cy="4584600"/>
          </a:xfrm>
        </p:grpSpPr>
        <p:pic>
          <p:nvPicPr>
            <p:cNvPr id="311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500040" y="1773360"/>
              <a:ext cx="8186760" cy="45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500040" y="1774800"/>
              <a:ext cx="8186760" cy="458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Дать определение понятию «настроение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Выяснить являются ли подвижные игры средством педагогик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Определить виды воздействия подвижных игр на учащихс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rbel"/>
                </a:rPr>
                <a:t>Выявить с помощью анкетирования  отношение детей к подвижным играм на уроках физкульту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14" name="Содержимое 2"/>
          <p:cNvGrpSpPr/>
          <p:nvPr/>
        </p:nvGrpSpPr>
        <p:grpSpPr>
          <a:xfrm>
            <a:off x="457200" y="1773360"/>
            <a:ext cx="8229600" cy="4627440"/>
            <a:chOff x="457200" y="1773360"/>
            <a:chExt cx="8229600" cy="4627440"/>
          </a:xfrm>
        </p:grpSpPr>
        <p:pic>
          <p:nvPicPr>
            <p:cNvPr id="31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57200" y="1773360"/>
              <a:ext cx="822960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57200" y="1774800"/>
              <a:ext cx="822960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Corbel"/>
                </a:rPr>
                <a:t>Подвижные игры влияют не только на настроение учащихся, но и гармонически развивают личность в целом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18" name="Содержимое 2"/>
          <p:cNvGrpSpPr/>
          <p:nvPr/>
        </p:nvGrpSpPr>
        <p:grpSpPr>
          <a:xfrm>
            <a:off x="457200" y="1773360"/>
            <a:ext cx="8229600" cy="4627440"/>
            <a:chOff x="457200" y="1773360"/>
            <a:chExt cx="8229600" cy="4627440"/>
          </a:xfrm>
        </p:grpSpPr>
        <p:pic>
          <p:nvPicPr>
            <p:cNvPr id="319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457200" y="1773360"/>
              <a:ext cx="8229600" cy="462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457200" y="1774800"/>
              <a:ext cx="8229600" cy="462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000000"/>
                  </a:solidFill>
                  <a:latin typeface="Corbel"/>
                </a:rPr>
                <a:t>Гиподинамия – одна из главных проблем современного обществ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26960" y="146160"/>
            <a:ext cx="8229600" cy="1463400"/>
          </a:xfrm>
          <a:prstGeom prst="rect">
            <a:avLst/>
          </a:prstGeom>
          <a:ln w="0">
            <a:noFill/>
          </a:ln>
        </p:spPr>
      </p:pic>
      <p:pic>
        <p:nvPicPr>
          <p:cNvPr id="322" name="Содержимое 3" descr=""/>
          <p:cNvPicPr/>
          <p:nvPr/>
        </p:nvPicPr>
        <p:blipFill>
          <a:blip r:embed="rId2"/>
          <a:stretch/>
        </p:blipFill>
        <p:spPr>
          <a:xfrm>
            <a:off x="457200" y="1774800"/>
            <a:ext cx="82296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24" name="Содержимое 2"/>
          <p:cNvGrpSpPr/>
          <p:nvPr/>
        </p:nvGrpSpPr>
        <p:grpSpPr>
          <a:xfrm>
            <a:off x="0" y="1427040"/>
            <a:ext cx="9144000" cy="5430960"/>
            <a:chOff x="0" y="1427040"/>
            <a:chExt cx="9144000" cy="5430960"/>
          </a:xfrm>
        </p:grpSpPr>
        <p:pic>
          <p:nvPicPr>
            <p:cNvPr id="32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0" y="1427040"/>
              <a:ext cx="9144000" cy="543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0" y="1428840"/>
              <a:ext cx="9144000" cy="542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10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Corbel"/>
                </a:rPr>
                <a:t>Настроение — это совокупность отдельных психических состояний, из которых какое-то состояние доминирует и придает сознанию соответствующую этому состоянию эмоциональную окраску. Настроение может быть бодрым, веселым, подавленным, грустным, радостным и т. д., в зависимости от того, какое из составляющих его психических состояний наиболее сильно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Содержимое 2"/>
          <p:cNvGrpSpPr/>
          <p:nvPr/>
        </p:nvGrpSpPr>
        <p:grpSpPr>
          <a:xfrm>
            <a:off x="0" y="1773360"/>
            <a:ext cx="9144000" cy="5084640"/>
            <a:chOff x="0" y="1773360"/>
            <a:chExt cx="9144000" cy="5084640"/>
          </a:xfrm>
        </p:grpSpPr>
        <p:pic>
          <p:nvPicPr>
            <p:cNvPr id="328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0" y="1773360"/>
              <a:ext cx="9144000" cy="50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0" y="1774800"/>
              <a:ext cx="9144000" cy="508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Настроение как целостное психическое состояние весьма</a:t>
              </a:r>
              <a:r>
                <a:rPr b="0" lang="ru-RU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неустойчиво, оно может повышаться и понижаться, превращаться из положительного в отрицательное и наоборот в зависимости от стихийных воздействий среды. Однако эти колебания и изменения настроения человека могут вызываться и преднамеренно посредством, например, художественной литературы, театральных постановок, музыкальных произведений, телепередач, радиовещания, словесных разъяснений и внушений при общении и т. д.</a:t>
              </a:r>
              <a:br>
                <a:rPr sz="2700"/>
              </a:br>
              <a:r>
                <a:rPr b="0" lang="ru-RU" sz="2700" spc="-1" strike="noStrike">
                  <a:solidFill>
                    <a:srgbClr val="000000"/>
                  </a:solidFill>
                  <a:latin typeface="Corbel"/>
                </a:rPr>
                <a:t>Преднамеренные изменения настроения учащихся в процессе обучения и производственной практики осуществляются эпизодически.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0" name="Заголовок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1" name="Заголовок 1"/>
          <p:cNvSpPr/>
          <p:nvPr/>
        </p:nvSpPr>
        <p:spPr>
          <a:xfrm>
            <a:off x="609480" y="30780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grpSp>
        <p:nvGrpSpPr>
          <p:cNvPr id="333" name="Содержимое 2"/>
          <p:cNvGrpSpPr/>
          <p:nvPr/>
        </p:nvGrpSpPr>
        <p:grpSpPr>
          <a:xfrm>
            <a:off x="0" y="1500120"/>
            <a:ext cx="9144000" cy="5357880"/>
            <a:chOff x="0" y="1500120"/>
            <a:chExt cx="9144000" cy="5357880"/>
          </a:xfrm>
        </p:grpSpPr>
        <p:pic>
          <p:nvPicPr>
            <p:cNvPr id="33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0" y="1500120"/>
              <a:ext cx="9144000" cy="535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0" y="1500120"/>
              <a:ext cx="9144000" cy="53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720" rIns="90000" tIns="91440" bIns="46800" anchor="t">
              <a:noAutofit/>
            </a:bodyPr>
            <a:p>
              <a:pPr marL="438120" indent="-318960">
                <a:lnSpc>
                  <a:spcPct val="80000"/>
                </a:lnSpc>
                <a:buClr>
                  <a:srgbClr val="f0ad00"/>
                </a:buClr>
                <a:buSzPct val="80000"/>
                <a:buFont typeface="Wingdings 2" charset="2"/>
                <a:buChar char="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Corbel"/>
                </a:rPr>
                <a:t>Народные подвижные игры являются традиционным средством педагогики. Испокон веков в них ярко отражался образ жизни людей, их быт, труд, национальные устои, представления о чести, смелости, мужестве, желание обладать силой, ловкостью, выносливостью, быстротой и красотой движений, проявлять смекалку, выдержку, творческую выдумку, находчивость, волю и стремление к победе. Передовые представители культуры: К.Д. Ушинский, Ж.А. Покровский, Д.А. Колоцца, Г.А. Виноградов и др., заботясь о просвещении, образовании и воспитании народных масс, призывали повсеместно собирать и описывать народные игры, чтобы донести до потомков народный колорит обычаев, оригинальность самовыражения того или иного народа, своеобразие языка, формы и содержания разговорных текстов.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. Ю. Муштакова</cp:lastModifiedBy>
  <dcterms:modified xsi:type="dcterms:W3CDTF">2017-10-09T09:48:17Z</dcterms:modified>
  <cp:revision>72</cp:revision>
  <dc:subject/>
  <dc:title>Слайд 1</dc:title>
</cp:coreProperties>
</file>