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AF6D-EF96-4A76-AE09-1C28D8B1B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B94-1F40-42FF-BD15-C3F3B101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966C-C0B6-4013-8D61-0497F11F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5561-BADA-4A90-8318-FA363C49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D5F5-C67D-4D26-8C3C-E3209A1D7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F1A9-76AD-4A03-BA59-F477DCE8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42A-CC7B-4361-89F3-BC49AC4B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A741-E9F9-4B1D-AEEE-2C97050A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CBA7-5DB6-4685-841E-DB0FD7B5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6A1E-7AC9-4D59-98FE-6245F89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87287-1DB8-4DBB-947D-F72B3AB1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2D28-67CE-42B6-B923-C81FB4BD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9304-AF04-4414-831C-6361069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50A7-75E7-4F11-A7C6-3F7C29B7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2935-C0DE-416F-920B-04BB03CD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6D24-E1B0-4CBF-9D71-74F8944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8CC8-54D6-48C4-AD7C-3B330ED3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FC3-A265-4A5F-A546-AD87009C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B97-0C88-45E9-B257-A8F222C5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5A9B-0180-4677-ACFF-8C57752E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AEC-E9F4-4FFE-A46F-F8CFF26B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04E7-6622-43DA-9010-2A62296A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345-1439-49B3-80C7-C37AB04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385-C376-4837-8AB6-4F12D037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81FA-3A13-452C-9804-E72D7310808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692E-82B4-4179-91AC-A3BBDA86B2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Проверочная работа по теме: «Романтизм» для 11 класса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Составитель: Фадеева М.Г. Учитель музыки и МХК МБОУ «Школа № 105 г. Нижний Новгоро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МХК «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7086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Литература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тец романтизма в литературе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риоритет в романтической школе: а) звук     б) слово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Немецкий «сказочник»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нглийский создатель жанра 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сторического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романа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Вершиной английской литературы 19в. является тв-во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Учитель всего пишущего поколения» - А.Пушкин о: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рора Дюдеван (подруга Ф.Шопена) под псевдонимом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Самый современный Д.Артаньян в литературе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Убежденный противник монархии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тор романа «Красное и Черное»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Автор эпопеи «Человеческая комедия»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«МХК 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1311"/>
                </a:solidFill>
                <a:latin typeface="Arial"/>
              </a:rPr>
              <a:t>Живопись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Плот Медузы»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Офицер конных егерей императорской гвардии, идущий в атаку»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Истинный вождь французского романтизма в живописи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Данте и Вергилий»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Смерть Сарданапала»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Офорт – это:_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Портрет семьи Кала </a:t>
            </a:r>
            <a:r>
              <a:rPr b="0" lang="en-US" sz="1400" spc="-1" strike="noStrike">
                <a:solidFill>
                  <a:srgbClr val="2f1311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«Маха одетая»______________________________________________________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f1311"/>
                </a:solidFill>
                <a:latin typeface="Arial"/>
              </a:rPr>
              <a:t>Картина Ф.Гойи о вторжении французов в Испанию:_____________________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Вопросы МХК «РОМАНТИЗМ»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№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Музы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сновоположником романтической «школы» музыки является: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___________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Немецкий композитор, писатель, трибун, борец с филистерством в искусстве:_________________________________________________________________________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Писал оперы на средневековые легенды, используя «симфоническое повествование»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Оперу «Сивильский цирюльник» по комедии П. Бомарше написал итальянский композитор:______________________________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Итальянский композитор, написавший 26 опер:______________________________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Два композитора – виртуоза:______________________________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4:18:08Z</dcterms:created>
  <dc:creator>Марина</dc:creator>
  <dc:description/>
  <dc:language>en-US</dc:language>
  <cp:lastModifiedBy>Фадеева</cp:lastModifiedBy>
  <dcterms:modified xsi:type="dcterms:W3CDTF">2017-10-09T14:42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