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8AC-1DF4-4084-A712-20FE5070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9A8-E895-420E-A7C7-E391F005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C7C-2276-4C7F-9D27-DB4E1CCD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304-0458-4216-BF06-D872FE54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6056-4A4F-4275-96CE-6B2B90C4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4C96-D3D4-4539-AC51-0AFAF635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F8E4-54CB-4CC6-A475-62CFC088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7BF3-6EBA-46F6-A1C9-6FB5364F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A6DF-11F3-4B45-8FC0-C52DBA59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2E52-AC5A-4CF3-BB46-17B2E3AE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AC40-74FE-4674-B676-F53B3D36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4BE-BC06-4517-B291-CA968349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B984-2E7B-4CF0-B38E-711911BA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D8D7-F3D5-4A9C-97F9-0A9DE52C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8AE2-ABB9-47B1-8164-13CE33C8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5E8F-CD4B-4616-BF2F-097F6050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CDF3-735C-4416-BD59-A7BF8326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FDC-469E-42DF-A139-C4E1C463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7B9-9245-44ED-8DDD-1D18DA7D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047-694A-4B01-BBA7-C0F12283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1B9-D06E-4C25-A1C6-BC0CE1E5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4BD-E798-407B-98F4-9D19AF29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EC0-E642-43F4-9256-BD21C07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950-6E85-4725-AD19-A4E8AA3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8CAC-B842-4F28-B061-E2CA9B2F31F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3020-1529-477D-B5EF-08F161B4458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верочная работа по теме: «Романтизм» для 11 класс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ставитель: Фадеева М.Г. Учитель музыки и МХК МБОУ «Школа № 105 г. Нижний Новгоро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просы МХК «РОМАНТИЗ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Литература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тец романтизма в литературе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иоритет в романтической школе: а) звук     б) слово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емецкий «сказочник»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нглийский создатель жанра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историческ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романа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ершиной английской литературы 19в. является тв-во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Учитель всего пишущего поколения» - А.Пушкин о:___________________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врора Дюдеван (подруга Ф.Шопена) под псевдонимом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амый современный Д.Артаньян в литературе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бежденный противник монархии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втор романа «Красное и Черное»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втор эпопеи «Человеческая комедия»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просы «МХК РОМАНТИЗ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Живопис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Плот Медузы»____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Офицер конных егерей императорской гвардии, идущий в атаку»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__________________________________________________________________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стинный вождь французского романтизма в живописи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Данте и Вергилий»_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Смерть Сарданапала»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форт – это:________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____________________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ртрет семьи Кала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I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Маха одетая»_______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артина Ф.Гойи о вторжении французов в Испанию:_____________________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просы МХК «РОМАНТИЗ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Музык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Основоположником романтической «школы» музыки является: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_______________________________________________________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Немецкий композитор, писатель, трибун, борец с филистерством в искусстве: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Писал оперы на средневековые легенды, используя «симфоническое повествование»_________________________________________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Оперу «Сивильский цирюльник» по комедии П. Бомарше написал итальянский композитор:____________________________________________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Итальянский композитор, написавший 26 опер:______________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Два композитора – виртуоза:______________________________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14:18:08Z</dcterms:created>
  <dc:creator>Марина</dc:creator>
  <dc:description/>
  <dc:language>en-US</dc:language>
  <cp:lastModifiedBy>Фадеева</cp:lastModifiedBy>
  <dcterms:modified xsi:type="dcterms:W3CDTF">2017-10-09T14:42:4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