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3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media/image28.gif" ContentType="image/gif"/>
  <Override PartName="/ppt/media/image27.png" ContentType="image/png"/>
  <Override PartName="/ppt/media/image26.png" ContentType="image/png"/>
  <Override PartName="/ppt/media/image3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6.gif" ContentType="image/gif"/>
  <Override PartName="/ppt/media/image36.gif" ContentType="image/gif"/>
  <Override PartName="/ppt/media/image19.png" ContentType="image/png"/>
  <Override PartName="/ppt/media/image20.png" ContentType="image/png"/>
  <Override PartName="/ppt/media/image18.png" ContentType="image/png"/>
  <Override PartName="/ppt/media/image15.png" ContentType="image/png"/>
  <Override PartName="/ppt/media/image17.png" ContentType="image/png"/>
  <Override PartName="/ppt/media/image14.gif" ContentType="image/gif"/>
  <Override PartName="/ppt/media/image1.jpeg" ContentType="image/jpeg"/>
  <Override PartName="/ppt/media/image35.jpeg" ContentType="image/jpeg"/>
  <Override PartName="/ppt/media/image47.png" ContentType="image/png"/>
  <Override PartName="/ppt/media/image37.png" ContentType="image/png"/>
  <Override PartName="/ppt/media/image38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8.png" ContentType="image/png"/>
  <Override PartName="/ppt/media/image10.gif" ContentType="image/gif"/>
  <Override PartName="/ppt/media/image31.png" ContentType="image/png"/>
  <Override PartName="/ppt/media/image30.png" ContentType="image/png"/>
  <Override PartName="/ppt/media/image7.gif" ContentType="image/gif"/>
  <Override PartName="/ppt/media/image5.jpeg" ContentType="image/jpeg"/>
  <Override PartName="/ppt/media/image11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8.gif" ContentType="image/gif"/>
  <Override PartName="/ppt/media/image40.png" ContentType="image/png"/>
  <Override PartName="/ppt/media/image4.jpeg" ContentType="image/jpeg"/>
  <Override PartName="/ppt/media/image2.gif" ContentType="image/gif"/>
  <Override PartName="/ppt/media/image25.png" ContentType="image/png"/>
  <Override PartName="/ppt/media/image4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  <p:sldId id="276" r:id="rId56"/>
    <p:sldId id="277" r:id="rId57"/>
    <p:sldId id="278" r:id="rId58"/>
    <p:sldId id="279" r:id="rId59"/>
    <p:sldId id="280" r:id="rId60"/>
    <p:sldId id="281" r:id="rId61"/>
    <p:sldId id="282" r:id="rId62"/>
    <p:sldId id="283" r:id="rId63"/>
    <p:sldId id="284" r:id="rId64"/>
    <p:sldId id="285" r:id="rId65"/>
    <p:sldId id="286" r:id="rId66"/>
    <p:sldId id="287" r:id="rId67"/>
    <p:sldId id="288" r:id="rId68"/>
    <p:sldId id="289" r:id="rId69"/>
    <p:sldId id="290" r:id="rId70"/>
    <p:sldId id="291" r:id="rId71"/>
    <p:sldId id="292" r:id="rId72"/>
    <p:sldId id="293" r:id="rId73"/>
    <p:sldId id="294" r:id="rId74"/>
    <p:sldId id="295" r:id="rId75"/>
    <p:sldId id="296" r:id="rId76"/>
    <p:sldId id="297" r:id="rId77"/>
    <p:sldId id="298" r:id="rId78"/>
    <p:sldId id="299" r:id="rId79"/>
    <p:sldId id="300" r:id="rId80"/>
    <p:sldId id="301" r:id="rId81"/>
    <p:sldId id="302" r:id="rId82"/>
    <p:sldId id="303" r:id="rId83"/>
    <p:sldId id="304" r:id="rId84"/>
    <p:sldId id="305" r:id="rId85"/>
    <p:sldId id="306" r:id="rId86"/>
    <p:sldId id="307" r:id="rId87"/>
    <p:sldId id="308" r:id="rId88"/>
    <p:sldId id="309" r:id="rId89"/>
    <p:sldId id="310" r:id="rId90"/>
    <p:sldId id="311" r:id="rId91"/>
    <p:sldId id="312" r:id="rId92"/>
    <p:sldId id="313" r:id="rId93"/>
    <p:sldId id="314" r:id="rId94"/>
    <p:sldId id="315" r:id="rId95"/>
    <p:sldId id="316" r:id="rId96"/>
    <p:sldId id="317" r:id="rId97"/>
    <p:sldId id="318" r:id="rId98"/>
    <p:sldId id="319" r:id="rId99"/>
    <p:sldId id="320" r:id="rId100"/>
    <p:sldId id="321" r:id="rId101"/>
    <p:sldId id="322" r:id="rId102"/>
    <p:sldId id="323" r:id="rId103"/>
    <p:sldId id="324" r:id="rId104"/>
    <p:sldId id="325" r:id="rId105"/>
    <p:sldId id="326" r:id="rId106"/>
    <p:sldId id="327" r:id="rId107"/>
    <p:sldId id="328" r:id="rId108"/>
    <p:sldId id="329" r:id="rId109"/>
    <p:sldId id="330" r:id="rId110"/>
    <p:sldId id="331" r:id="rId111"/>
    <p:sldId id="332" r:id="rId112"/>
    <p:sldId id="333" r:id="rId113"/>
    <p:sldId id="334" r:id="rId114"/>
    <p:sldId id="335" r:id="rId115"/>
    <p:sldId id="336" r:id="rId116"/>
    <p:sldId id="337" r:id="rId117"/>
    <p:sldId id="338" r:id="rId118"/>
    <p:sldId id="339" r:id="rId119"/>
    <p:sldId id="340" r:id="rId120"/>
  </p:sldIdLst>
  <p:sldSz cx="9144000" cy="6858000"/>
  <p:notesSz cx="9677400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slide" Target="slides/slide21.xml"/><Relationship Id="rId57" Type="http://schemas.openxmlformats.org/officeDocument/2006/relationships/slide" Target="slides/slide22.xml"/><Relationship Id="rId58" Type="http://schemas.openxmlformats.org/officeDocument/2006/relationships/slide" Target="slides/slide23.xml"/><Relationship Id="rId59" Type="http://schemas.openxmlformats.org/officeDocument/2006/relationships/slide" Target="slides/slide24.xml"/><Relationship Id="rId60" Type="http://schemas.openxmlformats.org/officeDocument/2006/relationships/slide" Target="slides/slide25.xml"/><Relationship Id="rId61" Type="http://schemas.openxmlformats.org/officeDocument/2006/relationships/slide" Target="slides/slide26.xml"/><Relationship Id="rId62" Type="http://schemas.openxmlformats.org/officeDocument/2006/relationships/slide" Target="slides/slide27.xml"/><Relationship Id="rId63" Type="http://schemas.openxmlformats.org/officeDocument/2006/relationships/slide" Target="slides/slide28.xml"/><Relationship Id="rId64" Type="http://schemas.openxmlformats.org/officeDocument/2006/relationships/slide" Target="slides/slide29.xml"/><Relationship Id="rId65" Type="http://schemas.openxmlformats.org/officeDocument/2006/relationships/slide" Target="slides/slide30.xml"/><Relationship Id="rId66" Type="http://schemas.openxmlformats.org/officeDocument/2006/relationships/slide" Target="slides/slide31.xml"/><Relationship Id="rId67" Type="http://schemas.openxmlformats.org/officeDocument/2006/relationships/slide" Target="slides/slide32.xml"/><Relationship Id="rId68" Type="http://schemas.openxmlformats.org/officeDocument/2006/relationships/slide" Target="slides/slide33.xml"/><Relationship Id="rId69" Type="http://schemas.openxmlformats.org/officeDocument/2006/relationships/slide" Target="slides/slide34.xml"/><Relationship Id="rId70" Type="http://schemas.openxmlformats.org/officeDocument/2006/relationships/slide" Target="slides/slide35.xml"/><Relationship Id="rId71" Type="http://schemas.openxmlformats.org/officeDocument/2006/relationships/slide" Target="slides/slide36.xml"/><Relationship Id="rId72" Type="http://schemas.openxmlformats.org/officeDocument/2006/relationships/slide" Target="slides/slide37.xml"/><Relationship Id="rId73" Type="http://schemas.openxmlformats.org/officeDocument/2006/relationships/slide" Target="slides/slide38.xml"/><Relationship Id="rId74" Type="http://schemas.openxmlformats.org/officeDocument/2006/relationships/slide" Target="slides/slide39.xml"/><Relationship Id="rId75" Type="http://schemas.openxmlformats.org/officeDocument/2006/relationships/slide" Target="slides/slide40.xml"/><Relationship Id="rId76" Type="http://schemas.openxmlformats.org/officeDocument/2006/relationships/slide" Target="slides/slide41.xml"/><Relationship Id="rId77" Type="http://schemas.openxmlformats.org/officeDocument/2006/relationships/slide" Target="slides/slide42.xml"/><Relationship Id="rId78" Type="http://schemas.openxmlformats.org/officeDocument/2006/relationships/slide" Target="slides/slide43.xml"/><Relationship Id="rId79" Type="http://schemas.openxmlformats.org/officeDocument/2006/relationships/slide" Target="slides/slide44.xml"/><Relationship Id="rId80" Type="http://schemas.openxmlformats.org/officeDocument/2006/relationships/slide" Target="slides/slide45.xml"/><Relationship Id="rId81" Type="http://schemas.openxmlformats.org/officeDocument/2006/relationships/slide" Target="slides/slide46.xml"/><Relationship Id="rId82" Type="http://schemas.openxmlformats.org/officeDocument/2006/relationships/slide" Target="slides/slide47.xml"/><Relationship Id="rId83" Type="http://schemas.openxmlformats.org/officeDocument/2006/relationships/slide" Target="slides/slide48.xml"/><Relationship Id="rId84" Type="http://schemas.openxmlformats.org/officeDocument/2006/relationships/slide" Target="slides/slide49.xml"/><Relationship Id="rId85" Type="http://schemas.openxmlformats.org/officeDocument/2006/relationships/slide" Target="slides/slide50.xml"/><Relationship Id="rId86" Type="http://schemas.openxmlformats.org/officeDocument/2006/relationships/slide" Target="slides/slide51.xml"/><Relationship Id="rId87" Type="http://schemas.openxmlformats.org/officeDocument/2006/relationships/slide" Target="slides/slide52.xml"/><Relationship Id="rId88" Type="http://schemas.openxmlformats.org/officeDocument/2006/relationships/slide" Target="slides/slide53.xml"/><Relationship Id="rId89" Type="http://schemas.openxmlformats.org/officeDocument/2006/relationships/slide" Target="slides/slide54.xml"/><Relationship Id="rId90" Type="http://schemas.openxmlformats.org/officeDocument/2006/relationships/slide" Target="slides/slide55.xml"/><Relationship Id="rId91" Type="http://schemas.openxmlformats.org/officeDocument/2006/relationships/slide" Target="slides/slide56.xml"/><Relationship Id="rId92" Type="http://schemas.openxmlformats.org/officeDocument/2006/relationships/slide" Target="slides/slide57.xml"/><Relationship Id="rId93" Type="http://schemas.openxmlformats.org/officeDocument/2006/relationships/slide" Target="slides/slide58.xml"/><Relationship Id="rId94" Type="http://schemas.openxmlformats.org/officeDocument/2006/relationships/slide" Target="slides/slide59.xml"/><Relationship Id="rId95" Type="http://schemas.openxmlformats.org/officeDocument/2006/relationships/slide" Target="slides/slide60.xml"/><Relationship Id="rId96" Type="http://schemas.openxmlformats.org/officeDocument/2006/relationships/slide" Target="slides/slide61.xml"/><Relationship Id="rId97" Type="http://schemas.openxmlformats.org/officeDocument/2006/relationships/slide" Target="slides/slide62.xml"/><Relationship Id="rId98" Type="http://schemas.openxmlformats.org/officeDocument/2006/relationships/slide" Target="slides/slide63.xml"/><Relationship Id="rId99" Type="http://schemas.openxmlformats.org/officeDocument/2006/relationships/slide" Target="slides/slide64.xml"/><Relationship Id="rId100" Type="http://schemas.openxmlformats.org/officeDocument/2006/relationships/slide" Target="slides/slide65.xml"/><Relationship Id="rId101" Type="http://schemas.openxmlformats.org/officeDocument/2006/relationships/slide" Target="slides/slide66.xml"/><Relationship Id="rId102" Type="http://schemas.openxmlformats.org/officeDocument/2006/relationships/slide" Target="slides/slide67.xml"/><Relationship Id="rId103" Type="http://schemas.openxmlformats.org/officeDocument/2006/relationships/slide" Target="slides/slide68.xml"/><Relationship Id="rId104" Type="http://schemas.openxmlformats.org/officeDocument/2006/relationships/slide" Target="slides/slide69.xml"/><Relationship Id="rId105" Type="http://schemas.openxmlformats.org/officeDocument/2006/relationships/slide" Target="slides/slide70.xml"/><Relationship Id="rId106" Type="http://schemas.openxmlformats.org/officeDocument/2006/relationships/slide" Target="slides/slide71.xml"/><Relationship Id="rId107" Type="http://schemas.openxmlformats.org/officeDocument/2006/relationships/slide" Target="slides/slide72.xml"/><Relationship Id="rId108" Type="http://schemas.openxmlformats.org/officeDocument/2006/relationships/slide" Target="slides/slide73.xml"/><Relationship Id="rId109" Type="http://schemas.openxmlformats.org/officeDocument/2006/relationships/slide" Target="slides/slide74.xml"/><Relationship Id="rId110" Type="http://schemas.openxmlformats.org/officeDocument/2006/relationships/slide" Target="slides/slide75.xml"/><Relationship Id="rId111" Type="http://schemas.openxmlformats.org/officeDocument/2006/relationships/slide" Target="slides/slide76.xml"/><Relationship Id="rId112" Type="http://schemas.openxmlformats.org/officeDocument/2006/relationships/slide" Target="slides/slide77.xml"/><Relationship Id="rId113" Type="http://schemas.openxmlformats.org/officeDocument/2006/relationships/slide" Target="slides/slide78.xml"/><Relationship Id="rId114" Type="http://schemas.openxmlformats.org/officeDocument/2006/relationships/slide" Target="slides/slide79.xml"/><Relationship Id="rId115" Type="http://schemas.openxmlformats.org/officeDocument/2006/relationships/slide" Target="slides/slide80.xml"/><Relationship Id="rId116" Type="http://schemas.openxmlformats.org/officeDocument/2006/relationships/slide" Target="slides/slide81.xml"/><Relationship Id="rId117" Type="http://schemas.openxmlformats.org/officeDocument/2006/relationships/slide" Target="slides/slide82.xml"/><Relationship Id="rId118" Type="http://schemas.openxmlformats.org/officeDocument/2006/relationships/slide" Target="slides/slide83.xml"/><Relationship Id="rId119" Type="http://schemas.openxmlformats.org/officeDocument/2006/relationships/slide" Target="slides/slide84.xml"/><Relationship Id="rId120" Type="http://schemas.openxmlformats.org/officeDocument/2006/relationships/slide" Target="slides/slide85.xml"/><Relationship Id="rId1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0" y="0"/>
            <a:ext cx="9676800" cy="688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925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 type="dt" idx="100"/>
          </p:nvPr>
        </p:nvSpPr>
        <p:spPr>
          <a:xfrm>
            <a:off x="5481720" y="-360"/>
            <a:ext cx="4194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 type="sldImg"/>
          </p:nvPr>
        </p:nvSpPr>
        <p:spPr>
          <a:xfrm>
            <a:off x="3117960" y="515520"/>
            <a:ext cx="3443040" cy="25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PlaceHolder 4"/>
          <p:cNvSpPr>
            <a:spLocks noGrp="1"/>
          </p:cNvSpPr>
          <p:nvPr>
            <p:ph type="body"/>
          </p:nvPr>
        </p:nvSpPr>
        <p:spPr>
          <a:xfrm>
            <a:off x="968400" y="3271320"/>
            <a:ext cx="774072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5"/>
          <p:cNvSpPr>
            <a:spLocks noGrp="1"/>
          </p:cNvSpPr>
          <p:nvPr>
            <p:ph type="ftr" idx="101"/>
          </p:nvPr>
        </p:nvSpPr>
        <p:spPr>
          <a:xfrm>
            <a:off x="0" y="6541560"/>
            <a:ext cx="419256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PlaceHolder 6"/>
          <p:cNvSpPr>
            <a:spLocks noGrp="1"/>
          </p:cNvSpPr>
          <p:nvPr>
            <p:ph type="sldNum" idx="102"/>
          </p:nvPr>
        </p:nvSpPr>
        <p:spPr>
          <a:xfrm>
            <a:off x="5481720" y="6541560"/>
            <a:ext cx="4194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41B9-1ABF-42B5-B24F-BF4FA7FBED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sldImg"/>
          </p:nvPr>
        </p:nvSpPr>
        <p:spPr>
          <a:xfrm>
            <a:off x="3117960" y="515880"/>
            <a:ext cx="3443040" cy="2583000"/>
          </a:xfrm>
          <a:prstGeom prst="rect">
            <a:avLst/>
          </a:prstGeom>
          <a:ln w="0">
            <a:noFill/>
          </a:ln>
        </p:spPr>
      </p:sp>
      <p:sp>
        <p:nvSpPr>
          <p:cNvPr id="2827" name="PlaceHolder 2"/>
          <p:cNvSpPr>
            <a:spLocks noGrp="1"/>
          </p:cNvSpPr>
          <p:nvPr>
            <p:ph type="body"/>
          </p:nvPr>
        </p:nvSpPr>
        <p:spPr>
          <a:xfrm>
            <a:off x="968400" y="3271320"/>
            <a:ext cx="774072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рати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8" name="PlaceHolder 1"/>
          <p:cNvSpPr>
            <a:spLocks noGrp="1"/>
          </p:cNvSpPr>
          <p:nvPr>
            <p:ph type="sldImg"/>
          </p:nvPr>
        </p:nvSpPr>
        <p:spPr>
          <a:xfrm>
            <a:off x="3117960" y="515880"/>
            <a:ext cx="3443040" cy="2583000"/>
          </a:xfrm>
          <a:prstGeom prst="rect">
            <a:avLst/>
          </a:prstGeom>
          <a:ln w="0">
            <a:noFill/>
          </a:ln>
        </p:spPr>
      </p:sp>
      <p:sp>
        <p:nvSpPr>
          <p:cNvPr id="2829" name="PlaceHolder 2"/>
          <p:cNvSpPr>
            <a:spLocks noGrp="1"/>
          </p:cNvSpPr>
          <p:nvPr>
            <p:ph type="body"/>
          </p:nvPr>
        </p:nvSpPr>
        <p:spPr>
          <a:xfrm>
            <a:off x="968400" y="3271320"/>
            <a:ext cx="774072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дел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3117960" y="515880"/>
            <a:ext cx="3443040" cy="2583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968400" y="3271320"/>
            <a:ext cx="7740720" cy="31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обственные наименования – заглавия книг, названия журналов, газет, картин, кинофильмов, спектаклей, заводов, фабрик, кораблей и т. д. – заключаются в кавы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3406-A64A-4704-A947-5D84645F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D921C-FDCF-465D-9C57-46C0A202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FD16F-7AEC-4341-A9CD-0E0E6B7A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210CE-34F2-4F88-BCDE-66893661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8A79A-E715-491F-8169-C110004E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9E0CC-D85D-4C9C-A9E8-BDB8215B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1AC127-A9E5-43C5-9688-1069D5EA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82DEC-AD29-4FC2-9417-1416545F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141976-3FFE-4C2E-AFA4-78FEDDCB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28EBB-30BE-4BC1-B28A-B51F1DB6E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5B4C9-3ED4-4E29-9D90-3F685B4A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DEDEE-6025-4276-908B-147D26A2E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F64C7-C563-49B7-8DB1-18B7ECFF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31B8CE-B391-4A3A-AF91-F37979281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0213CE-786F-4FBB-AFF4-B0020BB3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D1468-9EB8-43C4-93E9-86A53228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330A6C-1073-4FE3-AB1F-B72EE1DD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835FF-19FF-4D77-93B9-593F96B0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04CDC-40ED-4644-AD50-791FD632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757B0-1F61-4ECA-8AE8-F201C6AC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6D618A-FA2A-4DC9-B2F8-56415CA3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113C8-44F7-4F1A-A98A-066D4E3B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AB162-3269-44AD-86F3-C52CF8BC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53B98-9968-4BA9-BB02-9862031E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D90D5-3FE2-46EB-90E8-1EF30935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C2A76-6775-4032-97D9-E635257E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E1385-D3B9-442F-8851-5D515353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3B860-4FE8-4EE4-917C-0D721A79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BBFBB-02B8-41B7-8FFA-93028CC0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6201D-878D-437D-ABD0-E8291BE7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AF0B9-ECFB-4B33-AC53-754B09FE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76213-ABB2-4F81-BC50-9DA8A8AC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45AB1-835B-4532-9612-A6C8FEFB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64BDA-2907-436B-B752-0F374E7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998C-A7F9-428C-A59F-3D2BF464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03806-FD84-4FB8-8E48-6C95CF1B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636CD-2D4D-4B50-9985-71E0C7C3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1B825-78F2-48B1-ADE1-DD1FFDAD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37C423-7667-489C-8A8F-04564DA0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3E4E1-5027-4860-95FD-9F682CC3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F3D57-CE33-4465-8A5D-62FA2A5C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0A241-4FAB-4825-B8DA-F9D7E568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9ABB73-1A83-4BA9-A3AF-19685376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8623A-1EE1-4E78-AA97-1348FFFB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A893C8-BB16-47C4-B69C-7660C7A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DA50-0DDC-4973-A00D-9F4FE4132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B2AADE-95A6-449F-A613-F3002549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E984B-7705-4FFD-8B19-FDF4ED85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BE9E0-0BCB-4027-B88A-7D6ADEE5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57DAE-8A3D-40B4-8A5F-3B55A1C7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59525-1F25-47F5-B982-74EB4D374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3A9B93-4B35-4CEA-9491-A5887C2F6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E3151-0338-42DA-8E1B-E8F60078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481306-C3B1-4B24-8889-2AD7432F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04115-6527-43A1-AA8E-5832D9A4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B8978-EEE8-4B07-8899-12034054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39E9-55E8-4578-B32F-93F4FA40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99D0F7-C280-44FB-9C87-6137D042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FC6F3-6FF8-452E-90F7-A19C3B02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D30F6-4400-4439-A567-BC9E36F9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59810C-0F10-4C75-B966-A9C48FBD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21D7D-A25F-466E-A136-E6C509B7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B46F03-D911-4B34-9980-52BC73E4E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C0016-98F2-485B-869A-C2248DDD3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6081A3-53A5-481B-B6E9-8E9713E7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49356-AA27-4DC8-8268-DA7AF4C0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DE4F43-6AE5-47E1-A76E-D3B346E6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B51F-33C3-47C9-823A-86087E45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323D49-E209-4484-9DB6-312F2B33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17594-4715-42D7-B684-98136812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CA1AD-00F8-4C01-A6B4-AA40D2EE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03F894-FCFB-4604-B705-B755376F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D8C3FC-4D2D-49EB-A3FA-832ED14D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200D59-7308-460C-B810-5B83D636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053EB2-E05D-4A4A-B027-1F9DD378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11EC05-2103-4EBA-BB29-615769A8A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C5410D-46C0-4017-8FB4-BD39D9EC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05EA65-3EB7-450C-BF30-D662AE89B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AEE0-E1DE-4E54-A68A-A08B19993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C20C5-F542-4BF7-A49C-2AB6A283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3B645D-9990-4570-AAC8-DB057E50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5670D5-CF73-467E-86FF-64F1C25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23C900-B9B2-4CFD-88BC-522A4DAD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59D285-2F2E-4BAD-A86E-4CC90FF6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15A1B-85E7-4CD2-8BCC-A2C9056E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DDAC6-6125-4280-991C-617F4CF4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9C490-251C-4104-BB9E-DB31D1DB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B93264-444D-40C8-852E-9A7A6CD9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9C1715-DA09-4A51-96AD-D8E0B9ACF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7365-68F8-4CDE-AAFB-63CD4C54F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BC9991-F8CC-44F7-A5CB-5C2C056A8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E021E-45D9-41B6-9D4C-B7E63F7E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0A470D-52CF-46D2-A542-C1D6209C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88442-4484-41D2-B1BC-FD519697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AA4534-485D-4A56-97BB-3A5A1AB1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516C6-F393-4626-8FB9-9CCA85C7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7527A-3078-4FE6-91BE-3315CA5D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4B08BA-388E-486E-99E8-0CEC7672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D404B2-6F78-4DD0-8A91-63887083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F546EA-F9D7-47C2-BF0A-38D6EAA5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7BB8-6F1C-4FD0-87B6-7D152EB2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8F17AB-42A2-462C-B5E1-BD2AD9CE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58A956-9C8B-446C-9374-8B26FD726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2E062-85D6-4B47-94E5-ADF610979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E76AF9-D35E-4B62-B641-692840AC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645FA1-DBC2-41CE-8DE6-77703BE5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9A8CF2-34E3-4023-8CFE-7A94D3F7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EA1D7C-010C-4B41-AB76-2FC216C5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7853F5-4D99-42AC-A9C2-96B98788B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389EC9-27F4-47B4-9EB5-CBA6FFA2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255015-95FC-4D5E-88F4-5FC8CDFE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47079-1485-44D7-8B51-2FB57D3F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F41E-541B-4859-82D6-DEAFAB97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CBF95-08A6-41BB-9008-D63895A1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190FB-533D-4A36-AD10-15DC3195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2CA88-370A-4F48-A894-A04877A0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9E90E-5C28-462E-8C9A-2A07195E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C92D2C-F39C-4F02-A98A-128FBE62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FAF02F-23BC-4CCC-9398-5938CA56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07A6F5-0F28-4E4F-AF3A-C831A4A2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D51005-67C2-4C6D-A726-136AB376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0A6385-A417-4857-B249-F00B6265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4FFFD-BB26-456B-BA09-775EF00F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59E1-291F-43BA-8526-11C3B9C5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190E18-3546-49F3-A363-9FFC951C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CB32F-D338-4F4E-BFD7-53F0BB2E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773B31-71CD-440B-9720-DB2D2FE2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7C1688-CED3-474F-AEFA-F1EBC6D4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3963D9-8060-462E-8195-29183B48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2EC3AA-FD55-4437-B0EF-A936CBD4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9C6E3D-D608-4396-90F0-EEA316E5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758EA4-927A-46A7-874A-F8136A60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2FD31-1F41-4CDD-897D-7FC80286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637C5A-D23B-4C8E-BE72-EF2A25EE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067D-B0CF-4DA0-A5E8-1144B2DA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8586F8-921A-47F6-9614-3ACD26E2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E1C382-96B4-4D93-99ED-92767BE0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22ED5D-165E-4188-8DB3-F530090C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1798C5-DA02-4406-B6C8-7D765029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DC9C38-36DB-450D-BC2C-B4C00F2B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939C5C-04DE-4098-9802-236FFC71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FEC9D-0043-4F24-A5C1-0B921552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EE591A-AD96-4F23-B4A3-0D8D56BC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934E69-837F-4494-9372-97A38864E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58803F-8FA9-443B-8AD4-90680590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4AE9-CF20-467C-B5F9-CD45C7CC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E41F6E-1E4A-4EF7-B43A-319AB939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2C286B-3C42-46DA-9239-2C352EAB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E52B1-026C-4719-8C76-72486DA3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4A4C70-92A4-4E57-81F2-5CA4931F3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565A9-57DF-49B2-9408-AC3C0BD3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4EEA57-2DDA-479F-9CF6-AF02B745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E90E05-D259-4DB9-A49A-013CE36D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A87D6A-7842-4257-BD53-07B26DB7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99F7F-B360-4AAD-BFF5-B2DEBAFF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38916F-B966-4591-BFE8-25070B746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EA7C-C884-4C13-A4A3-AF5C5450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5CFD4B-B6E7-4C9A-84E2-87538DA07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DC8D4F-13DD-4C68-B7D2-4F568842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71F1F3-51AA-4CC6-A17C-3FB5FBCA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8F0C83-A209-45C3-9BE5-CD1EFB3A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BF6343-370F-4E8A-A239-CBFBF085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D01D15-B6BB-4541-86AC-8A879980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F3B247-36FD-470F-B3A9-9913098B8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2829C7-A063-412D-AD47-E010FC43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906066-2556-4134-A90E-900976A7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2F8E62-A2FB-49A7-AD45-A03C70CF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82B74-591C-4428-81B6-E5B54B04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FAD2B4-54C6-4B84-AA66-0F1AD6B3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67620C-08A0-4C9D-9BA3-C28C077B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7B4482-7917-4DB3-B5B5-AF66DA1C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D544C8-8FB8-4131-90C3-252D1D23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B638C3-EA48-4A60-8683-1449406D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D60ECC-078B-4B9B-BD52-D2EB041C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CDCA4B-C8C4-4529-8664-FFF1C086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29F638-4FA0-4482-BBDF-A8999F90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0A4934-E34A-4A0E-A713-87316E97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3529F7-2761-466B-A997-24FD16F5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DCC3A-AC1F-4659-9198-B10C5B9CD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02401C-6155-4472-9527-63D76E99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E5546B-695E-4AC5-BCB2-78B7073B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955B0E-8638-453C-9643-B784424F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5009F6-614A-4E01-9ACF-DA09A7AD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58D9BA-A052-4806-93E3-1662CD11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ABE354-5F87-443C-8554-EA7898E0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E90513-0AE8-411D-9ACA-2AE40D3A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F5CD32-6B75-441E-A9A7-4AA1ACF8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064231-D52C-40E0-B449-173FDF04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6BD3F8-AC99-46B7-8BF9-FBCDF317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A6C20-5A14-499F-85D0-CF9B1527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270A20-2A2E-4FA9-948C-095B8CA9E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86E697-CE58-47D0-9164-39899AA5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04D696-17FC-44AF-BF85-88156C48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0B5B4A-0A83-43B3-A355-C7317DDD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DDDF2E-A3E2-40EE-9303-BA269571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B51AF7-F424-41F6-AE21-00434FF02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F541B7-5F61-4DD5-A631-96DCA555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059345-8740-4640-A0EB-557E7E241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EBD515-788F-49CD-B1F8-5BDBC5DA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3C726C-AD4C-4FB6-BB82-94E90276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72A8E-9A1F-447D-84E2-1E64369A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9D9354-1BA7-4828-9842-43A9A934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1C79F6-C76A-4B47-A0D3-CF453A2E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8DD6E9-EF6D-41D4-86FF-FB486E94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5D452B-F8A2-47DD-B266-D163836F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253B4B-200E-4290-9C4F-9F0623DC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E8F106-A9B9-4ADF-B4CA-8B3FC8A4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688CB6-EABA-4458-AC7A-93C880ADB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645DBA-2AC3-4932-AA1C-187CFFE0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D2B9E7-6486-481F-A690-B5916290D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AD643C2-3CB6-42DC-83C8-4B0257259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3C04D-2952-4021-B8FE-65A923F0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A863E6-EDF7-476B-B315-CCA3A516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1DE32BC-EDD7-41AA-919F-1F9D28BA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8521E1-EB64-4E74-9916-D209E537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FC3655-834F-42DC-864F-3CFE71E4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B737A0-B92F-44F5-8F29-32000E85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0337AF-F0D9-4882-820C-84918B4F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9D6791-247C-4CA5-94F3-906ADB09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30FF5B-FFED-443B-9780-05C4D8F8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AB27FB-9A1D-4AA4-870C-DB983A49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2D6451-2EAD-4EE4-B792-A3DFCFD74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7806-3D62-462C-9F42-E7C51C25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C2730-49B0-443F-8829-FB14F50D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FCB290-B27C-4CB4-8644-FA3FE26F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2A264A8-F53D-4E83-A9E0-A3A23A3C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2622664-60E6-40BF-A49F-DD39BFBD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5A6191C-213C-4D90-9E32-E320E7B17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BF703BC-E5B3-4C1D-A6E3-A4A5E5E5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ED7B9FD-4049-427E-9EC9-4946C47B8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D1072BD4-552F-4960-A883-3F22FB07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8F04AED-9F63-4C44-AE1F-EC20B04C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1AE635F-3BDE-4BA5-B882-081F16F1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E33FBFD-4D5C-41A4-B3DC-94C7B9F2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AA53-184E-4ACE-9374-5764DBA6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16A4066-1DAB-485F-9EBD-A4887FEA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26994C64-6529-4B8D-A706-08FBA106A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F8E207C0-C212-49D3-B823-1C6060EF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170237-96E9-460E-9B9B-EEF784A5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BAAA91-5F75-44B8-AC77-7BC2A76B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83AA6B4-A589-43C4-94EA-62DCFF93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B65F89D-6F47-4590-8AF6-7F34F993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517700-8F2D-467D-B3F1-8C23F2E8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FA2D2F-97B6-4EDE-BBA0-89203831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8B74D4-3214-48DA-9E81-C465339F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DC711-94E5-48D3-87B6-9B63EBE8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3EEA2A-C3DD-493C-96D1-7CD57897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870CC7-D7B7-49B1-B858-1B06593C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3BAD3C-BBF5-4F58-A4FE-3A6A7BAD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7BF6B8-EF67-4BE6-A8B1-8D4A8982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C91287D-5275-4654-8763-84A6BDB1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AFB5CBD-E130-45C3-BE00-32DF40351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540F4C-92EB-4036-880E-4A2D0138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728E12-1AF3-446B-BD93-0EFEF8A7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05DD02-9032-41F6-9FB4-00FB105C1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B88DAD-877F-4B8A-9B3C-60C9AF95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26CD-A359-4B41-B1C3-05DB078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F55205A-8AD7-45E1-B889-EB897704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7972B69-65D0-46EE-9DA6-BF411E9B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6F7B05-D1A2-4701-B478-001736B4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25D7C9-A846-4FB9-88C3-5E2CC36A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3CE1B7C-50C0-4982-BDB5-AA2406A0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DE3B57-137B-4186-9E60-50BA54C25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D2B460C-A0D3-4317-895A-A76D874A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5E9C078-4FF4-4373-A258-F46BA878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89254A-57CE-42AB-8306-0C126360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16B07B-59B5-43F2-B103-376385A8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2D549-5CA7-4120-A08D-2E6A7BE21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64FFF8-BD57-492A-A972-7B56BAB0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34FC9B-3C0A-45CF-A9A9-81BA79A3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243167-72A6-4994-BB2B-887F6539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BA1B78-B054-4B67-8F9C-18C57849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C84F11-6CA2-465F-B339-8569F735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A54586-EBD1-44E4-BAC9-A40CE385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A08E2F-4C81-40B1-9F86-EDB9D989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891FB3-14AE-4110-BFFE-2581627E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02B7D7-4E25-4A7F-8241-8F3015DFB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F648DAD-6494-4833-8FBD-AF71E7E5D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A34E-FBD3-43B0-BE60-F3B2F3D9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7CB761-D5E3-4095-BDF6-5B9ABC5B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4E3B20-0B40-43CF-B2F1-D7C32358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AD6AFB-C356-4DCD-9B74-4FBA7492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F60EAB-851C-417C-A4A8-1798675B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61E2A6-5644-4A0A-926D-21307909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12BED1-D76A-4DF0-B50D-CBBEEA20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E74587-3E75-4DEC-9C3D-FD27E4A4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8F5F50-2CFA-49A0-8828-ACEA7EE1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C34BEA-D502-45F7-AF7F-6A2759C7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6F1419-C05C-48DD-9DB9-F4C69DD6A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46102-73DC-4956-8717-16131596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706DD8-79E8-402E-A830-E8897BB8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2469FA-03A6-4562-AAA0-D69D95ACA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C5E5A97-F09F-4BE0-9D41-F69033C71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A6D18D-06BE-45CF-9BE9-0CAB7F13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1FF3FD-66B5-4720-839D-13CCEBB3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23B5A8-878B-473C-B104-D37C2F7F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C19C77B-7D6C-4E16-847C-293B7B10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C50BBE-8D29-4681-B345-9DAD6D55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9F4344-12AE-4ADC-88BA-AD462C9D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7E4C18-6922-456E-8DC8-AD5502C3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ADED6-B528-423D-8ABB-119D7EA4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F713E6-F19E-47BC-9B36-C8CDE3A6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ABA914-C206-4E31-B25D-E681926B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BB3EA7-0B93-43FB-B840-70F6E3FC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9669B2-3E48-481C-BE8B-8CCA788E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CDD733-AB08-432A-8419-72D113F3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06927E0-24CA-4243-8416-823BBA5B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C15815-771E-439A-801D-4A8598CA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7C2426-DE8D-4D9D-AF43-2D99590F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DD169F-DCB9-4B4A-9203-DDA520DAA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BF664D-F5AF-4B8F-90E9-6582EAA0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71B8-12D7-4478-BFAD-5B900394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6A64FA2-548D-48A4-9225-028DF8ED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ACEC57-A13B-40E1-9AA3-C31673C32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3C5E0F2-C246-4916-BC46-96B33E44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1EB033-A74C-424C-9D60-EBD61BB5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3AB990-B339-45E3-86CB-2A9E51B71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954681-263C-4BFF-9003-0F1C59B81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2197D5-EF79-4109-AED2-69BD39AA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C5BCC0B-2680-4C74-98E6-AF19DFD6B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C1E1A4-8B79-4ABF-BC54-2B5ED5F0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D519D4-A8B3-41C6-B78A-5F3A3338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9E81-87BD-404D-90F3-2DDDFCEC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29D11E0-0EE7-461F-B389-F3D07A86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82EDE9-0BCF-461B-AB4B-1DBE14B1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BC35265-3856-40D8-8B3F-B7910ED2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9464A4-E048-497C-BD86-467963B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F118F6-236D-4E63-A4F8-10AE35CC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F876534-C533-4B3B-A8E9-674A5DF9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0C6668A-FFCA-47F2-B565-419018C1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77888-4693-465D-9248-59CC27F7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F2EA4-BB28-44B1-B6F2-CE3FC8D3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88D41-6474-4135-8A10-630B29FE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1AEEF-B9C4-4B96-A374-BB3871BC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5D477-CED2-4F8F-8B56-AF769EC3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3DCA-3CED-4528-9427-D4771483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DD11A-AFF3-4BE5-B4F2-D4BA2CDB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84C9E-5955-4E1A-A487-DF51D676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25841-3CCC-4519-863D-0BA8E642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46A80-73B2-47FA-82FA-4AD2BE37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B6C4DD-DF3E-4F83-BB05-0D993087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FCDAD-CC2F-49D3-ACE5-FBB1F8D8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99229E-F97F-48B5-9C01-EBC1031F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09B3DF-D13B-4E46-886F-8368FCD7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68C266-DEA8-4798-BB1F-67E63916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CD87C-9BB7-4329-B7B7-4B9CDB6C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03D1F-E061-4B20-8C2D-F39B94AA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3322E3-7854-4D53-B776-F41E942C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1A3141-2AA1-4DDA-8729-3049D866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C81B8-24E2-4628-8694-D223012E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DD08E2-0080-43EC-9C96-85EA5233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AFDA41-B31E-4345-9AC5-E7297F83B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04A9-0436-425F-A89C-C8C0E291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3B068-C806-4327-9200-775602C9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70450-F697-49E5-99DD-EDB2094F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A1D27-53A7-4607-83CA-89EB99DD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6F44D-23D2-4ACE-A0DC-458A49D5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49A24-8E1A-4C3D-AD70-8E588A6B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1A293-2837-46C8-B4CB-002924ED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05166-DBBD-45BF-86BE-E2C2A157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DD043-2CC6-488D-8A4A-3C001CA5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68A42-DAA1-42D9-91EE-94E4E78F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22EFD-5030-4BB1-A4C3-7A0D89DD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9977-24BD-4BF6-913C-5DADA436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707C0-32B1-446F-901D-CF4DE1C7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11C4B-B5A8-4B04-BDE2-9C62B1ED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092D7-BCF1-4710-9E44-D84E5392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7C431-4049-49CC-B20E-56DB5F071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D1DC8-491D-4A28-BF80-DD5AB52C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ADCDD-A664-4A1D-8879-5FF0AE04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4ADCA-7597-415F-9B21-6DAC0C3E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42B87-E363-4FF8-A7F7-FDB800EF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82645-78DF-4744-9E7B-4D24B8A9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7F404-1012-46DF-9FBC-A2D62BEA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6C11-634B-44AA-8284-8EC5CAE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841B2-9903-4C3E-A3D7-E1FFFD8C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BCA13-061E-4633-8137-09319C6F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F038E-9E3B-41DF-A7F1-FD1F01F6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200A6-08DB-4119-9E1E-21B91232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C420B-5372-41EA-9863-358CEEF6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00491-D4ED-41E4-ACB3-B85CEF597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387E7-38F6-4FD8-B989-B1A4775A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E6E9C-26BC-41B6-9D75-DF325D5C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D6359-46E6-4C5E-B419-395F8253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67FC7-6995-4DA9-9078-FF51B463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EC7C3-AACB-4384-89D5-F99CAEC1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47066-49E3-4509-AD89-45D167B9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231F0-4BA6-4E65-B469-5D48B145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39A62-A6CE-46B9-BC14-70B4D9C6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ECA24-15E3-4459-BF4D-7B076440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EE4A5-AE47-49EF-B996-D0C0F2C2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74781-6317-44B9-9108-3A0C35740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7E310-E2E4-4F29-9551-2DC44F77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33ECB-CD09-4B31-8A95-CDA1997C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66DAD-DE60-4629-95E1-0B9053BD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3E13B-4E89-4A67-BF5D-DDA4F08E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DF4A-0DD6-4F38-B48E-22FCAD5EBD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1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PlaceHolder 1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9681-62F9-472F-9F28-99A0EE7778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62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E5F8-02F1-4BA1-9E6A-67BCE62C1DF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60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D8DA-D151-4FD2-A170-25B1D99668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65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65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65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66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6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66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7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07F2-2FB4-4E6F-A674-7676644E8FB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73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73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75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75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75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76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76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6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6C90-378B-4DD0-AA40-85D51A00F23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17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BD82-C930-4022-A0CD-E00076672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1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62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dt" idx="46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ftr" idx="47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ACD5-D9BE-40A6-8598-067D3E4D14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0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51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C80A-4CD7-496C-8A1C-CA20293E1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912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dt" idx="52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 type="ftr" idx="53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 type="sldNum" idx="54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C27F-ADA5-489F-B305-A206C8BDB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78C8-E1E6-4CF8-BE94-19B111EB4D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B207-8656-4A31-BCE7-D0DF54FA28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1CA7-48BB-4B24-8498-6EA48965AEC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3432-1345-4D6F-85B6-02B4674B68D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8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0C71A-9868-44C3-97D7-A8339085BC0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5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6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B27E-8001-4430-BAEB-1C18A5B861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1232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42C3-601E-437B-95F0-9771FD0D726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1279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9C40-3E07-4D25-AB87-9B713BA04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ftr" idx="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 type="sldNum" idx="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83B5-D135-48D2-9AF2-48438A96C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 type="dt" idx="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 type="dt" idx="79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 type="ftr" idx="80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 type="sldNum" idx="8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7A2A-B4BA-4C8D-9C98-AB632204596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89D5-32F7-49F7-9CDE-CE238EF5EFE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1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2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7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4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95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96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98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99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dt" idx="8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 type="ftr" idx="8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 type="sldNum" idx="8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728C-3705-4D00-8AA7-00CCBEDBAE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7360-59FC-40E2-AEBF-5050E3440D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23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33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0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53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54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56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2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543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5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46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8" name="PlaceHolder 1"/>
          <p:cNvSpPr>
            <a:spLocks noGrp="1"/>
          </p:cNvSpPr>
          <p:nvPr>
            <p:ph type="dt" idx="8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ftr" idx="8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sldNum" idx="90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E0AD-03D7-4EBF-B858-2A6DD753ED9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8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589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0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591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9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9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9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DC0E-BB6B-40B2-8FD7-19EE1521E7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5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636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7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638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41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642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dt" idx="9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 type="ftr" idx="9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 type="sldNum" idx="9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2B01-EDD3-4FE9-BE7A-796B646C2FD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4F7F-4325-4853-A193-C07B1E7B9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6D41-355D-43B0-AC84-FAE2EC5B668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07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11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16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17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21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B7D5-2640-44B9-9512-2656192DA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7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6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9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FFA1-32F9-4BB9-AA68-AF79110E4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8C71-823F-4D52-90CF-E6155B35B5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1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1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2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6F5C-743E-40F4-883B-7393BD8FD8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6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CEBC-82F3-4E57-AD5B-56D15B3408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" Target="slide3.xml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0.gif"/><Relationship Id="rId9" Type="http://schemas.openxmlformats.org/officeDocument/2006/relationships/image" Target="../media/image11.gif"/><Relationship Id="rId10" Type="http://schemas.openxmlformats.org/officeDocument/2006/relationships/slide" Target="slide14.xml"/><Relationship Id="rId11" Type="http://schemas.openxmlformats.org/officeDocument/2006/relationships/slideLayout" Target="../slideLayouts/slideLayout12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3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Layout" Target="../slideLayouts/slideLayout20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1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13.xml"/><Relationship Id="rId6" Type="http://schemas.openxmlformats.org/officeDocument/2006/relationships/slide" Target="slide15.xml"/><Relationship Id="rId7" Type="http://schemas.openxmlformats.org/officeDocument/2006/relationships/slide" Target="slide15.xml"/><Relationship Id="rId8" Type="http://schemas.openxmlformats.org/officeDocument/2006/relationships/slide" Target="slide15.xml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1.gif"/><Relationship Id="rId3" Type="http://schemas.openxmlformats.org/officeDocument/2006/relationships/slide" Target="slide3.xml"/><Relationship Id="rId4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" Target="slide3.xml"/><Relationship Id="rId3" Type="http://schemas.openxmlformats.org/officeDocument/2006/relationships/slideLayout" Target="../slideLayouts/slideLayout2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28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" Target="slide16.xml"/><Relationship Id="rId6" Type="http://schemas.openxmlformats.org/officeDocument/2006/relationships/slide" Target="slide18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9.xml"/><Relationship Id="rId10" Type="http://schemas.openxmlformats.org/officeDocument/2006/relationships/slide" Target="slide19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19.xml"/><Relationship Id="rId14" Type="http://schemas.openxmlformats.org/officeDocument/2006/relationships/slide" Target="slide25.xml"/><Relationship Id="rId15" Type="http://schemas.openxmlformats.org/officeDocument/2006/relationships/slide" Target="slide22.xml"/><Relationship Id="rId16" Type="http://schemas.openxmlformats.org/officeDocument/2006/relationships/slide" Target="slide22.xml"/><Relationship Id="rId17" Type="http://schemas.openxmlformats.org/officeDocument/2006/relationships/slide" Target="slide22.xml"/><Relationship Id="rId18" Type="http://schemas.openxmlformats.org/officeDocument/2006/relationships/slide" Target="slide24.xml"/><Relationship Id="rId19" Type="http://schemas.openxmlformats.org/officeDocument/2006/relationships/slide" Target="slide24.xml"/><Relationship Id="rId20" Type="http://schemas.openxmlformats.org/officeDocument/2006/relationships/slide" Target="slide24.xml"/><Relationship Id="rId21" Type="http://schemas.openxmlformats.org/officeDocument/2006/relationships/slide" Target="slide26.xml"/><Relationship Id="rId22" Type="http://schemas.openxmlformats.org/officeDocument/2006/relationships/slide" Target="slide26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0.xml"/><Relationship Id="rId28" Type="http://schemas.openxmlformats.org/officeDocument/2006/relationships/slide" Target="slide20.xml"/><Relationship Id="rId29" Type="http://schemas.openxmlformats.org/officeDocument/2006/relationships/slide" Target="slide20.xml"/><Relationship Id="rId30" Type="http://schemas.openxmlformats.org/officeDocument/2006/relationships/slide" Target="slide20.xml"/><Relationship Id="rId31" Type="http://schemas.openxmlformats.org/officeDocument/2006/relationships/slide" Target="slide20.xml"/><Relationship Id="rId32" Type="http://schemas.openxmlformats.org/officeDocument/2006/relationships/slide" Target="slide20.xml"/><Relationship Id="rId33" Type="http://schemas.openxmlformats.org/officeDocument/2006/relationships/slide" Target="slide21.xml"/><Relationship Id="rId34" Type="http://schemas.openxmlformats.org/officeDocument/2006/relationships/slide" Target="slide21.xml"/><Relationship Id="rId35" Type="http://schemas.openxmlformats.org/officeDocument/2006/relationships/slide" Target="slide21.xml"/><Relationship Id="rId36" Type="http://schemas.openxmlformats.org/officeDocument/2006/relationships/slide" Target="slide21.xml"/><Relationship Id="rId37" Type="http://schemas.openxmlformats.org/officeDocument/2006/relationships/slide" Target="slide21.xml"/><Relationship Id="rId38" Type="http://schemas.openxmlformats.org/officeDocument/2006/relationships/slide" Target="slide21.xml"/><Relationship Id="rId39" Type="http://schemas.openxmlformats.org/officeDocument/2006/relationships/slide" Target="slide21.xml"/><Relationship Id="rId40" Type="http://schemas.openxmlformats.org/officeDocument/2006/relationships/slide" Target="slide21.xml"/><Relationship Id="rId41" Type="http://schemas.openxmlformats.org/officeDocument/2006/relationships/slide" Target="slide21.xml"/><Relationship Id="rId42" Type="http://schemas.openxmlformats.org/officeDocument/2006/relationships/slide" Target="slide32.xml"/><Relationship Id="rId43" Type="http://schemas.openxmlformats.org/officeDocument/2006/relationships/slide" Target="slide32.xml"/><Relationship Id="rId44" Type="http://schemas.openxmlformats.org/officeDocument/2006/relationships/slide" Target="slide32.xml"/><Relationship Id="rId45" Type="http://schemas.openxmlformats.org/officeDocument/2006/relationships/slide" Target="slide32.xml"/><Relationship Id="rId46" Type="http://schemas.openxmlformats.org/officeDocument/2006/relationships/slide" Target="slide32.xml"/><Relationship Id="rId47" Type="http://schemas.openxmlformats.org/officeDocument/2006/relationships/slide" Target="slide31.xml"/><Relationship Id="rId48" Type="http://schemas.openxmlformats.org/officeDocument/2006/relationships/slide" Target="slide31.xml"/><Relationship Id="rId49" Type="http://schemas.openxmlformats.org/officeDocument/2006/relationships/slide" Target="slide31.xml"/><Relationship Id="rId50" Type="http://schemas.openxmlformats.org/officeDocument/2006/relationships/slide" Target="slide31.xml"/><Relationship Id="rId51" Type="http://schemas.openxmlformats.org/officeDocument/2006/relationships/slide" Target="slide31.xml"/><Relationship Id="rId52" Type="http://schemas.openxmlformats.org/officeDocument/2006/relationships/slide" Target="slide31.xml"/><Relationship Id="rId53" Type="http://schemas.openxmlformats.org/officeDocument/2006/relationships/slide" Target="slide35.xml"/><Relationship Id="rId54" Type="http://schemas.openxmlformats.org/officeDocument/2006/relationships/slide" Target="slide36.xml"/><Relationship Id="rId55" Type="http://schemas.openxmlformats.org/officeDocument/2006/relationships/slide" Target="slide36.xml"/><Relationship Id="rId56" Type="http://schemas.openxmlformats.org/officeDocument/2006/relationships/slide" Target="slide36.xml"/><Relationship Id="rId57" Type="http://schemas.openxmlformats.org/officeDocument/2006/relationships/slide" Target="slide36.xml"/><Relationship Id="rId58" Type="http://schemas.openxmlformats.org/officeDocument/2006/relationships/slide" Target="slide36.xml"/><Relationship Id="rId59" Type="http://schemas.openxmlformats.org/officeDocument/2006/relationships/slide" Target="slide32.xml"/><Relationship Id="rId60" Type="http://schemas.openxmlformats.org/officeDocument/2006/relationships/slide" Target="slide32.xml"/><Relationship Id="rId61" Type="http://schemas.openxmlformats.org/officeDocument/2006/relationships/slide" Target="slide32.xml"/><Relationship Id="rId62" Type="http://schemas.openxmlformats.org/officeDocument/2006/relationships/slide" Target="slide32.xml"/><Relationship Id="rId63" Type="http://schemas.openxmlformats.org/officeDocument/2006/relationships/slide" Target="slide32.xml"/><Relationship Id="rId64" Type="http://schemas.openxmlformats.org/officeDocument/2006/relationships/slide" Target="slide32.xml"/><Relationship Id="rId65" Type="http://schemas.openxmlformats.org/officeDocument/2006/relationships/slide" Target="slide32.xml"/><Relationship Id="rId66" Type="http://schemas.openxmlformats.org/officeDocument/2006/relationships/slide" Target="slide38.xml"/><Relationship Id="rId67" Type="http://schemas.openxmlformats.org/officeDocument/2006/relationships/slide" Target="slide22.xml"/><Relationship Id="rId68" Type="http://schemas.openxmlformats.org/officeDocument/2006/relationships/slide" Target="slide53.xml"/><Relationship Id="rId69" Type="http://schemas.openxmlformats.org/officeDocument/2006/relationships/image" Target="../media/image3.gif"/><Relationship Id="rId70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14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4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32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4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9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7.xml"/><Relationship Id="rId3" Type="http://schemas.openxmlformats.org/officeDocument/2006/relationships/slide" Target="slide37.xml"/><Relationship Id="rId4" Type="http://schemas.openxmlformats.org/officeDocument/2006/relationships/slide" Target="slide37.xml"/><Relationship Id="rId5" Type="http://schemas.openxmlformats.org/officeDocument/2006/relationships/slide" Target="slide37.xml"/><Relationship Id="rId6" Type="http://schemas.openxmlformats.org/officeDocument/2006/relationships/slide" Target="slide37.xml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slide" Target="slide3.xml"/><Relationship Id="rId17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39.xml"/><Relationship Id="rId3" Type="http://schemas.openxmlformats.org/officeDocument/2006/relationships/slide" Target="slide39.xml"/><Relationship Id="rId4" Type="http://schemas.openxmlformats.org/officeDocument/2006/relationships/slide" Target="slide39.xml"/><Relationship Id="rId5" Type="http://schemas.openxmlformats.org/officeDocument/2006/relationships/slide" Target="slide39.xml"/><Relationship Id="rId6" Type="http://schemas.openxmlformats.org/officeDocument/2006/relationships/slide" Target="slide39.xml"/><Relationship Id="rId7" Type="http://schemas.openxmlformats.org/officeDocument/2006/relationships/slide" Target="slide11.xml"/><Relationship Id="rId8" Type="http://schemas.openxmlformats.org/officeDocument/2006/relationships/slide" Target="slide11.xml"/><Relationship Id="rId9" Type="http://schemas.openxmlformats.org/officeDocument/2006/relationships/slide" Target="slide11.xml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42.xml"/><Relationship Id="rId13" Type="http://schemas.openxmlformats.org/officeDocument/2006/relationships/slide" Target="slide42.xml"/><Relationship Id="rId14" Type="http://schemas.openxmlformats.org/officeDocument/2006/relationships/slide" Target="slide42.xml"/><Relationship Id="rId15" Type="http://schemas.openxmlformats.org/officeDocument/2006/relationships/slide" Target="slide42.xml"/><Relationship Id="rId16" Type="http://schemas.openxmlformats.org/officeDocument/2006/relationships/slide" Target="slide42.xml"/><Relationship Id="rId17" Type="http://schemas.openxmlformats.org/officeDocument/2006/relationships/slide" Target="slide42.xml"/><Relationship Id="rId18" Type="http://schemas.openxmlformats.org/officeDocument/2006/relationships/slide" Target="slide42.xml"/><Relationship Id="rId19" Type="http://schemas.openxmlformats.org/officeDocument/2006/relationships/slide" Target="slide42.xml"/><Relationship Id="rId20" Type="http://schemas.openxmlformats.org/officeDocument/2006/relationships/slide" Target="slide42.xml"/><Relationship Id="rId21" Type="http://schemas.openxmlformats.org/officeDocument/2006/relationships/slide" Target="slide45.xml"/><Relationship Id="rId22" Type="http://schemas.openxmlformats.org/officeDocument/2006/relationships/slide" Target="slide45.xml"/><Relationship Id="rId23" Type="http://schemas.openxmlformats.org/officeDocument/2006/relationships/slide" Target="slide45.xml"/><Relationship Id="rId24" Type="http://schemas.openxmlformats.org/officeDocument/2006/relationships/slide" Target="slide45.xml"/><Relationship Id="rId25" Type="http://schemas.openxmlformats.org/officeDocument/2006/relationships/slide" Target="slide45.xml"/><Relationship Id="rId26" Type="http://schemas.openxmlformats.org/officeDocument/2006/relationships/slide" Target="slide45.xml"/><Relationship Id="rId27" Type="http://schemas.openxmlformats.org/officeDocument/2006/relationships/slide" Target="slide45.xml"/><Relationship Id="rId28" Type="http://schemas.openxmlformats.org/officeDocument/2006/relationships/slide" Target="slide12.xml"/><Relationship Id="rId29" Type="http://schemas.openxmlformats.org/officeDocument/2006/relationships/slide" Target="slide12.xml"/><Relationship Id="rId30" Type="http://schemas.openxmlformats.org/officeDocument/2006/relationships/slide" Target="slide12.xml"/><Relationship Id="rId31" Type="http://schemas.openxmlformats.org/officeDocument/2006/relationships/slide" Target="slide12.xml"/><Relationship Id="rId32" Type="http://schemas.openxmlformats.org/officeDocument/2006/relationships/slide" Target="slide12.xml"/><Relationship Id="rId33" Type="http://schemas.openxmlformats.org/officeDocument/2006/relationships/slide" Target="slide12.xml"/><Relationship Id="rId34" Type="http://schemas.openxmlformats.org/officeDocument/2006/relationships/slide" Target="slide48.xml"/><Relationship Id="rId35" Type="http://schemas.openxmlformats.org/officeDocument/2006/relationships/slide" Target="slide48.xml"/><Relationship Id="rId36" Type="http://schemas.openxmlformats.org/officeDocument/2006/relationships/slide" Target="slide48.xml"/><Relationship Id="rId37" Type="http://schemas.openxmlformats.org/officeDocument/2006/relationships/slide" Target="slide48.xml"/><Relationship Id="rId38" Type="http://schemas.openxmlformats.org/officeDocument/2006/relationships/slide" Target="slide48.xml"/><Relationship Id="rId39" Type="http://schemas.openxmlformats.org/officeDocument/2006/relationships/slide" Target="slide28.xml"/><Relationship Id="rId40" Type="http://schemas.openxmlformats.org/officeDocument/2006/relationships/slide" Target="slide28.xml"/><Relationship Id="rId41" Type="http://schemas.openxmlformats.org/officeDocument/2006/relationships/slide" Target="slide28.xml"/><Relationship Id="rId42" Type="http://schemas.openxmlformats.org/officeDocument/2006/relationships/slide" Target="slide28.xml"/><Relationship Id="rId43" Type="http://schemas.openxmlformats.org/officeDocument/2006/relationships/slide" Target="slide46.xml"/><Relationship Id="rId44" Type="http://schemas.openxmlformats.org/officeDocument/2006/relationships/slide" Target="slide46.xml"/><Relationship Id="rId45" Type="http://schemas.openxmlformats.org/officeDocument/2006/relationships/slide" Target="slide46.xml"/><Relationship Id="rId46" Type="http://schemas.openxmlformats.org/officeDocument/2006/relationships/slide" Target="slide46.xml"/><Relationship Id="rId47" Type="http://schemas.openxmlformats.org/officeDocument/2006/relationships/slide" Target="slide46.xml"/><Relationship Id="rId48" Type="http://schemas.openxmlformats.org/officeDocument/2006/relationships/slide" Target="slide47.xml"/><Relationship Id="rId49" Type="http://schemas.openxmlformats.org/officeDocument/2006/relationships/slide" Target="slide47.xml"/><Relationship Id="rId50" Type="http://schemas.openxmlformats.org/officeDocument/2006/relationships/slide" Target="slide47.xml"/><Relationship Id="rId51" Type="http://schemas.openxmlformats.org/officeDocument/2006/relationships/slide" Target="slide47.xml"/><Relationship Id="rId52" Type="http://schemas.openxmlformats.org/officeDocument/2006/relationships/slide" Target="slide47.xml"/><Relationship Id="rId53" Type="http://schemas.openxmlformats.org/officeDocument/2006/relationships/slide" Target="slide47.xml"/><Relationship Id="rId54" Type="http://schemas.openxmlformats.org/officeDocument/2006/relationships/slide" Target="slide49.xml"/><Relationship Id="rId55" Type="http://schemas.openxmlformats.org/officeDocument/2006/relationships/slide" Target="slide49.xml"/><Relationship Id="rId56" Type="http://schemas.openxmlformats.org/officeDocument/2006/relationships/slide" Target="slide49.xml"/><Relationship Id="rId57" Type="http://schemas.openxmlformats.org/officeDocument/2006/relationships/slide" Target="slide49.xml"/><Relationship Id="rId58" Type="http://schemas.openxmlformats.org/officeDocument/2006/relationships/slide" Target="slide49.xml"/><Relationship Id="rId59" Type="http://schemas.openxmlformats.org/officeDocument/2006/relationships/slide" Target="slide49.xml"/><Relationship Id="rId60" Type="http://schemas.openxmlformats.org/officeDocument/2006/relationships/slide" Target="slide49.xml"/><Relationship Id="rId61" Type="http://schemas.openxmlformats.org/officeDocument/2006/relationships/slide" Target="slide49.xml"/><Relationship Id="rId62" Type="http://schemas.openxmlformats.org/officeDocument/2006/relationships/slide" Target="slide49.xml"/><Relationship Id="rId63" Type="http://schemas.openxmlformats.org/officeDocument/2006/relationships/slide" Target="slide50.xml"/><Relationship Id="rId64" Type="http://schemas.openxmlformats.org/officeDocument/2006/relationships/slide" Target="slide50.xml"/><Relationship Id="rId65" Type="http://schemas.openxmlformats.org/officeDocument/2006/relationships/slide" Target="slide50.xml"/><Relationship Id="rId66" Type="http://schemas.openxmlformats.org/officeDocument/2006/relationships/slide" Target="slide50.xml"/><Relationship Id="rId67" Type="http://schemas.openxmlformats.org/officeDocument/2006/relationships/slide" Target="slide50.xml"/><Relationship Id="rId68" Type="http://schemas.openxmlformats.org/officeDocument/2006/relationships/slide" Target="slide50.xml"/><Relationship Id="rId69" Type="http://schemas.openxmlformats.org/officeDocument/2006/relationships/slide" Target="slide32.xml"/><Relationship Id="rId70" Type="http://schemas.openxmlformats.org/officeDocument/2006/relationships/slide" Target="slide32.xml"/><Relationship Id="rId71" Type="http://schemas.openxmlformats.org/officeDocument/2006/relationships/slide" Target="slide32.xml"/><Relationship Id="rId72" Type="http://schemas.openxmlformats.org/officeDocument/2006/relationships/slide" Target="slide32.xml"/><Relationship Id="rId73" Type="http://schemas.openxmlformats.org/officeDocument/2006/relationships/slide" Target="slide32.xml"/><Relationship Id="rId74" Type="http://schemas.openxmlformats.org/officeDocument/2006/relationships/slide" Target="slide52.xml"/><Relationship Id="rId75" Type="http://schemas.openxmlformats.org/officeDocument/2006/relationships/slide" Target="slide52.xml"/><Relationship Id="rId76" Type="http://schemas.openxmlformats.org/officeDocument/2006/relationships/slide" Target="slide52.xml"/><Relationship Id="rId77" Type="http://schemas.openxmlformats.org/officeDocument/2006/relationships/slide" Target="slide52.xml"/><Relationship Id="rId78" Type="http://schemas.openxmlformats.org/officeDocument/2006/relationships/slide" Target="slide32.xml"/><Relationship Id="rId79" Type="http://schemas.openxmlformats.org/officeDocument/2006/relationships/slide" Target="slide32.xml"/><Relationship Id="rId80" Type="http://schemas.openxmlformats.org/officeDocument/2006/relationships/slide" Target="slide32.xml"/><Relationship Id="rId81" Type="http://schemas.openxmlformats.org/officeDocument/2006/relationships/slide" Target="slide32.xml"/><Relationship Id="rId82" Type="http://schemas.openxmlformats.org/officeDocument/2006/relationships/slide" Target="slide32.xml"/><Relationship Id="rId83" Type="http://schemas.openxmlformats.org/officeDocument/2006/relationships/slide" Target="slide32.xml"/><Relationship Id="rId84" Type="http://schemas.openxmlformats.org/officeDocument/2006/relationships/slide" Target="slide32.xml"/><Relationship Id="rId85" Type="http://schemas.openxmlformats.org/officeDocument/2006/relationships/slide" Target="slide59.xml"/><Relationship Id="rId86" Type="http://schemas.openxmlformats.org/officeDocument/2006/relationships/slide" Target="slide59.xml"/><Relationship Id="rId87" Type="http://schemas.openxmlformats.org/officeDocument/2006/relationships/slide" Target="slide59.xml"/><Relationship Id="rId88" Type="http://schemas.openxmlformats.org/officeDocument/2006/relationships/slide" Target="slide40.xml"/><Relationship Id="rId89" Type="http://schemas.openxmlformats.org/officeDocument/2006/relationships/slide" Target="slide40.xml"/><Relationship Id="rId90" Type="http://schemas.openxmlformats.org/officeDocument/2006/relationships/slide" Target="slide40.xml"/><Relationship Id="rId91" Type="http://schemas.openxmlformats.org/officeDocument/2006/relationships/slide" Target="slide40.xml"/><Relationship Id="rId92" Type="http://schemas.openxmlformats.org/officeDocument/2006/relationships/slide" Target="slide40.xml"/><Relationship Id="rId93" Type="http://schemas.openxmlformats.org/officeDocument/2006/relationships/slide" Target="slide65.xml"/><Relationship Id="rId94" Type="http://schemas.openxmlformats.org/officeDocument/2006/relationships/image" Target="../media/image3.gif"/><Relationship Id="rId95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0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3.xml"/><Relationship Id="rId3" Type="http://schemas.openxmlformats.org/officeDocument/2006/relationships/slideLayout" Target="../slideLayouts/slideLayout176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7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1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2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4.xml"/><Relationship Id="rId4" Type="http://schemas.openxmlformats.org/officeDocument/2006/relationships/slide" Target="slide60.xml"/><Relationship Id="rId5" Type="http://schemas.openxmlformats.org/officeDocument/2006/relationships/slide" Target="slide60.xml"/><Relationship Id="rId6" Type="http://schemas.openxmlformats.org/officeDocument/2006/relationships/slide" Target="slide60.xml"/><Relationship Id="rId7" Type="http://schemas.openxmlformats.org/officeDocument/2006/relationships/slide" Target="slide63.xml"/><Relationship Id="rId8" Type="http://schemas.openxmlformats.org/officeDocument/2006/relationships/slide" Target="slide63.xml"/><Relationship Id="rId9" Type="http://schemas.openxmlformats.org/officeDocument/2006/relationships/slide" Target="slide63.xml"/><Relationship Id="rId10" Type="http://schemas.openxmlformats.org/officeDocument/2006/relationships/slide" Target="slide34.xml"/><Relationship Id="rId11" Type="http://schemas.openxmlformats.org/officeDocument/2006/relationships/slide" Target="slide34.xml"/><Relationship Id="rId12" Type="http://schemas.openxmlformats.org/officeDocument/2006/relationships/slide" Target="slide34.xml"/><Relationship Id="rId13" Type="http://schemas.openxmlformats.org/officeDocument/2006/relationships/slide" Target="slide34.xml"/><Relationship Id="rId14" Type="http://schemas.openxmlformats.org/officeDocument/2006/relationships/slide" Target="slide34.xml"/><Relationship Id="rId15" Type="http://schemas.openxmlformats.org/officeDocument/2006/relationships/slide" Target="slide53.xml"/><Relationship Id="rId16" Type="http://schemas.openxmlformats.org/officeDocument/2006/relationships/slide" Target="slide53.xml"/><Relationship Id="rId17" Type="http://schemas.openxmlformats.org/officeDocument/2006/relationships/slide" Target="slide53.xml"/><Relationship Id="rId18" Type="http://schemas.openxmlformats.org/officeDocument/2006/relationships/slide" Target="slide58.xml"/><Relationship Id="rId19" Type="http://schemas.openxmlformats.org/officeDocument/2006/relationships/slide" Target="slide58.xml"/><Relationship Id="rId20" Type="http://schemas.openxmlformats.org/officeDocument/2006/relationships/slide" Target="slide58.xml"/><Relationship Id="rId21" Type="http://schemas.openxmlformats.org/officeDocument/2006/relationships/slide" Target="slide32.xml"/><Relationship Id="rId22" Type="http://schemas.openxmlformats.org/officeDocument/2006/relationships/slide" Target="slide32.xml"/><Relationship Id="rId23" Type="http://schemas.openxmlformats.org/officeDocument/2006/relationships/slide" Target="slide32.xml"/><Relationship Id="rId24" Type="http://schemas.openxmlformats.org/officeDocument/2006/relationships/slide" Target="slide32.xml"/><Relationship Id="rId25" Type="http://schemas.openxmlformats.org/officeDocument/2006/relationships/slide" Target="slide32.xml"/><Relationship Id="rId26" Type="http://schemas.openxmlformats.org/officeDocument/2006/relationships/image" Target="../media/image3.gif"/><Relationship Id="rId27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jpeg"/><Relationship Id="rId7" Type="http://schemas.openxmlformats.org/officeDocument/2006/relationships/slide" Target="slide51.xml"/><Relationship Id="rId8" Type="http://schemas.openxmlformats.org/officeDocument/2006/relationships/slide" Target="slide51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image" Target="../media/image36.gif"/><Relationship Id="rId12" Type="http://schemas.openxmlformats.org/officeDocument/2006/relationships/slideLayout" Target="../slideLayouts/slideLayout7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4.xml"/><Relationship Id="rId3" Type="http://schemas.openxmlformats.org/officeDocument/2006/relationships/slide" Target="slide54.xml"/><Relationship Id="rId4" Type="http://schemas.openxmlformats.org/officeDocument/2006/relationships/slide" Target="slide54.xml"/><Relationship Id="rId5" Type="http://schemas.openxmlformats.org/officeDocument/2006/relationships/slide" Target="slide3.xml"/><Relationship Id="rId6" Type="http://schemas.openxmlformats.org/officeDocument/2006/relationships/slideLayout" Target="../slideLayouts/slideLayout7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3.xml"/><Relationship Id="rId3" Type="http://schemas.openxmlformats.org/officeDocument/2006/relationships/slideLayout" Target="../slideLayouts/slideLayout2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4.xml"/><Relationship Id="rId3" Type="http://schemas.openxmlformats.org/officeDocument/2006/relationships/slideLayout" Target="../slideLayouts/slideLayout100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0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4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20.xml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3.xml"/><Relationship Id="rId11" Type="http://schemas.openxmlformats.org/officeDocument/2006/relationships/slide" Target="slide7.xml"/><Relationship Id="rId12" Type="http://schemas.openxmlformats.org/officeDocument/2006/relationships/slide" Target="slide7.xml"/><Relationship Id="rId13" Type="http://schemas.openxmlformats.org/officeDocument/2006/relationships/slideLayout" Target="../slideLayouts/slideLayout7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5.xml"/><Relationship Id="rId3" Type="http://schemas.openxmlformats.org/officeDocument/2006/relationships/slideLayout" Target="../slideLayouts/slideLayout14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8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4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image" Target="../media/image41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4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88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0.xml"/><Relationship Id="rId3" Type="http://schemas.openxmlformats.org/officeDocument/2006/relationships/slide" Target="slide12.xml"/><Relationship Id="rId4" Type="http://schemas.openxmlformats.org/officeDocument/2006/relationships/slide" Target="slide8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Layout" Target="../slideLayouts/slideLayout7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7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9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4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3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8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Black"/>
              </a:rPr>
              <a:t>Повтори орфографию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subTitle"/>
          </p:nvPr>
        </p:nvSpPr>
        <p:spPr>
          <a:xfrm>
            <a:off x="2971440" y="4267080"/>
            <a:ext cx="5791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Учебный материал в электронном виде для учащихся старших классов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Правописание чередующихся гласных зависит от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Буквы после кор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(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- - к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(н)          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 кас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ться  -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ос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уть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– б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-                   со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ир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ть - со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ер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м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лис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л –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лес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ул -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блес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п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                      вы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жиг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л - вы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же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д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                      пон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им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ть - пон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-т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                      рас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ти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ться - рас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тел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-ст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л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-бл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-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-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</a:t>
            </a:r>
            <a:r>
              <a:rPr b="0" lang="ru-RU" sz="2000" spc="-1" strike="noStrike">
                <a:solidFill>
                  <a:srgbClr val="0000ff"/>
                </a:solidFill>
                <a:latin typeface="Tahoma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-ж</a:t>
            </a:r>
            <a:r>
              <a:rPr b="0" lang="ru-RU" sz="2000" spc="-1" strike="noStrike">
                <a:solidFill>
                  <a:srgbClr val="009900"/>
                </a:solidFill>
                <a:latin typeface="Tahom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(чь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3" name="">
            <a:hlinkClick r:id="" action="ppaction://hlinkshowjump?jump=previousslide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4" name=""/>
          <p:cNvGraphicFramePr/>
          <p:nvPr/>
        </p:nvGraphicFramePr>
        <p:xfrm>
          <a:off x="2484360" y="242064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5" name=""/>
          <p:cNvGraphicFramePr/>
          <p:nvPr/>
        </p:nvGraphicFramePr>
        <p:xfrm>
          <a:off x="2411280" y="278100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6" name=""/>
          <p:cNvGraphicFramePr/>
          <p:nvPr/>
        </p:nvGraphicFramePr>
        <p:xfrm>
          <a:off x="2411280" y="314136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7" name=""/>
          <p:cNvGraphicFramePr/>
          <p:nvPr/>
        </p:nvGraphicFramePr>
        <p:xfrm>
          <a:off x="2411280" y="349992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8" name=""/>
          <p:cNvGraphicFramePr/>
          <p:nvPr/>
        </p:nvGraphicFramePr>
        <p:xfrm>
          <a:off x="2411280" y="393336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9" name=""/>
          <p:cNvGraphicFramePr/>
          <p:nvPr/>
        </p:nvGraphicFramePr>
        <p:xfrm>
          <a:off x="2411280" y="422064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0" name=""/>
          <p:cNvGraphicFramePr/>
          <p:nvPr/>
        </p:nvGraphicFramePr>
        <p:xfrm>
          <a:off x="2556000" y="4581000"/>
          <a:ext cx="21420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1" name=""/>
          <p:cNvGraphicFramePr/>
          <p:nvPr/>
        </p:nvGraphicFramePr>
        <p:xfrm>
          <a:off x="2700360" y="4941360"/>
          <a:ext cx="21420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2" name=""/>
          <p:cNvGraphicFramePr/>
          <p:nvPr/>
        </p:nvGraphicFramePr>
        <p:xfrm>
          <a:off x="2411280" y="5373360"/>
          <a:ext cx="21456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3" name=""/>
          <p:cNvGraphicFramePr/>
          <p:nvPr/>
        </p:nvGraphicFramePr>
        <p:xfrm>
          <a:off x="3059280" y="5373360"/>
          <a:ext cx="21420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4" name=""/>
          <p:cNvGraphicFramePr/>
          <p:nvPr/>
        </p:nvGraphicFramePr>
        <p:xfrm>
          <a:off x="2556000" y="5733720"/>
          <a:ext cx="214200" cy="2131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5" name=""/>
          <p:cNvSpPr txBox="1"/>
          <p:nvPr/>
        </p:nvSpPr>
        <p:spPr>
          <a:xfrm>
            <a:off x="539640" y="4365720"/>
            <a:ext cx="1152720" cy="12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6" name=""/>
          <p:cNvSpPr txBox="1"/>
          <p:nvPr/>
        </p:nvSpPr>
        <p:spPr>
          <a:xfrm>
            <a:off x="971640" y="5418000"/>
            <a:ext cx="1081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7" name=""/>
          <p:cNvSpPr txBox="1"/>
          <p:nvPr/>
        </p:nvSpPr>
        <p:spPr>
          <a:xfrm>
            <a:off x="3708360" y="3284640"/>
            <a:ext cx="1152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8" name=""/>
          <p:cNvSpPr txBox="1"/>
          <p:nvPr/>
        </p:nvSpPr>
        <p:spPr>
          <a:xfrm>
            <a:off x="5435640" y="5229360"/>
            <a:ext cx="1728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и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9" name=""/>
          <p:cNvSpPr txBox="1"/>
          <p:nvPr/>
        </p:nvSpPr>
        <p:spPr>
          <a:xfrm>
            <a:off x="7164360" y="5229360"/>
            <a:ext cx="84924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wheel spokes="8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Буквы Е и И в корнях с чередование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1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ер- - бир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р- -дир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р- -мир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- -пир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р- -тир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лест- -блист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жег- -жиг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л- -стил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- -чит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1332000" y="2349360"/>
            <a:ext cx="2303280" cy="102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   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3" name=""/>
          <p:cNvSpPr/>
          <p:nvPr/>
        </p:nvSpPr>
        <p:spPr>
          <a:xfrm flipV="1" rot="13368000">
            <a:off x="243720" y="2080800"/>
            <a:ext cx="2879280" cy="273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 flipV="1">
            <a:off x="2843280" y="1844280"/>
            <a:ext cx="649080" cy="576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3492360" y="1844640"/>
            <a:ext cx="358920" cy="576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 txBox="1"/>
          <p:nvPr/>
        </p:nvSpPr>
        <p:spPr>
          <a:xfrm>
            <a:off x="1187280" y="4869000"/>
            <a:ext cx="1121040" cy="12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cc33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33cc33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1835280" y="5157720"/>
            <a:ext cx="259236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Нет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уффикса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539640" y="3573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03120" y="3573360"/>
            <a:ext cx="124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179280" y="3500280"/>
            <a:ext cx="374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про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тир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ть, за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ир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о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бир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ть, у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мир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а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0" y="6004080"/>
            <a:ext cx="3276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про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тер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еть, за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пер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ет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со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бер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ут, у</a:t>
            </a:r>
            <a:r>
              <a:rPr b="0" lang="en-US" sz="2000" spc="-1" strike="noStrike">
                <a:solidFill>
                  <a:srgbClr val="33cc33"/>
                </a:solidFill>
                <a:latin typeface="Comic Sans MS"/>
              </a:rPr>
              <a:t>мер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е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>
            <a:hlinkClick r:id="" action="ppaction://hlinkshowjump?jump=previousslide"/>
          </p:cNvPr>
          <p:cNvSpPr/>
          <p:nvPr/>
        </p:nvSpPr>
        <p:spPr>
          <a:xfrm>
            <a:off x="8172360" y="6093000"/>
            <a:ext cx="1189080" cy="909360"/>
          </a:xfrm>
          <a:custGeom>
            <a:avLst/>
            <a:gdLst>
              <a:gd name="textAreaLeft" fmla="*/ 58680 w 1189080"/>
              <a:gd name="textAreaRight" fmla="*/ 1130400 w 1189080"/>
              <a:gd name="textAreaTop" fmla="*/ 58680 h 909360"/>
              <a:gd name="textAreaBottom" fmla="*/ 850680 h 909360"/>
            </a:gdLst>
            <a:ahLst/>
            <a:rect l="textAreaLeft" t="textAreaTop" r="textAreaRight" b="textAreaBottom"/>
            <a:pathLst>
              <a:path w="28242" h="21600">
                <a:moveTo>
                  <a:pt x="0" y="0"/>
                </a:moveTo>
                <a:lnTo>
                  <a:pt x="28242" y="0"/>
                </a:lnTo>
                <a:lnTo>
                  <a:pt x="28242" y="21600"/>
                </a:lnTo>
                <a:lnTo>
                  <a:pt x="0" y="21600"/>
                </a:lnTo>
                <a:close/>
              </a:path>
              <a:path fill="lightenLess" w="28242" h="21600">
                <a:moveTo>
                  <a:pt x="0" y="0"/>
                </a:moveTo>
                <a:lnTo>
                  <a:pt x="28242" y="0"/>
                </a:lnTo>
                <a:lnTo>
                  <a:pt x="26842" y="1400"/>
                </a:lnTo>
                <a:lnTo>
                  <a:pt x="1400" y="1400"/>
                </a:lnTo>
                <a:close/>
              </a:path>
              <a:path fill="darken" w="28242" h="21600">
                <a:moveTo>
                  <a:pt x="28242" y="0"/>
                </a:moveTo>
                <a:lnTo>
                  <a:pt x="28242" y="21600"/>
                </a:lnTo>
                <a:lnTo>
                  <a:pt x="26842" y="20200"/>
                </a:lnTo>
                <a:lnTo>
                  <a:pt x="26842" y="1400"/>
                </a:lnTo>
                <a:close/>
              </a:path>
              <a:path fill="darkenLess" w="28242" h="21600">
                <a:moveTo>
                  <a:pt x="28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2" y="20200"/>
                </a:lnTo>
                <a:close/>
              </a:path>
              <a:path fill="lighten" w="28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2" h="21600">
                <a:moveTo>
                  <a:pt x="7114" y="7493"/>
                </a:moveTo>
                <a:lnTo>
                  <a:pt x="10622" y="7493"/>
                </a:lnTo>
                <a:lnTo>
                  <a:pt x="10622" y="12828"/>
                </a:lnTo>
                <a:cubicBezTo>
                  <a:pt x="10622" y="13751"/>
                  <a:pt x="11423" y="14482"/>
                  <a:pt x="12458" y="14482"/>
                </a:cubicBezTo>
                <a:lnTo>
                  <a:pt x="14121" y="14482"/>
                </a:lnTo>
                <a:cubicBezTo>
                  <a:pt x="15157" y="14482"/>
                  <a:pt x="15957" y="13751"/>
                  <a:pt x="15957" y="12828"/>
                </a:cubicBezTo>
                <a:lnTo>
                  <a:pt x="15957" y="7493"/>
                </a:lnTo>
                <a:lnTo>
                  <a:pt x="14121" y="7493"/>
                </a:lnTo>
                <a:lnTo>
                  <a:pt x="17628" y="3985"/>
                </a:lnTo>
                <a:lnTo>
                  <a:pt x="21301" y="7493"/>
                </a:lnTo>
                <a:lnTo>
                  <a:pt x="19465" y="7493"/>
                </a:lnTo>
                <a:lnTo>
                  <a:pt x="19465" y="12828"/>
                </a:lnTo>
                <a:cubicBezTo>
                  <a:pt x="19465" y="15596"/>
                  <a:pt x="16889" y="18155"/>
                  <a:pt x="14121" y="18155"/>
                </a:cubicBezTo>
                <a:lnTo>
                  <a:pt x="12458" y="18155"/>
                </a:lnTo>
                <a:cubicBezTo>
                  <a:pt x="9691" y="18155"/>
                  <a:pt x="7114" y="15596"/>
                  <a:pt x="7114" y="12828"/>
                </a:cubicBez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Правописание чередующихся гласных зависит от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удар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ез ударения 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Гор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еть, за</a:t>
            </a:r>
            <a:r>
              <a:rPr b="1" lang="ru-RU" sz="2000" spc="-1" strike="noStrike">
                <a:solidFill>
                  <a:srgbClr val="3333cc"/>
                </a:solidFill>
                <a:latin typeface="Tahoma"/>
              </a:rPr>
              <a:t>гор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кл.: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гар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ез удар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</a:t>
            </a:r>
            <a:r>
              <a:rPr b="1" lang="ru-RU" sz="2000" spc="-1" strike="noStrike">
                <a:solidFill>
                  <a:srgbClr val="d4cc2c"/>
                </a:solidFill>
                <a:latin typeface="Tahoma"/>
              </a:rPr>
              <a:t>клон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ться,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</a:t>
            </a:r>
            <a:r>
              <a:rPr b="1" lang="ru-RU" sz="2000" spc="-1" strike="noStrike">
                <a:solidFill>
                  <a:srgbClr val="d4cc2c"/>
                </a:solidFill>
                <a:latin typeface="Tahoma"/>
              </a:rPr>
              <a:t>клон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ть   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ahoma"/>
              </a:rPr>
              <a:t>                                      </a:t>
            </a:r>
            <a:r>
              <a:rPr b="1" lang="ru-RU" sz="2000" spc="-1" strike="noStrike">
                <a:solidFill>
                  <a:srgbClr val="ff33cc"/>
                </a:solidFill>
                <a:latin typeface="Tahoma"/>
              </a:rPr>
              <a:t>Зар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, о</a:t>
            </a:r>
            <a:r>
              <a:rPr b="1" lang="ru-RU" sz="2000" spc="-1" strike="noStrike">
                <a:solidFill>
                  <a:srgbClr val="ff33cc"/>
                </a:solidFill>
                <a:latin typeface="Tahoma"/>
              </a:rPr>
              <a:t>зар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я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ahoma"/>
              </a:rPr>
              <a:t>                                                    </a:t>
            </a:r>
            <a:r>
              <a:rPr b="1" lang="ru-RU" sz="2000" spc="-1" strike="noStrike">
                <a:solidFill>
                  <a:srgbClr val="ff33cc"/>
                </a:solidFill>
                <a:latin typeface="Tahoma"/>
              </a:rPr>
              <a:t>зар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иц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5" name=""/>
          <p:cNvSpPr txBox="1"/>
          <p:nvPr/>
        </p:nvSpPr>
        <p:spPr>
          <a:xfrm>
            <a:off x="4859280" y="1916280"/>
            <a:ext cx="165744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26" name=""/>
          <p:cNvSpPr txBox="1"/>
          <p:nvPr/>
        </p:nvSpPr>
        <p:spPr>
          <a:xfrm>
            <a:off x="1332000" y="3500280"/>
            <a:ext cx="165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кл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27" name=""/>
          <p:cNvSpPr txBox="1"/>
          <p:nvPr/>
        </p:nvSpPr>
        <p:spPr>
          <a:xfrm>
            <a:off x="6372360" y="4508640"/>
            <a:ext cx="1800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р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8" name="">
            <a:hlinkClick r:id="" action="ppaction://hlinkshowjump?jump=previousslide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 flipH="1">
            <a:off x="2556000" y="1989000"/>
            <a:ext cx="5256000" cy="4319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7236000" y="3141720"/>
            <a:ext cx="468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med">
    <p:pull dir="r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2" nodeType="after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" dur="2000" fill="hold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Тип орфограммы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1763640" y="1983960"/>
            <a:ext cx="2751120" cy="39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Буквы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Глас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Согласны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Ь и Ъ зна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-47628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Больш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Дефис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Пробе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Чёрточк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3" name="" descr=""/>
          <p:cNvPicPr/>
          <p:nvPr/>
        </p:nvPicPr>
        <p:blipFill>
          <a:blip r:embed="rId1"/>
          <a:stretch/>
        </p:blipFill>
        <p:spPr>
          <a:xfrm>
            <a:off x="3938760" y="1852560"/>
            <a:ext cx="644400" cy="649440"/>
          </a:xfrm>
          <a:prstGeom prst="rect">
            <a:avLst/>
          </a:prstGeom>
          <a:ln w="0">
            <a:noFill/>
          </a:ln>
        </p:spPr>
      </p:pic>
      <p:sp>
        <p:nvSpPr>
          <p:cNvPr id="1834" name="">
            <a:hlinkClick r:id="rId2" action="ppaction://hlinksldjump"/>
          </p:cNvPr>
          <p:cNvSpPr/>
          <p:nvPr/>
        </p:nvSpPr>
        <p:spPr>
          <a:xfrm>
            <a:off x="802800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7493"/>
                </a:moveTo>
                <a:lnTo>
                  <a:pt x="13908" y="7493"/>
                </a:lnTo>
                <a:lnTo>
                  <a:pt x="13908" y="12828"/>
                </a:lnTo>
                <a:cubicBezTo>
                  <a:pt x="13908" y="13751"/>
                  <a:pt x="14709" y="14482"/>
                  <a:pt x="15744" y="14482"/>
                </a:cubicBezTo>
                <a:lnTo>
                  <a:pt x="17407" y="14482"/>
                </a:lnTo>
                <a:cubicBezTo>
                  <a:pt x="18443" y="14482"/>
                  <a:pt x="19243" y="13751"/>
                  <a:pt x="19243" y="12828"/>
                </a:cubicBezTo>
                <a:lnTo>
                  <a:pt x="19243" y="7493"/>
                </a:lnTo>
                <a:lnTo>
                  <a:pt x="17407" y="7493"/>
                </a:lnTo>
                <a:lnTo>
                  <a:pt x="20914" y="3985"/>
                </a:lnTo>
                <a:lnTo>
                  <a:pt x="24587" y="7493"/>
                </a:lnTo>
                <a:lnTo>
                  <a:pt x="22751" y="7493"/>
                </a:lnTo>
                <a:lnTo>
                  <a:pt x="22751" y="12828"/>
                </a:lnTo>
                <a:cubicBezTo>
                  <a:pt x="22751" y="15596"/>
                  <a:pt x="20175" y="18155"/>
                  <a:pt x="17407" y="18155"/>
                </a:cubicBezTo>
                <a:lnTo>
                  <a:pt x="15744" y="18155"/>
                </a:lnTo>
                <a:cubicBezTo>
                  <a:pt x="12977" y="18155"/>
                  <a:pt x="10400" y="15596"/>
                  <a:pt x="10400" y="12828"/>
                </a:cubicBezTo>
                <a:close/>
              </a:path>
            </a:pathLst>
          </a:cu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4427640" y="1700280"/>
            <a:ext cx="720720" cy="4105080"/>
          </a:xfrm>
          <a:prstGeom prst="rightArrowCallout">
            <a:avLst>
              <a:gd name="adj1" fmla="val 142408"/>
              <a:gd name="adj2" fmla="val 142395"/>
              <a:gd name="adj3" fmla="val 16667"/>
              <a:gd name="adj4" fmla="val 66667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5940360" y="1773360"/>
            <a:ext cx="2808360" cy="43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Опознава-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Arial"/>
              </a:rPr>
              <a:t>тельны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cccc"/>
                </a:solidFill>
                <a:latin typeface="Arial"/>
              </a:rPr>
              <a:t>призна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7" name="" descr=""/>
          <p:cNvPicPr/>
          <p:nvPr/>
        </p:nvPicPr>
        <p:blipFill>
          <a:blip r:embed="rId3"/>
          <a:stretch/>
        </p:blipFill>
        <p:spPr>
          <a:xfrm>
            <a:off x="1955880" y="2768760"/>
            <a:ext cx="668160" cy="649080"/>
          </a:xfrm>
          <a:prstGeom prst="rect">
            <a:avLst/>
          </a:prstGeom>
          <a:ln w="0">
            <a:noFill/>
          </a:ln>
        </p:spPr>
      </p:pic>
      <p:pic>
        <p:nvPicPr>
          <p:cNvPr id="1838" name="" descr=""/>
          <p:cNvPicPr/>
          <p:nvPr/>
        </p:nvPicPr>
        <p:blipFill>
          <a:blip r:embed="rId4"/>
          <a:stretch/>
        </p:blipFill>
        <p:spPr>
          <a:xfrm>
            <a:off x="1258920" y="1125360"/>
            <a:ext cx="792000" cy="757440"/>
          </a:xfrm>
          <a:prstGeom prst="rect">
            <a:avLst/>
          </a:prstGeom>
          <a:ln w="0">
            <a:noFill/>
          </a:ln>
        </p:spPr>
      </p:pic>
      <p:pic>
        <p:nvPicPr>
          <p:cNvPr id="1839" name="" descr=""/>
          <p:cNvPicPr/>
          <p:nvPr/>
        </p:nvPicPr>
        <p:blipFill>
          <a:blip r:embed="rId5"/>
          <a:stretch/>
        </p:blipFill>
        <p:spPr>
          <a:xfrm>
            <a:off x="1187280" y="5877000"/>
            <a:ext cx="590760" cy="571320"/>
          </a:xfrm>
          <a:prstGeom prst="rect">
            <a:avLst/>
          </a:prstGeom>
          <a:ln w="0">
            <a:noFill/>
          </a:ln>
        </p:spPr>
      </p:pic>
      <p:pic>
        <p:nvPicPr>
          <p:cNvPr id="1840" name="" descr=""/>
          <p:cNvPicPr/>
          <p:nvPr/>
        </p:nvPicPr>
        <p:blipFill>
          <a:blip r:embed="rId6"/>
          <a:stretch/>
        </p:blipFill>
        <p:spPr>
          <a:xfrm>
            <a:off x="1763640" y="5877000"/>
            <a:ext cx="514440" cy="571320"/>
          </a:xfrm>
          <a:prstGeom prst="rect">
            <a:avLst/>
          </a:prstGeom>
          <a:ln w="0">
            <a:noFill/>
          </a:ln>
        </p:spPr>
      </p:pic>
      <p:pic>
        <p:nvPicPr>
          <p:cNvPr id="1841" name="" descr=""/>
          <p:cNvPicPr/>
          <p:nvPr/>
        </p:nvPicPr>
        <p:blipFill>
          <a:blip r:embed="rId7"/>
          <a:stretch/>
        </p:blipFill>
        <p:spPr>
          <a:xfrm>
            <a:off x="2268360" y="5877000"/>
            <a:ext cx="590760" cy="571320"/>
          </a:xfrm>
          <a:prstGeom prst="rect">
            <a:avLst/>
          </a:prstGeom>
          <a:ln w="0">
            <a:noFill/>
          </a:ln>
        </p:spPr>
      </p:pic>
      <p:sp>
        <p:nvSpPr>
          <p:cNvPr id="1842" name=""/>
          <p:cNvSpPr/>
          <p:nvPr/>
        </p:nvSpPr>
        <p:spPr>
          <a:xfrm>
            <a:off x="3059280" y="6021360"/>
            <a:ext cx="504720" cy="14436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3" name="" descr=""/>
          <p:cNvPicPr/>
          <p:nvPr/>
        </p:nvPicPr>
        <p:blipFill>
          <a:blip r:embed="rId8"/>
          <a:stretch/>
        </p:blipFill>
        <p:spPr>
          <a:xfrm>
            <a:off x="3635280" y="5877000"/>
            <a:ext cx="514440" cy="571320"/>
          </a:xfrm>
          <a:prstGeom prst="rect">
            <a:avLst/>
          </a:prstGeom>
          <a:ln w="0">
            <a:noFill/>
          </a:ln>
        </p:spPr>
      </p:pic>
      <p:pic>
        <p:nvPicPr>
          <p:cNvPr id="1844" name="" descr=""/>
          <p:cNvPicPr/>
          <p:nvPr/>
        </p:nvPicPr>
        <p:blipFill>
          <a:blip r:embed="rId9"/>
          <a:stretch/>
        </p:blipFill>
        <p:spPr>
          <a:xfrm>
            <a:off x="4140360" y="5877000"/>
            <a:ext cx="590400" cy="571320"/>
          </a:xfrm>
          <a:prstGeom prst="rect">
            <a:avLst/>
          </a:prstGeom>
          <a:ln w="0">
            <a:noFill/>
          </a:ln>
        </p:spPr>
      </p:pic>
      <p:sp>
        <p:nvSpPr>
          <p:cNvPr id="1845" name="">
            <a:hlinkClick r:id="rId10" action="ppaction://hlinksldjump"/>
          </p:cNvPr>
          <p:cNvSpPr/>
          <p:nvPr/>
        </p:nvSpPr>
        <p:spPr>
          <a:xfrm rot="19132200">
            <a:off x="8172000" y="2923920"/>
            <a:ext cx="727200" cy="1633320"/>
          </a:xfrm>
          <a:custGeom>
            <a:avLst/>
            <a:gdLst>
              <a:gd name="textAreaLeft" fmla="*/ 0 w 727200"/>
              <a:gd name="textAreaRight" fmla="*/ 727200 w 727200"/>
              <a:gd name="textAreaTop" fmla="*/ 0 h 1633320"/>
              <a:gd name="textAreaBottom" fmla="*/ 1633680 h 1633320"/>
            </a:gdLst>
            <a:ahLst/>
            <a:rect l="textAreaLeft" t="textAreaTop" r="textAreaRight" b="textAreaBottom"/>
            <a:pathLst>
              <a:path w="21600" h="21600">
                <a:moveTo>
                  <a:pt x="5403" y="11609"/>
                </a:moveTo>
                <a:arcTo wR="-5457" hR="-5457" stAng="10288496" swAng="-14904570"/>
                <a:lnTo>
                  <a:pt x="8359" y="21320"/>
                </a:lnTo>
                <a:arcTo wR="10800" hR="10800" stAng="6183926" swAng="14904570"/>
                <a:lnTo>
                  <a:pt x="24151" y="8799"/>
                </a:lnTo>
                <a:lnTo>
                  <a:pt x="19635" y="14907"/>
                </a:lnTo>
                <a:lnTo>
                  <a:pt x="13527" y="10391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000"/>
                            </p:stCondLst>
                            <p:childTnLst>
                              <p:par>
                                <p:cTn id="15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500"/>
                            </p:stCondLst>
                            <p:childTnLst>
                              <p:par>
                                <p:cTn id="16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8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500"/>
                            </p:stCondLst>
                            <p:childTnLst>
                              <p:par>
                                <p:cTn id="18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8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2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"/>
          <p:cNvSpPr/>
          <p:nvPr/>
        </p:nvSpPr>
        <p:spPr>
          <a:xfrm>
            <a:off x="4284720" y="4194000"/>
            <a:ext cx="4537080" cy="17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Чёрточка (при переносе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ец стро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Орфограммы бывают в разных частях слова, между частями слова и между сло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4284720" y="2473200"/>
            <a:ext cx="453708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4284720" y="1125360"/>
            <a:ext cx="453708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Дефис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жные сл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ставки  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е-, в-, по-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уффиксы   -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ибудь,  - либо,  - то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астицы  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–то,  -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Орфограмма – пробел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(</a:t>
            </a:r>
            <a:r>
              <a:rPr b="1" i="1" lang="ru-RU" sz="1400" spc="-1" strike="noStrike">
                <a:solidFill>
                  <a:srgbClr val="990000"/>
                </a:solidFill>
                <a:latin typeface="Arial"/>
              </a:rPr>
              <a:t>слитное и раздельное написани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е,  ни,  бы,  же;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лог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2192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ожные сл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395280" y="1125360"/>
            <a:ext cx="38894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95280" y="1125360"/>
            <a:ext cx="8426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395280" y="5950080"/>
            <a:ext cx="842652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95280" y="1125360"/>
            <a:ext cx="0" cy="4824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4284720" y="1125360"/>
            <a:ext cx="0" cy="482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8821800" y="1125360"/>
            <a:ext cx="0" cy="48247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4284720" y="24732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4284720" y="389088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ff"/>
                </a:solidFill>
                <a:latin typeface="Arial"/>
              </a:rPr>
              <a:t>Опознавательные призна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00"/>
                </a:solidFill>
                <a:latin typeface="Arial"/>
              </a:rPr>
              <a:t>Буквы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Гла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езудар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ипящие и Ц перед глас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Согла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нец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ечение соглас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 перед гласными в конц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Не обозначающие зву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Ь неразделитель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ягкие согла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шипящие на конц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А  на конце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Ь   и Ъ разделитель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вук   й   после согласных и перед  гласными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е, ё, ю, я,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             </a:t>
            </a:r>
            <a:r>
              <a:rPr b="1" lang="en-US" sz="1400" spc="-1" strike="noStrike">
                <a:solidFill>
                  <a:srgbClr val="9933ff"/>
                </a:solidFill>
                <a:latin typeface="Arial"/>
              </a:rPr>
              <a:t>Больши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чало предложения, текст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личие собственных имён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бственных наименова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 flipH="1">
            <a:off x="1618560" y="3933720"/>
            <a:ext cx="73080" cy="216000"/>
          </a:xfrm>
          <a:custGeom>
            <a:avLst/>
            <a:gdLst>
              <a:gd name="textAreaLeft" fmla="*/ 21240 w 73080"/>
              <a:gd name="textAreaRight" fmla="*/ 73440 w 73080"/>
              <a:gd name="textAreaTop" fmla="*/ 9000 h 216000"/>
              <a:gd name="textAreaBottom" fmla="*/ 2070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332000" y="3933720"/>
            <a:ext cx="71280" cy="216000"/>
          </a:xfrm>
          <a:custGeom>
            <a:avLst/>
            <a:gdLst>
              <a:gd name="textAreaLeft" fmla="*/ 20880 w 71280"/>
              <a:gd name="textAreaRight" fmla="*/ 71640 w 71280"/>
              <a:gd name="textAreaTop" fmla="*/ 9000 h 216000"/>
              <a:gd name="textAreaBottom" fmla="*/ 207000 h 2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835280" y="4365720"/>
            <a:ext cx="71280" cy="215640"/>
          </a:xfrm>
          <a:custGeom>
            <a:avLst/>
            <a:gdLst>
              <a:gd name="textAreaLeft" fmla="*/ 20880 w 71280"/>
              <a:gd name="textAreaRight" fmla="*/ 71640 w 71280"/>
              <a:gd name="textAreaTop" fmla="*/ 9000 h 215640"/>
              <a:gd name="textAreaBottom" fmla="*/ 207000 h 21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1978920" y="4365720"/>
            <a:ext cx="73080" cy="215640"/>
          </a:xfrm>
          <a:custGeom>
            <a:avLst/>
            <a:gdLst>
              <a:gd name="textAreaLeft" fmla="*/ 21240 w 73080"/>
              <a:gd name="textAreaRight" fmla="*/ 73440 w 73080"/>
              <a:gd name="textAreaTop" fmla="*/ 9000 h 215640"/>
              <a:gd name="textAreaBottom" fmla="*/ 207000 h 21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>
            <a:hlinkClick r:id="" action="ppaction://hlinkshowjump?jump=previousslide"/>
          </p:cNvPr>
          <p:cNvSpPr/>
          <p:nvPr/>
        </p:nvSpPr>
        <p:spPr>
          <a:xfrm>
            <a:off x="7885080" y="6093000"/>
            <a:ext cx="1258920" cy="765000"/>
          </a:xfrm>
          <a:custGeom>
            <a:avLst/>
            <a:gdLst>
              <a:gd name="textAreaLeft" fmla="*/ 49320 w 1258920"/>
              <a:gd name="textAreaRight" fmla="*/ 1209600 w 1258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5539" h="21600">
                <a:moveTo>
                  <a:pt x="0" y="0"/>
                </a:moveTo>
                <a:lnTo>
                  <a:pt x="35539" y="0"/>
                </a:lnTo>
                <a:lnTo>
                  <a:pt x="35539" y="21600"/>
                </a:lnTo>
                <a:lnTo>
                  <a:pt x="0" y="21600"/>
                </a:lnTo>
                <a:close/>
              </a:path>
              <a:path fill="lightenLess" w="35539" h="21600">
                <a:moveTo>
                  <a:pt x="0" y="0"/>
                </a:moveTo>
                <a:lnTo>
                  <a:pt x="35539" y="0"/>
                </a:lnTo>
                <a:lnTo>
                  <a:pt x="34139" y="1400"/>
                </a:lnTo>
                <a:lnTo>
                  <a:pt x="1400" y="1400"/>
                </a:lnTo>
                <a:close/>
              </a:path>
              <a:path fill="darken" w="35539" h="21600">
                <a:moveTo>
                  <a:pt x="35539" y="0"/>
                </a:moveTo>
                <a:lnTo>
                  <a:pt x="35539" y="21600"/>
                </a:lnTo>
                <a:lnTo>
                  <a:pt x="34139" y="20200"/>
                </a:lnTo>
                <a:lnTo>
                  <a:pt x="34139" y="1400"/>
                </a:lnTo>
                <a:close/>
              </a:path>
              <a:path fill="darkenLess" w="35539" h="21600">
                <a:moveTo>
                  <a:pt x="35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39" y="20200"/>
                </a:lnTo>
                <a:close/>
              </a:path>
              <a:path fill="lighten" w="35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539" h="21600">
                <a:moveTo>
                  <a:pt x="10763" y="10800"/>
                </a:moveTo>
                <a:lnTo>
                  <a:pt x="24776" y="3794"/>
                </a:lnTo>
                <a:lnTo>
                  <a:pt x="24776" y="17806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60"/>
                            </p:stCondLst>
                            <p:childTnLst>
                              <p:par>
                                <p:cTn id="2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80"/>
                            </p:stCondLst>
                            <p:childTnLst>
                              <p:par>
                                <p:cTn id="2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1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40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84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56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6600"/>
                            </p:stCondLst>
                            <p:childTnLst>
                              <p:par>
                                <p:cTn id="2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440"/>
                            </p:stCondLst>
                            <p:childTnLst>
                              <p:par>
                                <p:cTn id="2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160"/>
                            </p:stCondLst>
                            <p:childTnLst>
                              <p:par>
                                <p:cTn id="3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1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7" dur="80"/>
                                        <p:tgtEl>
                                          <p:spTgt spid="1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80"/>
                                        <p:tgtEl>
                                          <p:spTgt spid="1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800"/>
                            </p:stCondLst>
                            <p:childTnLst>
                              <p:par>
                                <p:cTn id="3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1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1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60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320"/>
                            </p:stCondLst>
                            <p:childTnLst>
                              <p:par>
                                <p:cTn id="3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" dur="80"/>
                                        <p:tgtEl>
                                          <p:spTgt spid="1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40"/>
                            </p:stCondLst>
                            <p:childTnLst>
                              <p:par>
                                <p:cTn id="3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0" dur="80"/>
                                        <p:tgtEl>
                                          <p:spTgt spid="1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1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2" dur="80"/>
                                        <p:tgtEl>
                                          <p:spTgt spid="1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2760"/>
                            </p:stCondLst>
                            <p:childTnLst>
                              <p:par>
                                <p:cTn id="3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1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80"/>
                                        <p:tgtEl>
                                          <p:spTgt spid="1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80"/>
                            </p:stCondLst>
                            <p:childTnLst>
                              <p:par>
                                <p:cTn id="3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4120"/>
                            </p:stCondLst>
                            <p:childTnLst>
                              <p:par>
                                <p:cTn id="3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1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80"/>
                                        <p:tgtEl>
                                          <p:spTgt spid="1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80"/>
                            </p:stCondLst>
                            <p:childTnLst>
                              <p:par>
                                <p:cTn id="3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8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8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8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604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604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4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604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604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604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604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604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604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4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604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604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604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604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604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4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04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604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6040"/>
                            </p:stCondLst>
                            <p:childTnLst>
                              <p:par>
                                <p:cTn id="4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8040"/>
                            </p:stCondLst>
                            <p:childTnLst>
                              <p:par>
                                <p:cTn id="419" nodeType="after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20040"/>
                            </p:stCondLst>
                            <p:childTnLst>
                              <p:par>
                                <p:cTn id="4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2040"/>
                            </p:stCondLst>
                            <p:childTnLst>
                              <p:par>
                                <p:cTn id="4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8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1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–</a:t>
            </a:r>
            <a:r>
              <a:rPr b="1" lang="en-US" sz="1600" spc="-1" strike="noStrike">
                <a:solidFill>
                  <a:srgbClr val="0000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5" name=""/>
          <p:cNvGraphicFramePr/>
          <p:nvPr/>
        </p:nvGraphicFramePr>
        <p:xfrm>
          <a:off x="179280" y="1557360"/>
          <a:ext cx="8640720" cy="5040360"/>
        </p:xfrm>
        <a:graphic>
          <a:graphicData uri="http://schemas.openxmlformats.org/drawingml/2006/table">
            <a:tbl>
              <a:tblPr/>
              <a:tblGrid>
                <a:gridCol w="4991040"/>
                <a:gridCol w="3649680"/>
              </a:tblGrid>
              <a:tr h="141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Фонетические: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ударение, безудар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шипящие и ц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ягкие согласны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звончение и оглушение соглас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 (в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ы), суч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, ш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ё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ёлудь, 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ц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нга, дро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ь, спря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ч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он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и, кон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, лист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ь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о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ьба, ло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ж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84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ловообразовательны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асть сл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днокоренное сло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леить, овраж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у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– ду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б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к,  в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 - в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ны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Морфологически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асть реч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изнаки частей речи: склонение и падеж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                               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яжение и лиц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едлог,  сущ.                      нареч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 верху (дома)   и    вверх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а опушк</a:t>
                      </a:r>
                      <a:r>
                        <a:rPr b="1" lang="ru-RU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 </a:t>
                      </a: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 </a:t>
                      </a: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кл., п. п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ид</a:t>
                      </a:r>
                      <a:r>
                        <a:rPr b="1" lang="ru-RU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т  (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II </a:t>
                      </a:r>
                      <a:r>
                        <a:rPr b="1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пр.,  3-е  л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интаксически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ff0066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вязь с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</a:t>
                      </a:r>
                      <a:r>
                        <a:rPr b="0" lang="en-US" sz="1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 каком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 осенн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м   лес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Смысловы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начение сл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6699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начение части сл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ол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кать (бельё), пол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а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кать (ребёнка)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е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тличный (очень хороши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р</a:t>
                      </a: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Verdana"/>
                        </a:rPr>
                        <a:t>и</a:t>
                      </a:r>
                      <a:r>
                        <a:rPr b="1" lang="en-US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ехал (приближение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6" name=""/>
          <p:cNvSpPr/>
          <p:nvPr/>
        </p:nvSpPr>
        <p:spPr>
          <a:xfrm>
            <a:off x="4932360" y="5300640"/>
            <a:ext cx="1511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5076720" y="5300640"/>
            <a:ext cx="719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0" y="62064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это инструкция, в которой указываются условия выбора правильных написаний (орфограмм) в словах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Условия выбора –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это фонетические, словообразовательные, морфологические, синтаксические и смысловые особенности слов, которые определяют, что следует писать в том или ином случа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1042920" y="26028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Орфографическое правило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>
            <a:hlinkClick r:id="rId1" action="ppaction://hlinksldjump"/>
          </p:cNvPr>
          <p:cNvSpPr/>
          <p:nvPr/>
        </p:nvSpPr>
        <p:spPr>
          <a:xfrm>
            <a:off x="8459640" y="630864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7493"/>
                </a:moveTo>
                <a:lnTo>
                  <a:pt x="9953" y="7493"/>
                </a:lnTo>
                <a:lnTo>
                  <a:pt x="9953" y="12828"/>
                </a:lnTo>
                <a:cubicBezTo>
                  <a:pt x="9953" y="13751"/>
                  <a:pt x="10754" y="14482"/>
                  <a:pt x="11790" y="14482"/>
                </a:cubicBezTo>
                <a:lnTo>
                  <a:pt x="13452" y="14482"/>
                </a:lnTo>
                <a:cubicBezTo>
                  <a:pt x="14488" y="14482"/>
                  <a:pt x="15289" y="13751"/>
                  <a:pt x="15289" y="12828"/>
                </a:cubicBezTo>
                <a:lnTo>
                  <a:pt x="15289" y="7493"/>
                </a:lnTo>
                <a:lnTo>
                  <a:pt x="13452" y="7493"/>
                </a:lnTo>
                <a:lnTo>
                  <a:pt x="16960" y="3985"/>
                </a:lnTo>
                <a:lnTo>
                  <a:pt x="20633" y="7493"/>
                </a:lnTo>
                <a:lnTo>
                  <a:pt x="18796" y="7493"/>
                </a:lnTo>
                <a:lnTo>
                  <a:pt x="18796" y="12828"/>
                </a:lnTo>
                <a:cubicBezTo>
                  <a:pt x="18796" y="15596"/>
                  <a:pt x="16220" y="18155"/>
                  <a:pt x="13452" y="18155"/>
                </a:cubicBezTo>
                <a:lnTo>
                  <a:pt x="11790" y="18155"/>
                </a:lnTo>
                <a:cubicBezTo>
                  <a:pt x="9022" y="18155"/>
                  <a:pt x="6446" y="15596"/>
                  <a:pt x="6446" y="12828"/>
                </a:cubicBezTo>
                <a:close/>
              </a:path>
            </a:pathLst>
          </a:custGeom>
          <a:noFill/>
          <a:ln w="9360">
            <a:solidFill>
              <a:srgbClr val="f2d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/>
          <p:nvPr/>
        </p:nvSpPr>
        <p:spPr>
          <a:xfrm flipH="1" flipV="1" rot="8320200">
            <a:off x="-68400" y="4151880"/>
            <a:ext cx="143712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2" name=""/>
          <p:cNvSpPr/>
          <p:nvPr/>
        </p:nvSpPr>
        <p:spPr>
          <a:xfrm>
            <a:off x="6227640" y="4076640"/>
            <a:ext cx="2154240" cy="2114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о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3203640" y="4076640"/>
            <a:ext cx="3024000" cy="21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ер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с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684360" y="4076640"/>
            <a:ext cx="2517480" cy="2114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ла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ла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з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о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о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800"/>
                </a:solidFill>
                <a:latin typeface="Comic Sans MS"/>
              </a:rPr>
              <a:t>Орфограммы – согласные в корн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6" name=""/>
          <p:cNvSpPr/>
          <p:nvPr/>
        </p:nvSpPr>
        <p:spPr>
          <a:xfrm>
            <a:off x="3203640" y="4076640"/>
            <a:ext cx="3024000" cy="21146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ер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ер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чный я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с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с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203640" y="2979720"/>
            <a:ext cx="3024000" cy="10969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Непроизноси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685800" y="2979720"/>
            <a:ext cx="2517840" cy="1096920"/>
          </a:xfrm>
          <a:prstGeom prst="rect">
            <a:avLst/>
          </a:prstGeom>
          <a:solidFill>
            <a:srgbClr val="ffef66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Проверя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9" name=""/>
          <p:cNvSpPr/>
          <p:nvPr/>
        </p:nvSpPr>
        <p:spPr>
          <a:xfrm>
            <a:off x="6227640" y="1828800"/>
            <a:ext cx="2154240" cy="2247840"/>
          </a:xfrm>
          <a:prstGeom prst="rect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Непрове-ряем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0" name=""/>
          <p:cNvSpPr/>
          <p:nvPr/>
        </p:nvSpPr>
        <p:spPr>
          <a:xfrm>
            <a:off x="685800" y="1828800"/>
            <a:ext cx="5541840" cy="1150920"/>
          </a:xfrm>
          <a:prstGeom prst="rect">
            <a:avLst/>
          </a:prstGeom>
          <a:solidFill>
            <a:srgbClr val="d4cc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ределяемые правил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1" name=""/>
          <p:cNvSpPr/>
          <p:nvPr/>
        </p:nvSpPr>
        <p:spPr>
          <a:xfrm>
            <a:off x="685800" y="1828800"/>
            <a:ext cx="7696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685800" y="2979720"/>
            <a:ext cx="55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685800" y="407664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685800" y="6191280"/>
            <a:ext cx="769608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684360" y="1844640"/>
            <a:ext cx="0" cy="4362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6" name=""/>
          <p:cNvSpPr/>
          <p:nvPr/>
        </p:nvSpPr>
        <p:spPr>
          <a:xfrm>
            <a:off x="6227640" y="1828800"/>
            <a:ext cx="0" cy="436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"/>
          <p:cNvSpPr/>
          <p:nvPr/>
        </p:nvSpPr>
        <p:spPr>
          <a:xfrm>
            <a:off x="8381880" y="1828800"/>
            <a:ext cx="0" cy="4362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3203640" y="2979720"/>
            <a:ext cx="0" cy="31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 rot="18915000">
            <a:off x="885960" y="4416480"/>
            <a:ext cx="129816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 flipV="1" rot="13072800">
            <a:off x="244440" y="406080"/>
            <a:ext cx="1294560" cy="100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1" name=""/>
          <p:cNvSpPr/>
          <p:nvPr/>
        </p:nvSpPr>
        <p:spPr>
          <a:xfrm flipV="1" rot="14314200">
            <a:off x="-128520" y="26640"/>
            <a:ext cx="1151280" cy="181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 rot="18915000">
            <a:off x="3046680" y="4489560"/>
            <a:ext cx="129816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3" name=""/>
          <p:cNvSpPr/>
          <p:nvPr/>
        </p:nvSpPr>
        <p:spPr>
          <a:xfrm rot="18915000">
            <a:off x="3046680" y="4489560"/>
            <a:ext cx="129816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4" name=""/>
          <p:cNvSpPr/>
          <p:nvPr/>
        </p:nvSpPr>
        <p:spPr>
          <a:xfrm flipV="1" rot="13093200">
            <a:off x="4421880" y="5799600"/>
            <a:ext cx="1292400" cy="165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81" y="89"/>
                </a:moveTo>
                <a:arcTo wR="10800" hR="10800" stAng="-4959069" swAng="2763626"/>
                <a:lnTo>
                  <a:pt x="10800" y="10800"/>
                </a:lnTo>
                <a:close/>
              </a:path>
              <a:path fill="none" w="21600" h="21600">
                <a:moveTo>
                  <a:pt x="12181" y="89"/>
                </a:moveTo>
                <a:arcTo wR="10800" hR="10800" stAng="-4959069" swAng="2763626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5" name=""/>
          <p:cNvSpPr/>
          <p:nvPr/>
        </p:nvSpPr>
        <p:spPr>
          <a:xfrm rot="18915000">
            <a:off x="6215400" y="4921200"/>
            <a:ext cx="129744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"/>
          <p:cNvSpPr/>
          <p:nvPr/>
        </p:nvSpPr>
        <p:spPr>
          <a:xfrm rot="18915000">
            <a:off x="1478520" y="4920840"/>
            <a:ext cx="140616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21676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216768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 flipV="1" rot="14443800">
            <a:off x="600120" y="4384800"/>
            <a:ext cx="1517400" cy="1825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517" y="1637"/>
                </a:moveTo>
                <a:arcTo wR="10800" hR="10800" stAng="-3482403" swAng="3461201"/>
                <a:lnTo>
                  <a:pt x="10800" y="10800"/>
                </a:lnTo>
                <a:close/>
              </a:path>
              <a:path fill="none" w="21600" h="21600">
                <a:moveTo>
                  <a:pt x="16517" y="1637"/>
                </a:moveTo>
                <a:arcTo wR="10800" hR="10800" stAng="-3482403" swAng="3461201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">
            <a:hlinkClick r:id="rId1" action="ppaction://hlinksldjump"/>
          </p:cNvPr>
          <p:cNvSpPr/>
          <p:nvPr/>
        </p:nvSpPr>
        <p:spPr>
          <a:xfrm>
            <a:off x="8172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 flipH="1" flipV="1">
            <a:off x="323640" y="3574440"/>
            <a:ext cx="1437120" cy="11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1763640" y="6165720"/>
            <a:ext cx="2087640" cy="692280"/>
          </a:xfrm>
          <a:custGeom>
            <a:avLst/>
            <a:gdLst>
              <a:gd name="textAreaLeft" fmla="*/ 326160 w 2087640"/>
              <a:gd name="textAreaRight" fmla="*/ 1827000 w 2087640"/>
              <a:gd name="textAreaTop" fmla="*/ 173160 h 692280"/>
              <a:gd name="textAreaBottom" fmla="*/ 519480 h 69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2195640" y="63817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Запомни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">
            <a:hlinkClick r:id="rId2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7493"/>
                </a:moveTo>
                <a:lnTo>
                  <a:pt x="12768" y="7493"/>
                </a:lnTo>
                <a:lnTo>
                  <a:pt x="12768" y="12828"/>
                </a:lnTo>
                <a:cubicBezTo>
                  <a:pt x="12768" y="13751"/>
                  <a:pt x="13569" y="14482"/>
                  <a:pt x="14605" y="14482"/>
                </a:cubicBezTo>
                <a:lnTo>
                  <a:pt x="16267" y="14482"/>
                </a:lnTo>
                <a:cubicBezTo>
                  <a:pt x="17303" y="14482"/>
                  <a:pt x="18104" y="13751"/>
                  <a:pt x="18104" y="12828"/>
                </a:cubicBezTo>
                <a:lnTo>
                  <a:pt x="18104" y="7493"/>
                </a:lnTo>
                <a:lnTo>
                  <a:pt x="16267" y="7493"/>
                </a:lnTo>
                <a:lnTo>
                  <a:pt x="19775" y="3985"/>
                </a:lnTo>
                <a:lnTo>
                  <a:pt x="23448" y="7493"/>
                </a:lnTo>
                <a:lnTo>
                  <a:pt x="21611" y="7493"/>
                </a:lnTo>
                <a:lnTo>
                  <a:pt x="21611" y="12828"/>
                </a:lnTo>
                <a:cubicBezTo>
                  <a:pt x="21611" y="15596"/>
                  <a:pt x="19035" y="18155"/>
                  <a:pt x="16267" y="18155"/>
                </a:cubicBezTo>
                <a:lnTo>
                  <a:pt x="14605" y="18155"/>
                </a:lnTo>
                <a:cubicBezTo>
                  <a:pt x="11837" y="18155"/>
                  <a:pt x="9261" y="15596"/>
                  <a:pt x="9261" y="12828"/>
                </a:cubicBezTo>
                <a:close/>
              </a:path>
            </a:pathLst>
          </a:cu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rot="18915000">
            <a:off x="741600" y="5353200"/>
            <a:ext cx="129816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rot="18915000">
            <a:off x="1822680" y="5784840"/>
            <a:ext cx="129816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 rot="18915000">
            <a:off x="4199400" y="4921200"/>
            <a:ext cx="1297440" cy="144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 flipV="1" rot="13093200">
            <a:off x="2766240" y="5366160"/>
            <a:ext cx="1292400" cy="165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81" y="89"/>
                </a:moveTo>
                <a:arcTo wR="10800" hR="10800" stAng="-4959069" swAng="2763626"/>
                <a:lnTo>
                  <a:pt x="10800" y="10800"/>
                </a:lnTo>
                <a:close/>
              </a:path>
              <a:path fill="none" w="21600" h="21600">
                <a:moveTo>
                  <a:pt x="12181" y="89"/>
                </a:moveTo>
                <a:arcTo wR="10800" hR="10800" stAng="-4959069" swAng="2763626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помн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08" name=""/>
          <p:cNvGraphicFramePr/>
          <p:nvPr/>
        </p:nvGraphicFramePr>
        <p:xfrm>
          <a:off x="755640" y="981000"/>
          <a:ext cx="7632720" cy="576108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57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зве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 - ве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до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 – радо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ба – пр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ба – к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ол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ба – мол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адо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 – радо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уд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ый – чуд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па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 – опа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кра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 – прекрас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з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 – опоз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Учас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вать – 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учас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ген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во - аген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жа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ый – ужа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ску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ый – иску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у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вов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у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ю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а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л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е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ц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Ров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ер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Ше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т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в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т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е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в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аз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в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9" name="">
            <a:hlinkClick r:id="rId1" action="ppaction://hlinksldjump"/>
          </p:cNvPr>
          <p:cNvSpPr/>
          <p:nvPr/>
        </p:nvSpPr>
        <p:spPr>
          <a:xfrm>
            <a:off x="7451640" y="6021360"/>
            <a:ext cx="936720" cy="836640"/>
          </a:xfrm>
          <a:custGeom>
            <a:avLst/>
            <a:gdLst>
              <a:gd name="textAreaLeft" fmla="*/ 54000 w 936720"/>
              <a:gd name="textAreaRight" fmla="*/ 882720 w 9367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4183" h="21600">
                <a:moveTo>
                  <a:pt x="0" y="0"/>
                </a:moveTo>
                <a:lnTo>
                  <a:pt x="24183" y="0"/>
                </a:lnTo>
                <a:lnTo>
                  <a:pt x="24183" y="21600"/>
                </a:lnTo>
                <a:lnTo>
                  <a:pt x="0" y="21600"/>
                </a:lnTo>
                <a:close/>
              </a:path>
              <a:path fill="lightenLess" w="24183" h="21600">
                <a:moveTo>
                  <a:pt x="0" y="0"/>
                </a:moveTo>
                <a:lnTo>
                  <a:pt x="24183" y="0"/>
                </a:lnTo>
                <a:lnTo>
                  <a:pt x="22783" y="1400"/>
                </a:lnTo>
                <a:lnTo>
                  <a:pt x="1400" y="1400"/>
                </a:lnTo>
                <a:close/>
              </a:path>
              <a:path fill="darken" w="24183" h="21600">
                <a:moveTo>
                  <a:pt x="24183" y="0"/>
                </a:moveTo>
                <a:lnTo>
                  <a:pt x="24183" y="21600"/>
                </a:lnTo>
                <a:lnTo>
                  <a:pt x="22783" y="20200"/>
                </a:lnTo>
                <a:lnTo>
                  <a:pt x="22783" y="1400"/>
                </a:lnTo>
                <a:close/>
              </a:path>
              <a:path fill="darkenLess" w="24183" h="21600">
                <a:moveTo>
                  <a:pt x="24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3" y="20200"/>
                </a:lnTo>
                <a:close/>
              </a:path>
              <a:path fill="lighten" w="24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3" h="21600">
                <a:moveTo>
                  <a:pt x="5085" y="7493"/>
                </a:moveTo>
                <a:lnTo>
                  <a:pt x="8592" y="7493"/>
                </a:lnTo>
                <a:lnTo>
                  <a:pt x="8592" y="12828"/>
                </a:lnTo>
                <a:cubicBezTo>
                  <a:pt x="8592" y="13751"/>
                  <a:pt x="9393" y="14482"/>
                  <a:pt x="10429" y="14482"/>
                </a:cubicBezTo>
                <a:lnTo>
                  <a:pt x="12091" y="14482"/>
                </a:lnTo>
                <a:cubicBezTo>
                  <a:pt x="13127" y="14482"/>
                  <a:pt x="13928" y="13751"/>
                  <a:pt x="13928" y="12828"/>
                </a:cubicBezTo>
                <a:lnTo>
                  <a:pt x="13928" y="7493"/>
                </a:lnTo>
                <a:lnTo>
                  <a:pt x="12091" y="7493"/>
                </a:lnTo>
                <a:lnTo>
                  <a:pt x="15599" y="3985"/>
                </a:lnTo>
                <a:lnTo>
                  <a:pt x="19272" y="7493"/>
                </a:lnTo>
                <a:lnTo>
                  <a:pt x="17435" y="7493"/>
                </a:lnTo>
                <a:lnTo>
                  <a:pt x="17435" y="12828"/>
                </a:lnTo>
                <a:cubicBezTo>
                  <a:pt x="17435" y="15596"/>
                  <a:pt x="14859" y="18155"/>
                  <a:pt x="12091" y="18155"/>
                </a:cubicBezTo>
                <a:lnTo>
                  <a:pt x="10429" y="18155"/>
                </a:lnTo>
                <a:cubicBezTo>
                  <a:pt x="7661" y="18155"/>
                  <a:pt x="5085" y="15596"/>
                  <a:pt x="5085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Буквы И, У, А после шипящих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1" name=""/>
          <p:cNvSpPr txBox="1"/>
          <p:nvPr/>
        </p:nvSpPr>
        <p:spPr>
          <a:xfrm>
            <a:off x="609120" y="1599840"/>
            <a:ext cx="3886200" cy="2405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И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– Ш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иши с 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 txBox="1"/>
          <p:nvPr/>
        </p:nvSpPr>
        <p:spPr>
          <a:xfrm>
            <a:off x="4647960" y="1599840"/>
            <a:ext cx="3886200" cy="24051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А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– Щ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пиши с </a:t>
            </a: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 txBox="1"/>
          <p:nvPr/>
        </p:nvSpPr>
        <p:spPr>
          <a:xfrm>
            <a:off x="755640" y="4292280"/>
            <a:ext cx="7058160" cy="1873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У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– Щ</a:t>
            </a: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У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пиши с </a:t>
            </a:r>
            <a:r>
              <a:rPr b="0" lang="ru-RU" sz="6000" spc="-1" strike="noStrike">
                <a:solidFill>
                  <a:srgbClr val="ff0066"/>
                </a:solidFill>
                <a:latin typeface="Arial"/>
              </a:rPr>
              <a:t>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кл.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ош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, ж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, параш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 Ж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ь Вер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>
            <a:hlinkClick r:id="" action="ppaction://hlinkshowjump?jump=previousslide"/>
          </p:cNvPr>
          <p:cNvSpPr/>
          <p:nvPr/>
        </p:nvSpPr>
        <p:spPr>
          <a:xfrm>
            <a:off x="8172360" y="5994360"/>
            <a:ext cx="971640" cy="863640"/>
          </a:xfrm>
          <a:custGeom>
            <a:avLst/>
            <a:gdLst>
              <a:gd name="textAreaLeft" fmla="*/ 55800 w 971640"/>
              <a:gd name="textAreaRight" fmla="*/ 915840 w 971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4300" h="21600">
                <a:moveTo>
                  <a:pt x="0" y="0"/>
                </a:moveTo>
                <a:lnTo>
                  <a:pt x="24300" y="0"/>
                </a:lnTo>
                <a:lnTo>
                  <a:pt x="24300" y="21600"/>
                </a:lnTo>
                <a:lnTo>
                  <a:pt x="0" y="21600"/>
                </a:lnTo>
                <a:close/>
              </a:path>
              <a:path fill="lightenLess" w="24300" h="21600">
                <a:moveTo>
                  <a:pt x="0" y="0"/>
                </a:moveTo>
                <a:lnTo>
                  <a:pt x="24300" y="0"/>
                </a:lnTo>
                <a:lnTo>
                  <a:pt x="22900" y="1400"/>
                </a:lnTo>
                <a:lnTo>
                  <a:pt x="1400" y="1400"/>
                </a:lnTo>
                <a:close/>
              </a:path>
              <a:path fill="darken" w="24300" h="21600">
                <a:moveTo>
                  <a:pt x="24300" y="0"/>
                </a:moveTo>
                <a:lnTo>
                  <a:pt x="24300" y="21600"/>
                </a:lnTo>
                <a:lnTo>
                  <a:pt x="22900" y="20200"/>
                </a:lnTo>
                <a:lnTo>
                  <a:pt x="22900" y="1400"/>
                </a:lnTo>
                <a:close/>
              </a:path>
              <a:path fill="darkenLess" w="24300" h="21600">
                <a:moveTo>
                  <a:pt x="24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0" y="20200"/>
                </a:lnTo>
                <a:close/>
              </a:path>
              <a:path fill="lighten" w="24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0" h="21600">
                <a:moveTo>
                  <a:pt x="5144" y="7493"/>
                </a:moveTo>
                <a:lnTo>
                  <a:pt x="8651" y="7493"/>
                </a:lnTo>
                <a:lnTo>
                  <a:pt x="8651" y="12828"/>
                </a:lnTo>
                <a:cubicBezTo>
                  <a:pt x="8651" y="13751"/>
                  <a:pt x="9452" y="14482"/>
                  <a:pt x="10488" y="14482"/>
                </a:cubicBezTo>
                <a:lnTo>
                  <a:pt x="12150" y="14482"/>
                </a:lnTo>
                <a:cubicBezTo>
                  <a:pt x="13186" y="14482"/>
                  <a:pt x="13986" y="13751"/>
                  <a:pt x="13986" y="12828"/>
                </a:cubicBezTo>
                <a:lnTo>
                  <a:pt x="13986" y="7493"/>
                </a:lnTo>
                <a:lnTo>
                  <a:pt x="12150" y="7493"/>
                </a:lnTo>
                <a:lnTo>
                  <a:pt x="15658" y="3985"/>
                </a:lnTo>
                <a:lnTo>
                  <a:pt x="19331" y="7493"/>
                </a:lnTo>
                <a:lnTo>
                  <a:pt x="17494" y="7493"/>
                </a:lnTo>
                <a:lnTo>
                  <a:pt x="17494" y="12828"/>
                </a:lnTo>
                <a:cubicBezTo>
                  <a:pt x="17494" y="15596"/>
                  <a:pt x="14918" y="18155"/>
                  <a:pt x="12150" y="18155"/>
                </a:cubicBezTo>
                <a:lnTo>
                  <a:pt x="10488" y="18155"/>
                </a:lnTo>
                <a:cubicBezTo>
                  <a:pt x="7720" y="18155"/>
                  <a:pt x="5144" y="15596"/>
                  <a:pt x="5144" y="12828"/>
                </a:cubicBezTo>
                <a:close/>
              </a:path>
            </a:pathLst>
          </a:custGeom>
          <a:noFill/>
          <a:ln w="936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539640" y="1628640"/>
            <a:ext cx="4032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643280" y="1628640"/>
            <a:ext cx="3600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755640" y="4437000"/>
            <a:ext cx="6840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611280" y="1700280"/>
            <a:ext cx="360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2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2000"/>
                            </p:stCondLst>
                            <p:childTnLst>
                              <p:par>
                                <p:cTn id="4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20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2000" fill="hold"/>
                                        <p:tgtEl>
                                          <p:spTgt spid="1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000"/>
                            </p:stCondLst>
                            <p:childTnLst>
                              <p:par>
                                <p:cTn id="4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2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 txBox="1"/>
          <p:nvPr/>
        </p:nvSpPr>
        <p:spPr>
          <a:xfrm>
            <a:off x="2124000" y="1700280"/>
            <a:ext cx="549360" cy="23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!</a:t>
            </a:r>
            <a:endParaRPr b="1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6834240" cy="1143000"/>
          </a:xfrm>
          <a:prstGeom prst="rect">
            <a:avLst/>
          </a:prstGeom>
          <a:solidFill>
            <a:srgbClr val="d6e0e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Разделительные Ъ и Ь знак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2556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Выбор разделительных </a:t>
            </a: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Ъ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 и </a:t>
            </a: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Ь </a:t>
            </a:r>
            <a:r>
              <a:rPr b="1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зависит от их положения в слове после приставки или не после приставки, а также от того, перед какими буквами они находятся: </a:t>
            </a:r>
            <a:r>
              <a:rPr b="1" lang="en-US" sz="1800" spc="-1" strike="noStrike" u="sng">
                <a:solidFill>
                  <a:srgbClr val="ff0066"/>
                </a:solidFill>
                <a:uFillTx/>
                <a:latin typeface="Arial"/>
              </a:rPr>
              <a:t>Е, Ё, Ю, Я,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2" name=""/>
          <p:cNvGraphicFramePr/>
          <p:nvPr/>
        </p:nvGraphicFramePr>
        <p:xfrm>
          <a:off x="2916360" y="1700280"/>
          <a:ext cx="5832360" cy="4681440"/>
        </p:xfrm>
        <a:graphic>
          <a:graphicData uri="http://schemas.openxmlformats.org/drawingml/2006/table">
            <a:tbl>
              <a:tblPr/>
              <a:tblGrid>
                <a:gridCol w="3247920"/>
                <a:gridCol w="258444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Ъ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сле 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приставки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 согласную перед 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, Ё, Ю, 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не после приставки перед 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Е, Ё, Ю, Я, 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5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ъ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е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ъ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ё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ка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ъ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я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ьс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ъ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билейный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ю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с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ё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ся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об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и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ел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е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7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я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ый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3" name="">
            <a:hlinkClick r:id="rId1" action="ppaction://hlinksldjump"/>
          </p:cNvPr>
          <p:cNvSpPr/>
          <p:nvPr/>
        </p:nvSpPr>
        <p:spPr>
          <a:xfrm>
            <a:off x="8207280" y="6066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7493"/>
                </a:moveTo>
                <a:lnTo>
                  <a:pt x="9274" y="7493"/>
                </a:lnTo>
                <a:lnTo>
                  <a:pt x="9274" y="12828"/>
                </a:lnTo>
                <a:cubicBezTo>
                  <a:pt x="9274" y="13751"/>
                  <a:pt x="10074" y="14482"/>
                  <a:pt x="11110" y="14482"/>
                </a:cubicBezTo>
                <a:lnTo>
                  <a:pt x="12773" y="14482"/>
                </a:lnTo>
                <a:cubicBezTo>
                  <a:pt x="13808" y="14482"/>
                  <a:pt x="14609" y="13751"/>
                  <a:pt x="14609" y="12828"/>
                </a:cubicBezTo>
                <a:lnTo>
                  <a:pt x="14609" y="7493"/>
                </a:lnTo>
                <a:lnTo>
                  <a:pt x="12773" y="7493"/>
                </a:lnTo>
                <a:lnTo>
                  <a:pt x="16280" y="3985"/>
                </a:lnTo>
                <a:lnTo>
                  <a:pt x="19953" y="7493"/>
                </a:lnTo>
                <a:lnTo>
                  <a:pt x="18117" y="7493"/>
                </a:lnTo>
                <a:lnTo>
                  <a:pt x="18117" y="12828"/>
                </a:lnTo>
                <a:cubicBezTo>
                  <a:pt x="18117" y="15596"/>
                  <a:pt x="15540" y="18155"/>
                  <a:pt x="12773" y="18155"/>
                </a:cubicBezTo>
                <a:lnTo>
                  <a:pt x="11110" y="18155"/>
                </a:lnTo>
                <a:cubicBezTo>
                  <a:pt x="8342" y="18155"/>
                  <a:pt x="5766" y="15596"/>
                  <a:pt x="5766" y="12828"/>
                </a:cubicBezTo>
                <a:close/>
              </a:path>
            </a:pathLst>
          </a:custGeom>
          <a:noFill/>
          <a:ln w="936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">
            <a:hlinkClick r:id="rId2" action="ppaction://hlinksldjump"/>
          </p:cNvPr>
          <p:cNvSpPr/>
          <p:nvPr/>
        </p:nvSpPr>
        <p:spPr>
          <a:xfrm>
            <a:off x="539640" y="5516640"/>
            <a:ext cx="1728720" cy="1081080"/>
          </a:xfrm>
          <a:custGeom>
            <a:avLst/>
            <a:gdLst>
              <a:gd name="textAreaLeft" fmla="*/ 270000 w 1728720"/>
              <a:gd name="textAreaRight" fmla="*/ 1512720 w 1728720"/>
              <a:gd name="textAreaTop" fmla="*/ 270360 h 1081080"/>
              <a:gd name="textAreaBottom" fmla="*/ 811080 h 1081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6e0e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">
            <a:hlinkClick r:id="rId3" action="ppaction://hlinksldjump"/>
          </p:cNvPr>
          <p:cNvSpPr/>
          <p:nvPr/>
        </p:nvSpPr>
        <p:spPr>
          <a:xfrm>
            <a:off x="826920" y="5805360"/>
            <a:ext cx="13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00"/>
                </a:solidFill>
                <a:uFillTx/>
                <a:latin typeface="Comic Sans MS"/>
                <a:hlinkClick r:id="rId4" action="ppaction://hlinksldjump"/>
              </a:rPr>
              <a:t>Запомн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omic Sans MS"/>
              </a:rPr>
              <a:t> 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69451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Comic Sans MS"/>
              </a:rPr>
              <a:t>Орфограф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5" name=""/>
          <p:cNvSpPr/>
          <p:nvPr/>
        </p:nvSpPr>
        <p:spPr>
          <a:xfrm rot="281400">
            <a:off x="4858920" y="2565000"/>
            <a:ext cx="3240000" cy="1297080"/>
          </a:xfrm>
          <a:prstGeom prst="wedgeRoundRectCallout">
            <a:avLst>
              <a:gd name="adj1" fmla="val -63666"/>
              <a:gd name="adj2" fmla="val 69148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Учитесь грамотно писать – пригодится в жиз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6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809880" cy="323856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/>
          <p:nvPr/>
        </p:nvSpPr>
        <p:spPr>
          <a:xfrm>
            <a:off x="4427640" y="4869000"/>
            <a:ext cx="4105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2" action="ppaction://hlinksldjump"/>
              </a:rPr>
              <a:t>ОРФОГРАММА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3" action="ppaction://hlinksldjump"/>
              </a:rPr>
              <a:t> (греч. «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4" action="ppaction://hlinksldjump"/>
              </a:rPr>
              <a:t>орфо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5" action="ppaction://hlinksldjump"/>
              </a:rPr>
              <a:t>» - правильный, «грамма»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буква, знак) – такое написание в слове, которое соответствует определённому орфографическому правил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395280" y="981000"/>
            <a:ext cx="849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6" action="ppaction://hlinksldjump"/>
              </a:rPr>
              <a:t>(«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7" action="ppaction://hlinksldjump"/>
              </a:rPr>
              <a:t>орфо</a:t>
            </a:r>
            <a:r>
              <a:rPr b="0" lang="ru-RU" sz="2000" spc="-1" strike="noStrike" u="sng">
                <a:solidFill>
                  <a:srgbClr val="00b200"/>
                </a:solidFill>
                <a:uFillTx/>
                <a:latin typeface="Arial"/>
                <a:hlinkClick r:id="rId8" action="ppaction://hlinksldjump"/>
              </a:rPr>
              <a:t>» - правильный, «графо» - пишу) – раздел науки о языке, в котором излагается система правил написания слов. Ценность русской орфографии – в строгом соблюдении орфографических прав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800" fill="hold"/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7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Garamond"/>
              </a:rPr>
              <a:t>-л</a:t>
            </a:r>
            <a:r>
              <a:rPr b="0" lang="en-US" sz="8800" spc="-1" strike="noStrike" u="sng">
                <a:solidFill>
                  <a:srgbClr val="ff0066"/>
                </a:solidFill>
                <a:uFillTx/>
                <a:latin typeface="Garamond"/>
              </a:rPr>
              <a:t>а</a:t>
            </a:r>
            <a:r>
              <a:rPr b="0" lang="en-US" sz="8800" spc="-1" strike="noStrike">
                <a:solidFill>
                  <a:srgbClr val="cc0000"/>
                </a:solidFill>
                <a:latin typeface="Garamond"/>
              </a:rPr>
              <a:t>г</a:t>
            </a:r>
            <a:r>
              <a:rPr b="0" lang="en-US" sz="8800" spc="-1" strike="noStrike">
                <a:solidFill>
                  <a:srgbClr val="ff0066"/>
                </a:solidFill>
                <a:latin typeface="Garamond"/>
              </a:rPr>
              <a:t>-  -  -л</a:t>
            </a:r>
            <a:r>
              <a:rPr b="0" lang="en-US" sz="8800" spc="-1" strike="noStrike" u="sng">
                <a:solidFill>
                  <a:srgbClr val="ff0066"/>
                </a:solidFill>
                <a:uFillTx/>
                <a:latin typeface="Garamond"/>
              </a:rPr>
              <a:t>о</a:t>
            </a:r>
            <a:r>
              <a:rPr b="0" lang="en-US" sz="8800" spc="-1" strike="noStrike">
                <a:solidFill>
                  <a:srgbClr val="cc0000"/>
                </a:solidFill>
                <a:latin typeface="Garamond"/>
              </a:rPr>
              <a:t>ж</a:t>
            </a:r>
            <a:r>
              <a:rPr b="0" lang="en-US" sz="8800" spc="-1" strike="noStrike">
                <a:solidFill>
                  <a:srgbClr val="ff0066"/>
                </a:solidFill>
                <a:latin typeface="Garamond"/>
              </a:rPr>
              <a:t>-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457200" y="2825280"/>
            <a:ext cx="822960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В корне –лаг- - -лож-                      безударная                  </a:t>
            </a:r>
            <a:r>
              <a:rPr b="1" lang="en-US" sz="4000" spc="-1" strike="noStrike">
                <a:solidFill>
                  <a:srgbClr val="33cc33"/>
                </a:solidFill>
                <a:latin typeface="Lucida Console"/>
              </a:rPr>
              <a:t>а 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пишется перед </a:t>
            </a:r>
            <a:r>
              <a:rPr b="1" lang="en-US" sz="4000" spc="-1" strike="noStrike">
                <a:solidFill>
                  <a:srgbClr val="33cc33"/>
                </a:solidFill>
                <a:latin typeface="Lucida Console"/>
              </a:rPr>
              <a:t>г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,         безударная </a:t>
            </a:r>
            <a:r>
              <a:rPr b="1" lang="en-US" sz="4000" spc="-1" strike="noStrike">
                <a:solidFill>
                  <a:srgbClr val="000099"/>
                </a:solidFill>
                <a:latin typeface="Lucida Console"/>
              </a:rPr>
              <a:t>о</a:t>
            </a:r>
            <a:r>
              <a:rPr b="1" lang="en-US" sz="4000" spc="-1" strike="noStrike">
                <a:solidFill>
                  <a:srgbClr val="000000"/>
                </a:solidFill>
                <a:latin typeface="Lucida Console"/>
              </a:rPr>
              <a:t> перед </a:t>
            </a:r>
            <a:r>
              <a:rPr b="1" lang="en-US" sz="4000" spc="-1" strike="noStrike">
                <a:solidFill>
                  <a:srgbClr val="000099"/>
                </a:solidFill>
                <a:latin typeface="Lucida Console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Lucida Console"/>
              </a:rPr>
              <a:t>  </a:t>
            </a:r>
            <a:r>
              <a:rPr b="1" lang="en-US" sz="3200" spc="-1" strike="noStrike">
                <a:solidFill>
                  <a:srgbClr val="000099"/>
                </a:solidFill>
                <a:latin typeface="Lucida Console"/>
              </a:rPr>
              <a:t>По</a:t>
            </a:r>
            <a:r>
              <a:rPr b="1" lang="en-US" sz="3200" spc="-1" strike="noStrike">
                <a:solidFill>
                  <a:srgbClr val="cc0000"/>
                </a:solidFill>
                <a:latin typeface="Lucida Console"/>
              </a:rPr>
              <a:t>ло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Lucida Console"/>
              </a:rPr>
              <a:t>ж</a:t>
            </a:r>
            <a:r>
              <a:rPr b="1" lang="en-US" sz="3200" spc="-1" strike="noStrike">
                <a:solidFill>
                  <a:srgbClr val="000099"/>
                </a:solidFill>
                <a:latin typeface="Lucida Console"/>
              </a:rPr>
              <a:t>ить,     распо</a:t>
            </a:r>
            <a:r>
              <a:rPr b="1" lang="en-US" sz="3200" spc="-1" strike="noStrike">
                <a:solidFill>
                  <a:srgbClr val="cc0000"/>
                </a:solidFill>
                <a:latin typeface="Lucida Console"/>
              </a:rPr>
              <a:t>ла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Lucida Console"/>
              </a:rPr>
              <a:t>г</a:t>
            </a:r>
            <a:r>
              <a:rPr b="1" lang="en-US" sz="3200" spc="-1" strike="noStrike">
                <a:solidFill>
                  <a:srgbClr val="000099"/>
                </a:solidFill>
                <a:latin typeface="Lucida Console"/>
              </a:rPr>
              <a:t>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>
            <a:hlinkClick r:id="" action="ppaction://hlinkshowjump?jump=previousslide"/>
          </p:cNvPr>
          <p:cNvSpPr/>
          <p:nvPr/>
        </p:nvSpPr>
        <p:spPr>
          <a:xfrm>
            <a:off x="8209080" y="5850000"/>
            <a:ext cx="934920" cy="1008000"/>
          </a:xfrm>
          <a:custGeom>
            <a:avLst/>
            <a:gdLst>
              <a:gd name="textAreaLeft" fmla="*/ 60480 w 934920"/>
              <a:gd name="textAreaRight" fmla="*/ 874440 w 934920"/>
              <a:gd name="textAreaTop" fmla="*/ 60480 h 1008000"/>
              <a:gd name="textAreaBottom" fmla="*/ 947520 h 1008000"/>
            </a:gdLst>
            <a:ahLst/>
            <a:rect l="textAreaLeft" t="textAreaTop" r="textAreaRight" b="textAreaBottom"/>
            <a:pathLst>
              <a:path w="21600" h="23288">
                <a:moveTo>
                  <a:pt x="0" y="0"/>
                </a:moveTo>
                <a:lnTo>
                  <a:pt x="21600" y="0"/>
                </a:lnTo>
                <a:lnTo>
                  <a:pt x="21600" y="23288"/>
                </a:lnTo>
                <a:lnTo>
                  <a:pt x="0" y="23288"/>
                </a:lnTo>
                <a:close/>
              </a:path>
              <a:path fill="lightenLess" w="21600" h="232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88">
                <a:moveTo>
                  <a:pt x="21600" y="0"/>
                </a:moveTo>
                <a:lnTo>
                  <a:pt x="21600" y="23288"/>
                </a:lnTo>
                <a:lnTo>
                  <a:pt x="20200" y="21888"/>
                </a:lnTo>
                <a:lnTo>
                  <a:pt x="20200" y="1400"/>
                </a:lnTo>
                <a:close/>
              </a:path>
              <a:path fill="darkenLess" w="21600" h="23288">
                <a:moveTo>
                  <a:pt x="21600" y="23288"/>
                </a:moveTo>
                <a:lnTo>
                  <a:pt x="0" y="23288"/>
                </a:lnTo>
                <a:lnTo>
                  <a:pt x="1400" y="21888"/>
                </a:lnTo>
                <a:lnTo>
                  <a:pt x="20200" y="21888"/>
                </a:lnTo>
                <a:close/>
              </a:path>
              <a:path fill="lighten" w="21600" h="23288">
                <a:moveTo>
                  <a:pt x="0" y="232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88"/>
                </a:lnTo>
                <a:close/>
              </a:path>
              <a:path fill="darken" w="21600" h="23288">
                <a:moveTo>
                  <a:pt x="3794" y="8336"/>
                </a:moveTo>
                <a:lnTo>
                  <a:pt x="7301" y="8336"/>
                </a:lnTo>
                <a:lnTo>
                  <a:pt x="7301" y="13672"/>
                </a:lnTo>
                <a:cubicBezTo>
                  <a:pt x="7301" y="14594"/>
                  <a:pt x="8102" y="15326"/>
                  <a:pt x="9138" y="15326"/>
                </a:cubicBezTo>
                <a:lnTo>
                  <a:pt x="10800" y="15326"/>
                </a:lnTo>
                <a:cubicBezTo>
                  <a:pt x="11836" y="15326"/>
                  <a:pt x="12636" y="14594"/>
                  <a:pt x="12636" y="13672"/>
                </a:cubicBezTo>
                <a:lnTo>
                  <a:pt x="12636" y="8336"/>
                </a:lnTo>
                <a:lnTo>
                  <a:pt x="10800" y="8336"/>
                </a:lnTo>
                <a:lnTo>
                  <a:pt x="14308" y="4829"/>
                </a:lnTo>
                <a:lnTo>
                  <a:pt x="17981" y="8336"/>
                </a:lnTo>
                <a:lnTo>
                  <a:pt x="16144" y="8336"/>
                </a:lnTo>
                <a:lnTo>
                  <a:pt x="16144" y="13672"/>
                </a:lnTo>
                <a:cubicBezTo>
                  <a:pt x="16144" y="16440"/>
                  <a:pt x="13568" y="18999"/>
                  <a:pt x="10800" y="18999"/>
                </a:cubicBezTo>
                <a:lnTo>
                  <a:pt x="9138" y="18999"/>
                </a:lnTo>
                <a:cubicBezTo>
                  <a:pt x="6370" y="18999"/>
                  <a:pt x="3794" y="16440"/>
                  <a:pt x="3794" y="13672"/>
                </a:cubicBezTo>
                <a:close/>
              </a:path>
            </a:pathLst>
          </a:cu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 flipV="1" rot="13042800">
            <a:off x="1895760" y="1578960"/>
            <a:ext cx="1583280" cy="143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 flipV="1" rot="13042800">
            <a:off x="5611680" y="1452600"/>
            <a:ext cx="1582920" cy="143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2" y="364"/>
                </a:moveTo>
                <a:arcTo wR="10800" hR="10800" stAng="-6294469" swAng="6658830"/>
                <a:lnTo>
                  <a:pt x="10800" y="10800"/>
                </a:lnTo>
                <a:close/>
              </a:path>
              <a:path fill="none" w="21600" h="21600">
                <a:moveTo>
                  <a:pt x="8022" y="364"/>
                </a:moveTo>
                <a:arcTo wR="10800" hR="10800" stAng="-6294469" swAng="6658830"/>
              </a:path>
            </a:pathLst>
          </a:custGeom>
          <a:noFill/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"/>
          <p:cNvSpPr txBox="1"/>
          <p:nvPr/>
        </p:nvSpPr>
        <p:spPr>
          <a:xfrm>
            <a:off x="3276720" y="692280"/>
            <a:ext cx="310500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редующая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768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768" fill="hold"/>
                                        <p:tgtEl>
                                          <p:spTgt spid="19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1" dur="768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3" dur="768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998"/>
                            </p:stCondLst>
                            <p:childTnLst>
                              <p:par>
                                <p:cTn id="5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998"/>
                            </p:stCondLst>
                            <p:childTnLst>
                              <p:par>
                                <p:cTn id="5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998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4498"/>
                            </p:stCondLst>
                            <p:childTnLst>
                              <p:par>
                                <p:cTn id="5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500"/>
                                        <p:tgtEl>
                                          <p:spTgt spid="1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500"/>
                                        <p:tgtEl>
                                          <p:spTgt spid="1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500"/>
                                        <p:tgtEl>
                                          <p:spTgt spid="1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0716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-ра</a:t>
            </a:r>
            <a:r>
              <a:rPr b="1" lang="ru-RU" sz="4800" spc="-1" strike="noStrike" u="sng">
                <a:solidFill>
                  <a:srgbClr val="006633"/>
                </a:solidFill>
                <a:uFillTx/>
                <a:latin typeface="Garamond"/>
              </a:rPr>
              <a:t>ст</a:t>
            </a: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-  -  -ро</a:t>
            </a:r>
            <a:r>
              <a:rPr b="1" lang="ru-RU" sz="4800" spc="-1" strike="noStrike" u="sng">
                <a:solidFill>
                  <a:srgbClr val="006633"/>
                </a:solidFill>
                <a:uFillTx/>
                <a:latin typeface="Garamond"/>
              </a:rPr>
              <a:t>с</a:t>
            </a: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-  -  -ра</a:t>
            </a:r>
            <a:r>
              <a:rPr b="1" lang="ru-RU" sz="4800" spc="-1" strike="noStrike" u="sng">
                <a:solidFill>
                  <a:srgbClr val="006633"/>
                </a:solidFill>
                <a:uFillTx/>
                <a:latin typeface="Garamond"/>
              </a:rPr>
              <a:t>щ</a:t>
            </a:r>
            <a:r>
              <a:rPr b="1" lang="ru-RU" sz="4800" spc="-1" strike="noStrike">
                <a:solidFill>
                  <a:srgbClr val="006633"/>
                </a:solidFill>
                <a:latin typeface="Garamond"/>
              </a:rPr>
              <a:t>-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3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39640" y="981000"/>
            <a:ext cx="1873440" cy="1873440"/>
          </a:xfrm>
          <a:prstGeom prst="rect">
            <a:avLst/>
          </a:prstGeom>
          <a:ln w="0">
            <a:noFill/>
          </a:ln>
        </p:spPr>
      </p:pic>
      <p:pic>
        <p:nvPicPr>
          <p:cNvPr id="1934" name="" descr=""/>
          <p:cNvPicPr/>
          <p:nvPr/>
        </p:nvPicPr>
        <p:blipFill>
          <a:blip r:embed="rId2"/>
          <a:stretch/>
        </p:blipFill>
        <p:spPr>
          <a:xfrm>
            <a:off x="684360" y="4508640"/>
            <a:ext cx="1527120" cy="1477800"/>
          </a:xfrm>
          <a:prstGeom prst="rect">
            <a:avLst/>
          </a:prstGeom>
          <a:ln w="0">
            <a:noFill/>
          </a:ln>
        </p:spPr>
      </p:pic>
      <p:sp>
        <p:nvSpPr>
          <p:cNvPr id="1935" name=""/>
          <p:cNvSpPr/>
          <p:nvPr/>
        </p:nvSpPr>
        <p:spPr>
          <a:xfrm>
            <a:off x="3059280" y="1268280"/>
            <a:ext cx="4249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2771640" y="1484280"/>
            <a:ext cx="5904000" cy="45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Перед 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ст, щ   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отр</a:t>
            </a:r>
            <a:r>
              <a:rPr b="1" lang="ru-RU" sz="3200" spc="-1" strike="noStrike">
                <a:solidFill>
                  <a:srgbClr val="000099"/>
                </a:solidFill>
                <a:latin typeface="Arial Black"/>
              </a:rPr>
              <a:t>а</a:t>
            </a:r>
            <a:r>
              <a:rPr b="1" lang="ru-RU" sz="3200" spc="-1" strike="noStrike" u="sng">
                <a:solidFill>
                  <a:srgbClr val="000099"/>
                </a:solidFill>
                <a:uFillTx/>
                <a:latin typeface="Comic Sans MS"/>
              </a:rPr>
              <a:t>ст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Искл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.: 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р</a:t>
            </a: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ст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вщ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Р</a:t>
            </a: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ст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Р</a:t>
            </a: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ст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р</a:t>
            </a: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ст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от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р</a:t>
            </a:r>
            <a:r>
              <a:rPr b="0" lang="ru-RU" sz="2800" spc="-1" strike="noStrike">
                <a:solidFill>
                  <a:srgbClr val="cc0000"/>
                </a:solidFill>
                <a:latin typeface="Arial Black"/>
              </a:rPr>
              <a:t>а</a:t>
            </a: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с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Comic Sans MS"/>
              </a:rPr>
              <a:t>Не</a:t>
            </a: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 перед 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</a:rPr>
              <a:t>ст, щ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выро</a:t>
            </a:r>
            <a:r>
              <a:rPr b="1" lang="ru-RU" sz="3200" spc="-1" strike="noStrike" u="sng">
                <a:solidFill>
                  <a:srgbClr val="000099"/>
                </a:solidFill>
                <a:uFillTx/>
                <a:latin typeface="Comic Sans MS"/>
              </a:rPr>
              <a:t>с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2340000" y="1700280"/>
            <a:ext cx="503280" cy="360360"/>
          </a:xfrm>
          <a:prstGeom prst="rightArrow">
            <a:avLst>
              <a:gd name="adj1" fmla="val 50000"/>
              <a:gd name="adj2" fmla="val 34915"/>
            </a:avLst>
          </a:prstGeom>
          <a:solidFill>
            <a:srgbClr val="cc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2050920" y="5589720"/>
            <a:ext cx="649440" cy="360360"/>
          </a:xfrm>
          <a:prstGeom prst="rightArrow">
            <a:avLst>
              <a:gd name="adj1" fmla="val 50000"/>
              <a:gd name="adj2" fmla="val 45055"/>
            </a:avLst>
          </a:prstGeom>
          <a:solidFill>
            <a:srgbClr val="cc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"/>
          <p:cNvSpPr txBox="1"/>
          <p:nvPr/>
        </p:nvSpPr>
        <p:spPr>
          <a:xfrm rot="19369800">
            <a:off x="5321160" y="2707920"/>
            <a:ext cx="3822840" cy="10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редующая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40" name=""/>
          <p:cNvSpPr txBox="1"/>
          <p:nvPr/>
        </p:nvSpPr>
        <p:spPr>
          <a:xfrm>
            <a:off x="395280" y="1916280"/>
            <a:ext cx="2305080" cy="26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-раст-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1" name=""/>
          <p:cNvSpPr txBox="1"/>
          <p:nvPr/>
        </p:nvSpPr>
        <p:spPr>
          <a:xfrm rot="21187800">
            <a:off x="1763280" y="4508280"/>
            <a:ext cx="241308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рос-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42" name=""/>
          <p:cNvSpPr txBox="1"/>
          <p:nvPr/>
        </p:nvSpPr>
        <p:spPr>
          <a:xfrm>
            <a:off x="6767640" y="4365720"/>
            <a:ext cx="237636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-ращ-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43" name="">
            <a:hlinkClick r:id="rId3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7493"/>
                </a:moveTo>
                <a:lnTo>
                  <a:pt x="12768" y="7493"/>
                </a:lnTo>
                <a:lnTo>
                  <a:pt x="12768" y="12828"/>
                </a:lnTo>
                <a:cubicBezTo>
                  <a:pt x="12768" y="13751"/>
                  <a:pt x="13569" y="14482"/>
                  <a:pt x="14605" y="14482"/>
                </a:cubicBezTo>
                <a:lnTo>
                  <a:pt x="16267" y="14482"/>
                </a:lnTo>
                <a:cubicBezTo>
                  <a:pt x="17303" y="14482"/>
                  <a:pt x="18104" y="13751"/>
                  <a:pt x="18104" y="12828"/>
                </a:cubicBezTo>
                <a:lnTo>
                  <a:pt x="18104" y="7493"/>
                </a:lnTo>
                <a:lnTo>
                  <a:pt x="16267" y="7493"/>
                </a:lnTo>
                <a:lnTo>
                  <a:pt x="19775" y="3985"/>
                </a:lnTo>
                <a:lnTo>
                  <a:pt x="23448" y="7493"/>
                </a:lnTo>
                <a:lnTo>
                  <a:pt x="21611" y="7493"/>
                </a:lnTo>
                <a:lnTo>
                  <a:pt x="21611" y="12828"/>
                </a:lnTo>
                <a:cubicBezTo>
                  <a:pt x="21611" y="15596"/>
                  <a:pt x="19035" y="18155"/>
                  <a:pt x="16267" y="18155"/>
                </a:cubicBezTo>
                <a:lnTo>
                  <a:pt x="14605" y="18155"/>
                </a:lnTo>
                <a:cubicBezTo>
                  <a:pt x="11837" y="18155"/>
                  <a:pt x="9261" y="15596"/>
                  <a:pt x="9261" y="12828"/>
                </a:cubicBezTo>
                <a:close/>
              </a:path>
            </a:pathLst>
          </a:cu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80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760"/>
                            </p:stCondLst>
                            <p:childTnLst>
                              <p:par>
                                <p:cTn id="5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2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2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4760"/>
                            </p:stCondLst>
                            <p:childTnLst>
                              <p:par>
                                <p:cTn id="5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76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1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1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7,-127,5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19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6520"/>
                            </p:stCondLst>
                            <p:childTnLst>
                              <p:par>
                                <p:cTn id="5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9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9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9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9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9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7020"/>
                            </p:stCondLst>
                            <p:childTnLst>
                              <p:par>
                                <p:cTn id="5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1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9020"/>
                            </p:stCondLst>
                            <p:childTnLst>
                              <p:par>
                                <p:cTn id="6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520"/>
                            </p:stCondLst>
                            <p:childTnLst>
                              <p:par>
                                <p:cTn id="6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1520"/>
                            </p:stCondLst>
                            <p:childTnLst>
                              <p:par>
                                <p:cTn id="6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Правописание на конце слова Ь после шипящих во всех частях речи</a:t>
            </a:r>
            <a:endParaRPr b="0" lang="en-US" sz="2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45" name=""/>
          <p:cNvSpPr txBox="1"/>
          <p:nvPr/>
        </p:nvSpPr>
        <p:spPr>
          <a:xfrm>
            <a:off x="0" y="1125360"/>
            <a:ext cx="9144000" cy="640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Задай вопрос. Определи части реч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6" name=""/>
          <p:cNvGraphicFramePr/>
          <p:nvPr/>
        </p:nvGraphicFramePr>
        <p:xfrm>
          <a:off x="0" y="1989000"/>
          <a:ext cx="9144000" cy="4869000"/>
        </p:xfrm>
        <a:graphic>
          <a:graphicData uri="http://schemas.openxmlformats.org/drawingml/2006/table">
            <a:tbl>
              <a:tblPr/>
              <a:tblGrid>
                <a:gridCol w="1481040"/>
                <a:gridCol w="1751040"/>
                <a:gridCol w="1616040"/>
                <a:gridCol w="1395360"/>
                <a:gridCol w="2900520"/>
              </a:tblGrid>
              <a:tr h="948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существитель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. скло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глаго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краткое прилаг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нареч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. исключение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ш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щ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ч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ж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I, I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алаш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ощ (мн.ч.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(мн. ч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ё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. ф. гл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еч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 л. ед. ч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дёш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вел.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ъеш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9966"/>
                          </a:solidFill>
                          <a:latin typeface="Times New Roman"/>
                        </a:rPr>
                        <a:t>!!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Ься;            -Ьт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ря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ду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а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r>
                        <a:rPr b="0" lang="ru-RU" sz="2400" spc="-1" strike="noStrike">
                          <a:solidFill>
                            <a:srgbClr val="999966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ж              проч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уж        сплош</a:t>
                      </a: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втерпёж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предлог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союзы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, однакож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7" name=""/>
          <p:cNvSpPr/>
          <p:nvPr/>
        </p:nvSpPr>
        <p:spPr>
          <a:xfrm>
            <a:off x="2050920" y="3429000"/>
            <a:ext cx="576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 flipH="1">
            <a:off x="1979280" y="3429000"/>
            <a:ext cx="576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5292720" y="2997360"/>
            <a:ext cx="5745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5292720" y="3068640"/>
            <a:ext cx="647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>
            <a:off x="6443640" y="3429000"/>
            <a:ext cx="5745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>
            <a:off x="6372360" y="3500280"/>
            <a:ext cx="647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6227640" y="5157720"/>
            <a:ext cx="29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>
            <a:off x="3564000" y="6524640"/>
            <a:ext cx="360360" cy="33336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5" name="">
            <a:hlinkClick r:id="" action="ppaction://hlinkshowjump?jump=previousslide"/>
          </p:cNvPr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7493"/>
                </a:moveTo>
                <a:lnTo>
                  <a:pt x="12754" y="7493"/>
                </a:lnTo>
                <a:lnTo>
                  <a:pt x="12754" y="12828"/>
                </a:lnTo>
                <a:cubicBezTo>
                  <a:pt x="12754" y="13751"/>
                  <a:pt x="13555" y="14482"/>
                  <a:pt x="14591" y="14482"/>
                </a:cubicBezTo>
                <a:lnTo>
                  <a:pt x="16253" y="14482"/>
                </a:lnTo>
                <a:cubicBezTo>
                  <a:pt x="17289" y="14482"/>
                  <a:pt x="18090" y="13751"/>
                  <a:pt x="18090" y="12828"/>
                </a:cubicBezTo>
                <a:lnTo>
                  <a:pt x="18090" y="7493"/>
                </a:lnTo>
                <a:lnTo>
                  <a:pt x="16253" y="7493"/>
                </a:lnTo>
                <a:lnTo>
                  <a:pt x="19761" y="3985"/>
                </a:lnTo>
                <a:lnTo>
                  <a:pt x="23434" y="7493"/>
                </a:lnTo>
                <a:lnTo>
                  <a:pt x="21597" y="7493"/>
                </a:lnTo>
                <a:lnTo>
                  <a:pt x="21597" y="12828"/>
                </a:lnTo>
                <a:cubicBezTo>
                  <a:pt x="21597" y="15596"/>
                  <a:pt x="19021" y="18155"/>
                  <a:pt x="16253" y="18155"/>
                </a:cubicBezTo>
                <a:lnTo>
                  <a:pt x="14591" y="18155"/>
                </a:lnTo>
                <a:cubicBezTo>
                  <a:pt x="11823" y="18155"/>
                  <a:pt x="9247" y="15596"/>
                  <a:pt x="9247" y="12828"/>
                </a:cubicBezTo>
                <a:close/>
              </a:path>
            </a:pathLst>
          </a:custGeom>
          <a:noFill/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V="1">
            <a:off x="3924360" y="6093000"/>
            <a:ext cx="142920" cy="72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>
            <a:off x="4067280" y="6093000"/>
            <a:ext cx="144360" cy="72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4" dur="2000"/>
                                        <p:tgtEl>
                                          <p:spTgt spid="1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5" dur="1000" autoRev="1" fill="hold"/>
                                        <p:tgtEl>
                                          <p:spTgt spid="1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000"/>
                            </p:stCondLst>
                            <p:childTnLst>
                              <p:par>
                                <p:cTn id="6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0000"/>
                </a:solidFill>
                <a:latin typeface="Arial"/>
              </a:rPr>
              <a:t>Запомни:</a:t>
            </a:r>
            <a:endParaRPr b="1" lang="en-US" sz="5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59" name=""/>
          <p:cNvGraphicFramePr/>
          <p:nvPr/>
        </p:nvGraphicFramePr>
        <p:xfrm>
          <a:off x="457200" y="981000"/>
          <a:ext cx="7427880" cy="8924760"/>
        </p:xfrm>
        <a:graphic>
          <a:graphicData uri="http://schemas.openxmlformats.org/drawingml/2006/table">
            <a:tbl>
              <a:tblPr/>
              <a:tblGrid>
                <a:gridCol w="3714840"/>
                <a:gridCol w="3713040"/>
              </a:tblGrid>
              <a:tr h="89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тан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т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ух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русны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ёх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чны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дерны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кция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р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кобински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н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ски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ктура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вшееся положение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льд</a:t>
                      </a:r>
                      <a:r>
                        <a:rPr b="0" lang="ru-RU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ъ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герь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ьер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р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ёзны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лов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ы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г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ест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и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чи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ал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тал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мпин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ый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тел</a:t>
                      </a:r>
                      <a:r>
                        <a:rPr b="0" lang="en-US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ь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0" name="" descr=""/>
          <p:cNvPicPr/>
          <p:nvPr/>
        </p:nvPicPr>
        <p:blipFill>
          <a:blip r:embed="rId1"/>
          <a:stretch/>
        </p:blipFill>
        <p:spPr>
          <a:xfrm flipH="1" rot="10358400">
            <a:off x="6443280" y="2491920"/>
            <a:ext cx="2122560" cy="2433960"/>
          </a:xfrm>
          <a:prstGeom prst="rect">
            <a:avLst/>
          </a:prstGeom>
          <a:ln w="0">
            <a:noFill/>
          </a:ln>
        </p:spPr>
      </p:pic>
      <p:sp>
        <p:nvSpPr>
          <p:cNvPr id="1961" name=""/>
          <p:cNvSpPr txBox="1"/>
          <p:nvPr/>
        </p:nvSpPr>
        <p:spPr>
          <a:xfrm rot="20782800">
            <a:off x="2484360" y="836280"/>
            <a:ext cx="1584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ъ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2" name=""/>
          <p:cNvSpPr/>
          <p:nvPr/>
        </p:nvSpPr>
        <p:spPr>
          <a:xfrm flipV="1" rot="14101800">
            <a:off x="324720" y="5197320"/>
            <a:ext cx="1152000" cy="1151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>
            <a:off x="611280" y="537372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>
            <a:off x="900000" y="5373720"/>
            <a:ext cx="1800" cy="144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5" name="">
            <a:hlinkClick r:id="rId2" action="ppaction://hlinksldjump"/>
          </p:cNvPr>
          <p:cNvSpPr/>
          <p:nvPr/>
        </p:nvSpPr>
        <p:spPr>
          <a:xfrm>
            <a:off x="8101080" y="6021360"/>
            <a:ext cx="1042920" cy="83664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923" h="21600">
                <a:moveTo>
                  <a:pt x="0" y="0"/>
                </a:moveTo>
                <a:lnTo>
                  <a:pt x="26923" y="0"/>
                </a:lnTo>
                <a:lnTo>
                  <a:pt x="26923" y="21600"/>
                </a:lnTo>
                <a:lnTo>
                  <a:pt x="0" y="21600"/>
                </a:lnTo>
                <a:close/>
              </a:path>
              <a:path fill="lightenLess" w="26923" h="21600">
                <a:moveTo>
                  <a:pt x="0" y="0"/>
                </a:moveTo>
                <a:lnTo>
                  <a:pt x="26923" y="0"/>
                </a:lnTo>
                <a:lnTo>
                  <a:pt x="25523" y="1400"/>
                </a:lnTo>
                <a:lnTo>
                  <a:pt x="1400" y="1400"/>
                </a:lnTo>
                <a:close/>
              </a:path>
              <a:path fill="darken" w="26923" h="21600">
                <a:moveTo>
                  <a:pt x="26923" y="0"/>
                </a:moveTo>
                <a:lnTo>
                  <a:pt x="26923" y="21600"/>
                </a:lnTo>
                <a:lnTo>
                  <a:pt x="25523" y="20200"/>
                </a:lnTo>
                <a:lnTo>
                  <a:pt x="25523" y="1400"/>
                </a:lnTo>
                <a:close/>
              </a:path>
              <a:path fill="darkenLess" w="26923" h="21600">
                <a:moveTo>
                  <a:pt x="26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3" y="20200"/>
                </a:lnTo>
                <a:close/>
              </a:path>
              <a:path fill="lighten" w="26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3" h="21600">
                <a:moveTo>
                  <a:pt x="9963" y="10800"/>
                </a:moveTo>
                <a:lnTo>
                  <a:pt x="20468" y="3794"/>
                </a:lnTo>
                <a:lnTo>
                  <a:pt x="20468" y="17806"/>
                </a:lnTo>
                <a:close/>
              </a:path>
              <a:path fill="darken" w="26923" h="21600">
                <a:moveTo>
                  <a:pt x="6455" y="3794"/>
                </a:moveTo>
                <a:lnTo>
                  <a:pt x="8118" y="3794"/>
                </a:lnTo>
                <a:lnTo>
                  <a:pt x="8118" y="17806"/>
                </a:lnTo>
                <a:lnTo>
                  <a:pt x="6455" y="17806"/>
                </a:lnTo>
                <a:close/>
              </a:path>
            </a:pathLst>
          </a:custGeom>
          <a:noFill/>
          <a:ln w="9360">
            <a:solidFill>
              <a:srgbClr val="7fd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6" name="">
            <a:hlinkClick r:id="" action="ppaction://hlinkshowjump?jump=previousslide"/>
          </p:cNvPr>
          <p:cNvSpPr/>
          <p:nvPr/>
        </p:nvSpPr>
        <p:spPr>
          <a:xfrm>
            <a:off x="4140360" y="6381720"/>
            <a:ext cx="1439640" cy="476280"/>
          </a:xfrm>
          <a:custGeom>
            <a:avLst/>
            <a:gdLst>
              <a:gd name="textAreaLeft" fmla="*/ 30600 w 1439640"/>
              <a:gd name="textAreaRight" fmla="*/ 1409040 w 14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65257" h="21600">
                <a:moveTo>
                  <a:pt x="0" y="0"/>
                </a:moveTo>
                <a:lnTo>
                  <a:pt x="65257" y="0"/>
                </a:lnTo>
                <a:lnTo>
                  <a:pt x="65257" y="21600"/>
                </a:lnTo>
                <a:lnTo>
                  <a:pt x="0" y="21600"/>
                </a:lnTo>
                <a:close/>
              </a:path>
              <a:path fill="lightenLess" w="65257" h="21600">
                <a:moveTo>
                  <a:pt x="0" y="0"/>
                </a:moveTo>
                <a:lnTo>
                  <a:pt x="65257" y="0"/>
                </a:lnTo>
                <a:lnTo>
                  <a:pt x="63857" y="1400"/>
                </a:lnTo>
                <a:lnTo>
                  <a:pt x="1400" y="1400"/>
                </a:lnTo>
                <a:close/>
              </a:path>
              <a:path fill="darken" w="65257" h="21600">
                <a:moveTo>
                  <a:pt x="65257" y="0"/>
                </a:moveTo>
                <a:lnTo>
                  <a:pt x="65257" y="21600"/>
                </a:lnTo>
                <a:lnTo>
                  <a:pt x="63857" y="20200"/>
                </a:lnTo>
                <a:lnTo>
                  <a:pt x="63857" y="1400"/>
                </a:lnTo>
                <a:close/>
              </a:path>
              <a:path fill="darkenLess" w="65257" h="21600">
                <a:moveTo>
                  <a:pt x="652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857" y="20200"/>
                </a:lnTo>
                <a:close/>
              </a:path>
              <a:path fill="lighten" w="652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257" h="21600">
                <a:moveTo>
                  <a:pt x="25622" y="10800"/>
                </a:moveTo>
                <a:lnTo>
                  <a:pt x="39635" y="3794"/>
                </a:lnTo>
                <a:lnTo>
                  <a:pt x="39635" y="17806"/>
                </a:lnTo>
                <a:close/>
              </a:path>
            </a:pathLst>
          </a:custGeom>
          <a:noFill/>
          <a:ln w="9360">
            <a:solidFill>
              <a:srgbClr val="7fd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2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000"/>
                            </p:stCondLst>
                            <p:childTnLst>
                              <p:par>
                                <p:cTn id="6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20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6443640" y="765000"/>
            <a:ext cx="2016000" cy="3313440"/>
          </a:xfrm>
          <a:prstGeom prst="rect">
            <a:avLst/>
          </a:prstGeom>
          <a:solidFill>
            <a:srgbClr val="ffff99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4427640" y="907920"/>
            <a:ext cx="41068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скольз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ньг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ень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зьб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ат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зьм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семьдеся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юньский, 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Январ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6372360" y="907920"/>
            <a:ext cx="194472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!!! Не пут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Comic Sans MS"/>
              </a:rPr>
              <a:t>Если глагол в повелительном наклонении пиши </a:t>
            </a:r>
            <a:r>
              <a:rPr b="1" lang="en-US" sz="1800" spc="-1" strike="noStrike">
                <a:solidFill>
                  <a:srgbClr val="cc0000"/>
                </a:solidFill>
                <a:latin typeface="Comic Sans MS"/>
              </a:rPr>
              <a:t>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Приготовь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Познакомьтес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Не плачь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Взвесьте, 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             </a:t>
            </a:r>
            <a:r>
              <a:rPr b="1" lang="en-US" sz="1800" spc="-1" strike="noStrike">
                <a:solidFill>
                  <a:srgbClr val="669900"/>
                </a:solidFill>
                <a:latin typeface="Copperplate Gothic Bold"/>
              </a:rPr>
              <a:t>ляг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4356000" y="4076640"/>
            <a:ext cx="41068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нний              гвоздик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сня                зонтик                   помощник         ночка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ость                 Оранжевый     лучше                нянчи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езнь            проч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рабанщик     овощн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252360" y="4076640"/>
            <a:ext cx="410868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Ь не пише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ЧК,  ЧН, ЧТ, ЧШ, НЧ, НЩ, РЧ, Р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ЛЛ, НН, СТ, СН, С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ЗД, ЗН, НЖ, ТВ, РВ, НТ, Т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кл.: ман</a:t>
            </a:r>
            <a:r>
              <a:rPr b="1" lang="ru-RU" sz="1600" spc="-1" strike="noStrike">
                <a:solidFill>
                  <a:srgbClr val="cc0000"/>
                </a:solidFill>
                <a:latin typeface="Arial"/>
              </a:rPr>
              <a:t>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жур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>
            <a:off x="252360" y="907920"/>
            <a:ext cx="410868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Ь пишетс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обозначения мягкости согласн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сле Л перед М, К, Г, Б, 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 возвратных глаголов в неопределённой фор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прилагательных, образованных от названий месяцев (кроме январский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324000" y="4005360"/>
            <a:ext cx="82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4427640" y="765000"/>
            <a:ext cx="0" cy="546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Употребление Ь для обозначения мягкости соглас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>
            <a:hlinkClick r:id="rId1" action="ppaction://hlinksldjump"/>
          </p:cNvPr>
          <p:cNvSpPr/>
          <p:nvPr/>
        </p:nvSpPr>
        <p:spPr>
          <a:xfrm>
            <a:off x="802800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7493"/>
                </a:moveTo>
                <a:lnTo>
                  <a:pt x="13908" y="7493"/>
                </a:lnTo>
                <a:lnTo>
                  <a:pt x="13908" y="12828"/>
                </a:lnTo>
                <a:cubicBezTo>
                  <a:pt x="13908" y="13751"/>
                  <a:pt x="14709" y="14482"/>
                  <a:pt x="15744" y="14482"/>
                </a:cubicBezTo>
                <a:lnTo>
                  <a:pt x="17407" y="14482"/>
                </a:lnTo>
                <a:cubicBezTo>
                  <a:pt x="18443" y="14482"/>
                  <a:pt x="19243" y="13751"/>
                  <a:pt x="19243" y="12828"/>
                </a:cubicBezTo>
                <a:lnTo>
                  <a:pt x="19243" y="7493"/>
                </a:lnTo>
                <a:lnTo>
                  <a:pt x="17407" y="7493"/>
                </a:lnTo>
                <a:lnTo>
                  <a:pt x="20914" y="3985"/>
                </a:lnTo>
                <a:lnTo>
                  <a:pt x="24587" y="7493"/>
                </a:lnTo>
                <a:lnTo>
                  <a:pt x="22751" y="7493"/>
                </a:lnTo>
                <a:lnTo>
                  <a:pt x="22751" y="12828"/>
                </a:lnTo>
                <a:cubicBezTo>
                  <a:pt x="22751" y="15596"/>
                  <a:pt x="20175" y="18155"/>
                  <a:pt x="17407" y="18155"/>
                </a:cubicBezTo>
                <a:lnTo>
                  <a:pt x="15744" y="18155"/>
                </a:lnTo>
                <a:cubicBezTo>
                  <a:pt x="12977" y="18155"/>
                  <a:pt x="10400" y="15596"/>
                  <a:pt x="10400" y="12828"/>
                </a:cubicBezTo>
                <a:close/>
              </a:path>
            </a:pathLst>
          </a:custGeom>
          <a:noFill/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20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2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000"/>
                            </p:stCondLst>
                            <p:childTnLst>
                              <p:par>
                                <p:cTn id="65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30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30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3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3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30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8000"/>
                            </p:stCondLst>
                            <p:childTnLst>
                              <p:par>
                                <p:cTn id="6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30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0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30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6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30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30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1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1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19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6000"/>
                            </p:stCondLst>
                            <p:childTnLst>
                              <p:par>
                                <p:cTn id="6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1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1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80"/>
                                        <p:tgtEl>
                                          <p:spTgt spid="19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7600"/>
                            </p:stCondLst>
                            <p:childTnLst>
                              <p:par>
                                <p:cTn id="6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1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1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8080"/>
                            </p:stCondLst>
                            <p:childTnLst>
                              <p:par>
                                <p:cTn id="7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19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8640"/>
                            </p:stCondLst>
                            <p:childTnLst>
                              <p:par>
                                <p:cTn id="7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9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9040"/>
                            </p:stCondLst>
                            <p:childTnLst>
                              <p:par>
                                <p:cTn id="7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1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1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80"/>
                                        <p:tgtEl>
                                          <p:spTgt spid="19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9520"/>
                            </p:stCondLst>
                            <p:childTnLst>
                              <p:par>
                                <p:cTn id="7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19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19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0,-4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3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80"/>
                                        <p:tgtEl>
                                          <p:spTgt spid="19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cc"/>
                </a:solidFill>
                <a:latin typeface="Verdana"/>
              </a:rPr>
              <a:t>Слитное и раздельное написание омонимичных слов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978" name=""/>
          <p:cNvGraphicFramePr/>
          <p:nvPr/>
        </p:nvGraphicFramePr>
        <p:xfrm>
          <a:off x="0" y="1484280"/>
          <a:ext cx="9144000" cy="4527720"/>
        </p:xfrm>
        <a:graphic>
          <a:graphicData uri="http://schemas.openxmlformats.org/drawingml/2006/table">
            <a:tbl>
              <a:tblPr/>
              <a:tblGrid>
                <a:gridCol w="3048120"/>
                <a:gridCol w="3179520"/>
                <a:gridCol w="2916360"/>
              </a:tblGrid>
              <a:tr h="64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амостоятельные сл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лужебные слов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Сущ., числ., мест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аречи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Verdana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Verdana"/>
                        </a:rPr>
                        <a:t>Предлог + сущ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</a:t>
                      </a: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 лесу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Verdana"/>
                        </a:rPr>
                        <a:t>Предлог + мест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Перед тобо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ff33cc"/>
                          </a:solidFill>
                          <a:latin typeface="Verdana"/>
                        </a:rPr>
                        <a:t>предлог + чис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</a:t>
                      </a: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 пят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(лежит) </a:t>
                      </a: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округ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а днях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(приедет)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верху 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аходиться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По двое</a:t>
                      </a: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(шли)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округ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дома;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 течение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дня; </a:t>
                      </a: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следств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ождя; </a:t>
                      </a: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виду</a:t>
                      </a: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пас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9" name="">
            <a:hlinkClick r:id="rId1" action="ppaction://hlinksldjump"/>
          </p:cNvPr>
          <p:cNvSpPr/>
          <p:nvPr/>
        </p:nvSpPr>
        <p:spPr>
          <a:xfrm>
            <a:off x="7812000" y="6237360"/>
            <a:ext cx="1332000" cy="620640"/>
          </a:xfrm>
          <a:custGeom>
            <a:avLst/>
            <a:gdLst>
              <a:gd name="textAreaLeft" fmla="*/ 39960 w 1332000"/>
              <a:gd name="textAreaRight" fmla="*/ 1292040 w 1332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6343" h="21600">
                <a:moveTo>
                  <a:pt x="0" y="0"/>
                </a:moveTo>
                <a:lnTo>
                  <a:pt x="46343" y="0"/>
                </a:lnTo>
                <a:lnTo>
                  <a:pt x="46343" y="21600"/>
                </a:lnTo>
                <a:lnTo>
                  <a:pt x="0" y="21600"/>
                </a:lnTo>
                <a:close/>
              </a:path>
              <a:path fill="lightenLess" w="46343" h="21600">
                <a:moveTo>
                  <a:pt x="0" y="0"/>
                </a:moveTo>
                <a:lnTo>
                  <a:pt x="46343" y="0"/>
                </a:lnTo>
                <a:lnTo>
                  <a:pt x="44943" y="1400"/>
                </a:lnTo>
                <a:lnTo>
                  <a:pt x="1400" y="1400"/>
                </a:lnTo>
                <a:close/>
              </a:path>
              <a:path fill="darken" w="46343" h="21600">
                <a:moveTo>
                  <a:pt x="46343" y="0"/>
                </a:moveTo>
                <a:lnTo>
                  <a:pt x="46343" y="21600"/>
                </a:lnTo>
                <a:lnTo>
                  <a:pt x="44943" y="20200"/>
                </a:lnTo>
                <a:lnTo>
                  <a:pt x="44943" y="1400"/>
                </a:lnTo>
                <a:close/>
              </a:path>
              <a:path fill="darkenLess" w="46343" h="21600">
                <a:moveTo>
                  <a:pt x="46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43" y="20200"/>
                </a:lnTo>
                <a:close/>
              </a:path>
              <a:path fill="lighten" w="46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43" h="21600">
                <a:moveTo>
                  <a:pt x="16165" y="7493"/>
                </a:moveTo>
                <a:lnTo>
                  <a:pt x="19673" y="7493"/>
                </a:lnTo>
                <a:lnTo>
                  <a:pt x="19673" y="12828"/>
                </a:lnTo>
                <a:cubicBezTo>
                  <a:pt x="19673" y="13751"/>
                  <a:pt x="20473" y="14482"/>
                  <a:pt x="21509" y="14482"/>
                </a:cubicBezTo>
                <a:lnTo>
                  <a:pt x="23171" y="14482"/>
                </a:lnTo>
                <a:cubicBezTo>
                  <a:pt x="24207" y="14482"/>
                  <a:pt x="25008" y="13751"/>
                  <a:pt x="25008" y="12828"/>
                </a:cubicBezTo>
                <a:lnTo>
                  <a:pt x="25008" y="7493"/>
                </a:lnTo>
                <a:lnTo>
                  <a:pt x="23171" y="7493"/>
                </a:lnTo>
                <a:lnTo>
                  <a:pt x="26679" y="3985"/>
                </a:lnTo>
                <a:lnTo>
                  <a:pt x="30352" y="7493"/>
                </a:lnTo>
                <a:lnTo>
                  <a:pt x="28516" y="7493"/>
                </a:lnTo>
                <a:lnTo>
                  <a:pt x="28516" y="12828"/>
                </a:lnTo>
                <a:cubicBezTo>
                  <a:pt x="28516" y="15596"/>
                  <a:pt x="25939" y="18155"/>
                  <a:pt x="23171" y="18155"/>
                </a:cubicBezTo>
                <a:lnTo>
                  <a:pt x="21509" y="18155"/>
                </a:lnTo>
                <a:cubicBezTo>
                  <a:pt x="18741" y="18155"/>
                  <a:pt x="16165" y="15596"/>
                  <a:pt x="16165" y="12828"/>
                </a:cubicBezTo>
                <a:close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2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2000"/>
                            </p:stCondLst>
                            <p:childTnLst>
                              <p:par>
                                <p:cTn id="73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7" dur="20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Неизменяема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53134a"/>
                </a:solidFill>
                <a:uFillTx/>
                <a:latin typeface="Lucida Handwriting"/>
              </a:rPr>
              <a:t>Пиши так, как всегда пишет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0000"/>
                </a:solidFill>
                <a:uFillTx/>
                <a:latin typeface="Lucida Handwriting"/>
              </a:rPr>
              <a:t>Запомни!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о-       от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до-      об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по-      под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про-    над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на-      пред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за-       в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пере-    с(о)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Lucida Handwriting"/>
              </a:rPr>
              <a:t>вне-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3134a"/>
                </a:solidFill>
                <a:latin typeface="Verdana"/>
              </a:rPr>
              <a:t>Правописание приставок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82" name=""/>
          <p:cNvSpPr/>
          <p:nvPr/>
        </p:nvSpPr>
        <p:spPr>
          <a:xfrm>
            <a:off x="802800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0400" y="7493"/>
                </a:moveTo>
                <a:lnTo>
                  <a:pt x="13908" y="7493"/>
                </a:lnTo>
                <a:lnTo>
                  <a:pt x="13908" y="12828"/>
                </a:lnTo>
                <a:cubicBezTo>
                  <a:pt x="13908" y="13751"/>
                  <a:pt x="14709" y="14482"/>
                  <a:pt x="15744" y="14482"/>
                </a:cubicBezTo>
                <a:lnTo>
                  <a:pt x="17407" y="14482"/>
                </a:lnTo>
                <a:cubicBezTo>
                  <a:pt x="18443" y="14482"/>
                  <a:pt x="19243" y="13751"/>
                  <a:pt x="19243" y="12828"/>
                </a:cubicBezTo>
                <a:lnTo>
                  <a:pt x="19243" y="7493"/>
                </a:lnTo>
                <a:lnTo>
                  <a:pt x="17407" y="7493"/>
                </a:lnTo>
                <a:lnTo>
                  <a:pt x="20914" y="3985"/>
                </a:lnTo>
                <a:lnTo>
                  <a:pt x="24587" y="7493"/>
                </a:lnTo>
                <a:lnTo>
                  <a:pt x="22751" y="7493"/>
                </a:lnTo>
                <a:lnTo>
                  <a:pt x="22751" y="12828"/>
                </a:lnTo>
                <a:cubicBezTo>
                  <a:pt x="22751" y="15596"/>
                  <a:pt x="20175" y="18155"/>
                  <a:pt x="17407" y="18155"/>
                </a:cubicBezTo>
                <a:lnTo>
                  <a:pt x="15744" y="18155"/>
                </a:lnTo>
                <a:cubicBezTo>
                  <a:pt x="12977" y="18155"/>
                  <a:pt x="10400" y="15596"/>
                  <a:pt x="10400" y="12828"/>
                </a:cubicBezTo>
                <a:close/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"/>
          <p:cNvSpPr txBox="1"/>
          <p:nvPr/>
        </p:nvSpPr>
        <p:spPr>
          <a:xfrm>
            <a:off x="3203640" y="3141720"/>
            <a:ext cx="108108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4" name=""/>
          <p:cNvSpPr txBox="1"/>
          <p:nvPr/>
        </p:nvSpPr>
        <p:spPr>
          <a:xfrm>
            <a:off x="3348000" y="4149720"/>
            <a:ext cx="719280" cy="15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56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-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5" name=""/>
          <p:cNvSpPr/>
          <p:nvPr/>
        </p:nvSpPr>
        <p:spPr>
          <a:xfrm>
            <a:off x="3059280" y="4292640"/>
            <a:ext cx="1225440" cy="1224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86" name=""/>
          <p:cNvGraphicFramePr/>
          <p:nvPr/>
        </p:nvGraphicFramePr>
        <p:xfrm>
          <a:off x="4643280" y="1628640"/>
          <a:ext cx="4038840" cy="4199040"/>
        </p:xfrm>
        <a:graphic>
          <a:graphicData uri="http://schemas.openxmlformats.org/drawingml/2006/table">
            <a:tbl>
              <a:tblPr/>
              <a:tblGrid>
                <a:gridCol w="2592720"/>
                <a:gridCol w="1446120"/>
              </a:tblGrid>
              <a:tr h="585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а  -з,  -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Бе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Ра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Во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В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И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Чре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53134a"/>
                          </a:solidFill>
                          <a:latin typeface="Verdana"/>
                        </a:rPr>
                        <a:t>Нис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Бе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а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о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В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И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Чре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из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7" name=""/>
          <p:cNvSpPr/>
          <p:nvPr/>
        </p:nvSpPr>
        <p:spPr>
          <a:xfrm flipH="1">
            <a:off x="3058920" y="4292640"/>
            <a:ext cx="1081080" cy="136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"/>
          <p:cNvSpPr/>
          <p:nvPr/>
        </p:nvSpPr>
        <p:spPr>
          <a:xfrm>
            <a:off x="3203640" y="4076640"/>
            <a:ext cx="79200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9" name=""/>
          <p:cNvSpPr/>
          <p:nvPr/>
        </p:nvSpPr>
        <p:spPr>
          <a:xfrm>
            <a:off x="4067280" y="4076640"/>
            <a:ext cx="0" cy="21600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"/>
          <p:cNvSpPr/>
          <p:nvPr/>
        </p:nvSpPr>
        <p:spPr>
          <a:xfrm>
            <a:off x="3203640" y="4076640"/>
            <a:ext cx="79200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"/>
          <p:cNvSpPr/>
          <p:nvPr/>
        </p:nvSpPr>
        <p:spPr>
          <a:xfrm>
            <a:off x="4067280" y="4076640"/>
            <a:ext cx="0" cy="21600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3276720" y="4076640"/>
            <a:ext cx="792000" cy="0"/>
          </a:xfrm>
          <a:prstGeom prst="line">
            <a:avLst/>
          </a:prstGeom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"/>
          <p:cNvSpPr txBox="1"/>
          <p:nvPr/>
        </p:nvSpPr>
        <p:spPr>
          <a:xfrm rot="1338000">
            <a:off x="5940000" y="2204640"/>
            <a:ext cx="12416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тёп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94" name=""/>
          <p:cNvSpPr txBox="1"/>
          <p:nvPr/>
        </p:nvSpPr>
        <p:spPr>
          <a:xfrm>
            <a:off x="5867280" y="2852640"/>
            <a:ext cx="12938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Фец,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5867280" y="3789360"/>
            <a:ext cx="143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хочеш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6" name=""/>
          <p:cNvSpPr txBox="1"/>
          <p:nvPr/>
        </p:nvSpPr>
        <p:spPr>
          <a:xfrm>
            <a:off x="6084720" y="4581360"/>
            <a:ext cx="93528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щец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763640" y="6165720"/>
            <a:ext cx="295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99ff"/>
                </a:solidFill>
                <a:uFillTx/>
                <a:latin typeface="Tahoma"/>
                <a:hlinkClick r:id="rId3" action="ppaction://hlinksldjump"/>
              </a:rPr>
              <a:t>Обрати внимание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"/>
          <p:cNvSpPr txBox="1"/>
          <p:nvPr/>
        </p:nvSpPr>
        <p:spPr>
          <a:xfrm>
            <a:off x="4932360" y="6093000"/>
            <a:ext cx="91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е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9" name=""/>
          <p:cNvSpPr txBox="1"/>
          <p:nvPr/>
        </p:nvSpPr>
        <p:spPr>
          <a:xfrm>
            <a:off x="6372360" y="6093000"/>
            <a:ext cx="914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hecker dir="vert"/>
  </p:transition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0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400"/>
                            </p:stCondLst>
                            <p:childTnLst>
                              <p:par>
                                <p:cTn id="7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1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1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500"/>
                            </p:stCondLst>
                            <p:childTnLst>
                              <p:par>
                                <p:cTn id="7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7800"/>
                            </p:stCondLst>
                            <p:childTnLst>
                              <p:par>
                                <p:cTn id="7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9500"/>
                            </p:stCondLst>
                            <p:childTnLst>
                              <p:par>
                                <p:cTn id="7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1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1200"/>
                            </p:stCondLst>
                            <p:childTnLst>
                              <p:par>
                                <p:cTn id="77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3000"/>
                            </p:stCondLst>
                            <p:childTnLst>
                              <p:par>
                                <p:cTn id="7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4900"/>
                            </p:stCondLst>
                            <p:childTnLst>
                              <p:par>
                                <p:cTn id="7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1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9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6900"/>
                            </p:stCondLst>
                            <p:childTnLst>
                              <p:par>
                                <p:cTn id="7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9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8900"/>
                            </p:stCondLst>
                            <p:childTnLst>
                              <p:par>
                                <p:cTn id="79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9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19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9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0600"/>
                            </p:stCondLst>
                            <p:childTnLst>
                              <p:par>
                                <p:cTn id="8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9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9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2500"/>
                            </p:stCondLst>
                            <p:childTnLst>
                              <p:par>
                                <p:cTn id="8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9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9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9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3800"/>
                            </p:stCondLst>
                            <p:childTnLst>
                              <p:par>
                                <p:cTn id="8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5" dur="20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5800"/>
                            </p:stCondLst>
                            <p:childTnLst>
                              <p:par>
                                <p:cTn id="8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6800"/>
                            </p:stCondLst>
                            <p:childTnLst>
                              <p:par>
                                <p:cTn id="835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2299"/>
                            </p:stCondLst>
                            <p:childTnLst>
                              <p:par>
                                <p:cTn id="8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2800"/>
                            </p:stCondLst>
                            <p:childTnLst>
                              <p:par>
                                <p:cTn id="8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33300"/>
                            </p:stCondLst>
                            <p:childTnLst>
                              <p:par>
                                <p:cTn id="8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Verdana"/>
              </a:rPr>
              <a:t>Обрати внимание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01" name=""/>
          <p:cNvGraphicFramePr/>
          <p:nvPr/>
        </p:nvGraphicFramePr>
        <p:xfrm>
          <a:off x="457200" y="1600200"/>
          <a:ext cx="8229600" cy="4456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зо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зину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зев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исчеза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чересчу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счёт (ср. учёт, отчёт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ссчитать (ср. сосчитать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бессчётны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ссорить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происшеств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исподтиш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близсидящи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возз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восст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иззябну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иссохну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ззадор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6699"/>
                          </a:solidFill>
                          <a:latin typeface="Copperplate Gothic Bold"/>
                        </a:rPr>
                        <a:t>рассерди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2" name=""/>
          <p:cNvSpPr/>
          <p:nvPr/>
        </p:nvSpPr>
        <p:spPr>
          <a:xfrm flipV="1" rot="12255000">
            <a:off x="427320" y="1642680"/>
            <a:ext cx="129456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94" y="249"/>
                </a:moveTo>
                <a:arcTo wR="10800" hR="10800" stAng="-6139728" swAng="6139728"/>
                <a:lnTo>
                  <a:pt x="10800" y="10800"/>
                </a:lnTo>
                <a:close/>
              </a:path>
              <a:path fill="none" w="21600" h="21600">
                <a:moveTo>
                  <a:pt x="8494" y="249"/>
                </a:moveTo>
                <a:arcTo wR="10800" hR="10800" stAng="-6139728" swAng="6139728"/>
              </a:path>
            </a:pathLst>
          </a:cu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 flipV="1" rot="12255000">
            <a:off x="427320" y="2506320"/>
            <a:ext cx="129456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94" y="249"/>
                </a:moveTo>
                <a:arcTo wR="10800" hR="10800" stAng="-6139728" swAng="6139728"/>
                <a:lnTo>
                  <a:pt x="10800" y="10800"/>
                </a:lnTo>
                <a:close/>
              </a:path>
              <a:path fill="none" w="21600" h="21600">
                <a:moveTo>
                  <a:pt x="8494" y="249"/>
                </a:moveTo>
                <a:arcTo wR="10800" hR="10800" stAng="-6139728" swAng="6139728"/>
              </a:path>
            </a:pathLst>
          </a:cu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 flipV="1" rot="12255000">
            <a:off x="356040" y="3009600"/>
            <a:ext cx="129456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94" y="249"/>
                </a:moveTo>
                <a:arcTo wR="10800" hR="10800" stAng="-6139728" swAng="6139728"/>
                <a:lnTo>
                  <a:pt x="10800" y="10800"/>
                </a:lnTo>
                <a:close/>
              </a:path>
              <a:path fill="none" w="21600" h="21600">
                <a:moveTo>
                  <a:pt x="8494" y="249"/>
                </a:moveTo>
                <a:arcTo wR="10800" hR="10800" stAng="-6139728" swAng="6139728"/>
              </a:path>
            </a:pathLst>
          </a:cu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 flipV="1" rot="13216200">
            <a:off x="5081040" y="2709360"/>
            <a:ext cx="1555560" cy="86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48" y="1594"/>
                </a:moveTo>
                <a:arcTo wR="10800" hR="10800" stAng="-3508217" swAng="3508217"/>
                <a:lnTo>
                  <a:pt x="10800" y="10800"/>
                </a:lnTo>
                <a:close/>
              </a:path>
              <a:path fill="none" w="21600" h="21600">
                <a:moveTo>
                  <a:pt x="16448" y="1594"/>
                </a:moveTo>
                <a:arcTo wR="10800" hR="10800" stAng="-3508217" swAng="3508217"/>
              </a:path>
            </a:pathLst>
          </a:cu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 flipV="1" rot="13216200">
            <a:off x="4586760" y="2674440"/>
            <a:ext cx="1556640" cy="868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34" y="1911"/>
                </a:moveTo>
                <a:arcTo wR="10800" hR="10800" stAng="-3323459" swAng="3180872"/>
                <a:lnTo>
                  <a:pt x="10800" y="10800"/>
                </a:lnTo>
                <a:close/>
              </a:path>
              <a:path fill="none" w="21600" h="21600">
                <a:moveTo>
                  <a:pt x="16934" y="1911"/>
                </a:moveTo>
                <a:arcTo wR="10800" hR="10800" stAng="-3323459" swAng="3180872"/>
              </a:path>
            </a:pathLst>
          </a:cu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 flipV="1" rot="12255000">
            <a:off x="427320" y="2145960"/>
            <a:ext cx="1294560" cy="86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494" y="249"/>
                </a:moveTo>
                <a:arcTo wR="10800" hR="10800" stAng="-6139728" swAng="6139728"/>
                <a:lnTo>
                  <a:pt x="10800" y="10800"/>
                </a:lnTo>
                <a:close/>
              </a:path>
              <a:path fill="none" w="21600" h="21600">
                <a:moveTo>
                  <a:pt x="8494" y="249"/>
                </a:moveTo>
                <a:arcTo wR="10800" hR="10800" stAng="-6139728" swAng="6139728"/>
              </a:path>
            </a:pathLst>
          </a:custGeom>
          <a:noFill/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611280" y="3429000"/>
            <a:ext cx="72072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1332000" y="342900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539640" y="3860640"/>
            <a:ext cx="505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042920" y="386064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539640" y="4292640"/>
            <a:ext cx="505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1042920" y="429264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539640" y="4724280"/>
            <a:ext cx="505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1042920" y="472428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539640" y="5229360"/>
            <a:ext cx="505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1042920" y="522936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643280" y="1700280"/>
            <a:ext cx="505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5148360" y="177336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5148360" y="170028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5219640" y="1700280"/>
            <a:ext cx="289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5508720" y="170028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4716360" y="2133720"/>
            <a:ext cx="289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003640" y="213372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076720" y="2133720"/>
            <a:ext cx="43200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5508720" y="213372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4643280" y="2997360"/>
            <a:ext cx="43200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076720" y="2997360"/>
            <a:ext cx="0" cy="14256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4643280" y="3429000"/>
            <a:ext cx="43200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5076720" y="342900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4643280" y="3860640"/>
            <a:ext cx="289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4933800" y="386064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4643280" y="4292640"/>
            <a:ext cx="28908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4932360" y="4292640"/>
            <a:ext cx="0" cy="14292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4643280" y="4797360"/>
            <a:ext cx="43344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5076720" y="4795920"/>
            <a:ext cx="0" cy="14580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4643280" y="5229360"/>
            <a:ext cx="433440" cy="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5076720" y="5229360"/>
            <a:ext cx="0" cy="145800"/>
          </a:xfrm>
          <a:prstGeom prst="line">
            <a:avLst/>
          </a:prstGeom>
          <a:ln w="93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9" name="">
            <a:hlinkClick r:id="" action="ppaction://hlinkshowjump?jump=previousslide"/>
          </p:cNvPr>
          <p:cNvSpPr/>
          <p:nvPr/>
        </p:nvSpPr>
        <p:spPr>
          <a:xfrm>
            <a:off x="8101080" y="6021360"/>
            <a:ext cx="1042920" cy="83664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923" h="21600">
                <a:moveTo>
                  <a:pt x="0" y="0"/>
                </a:moveTo>
                <a:lnTo>
                  <a:pt x="26923" y="0"/>
                </a:lnTo>
                <a:lnTo>
                  <a:pt x="26923" y="21600"/>
                </a:lnTo>
                <a:lnTo>
                  <a:pt x="0" y="21600"/>
                </a:lnTo>
                <a:close/>
              </a:path>
              <a:path fill="lightenLess" w="26923" h="21600">
                <a:moveTo>
                  <a:pt x="0" y="0"/>
                </a:moveTo>
                <a:lnTo>
                  <a:pt x="26923" y="0"/>
                </a:lnTo>
                <a:lnTo>
                  <a:pt x="25523" y="1400"/>
                </a:lnTo>
                <a:lnTo>
                  <a:pt x="1400" y="1400"/>
                </a:lnTo>
                <a:close/>
              </a:path>
              <a:path fill="darken" w="26923" h="21600">
                <a:moveTo>
                  <a:pt x="26923" y="0"/>
                </a:moveTo>
                <a:lnTo>
                  <a:pt x="26923" y="21600"/>
                </a:lnTo>
                <a:lnTo>
                  <a:pt x="25523" y="20200"/>
                </a:lnTo>
                <a:lnTo>
                  <a:pt x="25523" y="1400"/>
                </a:lnTo>
                <a:close/>
              </a:path>
              <a:path fill="darkenLess" w="26923" h="21600">
                <a:moveTo>
                  <a:pt x="26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3" y="20200"/>
                </a:lnTo>
                <a:close/>
              </a:path>
              <a:path fill="lighten" w="26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3" h="21600">
                <a:moveTo>
                  <a:pt x="6455" y="7493"/>
                </a:moveTo>
                <a:lnTo>
                  <a:pt x="9963" y="7493"/>
                </a:lnTo>
                <a:lnTo>
                  <a:pt x="9963" y="12828"/>
                </a:lnTo>
                <a:cubicBezTo>
                  <a:pt x="9963" y="13751"/>
                  <a:pt x="10764" y="14482"/>
                  <a:pt x="11799" y="14482"/>
                </a:cubicBezTo>
                <a:lnTo>
                  <a:pt x="13462" y="14482"/>
                </a:lnTo>
                <a:cubicBezTo>
                  <a:pt x="14497" y="14482"/>
                  <a:pt x="15298" y="13751"/>
                  <a:pt x="15298" y="12828"/>
                </a:cubicBezTo>
                <a:lnTo>
                  <a:pt x="15298" y="7493"/>
                </a:lnTo>
                <a:lnTo>
                  <a:pt x="13462" y="7493"/>
                </a:lnTo>
                <a:lnTo>
                  <a:pt x="16969" y="3985"/>
                </a:lnTo>
                <a:lnTo>
                  <a:pt x="20642" y="7493"/>
                </a:lnTo>
                <a:lnTo>
                  <a:pt x="18806" y="7493"/>
                </a:lnTo>
                <a:lnTo>
                  <a:pt x="18806" y="12828"/>
                </a:lnTo>
                <a:cubicBezTo>
                  <a:pt x="18806" y="15596"/>
                  <a:pt x="16229" y="18155"/>
                  <a:pt x="13462" y="18155"/>
                </a:cubicBezTo>
                <a:lnTo>
                  <a:pt x="11799" y="18155"/>
                </a:lnTo>
                <a:cubicBezTo>
                  <a:pt x="9031" y="18155"/>
                  <a:pt x="6455" y="15596"/>
                  <a:pt x="6455" y="12828"/>
                </a:cubicBezTo>
                <a:close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9" dur="10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"/>
          <p:cNvSpPr/>
          <p:nvPr/>
        </p:nvSpPr>
        <p:spPr>
          <a:xfrm>
            <a:off x="8172360" y="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9043" y="10800"/>
                </a:moveTo>
                <a:lnTo>
                  <a:pt x="19548" y="3794"/>
                </a:lnTo>
                <a:lnTo>
                  <a:pt x="19548" y="17806"/>
                </a:lnTo>
                <a:close/>
              </a:path>
              <a:path fill="darken" w="25084" h="21600">
                <a:moveTo>
                  <a:pt x="5535" y="3794"/>
                </a:moveTo>
                <a:lnTo>
                  <a:pt x="7198" y="3794"/>
                </a:lnTo>
                <a:lnTo>
                  <a:pt x="7198" y="17806"/>
                </a:lnTo>
                <a:lnTo>
                  <a:pt x="5535" y="17806"/>
                </a:lnTo>
                <a:close/>
              </a:path>
            </a:pathLst>
          </a:cu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33520" indent="-53352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В начал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440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Tahoma"/>
              </a:rPr>
              <a:t>при-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000" spc="-1" strike="noStrike">
                <a:solidFill>
                  <a:srgbClr val="99cc00"/>
                </a:solidFill>
                <a:latin typeface="Tahoma"/>
              </a:rPr>
              <a:t>пре-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Правописание зависит от знач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3" name=""/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468360" y="476280"/>
            <a:ext cx="122544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1692360" y="476280"/>
            <a:ext cx="0" cy="216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3059280" y="476280"/>
            <a:ext cx="122544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4284720" y="476280"/>
            <a:ext cx="0" cy="2160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8" name=""/>
          <p:cNvGraphicFramePr/>
          <p:nvPr/>
        </p:nvGraphicFramePr>
        <p:xfrm>
          <a:off x="250920" y="1557360"/>
          <a:ext cx="8497800" cy="4475160"/>
        </p:xfrm>
        <a:graphic>
          <a:graphicData uri="http://schemas.openxmlformats.org/drawingml/2006/table">
            <a:tbl>
              <a:tblPr/>
              <a:tblGrid>
                <a:gridCol w="4249800"/>
                <a:gridCol w="4248000"/>
              </a:tblGrid>
              <a:tr h="456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ближение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ете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присоединение</a:t>
                      </a:r>
                      <a:r>
                        <a:rPr b="0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= около, близко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шко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неполнота действия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е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доведение действия до конца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учить,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ч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движение сверху вни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авить,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            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= пере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а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ва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120000"/>
                        <a:buFont typeface="Tahom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= оч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кус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велич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cc0000"/>
                          </a:solidFill>
                          <a:latin typeface="Tahoma"/>
                        </a:rPr>
                        <a:t>пр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зноси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120000"/>
                        <a:buFont typeface="Tahoma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9" name=""/>
          <p:cNvSpPr/>
          <p:nvPr/>
        </p:nvSpPr>
        <p:spPr>
          <a:xfrm>
            <a:off x="205200" y="6093000"/>
            <a:ext cx="7383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1" action="ppaction://hlinksldjump"/>
              </a:rPr>
              <a:t>Неясное значение – смотри словарь, запомина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0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500"/>
                            </p:stCondLst>
                            <p:childTnLst>
                              <p:par>
                                <p:cTn id="8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5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/>
          </p:nvPr>
        </p:nvSpPr>
        <p:spPr>
          <a:xfrm>
            <a:off x="4643280" y="1125360"/>
            <a:ext cx="377208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образов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одоле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следова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поднест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рекатьс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имуществ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екрати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пятств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врат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небреч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мень преткнов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мье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зидиум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тенз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естиж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1" name="PlaceHolder 2"/>
          <p:cNvSpPr>
            <a:spLocks noGrp="1"/>
          </p:cNvSpPr>
          <p:nvPr>
            <p:ph type="title"/>
          </p:nvPr>
        </p:nvSpPr>
        <p:spPr>
          <a:xfrm>
            <a:off x="755280" y="259920"/>
            <a:ext cx="6870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поминай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/>
          </p:nvPr>
        </p:nvSpPr>
        <p:spPr>
          <a:xfrm>
            <a:off x="395280" y="1196640"/>
            <a:ext cx="4060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способ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общ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готов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ыка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сутствова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годитьс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леч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чи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ключени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глас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ни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леж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орите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илег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надлежнос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ив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3" name="">
            <a:hlinkClick r:id="rId1" action="ppaction://hlinksldjump"/>
          </p:cNvPr>
          <p:cNvSpPr/>
          <p:nvPr/>
        </p:nvSpPr>
        <p:spPr>
          <a:xfrm>
            <a:off x="8172360" y="616572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8149" y="7493"/>
                </a:moveTo>
                <a:lnTo>
                  <a:pt x="11657" y="7493"/>
                </a:lnTo>
                <a:lnTo>
                  <a:pt x="11657" y="12828"/>
                </a:lnTo>
                <a:cubicBezTo>
                  <a:pt x="11657" y="13751"/>
                  <a:pt x="12458" y="14482"/>
                  <a:pt x="13494" y="14482"/>
                </a:cubicBezTo>
                <a:lnTo>
                  <a:pt x="15156" y="14482"/>
                </a:lnTo>
                <a:cubicBezTo>
                  <a:pt x="16192" y="14482"/>
                  <a:pt x="16992" y="13751"/>
                  <a:pt x="16992" y="12828"/>
                </a:cubicBezTo>
                <a:lnTo>
                  <a:pt x="16992" y="7493"/>
                </a:lnTo>
                <a:lnTo>
                  <a:pt x="15156" y="7493"/>
                </a:lnTo>
                <a:lnTo>
                  <a:pt x="18664" y="3985"/>
                </a:lnTo>
                <a:lnTo>
                  <a:pt x="22336" y="7493"/>
                </a:lnTo>
                <a:lnTo>
                  <a:pt x="20500" y="7493"/>
                </a:lnTo>
                <a:lnTo>
                  <a:pt x="20500" y="12828"/>
                </a:lnTo>
                <a:cubicBezTo>
                  <a:pt x="20500" y="15596"/>
                  <a:pt x="17924" y="18155"/>
                  <a:pt x="15156" y="18155"/>
                </a:cubicBezTo>
                <a:lnTo>
                  <a:pt x="13494" y="18155"/>
                </a:lnTo>
                <a:cubicBezTo>
                  <a:pt x="10726" y="18155"/>
                  <a:pt x="8149" y="15596"/>
                  <a:pt x="814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395280" y="1052640"/>
            <a:ext cx="27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3132000" y="10526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6" name=""/>
          <p:cNvSpPr txBox="1"/>
          <p:nvPr/>
        </p:nvSpPr>
        <p:spPr>
          <a:xfrm>
            <a:off x="0" y="3789360"/>
            <a:ext cx="1130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и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57" name=""/>
          <p:cNvSpPr/>
          <p:nvPr/>
        </p:nvSpPr>
        <p:spPr>
          <a:xfrm flipV="1" rot="13549200">
            <a:off x="-388800" y="3344040"/>
            <a:ext cx="3599280" cy="345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5219640" y="1052640"/>
            <a:ext cx="2737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7956720" y="105264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 flipV="1" rot="13549200">
            <a:off x="4075200" y="4064040"/>
            <a:ext cx="3600000" cy="345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140" y="257"/>
                </a:moveTo>
                <a:arcTo wR="10800" hR="10800" stAng="-4649046" swAng="4144206"/>
                <a:lnTo>
                  <a:pt x="10800" y="10800"/>
                </a:lnTo>
                <a:close/>
              </a:path>
              <a:path fill="none" w="21600" h="21600">
                <a:moveTo>
                  <a:pt x="13140" y="257"/>
                </a:moveTo>
                <a:arcTo wR="10800" hR="10800" stAng="-4649046" swAng="4144206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4643280" y="4365720"/>
            <a:ext cx="9874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пре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2195640" y="6453360"/>
            <a:ext cx="44640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Tahoma"/>
                <a:hlinkClick r:id="rId2" action="ppaction://hlinksldjump"/>
              </a:rPr>
              <a:t>Различай слова – омоф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395280" y="1052640"/>
            <a:ext cx="273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"/>
          <p:cNvSpPr txBox="1"/>
          <p:nvPr/>
        </p:nvSpPr>
        <p:spPr>
          <a:xfrm>
            <a:off x="2050920" y="1197000"/>
            <a:ext cx="108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и-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5" name=""/>
          <p:cNvSpPr txBox="1"/>
          <p:nvPr/>
        </p:nvSpPr>
        <p:spPr>
          <a:xfrm>
            <a:off x="6732720" y="1125360"/>
            <a:ext cx="105876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е-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395280" y="1197000"/>
            <a:ext cx="40608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способ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общ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готов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ык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сутств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год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леч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ч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клю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глас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н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леж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орит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иле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надлежн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ви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0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1000"/>
                            </p:stCondLst>
                            <p:childTnLst>
                              <p:par>
                                <p:cTn id="8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20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"/>
                            </p:stCondLst>
                            <p:childTnLst>
                              <p:par>
                                <p:cTn id="8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20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0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500"/>
                            </p:stCondLst>
                            <p:childTnLst>
                              <p:par>
                                <p:cTn id="9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20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30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0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20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4000"/>
                            </p:stCondLst>
                            <p:childTnLst>
                              <p:par>
                                <p:cTn id="9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20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00"/>
                            </p:stCondLst>
                            <p:childTnLst>
                              <p:par>
                                <p:cTn id="91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21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00"/>
                            </p:stCondLst>
                            <p:childTnLst>
                              <p:par>
                                <p:cTn id="9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20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500"/>
                            </p:stCondLst>
                            <p:childTnLst>
                              <p:par>
                                <p:cTn id="9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0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6000"/>
                            </p:stCondLst>
                            <p:childTnLst>
                              <p:par>
                                <p:cTn id="9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20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500"/>
                            </p:stCondLst>
                            <p:childTnLst>
                              <p:par>
                                <p:cTn id="9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20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7000"/>
                            </p:stCondLst>
                            <p:childTnLst>
                              <p:par>
                                <p:cTn id="9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20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7500"/>
                            </p:stCondLst>
                            <p:childTnLst>
                              <p:par>
                                <p:cTn id="9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0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8000"/>
                            </p:stCondLst>
                            <p:childTnLst>
                              <p:par>
                                <p:cTn id="9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9" dur="500"/>
                                        <p:tgtEl>
                                          <p:spTgt spid="20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8500"/>
                            </p:stCondLst>
                            <p:childTnLst>
                              <p:par>
                                <p:cTn id="9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20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9000"/>
                            </p:stCondLst>
                            <p:childTnLst>
                              <p:par>
                                <p:cTn id="9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20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95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0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0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11000"/>
                            </p:stCondLst>
                            <p:childTnLst>
                              <p:par>
                                <p:cTn id="9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0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1500"/>
                            </p:stCondLst>
                            <p:childTnLst>
                              <p:par>
                                <p:cTn id="9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20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9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20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2500"/>
                            </p:stCondLst>
                            <p:childTnLst>
                              <p:par>
                                <p:cTn id="9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20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0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20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20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4500"/>
                            </p:stCondLst>
                            <p:childTnLst>
                              <p:par>
                                <p:cTn id="9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9" dur="10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0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7" dur="500"/>
                                        <p:tgtEl>
                                          <p:spTgt spid="20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1" dur="500"/>
                                        <p:tgtEl>
                                          <p:spTgt spid="20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20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20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/>
                                        <p:tgtEl>
                                          <p:spTgt spid="20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20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1" dur="500"/>
                                        <p:tgtEl>
                                          <p:spTgt spid="20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9500"/>
                            </p:stCondLst>
                            <p:childTnLst>
                              <p:par>
                                <p:cTn id="10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5" dur="1000"/>
                                        <p:tgtEl>
                                          <p:spTgt spid="20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1000"/>
                                        <p:tgtEl>
                                          <p:spTgt spid="20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0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3" dur="1000"/>
                                        <p:tgtEl>
                                          <p:spTgt spid="20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1000"/>
                                        <p:tgtEl>
                                          <p:spTgt spid="20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23500"/>
                            </p:stCondLst>
                            <p:childTnLst>
                              <p:par>
                                <p:cTn id="10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1000"/>
                                        <p:tgtEl>
                                          <p:spTgt spid="20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1000"/>
                                        <p:tgtEl>
                                          <p:spTgt spid="20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2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1000"/>
                                        <p:tgtEl>
                                          <p:spTgt spid="20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1000"/>
                                        <p:tgtEl>
                                          <p:spTgt spid="20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1000"/>
                                        <p:tgtEl>
                                          <p:spTgt spid="20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1000"/>
                                        <p:tgtEl>
                                          <p:spTgt spid="20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1000"/>
                                        <p:tgtEl>
                                          <p:spTgt spid="20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30500"/>
                            </p:stCondLst>
                            <p:childTnLst>
                              <p:par>
                                <p:cTn id="10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1000"/>
                                        <p:tgtEl>
                                          <p:spTgt spid="20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1000"/>
                                        <p:tgtEl>
                                          <p:spTgt spid="20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0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7" dur="1000"/>
                                        <p:tgtEl>
                                          <p:spTgt spid="20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fill="hold">
                            <p:stCondLst>
                              <p:cond delay="33500"/>
                            </p:stCondLst>
                            <p:childTnLst>
                              <p:par>
                                <p:cTn id="10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1000"/>
                                        <p:tgtEl>
                                          <p:spTgt spid="206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1000"/>
                                        <p:tgtEl>
                                          <p:spTgt spid="20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0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1000"/>
                                        <p:tgtEl>
                                          <p:spTgt spid="206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Список изученных в школе орфо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Безударные проверяемые гласные в корн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Непроверяемые гласные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соглас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Проверяемые согласные в корн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Непроизносимые согласные в корн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и, у, а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после шипя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Разделительны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Ъ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Ь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 зн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Раздельное написание предлогов с другими сл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 action="ppaction://hlinksldjump"/>
              </a:rPr>
              <a:t>Употреблени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 action="ppaction://hlinksldjump"/>
              </a:rPr>
              <a:t>Ь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7" action="ppaction://hlinksldjump"/>
              </a:rPr>
              <a:t> на конце существительных после шипящи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 action="ppaction://hlinksldjump"/>
              </a:rPr>
              <a:t>Употреблени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9" action="ppaction://hlinksldjump"/>
              </a:rPr>
              <a:t>Ь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 action="ppaction://hlinksldjump"/>
              </a:rPr>
              <a:t> для обозначения мягкости соглас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 action="ppaction://hlinksldjump"/>
              </a:rPr>
              <a:t>Гласные и согласные в приставках (кроме согласных на З (С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3" action="ppaction://hlinksldjump"/>
              </a:rPr>
              <a:t>З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4" action="ppaction://hlinksldjump"/>
              </a:rPr>
              <a:t>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5" action="ppaction://hlinksldjump"/>
              </a:rPr>
              <a:t> С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6" action="ppaction://hlinksldjump"/>
              </a:rPr>
              <a:t> на конце приста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7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8" action="ppaction://hlinksldjump"/>
              </a:rPr>
              <a:t>О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9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0" action="ppaction://hlinksldjump"/>
              </a:rPr>
              <a:t>А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1" action="ppaction://hlinksldjump"/>
              </a:rPr>
              <a:t>в корн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2" action="ppaction://hlinksldjump"/>
              </a:rPr>
              <a:t>–лаг-  -  -лож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3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4" action="ppaction://hlinksldjump"/>
              </a:rPr>
              <a:t>О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5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6" action="ppaction://hlinksldjump"/>
              </a:rPr>
              <a:t>А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7" action="ppaction://hlinksldjump"/>
              </a:rPr>
              <a:t> в корн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8" action="ppaction://hlinksldjump"/>
              </a:rPr>
              <a:t>–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9" action="ppaction://hlinksldjump"/>
              </a:rPr>
              <a:t>раст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0" action="ppaction://hlinksldjump"/>
              </a:rPr>
              <a:t>-  -  -рос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1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2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3" action="ppaction://hlinksldjump"/>
              </a:rPr>
              <a:t>О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4" action="ppaction://hlinksldjump"/>
              </a:rPr>
              <a:t>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5" action="ppaction://hlinksldjump"/>
              </a:rPr>
              <a:t> Ё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6" action="ppaction://hlinksldjump"/>
              </a:rPr>
              <a:t> после шипящих в корне сл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7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8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9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0" action="ppaction://hlinksldjump"/>
              </a:rPr>
              <a:t>Ы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1" action="ppaction://hlinksldjump"/>
              </a:rPr>
              <a:t> посл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2" action="ppaction://hlinksldjump"/>
              </a:rPr>
              <a:t>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3" action="ppaction://hlinksldjump"/>
              </a:rPr>
              <a:t>Большая буква и кавычки в собственных наименова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4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5" action="ppaction://hlinksldjump"/>
              </a:rPr>
              <a:t>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6" action="ppaction://hlinksldjump"/>
              </a:rPr>
              <a:t>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7" action="ppaction://hlinksldjump"/>
              </a:rPr>
              <a:t>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8" action="ppaction://hlinksldjump"/>
              </a:rPr>
              <a:t> в падежных окончаниях имён существ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9" action="ppaction://hlinksldjump"/>
              </a:rPr>
              <a:t>Буквы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0" action="ppaction://hlinksldjump"/>
              </a:rPr>
              <a:t> О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1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2" action="ppaction://hlinksldjump"/>
              </a:rPr>
              <a:t>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3" action="ppaction://hlinksldjump"/>
              </a:rPr>
              <a:t>после шипящих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4" action="ppaction://hlinksldjump"/>
              </a:rPr>
              <a:t> Ц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5" action="ppaction://hlinksldjump"/>
              </a:rPr>
              <a:t>в окончаниях сущ. и при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6" action="ppaction://hlinksldjump"/>
              </a:rPr>
              <a:t>Безударные гласные в окончаниях имён прилаг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7" action="ppaction://hlinksldjump"/>
              </a:rPr>
              <a:t>Краткие прилагательные с основой на шипящу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8" action="ppaction://hlinksldjump"/>
              </a:rPr>
              <a:t>Не с глагол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1" name="" descr=""/>
          <p:cNvPicPr/>
          <p:nvPr/>
        </p:nvPicPr>
        <p:blipFill>
          <a:blip r:embed="rId69"/>
          <a:stretch/>
        </p:blipFill>
        <p:spPr>
          <a:xfrm>
            <a:off x="8115480" y="0"/>
            <a:ext cx="1028520" cy="1276200"/>
          </a:xfrm>
          <a:prstGeom prst="rect">
            <a:avLst/>
          </a:prstGeom>
          <a:ln w="0">
            <a:noFill/>
          </a:ln>
        </p:spPr>
      </p:pic>
      <p:sp>
        <p:nvSpPr>
          <p:cNvPr id="1742" name="">
            <a:hlinkClick r:id="" action="ppaction://hlinkshowjump?jump=nextslide"/>
          </p:cNvPr>
          <p:cNvSpPr/>
          <p:nvPr/>
        </p:nvSpPr>
        <p:spPr>
          <a:xfrm>
            <a:off x="8172360" y="616572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8149" y="3794"/>
                </a:moveTo>
                <a:lnTo>
                  <a:pt x="22162" y="10800"/>
                </a:lnTo>
                <a:lnTo>
                  <a:pt x="8149" y="17806"/>
                </a:lnTo>
                <a:close/>
              </a:path>
            </a:pathLst>
          </a:cu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78 0.01851 L -0.00278 0.35185 E">
                                      <p:cBhvr>
                                        <p:cTn id="37" dur="3000" fill="hold"/>
                                        <p:tgtEl>
                                          <p:spTgt spid="1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Различай слова-омофоны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566280" y="620640"/>
            <a:ext cx="8037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быва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приезжать куда-то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быва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находиться где-то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зре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дать приют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зирать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(ненавидеть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твор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закрыть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твор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воплотить мечту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клон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наклонить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клоняться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глубоко уважать);</a:t>
            </a: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 преклонный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возраст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да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добавить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дать, предател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;   </a:t>
            </a: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даться мечтам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ступ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к работ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ступ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закон, </a:t>
            </a: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ступник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ходящий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являющийся вовремя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ходящий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временный, недолговечный), (радость, явление); </a:t>
            </a: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непреходящее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значение – долговечно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вратник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– сторож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вратный –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искажённы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лож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положить вплотную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Непреложный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закон) – неоспоримый, не подлежащий измен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стави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поставить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ставиться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(умереть); с</a:t>
            </a: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ветопреставлени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терпеться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к неудобствам) – привыкнут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терпеть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 (лишения, изменения) – вытерпеть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ёмник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– ради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Преемник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– продолжатель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Verdana"/>
              </a:rPr>
              <a:t>Пристанище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– приют, убежищ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33cc3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cc33"/>
                </a:solidFill>
                <a:latin typeface="Verdana"/>
              </a:rPr>
              <a:t>Беспрестанный </a:t>
            </a:r>
            <a:r>
              <a:rPr b="1" lang="en-US" sz="1400" spc="-1" strike="noStrike">
                <a:solidFill>
                  <a:srgbClr val="003399"/>
                </a:solidFill>
                <a:latin typeface="Verdana"/>
              </a:rPr>
              <a:t>- непрерывный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9" name="">
            <a:hlinkClick r:id="rId1" action="ppaction://hlinksldjump"/>
          </p:cNvPr>
          <p:cNvSpPr/>
          <p:nvPr/>
        </p:nvSpPr>
        <p:spPr>
          <a:xfrm>
            <a:off x="7380360" y="5445000"/>
            <a:ext cx="1763640" cy="1413000"/>
          </a:xfrm>
          <a:custGeom>
            <a:avLst/>
            <a:gdLst>
              <a:gd name="textAreaLeft" fmla="*/ 91440 w 1763640"/>
              <a:gd name="textAreaRight" fmla="*/ 1672200 w 1763640"/>
              <a:gd name="textAreaTop" fmla="*/ 91440 h 1413000"/>
              <a:gd name="textAreaBottom" fmla="*/ 1321560 h 1413000"/>
            </a:gdLst>
            <a:ahLst/>
            <a:rect l="textAreaLeft" t="textAreaTop" r="textAreaRight" b="textAreaBottom"/>
            <a:pathLst>
              <a:path w="26959" h="21600">
                <a:moveTo>
                  <a:pt x="0" y="0"/>
                </a:moveTo>
                <a:lnTo>
                  <a:pt x="26959" y="0"/>
                </a:lnTo>
                <a:lnTo>
                  <a:pt x="26959" y="21600"/>
                </a:lnTo>
                <a:lnTo>
                  <a:pt x="0" y="21600"/>
                </a:lnTo>
                <a:close/>
              </a:path>
              <a:path fill="lightenLess" w="26959" h="21600">
                <a:moveTo>
                  <a:pt x="0" y="0"/>
                </a:moveTo>
                <a:lnTo>
                  <a:pt x="26959" y="0"/>
                </a:lnTo>
                <a:lnTo>
                  <a:pt x="25559" y="1400"/>
                </a:lnTo>
                <a:lnTo>
                  <a:pt x="1400" y="1400"/>
                </a:lnTo>
                <a:close/>
              </a:path>
              <a:path fill="darken" w="26959" h="21600">
                <a:moveTo>
                  <a:pt x="26959" y="0"/>
                </a:moveTo>
                <a:lnTo>
                  <a:pt x="26959" y="21600"/>
                </a:lnTo>
                <a:lnTo>
                  <a:pt x="25559" y="20200"/>
                </a:lnTo>
                <a:lnTo>
                  <a:pt x="25559" y="1400"/>
                </a:lnTo>
                <a:close/>
              </a:path>
              <a:path fill="darkenLess" w="26959" h="21600">
                <a:moveTo>
                  <a:pt x="26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9" y="20200"/>
                </a:lnTo>
                <a:close/>
              </a:path>
              <a:path fill="lighten" w="26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9" h="21600">
                <a:moveTo>
                  <a:pt x="6473" y="7493"/>
                </a:moveTo>
                <a:lnTo>
                  <a:pt x="9980" y="7493"/>
                </a:lnTo>
                <a:lnTo>
                  <a:pt x="9980" y="12828"/>
                </a:lnTo>
                <a:cubicBezTo>
                  <a:pt x="9980" y="13751"/>
                  <a:pt x="10781" y="14482"/>
                  <a:pt x="11817" y="14482"/>
                </a:cubicBezTo>
                <a:lnTo>
                  <a:pt x="13479" y="14482"/>
                </a:lnTo>
                <a:cubicBezTo>
                  <a:pt x="14515" y="14482"/>
                  <a:pt x="15316" y="13751"/>
                  <a:pt x="15316" y="12828"/>
                </a:cubicBezTo>
                <a:lnTo>
                  <a:pt x="15316" y="7493"/>
                </a:lnTo>
                <a:lnTo>
                  <a:pt x="13479" y="7493"/>
                </a:lnTo>
                <a:lnTo>
                  <a:pt x="16987" y="3985"/>
                </a:lnTo>
                <a:lnTo>
                  <a:pt x="20660" y="7493"/>
                </a:lnTo>
                <a:lnTo>
                  <a:pt x="18823" y="7493"/>
                </a:lnTo>
                <a:lnTo>
                  <a:pt x="18823" y="12828"/>
                </a:lnTo>
                <a:cubicBezTo>
                  <a:pt x="18823" y="15596"/>
                  <a:pt x="16247" y="18155"/>
                  <a:pt x="13479" y="18155"/>
                </a:cubicBezTo>
                <a:lnTo>
                  <a:pt x="11817" y="18155"/>
                </a:lnTo>
                <a:cubicBezTo>
                  <a:pt x="9049" y="18155"/>
                  <a:pt x="6473" y="15596"/>
                  <a:pt x="6473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">
            <a:hlinkClick r:id="rId2" action="ppaction://hlinksldjump"/>
          </p:cNvPr>
          <p:cNvSpPr/>
          <p:nvPr/>
        </p:nvSpPr>
        <p:spPr>
          <a:xfrm>
            <a:off x="2556000" y="6524640"/>
            <a:ext cx="1944720" cy="333360"/>
          </a:xfrm>
          <a:prstGeom prst="rightArrow">
            <a:avLst>
              <a:gd name="adj1" fmla="val 50000"/>
              <a:gd name="adj2" fmla="val 145842"/>
            </a:avLst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/>
          <p:nvPr/>
        </p:nvSpPr>
        <p:spPr>
          <a:xfrm>
            <a:off x="3492360" y="1197000"/>
            <a:ext cx="5651640" cy="49687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Буквы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Ы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 и 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  после </a:t>
            </a: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Ц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73" name="" descr=""/>
          <p:cNvPicPr/>
          <p:nvPr/>
        </p:nvPicPr>
        <p:blipFill>
          <a:blip r:embed="rId2"/>
          <a:stretch/>
        </p:blipFill>
        <p:spPr>
          <a:xfrm>
            <a:off x="6443640" y="4076640"/>
            <a:ext cx="1657440" cy="2438640"/>
          </a:xfrm>
          <a:prstGeom prst="rect">
            <a:avLst/>
          </a:prstGeom>
          <a:ln w="0">
            <a:noFill/>
          </a:ln>
        </p:spPr>
      </p:pic>
      <p:pic>
        <p:nvPicPr>
          <p:cNvPr id="2074" name="" descr=""/>
          <p:cNvPicPr/>
          <p:nvPr/>
        </p:nvPicPr>
        <p:blipFill>
          <a:blip r:embed="rId3"/>
          <a:stretch/>
        </p:blipFill>
        <p:spPr>
          <a:xfrm>
            <a:off x="3995640" y="5805360"/>
            <a:ext cx="1619280" cy="847800"/>
          </a:xfrm>
          <a:prstGeom prst="rect">
            <a:avLst/>
          </a:prstGeom>
          <a:ln w="0">
            <a:noFill/>
          </a:ln>
        </p:spPr>
      </p:pic>
      <p:sp>
        <p:nvSpPr>
          <p:cNvPr id="2075" name=""/>
          <p:cNvSpPr txBox="1"/>
          <p:nvPr/>
        </p:nvSpPr>
        <p:spPr>
          <a:xfrm>
            <a:off x="539640" y="1773360"/>
            <a:ext cx="1482840" cy="13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6" name=""/>
          <p:cNvSpPr txBox="1"/>
          <p:nvPr/>
        </p:nvSpPr>
        <p:spPr>
          <a:xfrm>
            <a:off x="5940360" y="1700280"/>
            <a:ext cx="1511280" cy="127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5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611280" y="3213000"/>
            <a:ext cx="2303280" cy="1893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1.-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mic Sans MS"/>
              </a:rPr>
              <a:t>Станция, лек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2.-и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8002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Цирк, цит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 rot="14117400">
            <a:off x="4246560" y="3543480"/>
            <a:ext cx="201636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4932360" y="6453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2124000" y="3933720"/>
            <a:ext cx="2016360" cy="432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3564000" y="3860640"/>
            <a:ext cx="2808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Comic Sans MS"/>
              </a:rPr>
              <a:t>Искл.:</a:t>
            </a:r>
            <a:r>
              <a:rPr b="0" lang="ru-RU" sz="2000" spc="-1" strike="noStrike">
                <a:solidFill>
                  <a:srgbClr val="cc0000"/>
                </a:solidFill>
                <a:latin typeface="Arial Black"/>
              </a:rPr>
              <a:t> Цыган на цыпочках подошёл к цыплёнку и цыкнул: «Цыц!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4716360" y="1773360"/>
            <a:ext cx="792360" cy="863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7667640" y="1699920"/>
            <a:ext cx="36036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8028000" y="1700280"/>
            <a:ext cx="72072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 rot="14117400">
            <a:off x="1145520" y="4130280"/>
            <a:ext cx="862560" cy="11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3492360" y="184464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Улиц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 rot="19918800">
            <a:off x="6372360" y="2636280"/>
            <a:ext cx="25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Синиц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ы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8" name="">
            <a:hlinkClick r:id="" action="ppaction://hlinkshowjump?jump=previousslide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2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99" dur="2000"/>
                                        <p:tgtEl>
                                          <p:spTgt spid="2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20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2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20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20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0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20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20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7" dur="2000"/>
                                        <p:tgtEl>
                                          <p:spTgt spid="20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8" dur="20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2000" fill="hold"/>
                                        <p:tgtEl>
                                          <p:spTgt spid="2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3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20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2000" fill="hold"/>
                                        <p:tgtEl>
                                          <p:spTgt spid="2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20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20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20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20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/>
          <p:cNvSpPr/>
          <p:nvPr/>
        </p:nvSpPr>
        <p:spPr>
          <a:xfrm>
            <a:off x="4356000" y="3573360"/>
            <a:ext cx="4032360" cy="2951280"/>
          </a:xfrm>
          <a:prstGeom prst="ellipse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4716360" y="1341360"/>
            <a:ext cx="3527640" cy="2664000"/>
          </a:xfrm>
          <a:prstGeom prst="ellipse">
            <a:avLst/>
          </a:prstGeom>
          <a:solidFill>
            <a:srgbClr val="7fd3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>
            <a:off x="468360" y="1413000"/>
            <a:ext cx="3529080" cy="4176720"/>
          </a:xfrm>
          <a:prstGeom prst="ellipse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715824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Ё и О после шипящих и 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 txBox="1"/>
          <p:nvPr/>
        </p:nvSpPr>
        <p:spPr>
          <a:xfrm>
            <a:off x="1187280" y="1628640"/>
            <a:ext cx="23767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Сущ., прил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4" name=""/>
          <p:cNvSpPr txBox="1"/>
          <p:nvPr/>
        </p:nvSpPr>
        <p:spPr>
          <a:xfrm>
            <a:off x="4855680" y="1981080"/>
            <a:ext cx="37544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Сущ., прил., нареч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324000" y="3212640"/>
            <a:ext cx="3060720" cy="18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2000"/>
          </a:bodyPr>
          <a:p>
            <a:pPr marL="411840" indent="-411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Искл.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17560" indent="-40428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рыж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вник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17560" indent="-40428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Ш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рох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17560" indent="-40428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Капюш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17560" indent="-404280"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ш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6" name=""/>
          <p:cNvSpPr txBox="1"/>
          <p:nvPr/>
        </p:nvSpPr>
        <p:spPr>
          <a:xfrm>
            <a:off x="4856040" y="4292280"/>
            <a:ext cx="302904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Сущ., прил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7" name="">
            <a:hlinkClick r:id="rId1" action="ppaction://hlinksldjump"/>
          </p:cNvPr>
          <p:cNvSpPr/>
          <p:nvPr/>
        </p:nvSpPr>
        <p:spPr>
          <a:xfrm>
            <a:off x="8172360" y="616572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8149" y="7493"/>
                </a:moveTo>
                <a:lnTo>
                  <a:pt x="11657" y="7493"/>
                </a:lnTo>
                <a:lnTo>
                  <a:pt x="11657" y="12828"/>
                </a:lnTo>
                <a:cubicBezTo>
                  <a:pt x="11657" y="13751"/>
                  <a:pt x="12458" y="14482"/>
                  <a:pt x="13494" y="14482"/>
                </a:cubicBezTo>
                <a:lnTo>
                  <a:pt x="15156" y="14482"/>
                </a:lnTo>
                <a:cubicBezTo>
                  <a:pt x="16192" y="14482"/>
                  <a:pt x="16992" y="13751"/>
                  <a:pt x="16992" y="12828"/>
                </a:cubicBezTo>
                <a:lnTo>
                  <a:pt x="16992" y="7493"/>
                </a:lnTo>
                <a:lnTo>
                  <a:pt x="15156" y="7493"/>
                </a:lnTo>
                <a:lnTo>
                  <a:pt x="18664" y="3985"/>
                </a:lnTo>
                <a:lnTo>
                  <a:pt x="22336" y="7493"/>
                </a:lnTo>
                <a:lnTo>
                  <a:pt x="20500" y="7493"/>
                </a:lnTo>
                <a:lnTo>
                  <a:pt x="20500" y="12828"/>
                </a:lnTo>
                <a:cubicBezTo>
                  <a:pt x="20500" y="15596"/>
                  <a:pt x="17924" y="18155"/>
                  <a:pt x="15156" y="18155"/>
                </a:cubicBezTo>
                <a:lnTo>
                  <a:pt x="13494" y="18155"/>
                </a:lnTo>
                <a:cubicBezTo>
                  <a:pt x="10726" y="18155"/>
                  <a:pt x="8149" y="15596"/>
                  <a:pt x="8149" y="12828"/>
                </a:cubicBez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 flipV="1" rot="13620000">
            <a:off x="1239840" y="2179800"/>
            <a:ext cx="2304720" cy="244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2987640" y="1916280"/>
            <a:ext cx="21600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"/>
          <p:cNvSpPr txBox="1"/>
          <p:nvPr/>
        </p:nvSpPr>
        <p:spPr>
          <a:xfrm>
            <a:off x="2195640" y="2421000"/>
            <a:ext cx="531720" cy="7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ё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1" name="">
            <a:hlinkClick r:id="rId2" action="ppaction://hlinksldjump"/>
          </p:cNvPr>
          <p:cNvSpPr/>
          <p:nvPr/>
        </p:nvSpPr>
        <p:spPr>
          <a:xfrm>
            <a:off x="1979640" y="4797360"/>
            <a:ext cx="1800360" cy="432000"/>
          </a:xfrm>
          <a:prstGeom prst="rightArrow">
            <a:avLst>
              <a:gd name="adj1" fmla="val 50000"/>
              <a:gd name="adj2" fmla="val 104188"/>
            </a:avLst>
          </a:prstGeom>
          <a:solidFill>
            <a:srgbClr val="ffff66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9933"/>
                </a:solidFill>
                <a:uFillTx/>
                <a:latin typeface="Comic Sans MS"/>
                <a:hlinkClick r:id="rId3" action="ppaction://hlinksldjump"/>
              </a:rPr>
              <a:t>Запомни!</a:t>
            </a:r>
            <a:r>
              <a:rPr b="0" lang="en-US" sz="2000" spc="-1" strike="noStrike" u="sng">
                <a:solidFill>
                  <a:srgbClr val="cc0000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"/>
          <p:cNvSpPr/>
          <p:nvPr/>
        </p:nvSpPr>
        <p:spPr>
          <a:xfrm flipV="1">
            <a:off x="5508720" y="2565360"/>
            <a:ext cx="934920" cy="432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"/>
          <p:cNvSpPr/>
          <p:nvPr/>
        </p:nvSpPr>
        <p:spPr>
          <a:xfrm>
            <a:off x="6443640" y="2565360"/>
            <a:ext cx="936720" cy="35892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 flipH="1">
            <a:off x="7092720" y="2349360"/>
            <a:ext cx="215640" cy="287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6300720" y="2781360"/>
            <a:ext cx="45396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6" name=""/>
          <p:cNvSpPr/>
          <p:nvPr/>
        </p:nvSpPr>
        <p:spPr>
          <a:xfrm>
            <a:off x="5940360" y="4724280"/>
            <a:ext cx="1295640" cy="1009800"/>
          </a:xfrm>
          <a:prstGeom prst="rect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6300720" y="4797360"/>
            <a:ext cx="576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08" name=""/>
          <p:cNvSpPr/>
          <p:nvPr/>
        </p:nvSpPr>
        <p:spPr>
          <a:xfrm flipH="1">
            <a:off x="7020000" y="4292640"/>
            <a:ext cx="21600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"/>
          <p:cNvSpPr/>
          <p:nvPr/>
        </p:nvSpPr>
        <p:spPr>
          <a:xfrm>
            <a:off x="7812000" y="1989000"/>
            <a:ext cx="576360" cy="3745080"/>
          </a:xfrm>
          <a:custGeom>
            <a:avLst/>
            <a:gdLst>
              <a:gd name="textAreaLeft" fmla="*/ 0 w 576360"/>
              <a:gd name="textAreaRight" fmla="*/ 208080 w 57636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"/>
          <p:cNvSpPr/>
          <p:nvPr/>
        </p:nvSpPr>
        <p:spPr>
          <a:xfrm>
            <a:off x="8388360" y="2565360"/>
            <a:ext cx="50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"/>
          <p:cNvSpPr txBox="1"/>
          <p:nvPr/>
        </p:nvSpPr>
        <p:spPr>
          <a:xfrm>
            <a:off x="5148360" y="3789360"/>
            <a:ext cx="2379600" cy="33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без ударения Е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2" name=""/>
          <p:cNvSpPr txBox="1"/>
          <p:nvPr/>
        </p:nvSpPr>
        <p:spPr>
          <a:xfrm>
            <a:off x="900000" y="5589720"/>
            <a:ext cx="3456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глагол -Ё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med"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Verdana"/>
              </a:rPr>
              <a:t>Запомни!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мпол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рущоб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опорн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рни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р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окнутый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жом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трещот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жог (руки), н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жёг (руку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355640" y="1628280"/>
            <a:ext cx="208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ащоба         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чокаться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уж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вечо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мажо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к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колад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ссе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шофёр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цо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кол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6" name="">
            <a:hlinkClick r:id="" action="ppaction://hlinkshowjump?jump=previousslide"/>
          </p:cNvPr>
          <p:cNvSpPr/>
          <p:nvPr/>
        </p:nvSpPr>
        <p:spPr>
          <a:xfrm>
            <a:off x="7812000" y="6093000"/>
            <a:ext cx="1332000" cy="765000"/>
          </a:xfrm>
          <a:custGeom>
            <a:avLst/>
            <a:gdLst>
              <a:gd name="textAreaLeft" fmla="*/ 49320 w 1332000"/>
              <a:gd name="textAreaRight" fmla="*/ 1282680 w 1332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7602" h="21600">
                <a:moveTo>
                  <a:pt x="0" y="0"/>
                </a:moveTo>
                <a:lnTo>
                  <a:pt x="37602" y="0"/>
                </a:lnTo>
                <a:lnTo>
                  <a:pt x="37602" y="21600"/>
                </a:lnTo>
                <a:lnTo>
                  <a:pt x="0" y="21600"/>
                </a:lnTo>
                <a:close/>
              </a:path>
              <a:path fill="lightenLess" w="37602" h="21600">
                <a:moveTo>
                  <a:pt x="0" y="0"/>
                </a:moveTo>
                <a:lnTo>
                  <a:pt x="37602" y="0"/>
                </a:lnTo>
                <a:lnTo>
                  <a:pt x="36202" y="1400"/>
                </a:lnTo>
                <a:lnTo>
                  <a:pt x="1400" y="1400"/>
                </a:lnTo>
                <a:close/>
              </a:path>
              <a:path fill="darken" w="37602" h="21600">
                <a:moveTo>
                  <a:pt x="37602" y="0"/>
                </a:moveTo>
                <a:lnTo>
                  <a:pt x="37602" y="21600"/>
                </a:lnTo>
                <a:lnTo>
                  <a:pt x="36202" y="20200"/>
                </a:lnTo>
                <a:lnTo>
                  <a:pt x="36202" y="1400"/>
                </a:lnTo>
                <a:close/>
              </a:path>
              <a:path fill="darkenLess" w="37602" h="21600">
                <a:moveTo>
                  <a:pt x="37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202" y="20200"/>
                </a:lnTo>
                <a:close/>
              </a:path>
              <a:path fill="lighten" w="37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602" h="21600">
                <a:moveTo>
                  <a:pt x="11794" y="7493"/>
                </a:moveTo>
                <a:lnTo>
                  <a:pt x="15302" y="7493"/>
                </a:lnTo>
                <a:lnTo>
                  <a:pt x="15302" y="12828"/>
                </a:lnTo>
                <a:cubicBezTo>
                  <a:pt x="15302" y="13751"/>
                  <a:pt x="16103" y="14482"/>
                  <a:pt x="17139" y="14482"/>
                </a:cubicBezTo>
                <a:lnTo>
                  <a:pt x="18801" y="14482"/>
                </a:lnTo>
                <a:cubicBezTo>
                  <a:pt x="19837" y="14482"/>
                  <a:pt x="20637" y="13751"/>
                  <a:pt x="20637" y="12828"/>
                </a:cubicBezTo>
                <a:lnTo>
                  <a:pt x="20637" y="7493"/>
                </a:lnTo>
                <a:lnTo>
                  <a:pt x="18801" y="7493"/>
                </a:lnTo>
                <a:lnTo>
                  <a:pt x="22309" y="3985"/>
                </a:lnTo>
                <a:lnTo>
                  <a:pt x="25981" y="7493"/>
                </a:lnTo>
                <a:lnTo>
                  <a:pt x="24145" y="7493"/>
                </a:lnTo>
                <a:lnTo>
                  <a:pt x="24145" y="12828"/>
                </a:lnTo>
                <a:cubicBezTo>
                  <a:pt x="24145" y="15596"/>
                  <a:pt x="21569" y="18155"/>
                  <a:pt x="18801" y="18155"/>
                </a:cubicBezTo>
                <a:lnTo>
                  <a:pt x="17139" y="18155"/>
                </a:lnTo>
                <a:cubicBezTo>
                  <a:pt x="14371" y="18155"/>
                  <a:pt x="11794" y="15596"/>
                  <a:pt x="11794" y="12828"/>
                </a:cubicBezTo>
                <a:close/>
              </a:path>
            </a:pathLst>
          </a:custGeom>
          <a:noFill/>
          <a:ln w="9360">
            <a:solidFill>
              <a:srgbClr val="7fd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наз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">
            <a:hlinkClick r:id="rId1" action="ppaction://hlinksldjump"/>
          </p:cNvPr>
          <p:cNvSpPr/>
          <p:nvPr/>
        </p:nvSpPr>
        <p:spPr>
          <a:xfrm>
            <a:off x="7812000" y="0"/>
            <a:ext cx="1332000" cy="792000"/>
          </a:xfrm>
          <a:custGeom>
            <a:avLst/>
            <a:gdLst>
              <a:gd name="textAreaLeft" fmla="*/ 51120 w 1332000"/>
              <a:gd name="textAreaRight" fmla="*/ 1280880 w 1332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36321" h="21600">
                <a:moveTo>
                  <a:pt x="0" y="0"/>
                </a:moveTo>
                <a:lnTo>
                  <a:pt x="36321" y="0"/>
                </a:lnTo>
                <a:lnTo>
                  <a:pt x="36321" y="21600"/>
                </a:lnTo>
                <a:lnTo>
                  <a:pt x="0" y="21600"/>
                </a:lnTo>
                <a:close/>
              </a:path>
              <a:path fill="lightenLess" w="36321" h="21600">
                <a:moveTo>
                  <a:pt x="0" y="0"/>
                </a:moveTo>
                <a:lnTo>
                  <a:pt x="36321" y="0"/>
                </a:lnTo>
                <a:lnTo>
                  <a:pt x="34921" y="1400"/>
                </a:lnTo>
                <a:lnTo>
                  <a:pt x="1400" y="1400"/>
                </a:lnTo>
                <a:close/>
              </a:path>
              <a:path fill="darken" w="36321" h="21600">
                <a:moveTo>
                  <a:pt x="36321" y="0"/>
                </a:moveTo>
                <a:lnTo>
                  <a:pt x="36321" y="21600"/>
                </a:lnTo>
                <a:lnTo>
                  <a:pt x="34921" y="20200"/>
                </a:lnTo>
                <a:lnTo>
                  <a:pt x="34921" y="1400"/>
                </a:lnTo>
                <a:close/>
              </a:path>
              <a:path fill="darkenLess" w="36321" h="21600">
                <a:moveTo>
                  <a:pt x="36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921" y="20200"/>
                </a:lnTo>
                <a:close/>
              </a:path>
              <a:path fill="lighten" w="36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321" h="21600">
                <a:moveTo>
                  <a:pt x="14661" y="10800"/>
                </a:moveTo>
                <a:lnTo>
                  <a:pt x="25167" y="3794"/>
                </a:lnTo>
                <a:lnTo>
                  <a:pt x="25167" y="17806"/>
                </a:lnTo>
                <a:close/>
              </a:path>
              <a:path fill="darken" w="36321" h="21600">
                <a:moveTo>
                  <a:pt x="11154" y="3794"/>
                </a:moveTo>
                <a:lnTo>
                  <a:pt x="12816" y="3794"/>
                </a:lnTo>
                <a:lnTo>
                  <a:pt x="12816" y="17806"/>
                </a:lnTo>
                <a:lnTo>
                  <a:pt x="11154" y="17806"/>
                </a:lnTo>
                <a:close/>
              </a:path>
            </a:pathLst>
          </a:custGeom>
          <a:noFill/>
          <a:ln w="9360">
            <a:solidFill>
              <a:srgbClr val="7fd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в нач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"/>
          <p:cNvSpPr txBox="1"/>
          <p:nvPr/>
        </p:nvSpPr>
        <p:spPr>
          <a:xfrm>
            <a:off x="6372360" y="1844640"/>
            <a:ext cx="2520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о !!! дирижёр, 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</a:t>
            </a: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учёба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</a:t>
            </a: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икчёмный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</a:t>
            </a: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очёвка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</a:t>
            </a: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ушёнка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</a:t>
            </a: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размежёвывать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              </a:t>
            </a:r>
            <a:r>
              <a:rPr b="0" i="1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ещё</a:t>
            </a:r>
            <a:endParaRPr b="0" i="1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9" name=""/>
          <p:cNvSpPr/>
          <p:nvPr/>
        </p:nvSpPr>
        <p:spPr>
          <a:xfrm>
            <a:off x="6084720" y="6308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Только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H="1">
            <a:off x="4787640" y="6237360"/>
            <a:ext cx="215640" cy="2160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7" dur="20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badi MT Condensed Light"/>
              </a:rPr>
              <a:t>Ё   в окончаниях глаголов и суффиксах причастий</a:t>
            </a:r>
            <a:r>
              <a:rPr b="0" lang="en-US" sz="3600" spc="-1" strike="noStrike">
                <a:solidFill>
                  <a:srgbClr val="cc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3399"/>
                </a:solidFill>
                <a:latin typeface="Arial"/>
              </a:rPr>
              <a:t>Глагол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ережёт,   печём, жжё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3399"/>
                </a:solidFill>
                <a:latin typeface="Arial"/>
              </a:rPr>
              <a:t>Страдательное причаст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 ударением – 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Ё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ешённый - реш</a:t>
            </a:r>
            <a:r>
              <a:rPr b="0" lang="ru-RU" sz="3100" spc="-1" strike="noStrike">
                <a:solidFill>
                  <a:srgbClr val="003399"/>
                </a:solidFill>
                <a:latin typeface="Arial"/>
              </a:rPr>
              <a:t>и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з ударения – </a:t>
            </a:r>
            <a:r>
              <a:rPr b="0" lang="ru-RU" sz="2200" spc="-1" strike="noStrike">
                <a:solidFill>
                  <a:srgbClr val="cc0000"/>
                </a:solidFill>
                <a:latin typeface="Arial"/>
              </a:rPr>
              <a:t>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если они образованы от глагола на –ить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ашенный - окрас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>
            <a:off x="4211640" y="2565360"/>
            <a:ext cx="431640" cy="358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5651640" y="2565360"/>
            <a:ext cx="504720" cy="358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6877080" y="2565360"/>
            <a:ext cx="504720" cy="35892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V="1">
            <a:off x="3924360" y="4005000"/>
            <a:ext cx="360360" cy="21564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>
            <a:off x="4284720" y="4005360"/>
            <a:ext cx="287280" cy="21564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 flipV="1">
            <a:off x="4284720" y="5300640"/>
            <a:ext cx="360360" cy="2160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>
            <a:off x="4643280" y="5300640"/>
            <a:ext cx="287640" cy="216000"/>
          </a:xfrm>
          <a:prstGeom prst="line">
            <a:avLst/>
          </a:prstGeom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">
            <a:hlinkClick r:id="" action="ppaction://hlinkshowjump?jump=previousslide"/>
          </p:cNvPr>
          <p:cNvSpPr/>
          <p:nvPr/>
        </p:nvSpPr>
        <p:spPr>
          <a:xfrm>
            <a:off x="8028000" y="6308640"/>
            <a:ext cx="1116000" cy="549360"/>
          </a:xfrm>
          <a:custGeom>
            <a:avLst/>
            <a:gdLst>
              <a:gd name="textAreaLeft" fmla="*/ 35280 w 1116000"/>
              <a:gd name="textAreaRight" fmla="*/ 1080720 w 1116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3865" h="21600">
                <a:moveTo>
                  <a:pt x="0" y="0"/>
                </a:moveTo>
                <a:lnTo>
                  <a:pt x="43865" y="0"/>
                </a:lnTo>
                <a:lnTo>
                  <a:pt x="43865" y="21600"/>
                </a:lnTo>
                <a:lnTo>
                  <a:pt x="0" y="21600"/>
                </a:lnTo>
                <a:close/>
              </a:path>
              <a:path fill="lightenLess" w="43865" h="21600">
                <a:moveTo>
                  <a:pt x="0" y="0"/>
                </a:moveTo>
                <a:lnTo>
                  <a:pt x="43865" y="0"/>
                </a:lnTo>
                <a:lnTo>
                  <a:pt x="42465" y="1400"/>
                </a:lnTo>
                <a:lnTo>
                  <a:pt x="1400" y="1400"/>
                </a:lnTo>
                <a:close/>
              </a:path>
              <a:path fill="darken" w="43865" h="21600">
                <a:moveTo>
                  <a:pt x="43865" y="0"/>
                </a:moveTo>
                <a:lnTo>
                  <a:pt x="43865" y="21600"/>
                </a:lnTo>
                <a:lnTo>
                  <a:pt x="42465" y="20200"/>
                </a:lnTo>
                <a:lnTo>
                  <a:pt x="42465" y="1400"/>
                </a:lnTo>
                <a:close/>
              </a:path>
              <a:path fill="darkenLess" w="43865" h="21600">
                <a:moveTo>
                  <a:pt x="43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65" y="20200"/>
                </a:lnTo>
                <a:close/>
              </a:path>
              <a:path fill="lighten" w="43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65" h="21600">
                <a:moveTo>
                  <a:pt x="14926" y="7493"/>
                </a:moveTo>
                <a:lnTo>
                  <a:pt x="18434" y="7493"/>
                </a:lnTo>
                <a:lnTo>
                  <a:pt x="18434" y="12828"/>
                </a:lnTo>
                <a:cubicBezTo>
                  <a:pt x="18434" y="13751"/>
                  <a:pt x="19234" y="14482"/>
                  <a:pt x="20270" y="14482"/>
                </a:cubicBezTo>
                <a:lnTo>
                  <a:pt x="21932" y="14482"/>
                </a:lnTo>
                <a:cubicBezTo>
                  <a:pt x="22968" y="14482"/>
                  <a:pt x="23769" y="13751"/>
                  <a:pt x="23769" y="12828"/>
                </a:cubicBezTo>
                <a:lnTo>
                  <a:pt x="23769" y="7493"/>
                </a:lnTo>
                <a:lnTo>
                  <a:pt x="21932" y="7493"/>
                </a:lnTo>
                <a:lnTo>
                  <a:pt x="25440" y="3985"/>
                </a:lnTo>
                <a:lnTo>
                  <a:pt x="29113" y="7493"/>
                </a:lnTo>
                <a:lnTo>
                  <a:pt x="27276" y="7493"/>
                </a:lnTo>
                <a:lnTo>
                  <a:pt x="27276" y="12828"/>
                </a:lnTo>
                <a:cubicBezTo>
                  <a:pt x="27276" y="15596"/>
                  <a:pt x="24700" y="18155"/>
                  <a:pt x="21932" y="18155"/>
                </a:cubicBezTo>
                <a:lnTo>
                  <a:pt x="20270" y="18155"/>
                </a:lnTo>
                <a:cubicBezTo>
                  <a:pt x="17502" y="18155"/>
                  <a:pt x="14926" y="15596"/>
                  <a:pt x="14926" y="12828"/>
                </a:cubicBezTo>
                <a:close/>
              </a:path>
            </a:pathLst>
          </a:custGeom>
          <a:noFill/>
          <a:ln w="93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рфограммы – большие буквы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796140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Выбор больших букв зависит от наличия в тексте собственных имён, собственных  наименований, от положения слова в начале предложе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">
            <a:hlinkClick r:id="" action="ppaction://hlinkshowjump?jump=previousslide"/>
          </p:cNvPr>
          <p:cNvSpPr/>
          <p:nvPr/>
        </p:nvSpPr>
        <p:spPr>
          <a:xfrm>
            <a:off x="7524720" y="5373720"/>
            <a:ext cx="1440000" cy="1484280"/>
          </a:xfrm>
          <a:custGeom>
            <a:avLst/>
            <a:gdLst>
              <a:gd name="textAreaLeft" fmla="*/ 93240 w 1440000"/>
              <a:gd name="textAreaRight" fmla="*/ 1346760 w 1440000"/>
              <a:gd name="textAreaTop" fmla="*/ 93240 h 1484280"/>
              <a:gd name="textAreaBottom" fmla="*/ 1391040 h 1484280"/>
            </a:gdLst>
            <a:ahLst/>
            <a:rect l="textAreaLeft" t="textAreaTop" r="textAreaRight" b="textAreaBottom"/>
            <a:pathLst>
              <a:path w="21600" h="22264">
                <a:moveTo>
                  <a:pt x="0" y="0"/>
                </a:moveTo>
                <a:lnTo>
                  <a:pt x="21600" y="0"/>
                </a:lnTo>
                <a:lnTo>
                  <a:pt x="21600" y="22264"/>
                </a:lnTo>
                <a:lnTo>
                  <a:pt x="0" y="22264"/>
                </a:lnTo>
                <a:close/>
              </a:path>
              <a:path fill="lightenLess" w="21600" h="222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64">
                <a:moveTo>
                  <a:pt x="21600" y="0"/>
                </a:moveTo>
                <a:lnTo>
                  <a:pt x="21600" y="22264"/>
                </a:lnTo>
                <a:lnTo>
                  <a:pt x="20200" y="20864"/>
                </a:lnTo>
                <a:lnTo>
                  <a:pt x="20200" y="1400"/>
                </a:lnTo>
                <a:close/>
              </a:path>
              <a:path fill="darkenLess" w="21600" h="22264">
                <a:moveTo>
                  <a:pt x="21600" y="22264"/>
                </a:moveTo>
                <a:lnTo>
                  <a:pt x="0" y="22264"/>
                </a:lnTo>
                <a:lnTo>
                  <a:pt x="1400" y="20864"/>
                </a:lnTo>
                <a:lnTo>
                  <a:pt x="20200" y="20864"/>
                </a:lnTo>
                <a:close/>
              </a:path>
              <a:path fill="lighten" w="21600" h="22264">
                <a:moveTo>
                  <a:pt x="0" y="222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64"/>
                </a:lnTo>
                <a:close/>
              </a:path>
              <a:path fill="darken" w="21600" h="22264">
                <a:moveTo>
                  <a:pt x="3794" y="7825"/>
                </a:moveTo>
                <a:lnTo>
                  <a:pt x="7301" y="7825"/>
                </a:lnTo>
                <a:lnTo>
                  <a:pt x="7301" y="13160"/>
                </a:lnTo>
                <a:cubicBezTo>
                  <a:pt x="7301" y="14083"/>
                  <a:pt x="8102" y="14814"/>
                  <a:pt x="9138" y="14814"/>
                </a:cubicBezTo>
                <a:lnTo>
                  <a:pt x="10800" y="14814"/>
                </a:lnTo>
                <a:cubicBezTo>
                  <a:pt x="11836" y="14814"/>
                  <a:pt x="12636" y="14083"/>
                  <a:pt x="12636" y="13160"/>
                </a:cubicBezTo>
                <a:lnTo>
                  <a:pt x="12636" y="7825"/>
                </a:lnTo>
                <a:lnTo>
                  <a:pt x="10800" y="7825"/>
                </a:lnTo>
                <a:lnTo>
                  <a:pt x="14308" y="4317"/>
                </a:lnTo>
                <a:lnTo>
                  <a:pt x="17981" y="7825"/>
                </a:lnTo>
                <a:lnTo>
                  <a:pt x="16144" y="7825"/>
                </a:lnTo>
                <a:lnTo>
                  <a:pt x="16144" y="13160"/>
                </a:lnTo>
                <a:cubicBezTo>
                  <a:pt x="16144" y="15928"/>
                  <a:pt x="13568" y="18487"/>
                  <a:pt x="10800" y="18487"/>
                </a:cubicBezTo>
                <a:lnTo>
                  <a:pt x="9138" y="18487"/>
                </a:lnTo>
                <a:cubicBezTo>
                  <a:pt x="6370" y="18487"/>
                  <a:pt x="3794" y="15928"/>
                  <a:pt x="3794" y="1316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34" name=""/>
          <p:cNvGraphicFramePr/>
          <p:nvPr/>
        </p:nvGraphicFramePr>
        <p:xfrm>
          <a:off x="468360" y="2565360"/>
          <a:ext cx="8351280" cy="3925800"/>
        </p:xfrm>
        <a:graphic>
          <a:graphicData uri="http://schemas.openxmlformats.org/drawingml/2006/table">
            <a:tbl>
              <a:tblPr/>
              <a:tblGrid>
                <a:gridCol w="2046960"/>
                <a:gridCol w="3940560"/>
                <a:gridCol w="2363760"/>
              </a:tblGrid>
              <a:tr h="3988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отдельных слов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начале предложен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обственных имен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собственных наименовани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олг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оск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н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р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рел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ибир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айкал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еликая Отечественная вой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ссийская Федерац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сероссийский Выставочный Цент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зета «Известия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ман «Евгений Онегин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езд «Дружба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говорила роща золотая берёзовым, весёлым языком (С. Есенин)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5" name="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7626"/>
                </a:moveTo>
                <a:lnTo>
                  <a:pt x="7301" y="7626"/>
                </a:lnTo>
                <a:lnTo>
                  <a:pt x="7301" y="12962"/>
                </a:lnTo>
                <a:cubicBezTo>
                  <a:pt x="7301" y="13884"/>
                  <a:pt x="8102" y="14615"/>
                  <a:pt x="9138" y="14615"/>
                </a:cubicBezTo>
                <a:lnTo>
                  <a:pt x="10800" y="14615"/>
                </a:lnTo>
                <a:cubicBezTo>
                  <a:pt x="11836" y="14615"/>
                  <a:pt x="12636" y="13884"/>
                  <a:pt x="12636" y="12962"/>
                </a:cubicBezTo>
                <a:lnTo>
                  <a:pt x="12636" y="7626"/>
                </a:lnTo>
                <a:lnTo>
                  <a:pt x="10800" y="7626"/>
                </a:lnTo>
                <a:lnTo>
                  <a:pt x="14308" y="4119"/>
                </a:lnTo>
                <a:lnTo>
                  <a:pt x="17981" y="7626"/>
                </a:lnTo>
                <a:lnTo>
                  <a:pt x="16144" y="7626"/>
                </a:lnTo>
                <a:lnTo>
                  <a:pt x="16144" y="12962"/>
                </a:lnTo>
                <a:cubicBezTo>
                  <a:pt x="16144" y="15729"/>
                  <a:pt x="13568" y="18288"/>
                  <a:pt x="10800" y="18288"/>
                </a:cubicBezTo>
                <a:lnTo>
                  <a:pt x="9138" y="18288"/>
                </a:lnTo>
                <a:cubicBezTo>
                  <a:pt x="6370" y="18288"/>
                  <a:pt x="3794" y="15729"/>
                  <a:pt x="3794" y="129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Определи род и склонение. Задай вопрос, определи паде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                    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1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склонение        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2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склонение        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3 </a:t>
            </a: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6" action="ppaction://hlinksldjump"/>
              </a:rPr>
              <a:t>склон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.п.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т. 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. п.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>
            <a:off x="468360" y="4076640"/>
            <a:ext cx="8280360" cy="2521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-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и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в окончаниях существительных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457200" y="4149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- ИЯ                                                     - ИЕ                                 - 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т.                                                пред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684360" y="620640"/>
            <a:ext cx="358560" cy="4320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1547640" y="620640"/>
            <a:ext cx="360360" cy="43200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"/>
          <p:cNvSpPr txBox="1"/>
          <p:nvPr/>
        </p:nvSpPr>
        <p:spPr>
          <a:xfrm>
            <a:off x="1908000" y="2060640"/>
            <a:ext cx="110520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и (-ы)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1906560" y="2637000"/>
            <a:ext cx="50472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е</a:t>
            </a:r>
            <a:endParaRPr b="0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1908000" y="3284640"/>
            <a:ext cx="43200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е</a:t>
            </a:r>
            <a:endParaRPr b="0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4140360" y="3284640"/>
            <a:ext cx="43308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cc33"/>
                  </a:solidFill>
                  <a:miter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е</a:t>
            </a:r>
            <a:endParaRPr b="0" lang="en-US" sz="1800" spc="1" strike="noStrike">
              <a:ln w="9360">
                <a:solidFill>
                  <a:srgbClr val="33cc33"/>
                </a:solidFill>
                <a:miter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6" name=""/>
          <p:cNvSpPr txBox="1"/>
          <p:nvPr/>
        </p:nvSpPr>
        <p:spPr>
          <a:xfrm>
            <a:off x="6227640" y="2133720"/>
            <a:ext cx="505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и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7" name=""/>
          <p:cNvSpPr txBox="1"/>
          <p:nvPr/>
        </p:nvSpPr>
        <p:spPr>
          <a:xfrm>
            <a:off x="6300720" y="2708280"/>
            <a:ext cx="50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и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8" name=""/>
          <p:cNvSpPr txBox="1"/>
          <p:nvPr/>
        </p:nvSpPr>
        <p:spPr>
          <a:xfrm>
            <a:off x="6300720" y="3284640"/>
            <a:ext cx="50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-и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1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149" name=""/>
          <p:cNvSpPr txBox="1"/>
          <p:nvPr/>
        </p:nvSpPr>
        <p:spPr>
          <a:xfrm>
            <a:off x="1908000" y="4653000"/>
            <a:ext cx="12956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2700360" y="4508640"/>
            <a:ext cx="719280" cy="100800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>
            <a:off x="1116000" y="4581360"/>
            <a:ext cx="647640" cy="360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1116000" y="5229360"/>
            <a:ext cx="7920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1332000" y="5444640"/>
            <a:ext cx="576000" cy="5050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6227640" y="4797360"/>
            <a:ext cx="129564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и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55" name=""/>
          <p:cNvSpPr/>
          <p:nvPr/>
        </p:nvSpPr>
        <p:spPr>
          <a:xfrm>
            <a:off x="7020000" y="4581360"/>
            <a:ext cx="718920" cy="1008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5148360" y="5229360"/>
            <a:ext cx="93636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">
            <a:hlinkClick r:id="rId16" action="ppaction://hlinksldjump"/>
          </p:cNvPr>
          <p:cNvSpPr/>
          <p:nvPr/>
        </p:nvSpPr>
        <p:spPr>
          <a:xfrm>
            <a:off x="8172360" y="6165720"/>
            <a:ext cx="971640" cy="692280"/>
          </a:xfrm>
          <a:custGeom>
            <a:avLst/>
            <a:gdLst>
              <a:gd name="textAreaLeft" fmla="*/ 44640 w 971640"/>
              <a:gd name="textAreaRight" fmla="*/ 927000 w 971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0312" h="21600">
                <a:moveTo>
                  <a:pt x="0" y="0"/>
                </a:moveTo>
                <a:lnTo>
                  <a:pt x="30312" y="0"/>
                </a:lnTo>
                <a:lnTo>
                  <a:pt x="30312" y="21600"/>
                </a:lnTo>
                <a:lnTo>
                  <a:pt x="0" y="21600"/>
                </a:lnTo>
                <a:close/>
              </a:path>
              <a:path fill="lightenLess" w="30312" h="21600">
                <a:moveTo>
                  <a:pt x="0" y="0"/>
                </a:moveTo>
                <a:lnTo>
                  <a:pt x="30312" y="0"/>
                </a:lnTo>
                <a:lnTo>
                  <a:pt x="28912" y="1400"/>
                </a:lnTo>
                <a:lnTo>
                  <a:pt x="1400" y="1400"/>
                </a:lnTo>
                <a:close/>
              </a:path>
              <a:path fill="darken" w="30312" h="21600">
                <a:moveTo>
                  <a:pt x="30312" y="0"/>
                </a:moveTo>
                <a:lnTo>
                  <a:pt x="30312" y="21600"/>
                </a:lnTo>
                <a:lnTo>
                  <a:pt x="28912" y="20200"/>
                </a:lnTo>
                <a:lnTo>
                  <a:pt x="28912" y="1400"/>
                </a:lnTo>
                <a:close/>
              </a:path>
              <a:path fill="darkenLess" w="30312" h="21600">
                <a:moveTo>
                  <a:pt x="303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12" y="20200"/>
                </a:lnTo>
                <a:close/>
              </a:path>
              <a:path fill="lighten" w="303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12" h="21600">
                <a:moveTo>
                  <a:pt x="8149" y="7493"/>
                </a:moveTo>
                <a:lnTo>
                  <a:pt x="11657" y="7493"/>
                </a:lnTo>
                <a:lnTo>
                  <a:pt x="11657" y="12828"/>
                </a:lnTo>
                <a:cubicBezTo>
                  <a:pt x="11657" y="13751"/>
                  <a:pt x="12458" y="14482"/>
                  <a:pt x="13494" y="14482"/>
                </a:cubicBezTo>
                <a:lnTo>
                  <a:pt x="15156" y="14482"/>
                </a:lnTo>
                <a:cubicBezTo>
                  <a:pt x="16192" y="14482"/>
                  <a:pt x="16992" y="13751"/>
                  <a:pt x="16992" y="12828"/>
                </a:cubicBezTo>
                <a:lnTo>
                  <a:pt x="16992" y="7493"/>
                </a:lnTo>
                <a:lnTo>
                  <a:pt x="15156" y="7493"/>
                </a:lnTo>
                <a:lnTo>
                  <a:pt x="18664" y="3985"/>
                </a:lnTo>
                <a:lnTo>
                  <a:pt x="22336" y="7493"/>
                </a:lnTo>
                <a:lnTo>
                  <a:pt x="20500" y="7493"/>
                </a:lnTo>
                <a:lnTo>
                  <a:pt x="20500" y="12828"/>
                </a:lnTo>
                <a:cubicBezTo>
                  <a:pt x="20500" y="15596"/>
                  <a:pt x="17924" y="18155"/>
                  <a:pt x="15156" y="18155"/>
                </a:cubicBezTo>
                <a:lnTo>
                  <a:pt x="13494" y="18155"/>
                </a:lnTo>
                <a:cubicBezTo>
                  <a:pt x="10726" y="18155"/>
                  <a:pt x="8149" y="15596"/>
                  <a:pt x="8149" y="12828"/>
                </a:cubicBezTo>
                <a:close/>
              </a:path>
            </a:pathLst>
          </a:cu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20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2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2000" fill="hold"/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2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2000" fill="hold"/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2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2000" fill="hold"/>
                                        <p:tgtEl>
                                          <p:spTgt spid="2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 fill="hold"/>
                                        <p:tgtEl>
                                          <p:spTgt spid="2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 fill="hold"/>
                                        <p:tgtEl>
                                          <p:spTgt spid="2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0" fill="hold"/>
                                        <p:tgtEl>
                                          <p:spTgt spid="2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0" fill="hold"/>
                                        <p:tgtEl>
                                          <p:spTgt spid="2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20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20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000" fill="hold"/>
                                        <p:tgtEl>
                                          <p:spTgt spid="2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20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20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2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2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2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2000" fill="hold"/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5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2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5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2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20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20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2000" fill="hold"/>
                                        <p:tgtEl>
                                          <p:spTgt spid="2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2" dur="20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6" dur="20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99"/>
                </a:solidFill>
                <a:latin typeface="Verdana"/>
              </a:rPr>
              <a:t>склонение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. р.                             стран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ж. р.                             земл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м. р.                             кон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р. р                             село, пол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ж. р.                             степ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                           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еч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0" name="">
            <a:hlinkClick r:id="" action="ppaction://hlinkshowjump?jump=previousslide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3059280" y="198900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-а - -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2195640" y="1989000"/>
            <a:ext cx="1368360" cy="360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 flipV="1">
            <a:off x="2050920" y="2421000"/>
            <a:ext cx="1511280" cy="7128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7451640" y="1700280"/>
            <a:ext cx="287280" cy="4334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>
            <a:off x="7308720" y="2276640"/>
            <a:ext cx="287640" cy="4330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3780000" y="2205000"/>
            <a:ext cx="360360" cy="360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>
            <a:off x="4788000" y="2205000"/>
            <a:ext cx="360360" cy="360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>
            <a:off x="3132000" y="371628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Comic Sans MS"/>
              </a:rPr>
              <a:t>-о - -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3924360" y="4005360"/>
            <a:ext cx="360360" cy="360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>
            <a:off x="5003640" y="4005360"/>
            <a:ext cx="360360" cy="360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>
            <a:off x="3924360" y="3429000"/>
            <a:ext cx="360360" cy="360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3564000" y="465300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4000" spc="-1" strike="noStrike">
                <a:solidFill>
                  <a:srgbClr val="cc0000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7020000" y="3860640"/>
            <a:ext cx="287280" cy="4334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8317080" y="3789360"/>
            <a:ext cx="287280" cy="4334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7236000" y="3284640"/>
            <a:ext cx="360360" cy="360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11628360" y="3645000"/>
            <a:ext cx="287280" cy="4334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7524720" y="4869000"/>
            <a:ext cx="287280" cy="43308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7451640" y="5373720"/>
            <a:ext cx="287280" cy="43344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>
            <a:off x="2268360" y="3500280"/>
            <a:ext cx="14400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>
            <a:off x="2268360" y="4076640"/>
            <a:ext cx="14400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2268360" y="5084640"/>
            <a:ext cx="1440000" cy="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3" dur="10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4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98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898" fill="hold"/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9" dur="1000"/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0" dur="1000" fill="hold"/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898" fill="hold"/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7" dur="1000"/>
                                        <p:tgtEl>
                                          <p:spTgt spid="2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2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898" fill="hold"/>
                                        <p:tgtEl>
                                          <p:spTgt spid="2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2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2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898" fill="hold"/>
                                        <p:tgtEl>
                                          <p:spTgt spid="2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3" dur="1000"/>
                                        <p:tgtEl>
                                          <p:spTgt spid="2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4" dur="1000" fill="hold"/>
                                        <p:tgtEl>
                                          <p:spTgt spid="2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898" fill="hold"/>
                                        <p:tgtEl>
                                          <p:spTgt spid="2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1" dur="1000"/>
                                        <p:tgtEl>
                                          <p:spTgt spid="2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1000" fill="hold"/>
                                        <p:tgtEl>
                                          <p:spTgt spid="2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898" fill="hold"/>
                                        <p:tgtEl>
                                          <p:spTgt spid="2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"/>
          <p:cNvSpPr/>
          <p:nvPr/>
        </p:nvSpPr>
        <p:spPr>
          <a:xfrm>
            <a:off x="2195640" y="3141720"/>
            <a:ext cx="28872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Безударные гласные в        имён прилагательных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7451640" y="5229360"/>
            <a:ext cx="1513080" cy="1368360"/>
          </a:xfrm>
          <a:custGeom>
            <a:avLst/>
            <a:gdLst>
              <a:gd name="textAreaLeft" fmla="*/ 88560 w 1513080"/>
              <a:gd name="textAreaRight" fmla="*/ 1424520 w 1513080"/>
              <a:gd name="textAreaTop" fmla="*/ 88560 h 1368360"/>
              <a:gd name="textAreaBottom" fmla="*/ 1279800 h 1368360"/>
            </a:gdLst>
            <a:ahLst/>
            <a:rect l="textAreaLeft" t="textAreaTop" r="textAreaRight" b="textAreaBottom"/>
            <a:pathLst>
              <a:path w="23884" h="21600">
                <a:moveTo>
                  <a:pt x="0" y="0"/>
                </a:moveTo>
                <a:lnTo>
                  <a:pt x="23884" y="0"/>
                </a:lnTo>
                <a:lnTo>
                  <a:pt x="23884" y="21600"/>
                </a:lnTo>
                <a:lnTo>
                  <a:pt x="0" y="21600"/>
                </a:lnTo>
                <a:close/>
              </a:path>
              <a:path fill="lightenLess" w="23884" h="21600">
                <a:moveTo>
                  <a:pt x="0" y="0"/>
                </a:moveTo>
                <a:lnTo>
                  <a:pt x="23884" y="0"/>
                </a:lnTo>
                <a:lnTo>
                  <a:pt x="22484" y="1400"/>
                </a:lnTo>
                <a:lnTo>
                  <a:pt x="1400" y="1400"/>
                </a:lnTo>
                <a:close/>
              </a:path>
              <a:path fill="darken" w="23884" h="21600">
                <a:moveTo>
                  <a:pt x="23884" y="0"/>
                </a:moveTo>
                <a:lnTo>
                  <a:pt x="23884" y="21600"/>
                </a:lnTo>
                <a:lnTo>
                  <a:pt x="22484" y="20200"/>
                </a:lnTo>
                <a:lnTo>
                  <a:pt x="22484" y="1400"/>
                </a:lnTo>
                <a:close/>
              </a:path>
              <a:path fill="darkenLess" w="23884" h="21600">
                <a:moveTo>
                  <a:pt x="23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84" y="20200"/>
                </a:lnTo>
                <a:close/>
              </a:path>
              <a:path fill="lighten" w="23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84" h="21600">
                <a:moveTo>
                  <a:pt x="4935" y="7493"/>
                </a:moveTo>
                <a:lnTo>
                  <a:pt x="8443" y="7493"/>
                </a:lnTo>
                <a:lnTo>
                  <a:pt x="8443" y="12828"/>
                </a:lnTo>
                <a:cubicBezTo>
                  <a:pt x="8443" y="13751"/>
                  <a:pt x="9244" y="14482"/>
                  <a:pt x="10280" y="14482"/>
                </a:cubicBezTo>
                <a:lnTo>
                  <a:pt x="11942" y="14482"/>
                </a:lnTo>
                <a:cubicBezTo>
                  <a:pt x="12978" y="14482"/>
                  <a:pt x="13778" y="13751"/>
                  <a:pt x="13778" y="12828"/>
                </a:cubicBezTo>
                <a:lnTo>
                  <a:pt x="13778" y="7493"/>
                </a:lnTo>
                <a:lnTo>
                  <a:pt x="11942" y="7493"/>
                </a:lnTo>
                <a:lnTo>
                  <a:pt x="15450" y="3985"/>
                </a:lnTo>
                <a:lnTo>
                  <a:pt x="19122" y="7493"/>
                </a:lnTo>
                <a:lnTo>
                  <a:pt x="17286" y="7493"/>
                </a:lnTo>
                <a:lnTo>
                  <a:pt x="17286" y="12828"/>
                </a:lnTo>
                <a:cubicBezTo>
                  <a:pt x="17286" y="15596"/>
                  <a:pt x="14710" y="18155"/>
                  <a:pt x="11942" y="18155"/>
                </a:cubicBezTo>
                <a:lnTo>
                  <a:pt x="10280" y="18155"/>
                </a:lnTo>
                <a:cubicBezTo>
                  <a:pt x="7512" y="18155"/>
                  <a:pt x="4935" y="15596"/>
                  <a:pt x="4935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">
            <a:hlinkClick r:id="" action="ppaction://hlinkshowjump?jump=previousslide"/>
          </p:cNvPr>
          <p:cNvSpPr/>
          <p:nvPr/>
        </p:nvSpPr>
        <p:spPr>
          <a:xfrm>
            <a:off x="8317080" y="5950080"/>
            <a:ext cx="826920" cy="90792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907920"/>
              <a:gd name="textAreaBottom" fmla="*/ 854640 h 907920"/>
            </a:gdLst>
            <a:ahLst/>
            <a:rect l="textAreaLeft" t="textAreaTop" r="textAreaRight" b="textAreaBottom"/>
            <a:pathLst>
              <a:path w="21600" h="23715">
                <a:moveTo>
                  <a:pt x="0" y="0"/>
                </a:moveTo>
                <a:lnTo>
                  <a:pt x="21600" y="0"/>
                </a:lnTo>
                <a:lnTo>
                  <a:pt x="21600" y="23715"/>
                </a:lnTo>
                <a:lnTo>
                  <a:pt x="0" y="23715"/>
                </a:lnTo>
                <a:close/>
              </a:path>
              <a:path fill="lightenLess" w="21600" h="237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15">
                <a:moveTo>
                  <a:pt x="21600" y="0"/>
                </a:moveTo>
                <a:lnTo>
                  <a:pt x="21600" y="23715"/>
                </a:lnTo>
                <a:lnTo>
                  <a:pt x="20200" y="22315"/>
                </a:lnTo>
                <a:lnTo>
                  <a:pt x="20200" y="1400"/>
                </a:lnTo>
                <a:close/>
              </a:path>
              <a:path fill="darkenLess" w="21600" h="23715">
                <a:moveTo>
                  <a:pt x="21600" y="23715"/>
                </a:moveTo>
                <a:lnTo>
                  <a:pt x="0" y="23715"/>
                </a:lnTo>
                <a:lnTo>
                  <a:pt x="1400" y="22315"/>
                </a:lnTo>
                <a:lnTo>
                  <a:pt x="20200" y="22315"/>
                </a:lnTo>
                <a:close/>
              </a:path>
              <a:path fill="lighten" w="21600" h="23715">
                <a:moveTo>
                  <a:pt x="0" y="237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15"/>
                </a:lnTo>
                <a:close/>
              </a:path>
              <a:path fill="darken" w="21600" h="23715">
                <a:moveTo>
                  <a:pt x="3794" y="8550"/>
                </a:moveTo>
                <a:lnTo>
                  <a:pt x="7301" y="8550"/>
                </a:lnTo>
                <a:lnTo>
                  <a:pt x="7301" y="13885"/>
                </a:lnTo>
                <a:cubicBezTo>
                  <a:pt x="7301" y="14808"/>
                  <a:pt x="8102" y="15539"/>
                  <a:pt x="9138" y="15539"/>
                </a:cubicBezTo>
                <a:lnTo>
                  <a:pt x="10800" y="15539"/>
                </a:lnTo>
                <a:cubicBezTo>
                  <a:pt x="11836" y="15539"/>
                  <a:pt x="12636" y="14808"/>
                  <a:pt x="12636" y="13885"/>
                </a:cubicBezTo>
                <a:lnTo>
                  <a:pt x="12636" y="8550"/>
                </a:lnTo>
                <a:lnTo>
                  <a:pt x="10800" y="8550"/>
                </a:lnTo>
                <a:lnTo>
                  <a:pt x="14308" y="5042"/>
                </a:lnTo>
                <a:lnTo>
                  <a:pt x="17981" y="8550"/>
                </a:lnTo>
                <a:lnTo>
                  <a:pt x="16144" y="8550"/>
                </a:lnTo>
                <a:lnTo>
                  <a:pt x="16144" y="13885"/>
                </a:lnTo>
                <a:cubicBezTo>
                  <a:pt x="16144" y="16653"/>
                  <a:pt x="13568" y="19212"/>
                  <a:pt x="10800" y="19212"/>
                </a:cubicBezTo>
                <a:lnTo>
                  <a:pt x="9138" y="19212"/>
                </a:lnTo>
                <a:cubicBezTo>
                  <a:pt x="6370" y="19212"/>
                  <a:pt x="3794" y="16653"/>
                  <a:pt x="3794" y="13885"/>
                </a:cubicBezTo>
                <a:close/>
              </a:path>
            </a:pathLst>
          </a:custGeom>
          <a:noFill/>
          <a:ln w="93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724360" y="836640"/>
            <a:ext cx="648000" cy="576360"/>
          </a:xfrm>
          <a:prstGeom prst="rect">
            <a:avLst/>
          </a:prstGeom>
          <a:noFill/>
          <a:ln w="2844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3492360" y="3141720"/>
            <a:ext cx="28908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4140360" y="3141720"/>
            <a:ext cx="28872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2627280" y="3429000"/>
            <a:ext cx="28908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3851280" y="3429000"/>
            <a:ext cx="28908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>
            <a:off x="4572000" y="3429000"/>
            <a:ext cx="28908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2195640" y="3716280"/>
            <a:ext cx="28872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3348000" y="3716280"/>
            <a:ext cx="28908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>
            <a:off x="4284720" y="3716280"/>
            <a:ext cx="288720" cy="21600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95" name=""/>
          <p:cNvGraphicFramePr/>
          <p:nvPr/>
        </p:nvGraphicFramePr>
        <p:xfrm>
          <a:off x="826920" y="4653000"/>
          <a:ext cx="7777440" cy="1728720"/>
        </p:xfrm>
        <a:graphic>
          <a:graphicData uri="http://schemas.openxmlformats.org/drawingml/2006/table">
            <a:tbl>
              <a:tblPr/>
              <a:tblGrid>
                <a:gridCol w="2592720"/>
                <a:gridCol w="2592360"/>
                <a:gridCol w="259236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е ,  -е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ого ,  -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ому , -е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ом , -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ым , -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ая , я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ой , -е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ую , -ю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ые , -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ых , -и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ыми , и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971640" y="2349000"/>
            <a:ext cx="640872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Задай вопрос от существительног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Проверяй безударное окончание вопросительным словом с ударным окончанием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море (каком?) огромном сине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д морем (каким?) огромным синим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пору (какую?) студёную зимнюю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Помни о соответствиях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269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3635280" y="5805360"/>
            <a:ext cx="4176720" cy="3988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скл. в м.р., ед. ч.,им. п. -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Слышится   ца</a:t>
            </a:r>
            <a:br>
              <a:rPr sz="2400"/>
            </a:b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Правописание –</a:t>
            </a:r>
            <a:r>
              <a:rPr b="0" i="1" lang="ru-RU" sz="2400" spc="-1" strike="noStrike">
                <a:solidFill>
                  <a:srgbClr val="006666"/>
                </a:solidFill>
                <a:latin typeface="Verdana"/>
              </a:rPr>
              <a:t>тся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и –</a:t>
            </a:r>
            <a:r>
              <a:rPr b="0" i="1" lang="ru-RU" sz="2400" spc="-1" strike="noStrike">
                <a:solidFill>
                  <a:srgbClr val="006666"/>
                </a:solidFill>
                <a:latin typeface="Verdana"/>
              </a:rPr>
              <a:t>ться </a:t>
            </a:r>
            <a:r>
              <a:rPr b="0" lang="ru-RU" sz="2400" spc="-1" strike="noStrike">
                <a:solidFill>
                  <a:srgbClr val="006666"/>
                </a:solidFill>
                <a:latin typeface="Verdana"/>
              </a:rPr>
              <a:t>в глаголах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96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Задай вопрос. Определи часть реч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      </a:t>
            </a: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Кто? Что?                           Что делать? Что сделать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уществительное                              глаго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-ца                                     2. От какого слова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зависит? Ставлю к глаголу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ица                                   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опрос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ица                 он, она что сделает?       что делать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трая спица        они что сделают?            что сделать?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истая водиц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ит переносиц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-ется  -утся  -ются                (что делать?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-ится  -атся  -ятся                 Он хочет учи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ться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ученик (что делает?)           занима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тьс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учи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тся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, занимае</a:t>
            </a: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тся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В безличных глаголах всегда пишется –тся без ь: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                   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 сидится, хочется, дремлется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0" name=""/>
          <p:cNvSpPr/>
          <p:nvPr/>
        </p:nvSpPr>
        <p:spPr>
          <a:xfrm>
            <a:off x="5219640" y="333360"/>
            <a:ext cx="146160" cy="431640"/>
          </a:xfrm>
          <a:custGeom>
            <a:avLst/>
            <a:gdLst>
              <a:gd name="textAreaLeft" fmla="*/ 42840 w 146160"/>
              <a:gd name="textAreaRight" fmla="*/ 146520 w 146160"/>
              <a:gd name="textAreaTop" fmla="*/ 18000 h 431640"/>
              <a:gd name="textAreaBottom" fmla="*/ 4140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5580000" y="333360"/>
            <a:ext cx="217440" cy="431640"/>
          </a:xfrm>
          <a:custGeom>
            <a:avLst/>
            <a:gdLst>
              <a:gd name="textAreaLeft" fmla="*/ 0 w 217440"/>
              <a:gd name="textAreaRight" fmla="*/ 152640 w 217440"/>
              <a:gd name="textAreaTop" fmla="*/ 18000 h 431640"/>
              <a:gd name="textAreaBottom" fmla="*/ 4140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"/>
          <p:cNvSpPr txBox="1"/>
          <p:nvPr/>
        </p:nvSpPr>
        <p:spPr>
          <a:xfrm>
            <a:off x="3276720" y="3789360"/>
            <a:ext cx="1298520" cy="64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т Ь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4067280" y="3860640"/>
            <a:ext cx="720720" cy="719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4067280" y="3716280"/>
            <a:ext cx="649080" cy="792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2771640" y="2060640"/>
            <a:ext cx="0" cy="396072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"/>
          <p:cNvSpPr txBox="1"/>
          <p:nvPr/>
        </p:nvSpPr>
        <p:spPr>
          <a:xfrm>
            <a:off x="6300720" y="3716280"/>
            <a:ext cx="15210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cc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есть  Ь</a:t>
            </a:r>
            <a:endParaRPr b="0" lang="en-US" sz="1800" spc="1" strike="noStrike">
              <a:ln w="19080">
                <a:solidFill>
                  <a:srgbClr val="cc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7" name=""/>
          <p:cNvSpPr/>
          <p:nvPr/>
        </p:nvSpPr>
        <p:spPr>
          <a:xfrm>
            <a:off x="3059280" y="4581360"/>
            <a:ext cx="217440" cy="2160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>
            <a:off x="3780000" y="4581360"/>
            <a:ext cx="217440" cy="2160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>
            <a:off x="4500720" y="4581360"/>
            <a:ext cx="217440" cy="2160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3059280" y="4797360"/>
            <a:ext cx="217440" cy="2160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3780000" y="4797360"/>
            <a:ext cx="217440" cy="2160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4500720" y="4797360"/>
            <a:ext cx="217440" cy="21600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">
            <a:hlinkClick r:id="" action="ppaction://hlinkshowjump?jump=previousslide"/>
          </p:cNvPr>
          <p:cNvSpPr/>
          <p:nvPr/>
        </p:nvSpPr>
        <p:spPr>
          <a:xfrm>
            <a:off x="7920000" y="6137280"/>
            <a:ext cx="1224000" cy="720720"/>
          </a:xfrm>
          <a:custGeom>
            <a:avLst/>
            <a:gdLst>
              <a:gd name="textAreaLeft" fmla="*/ 46440 w 1224000"/>
              <a:gd name="textAreaRight" fmla="*/ 1177560 w 1224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6676" h="21600">
                <a:moveTo>
                  <a:pt x="0" y="0"/>
                </a:moveTo>
                <a:lnTo>
                  <a:pt x="36676" y="0"/>
                </a:lnTo>
                <a:lnTo>
                  <a:pt x="36676" y="21600"/>
                </a:lnTo>
                <a:lnTo>
                  <a:pt x="0" y="21600"/>
                </a:lnTo>
                <a:close/>
              </a:path>
              <a:path fill="lightenLess" w="36676" h="21600">
                <a:moveTo>
                  <a:pt x="0" y="0"/>
                </a:moveTo>
                <a:lnTo>
                  <a:pt x="36676" y="0"/>
                </a:lnTo>
                <a:lnTo>
                  <a:pt x="35276" y="1400"/>
                </a:lnTo>
                <a:lnTo>
                  <a:pt x="1400" y="1400"/>
                </a:lnTo>
                <a:close/>
              </a:path>
              <a:path fill="darken" w="36676" h="21600">
                <a:moveTo>
                  <a:pt x="36676" y="0"/>
                </a:moveTo>
                <a:lnTo>
                  <a:pt x="36676" y="21600"/>
                </a:lnTo>
                <a:lnTo>
                  <a:pt x="35276" y="20200"/>
                </a:lnTo>
                <a:lnTo>
                  <a:pt x="35276" y="1400"/>
                </a:lnTo>
                <a:close/>
              </a:path>
              <a:path fill="darkenLess" w="36676" h="21600">
                <a:moveTo>
                  <a:pt x="36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76" y="20200"/>
                </a:lnTo>
                <a:close/>
              </a:path>
              <a:path fill="lighten" w="36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676" h="21600">
                <a:moveTo>
                  <a:pt x="11331" y="7493"/>
                </a:moveTo>
                <a:lnTo>
                  <a:pt x="14839" y="7493"/>
                </a:lnTo>
                <a:lnTo>
                  <a:pt x="14839" y="12828"/>
                </a:lnTo>
                <a:cubicBezTo>
                  <a:pt x="14839" y="13751"/>
                  <a:pt x="15640" y="14482"/>
                  <a:pt x="16675" y="14482"/>
                </a:cubicBezTo>
                <a:lnTo>
                  <a:pt x="18338" y="14482"/>
                </a:lnTo>
                <a:cubicBezTo>
                  <a:pt x="19374" y="14482"/>
                  <a:pt x="20174" y="13751"/>
                  <a:pt x="20174" y="12828"/>
                </a:cubicBezTo>
                <a:lnTo>
                  <a:pt x="20174" y="7493"/>
                </a:lnTo>
                <a:lnTo>
                  <a:pt x="18338" y="7493"/>
                </a:lnTo>
                <a:lnTo>
                  <a:pt x="21845" y="3985"/>
                </a:lnTo>
                <a:lnTo>
                  <a:pt x="25518" y="7493"/>
                </a:lnTo>
                <a:lnTo>
                  <a:pt x="23682" y="7493"/>
                </a:lnTo>
                <a:lnTo>
                  <a:pt x="23682" y="12828"/>
                </a:lnTo>
                <a:cubicBezTo>
                  <a:pt x="23682" y="15596"/>
                  <a:pt x="21106" y="18155"/>
                  <a:pt x="18338" y="18155"/>
                </a:cubicBezTo>
                <a:lnTo>
                  <a:pt x="16675" y="18155"/>
                </a:lnTo>
                <a:cubicBezTo>
                  <a:pt x="13908" y="18155"/>
                  <a:pt x="11331" y="15596"/>
                  <a:pt x="11331" y="12828"/>
                </a:cubicBezTo>
                <a:close/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71380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Мягкий знак после шипящих в неопределённой форме глагола и во 2-м лице ед. ч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тся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ться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 в глагол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Е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 в корнях с чередов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Е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5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6" action="ppaction://hlinksldjump"/>
              </a:rPr>
              <a:t>в окончаниях глаголов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7" action="ppaction://hlinksldjump"/>
              </a:rPr>
              <a:t>I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18" action="ppaction://hlinksldjump"/>
              </a:rPr>
              <a:t>и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9" action="ppaction://hlinksldjump"/>
              </a:rPr>
              <a:t>II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0" action="ppaction://hlinksldjump"/>
              </a:rPr>
              <a:t>спря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1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2" action="ppaction://hlinksldjump"/>
              </a:rPr>
              <a:t>О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3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4" action="ppaction://hlinksldjump"/>
              </a:rPr>
              <a:t>А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5" action="ppaction://hlinksldjump"/>
              </a:rPr>
              <a:t> в корне –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6" action="ppaction://hlinksldjump"/>
              </a:rPr>
              <a:t>КОС-- КАС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7" action="ppaction://hlinksldjump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8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29" action="ppaction://hlinksldjump"/>
              </a:rPr>
              <a:t>О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0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1" action="ppaction://hlinksldjump"/>
              </a:rPr>
              <a:t>А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2" action="ppaction://hlinksldjump"/>
              </a:rPr>
              <a:t> в корне –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3" action="ppaction://hlinksldjump"/>
              </a:rPr>
              <a:t>ГОР– ГАР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4" action="ppaction://hlinksldjump"/>
              </a:rPr>
              <a:t>Буквы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5" action="ppaction://hlinksldjump"/>
              </a:rPr>
              <a:t> Ы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6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7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8" action="ppaction://hlinksldjump"/>
              </a:rPr>
              <a:t>после пристав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39" action="ppaction://hlinksldjump"/>
              </a:rPr>
              <a:t>Гласные в приставках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0" action="ppaction://hlinksldjump"/>
              </a:rPr>
              <a:t> ПРЕ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1" action="ppaction://hlinksldjump"/>
              </a:rPr>
              <a:t>- 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2" action="ppaction://hlinksldjump"/>
              </a:rPr>
              <a:t> ПР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3" action="ppaction://hlinksldjump"/>
              </a:rPr>
              <a:t>Соединительны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4" action="ppaction://hlinksldjump"/>
              </a:rPr>
              <a:t>О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5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6" action="ppaction://hlinksldjump"/>
              </a:rPr>
              <a:t>Е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7" action="ppaction://hlinksldjump"/>
              </a:rPr>
              <a:t> в сложных слов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8" action="ppaction://hlinksldjump"/>
              </a:rPr>
              <a:t>Буква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49" action="ppaction://hlinksldjump"/>
              </a:rPr>
              <a:t> 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0" action="ppaction://hlinksldjump"/>
              </a:rPr>
              <a:t>в суффикс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1" action="ppaction://hlinksldjump"/>
              </a:rPr>
              <a:t>–ЕН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2" action="ppaction://hlinksldjump"/>
              </a:rPr>
              <a:t> существительных на  -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3" action="ppaction://hlinksldjump"/>
              </a:rPr>
              <a:t>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итное и раздельное написание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 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 существитель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4" action="ppaction://hlinksldjump"/>
              </a:rPr>
              <a:t>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5" action="ppaction://hlinksldjump"/>
              </a:rPr>
              <a:t>Щ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6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7" action="ppaction://hlinksldjump"/>
              </a:rPr>
              <a:t>Ч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8" action="ppaction://hlinksldjump"/>
              </a:rPr>
              <a:t> в суффиксе –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59" action="ppaction://hlinksldjump"/>
              </a:rPr>
              <a:t>ЩИК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0" action="ppaction://hlinksldjump"/>
              </a:rPr>
              <a:t>-   (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1" action="ppaction://hlinksldjump"/>
              </a:rPr>
              <a:t> ЧИК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2" action="ppaction://hlinksldjump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3" action="ppaction://hlinksldjump"/>
              </a:rPr>
              <a:t>Гласны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4" action="ppaction://hlinksldjump"/>
              </a:rPr>
              <a:t>Е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5" action="ppaction://hlinksldjump"/>
              </a:rPr>
              <a:t>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6" action="ppaction://hlinksldjump"/>
              </a:rPr>
              <a:t>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7" action="ppaction://hlinksldjump"/>
              </a:rPr>
              <a:t>  в суффиксах существительных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8" action="ppaction://hlinksldjump"/>
              </a:rPr>
              <a:t>– ЕК- , -ИК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69" action="ppaction://hlinksldjump"/>
              </a:rPr>
              <a:t>Буквы 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0" action="ppaction://hlinksldjump"/>
              </a:rPr>
              <a:t>О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1" action="ppaction://hlinksldjump"/>
              </a:rPr>
              <a:t>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2" action="ppaction://hlinksldjump"/>
              </a:rPr>
              <a:t>Е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3" action="ppaction://hlinksldjump"/>
              </a:rPr>
              <a:t> после шипящих в суффиксах существите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4" action="ppaction://hlinksldjump"/>
              </a:rPr>
              <a:t>Дефисное и слитное написание слов с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5" action="ppaction://hlinksldjump"/>
              </a:rPr>
              <a:t> ПОЛ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6" action="ppaction://hlinksldjump"/>
              </a:rPr>
              <a:t>-  и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7" action="ppaction://hlinksldjump"/>
              </a:rPr>
              <a:t>ПОЛУ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итное и раздельное написание 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 прилагательны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8" action="ppaction://hlinksldjump"/>
              </a:rPr>
              <a:t>Буквы 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79" action="ppaction://hlinksldjump"/>
              </a:rPr>
              <a:t>О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0" action="ppaction://hlinksldjump"/>
              </a:rPr>
              <a:t>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1" action="ppaction://hlinksldjump"/>
              </a:rPr>
              <a:t> Е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2" action="ppaction://hlinksldjump"/>
              </a:rPr>
              <a:t>после шипящих и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3" action="ppaction://hlinksldjump"/>
              </a:rPr>
              <a:t> Ц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4" action="ppaction://hlinksldjump"/>
              </a:rPr>
              <a:t>  в суффиксах прилаг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5" action="ppaction://hlinksldjump"/>
              </a:rPr>
              <a:t>Одна и две буквы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6" action="ppaction://hlinksldjump"/>
              </a:rPr>
              <a:t>Н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7" action="ppaction://hlinksldjump"/>
              </a:rPr>
              <a:t> в суффиксах прилаг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8" action="ppaction://hlinksldjump"/>
              </a:rPr>
              <a:t>Различение на письме суффиксов 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89" action="ppaction://hlinksldjump"/>
              </a:rPr>
              <a:t>-К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0" action="ppaction://hlinksldjump"/>
              </a:rPr>
              <a:t>  и  -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1" action="ppaction://hlinksldjump"/>
              </a:rPr>
              <a:t> СК </a:t>
            </a: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2" action="ppaction://hlinksldjump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666699"/>
                </a:solidFill>
                <a:uFillTx/>
                <a:latin typeface="Arial"/>
                <a:hlinkClick r:id="rId93" action="ppaction://hlinksldjump"/>
              </a:rPr>
              <a:t>Дефис в сложных прилаг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ягкий знак в середине числ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уква 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ончаниях количественных числи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в неопределённых местоим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фис в неопределённых местоим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личение приставок 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и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 Н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в отрицательных местоим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литное и раздельное написание 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Е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1" lang="ru-RU" sz="1400" spc="-1" strike="noStrike">
                <a:solidFill>
                  <a:srgbClr val="ff33cc"/>
                </a:solidFill>
                <a:latin typeface="Arial"/>
              </a:rPr>
              <a:t>Н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в отрицательных местоимен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4" name="" descr=""/>
          <p:cNvPicPr/>
          <p:nvPr/>
        </p:nvPicPr>
        <p:blipFill>
          <a:blip r:embed="rId94"/>
          <a:stretch/>
        </p:blipFill>
        <p:spPr>
          <a:xfrm>
            <a:off x="7524720" y="1268280"/>
            <a:ext cx="1028880" cy="1276560"/>
          </a:xfrm>
          <a:prstGeom prst="rect">
            <a:avLst/>
          </a:prstGeom>
          <a:ln w="0">
            <a:noFill/>
          </a:ln>
        </p:spPr>
      </p:pic>
      <p:sp>
        <p:nvSpPr>
          <p:cNvPr id="1745" name="">
            <a:hlinkClick r:id="" action="ppaction://hlinkshowjump?jump=nextslide"/>
          </p:cNvPr>
          <p:cNvSpPr/>
          <p:nvPr/>
        </p:nvSpPr>
        <p:spPr>
          <a:xfrm>
            <a:off x="7956720" y="6165720"/>
            <a:ext cx="1187280" cy="692280"/>
          </a:xfrm>
          <a:custGeom>
            <a:avLst/>
            <a:gdLst>
              <a:gd name="textAreaLeft" fmla="*/ 44640 w 1187280"/>
              <a:gd name="textAreaRight" fmla="*/ 1142640 w 118728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7037" h="21600">
                <a:moveTo>
                  <a:pt x="0" y="0"/>
                </a:moveTo>
                <a:lnTo>
                  <a:pt x="37037" y="0"/>
                </a:lnTo>
                <a:lnTo>
                  <a:pt x="37037" y="21600"/>
                </a:lnTo>
                <a:lnTo>
                  <a:pt x="0" y="21600"/>
                </a:lnTo>
                <a:close/>
              </a:path>
              <a:path fill="lightenLess" w="37037" h="21600">
                <a:moveTo>
                  <a:pt x="0" y="0"/>
                </a:moveTo>
                <a:lnTo>
                  <a:pt x="37037" y="0"/>
                </a:lnTo>
                <a:lnTo>
                  <a:pt x="35637" y="1400"/>
                </a:lnTo>
                <a:lnTo>
                  <a:pt x="1400" y="1400"/>
                </a:lnTo>
                <a:close/>
              </a:path>
              <a:path fill="darken" w="37037" h="21600">
                <a:moveTo>
                  <a:pt x="37037" y="0"/>
                </a:moveTo>
                <a:lnTo>
                  <a:pt x="37037" y="21600"/>
                </a:lnTo>
                <a:lnTo>
                  <a:pt x="35637" y="20200"/>
                </a:lnTo>
                <a:lnTo>
                  <a:pt x="35637" y="1400"/>
                </a:lnTo>
                <a:close/>
              </a:path>
              <a:path fill="darkenLess" w="37037" h="21600">
                <a:moveTo>
                  <a:pt x="370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7" y="20200"/>
                </a:lnTo>
                <a:close/>
              </a:path>
              <a:path fill="lighten" w="370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7" h="21600">
                <a:moveTo>
                  <a:pt x="11512" y="3794"/>
                </a:moveTo>
                <a:lnTo>
                  <a:pt x="25525" y="10800"/>
                </a:lnTo>
                <a:lnTo>
                  <a:pt x="11512" y="17806"/>
                </a:lnTo>
                <a:close/>
              </a:path>
            </a:pathLst>
          </a:cu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 и </a:t>
            </a: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 в прилагательны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ть крат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(качественное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лагатель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резок – рез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скользок – скольз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а на  -к,  -ц,  -ч. (относительное прилагательн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Немец – немец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Рыбак – рыба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ц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Ткач – ткац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к</a:t>
            </a:r>
            <a:r>
              <a:rPr b="1" lang="ru-RU" sz="1400" spc="-1" strike="noStrike">
                <a:solidFill>
                  <a:srgbClr val="9933ff"/>
                </a:solidFill>
                <a:latin typeface="Arial"/>
              </a:rPr>
              <a:t>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Arial"/>
              </a:rPr>
              <a:t>Исключение: </a:t>
            </a:r>
            <a:r>
              <a:rPr b="1" lang="ru-RU" sz="1400" spc="-1" strike="noStrike">
                <a:solidFill>
                  <a:srgbClr val="cc0000"/>
                </a:solidFill>
                <a:latin typeface="Arial"/>
              </a:rPr>
              <a:t>таджикский, узбекский, угличский, иракский, тюркский, камчатский, корякский, каракалпак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стальных случа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француз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рус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секретар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матрос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0" lang="en-US" sz="2800" spc="-1" strike="noStrike">
                <a:solidFill>
                  <a:srgbClr val="9933ff"/>
                </a:solidFill>
                <a:latin typeface="Arial"/>
              </a:rPr>
              <a:t>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>
            <a:off x="684360" y="333360"/>
            <a:ext cx="21564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V="1">
            <a:off x="468360" y="333360"/>
            <a:ext cx="21420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1692360" y="404640"/>
            <a:ext cx="28728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 flipV="1">
            <a:off x="1403280" y="404640"/>
            <a:ext cx="28728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1042920" y="3284640"/>
            <a:ext cx="0" cy="865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 flipV="1">
            <a:off x="611280" y="1773000"/>
            <a:ext cx="431640" cy="431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>
            <a:off x="1042920" y="1773360"/>
            <a:ext cx="360360" cy="360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5" name=""/>
          <p:cNvSpPr txBox="1"/>
          <p:nvPr/>
        </p:nvSpPr>
        <p:spPr>
          <a:xfrm>
            <a:off x="6084720" y="2349360"/>
            <a:ext cx="144000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ск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6" name=""/>
          <p:cNvSpPr/>
          <p:nvPr/>
        </p:nvSpPr>
        <p:spPr>
          <a:xfrm flipV="1">
            <a:off x="6084720" y="1988640"/>
            <a:ext cx="863640" cy="360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6948360" y="1989000"/>
            <a:ext cx="576360" cy="36036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8" name=""/>
          <p:cNvSpPr txBox="1"/>
          <p:nvPr/>
        </p:nvSpPr>
        <p:spPr>
          <a:xfrm>
            <a:off x="539640" y="2133720"/>
            <a:ext cx="93672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-к-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9" name=""/>
          <p:cNvSpPr/>
          <p:nvPr/>
        </p:nvSpPr>
        <p:spPr>
          <a:xfrm>
            <a:off x="3276720" y="6308640"/>
            <a:ext cx="4032000" cy="4413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Comic Sans MS"/>
                <a:hlinkClick r:id="rId1" action="ppaction://hlinksldjump"/>
              </a:rPr>
              <a:t>Правописание 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"/>
          <p:cNvSpPr/>
          <p:nvPr/>
        </p:nvSpPr>
        <p:spPr>
          <a:xfrm>
            <a:off x="6012000" y="6453360"/>
            <a:ext cx="1150920" cy="144360"/>
          </a:xfrm>
          <a:prstGeom prst="rightArrow">
            <a:avLst>
              <a:gd name="adj1" fmla="val 50000"/>
              <a:gd name="adj2" fmla="val 199314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1" name="">
            <a:hlinkClick r:id="rId2" action="ppaction://hlinksldjump"/>
          </p:cNvPr>
          <p:cNvSpPr/>
          <p:nvPr/>
        </p:nvSpPr>
        <p:spPr>
          <a:xfrm>
            <a:off x="8101080" y="5950080"/>
            <a:ext cx="1042920" cy="907920"/>
          </a:xfrm>
          <a:custGeom>
            <a:avLst/>
            <a:gdLst>
              <a:gd name="textAreaLeft" fmla="*/ 58680 w 1042920"/>
              <a:gd name="textAreaRight" fmla="*/ 984240 w 104292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4810" h="21600">
                <a:moveTo>
                  <a:pt x="0" y="0"/>
                </a:moveTo>
                <a:lnTo>
                  <a:pt x="24810" y="0"/>
                </a:lnTo>
                <a:lnTo>
                  <a:pt x="24810" y="21600"/>
                </a:lnTo>
                <a:lnTo>
                  <a:pt x="0" y="21600"/>
                </a:lnTo>
                <a:close/>
              </a:path>
              <a:path fill="lightenLess" w="24810" h="21600">
                <a:moveTo>
                  <a:pt x="0" y="0"/>
                </a:moveTo>
                <a:lnTo>
                  <a:pt x="24810" y="0"/>
                </a:lnTo>
                <a:lnTo>
                  <a:pt x="23410" y="1400"/>
                </a:lnTo>
                <a:lnTo>
                  <a:pt x="1400" y="1400"/>
                </a:lnTo>
                <a:close/>
              </a:path>
              <a:path fill="darken" w="24810" h="21600">
                <a:moveTo>
                  <a:pt x="24810" y="0"/>
                </a:moveTo>
                <a:lnTo>
                  <a:pt x="24810" y="21600"/>
                </a:lnTo>
                <a:lnTo>
                  <a:pt x="23410" y="20200"/>
                </a:lnTo>
                <a:lnTo>
                  <a:pt x="23410" y="1400"/>
                </a:lnTo>
                <a:close/>
              </a:path>
              <a:path fill="darkenLess" w="24810" h="21600">
                <a:moveTo>
                  <a:pt x="248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0" y="20200"/>
                </a:lnTo>
                <a:close/>
              </a:path>
              <a:path fill="lighten" w="248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10" h="21600">
                <a:moveTo>
                  <a:pt x="5399" y="7493"/>
                </a:moveTo>
                <a:lnTo>
                  <a:pt x="8906" y="7493"/>
                </a:lnTo>
                <a:lnTo>
                  <a:pt x="8906" y="12828"/>
                </a:lnTo>
                <a:cubicBezTo>
                  <a:pt x="8906" y="13751"/>
                  <a:pt x="9707" y="14482"/>
                  <a:pt x="10743" y="14482"/>
                </a:cubicBezTo>
                <a:lnTo>
                  <a:pt x="12405" y="14482"/>
                </a:lnTo>
                <a:cubicBezTo>
                  <a:pt x="13441" y="14482"/>
                  <a:pt x="14242" y="13751"/>
                  <a:pt x="14242" y="12828"/>
                </a:cubicBezTo>
                <a:lnTo>
                  <a:pt x="14242" y="7493"/>
                </a:lnTo>
                <a:lnTo>
                  <a:pt x="12405" y="7493"/>
                </a:lnTo>
                <a:lnTo>
                  <a:pt x="15913" y="3985"/>
                </a:lnTo>
                <a:lnTo>
                  <a:pt x="19586" y="7493"/>
                </a:lnTo>
                <a:lnTo>
                  <a:pt x="17749" y="7493"/>
                </a:lnTo>
                <a:lnTo>
                  <a:pt x="17749" y="12828"/>
                </a:lnTo>
                <a:cubicBezTo>
                  <a:pt x="17749" y="15596"/>
                  <a:pt x="15173" y="18155"/>
                  <a:pt x="12405" y="18155"/>
                </a:cubicBezTo>
                <a:lnTo>
                  <a:pt x="10743" y="18155"/>
                </a:lnTo>
                <a:cubicBezTo>
                  <a:pt x="7975" y="18155"/>
                  <a:pt x="5399" y="15596"/>
                  <a:pt x="5399" y="12828"/>
                </a:cubicBez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685440" y="476280"/>
            <a:ext cx="6870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Comic Sans MS"/>
              </a:rPr>
              <a:t>Правописание 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696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чител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НО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огатыр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!!!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нь-ден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ой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юн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юл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нтябр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ктябр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оябр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екабр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НО: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январс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4" name=""/>
          <p:cNvSpPr txBox="1"/>
          <p:nvPr/>
        </p:nvSpPr>
        <p:spPr>
          <a:xfrm rot="19562400">
            <a:off x="4557240" y="2662200"/>
            <a:ext cx="395928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омни!</a:t>
            </a:r>
            <a:endParaRPr b="0" lang="en-US" sz="1800" spc="1" strike="noStrike">
              <a:ln w="1260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35" name="">
            <a:hlinkClick r:id="" action="ppaction://hlinkshowjump?jump=previousslide"/>
          </p:cNvPr>
          <p:cNvSpPr/>
          <p:nvPr/>
        </p:nvSpPr>
        <p:spPr>
          <a:xfrm>
            <a:off x="7956720" y="6093000"/>
            <a:ext cx="1187280" cy="765000"/>
          </a:xfrm>
          <a:custGeom>
            <a:avLst/>
            <a:gdLst>
              <a:gd name="textAreaLeft" fmla="*/ 49320 w 1187280"/>
              <a:gd name="textAreaRight" fmla="*/ 1137960 w 118728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3518" h="21600">
                <a:moveTo>
                  <a:pt x="0" y="0"/>
                </a:moveTo>
                <a:lnTo>
                  <a:pt x="33518" y="0"/>
                </a:lnTo>
                <a:lnTo>
                  <a:pt x="33518" y="21600"/>
                </a:lnTo>
                <a:lnTo>
                  <a:pt x="0" y="21600"/>
                </a:lnTo>
                <a:close/>
              </a:path>
              <a:path fill="lightenLess" w="33518" h="21600">
                <a:moveTo>
                  <a:pt x="0" y="0"/>
                </a:moveTo>
                <a:lnTo>
                  <a:pt x="33518" y="0"/>
                </a:lnTo>
                <a:lnTo>
                  <a:pt x="32118" y="1400"/>
                </a:lnTo>
                <a:lnTo>
                  <a:pt x="1400" y="1400"/>
                </a:lnTo>
                <a:close/>
              </a:path>
              <a:path fill="darken" w="33518" h="21600">
                <a:moveTo>
                  <a:pt x="33518" y="0"/>
                </a:moveTo>
                <a:lnTo>
                  <a:pt x="33518" y="21600"/>
                </a:lnTo>
                <a:lnTo>
                  <a:pt x="32118" y="20200"/>
                </a:lnTo>
                <a:lnTo>
                  <a:pt x="32118" y="1400"/>
                </a:lnTo>
                <a:close/>
              </a:path>
              <a:path fill="darkenLess" w="33518" h="21600">
                <a:moveTo>
                  <a:pt x="33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18" y="20200"/>
                </a:lnTo>
                <a:close/>
              </a:path>
              <a:path fill="lighten" w="33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18" h="21600">
                <a:moveTo>
                  <a:pt x="9752" y="7493"/>
                </a:moveTo>
                <a:lnTo>
                  <a:pt x="13260" y="7493"/>
                </a:lnTo>
                <a:lnTo>
                  <a:pt x="13260" y="12828"/>
                </a:lnTo>
                <a:cubicBezTo>
                  <a:pt x="13260" y="13751"/>
                  <a:pt x="14061" y="14482"/>
                  <a:pt x="15096" y="14482"/>
                </a:cubicBezTo>
                <a:lnTo>
                  <a:pt x="16759" y="14482"/>
                </a:lnTo>
                <a:cubicBezTo>
                  <a:pt x="17795" y="14482"/>
                  <a:pt x="18595" y="13751"/>
                  <a:pt x="18595" y="12828"/>
                </a:cubicBezTo>
                <a:lnTo>
                  <a:pt x="18595" y="7493"/>
                </a:lnTo>
                <a:lnTo>
                  <a:pt x="16759" y="7493"/>
                </a:lnTo>
                <a:lnTo>
                  <a:pt x="20266" y="3985"/>
                </a:lnTo>
                <a:lnTo>
                  <a:pt x="23939" y="7493"/>
                </a:lnTo>
                <a:lnTo>
                  <a:pt x="22103" y="7493"/>
                </a:lnTo>
                <a:lnTo>
                  <a:pt x="22103" y="12828"/>
                </a:lnTo>
                <a:cubicBezTo>
                  <a:pt x="22103" y="15596"/>
                  <a:pt x="19527" y="18155"/>
                  <a:pt x="16759" y="18155"/>
                </a:cubicBezTo>
                <a:lnTo>
                  <a:pt x="15096" y="18155"/>
                </a:lnTo>
                <a:cubicBezTo>
                  <a:pt x="12329" y="18155"/>
                  <a:pt x="9752" y="15596"/>
                  <a:pt x="9752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0"/>
                      </p:stCondLst>
                      <p:childTnLst>
                        <p:par>
                          <p:cTn id="1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1" dur="2000"/>
                                        <p:tgtEl>
                                          <p:spTgt spid="2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2" dur="2000" fill="hold"/>
                                        <p:tgtEl>
                                          <p:spTgt spid="2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2000" fill="hold"/>
                                        <p:tgtEl>
                                          <p:spTgt spid="2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2000" fill="hold"/>
                                        <p:tgtEl>
                                          <p:spTgt spid="2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8" dur="2000"/>
                                        <p:tgtEl>
                                          <p:spTgt spid="2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9" dur="2000" fill="hold"/>
                                        <p:tgtEl>
                                          <p:spTgt spid="2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2000" fill="hold"/>
                                        <p:tgtEl>
                                          <p:spTgt spid="2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2000" fill="hold"/>
                                        <p:tgtEl>
                                          <p:spTgt spid="2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5" dur="2000"/>
                                        <p:tgtEl>
                                          <p:spTgt spid="2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2000" fill="hold"/>
                                        <p:tgtEl>
                                          <p:spTgt spid="2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2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2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47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2000"/>
                                        <p:tgtEl>
                                          <p:spTgt spid="2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2000" fill="hold"/>
                                        <p:tgtEl>
                                          <p:spTgt spid="2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0" fill="hold"/>
                                        <p:tgtEl>
                                          <p:spTgt spid="2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2000" fill="hold"/>
                                        <p:tgtEl>
                                          <p:spTgt spid="2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2000"/>
                                        <p:tgtEl>
                                          <p:spTgt spid="2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2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2000" fill="hold"/>
                                        <p:tgtEl>
                                          <p:spTgt spid="2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2000" fill="hold"/>
                                        <p:tgtEl>
                                          <p:spTgt spid="2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8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2000"/>
                                        <p:tgtEl>
                                          <p:spTgt spid="2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2000" fill="hold"/>
                                        <p:tgtEl>
                                          <p:spTgt spid="2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2000" fill="hold"/>
                                        <p:tgtEl>
                                          <p:spTgt spid="2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2000" fill="hold"/>
                                        <p:tgtEl>
                                          <p:spTgt spid="2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3" dur="2000"/>
                                        <p:tgtEl>
                                          <p:spTgt spid="2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4" dur="2000" fill="hold"/>
                                        <p:tgtEl>
                                          <p:spTgt spid="2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2000" fill="hold"/>
                                        <p:tgtEl>
                                          <p:spTgt spid="2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0" fill="hold"/>
                                        <p:tgtEl>
                                          <p:spTgt spid="2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2000"/>
                                        <p:tgtEl>
                                          <p:spTgt spid="2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2000" fill="hold"/>
                                        <p:tgtEl>
                                          <p:spTgt spid="2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2000" fill="hold"/>
                                        <p:tgtEl>
                                          <p:spTgt spid="2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2000" fill="hold"/>
                                        <p:tgtEl>
                                          <p:spTgt spid="2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2000"/>
                                        <p:tgtEl>
                                          <p:spTgt spid="2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2000" fill="hold"/>
                                        <p:tgtEl>
                                          <p:spTgt spid="2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2000" fill="hold"/>
                                        <p:tgtEl>
                                          <p:spTgt spid="2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2000" fill="hold"/>
                                        <p:tgtEl>
                                          <p:spTgt spid="2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2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2000" fill="hold"/>
                                        <p:tgtEl>
                                          <p:spTgt spid="2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2000" fill="hold"/>
                                        <p:tgtEl>
                                          <p:spTgt spid="2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2000" fill="hold"/>
                                        <p:tgtEl>
                                          <p:spTgt spid="2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23000"/>
                            </p:stCondLst>
                            <p:childTnLst>
                              <p:par>
                                <p:cTn id="1519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animClr clrSpc="rgb">
                                      <p:cBhvr>
                                        <p:cTn id="15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1522" dur="3000" fill="hold"/>
                                        <p:tgtEl>
                                          <p:spTgt spid="2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"/>
          <p:cNvSpPr/>
          <p:nvPr/>
        </p:nvSpPr>
        <p:spPr>
          <a:xfrm>
            <a:off x="395280" y="522936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Чтобы узнать спряжение глагола с безударным окончанием, нужно поставить глагол в неопр. форму и посмотреть, на что оканчивается глаго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 и И в окончаниях глаголов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ряж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3886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с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>
            <a:hlinkClick r:id="rId1" action="ppaction://hlinksldjump"/>
          </p:cNvPr>
          <p:cNvSpPr/>
          <p:nvPr/>
        </p:nvSpPr>
        <p:spPr>
          <a:xfrm>
            <a:off x="8172360" y="5877000"/>
            <a:ext cx="971640" cy="981000"/>
          </a:xfrm>
          <a:custGeom>
            <a:avLst/>
            <a:gdLst>
              <a:gd name="textAreaLeft" fmla="*/ 63000 w 971640"/>
              <a:gd name="textAreaRight" fmla="*/ 909000 w 971640"/>
              <a:gd name="textAreaTop" fmla="*/ 63000 h 981000"/>
              <a:gd name="textAreaBottom" fmla="*/ 918360 h 981000"/>
            </a:gdLst>
            <a:ahLst/>
            <a:rect l="textAreaLeft" t="textAreaTop" r="textAreaRight" b="textAreaBottom"/>
            <a:pathLst>
              <a:path w="21600" h="21808">
                <a:moveTo>
                  <a:pt x="0" y="0"/>
                </a:moveTo>
                <a:lnTo>
                  <a:pt x="21600" y="0"/>
                </a:lnTo>
                <a:lnTo>
                  <a:pt x="21600" y="21808"/>
                </a:lnTo>
                <a:lnTo>
                  <a:pt x="0" y="21808"/>
                </a:lnTo>
                <a:close/>
              </a:path>
              <a:path fill="lightenLess" w="21600" h="218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8">
                <a:moveTo>
                  <a:pt x="21600" y="0"/>
                </a:moveTo>
                <a:lnTo>
                  <a:pt x="21600" y="21808"/>
                </a:lnTo>
                <a:lnTo>
                  <a:pt x="20200" y="20408"/>
                </a:lnTo>
                <a:lnTo>
                  <a:pt x="20200" y="1400"/>
                </a:lnTo>
                <a:close/>
              </a:path>
              <a:path fill="darkenLess" w="21600" h="21808">
                <a:moveTo>
                  <a:pt x="21600" y="21808"/>
                </a:moveTo>
                <a:lnTo>
                  <a:pt x="0" y="21808"/>
                </a:lnTo>
                <a:lnTo>
                  <a:pt x="1400" y="20408"/>
                </a:lnTo>
                <a:lnTo>
                  <a:pt x="20200" y="20408"/>
                </a:lnTo>
                <a:close/>
              </a:path>
              <a:path fill="lighten" w="21600" h="21808">
                <a:moveTo>
                  <a:pt x="0" y="218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8"/>
                </a:lnTo>
                <a:close/>
              </a:path>
              <a:path fill="darken" w="21600" h="21808">
                <a:moveTo>
                  <a:pt x="3794" y="7597"/>
                </a:moveTo>
                <a:lnTo>
                  <a:pt x="7301" y="7597"/>
                </a:lnTo>
                <a:lnTo>
                  <a:pt x="7301" y="12932"/>
                </a:lnTo>
                <a:cubicBezTo>
                  <a:pt x="7301" y="13855"/>
                  <a:pt x="8102" y="14586"/>
                  <a:pt x="9138" y="14586"/>
                </a:cubicBezTo>
                <a:lnTo>
                  <a:pt x="10800" y="14586"/>
                </a:lnTo>
                <a:cubicBezTo>
                  <a:pt x="11836" y="14586"/>
                  <a:pt x="12636" y="13855"/>
                  <a:pt x="12636" y="12932"/>
                </a:cubicBezTo>
                <a:lnTo>
                  <a:pt x="12636" y="7597"/>
                </a:lnTo>
                <a:lnTo>
                  <a:pt x="10800" y="7597"/>
                </a:lnTo>
                <a:lnTo>
                  <a:pt x="14308" y="4089"/>
                </a:lnTo>
                <a:lnTo>
                  <a:pt x="17981" y="7597"/>
                </a:lnTo>
                <a:lnTo>
                  <a:pt x="16144" y="7597"/>
                </a:lnTo>
                <a:lnTo>
                  <a:pt x="16144" y="12932"/>
                </a:lnTo>
                <a:cubicBezTo>
                  <a:pt x="16144" y="15700"/>
                  <a:pt x="13568" y="18259"/>
                  <a:pt x="10800" y="18259"/>
                </a:cubicBezTo>
                <a:lnTo>
                  <a:pt x="9138" y="18259"/>
                </a:lnTo>
                <a:cubicBezTo>
                  <a:pt x="6370" y="18259"/>
                  <a:pt x="3794" y="15700"/>
                  <a:pt x="3794" y="1293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"/>
          <p:cNvSpPr txBox="1"/>
          <p:nvPr/>
        </p:nvSpPr>
        <p:spPr>
          <a:xfrm>
            <a:off x="4642920" y="1413000"/>
            <a:ext cx="388620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спря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1" name=""/>
          <p:cNvGraphicFramePr/>
          <p:nvPr/>
        </p:nvGraphicFramePr>
        <p:xfrm>
          <a:off x="4572000" y="1916280"/>
          <a:ext cx="3457440" cy="3373200"/>
        </p:xfrm>
        <a:graphic>
          <a:graphicData uri="http://schemas.openxmlformats.org/drawingml/2006/table">
            <a:tbl>
              <a:tblPr/>
              <a:tblGrid>
                <a:gridCol w="1152360"/>
                <a:gridCol w="1152360"/>
                <a:gridCol w="115272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 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лиц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ю, -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иц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лиц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,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2" name=""/>
          <p:cNvSpPr/>
          <p:nvPr/>
        </p:nvSpPr>
        <p:spPr>
          <a:xfrm>
            <a:off x="395280" y="1916280"/>
            <a:ext cx="38862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43" name=""/>
          <p:cNvGraphicFramePr/>
          <p:nvPr/>
        </p:nvGraphicFramePr>
        <p:xfrm>
          <a:off x="468360" y="1916280"/>
          <a:ext cx="3456000" cy="3342960"/>
        </p:xfrm>
        <a:graphic>
          <a:graphicData uri="http://schemas.openxmlformats.org/drawingml/2006/table">
            <a:tbl>
              <a:tblPr/>
              <a:tblGrid>
                <a:gridCol w="1152720"/>
                <a:gridCol w="1150920"/>
                <a:gridCol w="1152360"/>
              </a:tblGrid>
              <a:tr h="796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. ч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. 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лиц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ю,-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лиц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лиц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у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, 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ю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4" name="">
            <a:hlinkClick r:id="rId2" action="ppaction://hlinksldjump"/>
          </p:cNvPr>
          <p:cNvSpPr/>
          <p:nvPr/>
        </p:nvSpPr>
        <p:spPr>
          <a:xfrm>
            <a:off x="2627280" y="6308640"/>
            <a:ext cx="3816360" cy="549360"/>
          </a:xfrm>
          <a:custGeom>
            <a:avLst/>
            <a:gdLst>
              <a:gd name="textAreaLeft" fmla="*/ 477000 w 3816360"/>
              <a:gd name="textAreaRight" fmla="*/ 3339360 w 3816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0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20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2000" fill="hold"/>
                                        <p:tgtEl>
                                          <p:spTgt spid="2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20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8" dur="2000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9" dur="2000" fill="hold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2000" fill="hold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10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5" dur="1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0" dur="2000"/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1" dur="2000" fill="hold"/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2000" fill="hold"/>
                                        <p:tgtEl>
                                          <p:spTgt spid="2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2000"/>
                                        <p:tgtEl>
                                          <p:spTgt spid="2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7" dur="2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2000" fill="hold"/>
                                        <p:tgtEl>
                                          <p:spTgt spid="2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4" dur="1000"/>
                                        <p:tgtEl>
                                          <p:spTgt spid="2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2000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2000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"/>
          <p:cNvSpPr/>
          <p:nvPr/>
        </p:nvSpPr>
        <p:spPr>
          <a:xfrm>
            <a:off x="3492360" y="4365720"/>
            <a:ext cx="2087640" cy="2492280"/>
          </a:xfrm>
          <a:prstGeom prst="borderCallout1">
            <a:avLst>
              <a:gd name="adj1" fmla="val 46173"/>
              <a:gd name="adj2" fmla="val 22260"/>
              <a:gd name="adj3" fmla="val 1183"/>
              <a:gd name="adj4" fmla="val 22260"/>
            </a:avLst>
          </a:prstGeom>
          <a:solidFill>
            <a:srgbClr val="ccec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Слыш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Виде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Ненавиде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Гн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Держать (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Не обидеть (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Смотре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Дыша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Вертеть (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Зависеть (и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терпе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Определи спряжение глагола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 -у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ы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е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">
            <a:hlinkClick r:id="rId1" action="ppaction://hlinksldjump"/>
          </p:cNvPr>
          <p:cNvSpPr/>
          <p:nvPr/>
        </p:nvSpPr>
        <p:spPr>
          <a:xfrm>
            <a:off x="8101080" y="6021360"/>
            <a:ext cx="1042920" cy="836640"/>
          </a:xfrm>
          <a:custGeom>
            <a:avLst/>
            <a:gdLst>
              <a:gd name="textAreaLeft" fmla="*/ 54000 w 1042920"/>
              <a:gd name="textAreaRight" fmla="*/ 988920 w 104292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6923" h="21600">
                <a:moveTo>
                  <a:pt x="0" y="0"/>
                </a:moveTo>
                <a:lnTo>
                  <a:pt x="26923" y="0"/>
                </a:lnTo>
                <a:lnTo>
                  <a:pt x="26923" y="21600"/>
                </a:lnTo>
                <a:lnTo>
                  <a:pt x="0" y="21600"/>
                </a:lnTo>
                <a:close/>
              </a:path>
              <a:path fill="lightenLess" w="26923" h="21600">
                <a:moveTo>
                  <a:pt x="0" y="0"/>
                </a:moveTo>
                <a:lnTo>
                  <a:pt x="26923" y="0"/>
                </a:lnTo>
                <a:lnTo>
                  <a:pt x="25523" y="1400"/>
                </a:lnTo>
                <a:lnTo>
                  <a:pt x="1400" y="1400"/>
                </a:lnTo>
                <a:close/>
              </a:path>
              <a:path fill="darken" w="26923" h="21600">
                <a:moveTo>
                  <a:pt x="26923" y="0"/>
                </a:moveTo>
                <a:lnTo>
                  <a:pt x="26923" y="21600"/>
                </a:lnTo>
                <a:lnTo>
                  <a:pt x="25523" y="20200"/>
                </a:lnTo>
                <a:lnTo>
                  <a:pt x="25523" y="1400"/>
                </a:lnTo>
                <a:close/>
              </a:path>
              <a:path fill="darkenLess" w="26923" h="21600">
                <a:moveTo>
                  <a:pt x="269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23" y="20200"/>
                </a:lnTo>
                <a:close/>
              </a:path>
              <a:path fill="lighten" w="269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23" h="21600">
                <a:moveTo>
                  <a:pt x="6455" y="7493"/>
                </a:moveTo>
                <a:lnTo>
                  <a:pt x="9963" y="7493"/>
                </a:lnTo>
                <a:lnTo>
                  <a:pt x="9963" y="12828"/>
                </a:lnTo>
                <a:cubicBezTo>
                  <a:pt x="9963" y="13751"/>
                  <a:pt x="10764" y="14482"/>
                  <a:pt x="11799" y="14482"/>
                </a:cubicBezTo>
                <a:lnTo>
                  <a:pt x="13462" y="14482"/>
                </a:lnTo>
                <a:cubicBezTo>
                  <a:pt x="14497" y="14482"/>
                  <a:pt x="15298" y="13751"/>
                  <a:pt x="15298" y="12828"/>
                </a:cubicBezTo>
                <a:lnTo>
                  <a:pt x="15298" y="7493"/>
                </a:lnTo>
                <a:lnTo>
                  <a:pt x="13462" y="7493"/>
                </a:lnTo>
                <a:lnTo>
                  <a:pt x="16969" y="3985"/>
                </a:lnTo>
                <a:lnTo>
                  <a:pt x="20642" y="7493"/>
                </a:lnTo>
                <a:lnTo>
                  <a:pt x="18806" y="7493"/>
                </a:lnTo>
                <a:lnTo>
                  <a:pt x="18806" y="12828"/>
                </a:lnTo>
                <a:cubicBezTo>
                  <a:pt x="18806" y="15596"/>
                  <a:pt x="16229" y="18155"/>
                  <a:pt x="13462" y="18155"/>
                </a:cubicBezTo>
                <a:lnTo>
                  <a:pt x="11799" y="18155"/>
                </a:lnTo>
                <a:cubicBezTo>
                  <a:pt x="9031" y="18155"/>
                  <a:pt x="6455" y="15596"/>
                  <a:pt x="6455" y="12828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 flipV="1">
            <a:off x="755640" y="1483920"/>
            <a:ext cx="6769080" cy="4753080"/>
          </a:xfrm>
          <a:prstGeom prst="line">
            <a:avLst/>
          </a:prstGeom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"/>
          <p:cNvSpPr txBox="1"/>
          <p:nvPr/>
        </p:nvSpPr>
        <p:spPr>
          <a:xfrm>
            <a:off x="826920" y="1341360"/>
            <a:ext cx="496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1 спря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251" name=""/>
          <p:cNvSpPr txBox="1"/>
          <p:nvPr/>
        </p:nvSpPr>
        <p:spPr>
          <a:xfrm rot="19674600">
            <a:off x="3053880" y="2739960"/>
            <a:ext cx="175896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+ брить,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стелить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  <p:sp>
        <p:nvSpPr>
          <p:cNvPr id="2252" name=""/>
          <p:cNvSpPr txBox="1"/>
          <p:nvPr/>
        </p:nvSpPr>
        <p:spPr>
          <a:xfrm rot="207600">
            <a:off x="5294160" y="2349000"/>
            <a:ext cx="336240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о 2 спряжени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4643280" y="3500280"/>
            <a:ext cx="4105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относятся все глаг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на –ить, кром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>
            <a:off x="3203640" y="3860640"/>
            <a:ext cx="4032360" cy="576360"/>
          </a:xfrm>
          <a:custGeom>
            <a:avLst/>
            <a:gdLst>
              <a:gd name="textAreaLeft" fmla="*/ 0 w 4032360"/>
              <a:gd name="textAreaRight" fmla="*/ 4032720 w 4032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18901" y="17942"/>
                </a:moveTo>
                <a:arcTo wR="-10800" hR="-10800" stAng="2483982" swAng="-14726762"/>
                <a:lnTo>
                  <a:pt x="20663" y="6399"/>
                </a:lnTo>
                <a:arcTo wR="10800" hR="10800" stAng="-1442780" swAng="14726762"/>
                <a:lnTo>
                  <a:pt x="673" y="1872"/>
                </a:lnTo>
                <a:lnTo>
                  <a:pt x="4484" y="1633"/>
                </a:lnTo>
                <a:lnTo>
                  <a:pt x="4724" y="5443"/>
                </a:lnTo>
                <a:close/>
              </a:path>
            </a:pathLst>
          </a:custGeom>
          <a:solidFill>
            <a:srgbClr val="cc0000"/>
          </a:soli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"/>
          <p:cNvSpPr txBox="1"/>
          <p:nvPr/>
        </p:nvSpPr>
        <p:spPr>
          <a:xfrm>
            <a:off x="5580000" y="4941720"/>
            <a:ext cx="2143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+7 на -ет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+4 на -ат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3132000" y="4076640"/>
            <a:ext cx="2311560" cy="1709640"/>
          </a:xfrm>
          <a:prstGeom prst="borderCallout3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"/>
          <p:cNvSpPr txBox="1"/>
          <p:nvPr/>
        </p:nvSpPr>
        <p:spPr>
          <a:xfrm>
            <a:off x="179280" y="6334200"/>
            <a:ext cx="1990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алгорит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258" name="">
            <a:hlinkClick r:id="" action="ppaction://hlinkshowjump?jump=nextslide"/>
          </p:cNvPr>
          <p:cNvSpPr/>
          <p:nvPr/>
        </p:nvSpPr>
        <p:spPr>
          <a:xfrm>
            <a:off x="2340000" y="6381720"/>
            <a:ext cx="792000" cy="476280"/>
          </a:xfrm>
          <a:custGeom>
            <a:avLst/>
            <a:gdLst>
              <a:gd name="textAreaLeft" fmla="*/ 30600 w 792000"/>
              <a:gd name="textAreaRight" fmla="*/ 761400 w 792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5908" h="21600">
                <a:moveTo>
                  <a:pt x="0" y="0"/>
                </a:moveTo>
                <a:lnTo>
                  <a:pt x="35908" y="0"/>
                </a:lnTo>
                <a:lnTo>
                  <a:pt x="35908" y="21600"/>
                </a:lnTo>
                <a:lnTo>
                  <a:pt x="0" y="21600"/>
                </a:lnTo>
                <a:close/>
              </a:path>
              <a:path fill="lightenLess" w="35908" h="21600">
                <a:moveTo>
                  <a:pt x="0" y="0"/>
                </a:moveTo>
                <a:lnTo>
                  <a:pt x="35908" y="0"/>
                </a:lnTo>
                <a:lnTo>
                  <a:pt x="34508" y="1400"/>
                </a:lnTo>
                <a:lnTo>
                  <a:pt x="1400" y="1400"/>
                </a:lnTo>
                <a:close/>
              </a:path>
              <a:path fill="darken" w="35908" h="21600">
                <a:moveTo>
                  <a:pt x="35908" y="0"/>
                </a:moveTo>
                <a:lnTo>
                  <a:pt x="35908" y="21600"/>
                </a:lnTo>
                <a:lnTo>
                  <a:pt x="34508" y="20200"/>
                </a:lnTo>
                <a:lnTo>
                  <a:pt x="34508" y="1400"/>
                </a:lnTo>
                <a:close/>
              </a:path>
              <a:path fill="darkenLess" w="35908" h="21600">
                <a:moveTo>
                  <a:pt x="35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08" y="20200"/>
                </a:lnTo>
                <a:close/>
              </a:path>
              <a:path fill="lighten" w="35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08" h="21600">
                <a:moveTo>
                  <a:pt x="10947" y="3794"/>
                </a:moveTo>
                <a:lnTo>
                  <a:pt x="24960" y="10800"/>
                </a:lnTo>
                <a:lnTo>
                  <a:pt x="10947" y="17806"/>
                </a:lnTo>
                <a:close/>
              </a:path>
            </a:pathLst>
          </a:custGeom>
          <a:noFill/>
          <a:ln w="9360">
            <a:solidFill>
              <a:srgbClr val="99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1471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Правописание безударных окончаний глагола</a:t>
            </a:r>
            <a:br>
              <a:rPr sz="3000"/>
            </a:br>
            <a:r>
              <a:rPr b="0" lang="en-US" sz="3000" spc="-1" strike="noStrike">
                <a:solidFill>
                  <a:srgbClr val="330033"/>
                </a:solidFill>
                <a:latin typeface="Times New Roman"/>
              </a:rPr>
              <a:t>Алгоритм</a:t>
            </a:r>
            <a:endParaRPr b="0" lang="en-US" sz="3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755640" y="1341360"/>
            <a:ext cx="76932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ь глагол в неопределённую форму (что делать? что сделать?) того же самого ви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11 глагол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172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гол на  -и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от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навид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те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ыш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т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б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кат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             крикн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ш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-у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н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т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те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кл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ят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т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-я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де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 (-я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ыв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т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ь (-а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я (-о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ff0000"/>
                </a:solidFill>
                <a:latin typeface="Arial"/>
              </a:rPr>
              <a:t>          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>
            <a:off x="2340000" y="2349360"/>
            <a:ext cx="1584360" cy="28764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 flipH="1">
            <a:off x="1403280" y="2349360"/>
            <a:ext cx="649440" cy="287640"/>
          </a:xfrm>
          <a:prstGeom prst="line">
            <a:avLst/>
          </a:prstGeom>
          <a:ln w="936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3" name=""/>
          <p:cNvSpPr txBox="1"/>
          <p:nvPr/>
        </p:nvSpPr>
        <p:spPr>
          <a:xfrm>
            <a:off x="611280" y="2708280"/>
            <a:ext cx="17715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спряжение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4" name=""/>
          <p:cNvSpPr txBox="1"/>
          <p:nvPr/>
        </p:nvSpPr>
        <p:spPr>
          <a:xfrm>
            <a:off x="3851280" y="2708280"/>
            <a:ext cx="7207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0033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нет</a:t>
            </a:r>
            <a:endParaRPr b="0" lang="en-US" sz="2800" spc="1" strike="noStrike">
              <a:ln w="9360">
                <a:solidFill>
                  <a:srgbClr val="330033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265" name=""/>
          <p:cNvSpPr txBox="1"/>
          <p:nvPr/>
        </p:nvSpPr>
        <p:spPr>
          <a:xfrm>
            <a:off x="2843280" y="4149720"/>
            <a:ext cx="1771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а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спряжение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4643280" y="3573360"/>
            <a:ext cx="1727280" cy="432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"/>
          <p:cNvSpPr txBox="1"/>
          <p:nvPr/>
        </p:nvSpPr>
        <p:spPr>
          <a:xfrm>
            <a:off x="6227640" y="4221000"/>
            <a:ext cx="7207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0033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нет</a:t>
            </a:r>
            <a:endParaRPr b="0" lang="en-US" sz="2800" spc="1" strike="noStrike">
              <a:ln w="9360">
                <a:solidFill>
                  <a:srgbClr val="330033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3419640" y="3357720"/>
            <a:ext cx="144360" cy="142560"/>
          </a:xfrm>
          <a:prstGeom prst="flowChartConnector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 flipH="1">
            <a:off x="3635280" y="3573360"/>
            <a:ext cx="720720" cy="503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"/>
          <p:cNvSpPr txBox="1"/>
          <p:nvPr/>
        </p:nvSpPr>
        <p:spPr>
          <a:xfrm>
            <a:off x="5940360" y="5013360"/>
            <a:ext cx="206712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33cc33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1 спряжение</a:t>
            </a:r>
            <a:endParaRPr b="0" lang="en-US" sz="2800" spc="1" strike="noStrike">
              <a:ln w="12600">
                <a:solidFill>
                  <a:srgbClr val="33cc33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71" name="">
            <a:hlinkClick r:id="" action="ppaction://hlinkshowjump?jump=previousslide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77" dur="3000" fill="hold"/>
                                        <p:tgtEl>
                                          <p:spTgt spid="2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7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58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84" dur="3000" fill="hold"/>
                                        <p:tgtEl>
                                          <p:spTgt spid="2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9" dur="2000" fill="hold"/>
                                        <p:tgtEl>
                                          <p:spTgt spid="22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fill="hold">
                      <p:stCondLst>
                        <p:cond delay="indefinite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3" dur="2000" fill="hold"/>
                                        <p:tgtEl>
                                          <p:spTgt spid="22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7" dur="500" autoRev="1" fill="hold"/>
                                        <p:tgtEl>
                                          <p:spTgt spid="2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98" dur="500" autoRev="1" fill="hold"/>
                                        <p:tgtEl>
                                          <p:spTgt spid="2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599" dur="500" autoRev="1" fill="hold"/>
                                        <p:tgtEl>
                                          <p:spTgt spid="2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3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4" dur="250" autoRev="1" fill="hold"/>
                                        <p:tgtEl>
                                          <p:spTgt spid="2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8" dur="1000" fill="hold"/>
                                        <p:tgtEl>
                                          <p:spTgt spid="2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2" dur="2000" fill="hold"/>
                                        <p:tgtEl>
                                          <p:spTgt spid="22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орне 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кос- - кас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В безударном положении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если есть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             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если нет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4" name=""/>
          <p:cNvSpPr txBox="1"/>
          <p:nvPr/>
        </p:nvSpPr>
        <p:spPr>
          <a:xfrm>
            <a:off x="1619280" y="2708280"/>
            <a:ext cx="165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с- 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5" name=""/>
          <p:cNvSpPr txBox="1"/>
          <p:nvPr/>
        </p:nvSpPr>
        <p:spPr>
          <a:xfrm>
            <a:off x="6084720" y="2637000"/>
            <a:ext cx="432000" cy="100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6" name=""/>
          <p:cNvSpPr/>
          <p:nvPr/>
        </p:nvSpPr>
        <p:spPr>
          <a:xfrm flipV="1">
            <a:off x="5651640" y="2420640"/>
            <a:ext cx="649080" cy="431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>
            <a:off x="6300720" y="2421000"/>
            <a:ext cx="576360" cy="431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8" name=""/>
          <p:cNvSpPr txBox="1"/>
          <p:nvPr/>
        </p:nvSpPr>
        <p:spPr>
          <a:xfrm>
            <a:off x="1476360" y="4365720"/>
            <a:ext cx="1511280" cy="107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с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6227640" y="4508640"/>
            <a:ext cx="44604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80" name=""/>
          <p:cNvSpPr/>
          <p:nvPr/>
        </p:nvSpPr>
        <p:spPr>
          <a:xfrm flipV="1">
            <a:off x="5867280" y="4149720"/>
            <a:ext cx="576360" cy="503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>
            <a:off x="6443640" y="4149720"/>
            <a:ext cx="576360" cy="43164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 flipH="1">
            <a:off x="5651280" y="4292640"/>
            <a:ext cx="1657080" cy="1224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5724360" y="4221000"/>
            <a:ext cx="1584360" cy="1152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1187280" y="5805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При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кас</a:t>
            </a:r>
            <a:r>
              <a:rPr b="0" lang="en-US" sz="2800" spc="-1" strike="noStrike">
                <a:solidFill>
                  <a:srgbClr val="ff9900"/>
                </a:solidFill>
                <a:latin typeface="Comic Sans MS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ться, при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кос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нуться (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нет а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5" name="">
            <a:hlinkClick r:id="" action="ppaction://hlinkshowjump?jump=previousslide"/>
          </p:cNvPr>
          <p:cNvSpPr/>
          <p:nvPr/>
        </p:nvSpPr>
        <p:spPr>
          <a:xfrm>
            <a:off x="8101080" y="5877000"/>
            <a:ext cx="1042920" cy="981000"/>
          </a:xfrm>
          <a:custGeom>
            <a:avLst/>
            <a:gdLst>
              <a:gd name="textAreaLeft" fmla="*/ 63360 w 1042920"/>
              <a:gd name="textAreaRight" fmla="*/ 979560 w 104292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2963" h="21600">
                <a:moveTo>
                  <a:pt x="0" y="0"/>
                </a:moveTo>
                <a:lnTo>
                  <a:pt x="22963" y="0"/>
                </a:lnTo>
                <a:lnTo>
                  <a:pt x="22963" y="21600"/>
                </a:lnTo>
                <a:lnTo>
                  <a:pt x="0" y="21600"/>
                </a:lnTo>
                <a:close/>
              </a:path>
              <a:path fill="lightenLess" w="22963" h="21600">
                <a:moveTo>
                  <a:pt x="0" y="0"/>
                </a:moveTo>
                <a:lnTo>
                  <a:pt x="22963" y="0"/>
                </a:lnTo>
                <a:lnTo>
                  <a:pt x="21563" y="1400"/>
                </a:lnTo>
                <a:lnTo>
                  <a:pt x="1400" y="1400"/>
                </a:lnTo>
                <a:close/>
              </a:path>
              <a:path fill="darken" w="22963" h="21600">
                <a:moveTo>
                  <a:pt x="22963" y="0"/>
                </a:moveTo>
                <a:lnTo>
                  <a:pt x="22963" y="21600"/>
                </a:lnTo>
                <a:lnTo>
                  <a:pt x="21563" y="20200"/>
                </a:lnTo>
                <a:lnTo>
                  <a:pt x="21563" y="1400"/>
                </a:lnTo>
                <a:close/>
              </a:path>
              <a:path fill="darkenLess" w="22963" h="21600">
                <a:moveTo>
                  <a:pt x="22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63" y="20200"/>
                </a:lnTo>
                <a:close/>
              </a:path>
              <a:path fill="lighten" w="22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63" h="21600">
                <a:moveTo>
                  <a:pt x="4475" y="7493"/>
                </a:moveTo>
                <a:lnTo>
                  <a:pt x="7983" y="7493"/>
                </a:lnTo>
                <a:lnTo>
                  <a:pt x="7983" y="12828"/>
                </a:lnTo>
                <a:cubicBezTo>
                  <a:pt x="7983" y="13751"/>
                  <a:pt x="8783" y="14482"/>
                  <a:pt x="9819" y="14482"/>
                </a:cubicBezTo>
                <a:lnTo>
                  <a:pt x="11481" y="14482"/>
                </a:lnTo>
                <a:cubicBezTo>
                  <a:pt x="12517" y="14482"/>
                  <a:pt x="13318" y="13751"/>
                  <a:pt x="13318" y="12828"/>
                </a:cubicBezTo>
                <a:lnTo>
                  <a:pt x="13318" y="7493"/>
                </a:lnTo>
                <a:lnTo>
                  <a:pt x="11481" y="7493"/>
                </a:lnTo>
                <a:lnTo>
                  <a:pt x="14989" y="3985"/>
                </a:lnTo>
                <a:lnTo>
                  <a:pt x="18662" y="7493"/>
                </a:lnTo>
                <a:lnTo>
                  <a:pt x="16826" y="7493"/>
                </a:lnTo>
                <a:lnTo>
                  <a:pt x="16826" y="12828"/>
                </a:lnTo>
                <a:cubicBezTo>
                  <a:pt x="16826" y="15596"/>
                  <a:pt x="14249" y="18155"/>
                  <a:pt x="11481" y="18155"/>
                </a:cubicBezTo>
                <a:lnTo>
                  <a:pt x="9819" y="18155"/>
                </a:lnTo>
                <a:cubicBezTo>
                  <a:pt x="7051" y="18155"/>
                  <a:pt x="4475" y="15596"/>
                  <a:pt x="4475" y="12828"/>
                </a:cubicBezTo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0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8" dur="2000" fill="hold"/>
                                        <p:tgtEl>
                                          <p:spTgt spid="22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1" dur="2000" fill="hold"/>
                                        <p:tgtEl>
                                          <p:spTgt spid="22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Соединительные гласные в сложных словах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362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В сложных словах после </a:t>
            </a: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</a:rPr>
              <a:t>твёрдых</a:t>
            </a: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 согласных пишется соединительная </a:t>
            </a:r>
            <a:r>
              <a:rPr b="1" lang="en-US" sz="1600" spc="-1" strike="noStrike">
                <a:solidFill>
                  <a:srgbClr val="0000ff"/>
                </a:solidFill>
                <a:latin typeface="Abadi MT Condensed Light"/>
              </a:rPr>
              <a:t>О</a:t>
            </a: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, а после </a:t>
            </a:r>
            <a:r>
              <a:rPr b="1" lang="en-US" sz="1600" spc="-1" strike="noStrike">
                <a:solidFill>
                  <a:srgbClr val="009900"/>
                </a:solidFill>
                <a:latin typeface="Abadi MT Condensed Light"/>
              </a:rPr>
              <a:t>мягких </a:t>
            </a: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согласных, </a:t>
            </a:r>
            <a:r>
              <a:rPr b="1" lang="en-US" sz="1600" spc="-1" strike="noStrike">
                <a:solidFill>
                  <a:srgbClr val="009900"/>
                </a:solidFill>
                <a:latin typeface="Abadi MT Condensed Light"/>
              </a:rPr>
              <a:t>шипящих</a:t>
            </a: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 и </a:t>
            </a:r>
            <a:r>
              <a:rPr b="1" lang="en-US" sz="1600" spc="-1" strike="noStrike">
                <a:solidFill>
                  <a:srgbClr val="009900"/>
                </a:solidFill>
                <a:latin typeface="Abadi MT Condensed Light"/>
              </a:rPr>
              <a:t>Ц </a:t>
            </a:r>
            <a:r>
              <a:rPr b="1" lang="en-US" sz="1600" spc="-1" strike="noStrike">
                <a:solidFill>
                  <a:srgbClr val="000000"/>
                </a:solidFill>
                <a:latin typeface="Abadi MT Condensed Light"/>
              </a:rPr>
              <a:t>– соединительная </a:t>
            </a:r>
            <a:r>
              <a:rPr b="1" lang="en-US" sz="1600" spc="-1" strike="noStrike">
                <a:solidFill>
                  <a:srgbClr val="009900"/>
                </a:solidFill>
                <a:latin typeface="Abadi MT Condensed Light"/>
              </a:rPr>
              <a:t>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b812f"/>
                </a:solidFill>
                <a:latin typeface="Abadi MT Condensed Light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Земн</a:t>
            </a:r>
            <a:r>
              <a:rPr b="1" i="1" lang="en-US" sz="1600" spc="-1" strike="noStrike">
                <a:solidFill>
                  <a:srgbClr val="0000ff"/>
                </a:solidFill>
                <a:latin typeface="Abadi MT Condensed Light"/>
              </a:rPr>
              <a:t>о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водный, земл</a:t>
            </a:r>
            <a:r>
              <a:rPr b="1" i="1" lang="en-US" sz="1600" spc="-1" strike="noStrike">
                <a:solidFill>
                  <a:srgbClr val="009900"/>
                </a:solidFill>
                <a:latin typeface="Abadi MT Condensed Light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мер, пеш</a:t>
            </a:r>
            <a:r>
              <a:rPr b="1" i="1" lang="en-US" sz="1600" spc="-1" strike="noStrike">
                <a:solidFill>
                  <a:srgbClr val="3b812f"/>
                </a:solidFill>
                <a:latin typeface="Abadi MT Condensed Light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ход, птиц</a:t>
            </a:r>
            <a:r>
              <a:rPr b="1" i="1" lang="en-US" sz="1600" spc="-1" strike="noStrike">
                <a:solidFill>
                  <a:srgbClr val="3b812f"/>
                </a:solidFill>
                <a:latin typeface="Abadi MT Condensed Light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лов, земл</a:t>
            </a:r>
            <a:r>
              <a:rPr b="1" i="1" lang="en-US" sz="1600" spc="-1" strike="noStrike">
                <a:solidFill>
                  <a:srgbClr val="3b812f"/>
                </a:solidFill>
                <a:latin typeface="Abadi MT Condensed Light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трясение, сердц</a:t>
            </a:r>
            <a:r>
              <a:rPr b="1" i="1" lang="en-US" sz="1600" spc="-1" strike="noStrike">
                <a:solidFill>
                  <a:srgbClr val="3b812f"/>
                </a:solidFill>
                <a:latin typeface="Abadi MT Condensed Light"/>
              </a:rPr>
              <a:t>е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биение, природ</a:t>
            </a:r>
            <a:r>
              <a:rPr b="1" i="1" lang="en-US" sz="1600" spc="-1" strike="noStrike">
                <a:solidFill>
                  <a:srgbClr val="0000ff"/>
                </a:solidFill>
                <a:latin typeface="Abadi MT Condensed Light"/>
              </a:rPr>
              <a:t>о</a:t>
            </a:r>
            <a:r>
              <a:rPr b="1" i="1" lang="en-US" sz="1600" spc="-1" strike="noStrike">
                <a:solidFill>
                  <a:srgbClr val="000000"/>
                </a:solidFill>
                <a:latin typeface="Abadi MT Condensed Light"/>
              </a:rPr>
              <a:t>ве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badi MT Condensed Light"/>
              </a:rPr>
              <a:t>Запомни !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8" name=""/>
          <p:cNvGraphicFramePr/>
          <p:nvPr/>
        </p:nvGraphicFramePr>
        <p:xfrm>
          <a:off x="395280" y="2421000"/>
          <a:ext cx="8569440" cy="3701880"/>
        </p:xfrm>
        <a:graphic>
          <a:graphicData uri="http://schemas.openxmlformats.org/drawingml/2006/table">
            <a:tbl>
              <a:tblPr/>
              <a:tblGrid>
                <a:gridCol w="2592360"/>
                <a:gridCol w="1944720"/>
                <a:gridCol w="1800360"/>
                <a:gridCol w="2232000"/>
              </a:tblGrid>
              <a:tr h="823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чис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провожд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ктр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кац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уг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шедш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шён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часть – числит. в род. п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часть – глагол в повелит. нак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соединит. гласн. с иноязычн. элемента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ок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ь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тле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в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ст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вяност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яч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т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ок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ж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ок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р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ве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в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о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оп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рж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виА, аэрО, автО, биО, библиО, гидрО. зоО, кинО, микрО, метеО, мотО, велО, фотО, телЕ, радиО, псевдО, стереО, электрО, ультрА, по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ультр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ви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т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9" name="">
            <a:hlinkClick r:id="" action="ppaction://hlinkshowjump?jump=previousslide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7493"/>
                </a:moveTo>
                <a:lnTo>
                  <a:pt x="12768" y="7493"/>
                </a:lnTo>
                <a:lnTo>
                  <a:pt x="12768" y="12828"/>
                </a:lnTo>
                <a:cubicBezTo>
                  <a:pt x="12768" y="13751"/>
                  <a:pt x="13569" y="14482"/>
                  <a:pt x="14605" y="14482"/>
                </a:cubicBezTo>
                <a:lnTo>
                  <a:pt x="16267" y="14482"/>
                </a:lnTo>
                <a:cubicBezTo>
                  <a:pt x="17303" y="14482"/>
                  <a:pt x="18104" y="13751"/>
                  <a:pt x="18104" y="12828"/>
                </a:cubicBezTo>
                <a:lnTo>
                  <a:pt x="18104" y="7493"/>
                </a:lnTo>
                <a:lnTo>
                  <a:pt x="16267" y="7493"/>
                </a:lnTo>
                <a:lnTo>
                  <a:pt x="19775" y="3985"/>
                </a:lnTo>
                <a:lnTo>
                  <a:pt x="23448" y="7493"/>
                </a:lnTo>
                <a:lnTo>
                  <a:pt x="21611" y="7493"/>
                </a:lnTo>
                <a:lnTo>
                  <a:pt x="21611" y="12828"/>
                </a:lnTo>
                <a:cubicBezTo>
                  <a:pt x="21611" y="15596"/>
                  <a:pt x="19035" y="18155"/>
                  <a:pt x="16267" y="18155"/>
                </a:cubicBezTo>
                <a:lnTo>
                  <a:pt x="14605" y="18155"/>
                </a:lnTo>
                <a:cubicBezTo>
                  <a:pt x="11837" y="18155"/>
                  <a:pt x="9261" y="15596"/>
                  <a:pt x="9261" y="12828"/>
                </a:cubicBezTo>
                <a:close/>
              </a:path>
            </a:pathLst>
          </a:custGeom>
          <a:noFill/>
          <a:ln w="9360">
            <a:solidFill>
              <a:srgbClr val="00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0" name="" descr=""/>
          <p:cNvPicPr/>
          <p:nvPr/>
        </p:nvPicPr>
        <p:blipFill>
          <a:blip r:embed="rId1"/>
          <a:stretch/>
        </p:blipFill>
        <p:spPr>
          <a:xfrm>
            <a:off x="1968480" y="4437000"/>
            <a:ext cx="7794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pull dir="u"/>
  </p:transition>
  <p:timing>
    <p:tnLst>
      <p:par>
        <p:cTn id="1622" dur="indefinite" restart="never" nodeType="tmRoot">
          <p:childTnLst>
            <p:seq>
              <p:cTn id="1623" dur="indefinite" nodeType="mainSeq">
                <p:childTnLst>
                  <p:par>
                    <p:cTn id="1624" fill="hold">
                      <p:stCondLst>
                        <p:cond delay="0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7" dur="2000" fill="hold"/>
                                        <p:tgtEl>
                                          <p:spTgt spid="22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зносклоняемые существительны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696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0 существительных на  -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мя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бре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ре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вы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знамя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 сущ. 3 склон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и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а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ле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стремя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к сущ. 2 склонен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тем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+ сущ. м. р.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пу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в              пиши гласную 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3" name=""/>
          <p:cNvSpPr/>
          <p:nvPr/>
        </p:nvSpPr>
        <p:spPr>
          <a:xfrm>
            <a:off x="2916360" y="1700280"/>
            <a:ext cx="3887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од.п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ат. п. </a:t>
            </a:r>
            <a:r>
              <a:rPr b="1" lang="ru-RU" sz="2000" spc="-1" strike="noStrike">
                <a:solidFill>
                  <a:srgbClr val="cc0000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едл. п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"/>
          <p:cNvSpPr txBox="1"/>
          <p:nvPr/>
        </p:nvSpPr>
        <p:spPr>
          <a:xfrm>
            <a:off x="4788000" y="1916280"/>
            <a:ext cx="6174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5" name=""/>
          <p:cNvSpPr/>
          <p:nvPr/>
        </p:nvSpPr>
        <p:spPr>
          <a:xfrm>
            <a:off x="4572000" y="1773360"/>
            <a:ext cx="936720" cy="1224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2916360" y="371628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твор. п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7" name=""/>
          <p:cNvSpPr txBox="1"/>
          <p:nvPr/>
        </p:nvSpPr>
        <p:spPr>
          <a:xfrm>
            <a:off x="4500720" y="3429000"/>
            <a:ext cx="1079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ем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98" name=""/>
          <p:cNvSpPr/>
          <p:nvPr/>
        </p:nvSpPr>
        <p:spPr>
          <a:xfrm>
            <a:off x="4356000" y="3357720"/>
            <a:ext cx="1295640" cy="1223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"/>
          <p:cNvSpPr txBox="1"/>
          <p:nvPr/>
        </p:nvSpPr>
        <p:spPr>
          <a:xfrm>
            <a:off x="2556000" y="5445000"/>
            <a:ext cx="136836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ен-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00" name=""/>
          <p:cNvSpPr/>
          <p:nvPr/>
        </p:nvSpPr>
        <p:spPr>
          <a:xfrm flipV="1">
            <a:off x="2484360" y="5013000"/>
            <a:ext cx="719280" cy="576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3203640" y="5013360"/>
            <a:ext cx="647640" cy="503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2627280" y="6237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На знам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ен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и (на  -м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">
            <a:hlinkClick r:id="" action="ppaction://hlinkshowjump?jump=previousslide"/>
          </p:cNvPr>
          <p:cNvSpPr/>
          <p:nvPr/>
        </p:nvSpPr>
        <p:spPr>
          <a:xfrm>
            <a:off x="7956720" y="6021360"/>
            <a:ext cx="1187280" cy="836640"/>
          </a:xfrm>
          <a:custGeom>
            <a:avLst/>
            <a:gdLst>
              <a:gd name="textAreaLeft" fmla="*/ 54000 w 1187280"/>
              <a:gd name="textAreaRight" fmla="*/ 1133280 w 118728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30649" h="21600">
                <a:moveTo>
                  <a:pt x="0" y="0"/>
                </a:moveTo>
                <a:lnTo>
                  <a:pt x="30649" y="0"/>
                </a:lnTo>
                <a:lnTo>
                  <a:pt x="30649" y="21600"/>
                </a:lnTo>
                <a:lnTo>
                  <a:pt x="0" y="21600"/>
                </a:lnTo>
                <a:close/>
              </a:path>
              <a:path fill="lightenLess" w="30649" h="21600">
                <a:moveTo>
                  <a:pt x="0" y="0"/>
                </a:moveTo>
                <a:lnTo>
                  <a:pt x="30649" y="0"/>
                </a:lnTo>
                <a:lnTo>
                  <a:pt x="29249" y="1400"/>
                </a:lnTo>
                <a:lnTo>
                  <a:pt x="1400" y="1400"/>
                </a:lnTo>
                <a:close/>
              </a:path>
              <a:path fill="darken" w="30649" h="21600">
                <a:moveTo>
                  <a:pt x="30649" y="0"/>
                </a:moveTo>
                <a:lnTo>
                  <a:pt x="30649" y="21600"/>
                </a:lnTo>
                <a:lnTo>
                  <a:pt x="29249" y="20200"/>
                </a:lnTo>
                <a:lnTo>
                  <a:pt x="29249" y="1400"/>
                </a:lnTo>
                <a:close/>
              </a:path>
              <a:path fill="darkenLess" w="30649" h="21600">
                <a:moveTo>
                  <a:pt x="30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249" y="20200"/>
                </a:lnTo>
                <a:close/>
              </a:path>
              <a:path fill="lighten" w="30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649" h="21600">
                <a:moveTo>
                  <a:pt x="8318" y="7493"/>
                </a:moveTo>
                <a:lnTo>
                  <a:pt x="11825" y="7493"/>
                </a:lnTo>
                <a:lnTo>
                  <a:pt x="11825" y="12828"/>
                </a:lnTo>
                <a:cubicBezTo>
                  <a:pt x="11825" y="13751"/>
                  <a:pt x="12626" y="14482"/>
                  <a:pt x="13662" y="14482"/>
                </a:cubicBezTo>
                <a:lnTo>
                  <a:pt x="15324" y="14482"/>
                </a:lnTo>
                <a:cubicBezTo>
                  <a:pt x="16360" y="14482"/>
                  <a:pt x="17161" y="13751"/>
                  <a:pt x="17161" y="12828"/>
                </a:cubicBezTo>
                <a:lnTo>
                  <a:pt x="17161" y="7493"/>
                </a:lnTo>
                <a:lnTo>
                  <a:pt x="15324" y="7493"/>
                </a:lnTo>
                <a:lnTo>
                  <a:pt x="18832" y="3985"/>
                </a:lnTo>
                <a:lnTo>
                  <a:pt x="22505" y="7493"/>
                </a:lnTo>
                <a:lnTo>
                  <a:pt x="20668" y="7493"/>
                </a:lnTo>
                <a:lnTo>
                  <a:pt x="20668" y="12828"/>
                </a:lnTo>
                <a:cubicBezTo>
                  <a:pt x="20668" y="15596"/>
                  <a:pt x="18092" y="18155"/>
                  <a:pt x="15324" y="18155"/>
                </a:cubicBezTo>
                <a:lnTo>
                  <a:pt x="13662" y="18155"/>
                </a:lnTo>
                <a:cubicBezTo>
                  <a:pt x="10894" y="18155"/>
                  <a:pt x="8318" y="15596"/>
                  <a:pt x="8318" y="12828"/>
                </a:cubicBez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628" dur="indefinite" restart="never" nodeType="tmRoot">
          <p:childTnLst>
            <p:seq>
              <p:cTn id="1629" dur="indefinite" nodeType="mainSeq">
                <p:childTnLst>
                  <p:par>
                    <p:cTn id="1630" fill="hold">
                      <p:stCondLst>
                        <p:cond delay="0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afterEffect" fill="hold" presetClass="emph" presetID="8" repeatCount="2000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"/>
          <p:cNvSpPr/>
          <p:nvPr/>
        </p:nvSpPr>
        <p:spPr>
          <a:xfrm>
            <a:off x="4643280" y="2205000"/>
            <a:ext cx="3241800" cy="4392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684360" y="2205000"/>
            <a:ext cx="3743280" cy="4392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4643280" y="2205000"/>
            <a:ext cx="3241800" cy="4392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684360" y="2205000"/>
            <a:ext cx="3743280" cy="4392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528804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уквы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Ы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после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приставо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685440" y="2421000"/>
            <a:ext cx="39574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                   дущ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без                  звест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д                   стор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                       гра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от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дущи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вестный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тория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1" lang="ru-RU" sz="1600" spc="-1" strike="noStrike">
                <a:solidFill>
                  <a:srgbClr val="0000ff"/>
                </a:solidFill>
                <a:latin typeface="Comic Sans MS"/>
              </a:rPr>
              <a:t>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грать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0" name=""/>
          <p:cNvSpPr txBox="1"/>
          <p:nvPr/>
        </p:nvSpPr>
        <p:spPr>
          <a:xfrm>
            <a:off x="4643280" y="2421000"/>
            <a:ext cx="3772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сключен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ерх-  сверхизысканн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ж-     межинститутск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уб-       субинформаци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з-       дезинформация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анс-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нтр-     контригр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ортинвентар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динститу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има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1" name="">
            <a:hlinkClick r:id="" action="ppaction://hlinkshowjump?jump=previousslide"/>
          </p:cNvPr>
          <p:cNvSpPr/>
          <p:nvPr/>
        </p:nvSpPr>
        <p:spPr>
          <a:xfrm>
            <a:off x="8317080" y="5877000"/>
            <a:ext cx="826920" cy="98100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981000"/>
              <a:gd name="textAreaBottom" fmla="*/ 927720 h 981000"/>
            </a:gdLst>
            <a:ahLst/>
            <a:rect l="textAreaLeft" t="textAreaTop" r="textAreaRight" b="textAreaBottom"/>
            <a:pathLst>
              <a:path w="21600" h="25623">
                <a:moveTo>
                  <a:pt x="0" y="0"/>
                </a:moveTo>
                <a:lnTo>
                  <a:pt x="21600" y="0"/>
                </a:lnTo>
                <a:lnTo>
                  <a:pt x="21600" y="25623"/>
                </a:lnTo>
                <a:lnTo>
                  <a:pt x="0" y="25623"/>
                </a:lnTo>
                <a:close/>
              </a:path>
              <a:path fill="lightenLess" w="21600" h="256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623">
                <a:moveTo>
                  <a:pt x="21600" y="0"/>
                </a:moveTo>
                <a:lnTo>
                  <a:pt x="21600" y="25623"/>
                </a:lnTo>
                <a:lnTo>
                  <a:pt x="20200" y="24223"/>
                </a:lnTo>
                <a:lnTo>
                  <a:pt x="20200" y="1400"/>
                </a:lnTo>
                <a:close/>
              </a:path>
              <a:path fill="darkenLess" w="21600" h="25623">
                <a:moveTo>
                  <a:pt x="21600" y="25623"/>
                </a:moveTo>
                <a:lnTo>
                  <a:pt x="0" y="25623"/>
                </a:lnTo>
                <a:lnTo>
                  <a:pt x="1400" y="24223"/>
                </a:lnTo>
                <a:lnTo>
                  <a:pt x="20200" y="24223"/>
                </a:lnTo>
                <a:close/>
              </a:path>
              <a:path fill="lighten" w="21600" h="25623">
                <a:moveTo>
                  <a:pt x="0" y="256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4223"/>
                </a:lnTo>
                <a:close/>
              </a:path>
              <a:path fill="darken" w="21600" h="25623">
                <a:moveTo>
                  <a:pt x="3794" y="9504"/>
                </a:moveTo>
                <a:lnTo>
                  <a:pt x="7301" y="9504"/>
                </a:lnTo>
                <a:lnTo>
                  <a:pt x="7301" y="14839"/>
                </a:lnTo>
                <a:cubicBezTo>
                  <a:pt x="7301" y="15762"/>
                  <a:pt x="8102" y="16493"/>
                  <a:pt x="9138" y="16493"/>
                </a:cubicBezTo>
                <a:lnTo>
                  <a:pt x="10800" y="16493"/>
                </a:lnTo>
                <a:cubicBezTo>
                  <a:pt x="11836" y="16493"/>
                  <a:pt x="12636" y="15762"/>
                  <a:pt x="12636" y="14839"/>
                </a:cubicBezTo>
                <a:lnTo>
                  <a:pt x="12636" y="9504"/>
                </a:lnTo>
                <a:lnTo>
                  <a:pt x="10800" y="9504"/>
                </a:lnTo>
                <a:lnTo>
                  <a:pt x="14308" y="5996"/>
                </a:lnTo>
                <a:lnTo>
                  <a:pt x="17981" y="9504"/>
                </a:lnTo>
                <a:lnTo>
                  <a:pt x="16144" y="9504"/>
                </a:lnTo>
                <a:lnTo>
                  <a:pt x="16144" y="14839"/>
                </a:lnTo>
                <a:cubicBezTo>
                  <a:pt x="16144" y="17607"/>
                  <a:pt x="13568" y="20166"/>
                  <a:pt x="10800" y="20166"/>
                </a:cubicBezTo>
                <a:lnTo>
                  <a:pt x="9138" y="20166"/>
                </a:lnTo>
                <a:cubicBezTo>
                  <a:pt x="6370" y="20166"/>
                  <a:pt x="3794" y="17607"/>
                  <a:pt x="3794" y="14839"/>
                </a:cubicBez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900000" y="1413000"/>
            <a:ext cx="69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После приставок, оканчивающихся на согласный, вместо И пишется Ы согласно произношению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3" name=""/>
          <p:cNvSpPr txBox="1"/>
          <p:nvPr/>
        </p:nvSpPr>
        <p:spPr>
          <a:xfrm>
            <a:off x="1835280" y="2205000"/>
            <a:ext cx="1368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ы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716360" y="29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5435640" y="299736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4716360" y="335772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5435640" y="335772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4788000" y="3716280"/>
            <a:ext cx="50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5291280" y="371628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4716360" y="407664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5362560" y="4076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4716360" y="443700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5435640" y="443700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4716360" y="4797360"/>
            <a:ext cx="71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5435640" y="479736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 flipV="1" rot="14418000">
            <a:off x="4554360" y="4987800"/>
            <a:ext cx="72000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 flipV="1" rot="11903400">
            <a:off x="5408640" y="4974480"/>
            <a:ext cx="1286280" cy="109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14" y="2650"/>
                </a:moveTo>
                <a:arcTo wR="10800" hR="10800" stAng="-7860210" swAng="7495576"/>
                <a:lnTo>
                  <a:pt x="10800" y="10800"/>
                </a:lnTo>
                <a:close/>
              </a:path>
              <a:path fill="none" w="21600" h="21600">
                <a:moveTo>
                  <a:pt x="3714" y="2650"/>
                </a:moveTo>
                <a:arcTo wR="10800" hR="10800" stAng="-7860210" swAng="7495576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 flipV="1" rot="14418000">
            <a:off x="4410000" y="5347800"/>
            <a:ext cx="720000" cy="1152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 flipV="1" rot="11903400">
            <a:off x="5197320" y="5393520"/>
            <a:ext cx="1286280" cy="109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714" y="2650"/>
                </a:moveTo>
                <a:arcTo wR="10800" hR="10800" stAng="-7860210" swAng="7495576"/>
                <a:lnTo>
                  <a:pt x="10800" y="10800"/>
                </a:lnTo>
                <a:close/>
              </a:path>
              <a:path fill="none" w="21600" h="21600">
                <a:moveTo>
                  <a:pt x="3714" y="2650"/>
                </a:moveTo>
                <a:arcTo wR="10800" hR="10800" stAng="-7860210" swAng="7495576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4643280" y="2421000"/>
            <a:ext cx="3772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Исключ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верх-  сверхизыскан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ж-     межинститут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уб-       субинформ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з-       дезинформация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анс-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нтр-     контриг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ортинвентар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динстит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зим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634" dur="indefinite" restart="never" nodeType="tmRoot">
          <p:childTnLst>
            <p:seq>
              <p:cTn id="1635" dur="indefinite" nodeType="mainSeq">
                <p:childTnLst>
                  <p:par>
                    <p:cTn id="1636" fill="hold">
                      <p:stCondLst>
                        <p:cond delay="0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2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4" nodeType="afterEffect" fill="hold" presetClass="emph" presetID="26" repeatCount="200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5" dur="2000"/>
                                        <p:tgtEl>
                                          <p:spTgt spid="2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6" dur="1000" autoRev="1" fill="hold"/>
                                        <p:tgtEl>
                                          <p:spTgt spid="2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77025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Определи, как образовано слово. Поставь формулу «тот, кто». Найди букву перед суффиксом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2" name=""/>
          <p:cNvSpPr/>
          <p:nvPr/>
        </p:nvSpPr>
        <p:spPr>
          <a:xfrm flipV="1">
            <a:off x="2411280" y="188640"/>
            <a:ext cx="576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2987640" y="189000"/>
            <a:ext cx="360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 flipV="1">
            <a:off x="2411280" y="188640"/>
            <a:ext cx="576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 flipV="1">
            <a:off x="2411280" y="188640"/>
            <a:ext cx="576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755640" y="260280"/>
            <a:ext cx="68706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ик-  и  -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щ</a:t>
            </a:r>
            <a:r>
              <a:rPr b="0" lang="ru-RU" sz="4400" spc="-1" strike="noStrike">
                <a:solidFill>
                  <a:srgbClr val="ffffff"/>
                </a:solidFill>
                <a:latin typeface="Comic Sans MS"/>
              </a:rPr>
              <a:t>ик-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 flipV="1">
            <a:off x="2411280" y="188640"/>
            <a:ext cx="576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2987640" y="189000"/>
            <a:ext cx="360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 flipV="1">
            <a:off x="2411280" y="188640"/>
            <a:ext cx="57636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 flipV="1">
            <a:off x="4859280" y="259920"/>
            <a:ext cx="50472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5364000" y="260280"/>
            <a:ext cx="648000" cy="28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2" name=""/>
          <p:cNvGraphicFramePr/>
          <p:nvPr/>
        </p:nvGraphicFramePr>
        <p:xfrm>
          <a:off x="324000" y="2060640"/>
          <a:ext cx="8496000" cy="4346640"/>
        </p:xfrm>
        <a:graphic>
          <a:graphicData uri="http://schemas.openxmlformats.org/drawingml/2006/table">
            <a:tbl>
              <a:tblPr/>
              <a:tblGrid>
                <a:gridCol w="2781000"/>
                <a:gridCol w="2856240"/>
                <a:gridCol w="2858760"/>
              </a:tblGrid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сле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З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ё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ъез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д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ру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з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пи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еребе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ж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и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сле других букв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амен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щ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вар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щ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ладов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щ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еколь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щ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(не посла д, т, з, с, ж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5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от, кто грузит, - гру</a:t>
                      </a: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з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чи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!!!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з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с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ж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1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    </a:t>
                      </a: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Не путай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таканчик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(суффикс умен.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агончик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ласкательны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43" name=""/>
          <p:cNvSpPr/>
          <p:nvPr/>
        </p:nvSpPr>
        <p:spPr>
          <a:xfrm flipV="1">
            <a:off x="6084720" y="5300280"/>
            <a:ext cx="28764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6372360" y="5300640"/>
            <a:ext cx="28728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flipV="1">
            <a:off x="6012000" y="5805360"/>
            <a:ext cx="28728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6300720" y="5805360"/>
            <a:ext cx="287280" cy="14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7" name=""/>
          <p:cNvSpPr txBox="1"/>
          <p:nvPr/>
        </p:nvSpPr>
        <p:spPr>
          <a:xfrm>
            <a:off x="6156360" y="2637000"/>
            <a:ext cx="15112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щик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8" name=""/>
          <p:cNvSpPr/>
          <p:nvPr/>
        </p:nvSpPr>
        <p:spPr>
          <a:xfrm flipV="1">
            <a:off x="6156360" y="2349000"/>
            <a:ext cx="792000" cy="287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6948360" y="2349360"/>
            <a:ext cx="719280" cy="2160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0" name=""/>
          <p:cNvSpPr txBox="1"/>
          <p:nvPr/>
        </p:nvSpPr>
        <p:spPr>
          <a:xfrm>
            <a:off x="1908000" y="2565360"/>
            <a:ext cx="10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чи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1" name=""/>
          <p:cNvSpPr/>
          <p:nvPr/>
        </p:nvSpPr>
        <p:spPr>
          <a:xfrm>
            <a:off x="1547640" y="2133720"/>
            <a:ext cx="287640" cy="1726920"/>
          </a:xfrm>
          <a:custGeom>
            <a:avLst/>
            <a:gdLst>
              <a:gd name="textAreaLeft" fmla="*/ 0 w 287640"/>
              <a:gd name="textAreaRight" fmla="*/ 103680 w 287640"/>
              <a:gd name="textAreaTop" fmla="*/ 45000 h 1726920"/>
              <a:gd name="textAreaBottom" fmla="*/ 1681920 h 172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2" name="">
            <a:hlinkClick r:id="" action="ppaction://hlinkshowjump?jump=previousslide"/>
          </p:cNvPr>
          <p:cNvSpPr/>
          <p:nvPr/>
        </p:nvSpPr>
        <p:spPr>
          <a:xfrm>
            <a:off x="8388360" y="5877000"/>
            <a:ext cx="755640" cy="981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981000"/>
              <a:gd name="textAreaBottom" fmla="*/ 932040 h 981000"/>
            </a:gdLst>
            <a:ahLst/>
            <a:rect l="textAreaLeft" t="textAreaTop" r="textAreaRight" b="textAreaBottom"/>
            <a:pathLst>
              <a:path w="21600" h="28039">
                <a:moveTo>
                  <a:pt x="0" y="0"/>
                </a:moveTo>
                <a:lnTo>
                  <a:pt x="21600" y="0"/>
                </a:lnTo>
                <a:lnTo>
                  <a:pt x="21600" y="28039"/>
                </a:lnTo>
                <a:lnTo>
                  <a:pt x="0" y="28039"/>
                </a:lnTo>
                <a:close/>
              </a:path>
              <a:path fill="lightenLess" w="21600" h="280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39">
                <a:moveTo>
                  <a:pt x="21600" y="0"/>
                </a:moveTo>
                <a:lnTo>
                  <a:pt x="21600" y="28039"/>
                </a:lnTo>
                <a:lnTo>
                  <a:pt x="20200" y="26639"/>
                </a:lnTo>
                <a:lnTo>
                  <a:pt x="20200" y="1400"/>
                </a:lnTo>
                <a:close/>
              </a:path>
              <a:path fill="darkenLess" w="21600" h="28039">
                <a:moveTo>
                  <a:pt x="21600" y="28039"/>
                </a:moveTo>
                <a:lnTo>
                  <a:pt x="0" y="28039"/>
                </a:lnTo>
                <a:lnTo>
                  <a:pt x="1400" y="26639"/>
                </a:lnTo>
                <a:lnTo>
                  <a:pt x="20200" y="26639"/>
                </a:lnTo>
                <a:close/>
              </a:path>
              <a:path fill="lighten" w="21600" h="28039">
                <a:moveTo>
                  <a:pt x="0" y="280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39"/>
                </a:lnTo>
                <a:close/>
              </a:path>
              <a:path fill="darken" w="21600" h="28039">
                <a:moveTo>
                  <a:pt x="3794" y="10712"/>
                </a:moveTo>
                <a:lnTo>
                  <a:pt x="7301" y="10712"/>
                </a:lnTo>
                <a:lnTo>
                  <a:pt x="7301" y="16047"/>
                </a:lnTo>
                <a:cubicBezTo>
                  <a:pt x="7301" y="16970"/>
                  <a:pt x="8102" y="17701"/>
                  <a:pt x="9138" y="17701"/>
                </a:cubicBezTo>
                <a:lnTo>
                  <a:pt x="10800" y="17701"/>
                </a:lnTo>
                <a:cubicBezTo>
                  <a:pt x="11836" y="17701"/>
                  <a:pt x="12636" y="16970"/>
                  <a:pt x="12636" y="16047"/>
                </a:cubicBezTo>
                <a:lnTo>
                  <a:pt x="12636" y="10712"/>
                </a:lnTo>
                <a:lnTo>
                  <a:pt x="10800" y="10712"/>
                </a:lnTo>
                <a:lnTo>
                  <a:pt x="14308" y="7204"/>
                </a:lnTo>
                <a:lnTo>
                  <a:pt x="17981" y="10712"/>
                </a:lnTo>
                <a:lnTo>
                  <a:pt x="16144" y="10712"/>
                </a:lnTo>
                <a:lnTo>
                  <a:pt x="16144" y="16047"/>
                </a:lnTo>
                <a:cubicBezTo>
                  <a:pt x="16144" y="18815"/>
                  <a:pt x="13568" y="21374"/>
                  <a:pt x="10800" y="21374"/>
                </a:cubicBezTo>
                <a:lnTo>
                  <a:pt x="9138" y="21374"/>
                </a:lnTo>
                <a:cubicBezTo>
                  <a:pt x="6370" y="21374"/>
                  <a:pt x="3794" y="18815"/>
                  <a:pt x="3794" y="16047"/>
                </a:cubicBezTo>
                <a:close/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6868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ягкий знак в глаголах повелительного накло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асные в суффиксах глаголов –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ОВА -  (-ЕВА-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и 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-ЫВА  (-ИВ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асные в суффиксах действительных  причастий настоящего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асные в суффиксах страдательных причастий настоящего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Слитное и раздельное написание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НЕ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 с причаст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4" action="ppaction://hlinksldjump"/>
              </a:rPr>
              <a:t>Две буквы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5" action="ppaction://hlinksldjump"/>
              </a:rPr>
              <a:t>Н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6" action="ppaction://hlinksldjump"/>
              </a:rPr>
              <a:t> в суффиксах полных страдательных причастий прошедшего времени и прилагательных, образованных от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7" action="ppaction://hlinksldjump"/>
              </a:rPr>
              <a:t>Одна и две буквы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8" action="ppaction://hlinksldjump"/>
              </a:rPr>
              <a:t>Н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9" action="ppaction://hlinksldjump"/>
              </a:rPr>
              <a:t> в суффиксах кратких страдательных причастий прошедшего времени и прилагательных, образованных от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асные перед одной и двумя буквами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Н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в страдательных причастиях и прилагательных, образованных от глагол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0" action="ppaction://hlinksldjump"/>
              </a:rPr>
              <a:t>Буквы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1" action="ppaction://hlinksldjump"/>
              </a:rPr>
              <a:t>Е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2" action="ppaction://hlinksldjump"/>
              </a:rPr>
              <a:t> и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3" action="ppaction://hlinksldjump"/>
              </a:rPr>
              <a:t>Ё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4" action="ppaction://hlinksldjump"/>
              </a:rPr>
              <a:t> после шипящих в суффиксах страдательных причастий прошедшего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5" action="ppaction://hlinksldjump"/>
              </a:rPr>
              <a:t>Раздельное написание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6" action="ppaction://hlinksldjump"/>
              </a:rPr>
              <a:t>НЕ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7" action="ppaction://hlinksldjump"/>
              </a:rPr>
              <a:t> с деепричаст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8" action="ppaction://hlinksldjump"/>
              </a:rPr>
              <a:t>Слитное и раздельное написание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19" action="ppaction://hlinksldjump"/>
              </a:rPr>
              <a:t>НЕ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0" action="ppaction://hlinksldjump"/>
              </a:rPr>
              <a:t> с нареч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в приставках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Н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 и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Н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 отрицательных наре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дна и две буквы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Н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в наречиях на –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и 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-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1" action="ppaction://hlinksldjump"/>
              </a:rPr>
              <a:t>Буквы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2" action="ppaction://hlinksldjump"/>
              </a:rPr>
              <a:t>О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3" action="ppaction://hlinksldjump"/>
              </a:rPr>
              <a:t> и 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4" action="ppaction://hlinksldjump"/>
              </a:rPr>
              <a:t>Е</a:t>
            </a:r>
            <a:r>
              <a:rPr b="0" lang="en-US" sz="1400" spc="-1" strike="noStrike" u="sng">
                <a:solidFill>
                  <a:srgbClr val="666699"/>
                </a:solidFill>
                <a:uFillTx/>
                <a:latin typeface="Arial"/>
                <a:hlinkClick r:id="rId25" action="ppaction://hlinksldjump"/>
              </a:rPr>
              <a:t> после шипящих на конце наре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уквы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О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на конце наре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фис между частями слова в нареч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ягкий знак после шипящих на конце наре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итное и раздельное написание предлогов, образованных из нареч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итное и раздельное написание предлогов, образованных от существительных с предлог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уква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 Е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на конце предлогов   </a:t>
            </a:r>
            <a:r>
              <a:rPr b="1" i="1" lang="en-US" sz="1400" spc="-1" strike="noStrike">
                <a:solidFill>
                  <a:srgbClr val="ff33cc"/>
                </a:solidFill>
                <a:latin typeface="Arial"/>
              </a:rPr>
              <a:t>в течение, в продолжение, вслед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итное написание союзов  </a:t>
            </a:r>
            <a:r>
              <a:rPr b="1" i="1" lang="en-US" sz="1400" spc="-1" strike="noStrike">
                <a:solidFill>
                  <a:srgbClr val="ff33cc"/>
                </a:solidFill>
                <a:latin typeface="Arial"/>
              </a:rPr>
              <a:t>также, тоже, что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фисное написание частицы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–Т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со сло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фисное написание частицы  </a:t>
            </a:r>
            <a:r>
              <a:rPr b="1" lang="en-US" sz="1400" spc="-1" strike="noStrike">
                <a:solidFill>
                  <a:srgbClr val="ff33cc"/>
                </a:solidFill>
                <a:latin typeface="Arial"/>
              </a:rPr>
              <a:t>-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с глаголами в повелительном наклонен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Arial"/>
              <a:buAutoNum type="arabicPeriod" startAt="4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ефис в междомети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7" name="" descr=""/>
          <p:cNvPicPr/>
          <p:nvPr/>
        </p:nvPicPr>
        <p:blipFill>
          <a:blip r:embed="rId26"/>
          <a:stretch/>
        </p:blipFill>
        <p:spPr>
          <a:xfrm>
            <a:off x="7451640" y="3429000"/>
            <a:ext cx="1028880" cy="1276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3" name="" descr=""/>
          <p:cNvPicPr/>
          <p:nvPr/>
        </p:nvPicPr>
        <p:blipFill>
          <a:blip r:embed="rId1"/>
          <a:stretch/>
        </p:blipFill>
        <p:spPr>
          <a:xfrm rot="37800">
            <a:off x="3346560" y="2563920"/>
            <a:ext cx="2519280" cy="2016000"/>
          </a:xfrm>
          <a:prstGeom prst="rect">
            <a:avLst/>
          </a:prstGeom>
          <a:ln w="0">
            <a:noFill/>
          </a:ln>
        </p:spPr>
      </p:pic>
      <p:sp>
        <p:nvSpPr>
          <p:cNvPr id="2354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мени слово, поставь в род. падеж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гласный убегает                                        гласный остаё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замочка – замочек                                       ключика – ключи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сыночка – сыночек                                      мячика – мячик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крючочка – крючочек                                 носика – носик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Гласные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и 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в суффиксах сущ.  -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Е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, -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И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2700000" y="2421000"/>
            <a:ext cx="136692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4932360" y="2421000"/>
            <a:ext cx="1655640" cy="360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"/>
          <p:cNvSpPr txBox="1"/>
          <p:nvPr/>
        </p:nvSpPr>
        <p:spPr>
          <a:xfrm>
            <a:off x="1763640" y="3357720"/>
            <a:ext cx="100800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ек-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9" name=""/>
          <p:cNvSpPr txBox="1"/>
          <p:nvPr/>
        </p:nvSpPr>
        <p:spPr>
          <a:xfrm>
            <a:off x="6588000" y="3357720"/>
            <a:ext cx="11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ик-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0" name=""/>
          <p:cNvSpPr/>
          <p:nvPr/>
        </p:nvSpPr>
        <p:spPr>
          <a:xfrm flipV="1">
            <a:off x="1692360" y="3141720"/>
            <a:ext cx="71892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2411280" y="3141720"/>
            <a:ext cx="50508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 flipV="1">
            <a:off x="6516720" y="3068280"/>
            <a:ext cx="792000" cy="28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7236000" y="3068640"/>
            <a:ext cx="50472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4" name="" descr=""/>
          <p:cNvPicPr/>
          <p:nvPr/>
        </p:nvPicPr>
        <p:blipFill>
          <a:blip r:embed="rId6"/>
          <a:stretch/>
        </p:blipFill>
        <p:spPr>
          <a:xfrm>
            <a:off x="8137440" y="3141720"/>
            <a:ext cx="1006560" cy="2011320"/>
          </a:xfrm>
          <a:prstGeom prst="rect">
            <a:avLst/>
          </a:prstGeom>
          <a:ln w="0">
            <a:noFill/>
          </a:ln>
        </p:spPr>
      </p:pic>
      <p:sp>
        <p:nvSpPr>
          <p:cNvPr id="2365" name=""/>
          <p:cNvSpPr/>
          <p:nvPr/>
        </p:nvSpPr>
        <p:spPr>
          <a:xfrm>
            <a:off x="1403280" y="5734080"/>
            <a:ext cx="6769080" cy="947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  <a:hlinkClick r:id="rId7" action="ppaction://hlinksldjump"/>
              </a:rPr>
              <a:t>Правописание неизменяемых суффик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743040" indent="-28584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  <a:hlinkClick r:id="rId8" action="ppaction://hlinksldjump"/>
              </a:rPr>
              <a:t>смотри дале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6588000" y="7174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7" name="">
            <a:hlinkClick r:id="rId9" action="ppaction://hlinksldjump"/>
          </p:cNvPr>
          <p:cNvSpPr/>
          <p:nvPr/>
        </p:nvSpPr>
        <p:spPr>
          <a:xfrm>
            <a:off x="8244000" y="5805360"/>
            <a:ext cx="900000" cy="105264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1052640"/>
              <a:gd name="textAreaBottom" fmla="*/ 994320 h 1052640"/>
            </a:gdLst>
            <a:ahLst/>
            <a:rect l="textAreaLeft" t="textAreaTop" r="textAreaRight" b="textAreaBottom"/>
            <a:pathLst>
              <a:path w="21600" h="25262">
                <a:moveTo>
                  <a:pt x="0" y="0"/>
                </a:moveTo>
                <a:lnTo>
                  <a:pt x="21600" y="0"/>
                </a:lnTo>
                <a:lnTo>
                  <a:pt x="21600" y="25262"/>
                </a:lnTo>
                <a:lnTo>
                  <a:pt x="0" y="25262"/>
                </a:lnTo>
                <a:close/>
              </a:path>
              <a:path fill="lightenLess" w="21600" h="25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62">
                <a:moveTo>
                  <a:pt x="21600" y="0"/>
                </a:moveTo>
                <a:lnTo>
                  <a:pt x="21600" y="25262"/>
                </a:lnTo>
                <a:lnTo>
                  <a:pt x="20200" y="23862"/>
                </a:lnTo>
                <a:lnTo>
                  <a:pt x="20200" y="1400"/>
                </a:lnTo>
                <a:close/>
              </a:path>
              <a:path fill="darkenLess" w="21600" h="25262">
                <a:moveTo>
                  <a:pt x="21600" y="25262"/>
                </a:moveTo>
                <a:lnTo>
                  <a:pt x="0" y="25262"/>
                </a:lnTo>
                <a:lnTo>
                  <a:pt x="1400" y="23862"/>
                </a:lnTo>
                <a:lnTo>
                  <a:pt x="20200" y="23862"/>
                </a:lnTo>
                <a:close/>
              </a:path>
              <a:path fill="lighten" w="21600" h="25262">
                <a:moveTo>
                  <a:pt x="0" y="25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62"/>
                </a:lnTo>
                <a:close/>
              </a:path>
              <a:path fill="darken" w="21600" h="25262">
                <a:moveTo>
                  <a:pt x="3794" y="9324"/>
                </a:moveTo>
                <a:lnTo>
                  <a:pt x="7301" y="9324"/>
                </a:lnTo>
                <a:lnTo>
                  <a:pt x="7301" y="14659"/>
                </a:lnTo>
                <a:cubicBezTo>
                  <a:pt x="7301" y="15582"/>
                  <a:pt x="8102" y="16313"/>
                  <a:pt x="9138" y="16313"/>
                </a:cubicBezTo>
                <a:lnTo>
                  <a:pt x="10800" y="16313"/>
                </a:lnTo>
                <a:cubicBezTo>
                  <a:pt x="11836" y="16313"/>
                  <a:pt x="12636" y="15582"/>
                  <a:pt x="12636" y="14659"/>
                </a:cubicBezTo>
                <a:lnTo>
                  <a:pt x="12636" y="9324"/>
                </a:lnTo>
                <a:lnTo>
                  <a:pt x="10800" y="9324"/>
                </a:lnTo>
                <a:lnTo>
                  <a:pt x="14308" y="5816"/>
                </a:lnTo>
                <a:lnTo>
                  <a:pt x="17981" y="9324"/>
                </a:lnTo>
                <a:lnTo>
                  <a:pt x="16144" y="9324"/>
                </a:lnTo>
                <a:lnTo>
                  <a:pt x="16144" y="14659"/>
                </a:lnTo>
                <a:cubicBezTo>
                  <a:pt x="16144" y="17427"/>
                  <a:pt x="13568" y="19986"/>
                  <a:pt x="10800" y="19986"/>
                </a:cubicBezTo>
                <a:lnTo>
                  <a:pt x="9138" y="19986"/>
                </a:lnTo>
                <a:cubicBezTo>
                  <a:pt x="6370" y="19986"/>
                  <a:pt x="3794" y="17427"/>
                  <a:pt x="3794" y="1465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8" name="">
            <a:hlinkClick r:id="rId10" action="ppaction://hlinksldjump"/>
          </p:cNvPr>
          <p:cNvSpPr/>
          <p:nvPr/>
        </p:nvSpPr>
        <p:spPr>
          <a:xfrm>
            <a:off x="8172360" y="5877000"/>
            <a:ext cx="971640" cy="981000"/>
          </a:xfrm>
          <a:custGeom>
            <a:avLst/>
            <a:gdLst>
              <a:gd name="textAreaLeft" fmla="*/ 63000 w 971640"/>
              <a:gd name="textAreaRight" fmla="*/ 909000 w 971640"/>
              <a:gd name="textAreaTop" fmla="*/ 63000 h 981000"/>
              <a:gd name="textAreaBottom" fmla="*/ 918360 h 981000"/>
            </a:gdLst>
            <a:ahLst/>
            <a:rect l="textAreaLeft" t="textAreaTop" r="textAreaRight" b="textAreaBottom"/>
            <a:pathLst>
              <a:path w="21600" h="21808">
                <a:moveTo>
                  <a:pt x="0" y="0"/>
                </a:moveTo>
                <a:lnTo>
                  <a:pt x="21600" y="0"/>
                </a:lnTo>
                <a:lnTo>
                  <a:pt x="21600" y="21808"/>
                </a:lnTo>
                <a:lnTo>
                  <a:pt x="0" y="21808"/>
                </a:lnTo>
                <a:close/>
              </a:path>
              <a:path fill="lightenLess" w="21600" h="2180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8">
                <a:moveTo>
                  <a:pt x="21600" y="0"/>
                </a:moveTo>
                <a:lnTo>
                  <a:pt x="21600" y="21808"/>
                </a:lnTo>
                <a:lnTo>
                  <a:pt x="20200" y="20408"/>
                </a:lnTo>
                <a:lnTo>
                  <a:pt x="20200" y="1400"/>
                </a:lnTo>
                <a:close/>
              </a:path>
              <a:path fill="darkenLess" w="21600" h="21808">
                <a:moveTo>
                  <a:pt x="21600" y="21808"/>
                </a:moveTo>
                <a:lnTo>
                  <a:pt x="0" y="21808"/>
                </a:lnTo>
                <a:lnTo>
                  <a:pt x="1400" y="20408"/>
                </a:lnTo>
                <a:lnTo>
                  <a:pt x="20200" y="20408"/>
                </a:lnTo>
                <a:close/>
              </a:path>
              <a:path fill="lighten" w="21600" h="21808">
                <a:moveTo>
                  <a:pt x="0" y="2180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8"/>
                </a:lnTo>
                <a:close/>
              </a:path>
              <a:path fill="darken" w="21600" h="21808">
                <a:moveTo>
                  <a:pt x="3794" y="7597"/>
                </a:moveTo>
                <a:lnTo>
                  <a:pt x="7301" y="7597"/>
                </a:lnTo>
                <a:lnTo>
                  <a:pt x="7301" y="12932"/>
                </a:lnTo>
                <a:cubicBezTo>
                  <a:pt x="7301" y="13855"/>
                  <a:pt x="8102" y="14586"/>
                  <a:pt x="9138" y="14586"/>
                </a:cubicBezTo>
                <a:lnTo>
                  <a:pt x="10800" y="14586"/>
                </a:lnTo>
                <a:cubicBezTo>
                  <a:pt x="11836" y="14586"/>
                  <a:pt x="12636" y="13855"/>
                  <a:pt x="12636" y="12932"/>
                </a:cubicBezTo>
                <a:lnTo>
                  <a:pt x="12636" y="7597"/>
                </a:lnTo>
                <a:lnTo>
                  <a:pt x="10800" y="7597"/>
                </a:lnTo>
                <a:lnTo>
                  <a:pt x="14308" y="4089"/>
                </a:lnTo>
                <a:lnTo>
                  <a:pt x="17981" y="7597"/>
                </a:lnTo>
                <a:lnTo>
                  <a:pt x="16144" y="7597"/>
                </a:lnTo>
                <a:lnTo>
                  <a:pt x="16144" y="12932"/>
                </a:lnTo>
                <a:cubicBezTo>
                  <a:pt x="16144" y="15700"/>
                  <a:pt x="13568" y="18259"/>
                  <a:pt x="10800" y="18259"/>
                </a:cubicBezTo>
                <a:lnTo>
                  <a:pt x="9138" y="18259"/>
                </a:lnTo>
                <a:cubicBezTo>
                  <a:pt x="6370" y="18259"/>
                  <a:pt x="3794" y="15700"/>
                  <a:pt x="3794" y="12932"/>
                </a:cubicBezTo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9" name="" descr=""/>
          <p:cNvPicPr/>
          <p:nvPr/>
        </p:nvPicPr>
        <p:blipFill>
          <a:blip r:embed="rId11"/>
          <a:stretch/>
        </p:blipFill>
        <p:spPr>
          <a:xfrm>
            <a:off x="263520" y="4221000"/>
            <a:ext cx="733320" cy="863640"/>
          </a:xfrm>
          <a:prstGeom prst="rect">
            <a:avLst/>
          </a:prstGeom>
          <a:ln w="0">
            <a:noFill/>
          </a:ln>
        </p:spPr>
      </p:pic>
      <p:sp>
        <p:nvSpPr>
          <p:cNvPr id="2370" name=""/>
          <p:cNvSpPr txBox="1"/>
          <p:nvPr/>
        </p:nvSpPr>
        <p:spPr>
          <a:xfrm>
            <a:off x="7885080" y="4724280"/>
            <a:ext cx="57636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wedge/>
  </p:transition>
  <p:timing>
    <p:tnLst>
      <p:par>
        <p:cTn id="1647" dur="indefinite" restart="never" nodeType="tmRoot">
          <p:childTnLst>
            <p:seq>
              <p:cTn id="1648" dur="indefinite" nodeType="mainSeq">
                <p:childTnLst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2" dur="3000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3000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3000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3000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8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9" dur="2000"/>
                                        <p:tgtEl>
                                          <p:spTgt spid="23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0" dur="1000" autoRev="1" fill="hold"/>
                                        <p:tgtEl>
                                          <p:spTgt spid="23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"/>
          <p:cNvSpPr txBox="1"/>
          <p:nvPr/>
        </p:nvSpPr>
        <p:spPr>
          <a:xfrm>
            <a:off x="6478560" y="76500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омни</a:t>
            </a:r>
            <a:endParaRPr b="0" i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Правописание неизменяемых суффиксов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2373" name=""/>
          <p:cNvGrpSpPr/>
          <p:nvPr/>
        </p:nvGrpSpPr>
        <p:grpSpPr>
          <a:xfrm>
            <a:off x="179280" y="1125360"/>
            <a:ext cx="8785440" cy="5481720"/>
            <a:chOff x="179280" y="1125360"/>
            <a:chExt cx="8785440" cy="5481720"/>
          </a:xfrm>
        </p:grpSpPr>
        <p:sp>
          <p:nvSpPr>
            <p:cNvPr id="2374" name=""/>
            <p:cNvSpPr/>
            <p:nvPr/>
          </p:nvSpPr>
          <p:spPr>
            <a:xfrm>
              <a:off x="5435640" y="1628640"/>
              <a:ext cx="103824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чи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ли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а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ча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ва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ва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ньк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ньк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и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инск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ч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ис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443640" y="1628640"/>
              <a:ext cx="252108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отзыв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чи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забот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ли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веснушч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а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тупен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ча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желт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ва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ин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ва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мал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нь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лёг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нь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дел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о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люмини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правд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и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естр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инс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НО: пенз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нс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рождеств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нс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таруш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ч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и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порыв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ис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ы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484440" y="1628640"/>
              <a:ext cx="192096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треск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отн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Иван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овн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бедн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от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нежн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тяж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е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ханж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еств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нищ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енств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меньш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инств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упад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ничеств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НО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9900"/>
                  </a:solidFill>
                  <a:latin typeface="Verdana"/>
                </a:rPr>
                <a:t>за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иньк</a:t>
              </a:r>
              <a:r>
                <a:rPr b="1" lang="ru-RU" sz="1600" spc="-1" strike="noStrike">
                  <a:solidFill>
                    <a:srgbClr val="ff99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9900"/>
                  </a:solidFill>
                  <a:latin typeface="Verdana"/>
                </a:rPr>
                <a:t>па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иньк</a:t>
              </a:r>
              <a:r>
                <a:rPr b="1" lang="ru-RU" sz="1600" spc="-1" strike="noStrike">
                  <a:solidFill>
                    <a:srgbClr val="ff99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9900"/>
                  </a:solidFill>
                  <a:latin typeface="Verdana"/>
                </a:rPr>
                <a:t>ба</a:t>
              </a:r>
              <a:r>
                <a:rPr b="1" lang="ru-RU" sz="1600" spc="-1" strike="noStrike">
                  <a:solidFill>
                    <a:srgbClr val="cc0000"/>
                  </a:solidFill>
                  <a:latin typeface="Verdana"/>
                </a:rPr>
                <a:t>иньк</a:t>
              </a:r>
              <a:r>
                <a:rPr b="1" lang="ru-RU" sz="1600" spc="-1" strike="noStrike">
                  <a:solidFill>
                    <a:srgbClr val="ff9900"/>
                  </a:solidFill>
                  <a:latin typeface="Verdana"/>
                </a:rPr>
                <a:t>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486080" y="1628640"/>
              <a:ext cx="199836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бег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тн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болт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вн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пестр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нищ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т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верн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веж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ст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содруж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ст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перв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нст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больш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инст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лодыр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ничеств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о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царап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ин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голуб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изн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врем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н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берёз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онь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дорож</a:t>
              </a:r>
              <a:r>
                <a:rPr b="1" lang="en-US" sz="1600" spc="-1" strike="noStrike">
                  <a:solidFill>
                    <a:srgbClr val="cc0000"/>
                  </a:solidFill>
                  <a:latin typeface="Verdana"/>
                </a:rPr>
                <a:t>еньк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179280" y="1628640"/>
              <a:ext cx="1306800" cy="497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отн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вн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т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сть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сть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ст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нст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инст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ничеств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ин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изн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н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оньк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Verdana"/>
                </a:rPr>
                <a:t>-еньк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405400" y="1125360"/>
              <a:ext cx="35593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99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6699"/>
                  </a:solidFill>
                  <a:latin typeface="Verdana"/>
                </a:rPr>
                <a:t>имён прилагательных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80" name=""/>
          <p:cNvSpPr/>
          <p:nvPr/>
        </p:nvSpPr>
        <p:spPr>
          <a:xfrm>
            <a:off x="179280" y="1125360"/>
            <a:ext cx="5226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имен существитель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179280" y="1125360"/>
            <a:ext cx="8785440" cy="0"/>
          </a:xfrm>
          <a:prstGeom prst="line">
            <a:avLst/>
          </a:prstGeom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179280" y="1628640"/>
            <a:ext cx="8785440" cy="0"/>
          </a:xfrm>
          <a:prstGeom prst="line">
            <a:avLst/>
          </a:prstGeom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3" name=""/>
          <p:cNvSpPr/>
          <p:nvPr/>
        </p:nvSpPr>
        <p:spPr>
          <a:xfrm>
            <a:off x="179280" y="6607080"/>
            <a:ext cx="8785440" cy="0"/>
          </a:xfrm>
          <a:prstGeom prst="line">
            <a:avLst/>
          </a:prstGeom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-18000" bIns="-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179280" y="1125360"/>
            <a:ext cx="0" cy="5481720"/>
          </a:xfrm>
          <a:prstGeom prst="line">
            <a:avLst/>
          </a:prstGeom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"/>
          <p:cNvSpPr/>
          <p:nvPr/>
        </p:nvSpPr>
        <p:spPr>
          <a:xfrm>
            <a:off x="5405400" y="1125360"/>
            <a:ext cx="0" cy="5481720"/>
          </a:xfrm>
          <a:prstGeom prst="line">
            <a:avLst/>
          </a:prstGeom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"/>
          <p:cNvSpPr/>
          <p:nvPr/>
        </p:nvSpPr>
        <p:spPr>
          <a:xfrm>
            <a:off x="8964720" y="1125360"/>
            <a:ext cx="0" cy="5481720"/>
          </a:xfrm>
          <a:prstGeom prst="line">
            <a:avLst/>
          </a:prstGeom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7" name=""/>
          <p:cNvSpPr/>
          <p:nvPr/>
        </p:nvSpPr>
        <p:spPr>
          <a:xfrm>
            <a:off x="1486080" y="1628640"/>
            <a:ext cx="0" cy="4978440"/>
          </a:xfrm>
          <a:prstGeom prst="line">
            <a:avLst/>
          </a:prstGeom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8" name=""/>
          <p:cNvSpPr/>
          <p:nvPr/>
        </p:nvSpPr>
        <p:spPr>
          <a:xfrm>
            <a:off x="3484440" y="1628640"/>
            <a:ext cx="0" cy="4978440"/>
          </a:xfrm>
          <a:prstGeom prst="line">
            <a:avLst/>
          </a:prstGeom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"/>
          <p:cNvSpPr/>
          <p:nvPr/>
        </p:nvSpPr>
        <p:spPr>
          <a:xfrm>
            <a:off x="6443640" y="1628640"/>
            <a:ext cx="0" cy="4978440"/>
          </a:xfrm>
          <a:prstGeom prst="line">
            <a:avLst/>
          </a:prstGeom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"/>
          <p:cNvSpPr/>
          <p:nvPr/>
        </p:nvSpPr>
        <p:spPr>
          <a:xfrm>
            <a:off x="179280" y="1125360"/>
            <a:ext cx="5226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имен существительн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179280" y="1125360"/>
            <a:ext cx="0" cy="5481720"/>
          </a:xfrm>
          <a:prstGeom prst="line">
            <a:avLst/>
          </a:prstGeom>
          <a:ln cap="sq" w="2844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2" name="">
            <a:hlinkClick r:id="" action="ppaction://hlinkshowjump?jump=previousslide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0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7" dur="2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2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2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2" dur="3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1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1000" fill="hold"/>
                                        <p:tgtEl>
                                          <p:spTgt spid="2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9" dur="1000"/>
                                        <p:tgtEl>
                                          <p:spTgt spid="2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фисное и слитное написание слов с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ПО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    и    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ПОЛ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пишутся с дефисом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д Л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 по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имо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д гласным           пол-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д заглавной буквой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пол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Ч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лябинс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В остальных случая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</a:t>
            </a:r>
            <a:r>
              <a:rPr b="0" lang="en-US" sz="2400" spc="-1" strike="noStrike">
                <a:solidFill>
                  <a:srgbClr val="703dff"/>
                </a:solidFill>
                <a:latin typeface="Comic Sans MS"/>
              </a:rPr>
              <a:t>-    в сложных словах пишется слитно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класса, полмандарина, полпервого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угод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О: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пол чайной ложки, поллитровк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5" name="">
            <a:hlinkClick r:id="" action="ppaction://hlinkshowjump?jump=previousslide"/>
          </p:cNvPr>
          <p:cNvSpPr/>
          <p:nvPr/>
        </p:nvSpPr>
        <p:spPr>
          <a:xfrm>
            <a:off x="8028000" y="5950080"/>
            <a:ext cx="1116000" cy="907920"/>
          </a:xfrm>
          <a:custGeom>
            <a:avLst/>
            <a:gdLst>
              <a:gd name="textAreaLeft" fmla="*/ 58680 w 1116000"/>
              <a:gd name="textAreaRight" fmla="*/ 1057320 w 1116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6548" h="21600">
                <a:moveTo>
                  <a:pt x="0" y="0"/>
                </a:moveTo>
                <a:lnTo>
                  <a:pt x="26548" y="0"/>
                </a:lnTo>
                <a:lnTo>
                  <a:pt x="26548" y="21600"/>
                </a:lnTo>
                <a:lnTo>
                  <a:pt x="0" y="21600"/>
                </a:lnTo>
                <a:close/>
              </a:path>
              <a:path fill="lightenLess" w="26548" h="21600">
                <a:moveTo>
                  <a:pt x="0" y="0"/>
                </a:moveTo>
                <a:lnTo>
                  <a:pt x="26548" y="0"/>
                </a:lnTo>
                <a:lnTo>
                  <a:pt x="25148" y="1400"/>
                </a:lnTo>
                <a:lnTo>
                  <a:pt x="1400" y="1400"/>
                </a:lnTo>
                <a:close/>
              </a:path>
              <a:path fill="darken" w="26548" h="21600">
                <a:moveTo>
                  <a:pt x="26548" y="0"/>
                </a:moveTo>
                <a:lnTo>
                  <a:pt x="26548" y="21600"/>
                </a:lnTo>
                <a:lnTo>
                  <a:pt x="25148" y="20200"/>
                </a:lnTo>
                <a:lnTo>
                  <a:pt x="25148" y="1400"/>
                </a:lnTo>
                <a:close/>
              </a:path>
              <a:path fill="darkenLess" w="26548" h="21600">
                <a:moveTo>
                  <a:pt x="265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48" y="20200"/>
                </a:lnTo>
                <a:close/>
              </a:path>
              <a:path fill="lighten" w="265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48" h="21600">
                <a:moveTo>
                  <a:pt x="6268" y="7493"/>
                </a:moveTo>
                <a:lnTo>
                  <a:pt x="9775" y="7493"/>
                </a:lnTo>
                <a:lnTo>
                  <a:pt x="9775" y="12828"/>
                </a:lnTo>
                <a:cubicBezTo>
                  <a:pt x="9775" y="13751"/>
                  <a:pt x="10576" y="14482"/>
                  <a:pt x="11612" y="14482"/>
                </a:cubicBezTo>
                <a:lnTo>
                  <a:pt x="13274" y="14482"/>
                </a:lnTo>
                <a:cubicBezTo>
                  <a:pt x="14310" y="14482"/>
                  <a:pt x="15111" y="13751"/>
                  <a:pt x="15111" y="12828"/>
                </a:cubicBezTo>
                <a:lnTo>
                  <a:pt x="15111" y="7493"/>
                </a:lnTo>
                <a:lnTo>
                  <a:pt x="13274" y="7493"/>
                </a:lnTo>
                <a:lnTo>
                  <a:pt x="16782" y="3985"/>
                </a:lnTo>
                <a:lnTo>
                  <a:pt x="20455" y="7493"/>
                </a:lnTo>
                <a:lnTo>
                  <a:pt x="18618" y="7493"/>
                </a:lnTo>
                <a:lnTo>
                  <a:pt x="18618" y="12828"/>
                </a:lnTo>
                <a:cubicBezTo>
                  <a:pt x="18618" y="15596"/>
                  <a:pt x="16042" y="18155"/>
                  <a:pt x="13274" y="18155"/>
                </a:cubicBezTo>
                <a:lnTo>
                  <a:pt x="11612" y="18155"/>
                </a:lnTo>
                <a:cubicBezTo>
                  <a:pt x="8844" y="18155"/>
                  <a:pt x="6268" y="15596"/>
                  <a:pt x="6268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6" name="">
            <a:hlinkClick r:id="" action="ppaction://hlinkshowjump?jump=previousslide"/>
          </p:cNvPr>
          <p:cNvSpPr/>
          <p:nvPr/>
        </p:nvSpPr>
        <p:spPr>
          <a:xfrm>
            <a:off x="8244000" y="6137280"/>
            <a:ext cx="900000" cy="720720"/>
          </a:xfrm>
          <a:custGeom>
            <a:avLst/>
            <a:gdLst>
              <a:gd name="textAreaLeft" fmla="*/ 46440 w 900000"/>
              <a:gd name="textAreaRight" fmla="*/ 853560 w 9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70" h="21600">
                <a:moveTo>
                  <a:pt x="0" y="0"/>
                </a:moveTo>
                <a:lnTo>
                  <a:pt x="26970" y="0"/>
                </a:lnTo>
                <a:lnTo>
                  <a:pt x="26970" y="21600"/>
                </a:lnTo>
                <a:lnTo>
                  <a:pt x="0" y="21600"/>
                </a:lnTo>
                <a:close/>
              </a:path>
              <a:path fill="lightenLess" w="26970" h="21600">
                <a:moveTo>
                  <a:pt x="0" y="0"/>
                </a:moveTo>
                <a:lnTo>
                  <a:pt x="26970" y="0"/>
                </a:lnTo>
                <a:lnTo>
                  <a:pt x="25570" y="1400"/>
                </a:lnTo>
                <a:lnTo>
                  <a:pt x="1400" y="1400"/>
                </a:lnTo>
                <a:close/>
              </a:path>
              <a:path fill="darken" w="26970" h="21600">
                <a:moveTo>
                  <a:pt x="26970" y="0"/>
                </a:moveTo>
                <a:lnTo>
                  <a:pt x="26970" y="21600"/>
                </a:lnTo>
                <a:lnTo>
                  <a:pt x="25570" y="20200"/>
                </a:lnTo>
                <a:lnTo>
                  <a:pt x="25570" y="1400"/>
                </a:lnTo>
                <a:close/>
              </a:path>
              <a:path fill="darkenLess" w="26970" h="21600">
                <a:moveTo>
                  <a:pt x="26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0" y="20200"/>
                </a:lnTo>
                <a:close/>
              </a:path>
              <a:path fill="lighten" w="26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0" h="21600">
                <a:moveTo>
                  <a:pt x="6479" y="7493"/>
                </a:moveTo>
                <a:lnTo>
                  <a:pt x="9986" y="7493"/>
                </a:lnTo>
                <a:lnTo>
                  <a:pt x="9986" y="12828"/>
                </a:lnTo>
                <a:cubicBezTo>
                  <a:pt x="9986" y="13751"/>
                  <a:pt x="10787" y="14482"/>
                  <a:pt x="11823" y="14482"/>
                </a:cubicBezTo>
                <a:lnTo>
                  <a:pt x="13485" y="14482"/>
                </a:lnTo>
                <a:cubicBezTo>
                  <a:pt x="14521" y="14482"/>
                  <a:pt x="15322" y="13751"/>
                  <a:pt x="15322" y="12828"/>
                </a:cubicBezTo>
                <a:lnTo>
                  <a:pt x="15322" y="7493"/>
                </a:lnTo>
                <a:lnTo>
                  <a:pt x="13485" y="7493"/>
                </a:lnTo>
                <a:lnTo>
                  <a:pt x="16993" y="3985"/>
                </a:lnTo>
                <a:lnTo>
                  <a:pt x="20666" y="7493"/>
                </a:lnTo>
                <a:lnTo>
                  <a:pt x="18829" y="7493"/>
                </a:lnTo>
                <a:lnTo>
                  <a:pt x="18829" y="12828"/>
                </a:lnTo>
                <a:cubicBezTo>
                  <a:pt x="18829" y="15596"/>
                  <a:pt x="16253" y="18155"/>
                  <a:pt x="13485" y="18155"/>
                </a:cubicBezTo>
                <a:lnTo>
                  <a:pt x="11823" y="18155"/>
                </a:lnTo>
                <a:cubicBezTo>
                  <a:pt x="9055" y="18155"/>
                  <a:pt x="6479" y="15596"/>
                  <a:pt x="6479" y="12828"/>
                </a:cubicBezTo>
                <a:close/>
              </a:path>
            </a:pathLst>
          </a:custGeom>
          <a:noFill/>
          <a:ln w="93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е с глаголам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8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Не с глаголами и деепричастиями пишется раздельн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News Gothic MT"/>
              </a:rPr>
              <a:t>Не заметил, не заметив, не был, не мо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Слитно, если слово не употребляется без н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навидеть,  негодовать,          нездоровитс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взлюбить,  недоумевать,         неможетс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волить,      неистовствовать,   неймё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9" name="">
            <a:hlinkClick r:id="" action="ppaction://hlinkshowjump?jump=previousslide"/>
          </p:cNvPr>
          <p:cNvSpPr/>
          <p:nvPr/>
        </p:nvSpPr>
        <p:spPr>
          <a:xfrm>
            <a:off x="8244000" y="5877000"/>
            <a:ext cx="900000" cy="981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81000"/>
              <a:gd name="textAreaBottom" fmla="*/ 922680 h 981000"/>
            </a:gdLst>
            <a:ahLst/>
            <a:rect l="textAreaLeft" t="textAreaTop" r="textAreaRight" b="textAreaBottom"/>
            <a:pathLst>
              <a:path w="21600" h="23543">
                <a:moveTo>
                  <a:pt x="0" y="0"/>
                </a:moveTo>
                <a:lnTo>
                  <a:pt x="21600" y="0"/>
                </a:lnTo>
                <a:lnTo>
                  <a:pt x="21600" y="23543"/>
                </a:lnTo>
                <a:lnTo>
                  <a:pt x="0" y="23543"/>
                </a:lnTo>
                <a:close/>
              </a:path>
              <a:path fill="lightenLess" w="21600" h="235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3">
                <a:moveTo>
                  <a:pt x="21600" y="0"/>
                </a:moveTo>
                <a:lnTo>
                  <a:pt x="21600" y="23543"/>
                </a:lnTo>
                <a:lnTo>
                  <a:pt x="20200" y="22143"/>
                </a:lnTo>
                <a:lnTo>
                  <a:pt x="20200" y="1400"/>
                </a:lnTo>
                <a:close/>
              </a:path>
              <a:path fill="darkenLess" w="21600" h="23543">
                <a:moveTo>
                  <a:pt x="21600" y="23543"/>
                </a:moveTo>
                <a:lnTo>
                  <a:pt x="0" y="23543"/>
                </a:lnTo>
                <a:lnTo>
                  <a:pt x="1400" y="22143"/>
                </a:lnTo>
                <a:lnTo>
                  <a:pt x="20200" y="22143"/>
                </a:lnTo>
                <a:close/>
              </a:path>
              <a:path fill="lighten" w="21600" h="23543">
                <a:moveTo>
                  <a:pt x="0" y="235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3"/>
                </a:lnTo>
                <a:close/>
              </a:path>
              <a:path fill="darken" w="21600" h="23543">
                <a:moveTo>
                  <a:pt x="3794" y="8464"/>
                </a:moveTo>
                <a:lnTo>
                  <a:pt x="7301" y="8464"/>
                </a:lnTo>
                <a:lnTo>
                  <a:pt x="7301" y="13800"/>
                </a:lnTo>
                <a:cubicBezTo>
                  <a:pt x="7301" y="14722"/>
                  <a:pt x="8102" y="15453"/>
                  <a:pt x="9138" y="15453"/>
                </a:cubicBezTo>
                <a:lnTo>
                  <a:pt x="10800" y="15453"/>
                </a:lnTo>
                <a:cubicBezTo>
                  <a:pt x="11836" y="15453"/>
                  <a:pt x="12636" y="14722"/>
                  <a:pt x="12636" y="13800"/>
                </a:cubicBezTo>
                <a:lnTo>
                  <a:pt x="12636" y="8464"/>
                </a:lnTo>
                <a:lnTo>
                  <a:pt x="10800" y="8464"/>
                </a:lnTo>
                <a:lnTo>
                  <a:pt x="14308" y="4957"/>
                </a:lnTo>
                <a:lnTo>
                  <a:pt x="17981" y="8464"/>
                </a:lnTo>
                <a:lnTo>
                  <a:pt x="16144" y="8464"/>
                </a:lnTo>
                <a:lnTo>
                  <a:pt x="16144" y="13800"/>
                </a:lnTo>
                <a:cubicBezTo>
                  <a:pt x="16144" y="16567"/>
                  <a:pt x="13568" y="19126"/>
                  <a:pt x="10800" y="19126"/>
                </a:cubicBezTo>
                <a:lnTo>
                  <a:pt x="9138" y="19126"/>
                </a:lnTo>
                <a:cubicBezTo>
                  <a:pt x="6370" y="19126"/>
                  <a:pt x="3794" y="16567"/>
                  <a:pt x="3794" y="138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826920" y="6021360"/>
            <a:ext cx="70567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 Narrow"/>
                <a:hlinkClick r:id="rId1" action="ppaction://hlinksldjump"/>
              </a:rPr>
              <a:t>Различай  не  до-  и  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 Narrow"/>
                <a:hlinkClick r:id="rId2" action="ppaction://hlinksldjump"/>
              </a:rPr>
              <a:t>недо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 Narrow"/>
                <a:hlinkClick r:id="rId3" action="ppaction://hlinksldjump"/>
              </a:rPr>
              <a:t>-</a:t>
            </a:r>
            <a:r>
              <a:rPr b="0" lang="ru-RU" sz="2800" spc="-1" strike="noStrike" u="sng">
                <a:solidFill>
                  <a:srgbClr val="ff0000"/>
                </a:solidFill>
                <a:uFillTx/>
                <a:latin typeface="Arial Narrow"/>
                <a:hlinkClick r:id="rId4" action="ppaction://hlinksldjump"/>
              </a:rPr>
              <a:t>  с глагол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">
            <a:hlinkClick r:id="rId5" action="ppaction://hlinksldjump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"/>
          <p:cNvSpPr/>
          <p:nvPr/>
        </p:nvSpPr>
        <p:spPr>
          <a:xfrm>
            <a:off x="2916360" y="6093000"/>
            <a:ext cx="431640" cy="360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419640" y="609300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4" name=""/>
          <p:cNvSpPr/>
          <p:nvPr/>
        </p:nvSpPr>
        <p:spPr>
          <a:xfrm>
            <a:off x="3780000" y="6093000"/>
            <a:ext cx="0" cy="142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4356000" y="6093000"/>
            <a:ext cx="792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"/>
          <p:cNvSpPr/>
          <p:nvPr/>
        </p:nvSpPr>
        <p:spPr>
          <a:xfrm>
            <a:off x="5148360" y="6093000"/>
            <a:ext cx="0" cy="1425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7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Не  до-  и   недо-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8" name="PlaceHolder 2"/>
          <p:cNvSpPr>
            <a:spLocks noGrp="1"/>
          </p:cNvSpPr>
          <p:nvPr>
            <p:ph/>
          </p:nvPr>
        </p:nvSpPr>
        <p:spPr>
          <a:xfrm>
            <a:off x="685800" y="133956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предели знач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делано не  до  конц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 допить ча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 досмотреть фильм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 добелить комнат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 довезти до дом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6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иже нормы, мало, есть антоним с пере-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недовыполнить план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брать вес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еда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груз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9" name=""/>
          <p:cNvSpPr txBox="1"/>
          <p:nvPr/>
        </p:nvSpPr>
        <p:spPr>
          <a:xfrm>
            <a:off x="6012000" y="1989000"/>
            <a:ext cx="237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е до-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10" name=""/>
          <p:cNvSpPr txBox="1"/>
          <p:nvPr/>
        </p:nvSpPr>
        <p:spPr>
          <a:xfrm>
            <a:off x="2268360" y="5013360"/>
            <a:ext cx="17672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до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1" name=""/>
          <p:cNvSpPr/>
          <p:nvPr/>
        </p:nvSpPr>
        <p:spPr>
          <a:xfrm>
            <a:off x="2916360" y="404640"/>
            <a:ext cx="576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2" name=""/>
          <p:cNvSpPr/>
          <p:nvPr/>
        </p:nvSpPr>
        <p:spPr>
          <a:xfrm>
            <a:off x="3492360" y="404640"/>
            <a:ext cx="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4932360" y="333360"/>
            <a:ext cx="1440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"/>
          <p:cNvSpPr/>
          <p:nvPr/>
        </p:nvSpPr>
        <p:spPr>
          <a:xfrm>
            <a:off x="6372360" y="333360"/>
            <a:ext cx="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5" name=""/>
          <p:cNvSpPr/>
          <p:nvPr/>
        </p:nvSpPr>
        <p:spPr>
          <a:xfrm>
            <a:off x="1692360" y="189000"/>
            <a:ext cx="863640" cy="718920"/>
          </a:xfrm>
          <a:prstGeom prst="rect">
            <a:avLst/>
          </a:prstGeom>
          <a:noFill/>
          <a:ln w="28440">
            <a:solidFill>
              <a:srgbClr val="00b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2268360" y="6381720"/>
            <a:ext cx="2590920" cy="441360"/>
          </a:xfrm>
          <a:prstGeom prst="rect">
            <a:avLst/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Особо запомн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">
            <a:hlinkClick r:id="rId2" action="ppaction://hlinksldjump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собо запомни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едостаёт денег, времен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  достаёт до стола = не  дотягивает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о: не хватает денег (мало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  хватает за подо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едаром  (не  напрасно) беспокоилс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Не даром (не бесплатно) получи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0" name="">
            <a:hlinkClick r:id="" action="ppaction://hlinkshowjump?jump=previousslide"/>
          </p:cNvPr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7588"/>
                </a:moveTo>
                <a:lnTo>
                  <a:pt x="7301" y="7588"/>
                </a:lnTo>
                <a:lnTo>
                  <a:pt x="7301" y="12923"/>
                </a:lnTo>
                <a:cubicBezTo>
                  <a:pt x="7301" y="13846"/>
                  <a:pt x="8102" y="14577"/>
                  <a:pt x="9138" y="14577"/>
                </a:cubicBezTo>
                <a:lnTo>
                  <a:pt x="10800" y="14577"/>
                </a:lnTo>
                <a:cubicBezTo>
                  <a:pt x="11836" y="14577"/>
                  <a:pt x="12636" y="13846"/>
                  <a:pt x="12636" y="12923"/>
                </a:cubicBezTo>
                <a:lnTo>
                  <a:pt x="12636" y="7588"/>
                </a:lnTo>
                <a:lnTo>
                  <a:pt x="10800" y="7588"/>
                </a:lnTo>
                <a:lnTo>
                  <a:pt x="14308" y="4080"/>
                </a:lnTo>
                <a:lnTo>
                  <a:pt x="17981" y="7588"/>
                </a:lnTo>
                <a:lnTo>
                  <a:pt x="16144" y="7588"/>
                </a:lnTo>
                <a:lnTo>
                  <a:pt x="16144" y="12923"/>
                </a:lnTo>
                <a:cubicBezTo>
                  <a:pt x="16144" y="15691"/>
                  <a:pt x="13568" y="18250"/>
                  <a:pt x="10800" y="18250"/>
                </a:cubicBezTo>
                <a:lnTo>
                  <a:pt x="9138" y="18250"/>
                </a:lnTo>
                <a:cubicBezTo>
                  <a:pt x="6370" y="18250"/>
                  <a:pt x="3794" y="15691"/>
                  <a:pt x="3794" y="12923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Разде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противопоставл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 союзом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 правда, а лож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 добрый, а зл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е далеко, а близ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слова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далеко, вовсе, ничуть, нисколько, никогда (слова с н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на далеко не красав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овсе не интерес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ичуть не знакомый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икому не знакомый тек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3"/>
          <p:cNvSpPr>
            <a:spLocks noGrp="1"/>
          </p:cNvSpPr>
          <p:nvPr>
            <p:ph/>
          </p:nvPr>
        </p:nvSpPr>
        <p:spPr>
          <a:xfrm>
            <a:off x="514800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Сли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не употребляется без 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веж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взрачн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леп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но заменить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синоним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Это неправда = (ложь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интересный рассказ (скучный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громко читал (тихо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сказ неинтересен (кр. прил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1436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Человек несчастли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2916360" y="6165720"/>
            <a:ext cx="4392360" cy="441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767ff"/>
                </a:solidFill>
                <a:uFillTx/>
                <a:latin typeface="Comic Sans MS"/>
                <a:hlinkClick r:id="rId1" action="ppaction://hlinksldjump"/>
              </a:rPr>
              <a:t>Проверь по словарю и запомн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5" name="">
            <a:hlinkClick r:id="rId2" action="ppaction://hlinksldjump"/>
          </p:cNvPr>
          <p:cNvSpPr/>
          <p:nvPr/>
        </p:nvSpPr>
        <p:spPr>
          <a:xfrm>
            <a:off x="8244000" y="6093000"/>
            <a:ext cx="900000" cy="765000"/>
          </a:xfrm>
          <a:custGeom>
            <a:avLst/>
            <a:gdLst>
              <a:gd name="textAreaLeft" fmla="*/ 49320 w 900000"/>
              <a:gd name="textAreaRight" fmla="*/ 850680 w 900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5410" h="21600">
                <a:moveTo>
                  <a:pt x="0" y="0"/>
                </a:moveTo>
                <a:lnTo>
                  <a:pt x="25410" y="0"/>
                </a:lnTo>
                <a:lnTo>
                  <a:pt x="25410" y="21600"/>
                </a:lnTo>
                <a:lnTo>
                  <a:pt x="0" y="21600"/>
                </a:lnTo>
                <a:close/>
              </a:path>
              <a:path fill="lightenLess" w="25410" h="21600">
                <a:moveTo>
                  <a:pt x="0" y="0"/>
                </a:moveTo>
                <a:lnTo>
                  <a:pt x="25410" y="0"/>
                </a:lnTo>
                <a:lnTo>
                  <a:pt x="24010" y="1400"/>
                </a:lnTo>
                <a:lnTo>
                  <a:pt x="1400" y="1400"/>
                </a:lnTo>
                <a:close/>
              </a:path>
              <a:path fill="darken" w="25410" h="21600">
                <a:moveTo>
                  <a:pt x="25410" y="0"/>
                </a:moveTo>
                <a:lnTo>
                  <a:pt x="25410" y="21600"/>
                </a:lnTo>
                <a:lnTo>
                  <a:pt x="24010" y="20200"/>
                </a:lnTo>
                <a:lnTo>
                  <a:pt x="24010" y="1400"/>
                </a:lnTo>
                <a:close/>
              </a:path>
              <a:path fill="darkenLess" w="25410" h="21600">
                <a:moveTo>
                  <a:pt x="254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0" y="20200"/>
                </a:lnTo>
                <a:close/>
              </a:path>
              <a:path fill="lighten" w="254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10" h="21600">
                <a:moveTo>
                  <a:pt x="5699" y="7493"/>
                </a:moveTo>
                <a:lnTo>
                  <a:pt x="9206" y="7493"/>
                </a:lnTo>
                <a:lnTo>
                  <a:pt x="9206" y="12828"/>
                </a:lnTo>
                <a:cubicBezTo>
                  <a:pt x="9206" y="13751"/>
                  <a:pt x="10007" y="14482"/>
                  <a:pt x="11043" y="14482"/>
                </a:cubicBezTo>
                <a:lnTo>
                  <a:pt x="12705" y="14482"/>
                </a:lnTo>
                <a:cubicBezTo>
                  <a:pt x="13741" y="14482"/>
                  <a:pt x="14541" y="13751"/>
                  <a:pt x="14541" y="12828"/>
                </a:cubicBezTo>
                <a:lnTo>
                  <a:pt x="14541" y="7493"/>
                </a:lnTo>
                <a:lnTo>
                  <a:pt x="12705" y="7493"/>
                </a:lnTo>
                <a:lnTo>
                  <a:pt x="16213" y="3985"/>
                </a:lnTo>
                <a:lnTo>
                  <a:pt x="19886" y="7493"/>
                </a:lnTo>
                <a:lnTo>
                  <a:pt x="18049" y="7493"/>
                </a:lnTo>
                <a:lnTo>
                  <a:pt x="18049" y="12828"/>
                </a:lnTo>
                <a:cubicBezTo>
                  <a:pt x="18049" y="15596"/>
                  <a:pt x="15473" y="18155"/>
                  <a:pt x="12705" y="18155"/>
                </a:cubicBezTo>
                <a:lnTo>
                  <a:pt x="11043" y="18155"/>
                </a:lnTo>
                <a:cubicBezTo>
                  <a:pt x="8275" y="18155"/>
                  <a:pt x="5699" y="15596"/>
                  <a:pt x="5699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6" name=""/>
          <p:cNvSpPr/>
          <p:nvPr/>
        </p:nvSpPr>
        <p:spPr>
          <a:xfrm>
            <a:off x="324000" y="620640"/>
            <a:ext cx="85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 существительными, качественны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агательными и наречиями на –о,  -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Arial"/>
              </a:rPr>
              <a:t>Запомни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рад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долж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обяз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намер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склон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пра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жен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вид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располож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винов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 согласе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">
            <a:hlinkClick r:id="" action="ppaction://hlinkshowjump?jump=previousslide"/>
          </p:cNvPr>
          <p:cNvSpPr/>
          <p:nvPr/>
        </p:nvSpPr>
        <p:spPr>
          <a:xfrm>
            <a:off x="8172360" y="5950080"/>
            <a:ext cx="971640" cy="907920"/>
          </a:xfrm>
          <a:custGeom>
            <a:avLst/>
            <a:gdLst>
              <a:gd name="textAreaLeft" fmla="*/ 58680 w 971640"/>
              <a:gd name="textAreaRight" fmla="*/ 912960 w 97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4551" y="7493"/>
                </a:moveTo>
                <a:lnTo>
                  <a:pt x="8059" y="7493"/>
                </a:lnTo>
                <a:lnTo>
                  <a:pt x="8059" y="12828"/>
                </a:lnTo>
                <a:cubicBezTo>
                  <a:pt x="8059" y="13751"/>
                  <a:pt x="8860" y="14482"/>
                  <a:pt x="9895" y="14482"/>
                </a:cubicBezTo>
                <a:lnTo>
                  <a:pt x="11558" y="14482"/>
                </a:lnTo>
                <a:cubicBezTo>
                  <a:pt x="12593" y="14482"/>
                  <a:pt x="13394" y="13751"/>
                  <a:pt x="13394" y="12828"/>
                </a:cubicBezTo>
                <a:lnTo>
                  <a:pt x="13394" y="7493"/>
                </a:lnTo>
                <a:lnTo>
                  <a:pt x="11558" y="7493"/>
                </a:lnTo>
                <a:lnTo>
                  <a:pt x="15065" y="3985"/>
                </a:lnTo>
                <a:lnTo>
                  <a:pt x="18738" y="7493"/>
                </a:lnTo>
                <a:lnTo>
                  <a:pt x="16902" y="7493"/>
                </a:lnTo>
                <a:lnTo>
                  <a:pt x="16902" y="12828"/>
                </a:lnTo>
                <a:cubicBezTo>
                  <a:pt x="16902" y="15596"/>
                  <a:pt x="14325" y="18155"/>
                  <a:pt x="11558" y="18155"/>
                </a:cubicBezTo>
                <a:lnTo>
                  <a:pt x="9895" y="18155"/>
                </a:lnTo>
                <a:cubicBezTo>
                  <a:pt x="7127" y="18155"/>
                  <a:pt x="4551" y="15596"/>
                  <a:pt x="4551" y="12828"/>
                </a:cubicBezTo>
                <a:close/>
              </a:path>
            </a:pathLst>
          </a:cu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Правописание не с наречиям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511308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Слитно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е употребляются без н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избежно, нелеп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ожно заменить синонимом без н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плохо (хорошо), немног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(мало), неудачно, (безуспешно)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отрицательных наречиях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где, некуда, неоткуда, незачем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отымённых наречиях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вдалеке, невдомёк, невзначай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вмоготу, невмочь, невпопад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втерпёж, недаром =(ненапрасно)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c0000"/>
                </a:solidFill>
                <a:latin typeface="Verdana"/>
              </a:rPr>
              <a:t>Но: 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 даром =(не бесплатно)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кстати, неспроста, нехотя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 сочетаниях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весть кто (что, какой, где, куда и т. п.)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5219640" y="836640"/>
            <a:ext cx="36734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Раздельн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С наречиями не  -о и –е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ли есть </a:t>
            </a:r>
            <a:r>
              <a:rPr b="1" lang="ru-RU" sz="1400" spc="-1" strike="noStrike">
                <a:solidFill>
                  <a:srgbClr val="009900"/>
                </a:solidFill>
                <a:latin typeface="Verdana"/>
              </a:rPr>
              <a:t>противопост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 богато, а бедно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lvl="1" marL="914400" indent="-4572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ли есть </a:t>
            </a:r>
            <a:r>
              <a:rPr b="1" lang="ru-RU" sz="1400" spc="-1" strike="noStrike">
                <a:solidFill>
                  <a:srgbClr val="009900"/>
                </a:solidFill>
                <a:latin typeface="Verdana"/>
              </a:rPr>
              <a:t>далеко не, вовсе не, отнюдь не + слова с ни (ничуть…)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 наречиями не на  -О, -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 здесь, не так, н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полностью, не совсем,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 жаль, не хуже (сравн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т.), не сегодня, н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иначе, не по-моему, не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по-товарищески, не в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пример,  не к добру, не к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пеху, не по вкусу, не под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силу, не по нутру, не с руки,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99"/>
                </a:solidFill>
                <a:latin typeface="Verdana"/>
              </a:rPr>
              <a:t>не в зачёт, не в меру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4" name="">
            <a:hlinkClick r:id="" action="ppaction://hlinkshowjump?jump=previousslide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/>
          <p:nvPr/>
        </p:nvSpPr>
        <p:spPr>
          <a:xfrm>
            <a:off x="46836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туш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и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лебед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и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кож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а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ефт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я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ребр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я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ый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Исключения: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текл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ян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лов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ян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ый, дерев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янн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ый               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Исключение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: ветрены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 </a:t>
            </a: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                        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тар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ин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99"/>
                </a:solidFill>
                <a:latin typeface="Verdana"/>
              </a:rPr>
              <a:t>             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люкв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н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солом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ен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ый 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комисси</a:t>
            </a: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он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ы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  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Verdana"/>
              </a:rPr>
              <a:t>                                                                         </a:t>
            </a: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                     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      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7" name=""/>
          <p:cNvSpPr txBox="1"/>
          <p:nvPr/>
        </p:nvSpPr>
        <p:spPr>
          <a:xfrm rot="20367600">
            <a:off x="6732360" y="5300640"/>
            <a:ext cx="21333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ифмов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38" name=""/>
          <p:cNvSpPr/>
          <p:nvPr/>
        </p:nvSpPr>
        <p:spPr>
          <a:xfrm>
            <a:off x="611280" y="5516640"/>
            <a:ext cx="5905440" cy="360360"/>
          </a:xfrm>
          <a:prstGeom prst="rect">
            <a:avLst/>
          </a:prstGeom>
          <a:solidFill>
            <a:srgbClr val="99ffc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9" name=""/>
          <p:cNvSpPr/>
          <p:nvPr/>
        </p:nvSpPr>
        <p:spPr>
          <a:xfrm>
            <a:off x="468360" y="551664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ет            синий, юный, румяный, сви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Н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и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НН</a:t>
            </a: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 в суффиксах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прилагательных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41" name=""/>
          <p:cNvSpPr txBox="1"/>
          <p:nvPr/>
        </p:nvSpPr>
        <p:spPr>
          <a:xfrm>
            <a:off x="684360" y="2349360"/>
            <a:ext cx="10080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ин-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ан-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-ян-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2" name=""/>
          <p:cNvSpPr/>
          <p:nvPr/>
        </p:nvSpPr>
        <p:spPr>
          <a:xfrm flipV="1">
            <a:off x="755640" y="2707920"/>
            <a:ext cx="503280" cy="289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3" name=""/>
          <p:cNvSpPr/>
          <p:nvPr/>
        </p:nvSpPr>
        <p:spPr>
          <a:xfrm>
            <a:off x="1258920" y="2060640"/>
            <a:ext cx="288720" cy="288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4" name=""/>
          <p:cNvSpPr/>
          <p:nvPr/>
        </p:nvSpPr>
        <p:spPr>
          <a:xfrm flipV="1">
            <a:off x="755640" y="2060640"/>
            <a:ext cx="503280" cy="288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"/>
          <p:cNvSpPr/>
          <p:nvPr/>
        </p:nvSpPr>
        <p:spPr>
          <a:xfrm flipV="1">
            <a:off x="755640" y="3357720"/>
            <a:ext cx="503280" cy="288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"/>
          <p:cNvSpPr/>
          <p:nvPr/>
        </p:nvSpPr>
        <p:spPr>
          <a:xfrm>
            <a:off x="1258920" y="2708280"/>
            <a:ext cx="288720" cy="2890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7" name=""/>
          <p:cNvSpPr/>
          <p:nvPr/>
        </p:nvSpPr>
        <p:spPr>
          <a:xfrm>
            <a:off x="1258920" y="3357720"/>
            <a:ext cx="288720" cy="288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1979640" y="981000"/>
            <a:ext cx="86364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49" name=""/>
          <p:cNvSpPr txBox="1"/>
          <p:nvPr/>
        </p:nvSpPr>
        <p:spPr>
          <a:xfrm>
            <a:off x="5435640" y="836640"/>
            <a:ext cx="1728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н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0" name=""/>
          <p:cNvSpPr txBox="1"/>
          <p:nvPr/>
        </p:nvSpPr>
        <p:spPr>
          <a:xfrm>
            <a:off x="5076720" y="2276640"/>
            <a:ext cx="10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н + н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1" name=""/>
          <p:cNvSpPr txBox="1"/>
          <p:nvPr/>
        </p:nvSpPr>
        <p:spPr>
          <a:xfrm>
            <a:off x="5003640" y="3141720"/>
            <a:ext cx="1076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-енн-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2" name=""/>
          <p:cNvSpPr txBox="1"/>
          <p:nvPr/>
        </p:nvSpPr>
        <p:spPr>
          <a:xfrm>
            <a:off x="4932360" y="3860640"/>
            <a:ext cx="1152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онн-</a:t>
            </a:r>
            <a:endParaRPr b="0" i="1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3" name=""/>
          <p:cNvSpPr/>
          <p:nvPr/>
        </p:nvSpPr>
        <p:spPr>
          <a:xfrm>
            <a:off x="4427640" y="2852640"/>
            <a:ext cx="9349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"/>
          <p:cNvSpPr/>
          <p:nvPr/>
        </p:nvSpPr>
        <p:spPr>
          <a:xfrm flipV="1">
            <a:off x="5364000" y="2637000"/>
            <a:ext cx="0" cy="2174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5" name=""/>
          <p:cNvSpPr/>
          <p:nvPr/>
        </p:nvSpPr>
        <p:spPr>
          <a:xfrm flipV="1">
            <a:off x="4500720" y="2637000"/>
            <a:ext cx="0" cy="2174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6" name=""/>
          <p:cNvSpPr/>
          <p:nvPr/>
        </p:nvSpPr>
        <p:spPr>
          <a:xfrm flipV="1">
            <a:off x="5796000" y="2205000"/>
            <a:ext cx="21744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"/>
          <p:cNvSpPr/>
          <p:nvPr/>
        </p:nvSpPr>
        <p:spPr>
          <a:xfrm>
            <a:off x="6012000" y="2205000"/>
            <a:ext cx="1425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5076720" y="2997000"/>
            <a:ext cx="432000" cy="215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9" name=""/>
          <p:cNvSpPr/>
          <p:nvPr/>
        </p:nvSpPr>
        <p:spPr>
          <a:xfrm>
            <a:off x="5508720" y="2997360"/>
            <a:ext cx="433440" cy="215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0" name=""/>
          <p:cNvSpPr/>
          <p:nvPr/>
        </p:nvSpPr>
        <p:spPr>
          <a:xfrm flipV="1">
            <a:off x="5076720" y="3715920"/>
            <a:ext cx="43200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"/>
          <p:cNvSpPr/>
          <p:nvPr/>
        </p:nvSpPr>
        <p:spPr>
          <a:xfrm>
            <a:off x="5508720" y="3716280"/>
            <a:ext cx="43164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"/>
          <p:cNvSpPr/>
          <p:nvPr/>
        </p:nvSpPr>
        <p:spPr>
          <a:xfrm flipV="1">
            <a:off x="1476360" y="5516640"/>
            <a:ext cx="36036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3" name=""/>
          <p:cNvSpPr/>
          <p:nvPr/>
        </p:nvSpPr>
        <p:spPr>
          <a:xfrm>
            <a:off x="1763640" y="5516640"/>
            <a:ext cx="21600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4" name=""/>
          <p:cNvSpPr/>
          <p:nvPr/>
        </p:nvSpPr>
        <p:spPr>
          <a:xfrm flipV="1" rot="13522200">
            <a:off x="1942560" y="5517720"/>
            <a:ext cx="717120" cy="7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5" name=""/>
          <p:cNvSpPr/>
          <p:nvPr/>
        </p:nvSpPr>
        <p:spPr>
          <a:xfrm flipV="1" rot="12873600">
            <a:off x="2912400" y="5510160"/>
            <a:ext cx="716760" cy="720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41842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418424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"/>
          <p:cNvSpPr/>
          <p:nvPr/>
        </p:nvSpPr>
        <p:spPr>
          <a:xfrm flipV="1" rot="13522200">
            <a:off x="4047480" y="5481360"/>
            <a:ext cx="715680" cy="71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32" y="241"/>
                </a:moveTo>
                <a:arcTo wR="10800" hR="10800" stAng="-6127423" swAng="7432716"/>
                <a:lnTo>
                  <a:pt x="10800" y="10800"/>
                </a:lnTo>
                <a:close/>
              </a:path>
              <a:path fill="none" w="21600" h="21600">
                <a:moveTo>
                  <a:pt x="8532" y="241"/>
                </a:moveTo>
                <a:arcTo wR="10800" hR="10800" stAng="-6127423" swAng="7432716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"/>
          <p:cNvSpPr/>
          <p:nvPr/>
        </p:nvSpPr>
        <p:spPr>
          <a:xfrm flipV="1" rot="13522200">
            <a:off x="5199840" y="5481360"/>
            <a:ext cx="715680" cy="71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32" y="241"/>
                </a:moveTo>
                <a:arcTo wR="10800" hR="10800" stAng="-6127423" swAng="7432716"/>
                <a:lnTo>
                  <a:pt x="10800" y="10800"/>
                </a:lnTo>
                <a:close/>
              </a:path>
              <a:path fill="none" w="21600" h="21600">
                <a:moveTo>
                  <a:pt x="8532" y="241"/>
                </a:moveTo>
                <a:arcTo wR="10800" hR="10800" stAng="-6127423" swAng="7432716"/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8" name=""/>
          <p:cNvSpPr/>
          <p:nvPr/>
        </p:nvSpPr>
        <p:spPr>
          <a:xfrm>
            <a:off x="8172360" y="5950080"/>
            <a:ext cx="971640" cy="907920"/>
          </a:xfrm>
          <a:custGeom>
            <a:avLst/>
            <a:gdLst>
              <a:gd name="textAreaLeft" fmla="*/ 58680 w 971640"/>
              <a:gd name="textAreaRight" fmla="*/ 912960 w 97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4551" y="7493"/>
                </a:moveTo>
                <a:lnTo>
                  <a:pt x="8059" y="7493"/>
                </a:lnTo>
                <a:lnTo>
                  <a:pt x="8059" y="12828"/>
                </a:lnTo>
                <a:cubicBezTo>
                  <a:pt x="8059" y="13751"/>
                  <a:pt x="8860" y="14482"/>
                  <a:pt x="9895" y="14482"/>
                </a:cubicBezTo>
                <a:lnTo>
                  <a:pt x="11558" y="14482"/>
                </a:lnTo>
                <a:cubicBezTo>
                  <a:pt x="12593" y="14482"/>
                  <a:pt x="13394" y="13751"/>
                  <a:pt x="13394" y="12828"/>
                </a:cubicBezTo>
                <a:lnTo>
                  <a:pt x="13394" y="7493"/>
                </a:lnTo>
                <a:lnTo>
                  <a:pt x="11558" y="7493"/>
                </a:lnTo>
                <a:lnTo>
                  <a:pt x="15065" y="3985"/>
                </a:lnTo>
                <a:lnTo>
                  <a:pt x="18738" y="7493"/>
                </a:lnTo>
                <a:lnTo>
                  <a:pt x="16902" y="7493"/>
                </a:lnTo>
                <a:lnTo>
                  <a:pt x="16902" y="12828"/>
                </a:lnTo>
                <a:cubicBezTo>
                  <a:pt x="16902" y="15596"/>
                  <a:pt x="14325" y="18155"/>
                  <a:pt x="11558" y="18155"/>
                </a:cubicBezTo>
                <a:lnTo>
                  <a:pt x="9895" y="18155"/>
                </a:lnTo>
                <a:cubicBezTo>
                  <a:pt x="7127" y="18155"/>
                  <a:pt x="4551" y="15596"/>
                  <a:pt x="4551" y="12828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9" name=""/>
          <p:cNvSpPr/>
          <p:nvPr/>
        </p:nvSpPr>
        <p:spPr>
          <a:xfrm>
            <a:off x="611280" y="5877000"/>
            <a:ext cx="5904000" cy="7855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ень, погода, человек          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ветр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ен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Двигатель, оспа, мельница  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ветр</a:t>
            </a:r>
            <a:r>
              <a:rPr b="1" lang="en-US" sz="1800" spc="-1" strike="noStrike" u="sng">
                <a:solidFill>
                  <a:srgbClr val="cc0000"/>
                </a:solidFill>
                <a:uFillTx/>
                <a:latin typeface="Verdana"/>
              </a:rPr>
              <a:t>ян</a:t>
            </a: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0" name=""/>
          <p:cNvSpPr/>
          <p:nvPr/>
        </p:nvSpPr>
        <p:spPr>
          <a:xfrm rot="19131000">
            <a:off x="6842160" y="4898520"/>
            <a:ext cx="2209680" cy="135756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21600" h="21600">
                <a:moveTo>
                  <a:pt x="1155" y="5940"/>
                </a:moveTo>
                <a:arcTo wR="-10800" hR="-10800" stAng="-9195464" swAng="-14290934"/>
                <a:lnTo>
                  <a:pt x="1586" y="16433"/>
                </a:lnTo>
                <a:arcTo wR="10800" hR="10800" stAng="8913602" swAng="14290934"/>
                <a:lnTo>
                  <a:pt x="22856" y="16875"/>
                </a:lnTo>
                <a:lnTo>
                  <a:pt x="19230" y="18071"/>
                </a:lnTo>
                <a:lnTo>
                  <a:pt x="18034" y="14445"/>
                </a:lnTo>
                <a:close/>
              </a:path>
            </a:pathLst>
          </a:custGeom>
          <a:solidFill>
            <a:srgbClr val="ff9900"/>
          </a:solidFill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7929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рфограмма в корне сло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49" name=""/>
          <p:cNvGraphicFramePr/>
          <p:nvPr/>
        </p:nvGraphicFramePr>
        <p:xfrm>
          <a:off x="755640" y="2311560"/>
          <a:ext cx="936720" cy="4033800"/>
        </p:xfrm>
        <a:graphic>
          <a:graphicData uri="http://schemas.openxmlformats.org/drawingml/2006/table">
            <a:tbl>
              <a:tblPr/>
              <a:tblGrid>
                <a:gridCol w="936720"/>
              </a:tblGrid>
              <a:tr h="403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н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0" name=""/>
          <p:cNvGraphicFramePr/>
          <p:nvPr/>
        </p:nvGraphicFramePr>
        <p:xfrm>
          <a:off x="2124000" y="2205000"/>
          <a:ext cx="6543720" cy="4652640"/>
        </p:xfrm>
        <a:graphic>
          <a:graphicData uri="http://schemas.openxmlformats.org/drawingml/2006/table">
            <a:tbl>
              <a:tblPr/>
              <a:tblGrid>
                <a:gridCol w="1943280"/>
                <a:gridCol w="2592360"/>
                <a:gridCol w="2008080"/>
              </a:tblGrid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ределяемые правил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 проверяемые правил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Проверяемые ударение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чередующие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Tahoma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1" action="ppaction://hlinksldjump"/>
                        </a:rPr>
                        <a:t>С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2" action="ppaction://hlinksldjump"/>
                        </a:rPr>
                        <a:t>лаг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3" action="ppaction://hlinksldjump"/>
                        </a:rPr>
                        <a:t>ать - с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4" action="ppaction://hlinksldjump"/>
                        </a:rPr>
                        <a:t>лож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5" action="ppaction://hlinksldjump"/>
                        </a:rPr>
                        <a:t>и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6" action="ppaction://hlinksldjump"/>
                        </a:rPr>
                        <a:t>Раст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7" action="ppaction://hlinksldjump"/>
                        </a:rPr>
                        <a:t>ение –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8" action="ppaction://hlinksldjump"/>
                        </a:rPr>
                        <a:t> рос</a:t>
                      </a:r>
                      <a:r>
                        <a:rPr b="0" lang="ru-RU" sz="1800" spc="-1" strike="noStrike" u="sng">
                          <a:solidFill>
                            <a:srgbClr val="ff0000"/>
                          </a:solidFill>
                          <a:uFillTx/>
                          <a:latin typeface="Tahoma"/>
                          <a:hlinkClick r:id="rId9" action="ppaction://hlinksldjump"/>
                        </a:rPr>
                        <a:t>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скл.                     Искл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а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ь –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рост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ас</a:t>
                      </a:r>
                      <a:r>
                        <a:rPr b="0" lang="ru-RU" sz="18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ься - 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ко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уть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р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ко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1" name=""/>
          <p:cNvSpPr/>
          <p:nvPr/>
        </p:nvSpPr>
        <p:spPr>
          <a:xfrm flipH="1">
            <a:off x="2916000" y="3645000"/>
            <a:ext cx="144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rot="1120800">
            <a:off x="2242080" y="365256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H="1">
            <a:off x="2771640" y="4365720"/>
            <a:ext cx="14472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rot="1120800">
            <a:off x="2242080" y="444456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rot="1120800">
            <a:off x="2242080" y="365256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rot="1120800">
            <a:off x="2097720" y="516528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rot="1120800">
            <a:off x="2097720" y="5957640"/>
            <a:ext cx="57852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8994280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89942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H="1">
            <a:off x="2700000" y="5084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H="1">
            <a:off x="2700000" y="580536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rot="21259200">
            <a:off x="6808320" y="3656880"/>
            <a:ext cx="579240" cy="37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11900889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1190088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H="1">
            <a:off x="7235640" y="3645000"/>
            <a:ext cx="14436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rot="21259200">
            <a:off x="6809040" y="4363200"/>
            <a:ext cx="944280" cy="35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12799361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1279936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7596000" y="4365720"/>
            <a:ext cx="144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6800760" y="5157720"/>
            <a:ext cx="726840" cy="244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7" y="13001"/>
                </a:moveTo>
                <a:arcTo wR="10800" hR="10800" stAng="10094328" swAng="11900889"/>
                <a:lnTo>
                  <a:pt x="10800" y="10800"/>
                </a:lnTo>
                <a:close/>
              </a:path>
              <a:path fill="none" w="21600" h="21600">
                <a:moveTo>
                  <a:pt x="227" y="13001"/>
                </a:moveTo>
                <a:arcTo wR="10800" hR="10800" stAng="10094328" swAng="11900889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H="1">
            <a:off x="7380000" y="5084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4716360" y="3645000"/>
            <a:ext cx="14472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5795640" y="357336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H="1">
            <a:off x="4716360" y="4221000"/>
            <a:ext cx="14472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5940000" y="4292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 flipH="1">
            <a:off x="4284360" y="5229360"/>
            <a:ext cx="144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5795640" y="515772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4571640" y="580536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5795640" y="587700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 flipH="1">
            <a:off x="3347640" y="4076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 flipH="1">
            <a:off x="3276360" y="479736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 flipH="1">
            <a:off x="3347640" y="551664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 flipH="1">
            <a:off x="3419280" y="6237360"/>
            <a:ext cx="144360" cy="216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>
            <a:hlinkClick r:id="rId10" action="ppaction://hlinksldjump"/>
          </p:cNvPr>
          <p:cNvSpPr/>
          <p:nvPr/>
        </p:nvSpPr>
        <p:spPr>
          <a:xfrm>
            <a:off x="8028000" y="6093000"/>
            <a:ext cx="1116000" cy="765000"/>
          </a:xfrm>
          <a:custGeom>
            <a:avLst/>
            <a:gdLst>
              <a:gd name="textAreaLeft" fmla="*/ 49320 w 1116000"/>
              <a:gd name="textAreaRight" fmla="*/ 1066680 w 111600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1506" h="21600">
                <a:moveTo>
                  <a:pt x="0" y="0"/>
                </a:moveTo>
                <a:lnTo>
                  <a:pt x="31506" y="0"/>
                </a:lnTo>
                <a:lnTo>
                  <a:pt x="31506" y="21600"/>
                </a:lnTo>
                <a:lnTo>
                  <a:pt x="0" y="21600"/>
                </a:lnTo>
                <a:close/>
              </a:path>
              <a:path fill="lightenLess" w="31506" h="21600">
                <a:moveTo>
                  <a:pt x="0" y="0"/>
                </a:moveTo>
                <a:lnTo>
                  <a:pt x="31506" y="0"/>
                </a:lnTo>
                <a:lnTo>
                  <a:pt x="30106" y="1400"/>
                </a:lnTo>
                <a:lnTo>
                  <a:pt x="1400" y="1400"/>
                </a:lnTo>
                <a:close/>
              </a:path>
              <a:path fill="darken" w="31506" h="21600">
                <a:moveTo>
                  <a:pt x="31506" y="0"/>
                </a:moveTo>
                <a:lnTo>
                  <a:pt x="31506" y="21600"/>
                </a:lnTo>
                <a:lnTo>
                  <a:pt x="30106" y="20200"/>
                </a:lnTo>
                <a:lnTo>
                  <a:pt x="30106" y="1400"/>
                </a:lnTo>
                <a:close/>
              </a:path>
              <a:path fill="darkenLess" w="31506" h="21600">
                <a:moveTo>
                  <a:pt x="31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106" y="20200"/>
                </a:lnTo>
                <a:close/>
              </a:path>
              <a:path fill="lighten" w="31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506" h="21600">
                <a:moveTo>
                  <a:pt x="12254" y="10800"/>
                </a:moveTo>
                <a:lnTo>
                  <a:pt x="22759" y="3794"/>
                </a:lnTo>
                <a:lnTo>
                  <a:pt x="22759" y="17806"/>
                </a:lnTo>
                <a:close/>
              </a:path>
              <a:path fill="darken" w="31506" h="21600">
                <a:moveTo>
                  <a:pt x="8746" y="3794"/>
                </a:moveTo>
                <a:lnTo>
                  <a:pt x="10409" y="3794"/>
                </a:lnTo>
                <a:lnTo>
                  <a:pt x="10409" y="17806"/>
                </a:lnTo>
                <a:lnTo>
                  <a:pt x="8746" y="17806"/>
                </a:ln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>
            <a:hlinkClick r:id="rId11" action="ppaction://hlinksldjump"/>
          </p:cNvPr>
          <p:cNvSpPr/>
          <p:nvPr/>
        </p:nvSpPr>
        <p:spPr>
          <a:xfrm>
            <a:off x="1187280" y="1341360"/>
            <a:ext cx="676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  <a:hlinkClick r:id="rId12" action="ppaction://hlinksldjump"/>
              </a:rPr>
              <a:t>Слышатся безударные гласные в корне? Алгорит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7236000" y="1484280"/>
            <a:ext cx="720720" cy="144360"/>
          </a:xfrm>
          <a:prstGeom prst="rightArrow">
            <a:avLst>
              <a:gd name="adj1" fmla="val 50000"/>
              <a:gd name="adj2" fmla="val 124813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17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"/>
          <p:cNvSpPr/>
          <p:nvPr/>
        </p:nvSpPr>
        <p:spPr>
          <a:xfrm>
            <a:off x="6156360" y="1700280"/>
            <a:ext cx="1584360" cy="360360"/>
          </a:xfrm>
          <a:prstGeom prst="rect">
            <a:avLst/>
          </a:prstGeom>
          <a:solidFill>
            <a:srgbClr val="f2d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Н и НН в суффиксах полных причасти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1042560" y="980640"/>
            <a:ext cx="7921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От какого слова образовано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т существительного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лагательно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От глагола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ричасти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</a:rPr>
              <a:t>Задай 4 вопрос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4" name=""/>
          <p:cNvSpPr/>
          <p:nvPr/>
        </p:nvSpPr>
        <p:spPr>
          <a:xfrm>
            <a:off x="5219640" y="1557360"/>
            <a:ext cx="71928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>
            <a:off x="3780000" y="1916280"/>
            <a:ext cx="216036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6" name=""/>
          <p:cNvGraphicFramePr/>
          <p:nvPr/>
        </p:nvGraphicFramePr>
        <p:xfrm>
          <a:off x="539640" y="2421000"/>
          <a:ext cx="8218440" cy="4152960"/>
        </p:xfrm>
        <a:graphic>
          <a:graphicData uri="http://schemas.openxmlformats.org/drawingml/2006/table">
            <a:tbl>
              <a:tblPr/>
              <a:tblGrid>
                <a:gridCol w="1295640"/>
                <a:gridCol w="5903640"/>
                <a:gridCol w="101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Оканчивается на  -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ованный,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-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ванный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Есть ли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приставк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кроме не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Есть ли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зависимое слово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сов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ли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ви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глагола, от которого слово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что сделать?) </a:t>
                      </a:r>
                      <a:r>
                        <a:rPr b="0" lang="en-US" sz="1800" spc="-1" strike="noStrike" u="sng">
                          <a:solidFill>
                            <a:srgbClr val="cc99ff"/>
                          </a:solidFill>
                          <a:uFillTx/>
                          <a:latin typeface="Verdana"/>
                          <a:hlinkClick r:id="rId1" action="ppaction://hlinksldjump"/>
                        </a:rPr>
                        <a:t>Запомни глаголы сов. ви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1911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сли хотя бы </a:t>
                      </a:r>
                      <a:r>
                        <a:rPr b="1" lang="ru-RU" sz="24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Да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если </a:t>
                      </a:r>
                      <a:r>
                        <a:rPr b="1" lang="ru-RU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4 Нет           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     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с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ош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ый                     печё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ый картофель,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         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организ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ованный            не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кош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я трава         Кош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ый 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а лугу; 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решённая       свежекош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ая тра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Задача (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от гл сов вида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)                  варё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ый, сушё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н</a:t>
                      </a:r>
                      <a:r>
                        <a:rPr b="1" lang="ru-RU" sz="1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77" name=""/>
          <p:cNvSpPr txBox="1"/>
          <p:nvPr/>
        </p:nvSpPr>
        <p:spPr>
          <a:xfrm>
            <a:off x="684360" y="5013360"/>
            <a:ext cx="865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8" name=""/>
          <p:cNvSpPr txBox="1"/>
          <p:nvPr/>
        </p:nvSpPr>
        <p:spPr>
          <a:xfrm>
            <a:off x="7740720" y="479736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9" name=""/>
          <p:cNvSpPr/>
          <p:nvPr/>
        </p:nvSpPr>
        <p:spPr>
          <a:xfrm>
            <a:off x="4788000" y="4724280"/>
            <a:ext cx="0" cy="1873440"/>
          </a:xfrm>
          <a:prstGeom prst="line">
            <a:avLst/>
          </a:prstGeom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H="1">
            <a:off x="4284720" y="2060640"/>
            <a:ext cx="2448000" cy="216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5076720" y="5661000"/>
            <a:ext cx="3589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2" name=""/>
          <p:cNvSpPr/>
          <p:nvPr/>
        </p:nvSpPr>
        <p:spPr>
          <a:xfrm>
            <a:off x="5435640" y="5661000"/>
            <a:ext cx="0" cy="14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">
            <a:hlinkClick r:id="rId2" action="ppaction://hlinksldjump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10800"/>
                </a:moveTo>
                <a:lnTo>
                  <a:pt x="18680" y="3794"/>
                </a:lnTo>
                <a:lnTo>
                  <a:pt x="18680" y="17806"/>
                </a:lnTo>
                <a:close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Verdana"/>
              </a:rPr>
              <a:t>Запомни глаголы совершенного вида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Реш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Лиш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Встрет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Кончить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Пуст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Куп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Обиде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Простить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Бросить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Стреножить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7" name="">
            <a:hlinkClick r:id="" action="ppaction://hlinkshowjump?jump=previous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7626"/>
                </a:moveTo>
                <a:lnTo>
                  <a:pt x="7301" y="7626"/>
                </a:lnTo>
                <a:lnTo>
                  <a:pt x="7301" y="12962"/>
                </a:lnTo>
                <a:cubicBezTo>
                  <a:pt x="7301" y="13884"/>
                  <a:pt x="8102" y="14615"/>
                  <a:pt x="9138" y="14615"/>
                </a:cubicBezTo>
                <a:lnTo>
                  <a:pt x="10800" y="14615"/>
                </a:lnTo>
                <a:cubicBezTo>
                  <a:pt x="11836" y="14615"/>
                  <a:pt x="12636" y="13884"/>
                  <a:pt x="12636" y="12962"/>
                </a:cubicBezTo>
                <a:lnTo>
                  <a:pt x="12636" y="7626"/>
                </a:lnTo>
                <a:lnTo>
                  <a:pt x="10800" y="7626"/>
                </a:lnTo>
                <a:lnTo>
                  <a:pt x="14308" y="4119"/>
                </a:lnTo>
                <a:lnTo>
                  <a:pt x="17981" y="7626"/>
                </a:lnTo>
                <a:lnTo>
                  <a:pt x="16144" y="7626"/>
                </a:lnTo>
                <a:lnTo>
                  <a:pt x="16144" y="12962"/>
                </a:lnTo>
                <a:cubicBezTo>
                  <a:pt x="16144" y="15729"/>
                  <a:pt x="13568" y="18288"/>
                  <a:pt x="10800" y="18288"/>
                </a:cubicBezTo>
                <a:lnTo>
                  <a:pt x="9138" y="18288"/>
                </a:lnTo>
                <a:cubicBezTo>
                  <a:pt x="6370" y="18288"/>
                  <a:pt x="3794" y="15729"/>
                  <a:pt x="3794" y="129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680" dur="indefinite" restart="never" nodeType="tmRoot">
          <p:childTnLst>
            <p:seq>
              <p:cTn id="1681" dur="indefinite" nodeType="mainSeq">
                <p:childTnLst>
                  <p:par>
                    <p:cTn id="1682" fill="hold">
                      <p:stCondLst>
                        <p:cond delay="0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1000" fill="hold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2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3" dur="1000"/>
                                        <p:tgtEl>
                                          <p:spTgt spid="2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4" dur="1000"/>
                                        <p:tgtEl>
                                          <p:spTgt spid="2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5" dur="1000"/>
                                        <p:tgtEl>
                                          <p:spTgt spid="2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fill="hold">
                      <p:stCondLst>
                        <p:cond delay="indefinite"/>
                      </p:stCondLst>
                      <p:childTnLst>
                        <p:par>
                          <p:cTn id="1697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0" dur="80"/>
                                        <p:tgtEl>
                                          <p:spTgt spid="2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1" dur="80"/>
                                        <p:tgtEl>
                                          <p:spTgt spid="2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2" dur="80"/>
                                        <p:tgtEl>
                                          <p:spTgt spid="2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280"/>
                            </p:stCondLst>
                            <p:childTnLst>
                              <p:par>
                                <p:cTn id="17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6" dur="1000"/>
                                        <p:tgtEl>
                                          <p:spTgt spid="2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7" dur="1000"/>
                                        <p:tgtEl>
                                          <p:spTgt spid="2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8" dur="1000"/>
                                        <p:tgtEl>
                                          <p:spTgt spid="2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280"/>
                            </p:stCondLst>
                            <p:childTnLst>
                              <p:par>
                                <p:cTn id="17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2" dur="1000"/>
                                        <p:tgtEl>
                                          <p:spTgt spid="2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3" dur="1000"/>
                                        <p:tgtEl>
                                          <p:spTgt spid="2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1000"/>
                                        <p:tgtEl>
                                          <p:spTgt spid="2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9280"/>
                            </p:stCondLst>
                            <p:childTnLst>
                              <p:par>
                                <p:cTn id="17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8" dur="1000"/>
                                        <p:tgtEl>
                                          <p:spTgt spid="2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9" dur="1000"/>
                                        <p:tgtEl>
                                          <p:spTgt spid="2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0" dur="1000"/>
                                        <p:tgtEl>
                                          <p:spTgt spid="2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3280"/>
                            </p:stCondLst>
                            <p:childTnLst>
                              <p:par>
                                <p:cTn id="17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4" dur="1000"/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5" dur="1000"/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6" dur="1000"/>
                                        <p:tgtEl>
                                          <p:spTgt spid="2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fill="hold">
                            <p:stCondLst>
                              <p:cond delay="16780"/>
                            </p:stCondLst>
                            <p:childTnLst>
                              <p:par>
                                <p:cTn id="17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0" dur="1000"/>
                                        <p:tgtEl>
                                          <p:spTgt spid="2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1" dur="1000"/>
                                        <p:tgtEl>
                                          <p:spTgt spid="2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2" dur="1000"/>
                                        <p:tgtEl>
                                          <p:spTgt spid="2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3" fill="hold">
                            <p:stCondLst>
                              <p:cond delay="20780"/>
                            </p:stCondLst>
                            <p:childTnLst>
                              <p:par>
                                <p:cTn id="17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6" dur="1000"/>
                                        <p:tgtEl>
                                          <p:spTgt spid="2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7" dur="1000"/>
                                        <p:tgtEl>
                                          <p:spTgt spid="2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8" dur="1000"/>
                                        <p:tgtEl>
                                          <p:spTgt spid="2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25280"/>
                            </p:stCondLst>
                            <p:childTnLst>
                              <p:par>
                                <p:cTn id="17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2" dur="1000"/>
                                        <p:tgtEl>
                                          <p:spTgt spid="2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3" dur="1000"/>
                                        <p:tgtEl>
                                          <p:spTgt spid="2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000"/>
                                        <p:tgtEl>
                                          <p:spTgt spid="2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29280"/>
                            </p:stCondLst>
                            <p:childTnLst>
                              <p:par>
                                <p:cTn id="17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8" dur="1000"/>
                                        <p:tgtEl>
                                          <p:spTgt spid="2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9" dur="1000"/>
                                        <p:tgtEl>
                                          <p:spTgt spid="2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0" dur="1000"/>
                                        <p:tgtEl>
                                          <p:spTgt spid="24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"/>
          <p:cNvSpPr/>
          <p:nvPr/>
        </p:nvSpPr>
        <p:spPr>
          <a:xfrm>
            <a:off x="4067280" y="1268280"/>
            <a:ext cx="4751280" cy="1081080"/>
          </a:xfrm>
          <a:prstGeom prst="wedgeEllipseCallout">
            <a:avLst>
              <a:gd name="adj1" fmla="val -98847"/>
              <a:gd name="adj2" fmla="val 268500"/>
            </a:avLst>
          </a:prstGeom>
          <a:solidFill>
            <a:srgbClr val="ebf7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Мошенник украл у тружен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 смышлёного механи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В гостинице одну «эн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Правописание </a:t>
            </a:r>
            <a:r>
              <a:rPr b="0" lang="ru-RU" sz="4400" spc="-1" strike="noStrike">
                <a:solidFill>
                  <a:srgbClr val="cc0000"/>
                </a:solidFill>
                <a:latin typeface="Verdana"/>
              </a:rPr>
              <a:t>н</a:t>
            </a: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 и </a:t>
            </a:r>
            <a:r>
              <a:rPr b="0" lang="ru-RU" sz="4400" spc="-1" strike="noStrike">
                <a:solidFill>
                  <a:srgbClr val="cc0000"/>
                </a:solidFill>
                <a:latin typeface="Verdana"/>
              </a:rPr>
              <a:t>нн</a:t>
            </a:r>
            <a:br>
              <a:rPr sz="4400"/>
            </a:br>
            <a:r>
              <a:rPr b="0" lang="ru-RU" sz="3200" spc="-1" strike="noStrike">
                <a:solidFill>
                  <a:srgbClr val="cc0000"/>
                </a:solidFill>
                <a:latin typeface="Verdana"/>
              </a:rPr>
              <a:t>Рифмовки</a:t>
            </a: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90" name="" descr=""/>
          <p:cNvPicPr/>
          <p:nvPr/>
        </p:nvPicPr>
        <p:blipFill>
          <a:blip r:embed="rId1"/>
          <a:stretch/>
        </p:blipFill>
        <p:spPr>
          <a:xfrm>
            <a:off x="0" y="4687920"/>
            <a:ext cx="2192400" cy="2170080"/>
          </a:xfrm>
          <a:prstGeom prst="rect">
            <a:avLst/>
          </a:prstGeom>
          <a:ln w="0">
            <a:noFill/>
          </a:ln>
        </p:spPr>
      </p:pic>
      <p:sp>
        <p:nvSpPr>
          <p:cNvPr id="2491" name=""/>
          <p:cNvSpPr/>
          <p:nvPr/>
        </p:nvSpPr>
        <p:spPr>
          <a:xfrm>
            <a:off x="3419640" y="2637000"/>
            <a:ext cx="5724360" cy="1511280"/>
          </a:xfrm>
          <a:prstGeom prst="wedgeEllipseCallout">
            <a:avLst>
              <a:gd name="adj1" fmla="val -79921"/>
              <a:gd name="adj2" fmla="val 102731"/>
            </a:avLst>
          </a:prstGeom>
          <a:solidFill>
            <a:srgbClr val="edfad2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рошенный, данный и лишённы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ущенный, купленный и решён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оть без приставки, но совершенны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ид, поэтому две «эн» стои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"/>
          <p:cNvSpPr/>
          <p:nvPr/>
        </p:nvSpPr>
        <p:spPr>
          <a:xfrm>
            <a:off x="2340000" y="4365720"/>
            <a:ext cx="3527280" cy="1150920"/>
          </a:xfrm>
          <a:prstGeom prst="wedgeRectCallout">
            <a:avLst>
              <a:gd name="adj1" fmla="val -71694"/>
              <a:gd name="adj2" fmla="val 36759"/>
            </a:avLst>
          </a:prstGeom>
          <a:solidFill>
            <a:srgbClr val="f2dffd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вященный и желанны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гаданный, неждан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рименяя правил знанья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иши две «эн» без колебань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 rot="10800000">
            <a:off x="2268000" y="5733720"/>
            <a:ext cx="6480360" cy="863640"/>
          </a:xfrm>
          <a:prstGeom prst="wedgeRoundRectCallout">
            <a:avLst>
              <a:gd name="adj1" fmla="val 61046"/>
              <a:gd name="adj2" fmla="val 67462"/>
              <a:gd name="adj3" fmla="val 16667"/>
            </a:avLst>
          </a:prstGeom>
          <a:solidFill>
            <a:srgbClr val="99ffcc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Зато смышлёный, жёваный, приданое и кованый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Запомнить можно без труда, что в них одна лишь «эн» всег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179280" y="1341360"/>
            <a:ext cx="3024360" cy="1871640"/>
          </a:xfrm>
          <a:prstGeom prst="wedgeRoundRectCallout">
            <a:avLst>
              <a:gd name="adj1" fmla="val -11995"/>
              <a:gd name="adj2" fmla="val 162296"/>
              <a:gd name="adj3" fmla="val 16667"/>
            </a:avLst>
          </a:prstGeom>
          <a:solidFill>
            <a:srgbClr val="ffff99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Свиной, зелёный, синий, рьяный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Юный, пряный и румяны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Здесь ты суффикс не ищ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И одну лишь «эн» пиш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">
            <a:hlinkClick r:id="" action="ppaction://hlinkshowjump?jump=previousslide"/>
          </p:cNvPr>
          <p:cNvSpPr/>
          <p:nvPr/>
        </p:nvSpPr>
        <p:spPr>
          <a:xfrm>
            <a:off x="8244000" y="6165720"/>
            <a:ext cx="900000" cy="692280"/>
          </a:xfrm>
          <a:custGeom>
            <a:avLst/>
            <a:gdLst>
              <a:gd name="textAreaLeft" fmla="*/ 44640 w 900000"/>
              <a:gd name="textAreaRight" fmla="*/ 855360 w 900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7493"/>
                </a:moveTo>
                <a:lnTo>
                  <a:pt x="10540" y="7493"/>
                </a:lnTo>
                <a:lnTo>
                  <a:pt x="10540" y="12828"/>
                </a:lnTo>
                <a:cubicBezTo>
                  <a:pt x="10540" y="13751"/>
                  <a:pt x="11341" y="14482"/>
                  <a:pt x="12376" y="14482"/>
                </a:cubicBezTo>
                <a:lnTo>
                  <a:pt x="14039" y="14482"/>
                </a:lnTo>
                <a:cubicBezTo>
                  <a:pt x="15075" y="14482"/>
                  <a:pt x="15875" y="13751"/>
                  <a:pt x="15875" y="12828"/>
                </a:cubicBezTo>
                <a:lnTo>
                  <a:pt x="15875" y="7493"/>
                </a:lnTo>
                <a:lnTo>
                  <a:pt x="14039" y="7493"/>
                </a:lnTo>
                <a:lnTo>
                  <a:pt x="17546" y="3985"/>
                </a:lnTo>
                <a:lnTo>
                  <a:pt x="21219" y="7493"/>
                </a:lnTo>
                <a:lnTo>
                  <a:pt x="19383" y="7493"/>
                </a:lnTo>
                <a:lnTo>
                  <a:pt x="19383" y="12828"/>
                </a:lnTo>
                <a:cubicBezTo>
                  <a:pt x="19383" y="15596"/>
                  <a:pt x="16807" y="18155"/>
                  <a:pt x="14039" y="18155"/>
                </a:cubicBezTo>
                <a:lnTo>
                  <a:pt x="12376" y="18155"/>
                </a:lnTo>
                <a:cubicBezTo>
                  <a:pt x="9609" y="18155"/>
                  <a:pt x="7032" y="15596"/>
                  <a:pt x="7032" y="12828"/>
                </a:cubicBezTo>
                <a:close/>
              </a:path>
            </a:pathLst>
          </a:cu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1751" dur="indefinite" restart="never" nodeType="tmRoot">
          <p:childTnLst>
            <p:seq>
              <p:cTn id="1752" dur="indefinite" nodeType="mainSeq">
                <p:childTnLst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2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2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2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1000"/>
                                        <p:tgtEl>
                                          <p:spTgt spid="2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1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2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2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4" dur="1000"/>
                                        <p:tgtEl>
                                          <p:spTgt spid="2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2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2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Н – НН в производных форм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324000" y="907560"/>
            <a:ext cx="88200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Задай вопрос. Определи часть речи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КТО?   ЧТО?                  КАК?                            КАКОВ(А, О, Ы)?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Можно ли заменить глаголом?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               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аткое                        краткое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(столько Н, сколько                             </a:t>
            </a:r>
            <a:r>
              <a:rPr b="1" lang="ru-RU" sz="2000" spc="-1" strike="noStrike">
                <a:solidFill>
                  <a:srgbClr val="292929"/>
                </a:solidFill>
                <a:latin typeface="Arial"/>
              </a:rPr>
              <a:t>причастие            прилагательное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в производной                                   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+ сущ. в твор. п.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(есть синоним-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Форме)                     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отвечал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</a:t>
            </a:r>
            <a:r>
              <a:rPr b="0" lang="ru-RU" sz="1600" spc="-1" strike="noStrike">
                <a:solidFill>
                  <a:srgbClr val="292929"/>
                </a:solidFill>
                <a:latin typeface="Arial"/>
              </a:rPr>
              <a:t>мест. в твор. п.          прилагательное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путаница </a:t>
            </a:r>
            <a:r>
              <a:rPr b="0" i="1" lang="ru-RU" sz="2000" spc="-1" strike="noStrike" u="sng">
                <a:solidFill>
                  <a:srgbClr val="292929"/>
                </a:solidFill>
                <a:uFillTx/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от путаный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) 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путано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чем-то, кем-то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рассеянность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   </a:t>
            </a:r>
            <a:r>
              <a:rPr b="0" i="1" lang="ru-RU" sz="2000" spc="-1" strike="noStrike">
                <a:solidFill>
                  <a:srgbClr val="003399"/>
                </a:solidFill>
                <a:latin typeface="Arial"/>
              </a:rPr>
              <a:t>рассеянно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            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столько Н, сколько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от рассеянный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)                                                                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 полной форме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</a:t>
            </a:r>
            <a:r>
              <a:rPr b="0" i="1" lang="ru-RU" sz="2000" spc="-1" strike="noStrike">
                <a:solidFill>
                  <a:srgbClr val="292929"/>
                </a:solidFill>
                <a:latin typeface="Arial"/>
              </a:rPr>
              <a:t>семена рассеяны;   поля пустынны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по полю (кем-то,     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25160" indent="-425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                                                               </a:t>
            </a:r>
            <a:r>
              <a:rPr b="0" lang="ru-RU" sz="2000" spc="-1" strike="noStrike">
                <a:solidFill>
                  <a:srgbClr val="292929"/>
                </a:solidFill>
                <a:latin typeface="Arial"/>
              </a:rPr>
              <a:t>чем-то) (кто-то рассеял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8" name=""/>
          <p:cNvSpPr txBox="1"/>
          <p:nvPr/>
        </p:nvSpPr>
        <p:spPr>
          <a:xfrm>
            <a:off x="684360" y="2205000"/>
            <a:ext cx="1223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Сущ.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2499" name=""/>
          <p:cNvSpPr txBox="1"/>
          <p:nvPr/>
        </p:nvSpPr>
        <p:spPr>
          <a:xfrm>
            <a:off x="2843280" y="2276640"/>
            <a:ext cx="1533600" cy="55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нареч.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  <p:sp>
        <p:nvSpPr>
          <p:cNvPr id="2500" name=""/>
          <p:cNvSpPr/>
          <p:nvPr/>
        </p:nvSpPr>
        <p:spPr>
          <a:xfrm rot="16200000">
            <a:off x="2159640" y="800640"/>
            <a:ext cx="720720" cy="3961080"/>
          </a:xfrm>
          <a:custGeom>
            <a:avLst/>
            <a:gdLst>
              <a:gd name="textAreaLeft" fmla="*/ 460440 w 720720"/>
              <a:gd name="textAreaRight" fmla="*/ 721080 w 720720"/>
              <a:gd name="textAreaTop" fmla="*/ 102960 h 3961080"/>
              <a:gd name="textAreaBottom" fmla="*/ 385812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64"/>
                </a:lnTo>
                <a:cubicBezTo>
                  <a:pt x="10800" y="9964"/>
                  <a:pt x="5400" y="10864"/>
                  <a:pt x="0" y="10864"/>
                </a:cubicBezTo>
                <a:cubicBezTo>
                  <a:pt x="5400" y="10864"/>
                  <a:pt x="10800" y="11764"/>
                  <a:pt x="10800" y="1266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1" name=""/>
          <p:cNvSpPr txBox="1"/>
          <p:nvPr/>
        </p:nvSpPr>
        <p:spPr>
          <a:xfrm rot="990000">
            <a:off x="1550520" y="2604960"/>
            <a:ext cx="86364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, н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2" name=""/>
          <p:cNvSpPr/>
          <p:nvPr/>
        </p:nvSpPr>
        <p:spPr>
          <a:xfrm>
            <a:off x="1187280" y="1989000"/>
            <a:ext cx="0" cy="28764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"/>
          <p:cNvSpPr/>
          <p:nvPr/>
        </p:nvSpPr>
        <p:spPr>
          <a:xfrm>
            <a:off x="3419640" y="1916280"/>
            <a:ext cx="0" cy="28728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"/>
          <p:cNvSpPr/>
          <p:nvPr/>
        </p:nvSpPr>
        <p:spPr>
          <a:xfrm flipH="1">
            <a:off x="6011640" y="2349360"/>
            <a:ext cx="647640" cy="28764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5" name=""/>
          <p:cNvSpPr/>
          <p:nvPr/>
        </p:nvSpPr>
        <p:spPr>
          <a:xfrm>
            <a:off x="6732720" y="2349360"/>
            <a:ext cx="647640" cy="28764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"/>
          <p:cNvSpPr txBox="1"/>
          <p:nvPr/>
        </p:nvSpPr>
        <p:spPr>
          <a:xfrm>
            <a:off x="5435640" y="2565360"/>
            <a:ext cx="428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7451640" y="2492280"/>
            <a:ext cx="64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580000" y="4941720"/>
            <a:ext cx="0" cy="432000"/>
          </a:xfrm>
          <a:prstGeom prst="line">
            <a:avLst/>
          </a:prstGeom>
          <a:ln w="2844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9" name=""/>
          <p:cNvSpPr txBox="1"/>
          <p:nvPr/>
        </p:nvSpPr>
        <p:spPr>
          <a:xfrm>
            <a:off x="5435640" y="5373720"/>
            <a:ext cx="28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0" name=""/>
          <p:cNvSpPr txBox="1"/>
          <p:nvPr/>
        </p:nvSpPr>
        <p:spPr>
          <a:xfrm>
            <a:off x="7236000" y="4581360"/>
            <a:ext cx="936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, нн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3132000" y="4149720"/>
            <a:ext cx="1368720" cy="129528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"/>
          <p:cNvSpPr/>
          <p:nvPr/>
        </p:nvSpPr>
        <p:spPr>
          <a:xfrm>
            <a:off x="250920" y="1557360"/>
            <a:ext cx="4248000" cy="51116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3" name=""/>
          <p:cNvSpPr/>
          <p:nvPr/>
        </p:nvSpPr>
        <p:spPr>
          <a:xfrm>
            <a:off x="4500720" y="1557360"/>
            <a:ext cx="4427280" cy="511164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4" name=""/>
          <p:cNvSpPr/>
          <p:nvPr/>
        </p:nvSpPr>
        <p:spPr>
          <a:xfrm>
            <a:off x="6588000" y="2492280"/>
            <a:ext cx="432000" cy="3745080"/>
          </a:xfrm>
          <a:custGeom>
            <a:avLst/>
            <a:gdLst/>
            <a:ahLst/>
            <a:rect l="l" t="t" r="r" b="b"/>
            <a:pathLst>
              <a:path w="302" h="2404">
                <a:moveTo>
                  <a:pt x="30" y="0"/>
                </a:moveTo>
                <a:cubicBezTo>
                  <a:pt x="15" y="809"/>
                  <a:pt x="0" y="1618"/>
                  <a:pt x="30" y="1951"/>
                </a:cubicBezTo>
                <a:cubicBezTo>
                  <a:pt x="60" y="2284"/>
                  <a:pt x="167" y="1921"/>
                  <a:pt x="212" y="1996"/>
                </a:cubicBezTo>
                <a:cubicBezTo>
                  <a:pt x="257" y="2071"/>
                  <a:pt x="279" y="2237"/>
                  <a:pt x="302" y="2404"/>
                </a:cubicBezTo>
              </a:path>
            </a:pathLst>
          </a:custGeom>
          <a:noFill/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7020000" y="6165720"/>
            <a:ext cx="115236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">
            <a:hlinkClick r:id="" action="ppaction://hlinkshowjump?jump=previousslide"/>
          </p:cNvPr>
          <p:cNvSpPr/>
          <p:nvPr/>
        </p:nvSpPr>
        <p:spPr>
          <a:xfrm>
            <a:off x="8604360" y="6165720"/>
            <a:ext cx="539640" cy="69228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692280"/>
              <a:gd name="textAreaBottom" fmla="*/ 657360 h 692280"/>
            </a:gdLst>
            <a:ahLst/>
            <a:rect l="textAreaLeft" t="textAreaTop" r="textAreaRight" b="textAreaBottom"/>
            <a:pathLst>
              <a:path w="21600" h="27706">
                <a:moveTo>
                  <a:pt x="0" y="0"/>
                </a:moveTo>
                <a:lnTo>
                  <a:pt x="21600" y="0"/>
                </a:lnTo>
                <a:lnTo>
                  <a:pt x="21600" y="27706"/>
                </a:lnTo>
                <a:lnTo>
                  <a:pt x="0" y="27706"/>
                </a:lnTo>
                <a:close/>
              </a:path>
              <a:path fill="lightenLess" w="21600" h="277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706">
                <a:moveTo>
                  <a:pt x="21600" y="0"/>
                </a:moveTo>
                <a:lnTo>
                  <a:pt x="21600" y="27706"/>
                </a:lnTo>
                <a:lnTo>
                  <a:pt x="20200" y="26306"/>
                </a:lnTo>
                <a:lnTo>
                  <a:pt x="20200" y="1400"/>
                </a:lnTo>
                <a:close/>
              </a:path>
              <a:path fill="darkenLess" w="21600" h="27706">
                <a:moveTo>
                  <a:pt x="21600" y="27706"/>
                </a:moveTo>
                <a:lnTo>
                  <a:pt x="0" y="27706"/>
                </a:lnTo>
                <a:lnTo>
                  <a:pt x="1400" y="26306"/>
                </a:lnTo>
                <a:lnTo>
                  <a:pt x="20200" y="26306"/>
                </a:lnTo>
                <a:close/>
              </a:path>
              <a:path fill="lighten" w="21600" h="27706">
                <a:moveTo>
                  <a:pt x="0" y="277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306"/>
                </a:lnTo>
                <a:close/>
              </a:path>
              <a:path fill="darken" w="21600" h="27706">
                <a:moveTo>
                  <a:pt x="3794" y="10545"/>
                </a:moveTo>
                <a:lnTo>
                  <a:pt x="7301" y="10545"/>
                </a:lnTo>
                <a:lnTo>
                  <a:pt x="7301" y="15881"/>
                </a:lnTo>
                <a:cubicBezTo>
                  <a:pt x="7301" y="16803"/>
                  <a:pt x="8102" y="17534"/>
                  <a:pt x="9138" y="17534"/>
                </a:cubicBezTo>
                <a:lnTo>
                  <a:pt x="10800" y="17534"/>
                </a:lnTo>
                <a:cubicBezTo>
                  <a:pt x="11836" y="17534"/>
                  <a:pt x="12636" y="16803"/>
                  <a:pt x="12636" y="15881"/>
                </a:cubicBezTo>
                <a:lnTo>
                  <a:pt x="12636" y="10545"/>
                </a:lnTo>
                <a:lnTo>
                  <a:pt x="10800" y="10545"/>
                </a:lnTo>
                <a:lnTo>
                  <a:pt x="14308" y="7038"/>
                </a:lnTo>
                <a:lnTo>
                  <a:pt x="17981" y="10545"/>
                </a:lnTo>
                <a:lnTo>
                  <a:pt x="16144" y="10545"/>
                </a:lnTo>
                <a:lnTo>
                  <a:pt x="16144" y="15881"/>
                </a:lnTo>
                <a:cubicBezTo>
                  <a:pt x="16144" y="18649"/>
                  <a:pt x="13568" y="21207"/>
                  <a:pt x="10800" y="21207"/>
                </a:cubicBezTo>
                <a:lnTo>
                  <a:pt x="9138" y="21207"/>
                </a:lnTo>
                <a:cubicBezTo>
                  <a:pt x="6370" y="21207"/>
                  <a:pt x="3794" y="18649"/>
                  <a:pt x="3794" y="15881"/>
                </a:cubicBezTo>
                <a:close/>
              </a:path>
            </a:pathLst>
          </a:cu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7" name=""/>
          <p:cNvSpPr/>
          <p:nvPr/>
        </p:nvSpPr>
        <p:spPr>
          <a:xfrm>
            <a:off x="0" y="5734080"/>
            <a:ext cx="4356000" cy="1078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В наречиях на –о и –е пише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столько же Н, сколько в прилагател.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Bookman Old Style"/>
              </a:rPr>
              <a:t>от которых они образова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456840" y="418680"/>
            <a:ext cx="7543800" cy="5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</a:rPr>
              <a:t>Правописание не с причастиями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435880" cy="5400720"/>
          </a:xfrm>
          <a:prstGeom prst="rect">
            <a:avLst/>
          </a:prstGeom>
          <a:noFill/>
          <a:ln w="9360">
            <a:solidFill>
              <a:srgbClr val="cc00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Если слово употребляется без 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1. Краткая или полная форм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краткая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пол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2. Есть ли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отивопоставление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                            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3. Есть ли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зависимое слов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                       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63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 flipH="1">
            <a:off x="1835280" y="2060640"/>
            <a:ext cx="938160" cy="21600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1" name=""/>
          <p:cNvSpPr/>
          <p:nvPr/>
        </p:nvSpPr>
        <p:spPr>
          <a:xfrm>
            <a:off x="2843280" y="2060640"/>
            <a:ext cx="1081080" cy="21600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2" name=""/>
          <p:cNvSpPr/>
          <p:nvPr/>
        </p:nvSpPr>
        <p:spPr>
          <a:xfrm>
            <a:off x="1332000" y="2565360"/>
            <a:ext cx="0" cy="35892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"/>
          <p:cNvSpPr txBox="1"/>
          <p:nvPr/>
        </p:nvSpPr>
        <p:spPr>
          <a:xfrm>
            <a:off x="250920" y="299736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ьн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24" name=""/>
          <p:cNvSpPr txBox="1"/>
          <p:nvPr/>
        </p:nvSpPr>
        <p:spPr>
          <a:xfrm>
            <a:off x="2124000" y="3860640"/>
            <a:ext cx="15112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ьн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059280" y="3429000"/>
            <a:ext cx="0" cy="35892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6" name=""/>
          <p:cNvSpPr/>
          <p:nvPr/>
        </p:nvSpPr>
        <p:spPr>
          <a:xfrm flipH="1">
            <a:off x="3276360" y="2997360"/>
            <a:ext cx="1150920" cy="21564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"/>
          <p:cNvSpPr/>
          <p:nvPr/>
        </p:nvSpPr>
        <p:spPr>
          <a:xfrm>
            <a:off x="4643280" y="2997360"/>
            <a:ext cx="1008360" cy="21564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"/>
          <p:cNvSpPr/>
          <p:nvPr/>
        </p:nvSpPr>
        <p:spPr>
          <a:xfrm>
            <a:off x="5435640" y="4292640"/>
            <a:ext cx="0" cy="35856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9" name=""/>
          <p:cNvSpPr txBox="1"/>
          <p:nvPr/>
        </p:nvSpPr>
        <p:spPr>
          <a:xfrm>
            <a:off x="4427640" y="4653000"/>
            <a:ext cx="151128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</a:t>
            </a: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дельн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812000" y="4292640"/>
            <a:ext cx="0" cy="36036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"/>
          <p:cNvSpPr txBox="1"/>
          <p:nvPr/>
        </p:nvSpPr>
        <p:spPr>
          <a:xfrm>
            <a:off x="7164360" y="4724280"/>
            <a:ext cx="11383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-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итно</a:t>
            </a:r>
            <a:endParaRPr b="0" lang="en-US" sz="1800" spc="1" strike="noStrike">
              <a:ln w="9360">
                <a:solidFill>
                  <a:srgbClr val="cc0099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2" name=""/>
          <p:cNvSpPr/>
          <p:nvPr/>
        </p:nvSpPr>
        <p:spPr>
          <a:xfrm flipH="1">
            <a:off x="5508720" y="3860640"/>
            <a:ext cx="861840" cy="21600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3" name=""/>
          <p:cNvSpPr/>
          <p:nvPr/>
        </p:nvSpPr>
        <p:spPr>
          <a:xfrm>
            <a:off x="6948360" y="3860640"/>
            <a:ext cx="792360" cy="216000"/>
          </a:xfrm>
          <a:prstGeom prst="line">
            <a:avLst/>
          </a:prstGeom>
          <a:ln w="28440">
            <a:solidFill>
              <a:srgbClr val="33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179280" y="3860640"/>
            <a:ext cx="1944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расска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е прочит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е просмотре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е раскры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"/>
          <p:cNvSpPr/>
          <p:nvPr/>
        </p:nvSpPr>
        <p:spPr>
          <a:xfrm>
            <a:off x="1979640" y="4724280"/>
            <a:ext cx="201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"/>
          <p:cNvSpPr/>
          <p:nvPr/>
        </p:nvSpPr>
        <p:spPr>
          <a:xfrm>
            <a:off x="2050920" y="4869000"/>
            <a:ext cx="280836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е прочитан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а просмотрен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рассказ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е опубликованный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а в рукопис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7" name=""/>
          <p:cNvSpPr/>
          <p:nvPr/>
        </p:nvSpPr>
        <p:spPr>
          <a:xfrm>
            <a:off x="4572000" y="5421240"/>
            <a:ext cx="237636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ещё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прочитанны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вовремя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опубликован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8" name=""/>
          <p:cNvSpPr/>
          <p:nvPr/>
        </p:nvSpPr>
        <p:spPr>
          <a:xfrm>
            <a:off x="6804000" y="5661000"/>
            <a:ext cx="216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непрочитан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расска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9" name=""/>
          <p:cNvSpPr/>
          <p:nvPr/>
        </p:nvSpPr>
        <p:spPr>
          <a:xfrm>
            <a:off x="250920" y="3716280"/>
            <a:ext cx="1800000" cy="165744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"/>
          <p:cNvSpPr/>
          <p:nvPr/>
        </p:nvSpPr>
        <p:spPr>
          <a:xfrm>
            <a:off x="2124000" y="4869000"/>
            <a:ext cx="2303640" cy="180000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"/>
          <p:cNvSpPr/>
          <p:nvPr/>
        </p:nvSpPr>
        <p:spPr>
          <a:xfrm>
            <a:off x="4643280" y="5516640"/>
            <a:ext cx="2160720" cy="134136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2" name=""/>
          <p:cNvSpPr/>
          <p:nvPr/>
        </p:nvSpPr>
        <p:spPr>
          <a:xfrm>
            <a:off x="6877080" y="5661000"/>
            <a:ext cx="1871640" cy="792360"/>
          </a:xfrm>
          <a:prstGeom prst="rect">
            <a:avLst/>
          </a:pr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3" name="">
            <a:hlinkClick r:id="" action="ppaction://hlinkshowjump?jump=previousslide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noFill/>
          <a:ln w="9360">
            <a:solidFill>
              <a:srgbClr val="33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Сложные прилагат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4249800" cy="5616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шутся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с дефис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если 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ы путём с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висимых слов (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вить союз </a:t>
            </a:r>
            <a:r>
              <a:rPr b="0" lang="ru-RU" sz="2000" spc="-1" strike="noStrike">
                <a:solidFill>
                  <a:srgbClr val="cc0000"/>
                </a:solidFill>
                <a:latin typeface="Arial"/>
              </a:rPr>
              <a:t>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выпукло – вогнут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шахматно – шаше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ованы от сущ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е пишутся с дефис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северо – запад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лма - атин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ают 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изжелта – крас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бледно – розов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99"/>
                </a:solidFill>
                <a:latin typeface="Arial"/>
              </a:rPr>
              <a:t>синевато - си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3"/>
          <p:cNvSpPr>
            <a:spLocks noGrp="1"/>
          </p:cNvSpPr>
          <p:nvPr>
            <p:ph/>
          </p:nvPr>
        </p:nvSpPr>
        <p:spPr>
          <a:xfrm>
            <a:off x="4648320" y="907920"/>
            <a:ext cx="4316400" cy="55454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ишутся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сли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если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зованы сли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восочетания в сло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вечнозелёный, долгоиграюща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глухонемой, белоснеж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первая часть таких слов – нареч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быстро, вечно, густо, высо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выше, гладко, глубоко, дор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коротко, легко, много, ма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мелко, ниже, остро, ред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сильно, трудно, тяжело, узк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чисто, широ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высокохудожеств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"/>
          <p:cNvSpPr/>
          <p:nvPr/>
        </p:nvSpPr>
        <p:spPr>
          <a:xfrm>
            <a:off x="8388360" y="5950080"/>
            <a:ext cx="755640" cy="90792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907920"/>
              <a:gd name="textAreaBottom" fmla="*/ 858960 h 907920"/>
            </a:gdLst>
            <a:ahLst/>
            <a:rect l="textAreaLeft" t="textAreaTop" r="textAreaRight" b="textAreaBottom"/>
            <a:pathLst>
              <a:path w="21600" h="25951">
                <a:moveTo>
                  <a:pt x="0" y="0"/>
                </a:moveTo>
                <a:lnTo>
                  <a:pt x="21600" y="0"/>
                </a:lnTo>
                <a:lnTo>
                  <a:pt x="21600" y="25951"/>
                </a:lnTo>
                <a:lnTo>
                  <a:pt x="0" y="25951"/>
                </a:lnTo>
                <a:close/>
              </a:path>
              <a:path fill="lightenLess" w="21600" h="259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51">
                <a:moveTo>
                  <a:pt x="21600" y="0"/>
                </a:moveTo>
                <a:lnTo>
                  <a:pt x="21600" y="25951"/>
                </a:lnTo>
                <a:lnTo>
                  <a:pt x="20200" y="24551"/>
                </a:lnTo>
                <a:lnTo>
                  <a:pt x="20200" y="1400"/>
                </a:lnTo>
                <a:close/>
              </a:path>
              <a:path fill="darkenLess" w="21600" h="25951">
                <a:moveTo>
                  <a:pt x="21600" y="25951"/>
                </a:moveTo>
                <a:lnTo>
                  <a:pt x="0" y="25951"/>
                </a:lnTo>
                <a:lnTo>
                  <a:pt x="1400" y="24551"/>
                </a:lnTo>
                <a:lnTo>
                  <a:pt x="20200" y="24551"/>
                </a:lnTo>
                <a:close/>
              </a:path>
              <a:path fill="lighten" w="21600" h="25951">
                <a:moveTo>
                  <a:pt x="0" y="259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51"/>
                </a:lnTo>
                <a:close/>
              </a:path>
              <a:path fill="darken" w="21600" h="25951">
                <a:moveTo>
                  <a:pt x="3794" y="9668"/>
                </a:moveTo>
                <a:lnTo>
                  <a:pt x="7301" y="9668"/>
                </a:lnTo>
                <a:lnTo>
                  <a:pt x="7301" y="15003"/>
                </a:lnTo>
                <a:cubicBezTo>
                  <a:pt x="7301" y="15926"/>
                  <a:pt x="8102" y="16657"/>
                  <a:pt x="9138" y="16657"/>
                </a:cubicBezTo>
                <a:lnTo>
                  <a:pt x="10800" y="16657"/>
                </a:lnTo>
                <a:cubicBezTo>
                  <a:pt x="11836" y="16657"/>
                  <a:pt x="12636" y="15926"/>
                  <a:pt x="12636" y="15003"/>
                </a:cubicBezTo>
                <a:lnTo>
                  <a:pt x="12636" y="9668"/>
                </a:lnTo>
                <a:lnTo>
                  <a:pt x="10800" y="9668"/>
                </a:lnTo>
                <a:lnTo>
                  <a:pt x="14308" y="6160"/>
                </a:lnTo>
                <a:lnTo>
                  <a:pt x="17981" y="9668"/>
                </a:lnTo>
                <a:lnTo>
                  <a:pt x="16144" y="9668"/>
                </a:lnTo>
                <a:lnTo>
                  <a:pt x="16144" y="15003"/>
                </a:lnTo>
                <a:cubicBezTo>
                  <a:pt x="16144" y="17771"/>
                  <a:pt x="13568" y="20330"/>
                  <a:pt x="10800" y="20330"/>
                </a:cubicBezTo>
                <a:lnTo>
                  <a:pt x="9138" y="20330"/>
                </a:lnTo>
                <a:cubicBezTo>
                  <a:pt x="6370" y="20330"/>
                  <a:pt x="3794" y="17771"/>
                  <a:pt x="3794" y="15003"/>
                </a:cubicBezTo>
                <a:close/>
              </a:path>
            </a:pathLst>
          </a:cu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2050920" y="6308640"/>
            <a:ext cx="5400720" cy="368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Не путай! Смотри сло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9" name="">
            <a:hlinkClick r:id="" action="ppaction://hlinkshowjump?jump=nextslide"/>
          </p:cNvPr>
          <p:cNvSpPr/>
          <p:nvPr/>
        </p:nvSpPr>
        <p:spPr>
          <a:xfrm>
            <a:off x="5796000" y="6308640"/>
            <a:ext cx="1440000" cy="360360"/>
          </a:xfrm>
          <a:custGeom>
            <a:avLst/>
            <a:gdLst>
              <a:gd name="textAreaLeft" fmla="*/ 23040 w 1440000"/>
              <a:gd name="textAreaRight" fmla="*/ 1416960 w 144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6249" h="21600">
                <a:moveTo>
                  <a:pt x="0" y="0"/>
                </a:moveTo>
                <a:lnTo>
                  <a:pt x="86249" y="0"/>
                </a:lnTo>
                <a:lnTo>
                  <a:pt x="86249" y="21600"/>
                </a:lnTo>
                <a:lnTo>
                  <a:pt x="0" y="21600"/>
                </a:lnTo>
                <a:close/>
              </a:path>
              <a:path fill="lightenLess" w="86249" h="21600">
                <a:moveTo>
                  <a:pt x="0" y="0"/>
                </a:moveTo>
                <a:lnTo>
                  <a:pt x="86249" y="0"/>
                </a:lnTo>
                <a:lnTo>
                  <a:pt x="84849" y="1400"/>
                </a:lnTo>
                <a:lnTo>
                  <a:pt x="1400" y="1400"/>
                </a:lnTo>
                <a:close/>
              </a:path>
              <a:path fill="darken" w="86249" h="21600">
                <a:moveTo>
                  <a:pt x="86249" y="0"/>
                </a:moveTo>
                <a:lnTo>
                  <a:pt x="86249" y="21600"/>
                </a:lnTo>
                <a:lnTo>
                  <a:pt x="84849" y="20200"/>
                </a:lnTo>
                <a:lnTo>
                  <a:pt x="84849" y="1400"/>
                </a:lnTo>
                <a:close/>
              </a:path>
              <a:path fill="darkenLess" w="86249" h="21600">
                <a:moveTo>
                  <a:pt x="86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49" y="20200"/>
                </a:lnTo>
                <a:close/>
              </a:path>
              <a:path fill="lighten" w="86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6249" h="21600">
                <a:moveTo>
                  <a:pt x="36118" y="3794"/>
                </a:moveTo>
                <a:lnTo>
                  <a:pt x="50131" y="10800"/>
                </a:lnTo>
                <a:lnTo>
                  <a:pt x="36118" y="17806"/>
                </a:ln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Не путай! Смотри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"/>
          <p:cNvSpPr/>
          <p:nvPr/>
        </p:nvSpPr>
        <p:spPr>
          <a:xfrm>
            <a:off x="1908000" y="2637000"/>
            <a:ext cx="511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entury Gothic"/>
              </a:rPr>
              <a:t>общественно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полез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entury Gothic"/>
              </a:rPr>
              <a:t>общественно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необходим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entury Gothic"/>
              </a:rPr>
              <a:t>резко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 отрицатель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entury Gothic"/>
              </a:rPr>
              <a:t>детски 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наивны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entury Gothic"/>
              </a:rPr>
              <a:t>абсолютно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  верные  расчё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>
            <a:off x="6443640" y="2781360"/>
            <a:ext cx="649440" cy="2519280"/>
          </a:xfrm>
          <a:custGeom>
            <a:avLst/>
            <a:gdLst>
              <a:gd name="textAreaLeft" fmla="*/ 0 w 649440"/>
              <a:gd name="textAreaRight" fmla="*/ 234360 w 64944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90"/>
                </a:lnTo>
                <a:cubicBezTo>
                  <a:pt x="10800" y="10190"/>
                  <a:pt x="16200" y="11090"/>
                  <a:pt x="21600" y="11090"/>
                </a:cubicBezTo>
                <a:cubicBezTo>
                  <a:pt x="16200" y="11090"/>
                  <a:pt x="10800" y="11990"/>
                  <a:pt x="10800" y="1289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 rot="10800000">
            <a:off x="1402920" y="2707920"/>
            <a:ext cx="647640" cy="2590920"/>
          </a:xfrm>
          <a:custGeom>
            <a:avLst/>
            <a:gdLst>
              <a:gd name="textAreaLeft" fmla="*/ 0 w 647640"/>
              <a:gd name="textAreaRight" fmla="*/ 234000 w 64764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290"/>
                </a:lnTo>
                <a:cubicBezTo>
                  <a:pt x="10800" y="10190"/>
                  <a:pt x="16200" y="11090"/>
                  <a:pt x="21600" y="11090"/>
                </a:cubicBezTo>
                <a:cubicBezTo>
                  <a:pt x="16200" y="11090"/>
                  <a:pt x="10800" y="11990"/>
                  <a:pt x="10800" y="1289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5" name=""/>
          <p:cNvSpPr txBox="1"/>
          <p:nvPr/>
        </p:nvSpPr>
        <p:spPr>
          <a:xfrm rot="5400000">
            <a:off x="-44280" y="3652920"/>
            <a:ext cx="2490480" cy="458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cc"/>
                </a:solidFill>
                <a:latin typeface="Arial"/>
              </a:rPr>
              <a:t>нареч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cc"/>
              </a:solidFill>
              <a:latin typeface="Arial"/>
              <a:ea typeface="Arial"/>
            </a:endParaRPr>
          </a:p>
        </p:txBody>
      </p:sp>
      <p:sp>
        <p:nvSpPr>
          <p:cNvPr id="2556" name=""/>
          <p:cNvSpPr txBox="1"/>
          <p:nvPr/>
        </p:nvSpPr>
        <p:spPr>
          <a:xfrm rot="5400000">
            <a:off x="5470920" y="3609360"/>
            <a:ext cx="4032360" cy="502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лагательны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557" name="">
            <a:hlinkClick r:id="" action="ppaction://hlinkshowjump?jump=previousslide"/>
          </p:cNvPr>
          <p:cNvSpPr/>
          <p:nvPr/>
        </p:nvSpPr>
        <p:spPr>
          <a:xfrm>
            <a:off x="8388360" y="6021360"/>
            <a:ext cx="755640" cy="83664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836640"/>
              <a:gd name="textAreaBottom" fmla="*/ 787680 h 836640"/>
            </a:gdLst>
            <a:ahLst/>
            <a:rect l="textAreaLeft" t="textAreaTop" r="textAreaRight" b="textAreaBottom"/>
            <a:pathLst>
              <a:path w="21600" h="23914">
                <a:moveTo>
                  <a:pt x="0" y="0"/>
                </a:moveTo>
                <a:lnTo>
                  <a:pt x="21600" y="0"/>
                </a:lnTo>
                <a:lnTo>
                  <a:pt x="21600" y="23914"/>
                </a:lnTo>
                <a:lnTo>
                  <a:pt x="0" y="23914"/>
                </a:lnTo>
                <a:close/>
              </a:path>
              <a:path fill="lightenLess" w="21600" h="239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14">
                <a:moveTo>
                  <a:pt x="21600" y="0"/>
                </a:moveTo>
                <a:lnTo>
                  <a:pt x="21600" y="23914"/>
                </a:lnTo>
                <a:lnTo>
                  <a:pt x="20200" y="22514"/>
                </a:lnTo>
                <a:lnTo>
                  <a:pt x="20200" y="1400"/>
                </a:lnTo>
                <a:close/>
              </a:path>
              <a:path fill="darkenLess" w="21600" h="23914">
                <a:moveTo>
                  <a:pt x="21600" y="23914"/>
                </a:moveTo>
                <a:lnTo>
                  <a:pt x="0" y="23914"/>
                </a:lnTo>
                <a:lnTo>
                  <a:pt x="1400" y="22514"/>
                </a:lnTo>
                <a:lnTo>
                  <a:pt x="20200" y="22514"/>
                </a:lnTo>
                <a:close/>
              </a:path>
              <a:path fill="lighten" w="21600" h="23914">
                <a:moveTo>
                  <a:pt x="0" y="239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14"/>
                </a:lnTo>
                <a:close/>
              </a:path>
              <a:path fill="darken" w="21600" h="23914">
                <a:moveTo>
                  <a:pt x="3794" y="8650"/>
                </a:moveTo>
                <a:lnTo>
                  <a:pt x="7301" y="8650"/>
                </a:lnTo>
                <a:lnTo>
                  <a:pt x="7301" y="13985"/>
                </a:lnTo>
                <a:cubicBezTo>
                  <a:pt x="7301" y="14908"/>
                  <a:pt x="8102" y="15639"/>
                  <a:pt x="9138" y="15639"/>
                </a:cubicBezTo>
                <a:lnTo>
                  <a:pt x="10800" y="15639"/>
                </a:lnTo>
                <a:cubicBezTo>
                  <a:pt x="11836" y="15639"/>
                  <a:pt x="12636" y="14908"/>
                  <a:pt x="12636" y="13985"/>
                </a:cubicBezTo>
                <a:lnTo>
                  <a:pt x="12636" y="8650"/>
                </a:lnTo>
                <a:lnTo>
                  <a:pt x="10800" y="8650"/>
                </a:lnTo>
                <a:lnTo>
                  <a:pt x="14308" y="5142"/>
                </a:lnTo>
                <a:lnTo>
                  <a:pt x="17981" y="8650"/>
                </a:lnTo>
                <a:lnTo>
                  <a:pt x="16144" y="8650"/>
                </a:lnTo>
                <a:lnTo>
                  <a:pt x="16144" y="13985"/>
                </a:lnTo>
                <a:cubicBezTo>
                  <a:pt x="16144" y="16753"/>
                  <a:pt x="13568" y="19312"/>
                  <a:pt x="10800" y="19312"/>
                </a:cubicBezTo>
                <a:lnTo>
                  <a:pt x="9138" y="19312"/>
                </a:lnTo>
                <a:cubicBezTo>
                  <a:pt x="6370" y="19312"/>
                  <a:pt x="3794" y="16753"/>
                  <a:pt x="3794" y="13985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d"/>
  </p:transition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0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3" dur="1000" fill="hold"/>
                                        <p:tgtEl>
                                          <p:spTgt spid="2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2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5" dur="1000"/>
                                        <p:tgtEl>
                                          <p:spTgt spid="2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9" dur="2000" fill="hold"/>
                                        <p:tgtEl>
                                          <p:spTgt spid="2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2000" fill="hold"/>
                                        <p:tgtEl>
                                          <p:spTgt spid="2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1" dur="2000"/>
                                        <p:tgtEl>
                                          <p:spTgt spid="2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ff"/>
                </a:solidFill>
                <a:latin typeface="Arial"/>
              </a:rPr>
              <a:t>Правописание числительны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онце                               в середине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итель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стнадцат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семнадцат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шест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ся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ст</a:t>
            </a:r>
            <a:r>
              <a:rPr b="0" lang="en-US" sz="3200" spc="-1" strike="noStrike">
                <a:solidFill>
                  <a:srgbClr val="9933ff"/>
                </a:solidFill>
                <a:latin typeface="Arial"/>
              </a:rPr>
              <a:t>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 txBox="1"/>
          <p:nvPr/>
        </p:nvSpPr>
        <p:spPr>
          <a:xfrm>
            <a:off x="3851280" y="1773360"/>
            <a:ext cx="172728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ff"/>
                  </a:solidFill>
                  <a:miter/>
                </a:ln>
                <a:solidFill>
                  <a:srgbClr val="cccc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ь</a:t>
            </a:r>
            <a:endParaRPr b="0" lang="en-US" sz="1800" spc="1" strike="noStrike">
              <a:ln w="9360">
                <a:solidFill>
                  <a:srgbClr val="9933ff"/>
                </a:solidFill>
                <a:miter/>
              </a:ln>
              <a:solidFill>
                <a:srgbClr val="cccc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1" name=""/>
          <p:cNvSpPr/>
          <p:nvPr/>
        </p:nvSpPr>
        <p:spPr>
          <a:xfrm>
            <a:off x="5651640" y="1773360"/>
            <a:ext cx="288720" cy="287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2" name=""/>
          <p:cNvSpPr txBox="1"/>
          <p:nvPr/>
        </p:nvSpPr>
        <p:spPr>
          <a:xfrm>
            <a:off x="539640" y="2997360"/>
            <a:ext cx="237672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-20, 30</a:t>
            </a:r>
            <a:endParaRPr b="0" lang="en-US" sz="1800" spc="1" strike="noStrike">
              <a:ln w="0">
                <a:noFill/>
              </a:ln>
              <a:solidFill>
                <a:srgbClr val="99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3" name=""/>
          <p:cNvSpPr txBox="1"/>
          <p:nvPr/>
        </p:nvSpPr>
        <p:spPr>
          <a:xfrm>
            <a:off x="6372360" y="2421000"/>
            <a:ext cx="180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0-80,</a:t>
            </a:r>
            <a:endParaRPr b="0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4" name=""/>
          <p:cNvSpPr txBox="1"/>
          <p:nvPr/>
        </p:nvSpPr>
        <p:spPr>
          <a:xfrm>
            <a:off x="6372360" y="3500280"/>
            <a:ext cx="2016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00-900</a:t>
            </a:r>
            <a:endParaRPr b="0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9900cc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5" name=""/>
          <p:cNvSpPr/>
          <p:nvPr/>
        </p:nvSpPr>
        <p:spPr>
          <a:xfrm>
            <a:off x="2556000" y="5805360"/>
            <a:ext cx="597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девяносто, двести, триста, четырест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одиннадцать, миллион, миллиар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6" name=""/>
          <p:cNvSpPr txBox="1"/>
          <p:nvPr/>
        </p:nvSpPr>
        <p:spPr>
          <a:xfrm>
            <a:off x="684360" y="5373720"/>
            <a:ext cx="1761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помн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7" name="">
            <a:hlinkClick r:id="" action="ppaction://hlinkshowjump?jump=previousslide"/>
          </p:cNvPr>
          <p:cNvSpPr/>
          <p:nvPr/>
        </p:nvSpPr>
        <p:spPr>
          <a:xfrm>
            <a:off x="8459640" y="5805360"/>
            <a:ext cx="684360" cy="105264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1052640"/>
              <a:gd name="textAreaBottom" fmla="*/ 1008360 h 1052640"/>
            </a:gdLst>
            <a:ahLst/>
            <a:rect l="textAreaLeft" t="textAreaTop" r="textAreaRight" b="textAreaBottom"/>
            <a:pathLst>
              <a:path w="21600" h="33218">
                <a:moveTo>
                  <a:pt x="0" y="0"/>
                </a:moveTo>
                <a:lnTo>
                  <a:pt x="21600" y="0"/>
                </a:lnTo>
                <a:lnTo>
                  <a:pt x="21600" y="33218"/>
                </a:lnTo>
                <a:lnTo>
                  <a:pt x="0" y="33218"/>
                </a:lnTo>
                <a:close/>
              </a:path>
              <a:path fill="lightenLess" w="21600" h="332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218">
                <a:moveTo>
                  <a:pt x="21600" y="0"/>
                </a:moveTo>
                <a:lnTo>
                  <a:pt x="21600" y="33218"/>
                </a:lnTo>
                <a:lnTo>
                  <a:pt x="20200" y="31818"/>
                </a:lnTo>
                <a:lnTo>
                  <a:pt x="20200" y="1400"/>
                </a:lnTo>
                <a:close/>
              </a:path>
              <a:path fill="darkenLess" w="21600" h="33218">
                <a:moveTo>
                  <a:pt x="21600" y="33218"/>
                </a:moveTo>
                <a:lnTo>
                  <a:pt x="0" y="33218"/>
                </a:lnTo>
                <a:lnTo>
                  <a:pt x="1400" y="31818"/>
                </a:lnTo>
                <a:lnTo>
                  <a:pt x="20200" y="31818"/>
                </a:lnTo>
                <a:close/>
              </a:path>
              <a:path fill="lighten" w="21600" h="33218">
                <a:moveTo>
                  <a:pt x="0" y="33218"/>
                </a:moveTo>
                <a:lnTo>
                  <a:pt x="0" y="0"/>
                </a:lnTo>
                <a:lnTo>
                  <a:pt x="1400" y="1400"/>
                </a:lnTo>
                <a:lnTo>
                  <a:pt x="1400" y="31818"/>
                </a:lnTo>
                <a:close/>
              </a:path>
              <a:path fill="darken" w="21600" h="33218">
                <a:moveTo>
                  <a:pt x="3794" y="13301"/>
                </a:moveTo>
                <a:lnTo>
                  <a:pt x="7301" y="13301"/>
                </a:lnTo>
                <a:lnTo>
                  <a:pt x="7301" y="18637"/>
                </a:lnTo>
                <a:cubicBezTo>
                  <a:pt x="7301" y="19559"/>
                  <a:pt x="8102" y="20290"/>
                  <a:pt x="9138" y="20290"/>
                </a:cubicBezTo>
                <a:lnTo>
                  <a:pt x="10800" y="20290"/>
                </a:lnTo>
                <a:cubicBezTo>
                  <a:pt x="11836" y="20290"/>
                  <a:pt x="12636" y="19559"/>
                  <a:pt x="12636" y="18637"/>
                </a:cubicBezTo>
                <a:lnTo>
                  <a:pt x="12636" y="13301"/>
                </a:lnTo>
                <a:lnTo>
                  <a:pt x="10800" y="13301"/>
                </a:lnTo>
                <a:lnTo>
                  <a:pt x="14308" y="9794"/>
                </a:lnTo>
                <a:lnTo>
                  <a:pt x="17981" y="13301"/>
                </a:lnTo>
                <a:lnTo>
                  <a:pt x="16144" y="13301"/>
                </a:lnTo>
                <a:lnTo>
                  <a:pt x="16144" y="18637"/>
                </a:lnTo>
                <a:cubicBezTo>
                  <a:pt x="16144" y="21405"/>
                  <a:pt x="13568" y="23963"/>
                  <a:pt x="10800" y="23963"/>
                </a:cubicBezTo>
                <a:lnTo>
                  <a:pt x="9138" y="23963"/>
                </a:lnTo>
                <a:cubicBezTo>
                  <a:pt x="6370" y="23963"/>
                  <a:pt x="3794" y="21405"/>
                  <a:pt x="3794" y="18637"/>
                </a:cubicBezTo>
                <a:close/>
              </a:path>
            </a:pathLst>
          </a:cu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  <p:timing>
    <p:tnLst>
      <p:par>
        <p:cTn id="1802" dur="indefinite" restart="never" nodeType="tmRoot">
          <p:childTnLst>
            <p:seq>
              <p:cTn id="1803" dur="indefinite" nodeType="mainSeq">
                <p:childTnLst>
                  <p:par>
                    <p:cTn id="1804" fill="hold">
                      <p:stCondLst>
                        <p:cond delay="0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7" dur="20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08" dur="1000" autoRev="1" fill="hold"/>
                                        <p:tgtEl>
                                          <p:spTgt spid="25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5" fill="hold">
                            <p:stCondLst>
                              <p:cond delay="500"/>
                            </p:stCondLst>
                            <p:childTnLst>
                              <p:par>
                                <p:cTn id="18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0" dur="1000"/>
                                        <p:tgtEl>
                                          <p:spTgt spid="2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8" name=""/>
          <p:cNvSpPr/>
          <p:nvPr/>
        </p:nvSpPr>
        <p:spPr>
          <a:xfrm>
            <a:off x="7093080" y="1268280"/>
            <a:ext cx="2050920" cy="222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скольки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скольким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сколькими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о скольких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лонение числи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личественные числительные отвечают на вопрос </a:t>
            </a:r>
            <a:r>
              <a:rPr b="0" lang="en-US" sz="2000" spc="-1" strike="noStrike" u="sng">
                <a:solidFill>
                  <a:srgbClr val="9900cc"/>
                </a:solidFill>
                <a:uFillTx/>
                <a:latin typeface="Arial"/>
              </a:rPr>
              <a:t>СКОЛЬК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лительные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два (две), три, четы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бые формы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вух, трёх, четырёх; двум, трё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четырём; два (двух), три (трёх), четы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четырёх); двумя, тремя, четырьмя; о двух, о трёх, о четырё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лительные от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пя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двадц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тридцат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клоняются как существительное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кос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скло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лительные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сорок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девяносто, 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склонении образуют две формы: в им. и вин. п.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рок, девяносто, сто;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 в остальных падежах –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рока, девяноста, 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склонении сложных количественных числительных от 50 и далее изменяется каждая часть слова, хотя пишутся они как одно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 flipH="1">
            <a:off x="7596360" y="1125360"/>
            <a:ext cx="7128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2" name=""/>
          <p:cNvSpPr/>
          <p:nvPr/>
        </p:nvSpPr>
        <p:spPr>
          <a:xfrm flipH="1">
            <a:off x="7596360" y="1628640"/>
            <a:ext cx="7128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 flipH="1">
            <a:off x="7596360" y="2060640"/>
            <a:ext cx="7128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4" name=""/>
          <p:cNvSpPr/>
          <p:nvPr/>
        </p:nvSpPr>
        <p:spPr>
          <a:xfrm flipH="1">
            <a:off x="7596360" y="2565360"/>
            <a:ext cx="7128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5" name=""/>
          <p:cNvSpPr/>
          <p:nvPr/>
        </p:nvSpPr>
        <p:spPr>
          <a:xfrm flipH="1">
            <a:off x="7884720" y="2997360"/>
            <a:ext cx="71640" cy="215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1844640"/>
            <a:ext cx="68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1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до 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19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род., дат. и предл. падежах   -</a:t>
            </a:r>
            <a:r>
              <a:rPr b="0" lang="ru-RU" sz="2000" spc="-1" strike="noStrike">
                <a:solidFill>
                  <a:srgbClr val="9900cc"/>
                </a:solidFill>
                <a:latin typeface="Verdana"/>
              </a:rPr>
              <a:t>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7" name=""/>
          <p:cNvSpPr/>
          <p:nvPr/>
        </p:nvSpPr>
        <p:spPr>
          <a:xfrm>
            <a:off x="6372360" y="1844640"/>
            <a:ext cx="360360" cy="36036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7956720" y="404640"/>
            <a:ext cx="1008000" cy="649440"/>
          </a:xfrm>
          <a:custGeom>
            <a:avLst/>
            <a:gdLst>
              <a:gd name="textAreaLeft" fmla="*/ 41760 w 1008000"/>
              <a:gd name="textAreaRight" fmla="*/ 966240 w 1008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33519" h="21600">
                <a:moveTo>
                  <a:pt x="0" y="0"/>
                </a:moveTo>
                <a:lnTo>
                  <a:pt x="33519" y="0"/>
                </a:lnTo>
                <a:lnTo>
                  <a:pt x="33519" y="21600"/>
                </a:lnTo>
                <a:lnTo>
                  <a:pt x="0" y="21600"/>
                </a:lnTo>
                <a:close/>
              </a:path>
              <a:path fill="lightenLess" w="33519" h="21600">
                <a:moveTo>
                  <a:pt x="0" y="0"/>
                </a:moveTo>
                <a:lnTo>
                  <a:pt x="33519" y="0"/>
                </a:lnTo>
                <a:lnTo>
                  <a:pt x="32119" y="1400"/>
                </a:lnTo>
                <a:lnTo>
                  <a:pt x="1400" y="1400"/>
                </a:lnTo>
                <a:close/>
              </a:path>
              <a:path fill="darken" w="33519" h="21600">
                <a:moveTo>
                  <a:pt x="33519" y="0"/>
                </a:moveTo>
                <a:lnTo>
                  <a:pt x="33519" y="21600"/>
                </a:lnTo>
                <a:lnTo>
                  <a:pt x="32119" y="20200"/>
                </a:lnTo>
                <a:lnTo>
                  <a:pt x="32119" y="1400"/>
                </a:lnTo>
                <a:close/>
              </a:path>
              <a:path fill="darkenLess" w="33519" h="21600">
                <a:moveTo>
                  <a:pt x="33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19" y="20200"/>
                </a:lnTo>
                <a:close/>
              </a:path>
              <a:path fill="lighten" w="33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19" h="21600">
                <a:moveTo>
                  <a:pt x="167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3519" h="21600">
                <a:moveTo>
                  <a:pt x="167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3519" h="21600">
                <a:moveTo>
                  <a:pt x="14183" y="8224"/>
                </a:moveTo>
                <a:lnTo>
                  <a:pt x="18048" y="8224"/>
                </a:lnTo>
                <a:lnTo>
                  <a:pt x="18048" y="15221"/>
                </a:lnTo>
                <a:lnTo>
                  <a:pt x="19336" y="15221"/>
                </a:lnTo>
                <a:lnTo>
                  <a:pt x="19336" y="16144"/>
                </a:lnTo>
                <a:lnTo>
                  <a:pt x="14183" y="16144"/>
                </a:lnTo>
                <a:lnTo>
                  <a:pt x="14183" y="15221"/>
                </a:lnTo>
                <a:lnTo>
                  <a:pt x="15471" y="15221"/>
                </a:lnTo>
                <a:lnTo>
                  <a:pt x="15471" y="9129"/>
                </a:lnTo>
                <a:lnTo>
                  <a:pt x="14183" y="9129"/>
                </a:lnTo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9" name=""/>
          <p:cNvSpPr/>
          <p:nvPr/>
        </p:nvSpPr>
        <p:spPr>
          <a:xfrm>
            <a:off x="2627280" y="6308640"/>
            <a:ext cx="1297080" cy="289080"/>
          </a:xfrm>
          <a:custGeom>
            <a:avLst/>
            <a:gdLst>
              <a:gd name="textAreaLeft" fmla="*/ 18720 w 1297080"/>
              <a:gd name="textAreaRight" fmla="*/ 1278360 w 12970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96824" h="21600">
                <a:moveTo>
                  <a:pt x="0" y="0"/>
                </a:moveTo>
                <a:lnTo>
                  <a:pt x="96824" y="0"/>
                </a:lnTo>
                <a:lnTo>
                  <a:pt x="96824" y="21600"/>
                </a:lnTo>
                <a:lnTo>
                  <a:pt x="0" y="21600"/>
                </a:lnTo>
                <a:close/>
              </a:path>
              <a:path fill="lightenLess" w="96824" h="21600">
                <a:moveTo>
                  <a:pt x="0" y="0"/>
                </a:moveTo>
                <a:lnTo>
                  <a:pt x="96824" y="0"/>
                </a:lnTo>
                <a:lnTo>
                  <a:pt x="95424" y="1400"/>
                </a:lnTo>
                <a:lnTo>
                  <a:pt x="1400" y="1400"/>
                </a:lnTo>
                <a:close/>
              </a:path>
              <a:path fill="darken" w="96824" h="21600">
                <a:moveTo>
                  <a:pt x="96824" y="0"/>
                </a:moveTo>
                <a:lnTo>
                  <a:pt x="96824" y="21600"/>
                </a:lnTo>
                <a:lnTo>
                  <a:pt x="95424" y="20200"/>
                </a:lnTo>
                <a:lnTo>
                  <a:pt x="95424" y="1400"/>
                </a:lnTo>
                <a:close/>
              </a:path>
              <a:path fill="darkenLess" w="96824" h="21600">
                <a:moveTo>
                  <a:pt x="968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424" y="20200"/>
                </a:lnTo>
                <a:close/>
              </a:path>
              <a:path fill="lighten" w="968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6824" h="21600">
                <a:moveTo>
                  <a:pt x="41405" y="3794"/>
                </a:moveTo>
                <a:lnTo>
                  <a:pt x="55418" y="10800"/>
                </a:lnTo>
                <a:lnTo>
                  <a:pt x="41405" y="17806"/>
                </a:lnTo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0" name=""/>
          <p:cNvSpPr/>
          <p:nvPr/>
        </p:nvSpPr>
        <p:spPr>
          <a:xfrm>
            <a:off x="8207280" y="6210360"/>
            <a:ext cx="936720" cy="647640"/>
          </a:xfrm>
          <a:custGeom>
            <a:avLst/>
            <a:gdLst>
              <a:gd name="textAreaLeft" fmla="*/ 41760 w 936720"/>
              <a:gd name="textAreaRight" fmla="*/ 894960 w 936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1236" h="21600">
                <a:moveTo>
                  <a:pt x="0" y="0"/>
                </a:moveTo>
                <a:lnTo>
                  <a:pt x="31236" y="0"/>
                </a:lnTo>
                <a:lnTo>
                  <a:pt x="31236" y="21600"/>
                </a:lnTo>
                <a:lnTo>
                  <a:pt x="0" y="21600"/>
                </a:lnTo>
                <a:close/>
              </a:path>
              <a:path fill="lightenLess" w="31236" h="21600">
                <a:moveTo>
                  <a:pt x="0" y="0"/>
                </a:moveTo>
                <a:lnTo>
                  <a:pt x="31236" y="0"/>
                </a:lnTo>
                <a:lnTo>
                  <a:pt x="29836" y="1400"/>
                </a:lnTo>
                <a:lnTo>
                  <a:pt x="1400" y="1400"/>
                </a:lnTo>
                <a:close/>
              </a:path>
              <a:path fill="darken" w="31236" h="21600">
                <a:moveTo>
                  <a:pt x="31236" y="0"/>
                </a:moveTo>
                <a:lnTo>
                  <a:pt x="31236" y="21600"/>
                </a:lnTo>
                <a:lnTo>
                  <a:pt x="29836" y="20200"/>
                </a:lnTo>
                <a:lnTo>
                  <a:pt x="29836" y="1400"/>
                </a:lnTo>
                <a:close/>
              </a:path>
              <a:path fill="darkenLess" w="31236" h="21600">
                <a:moveTo>
                  <a:pt x="312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36" y="20200"/>
                </a:lnTo>
                <a:close/>
              </a:path>
              <a:path fill="lighten" w="312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36" h="21600">
                <a:moveTo>
                  <a:pt x="8612" y="7493"/>
                </a:moveTo>
                <a:lnTo>
                  <a:pt x="12119" y="7493"/>
                </a:lnTo>
                <a:lnTo>
                  <a:pt x="12119" y="12828"/>
                </a:lnTo>
                <a:cubicBezTo>
                  <a:pt x="12119" y="13751"/>
                  <a:pt x="12920" y="14482"/>
                  <a:pt x="13956" y="14482"/>
                </a:cubicBezTo>
                <a:lnTo>
                  <a:pt x="15618" y="14482"/>
                </a:lnTo>
                <a:cubicBezTo>
                  <a:pt x="16654" y="14482"/>
                  <a:pt x="17454" y="13751"/>
                  <a:pt x="17454" y="12828"/>
                </a:cubicBezTo>
                <a:lnTo>
                  <a:pt x="17454" y="7493"/>
                </a:lnTo>
                <a:lnTo>
                  <a:pt x="15618" y="7493"/>
                </a:lnTo>
                <a:lnTo>
                  <a:pt x="19126" y="3985"/>
                </a:lnTo>
                <a:lnTo>
                  <a:pt x="22799" y="7493"/>
                </a:lnTo>
                <a:lnTo>
                  <a:pt x="20962" y="7493"/>
                </a:lnTo>
                <a:lnTo>
                  <a:pt x="20962" y="12828"/>
                </a:lnTo>
                <a:cubicBezTo>
                  <a:pt x="20962" y="15596"/>
                  <a:pt x="18386" y="18155"/>
                  <a:pt x="15618" y="18155"/>
                </a:cubicBezTo>
                <a:lnTo>
                  <a:pt x="13956" y="18155"/>
                </a:lnTo>
                <a:cubicBezTo>
                  <a:pt x="11188" y="18155"/>
                  <a:pt x="8612" y="15596"/>
                  <a:pt x="8612" y="12828"/>
                </a:cubicBezTo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ряды числитель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"/>
          <p:cNvSpPr/>
          <p:nvPr/>
        </p:nvSpPr>
        <p:spPr>
          <a:xfrm>
            <a:off x="4643280" y="3500280"/>
            <a:ext cx="450072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Собиратель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означают количество предметов как одно цел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Двое, трое, четверо, оба (обе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потребляются с сущ.  1).  муж. р.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четверо учеников, трое друз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2). обозначающими детёнышей: 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семеро козлят, трое котя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 3). Имеющими только форму мн. ч. или обозначающими парные предметы: </a:t>
            </a:r>
            <a:r>
              <a:rPr b="1" lang="en-US" sz="1600" spc="-1" strike="noStrike">
                <a:solidFill>
                  <a:srgbClr val="9900cc"/>
                </a:solidFill>
                <a:latin typeface="Arial"/>
              </a:rPr>
              <a:t>трое ножниц, двое брюк, двое перчат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5076720" y="1052640"/>
            <a:ext cx="3851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орядков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зывают порядковый номер при счёте: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Перв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ом,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двадцат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том,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тысяча девятьсот девяносто трет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1125360"/>
            <a:ext cx="518472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Количеств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значают количество предметов или отвлечённое чи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Дв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а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, пя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традей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, тр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рёзы,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двадцать один, ст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5" name=""/>
          <p:cNvSpPr/>
          <p:nvPr/>
        </p:nvSpPr>
        <p:spPr>
          <a:xfrm>
            <a:off x="0" y="1125360"/>
            <a:ext cx="4968720" cy="172908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5076720" y="1125360"/>
            <a:ext cx="3600720" cy="194472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>
            <a:off x="4572000" y="3573360"/>
            <a:ext cx="4392720" cy="295128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8" name="">
            <a:hlinkClick r:id="" action="ppaction://hlinkshowjump?jump=previousslide"/>
          </p:cNvPr>
          <p:cNvSpPr/>
          <p:nvPr/>
        </p:nvSpPr>
        <p:spPr>
          <a:xfrm>
            <a:off x="8172360" y="5950080"/>
            <a:ext cx="971640" cy="907920"/>
          </a:xfrm>
          <a:custGeom>
            <a:avLst/>
            <a:gdLst>
              <a:gd name="textAreaLeft" fmla="*/ 58680 w 971640"/>
              <a:gd name="textAreaRight" fmla="*/ 912960 w 97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4551" y="7493"/>
                </a:moveTo>
                <a:lnTo>
                  <a:pt x="8059" y="7493"/>
                </a:lnTo>
                <a:lnTo>
                  <a:pt x="8059" y="12828"/>
                </a:lnTo>
                <a:cubicBezTo>
                  <a:pt x="8059" y="13751"/>
                  <a:pt x="8860" y="14482"/>
                  <a:pt x="9895" y="14482"/>
                </a:cubicBezTo>
                <a:lnTo>
                  <a:pt x="11558" y="14482"/>
                </a:lnTo>
                <a:cubicBezTo>
                  <a:pt x="12593" y="14482"/>
                  <a:pt x="13394" y="13751"/>
                  <a:pt x="13394" y="12828"/>
                </a:cubicBezTo>
                <a:lnTo>
                  <a:pt x="13394" y="7493"/>
                </a:lnTo>
                <a:lnTo>
                  <a:pt x="11558" y="7493"/>
                </a:lnTo>
                <a:lnTo>
                  <a:pt x="15065" y="3985"/>
                </a:lnTo>
                <a:lnTo>
                  <a:pt x="18738" y="7493"/>
                </a:lnTo>
                <a:lnTo>
                  <a:pt x="16902" y="7493"/>
                </a:lnTo>
                <a:lnTo>
                  <a:pt x="16902" y="12828"/>
                </a:lnTo>
                <a:cubicBezTo>
                  <a:pt x="16902" y="15596"/>
                  <a:pt x="14325" y="18155"/>
                  <a:pt x="11558" y="18155"/>
                </a:cubicBezTo>
                <a:lnTo>
                  <a:pt x="9895" y="18155"/>
                </a:lnTo>
                <a:cubicBezTo>
                  <a:pt x="7127" y="18155"/>
                  <a:pt x="4551" y="15596"/>
                  <a:pt x="4551" y="12828"/>
                </a:cubicBezTo>
                <a:close/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179280" y="3573360"/>
            <a:ext cx="172872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Цел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Verdana"/>
              </a:rPr>
              <a:t>т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Verdana"/>
              </a:rPr>
              <a:t>сор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Verdana"/>
              </a:rPr>
              <a:t>одиннадц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cc"/>
                </a:solidFill>
                <a:latin typeface="Verdana"/>
              </a:rPr>
              <a:t>пятнадц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>
            <a:off x="179280" y="3645000"/>
            <a:ext cx="1656000" cy="208764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2050920" y="3573360"/>
            <a:ext cx="2521080" cy="39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00"/>
                </a:solidFill>
                <a:latin typeface="Verdana"/>
              </a:rPr>
              <a:t>Дробны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количественн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порядков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Verdana"/>
              </a:rPr>
              <a:t>Две третьих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Verdana"/>
              </a:rPr>
              <a:t>восемь десятых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Сущ.           Сущ.        кол. числ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Verdana"/>
              </a:rPr>
              <a:t>Ноль целых тр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порядк. числ.</a:t>
            </a:r>
            <a:r>
              <a:rPr b="1" lang="ru-RU" sz="1600" spc="-1" strike="noStrike">
                <a:solidFill>
                  <a:srgbClr val="9900cc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cc"/>
                </a:solidFill>
                <a:latin typeface="Verdana"/>
              </a:rPr>
              <a:t>                  </a:t>
            </a:r>
            <a:r>
              <a:rPr b="1" lang="ru-RU" sz="1600" spc="-1" strike="noStrike">
                <a:solidFill>
                  <a:srgbClr val="9900cc"/>
                </a:solidFill>
                <a:latin typeface="Verdana"/>
              </a:rPr>
              <a:t>десят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2124000" y="4365720"/>
            <a:ext cx="194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1979640" y="3573360"/>
            <a:ext cx="2448000" cy="309564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4" name=""/>
          <p:cNvSpPr/>
          <p:nvPr/>
        </p:nvSpPr>
        <p:spPr>
          <a:xfrm>
            <a:off x="3059280" y="2852640"/>
            <a:ext cx="0" cy="57636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971640" y="2852640"/>
            <a:ext cx="0" cy="64764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6" name=""/>
          <p:cNvSpPr/>
          <p:nvPr/>
        </p:nvSpPr>
        <p:spPr>
          <a:xfrm>
            <a:off x="4788000" y="2852640"/>
            <a:ext cx="0" cy="64764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7" name=""/>
          <p:cNvSpPr/>
          <p:nvPr/>
        </p:nvSpPr>
        <p:spPr>
          <a:xfrm>
            <a:off x="1116000" y="6093000"/>
            <a:ext cx="1979640" cy="576000"/>
          </a:xfrm>
          <a:prstGeom prst="rect">
            <a:avLst/>
          </a:prstGeom>
          <a:noFill/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1042920" y="6021360"/>
            <a:ext cx="2305080" cy="63144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полтора (и.в.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Verdana"/>
              </a:rPr>
              <a:t>полутора(Р. Д. Т. П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Слышатся безударные гласные в корне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182600" y="141300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оверь ударение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змени форму слова (п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уса – п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ус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дбери родственное слово (сп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шить – сп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шк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бери сложносокращённое слово (к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абль – линк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проверяем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спомни происхождение слова, найди дальнего родственника (сост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ться – т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жба; бр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шюра – бр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шь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мотри словар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ередующиеся.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Нельзя проверить ударени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авописание зависит от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Буквы в кор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Буквы после корн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Ударен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ahoma"/>
                <a:hlinkClick r:id="rId4" action="ppaction://hlinksldjump"/>
              </a:rPr>
              <a:t>смыс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3" name="">
            <a:hlinkClick r:id="rId5" action="ppaction://hlinksldjump"/>
          </p:cNvPr>
          <p:cNvSpPr/>
          <p:nvPr/>
        </p:nvSpPr>
        <p:spPr>
          <a:xfrm>
            <a:off x="7812000" y="5950080"/>
            <a:ext cx="1008000" cy="907920"/>
          </a:xfrm>
          <a:custGeom>
            <a:avLst/>
            <a:gdLst>
              <a:gd name="textAreaLeft" fmla="*/ 58680 w 1008000"/>
              <a:gd name="textAreaRight" fmla="*/ 949320 w 100800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980" h="21600">
                <a:moveTo>
                  <a:pt x="0" y="0"/>
                </a:moveTo>
                <a:lnTo>
                  <a:pt x="23980" y="0"/>
                </a:lnTo>
                <a:lnTo>
                  <a:pt x="23980" y="21600"/>
                </a:lnTo>
                <a:lnTo>
                  <a:pt x="0" y="21600"/>
                </a:lnTo>
                <a:close/>
              </a:path>
              <a:path fill="lightenLess" w="23980" h="21600">
                <a:moveTo>
                  <a:pt x="0" y="0"/>
                </a:moveTo>
                <a:lnTo>
                  <a:pt x="23980" y="0"/>
                </a:lnTo>
                <a:lnTo>
                  <a:pt x="22580" y="1400"/>
                </a:lnTo>
                <a:lnTo>
                  <a:pt x="1400" y="1400"/>
                </a:lnTo>
                <a:close/>
              </a:path>
              <a:path fill="darken" w="23980" h="21600">
                <a:moveTo>
                  <a:pt x="23980" y="0"/>
                </a:moveTo>
                <a:lnTo>
                  <a:pt x="23980" y="21600"/>
                </a:lnTo>
                <a:lnTo>
                  <a:pt x="22580" y="20200"/>
                </a:lnTo>
                <a:lnTo>
                  <a:pt x="22580" y="1400"/>
                </a:lnTo>
                <a:close/>
              </a:path>
              <a:path fill="darkenLess" w="23980" h="21600">
                <a:moveTo>
                  <a:pt x="239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80" y="20200"/>
                </a:lnTo>
                <a:close/>
              </a:path>
              <a:path fill="lighten" w="239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80" h="21600">
                <a:moveTo>
                  <a:pt x="4984" y="7493"/>
                </a:moveTo>
                <a:lnTo>
                  <a:pt x="8491" y="7493"/>
                </a:lnTo>
                <a:lnTo>
                  <a:pt x="8491" y="12828"/>
                </a:lnTo>
                <a:cubicBezTo>
                  <a:pt x="8491" y="13751"/>
                  <a:pt x="9292" y="14482"/>
                  <a:pt x="10328" y="14482"/>
                </a:cubicBezTo>
                <a:lnTo>
                  <a:pt x="11990" y="14482"/>
                </a:lnTo>
                <a:cubicBezTo>
                  <a:pt x="13026" y="14482"/>
                  <a:pt x="13826" y="13751"/>
                  <a:pt x="13826" y="12828"/>
                </a:cubicBezTo>
                <a:lnTo>
                  <a:pt x="13826" y="7493"/>
                </a:lnTo>
                <a:lnTo>
                  <a:pt x="11990" y="7493"/>
                </a:lnTo>
                <a:lnTo>
                  <a:pt x="15498" y="3985"/>
                </a:lnTo>
                <a:lnTo>
                  <a:pt x="19171" y="7493"/>
                </a:lnTo>
                <a:lnTo>
                  <a:pt x="17334" y="7493"/>
                </a:lnTo>
                <a:lnTo>
                  <a:pt x="17334" y="12828"/>
                </a:lnTo>
                <a:cubicBezTo>
                  <a:pt x="17334" y="15596"/>
                  <a:pt x="14758" y="18155"/>
                  <a:pt x="11990" y="18155"/>
                </a:cubicBezTo>
                <a:lnTo>
                  <a:pt x="10328" y="18155"/>
                </a:lnTo>
                <a:cubicBezTo>
                  <a:pt x="7560" y="18155"/>
                  <a:pt x="4984" y="15596"/>
                  <a:pt x="4984" y="1282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>
            <a:hlinkClick r:id="rId6" action="ppaction://hlinksldjump"/>
          </p:cNvPr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Склонение сложных количественных числительны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600" name=""/>
          <p:cNvGraphicFramePr/>
          <p:nvPr/>
        </p:nvGraphicFramePr>
        <p:xfrm>
          <a:off x="0" y="1827360"/>
          <a:ext cx="8964720" cy="4554360"/>
        </p:xfrm>
        <a:graphic>
          <a:graphicData uri="http://schemas.openxmlformats.org/drawingml/2006/table">
            <a:tbl>
              <a:tblPr/>
              <a:tblGrid>
                <a:gridCol w="468360"/>
                <a:gridCol w="1727280"/>
                <a:gridCol w="1439640"/>
                <a:gridCol w="1441440"/>
                <a:gridCol w="1943280"/>
                <a:gridCol w="1944720"/>
              </a:tblGrid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падеж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 - 8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 - 4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- 900</a:t>
                      </a:r>
                      <a:endParaRPr b="0" lang="en-US" sz="2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ьдеся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с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с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ьдеся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ь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сять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ю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 п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с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м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 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у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ем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ы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ы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ы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ы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ырь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м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етыр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ёх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ьс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ьсо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ь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ю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</a:t>
                      </a:r>
                      <a:r>
                        <a:rPr b="0" lang="en-US" sz="20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1" name="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5893" y="7493"/>
                </a:moveTo>
                <a:lnTo>
                  <a:pt x="9400" y="7493"/>
                </a:lnTo>
                <a:lnTo>
                  <a:pt x="9400" y="12828"/>
                </a:lnTo>
                <a:cubicBezTo>
                  <a:pt x="9400" y="13751"/>
                  <a:pt x="10201" y="14482"/>
                  <a:pt x="11237" y="14482"/>
                </a:cubicBezTo>
                <a:lnTo>
                  <a:pt x="12899" y="14482"/>
                </a:lnTo>
                <a:cubicBezTo>
                  <a:pt x="13935" y="14482"/>
                  <a:pt x="14736" y="13751"/>
                  <a:pt x="14736" y="12828"/>
                </a:cubicBezTo>
                <a:lnTo>
                  <a:pt x="14736" y="7493"/>
                </a:lnTo>
                <a:lnTo>
                  <a:pt x="12899" y="7493"/>
                </a:lnTo>
                <a:lnTo>
                  <a:pt x="16407" y="3985"/>
                </a:lnTo>
                <a:lnTo>
                  <a:pt x="20080" y="7493"/>
                </a:lnTo>
                <a:lnTo>
                  <a:pt x="18243" y="7493"/>
                </a:lnTo>
                <a:lnTo>
                  <a:pt x="18243" y="12828"/>
                </a:lnTo>
                <a:cubicBezTo>
                  <a:pt x="18243" y="15596"/>
                  <a:pt x="15667" y="18155"/>
                  <a:pt x="12899" y="18155"/>
                </a:cubicBezTo>
                <a:lnTo>
                  <a:pt x="11237" y="18155"/>
                </a:lnTo>
                <a:cubicBezTo>
                  <a:pt x="8469" y="18155"/>
                  <a:pt x="5893" y="15596"/>
                  <a:pt x="5893" y="12828"/>
                </a:cubicBezTo>
                <a:close/>
              </a:path>
            </a:pathLst>
          </a:cu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"/>
          <p:cNvSpPr txBox="1"/>
          <p:nvPr/>
        </p:nvSpPr>
        <p:spPr>
          <a:xfrm>
            <a:off x="5796000" y="3933720"/>
            <a:ext cx="576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д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03" name=""/>
          <p:cNvSpPr txBox="1"/>
          <p:nvPr/>
        </p:nvSpPr>
        <p:spPr>
          <a:xfrm>
            <a:off x="1979640" y="4005360"/>
            <a:ext cx="79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04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вописание не - н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ставь ударен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д ударением                           без удар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Есть ли предлог (для местоимений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иши в одно слово                         пиши в три сло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некого спросить                                          не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у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ого спроси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никого не спросишь                                   ни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у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кого не спросиш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никакая работа не нравилась                  ни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от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какой работы н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тказывалс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он здесь ни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при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чё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6" name=""/>
          <p:cNvSpPr/>
          <p:nvPr/>
        </p:nvSpPr>
        <p:spPr>
          <a:xfrm>
            <a:off x="900000" y="69228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с отрицательными местоимениями и наречи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7" name=""/>
          <p:cNvSpPr txBox="1"/>
          <p:nvPr/>
        </p:nvSpPr>
        <p:spPr>
          <a:xfrm>
            <a:off x="1692360" y="2924280"/>
            <a:ext cx="576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8" name=""/>
          <p:cNvSpPr txBox="1"/>
          <p:nvPr/>
        </p:nvSpPr>
        <p:spPr>
          <a:xfrm>
            <a:off x="5580000" y="2852640"/>
            <a:ext cx="64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</a:t>
            </a:r>
            <a:endParaRPr b="0" lang="en-US" sz="1800" spc="1" strike="noStrike">
              <a:ln w="9360">
                <a:solidFill>
                  <a:srgbClr val="333399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09" name=""/>
          <p:cNvSpPr/>
          <p:nvPr/>
        </p:nvSpPr>
        <p:spPr>
          <a:xfrm>
            <a:off x="5651640" y="2781360"/>
            <a:ext cx="71892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6372360" y="2781360"/>
            <a:ext cx="0" cy="21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1" name=""/>
          <p:cNvSpPr/>
          <p:nvPr/>
        </p:nvSpPr>
        <p:spPr>
          <a:xfrm>
            <a:off x="2338560" y="2781360"/>
            <a:ext cx="0" cy="2160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1619280" y="2781360"/>
            <a:ext cx="71928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">
            <a:hlinkClick r:id="" action="ppaction://hlinkshowjump?jump=previousslide"/>
          </p:cNvPr>
          <p:cNvSpPr/>
          <p:nvPr/>
        </p:nvSpPr>
        <p:spPr>
          <a:xfrm>
            <a:off x="8317080" y="6093000"/>
            <a:ext cx="826920" cy="765000"/>
          </a:xfrm>
          <a:custGeom>
            <a:avLst/>
            <a:gdLst>
              <a:gd name="textAreaLeft" fmla="*/ 49320 w 826920"/>
              <a:gd name="textAreaRight" fmla="*/ 777600 w 82692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3348" h="21600">
                <a:moveTo>
                  <a:pt x="0" y="0"/>
                </a:moveTo>
                <a:lnTo>
                  <a:pt x="23348" y="0"/>
                </a:lnTo>
                <a:lnTo>
                  <a:pt x="23348" y="21600"/>
                </a:lnTo>
                <a:lnTo>
                  <a:pt x="0" y="21600"/>
                </a:lnTo>
                <a:close/>
              </a:path>
              <a:path fill="lightenLess" w="23348" h="21600">
                <a:moveTo>
                  <a:pt x="0" y="0"/>
                </a:moveTo>
                <a:lnTo>
                  <a:pt x="23348" y="0"/>
                </a:lnTo>
                <a:lnTo>
                  <a:pt x="21948" y="1400"/>
                </a:lnTo>
                <a:lnTo>
                  <a:pt x="1400" y="1400"/>
                </a:lnTo>
                <a:close/>
              </a:path>
              <a:path fill="darken" w="23348" h="21600">
                <a:moveTo>
                  <a:pt x="23348" y="0"/>
                </a:moveTo>
                <a:lnTo>
                  <a:pt x="23348" y="21600"/>
                </a:lnTo>
                <a:lnTo>
                  <a:pt x="21948" y="20200"/>
                </a:lnTo>
                <a:lnTo>
                  <a:pt x="21948" y="1400"/>
                </a:lnTo>
                <a:close/>
              </a:path>
              <a:path fill="darkenLess" w="23348" h="21600">
                <a:moveTo>
                  <a:pt x="2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48" y="20200"/>
                </a:lnTo>
                <a:close/>
              </a:path>
              <a:path fill="lighten" w="2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48" h="21600">
                <a:moveTo>
                  <a:pt x="4667" y="7493"/>
                </a:moveTo>
                <a:lnTo>
                  <a:pt x="8175" y="7493"/>
                </a:lnTo>
                <a:lnTo>
                  <a:pt x="8175" y="12828"/>
                </a:lnTo>
                <a:cubicBezTo>
                  <a:pt x="8175" y="13751"/>
                  <a:pt x="8976" y="14482"/>
                  <a:pt x="10011" y="14482"/>
                </a:cubicBezTo>
                <a:lnTo>
                  <a:pt x="11674" y="14482"/>
                </a:lnTo>
                <a:cubicBezTo>
                  <a:pt x="12709" y="14482"/>
                  <a:pt x="13510" y="13751"/>
                  <a:pt x="13510" y="12828"/>
                </a:cubicBezTo>
                <a:lnTo>
                  <a:pt x="13510" y="7493"/>
                </a:lnTo>
                <a:lnTo>
                  <a:pt x="11674" y="7493"/>
                </a:lnTo>
                <a:lnTo>
                  <a:pt x="15181" y="3985"/>
                </a:lnTo>
                <a:lnTo>
                  <a:pt x="18854" y="7493"/>
                </a:lnTo>
                <a:lnTo>
                  <a:pt x="17018" y="7493"/>
                </a:lnTo>
                <a:lnTo>
                  <a:pt x="17018" y="12828"/>
                </a:lnTo>
                <a:cubicBezTo>
                  <a:pt x="17018" y="15596"/>
                  <a:pt x="14442" y="18155"/>
                  <a:pt x="11674" y="18155"/>
                </a:cubicBezTo>
                <a:lnTo>
                  <a:pt x="10011" y="18155"/>
                </a:lnTo>
                <a:cubicBezTo>
                  <a:pt x="7244" y="18155"/>
                  <a:pt x="4667" y="15596"/>
                  <a:pt x="4667" y="12828"/>
                </a:cubicBezTo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"/>
          <p:cNvSpPr/>
          <p:nvPr/>
        </p:nvSpPr>
        <p:spPr>
          <a:xfrm>
            <a:off x="539640" y="5788080"/>
            <a:ext cx="4680000" cy="1321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badi MT Condensed Light"/>
              </a:rPr>
              <a:t>Наречия всегда в одно слов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badi MT Condensed Light"/>
              </a:rPr>
              <a:t>нигде не остановиться, ниоткуда  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badi MT Condensed Light"/>
              </a:rPr>
              <a:t>ждал, незачем спорить, нипочём не уступл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"/>
          <p:cNvSpPr txBox="1"/>
          <p:nvPr/>
        </p:nvSpPr>
        <p:spPr>
          <a:xfrm>
            <a:off x="6804000" y="3357720"/>
            <a:ext cx="201600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го-т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16" name=""/>
          <p:cNvSpPr txBox="1"/>
          <p:nvPr/>
        </p:nvSpPr>
        <p:spPr>
          <a:xfrm>
            <a:off x="971640" y="3357720"/>
            <a:ext cx="16668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екто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17" name="" descr=""/>
          <p:cNvPicPr/>
          <p:nvPr/>
        </p:nvPicPr>
        <p:blipFill>
          <a:blip r:embed="rId5"/>
          <a:stretch/>
        </p:blipFill>
        <p:spPr>
          <a:xfrm>
            <a:off x="3635280" y="3141720"/>
            <a:ext cx="2160720" cy="1582560"/>
          </a:xfrm>
          <a:prstGeom prst="rect">
            <a:avLst/>
          </a:prstGeom>
          <a:ln w="0">
            <a:noFill/>
          </a:ln>
        </p:spPr>
      </p:pic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00cc"/>
                </a:solidFill>
                <a:latin typeface="Arial"/>
              </a:rPr>
              <a:t>Разряды местоимений по значению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">
            <a:hlinkClick r:id="" action="ppaction://hlinkshowjump?jump=previousslide"/>
          </p:cNvPr>
          <p:cNvSpPr/>
          <p:nvPr/>
        </p:nvSpPr>
        <p:spPr>
          <a:xfrm>
            <a:off x="8244000" y="6021360"/>
            <a:ext cx="900000" cy="836640"/>
          </a:xfrm>
          <a:custGeom>
            <a:avLst/>
            <a:gdLst>
              <a:gd name="textAreaLeft" fmla="*/ 54000 w 900000"/>
              <a:gd name="textAreaRight" fmla="*/ 846000 w 90000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3235" h="21600">
                <a:moveTo>
                  <a:pt x="0" y="0"/>
                </a:moveTo>
                <a:lnTo>
                  <a:pt x="23235" y="0"/>
                </a:lnTo>
                <a:lnTo>
                  <a:pt x="23235" y="21600"/>
                </a:lnTo>
                <a:lnTo>
                  <a:pt x="0" y="21600"/>
                </a:lnTo>
                <a:close/>
              </a:path>
              <a:path fill="lightenLess" w="23235" h="21600">
                <a:moveTo>
                  <a:pt x="0" y="0"/>
                </a:moveTo>
                <a:lnTo>
                  <a:pt x="23235" y="0"/>
                </a:lnTo>
                <a:lnTo>
                  <a:pt x="21835" y="1400"/>
                </a:lnTo>
                <a:lnTo>
                  <a:pt x="1400" y="1400"/>
                </a:lnTo>
                <a:close/>
              </a:path>
              <a:path fill="darken" w="23235" h="21600">
                <a:moveTo>
                  <a:pt x="23235" y="0"/>
                </a:moveTo>
                <a:lnTo>
                  <a:pt x="23235" y="21600"/>
                </a:lnTo>
                <a:lnTo>
                  <a:pt x="21835" y="20200"/>
                </a:lnTo>
                <a:lnTo>
                  <a:pt x="21835" y="1400"/>
                </a:lnTo>
                <a:close/>
              </a:path>
              <a:path fill="darkenLess" w="23235" h="21600">
                <a:moveTo>
                  <a:pt x="23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35" y="20200"/>
                </a:lnTo>
                <a:close/>
              </a:path>
              <a:path fill="lighten" w="23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35" h="21600">
                <a:moveTo>
                  <a:pt x="4611" y="7493"/>
                </a:moveTo>
                <a:lnTo>
                  <a:pt x="8119" y="7493"/>
                </a:lnTo>
                <a:lnTo>
                  <a:pt x="8119" y="12828"/>
                </a:lnTo>
                <a:cubicBezTo>
                  <a:pt x="8119" y="13751"/>
                  <a:pt x="8919" y="14482"/>
                  <a:pt x="9955" y="14482"/>
                </a:cubicBezTo>
                <a:lnTo>
                  <a:pt x="11618" y="14482"/>
                </a:lnTo>
                <a:cubicBezTo>
                  <a:pt x="12653" y="14482"/>
                  <a:pt x="13454" y="13751"/>
                  <a:pt x="13454" y="12828"/>
                </a:cubicBezTo>
                <a:lnTo>
                  <a:pt x="13454" y="7493"/>
                </a:lnTo>
                <a:lnTo>
                  <a:pt x="11618" y="7493"/>
                </a:lnTo>
                <a:lnTo>
                  <a:pt x="15125" y="3985"/>
                </a:lnTo>
                <a:lnTo>
                  <a:pt x="18798" y="7493"/>
                </a:lnTo>
                <a:lnTo>
                  <a:pt x="16962" y="7493"/>
                </a:lnTo>
                <a:lnTo>
                  <a:pt x="16962" y="12828"/>
                </a:lnTo>
                <a:cubicBezTo>
                  <a:pt x="16962" y="15596"/>
                  <a:pt x="14385" y="18155"/>
                  <a:pt x="11618" y="18155"/>
                </a:cubicBezTo>
                <a:lnTo>
                  <a:pt x="9955" y="18155"/>
                </a:lnTo>
                <a:cubicBezTo>
                  <a:pt x="7187" y="18155"/>
                  <a:pt x="4611" y="15596"/>
                  <a:pt x="4611" y="12828"/>
                </a:cubicBez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"/>
          <p:cNvSpPr/>
          <p:nvPr/>
        </p:nvSpPr>
        <p:spPr>
          <a:xfrm>
            <a:off x="430200" y="3141720"/>
            <a:ext cx="8713800" cy="76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НЕ пишется слитно в неопределённых местоимениях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</a:rPr>
              <a:t>в отрицательных наречиях </a:t>
            </a:r>
            <a:r>
              <a:rPr b="1" lang="en-US" sz="2000" spc="-1" strike="noStrike">
                <a:solidFill>
                  <a:srgbClr val="9900cc"/>
                </a:solidFill>
                <a:latin typeface="Verdana"/>
              </a:rPr>
              <a:t>(орф. №44, 59)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(неоткуд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"/>
          <p:cNvSpPr/>
          <p:nvPr/>
        </p:nvSpPr>
        <p:spPr>
          <a:xfrm flipH="1">
            <a:off x="7451640" y="3500280"/>
            <a:ext cx="14472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"/>
          <p:cNvSpPr/>
          <p:nvPr/>
        </p:nvSpPr>
        <p:spPr>
          <a:xfrm>
            <a:off x="395280" y="3860640"/>
            <a:ext cx="8748720" cy="86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Приставка кое- и суффиксы -то, -либо, -нибуд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Verdana"/>
              </a:rPr>
              <a:t>пишутся с дефисом </a:t>
            </a:r>
            <a:r>
              <a:rPr b="1" lang="ru-RU" sz="2000" spc="-1" strike="noStrike">
                <a:solidFill>
                  <a:srgbClr val="9900cc"/>
                </a:solidFill>
                <a:latin typeface="Verdana"/>
              </a:rPr>
              <a:t>(орф. № 45)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(кое-куд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ч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я, ты, он, она, оно, мы, вы, они,(меня, тебя, нас, вас, их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звратно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себ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проситель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кто, что, какой, чей, который, каков, 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носитель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кто, что, какой, чей, который, каков, ск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еопределённые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некто, нечто, некоторый, несколько, кое-кто, кто-то, кто-либо, кто-нибудь, кое-какой, какой-то. какой-либо, какой-нибудь, сколько-то, сколько-ниб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рицатель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никто, ничто, никакой, ничей, некого, неч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тяжатель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мой, твой, наш, ваш, свой, его, её,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казатель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тот, этот, такой, таков, столь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ределительные: </a:t>
            </a: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весь, всякий, каждый, сам, самый, любой, иной,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  <p:timing>
    <p:tnLst>
      <p:par>
        <p:cTn id="1821" dur="indefinite" restart="never" nodeType="tmRoot">
          <p:childTnLst>
            <p:seq>
              <p:cTn id="1822" dur="indefinite" nodeType="mainSeq">
                <p:childTnLst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2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2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2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2000" fill="hold"/>
                                        <p:tgtEl>
                                          <p:spTgt spid="2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20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20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20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2000" fill="hold"/>
                                        <p:tgtEl>
                                          <p:spTgt spid="2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Повелительное наклоне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ар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ар         т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ар          с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яч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яч         т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яч         с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6" name=""/>
          <p:cNvSpPr txBox="1"/>
          <p:nvPr/>
        </p:nvSpPr>
        <p:spPr>
          <a:xfrm>
            <a:off x="1763640" y="1773360"/>
            <a:ext cx="129564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27" name=""/>
          <p:cNvSpPr/>
          <p:nvPr/>
        </p:nvSpPr>
        <p:spPr>
          <a:xfrm>
            <a:off x="826920" y="5229360"/>
            <a:ext cx="25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Искл.: ляг, ляг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приляг, приляг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8" name=""/>
          <p:cNvSpPr/>
          <p:nvPr/>
        </p:nvSpPr>
        <p:spPr>
          <a:xfrm>
            <a:off x="5076720" y="1773360"/>
            <a:ext cx="3492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ложат – полож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кладут – клад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встанут – встань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поют – пой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9" name=""/>
          <p:cNvSpPr/>
          <p:nvPr/>
        </p:nvSpPr>
        <p:spPr>
          <a:xfrm>
            <a:off x="7812000" y="1773360"/>
            <a:ext cx="360360" cy="360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0" name=""/>
          <p:cNvSpPr/>
          <p:nvPr/>
        </p:nvSpPr>
        <p:spPr>
          <a:xfrm>
            <a:off x="7308720" y="2276640"/>
            <a:ext cx="360360" cy="360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1" name=""/>
          <p:cNvSpPr/>
          <p:nvPr/>
        </p:nvSpPr>
        <p:spPr>
          <a:xfrm>
            <a:off x="7524720" y="2708280"/>
            <a:ext cx="360360" cy="360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2" name=""/>
          <p:cNvSpPr/>
          <p:nvPr/>
        </p:nvSpPr>
        <p:spPr>
          <a:xfrm>
            <a:off x="6732720" y="3213000"/>
            <a:ext cx="360360" cy="3603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3" name=""/>
          <p:cNvSpPr/>
          <p:nvPr/>
        </p:nvSpPr>
        <p:spPr>
          <a:xfrm flipV="1">
            <a:off x="7596360" y="1628640"/>
            <a:ext cx="14436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4" name=""/>
          <p:cNvSpPr/>
          <p:nvPr/>
        </p:nvSpPr>
        <p:spPr>
          <a:xfrm>
            <a:off x="7740720" y="1628640"/>
            <a:ext cx="7128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5" name=""/>
          <p:cNvSpPr/>
          <p:nvPr/>
        </p:nvSpPr>
        <p:spPr>
          <a:xfrm flipV="1">
            <a:off x="7093080" y="2133360"/>
            <a:ext cx="144360" cy="21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6" name=""/>
          <p:cNvSpPr/>
          <p:nvPr/>
        </p:nvSpPr>
        <p:spPr>
          <a:xfrm>
            <a:off x="7237440" y="2133720"/>
            <a:ext cx="71280" cy="215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7" name=""/>
          <p:cNvSpPr/>
          <p:nvPr/>
        </p:nvSpPr>
        <p:spPr>
          <a:xfrm flipV="1">
            <a:off x="6516720" y="3068640"/>
            <a:ext cx="14436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8" name=""/>
          <p:cNvSpPr/>
          <p:nvPr/>
        </p:nvSpPr>
        <p:spPr>
          <a:xfrm>
            <a:off x="6661080" y="3068640"/>
            <a:ext cx="7164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9" name=""/>
          <p:cNvSpPr/>
          <p:nvPr/>
        </p:nvSpPr>
        <p:spPr>
          <a:xfrm>
            <a:off x="4572000" y="3645000"/>
            <a:ext cx="3959280" cy="20372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Надо говорить: </a:t>
            </a:r>
            <a:r>
              <a:rPr b="1" lang="ru-RU" sz="1800" spc="-1" strike="noStrike">
                <a:solidFill>
                  <a:srgbClr val="9900cc"/>
                </a:solidFill>
                <a:latin typeface="Verdana"/>
              </a:rPr>
              <a:t>полож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не «положь», «лож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Verdana"/>
              </a:rPr>
              <a:t>клади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не «поклади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cc"/>
                </a:solidFill>
                <a:latin typeface="Verdana"/>
              </a:rPr>
              <a:t>поезжай,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 не «езжай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«ехай»; беги, а не «беж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>
            <a:off x="755640" y="6093000"/>
            <a:ext cx="7920000" cy="785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Частицы пусть, пускай, да, давай + глагол изъявит. нак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Пусть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пшеница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колосится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Да здравствует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разум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1" name="">
            <a:hlinkClick r:id="" action="ppaction://hlinkshowjump?jump=previousslide"/>
          </p:cNvPr>
          <p:cNvSpPr/>
          <p:nvPr/>
        </p:nvSpPr>
        <p:spPr>
          <a:xfrm>
            <a:off x="8532720" y="6021360"/>
            <a:ext cx="611280" cy="83664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836640"/>
              <a:gd name="textAreaBottom" fmla="*/ 797040 h 836640"/>
            </a:gdLst>
            <a:ahLst/>
            <a:rect l="textAreaLeft" t="textAreaTop" r="textAreaRight" b="textAreaBottom"/>
            <a:pathLst>
              <a:path w="21600" h="29559">
                <a:moveTo>
                  <a:pt x="0" y="0"/>
                </a:moveTo>
                <a:lnTo>
                  <a:pt x="21600" y="0"/>
                </a:lnTo>
                <a:lnTo>
                  <a:pt x="21600" y="29559"/>
                </a:lnTo>
                <a:lnTo>
                  <a:pt x="0" y="29559"/>
                </a:lnTo>
                <a:close/>
              </a:path>
              <a:path fill="lightenLess" w="21600" h="295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59">
                <a:moveTo>
                  <a:pt x="21600" y="0"/>
                </a:moveTo>
                <a:lnTo>
                  <a:pt x="21600" y="29559"/>
                </a:lnTo>
                <a:lnTo>
                  <a:pt x="20200" y="28159"/>
                </a:lnTo>
                <a:lnTo>
                  <a:pt x="20200" y="1400"/>
                </a:lnTo>
                <a:close/>
              </a:path>
              <a:path fill="darkenLess" w="21600" h="29559">
                <a:moveTo>
                  <a:pt x="21600" y="29559"/>
                </a:moveTo>
                <a:lnTo>
                  <a:pt x="0" y="29559"/>
                </a:lnTo>
                <a:lnTo>
                  <a:pt x="1400" y="28159"/>
                </a:lnTo>
                <a:lnTo>
                  <a:pt x="20200" y="28159"/>
                </a:lnTo>
                <a:close/>
              </a:path>
              <a:path fill="lighten" w="21600" h="29559">
                <a:moveTo>
                  <a:pt x="0" y="2955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59"/>
                </a:lnTo>
                <a:close/>
              </a:path>
              <a:path fill="darken" w="21600" h="29559">
                <a:moveTo>
                  <a:pt x="3794" y="11472"/>
                </a:moveTo>
                <a:lnTo>
                  <a:pt x="7301" y="11472"/>
                </a:lnTo>
                <a:lnTo>
                  <a:pt x="7301" y="16807"/>
                </a:lnTo>
                <a:cubicBezTo>
                  <a:pt x="7301" y="17730"/>
                  <a:pt x="8102" y="18461"/>
                  <a:pt x="9138" y="18461"/>
                </a:cubicBezTo>
                <a:lnTo>
                  <a:pt x="10800" y="18461"/>
                </a:lnTo>
                <a:cubicBezTo>
                  <a:pt x="11836" y="18461"/>
                  <a:pt x="12636" y="17730"/>
                  <a:pt x="12636" y="16807"/>
                </a:cubicBezTo>
                <a:lnTo>
                  <a:pt x="12636" y="11472"/>
                </a:lnTo>
                <a:lnTo>
                  <a:pt x="10800" y="11472"/>
                </a:lnTo>
                <a:lnTo>
                  <a:pt x="14308" y="7964"/>
                </a:lnTo>
                <a:lnTo>
                  <a:pt x="17981" y="11472"/>
                </a:lnTo>
                <a:lnTo>
                  <a:pt x="16144" y="11472"/>
                </a:lnTo>
                <a:lnTo>
                  <a:pt x="16144" y="16807"/>
                </a:lnTo>
                <a:cubicBezTo>
                  <a:pt x="16144" y="19575"/>
                  <a:pt x="13568" y="22134"/>
                  <a:pt x="10800" y="22134"/>
                </a:cubicBezTo>
                <a:lnTo>
                  <a:pt x="9138" y="22134"/>
                </a:lnTo>
                <a:cubicBezTo>
                  <a:pt x="6370" y="22134"/>
                  <a:pt x="3794" y="19575"/>
                  <a:pt x="3794" y="16807"/>
                </a:cubicBezTo>
                <a:close/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Правописание безударных суффиксов глаголов –ова-,  -ева-,  -ыва-,  -ива-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643" name=""/>
          <p:cNvGraphicFramePr/>
          <p:nvPr/>
        </p:nvGraphicFramePr>
        <p:xfrm>
          <a:off x="755640" y="1773360"/>
          <a:ext cx="8064000" cy="4632120"/>
        </p:xfrm>
        <a:graphic>
          <a:graphicData uri="http://schemas.openxmlformats.org/drawingml/2006/table">
            <a:tbl>
              <a:tblPr/>
              <a:tblGrid>
                <a:gridCol w="1879560"/>
                <a:gridCol w="2420280"/>
                <a:gridCol w="3764160"/>
              </a:tblGrid>
              <a:tr h="7887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оставь глагол в форме 1 лица наст. или буд. времени (я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что оканчивается глагол?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3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  -ую, (-юю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 –ываю  (-иваю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ова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ева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ыва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ива-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у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вет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 гор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ю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гор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 команд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у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- команд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о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лад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ыва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доклад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ы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ваю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разве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в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!!! –ирова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н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ров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с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к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ров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!!! - изирова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мин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зиров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ал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зирова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. :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едывать, проведывать, наведываться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ведывать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4" name="">
            <a:hlinkClick r:id="" action="ppaction://hlinkshowjump?jump=previousslide"/>
          </p:cNvPr>
          <p:cNvSpPr/>
          <p:nvPr/>
        </p:nvSpPr>
        <p:spPr>
          <a:xfrm>
            <a:off x="8244000" y="5877000"/>
            <a:ext cx="900000" cy="98100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81000"/>
              <a:gd name="textAreaBottom" fmla="*/ 922680 h 981000"/>
            </a:gdLst>
            <a:ahLst/>
            <a:rect l="textAreaLeft" t="textAreaTop" r="textAreaRight" b="textAreaBottom"/>
            <a:pathLst>
              <a:path w="21600" h="23543">
                <a:moveTo>
                  <a:pt x="0" y="0"/>
                </a:moveTo>
                <a:lnTo>
                  <a:pt x="21600" y="0"/>
                </a:lnTo>
                <a:lnTo>
                  <a:pt x="21600" y="23543"/>
                </a:lnTo>
                <a:lnTo>
                  <a:pt x="0" y="23543"/>
                </a:lnTo>
                <a:close/>
              </a:path>
              <a:path fill="lightenLess" w="21600" h="235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43">
                <a:moveTo>
                  <a:pt x="21600" y="0"/>
                </a:moveTo>
                <a:lnTo>
                  <a:pt x="21600" y="23543"/>
                </a:lnTo>
                <a:lnTo>
                  <a:pt x="20200" y="22143"/>
                </a:lnTo>
                <a:lnTo>
                  <a:pt x="20200" y="1400"/>
                </a:lnTo>
                <a:close/>
              </a:path>
              <a:path fill="darkenLess" w="21600" h="23543">
                <a:moveTo>
                  <a:pt x="21600" y="23543"/>
                </a:moveTo>
                <a:lnTo>
                  <a:pt x="0" y="23543"/>
                </a:lnTo>
                <a:lnTo>
                  <a:pt x="1400" y="22143"/>
                </a:lnTo>
                <a:lnTo>
                  <a:pt x="20200" y="22143"/>
                </a:lnTo>
                <a:close/>
              </a:path>
              <a:path fill="lighten" w="21600" h="23543">
                <a:moveTo>
                  <a:pt x="0" y="235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43"/>
                </a:lnTo>
                <a:close/>
              </a:path>
              <a:path fill="darken" w="21600" h="23543">
                <a:moveTo>
                  <a:pt x="3794" y="8464"/>
                </a:moveTo>
                <a:lnTo>
                  <a:pt x="7301" y="8464"/>
                </a:lnTo>
                <a:lnTo>
                  <a:pt x="7301" y="13800"/>
                </a:lnTo>
                <a:cubicBezTo>
                  <a:pt x="7301" y="14722"/>
                  <a:pt x="8102" y="15453"/>
                  <a:pt x="9138" y="15453"/>
                </a:cubicBezTo>
                <a:lnTo>
                  <a:pt x="10800" y="15453"/>
                </a:lnTo>
                <a:cubicBezTo>
                  <a:pt x="11836" y="15453"/>
                  <a:pt x="12636" y="14722"/>
                  <a:pt x="12636" y="13800"/>
                </a:cubicBezTo>
                <a:lnTo>
                  <a:pt x="12636" y="8464"/>
                </a:lnTo>
                <a:lnTo>
                  <a:pt x="10800" y="8464"/>
                </a:lnTo>
                <a:lnTo>
                  <a:pt x="14308" y="4957"/>
                </a:lnTo>
                <a:lnTo>
                  <a:pt x="17981" y="8464"/>
                </a:lnTo>
                <a:lnTo>
                  <a:pt x="16144" y="8464"/>
                </a:lnTo>
                <a:lnTo>
                  <a:pt x="16144" y="13800"/>
                </a:lnTo>
                <a:cubicBezTo>
                  <a:pt x="16144" y="16567"/>
                  <a:pt x="13568" y="19126"/>
                  <a:pt x="10800" y="19126"/>
                </a:cubicBezTo>
                <a:lnTo>
                  <a:pt x="9138" y="19126"/>
                </a:lnTo>
                <a:cubicBezTo>
                  <a:pt x="6370" y="19126"/>
                  <a:pt x="3794" y="16567"/>
                  <a:pt x="3794" y="13800"/>
                </a:cubicBezTo>
                <a:close/>
              </a:path>
            </a:pathLst>
          </a:custGeom>
          <a:noFill/>
          <a:ln w="93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Правописание безударных суффиксов в причастиях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46" name=""/>
          <p:cNvSpPr/>
          <p:nvPr/>
        </p:nvSpPr>
        <p:spPr>
          <a:xfrm>
            <a:off x="6227640" y="836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орф. № 50, 51, 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7" name=""/>
          <p:cNvGraphicFramePr/>
          <p:nvPr/>
        </p:nvGraphicFramePr>
        <p:xfrm>
          <a:off x="324000" y="1268280"/>
          <a:ext cx="8640720" cy="5670720"/>
        </p:xfrm>
        <a:graphic>
          <a:graphicData uri="http://schemas.openxmlformats.org/drawingml/2006/table">
            <a:tbl>
              <a:tblPr/>
              <a:tblGrid>
                <a:gridCol w="2160360"/>
                <a:gridCol w="1871640"/>
                <a:gridCol w="2160720"/>
                <a:gridCol w="2448000"/>
              </a:tblGrid>
              <a:tr h="4557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Определи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ремя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част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тояще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шедше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Определи </a:t>
                      </a: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спряжение глагола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т которого причаст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мотри на 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букву перед  - ть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и напиши её перед суф. причаст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1 сп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ущ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ющ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 сп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ащ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ящ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    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-   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-  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    -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евш-   -ивш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Но только –е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</a:t>
                      </a:r>
                      <a:r>
                        <a:rPr b="0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ющ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й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ыш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ущ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й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ебл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м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+  искл.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лющий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езжу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иждущийс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ыш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щ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щ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м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им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 старого гл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ижити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 – 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е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я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ы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т   -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нч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нч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ид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ший, но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ро</a:t>
                      </a: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нн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 -ить           -енн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искл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овн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н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вн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н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мер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н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иж</a:t>
                      </a:r>
                      <a:r>
                        <a:rPr b="1" lang="ru-RU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ен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8" name=""/>
          <p:cNvSpPr/>
          <p:nvPr/>
        </p:nvSpPr>
        <p:spPr>
          <a:xfrm>
            <a:off x="7524720" y="2205000"/>
            <a:ext cx="360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9" name="">
            <a:hlinkClick r:id="" action="ppaction://hlinkshowjump?jump=previousslide"/>
          </p:cNvPr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7588"/>
                </a:moveTo>
                <a:lnTo>
                  <a:pt x="7301" y="7588"/>
                </a:lnTo>
                <a:lnTo>
                  <a:pt x="7301" y="12923"/>
                </a:lnTo>
                <a:cubicBezTo>
                  <a:pt x="7301" y="13846"/>
                  <a:pt x="8102" y="14577"/>
                  <a:pt x="9138" y="14577"/>
                </a:cubicBezTo>
                <a:lnTo>
                  <a:pt x="10800" y="14577"/>
                </a:lnTo>
                <a:cubicBezTo>
                  <a:pt x="11836" y="14577"/>
                  <a:pt x="12636" y="13846"/>
                  <a:pt x="12636" y="12923"/>
                </a:cubicBezTo>
                <a:lnTo>
                  <a:pt x="12636" y="7588"/>
                </a:lnTo>
                <a:lnTo>
                  <a:pt x="10800" y="7588"/>
                </a:lnTo>
                <a:lnTo>
                  <a:pt x="14308" y="4080"/>
                </a:lnTo>
                <a:lnTo>
                  <a:pt x="17981" y="7588"/>
                </a:lnTo>
                <a:lnTo>
                  <a:pt x="16144" y="7588"/>
                </a:lnTo>
                <a:lnTo>
                  <a:pt x="16144" y="12923"/>
                </a:lnTo>
                <a:cubicBezTo>
                  <a:pt x="16144" y="15691"/>
                  <a:pt x="13568" y="18250"/>
                  <a:pt x="10800" y="18250"/>
                </a:cubicBezTo>
                <a:lnTo>
                  <a:pt x="9138" y="18250"/>
                </a:lnTo>
                <a:cubicBezTo>
                  <a:pt x="6370" y="18250"/>
                  <a:pt x="3794" y="15691"/>
                  <a:pt x="3794" y="12923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0" name=""/>
          <p:cNvSpPr/>
          <p:nvPr/>
        </p:nvSpPr>
        <p:spPr>
          <a:xfrm rot="16200000">
            <a:off x="4930560" y="2638080"/>
            <a:ext cx="360360" cy="1366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6560"/>
              <a:gd name="textAreaBottom" fmla="*/ 13309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1" name=""/>
          <p:cNvSpPr/>
          <p:nvPr/>
        </p:nvSpPr>
        <p:spPr>
          <a:xfrm rot="16200000">
            <a:off x="7235640" y="2638080"/>
            <a:ext cx="360360" cy="1366560"/>
          </a:xfrm>
          <a:custGeom>
            <a:avLst/>
            <a:gdLst>
              <a:gd name="textAreaLeft" fmla="*/ 230400 w 360360"/>
              <a:gd name="textAreaRight" fmla="*/ 360720 w 360360"/>
              <a:gd name="textAreaTop" fmla="*/ 35640 h 1366560"/>
              <a:gd name="textAreaBottom" fmla="*/ 13309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2" name=""/>
          <p:cNvSpPr/>
          <p:nvPr/>
        </p:nvSpPr>
        <p:spPr>
          <a:xfrm>
            <a:off x="7524720" y="5589720"/>
            <a:ext cx="503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3" name=""/>
          <p:cNvSpPr/>
          <p:nvPr/>
        </p:nvSpPr>
        <p:spPr>
          <a:xfrm flipV="1">
            <a:off x="1187280" y="3213000"/>
            <a:ext cx="28908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4" name=""/>
          <p:cNvSpPr/>
          <p:nvPr/>
        </p:nvSpPr>
        <p:spPr>
          <a:xfrm>
            <a:off x="1476360" y="3213000"/>
            <a:ext cx="21600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5" name=""/>
          <p:cNvSpPr/>
          <p:nvPr/>
        </p:nvSpPr>
        <p:spPr>
          <a:xfrm flipV="1">
            <a:off x="1114560" y="3500280"/>
            <a:ext cx="28872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6" name=""/>
          <p:cNvSpPr/>
          <p:nvPr/>
        </p:nvSpPr>
        <p:spPr>
          <a:xfrm>
            <a:off x="1403280" y="3500280"/>
            <a:ext cx="21600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7" name=""/>
          <p:cNvSpPr/>
          <p:nvPr/>
        </p:nvSpPr>
        <p:spPr>
          <a:xfrm flipV="1">
            <a:off x="1114560" y="3860640"/>
            <a:ext cx="28872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8" name=""/>
          <p:cNvSpPr/>
          <p:nvPr/>
        </p:nvSpPr>
        <p:spPr>
          <a:xfrm>
            <a:off x="1403280" y="3860640"/>
            <a:ext cx="21600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9" name=""/>
          <p:cNvSpPr/>
          <p:nvPr/>
        </p:nvSpPr>
        <p:spPr>
          <a:xfrm flipV="1">
            <a:off x="3130560" y="3213000"/>
            <a:ext cx="28908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0" name=""/>
          <p:cNvSpPr/>
          <p:nvPr/>
        </p:nvSpPr>
        <p:spPr>
          <a:xfrm>
            <a:off x="3419640" y="3213000"/>
            <a:ext cx="21564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1" name=""/>
          <p:cNvSpPr/>
          <p:nvPr/>
        </p:nvSpPr>
        <p:spPr>
          <a:xfrm flipV="1">
            <a:off x="3130560" y="3500280"/>
            <a:ext cx="28908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2" name=""/>
          <p:cNvSpPr/>
          <p:nvPr/>
        </p:nvSpPr>
        <p:spPr>
          <a:xfrm>
            <a:off x="3419640" y="3500280"/>
            <a:ext cx="21564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 flipV="1">
            <a:off x="3130560" y="3860640"/>
            <a:ext cx="28908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4" name=""/>
          <p:cNvSpPr/>
          <p:nvPr/>
        </p:nvSpPr>
        <p:spPr>
          <a:xfrm>
            <a:off x="3419640" y="3860640"/>
            <a:ext cx="21564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5" name=""/>
          <p:cNvSpPr/>
          <p:nvPr/>
        </p:nvSpPr>
        <p:spPr>
          <a:xfrm flipV="1">
            <a:off x="471636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485928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7" name=""/>
          <p:cNvSpPr/>
          <p:nvPr/>
        </p:nvSpPr>
        <p:spPr>
          <a:xfrm flipV="1">
            <a:off x="4716360" y="393336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8" name=""/>
          <p:cNvSpPr/>
          <p:nvPr/>
        </p:nvSpPr>
        <p:spPr>
          <a:xfrm>
            <a:off x="4859280" y="393372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9" name=""/>
          <p:cNvSpPr/>
          <p:nvPr/>
        </p:nvSpPr>
        <p:spPr>
          <a:xfrm flipV="1">
            <a:off x="5508720" y="393336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0" name=""/>
          <p:cNvSpPr/>
          <p:nvPr/>
        </p:nvSpPr>
        <p:spPr>
          <a:xfrm>
            <a:off x="5651640" y="393372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1" name=""/>
          <p:cNvSpPr/>
          <p:nvPr/>
        </p:nvSpPr>
        <p:spPr>
          <a:xfrm>
            <a:off x="558000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2" name=""/>
          <p:cNvSpPr/>
          <p:nvPr/>
        </p:nvSpPr>
        <p:spPr>
          <a:xfrm flipV="1">
            <a:off x="543564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3" name=""/>
          <p:cNvSpPr/>
          <p:nvPr/>
        </p:nvSpPr>
        <p:spPr>
          <a:xfrm>
            <a:off x="702000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4" name=""/>
          <p:cNvSpPr/>
          <p:nvPr/>
        </p:nvSpPr>
        <p:spPr>
          <a:xfrm flipV="1">
            <a:off x="6875640" y="3573000"/>
            <a:ext cx="1425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5" name=""/>
          <p:cNvSpPr/>
          <p:nvPr/>
        </p:nvSpPr>
        <p:spPr>
          <a:xfrm>
            <a:off x="788508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6" name=""/>
          <p:cNvSpPr/>
          <p:nvPr/>
        </p:nvSpPr>
        <p:spPr>
          <a:xfrm flipV="1">
            <a:off x="774072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7" name=""/>
          <p:cNvSpPr/>
          <p:nvPr/>
        </p:nvSpPr>
        <p:spPr>
          <a:xfrm flipV="1">
            <a:off x="3132000" y="3500280"/>
            <a:ext cx="28908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8" name=""/>
          <p:cNvSpPr/>
          <p:nvPr/>
        </p:nvSpPr>
        <p:spPr>
          <a:xfrm>
            <a:off x="3421080" y="3500280"/>
            <a:ext cx="21600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9" name=""/>
          <p:cNvSpPr/>
          <p:nvPr/>
        </p:nvSpPr>
        <p:spPr>
          <a:xfrm flipV="1">
            <a:off x="7956720" y="3933720"/>
            <a:ext cx="28872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>
            <a:off x="8245440" y="3933720"/>
            <a:ext cx="21600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1" name=""/>
          <p:cNvSpPr/>
          <p:nvPr/>
        </p:nvSpPr>
        <p:spPr>
          <a:xfrm flipV="1">
            <a:off x="442764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2" name=""/>
          <p:cNvSpPr/>
          <p:nvPr/>
        </p:nvSpPr>
        <p:spPr>
          <a:xfrm>
            <a:off x="457056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3" name=""/>
          <p:cNvSpPr/>
          <p:nvPr/>
        </p:nvSpPr>
        <p:spPr>
          <a:xfrm flipV="1">
            <a:off x="514836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4" name=""/>
          <p:cNvSpPr/>
          <p:nvPr/>
        </p:nvSpPr>
        <p:spPr>
          <a:xfrm>
            <a:off x="529128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 flipV="1">
            <a:off x="5219640" y="393336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6" name=""/>
          <p:cNvSpPr/>
          <p:nvPr/>
        </p:nvSpPr>
        <p:spPr>
          <a:xfrm>
            <a:off x="5362560" y="393372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7" name=""/>
          <p:cNvSpPr/>
          <p:nvPr/>
        </p:nvSpPr>
        <p:spPr>
          <a:xfrm flipV="1">
            <a:off x="4429080" y="393336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4572000" y="393372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673272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 flipV="1">
            <a:off x="658800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7596360" y="357336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 flipV="1">
            <a:off x="7451640" y="357300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7453440" y="292428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 flipV="1">
            <a:off x="7308720" y="292392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6732720" y="2924280"/>
            <a:ext cx="14436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 flipV="1">
            <a:off x="6588000" y="2923920"/>
            <a:ext cx="142920" cy="1429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Буквы О и А на конце наречий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-                     изредк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о-                     досух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-                       слев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о «ок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кн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кн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кн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кн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кн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кн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>
            <a:hlinkClick r:id="" action="ppaction://hlinkshowjump?jump=previousslide"/>
          </p:cNvPr>
          <p:cNvSpPr/>
          <p:nvPr/>
        </p:nvSpPr>
        <p:spPr>
          <a:xfrm>
            <a:off x="8317080" y="5805360"/>
            <a:ext cx="826920" cy="1052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1052640"/>
              <a:gd name="textAreaBottom" fmla="*/ 999360 h 1052640"/>
            </a:gdLst>
            <a:ahLst/>
            <a:rect l="textAreaLeft" t="textAreaTop" r="textAreaRight" b="textAreaBottom"/>
            <a:pathLst>
              <a:path w="21600" h="27493">
                <a:moveTo>
                  <a:pt x="0" y="0"/>
                </a:moveTo>
                <a:lnTo>
                  <a:pt x="21600" y="0"/>
                </a:lnTo>
                <a:lnTo>
                  <a:pt x="21600" y="27493"/>
                </a:lnTo>
                <a:lnTo>
                  <a:pt x="0" y="27493"/>
                </a:lnTo>
                <a:close/>
              </a:path>
              <a:path fill="lightenLess" w="21600" h="274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493">
                <a:moveTo>
                  <a:pt x="21600" y="0"/>
                </a:moveTo>
                <a:lnTo>
                  <a:pt x="21600" y="27493"/>
                </a:lnTo>
                <a:lnTo>
                  <a:pt x="20200" y="26093"/>
                </a:lnTo>
                <a:lnTo>
                  <a:pt x="20200" y="1400"/>
                </a:lnTo>
                <a:close/>
              </a:path>
              <a:path fill="darkenLess" w="21600" h="27493">
                <a:moveTo>
                  <a:pt x="21600" y="27493"/>
                </a:moveTo>
                <a:lnTo>
                  <a:pt x="0" y="27493"/>
                </a:lnTo>
                <a:lnTo>
                  <a:pt x="1400" y="26093"/>
                </a:lnTo>
                <a:lnTo>
                  <a:pt x="20200" y="26093"/>
                </a:lnTo>
                <a:close/>
              </a:path>
              <a:path fill="lighten" w="21600" h="27493">
                <a:moveTo>
                  <a:pt x="0" y="27493"/>
                </a:moveTo>
                <a:lnTo>
                  <a:pt x="0" y="0"/>
                </a:lnTo>
                <a:lnTo>
                  <a:pt x="1400" y="1400"/>
                </a:lnTo>
                <a:lnTo>
                  <a:pt x="1400" y="26093"/>
                </a:lnTo>
                <a:close/>
              </a:path>
              <a:path fill="darken" w="21600" h="27493">
                <a:moveTo>
                  <a:pt x="3794" y="10439"/>
                </a:moveTo>
                <a:lnTo>
                  <a:pt x="7301" y="10439"/>
                </a:lnTo>
                <a:lnTo>
                  <a:pt x="7301" y="15775"/>
                </a:lnTo>
                <a:cubicBezTo>
                  <a:pt x="7301" y="16697"/>
                  <a:pt x="8102" y="17428"/>
                  <a:pt x="9138" y="17428"/>
                </a:cubicBezTo>
                <a:lnTo>
                  <a:pt x="10800" y="17428"/>
                </a:lnTo>
                <a:cubicBezTo>
                  <a:pt x="11836" y="17428"/>
                  <a:pt x="12636" y="16697"/>
                  <a:pt x="12636" y="15775"/>
                </a:cubicBezTo>
                <a:lnTo>
                  <a:pt x="12636" y="10439"/>
                </a:lnTo>
                <a:lnTo>
                  <a:pt x="10800" y="10439"/>
                </a:lnTo>
                <a:lnTo>
                  <a:pt x="14308" y="6932"/>
                </a:lnTo>
                <a:lnTo>
                  <a:pt x="17981" y="10439"/>
                </a:lnTo>
                <a:lnTo>
                  <a:pt x="16144" y="10439"/>
                </a:lnTo>
                <a:lnTo>
                  <a:pt x="16144" y="15775"/>
                </a:lnTo>
                <a:cubicBezTo>
                  <a:pt x="16144" y="18542"/>
                  <a:pt x="13568" y="21101"/>
                  <a:pt x="10800" y="21101"/>
                </a:cubicBezTo>
                <a:lnTo>
                  <a:pt x="9138" y="21101"/>
                </a:lnTo>
                <a:cubicBezTo>
                  <a:pt x="6370" y="21101"/>
                  <a:pt x="3794" y="18542"/>
                  <a:pt x="3794" y="15775"/>
                </a:cubicBezTo>
                <a:close/>
              </a:path>
            </a:pathLst>
          </a:custGeom>
          <a:noFill/>
          <a:ln w="9360">
            <a:solidFill>
              <a:srgbClr val="7e9c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0" name=""/>
          <p:cNvSpPr txBox="1"/>
          <p:nvPr/>
        </p:nvSpPr>
        <p:spPr>
          <a:xfrm>
            <a:off x="2771640" y="1916280"/>
            <a:ext cx="936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1" name=""/>
          <p:cNvSpPr/>
          <p:nvPr/>
        </p:nvSpPr>
        <p:spPr>
          <a:xfrm flipV="1">
            <a:off x="2556000" y="1484280"/>
            <a:ext cx="576000" cy="504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3132000" y="1484280"/>
            <a:ext cx="576360" cy="432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>
            <a:off x="1979640" y="2133720"/>
            <a:ext cx="576360" cy="503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>
            <a:off x="1835280" y="2781360"/>
            <a:ext cx="7920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 flipV="1">
            <a:off x="1763640" y="2997000"/>
            <a:ext cx="792360" cy="502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>
            <a:off x="826920" y="1700280"/>
            <a:ext cx="86544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>
            <a:off x="1692360" y="1700280"/>
            <a:ext cx="0" cy="288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>
            <a:off x="755640" y="2421000"/>
            <a:ext cx="865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>
            <a:off x="1620720" y="2421000"/>
            <a:ext cx="0" cy="288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>
            <a:off x="684360" y="3141720"/>
            <a:ext cx="86508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>
            <a:off x="1549440" y="3141720"/>
            <a:ext cx="0" cy="2887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6659640" y="1989000"/>
            <a:ext cx="2305080" cy="1819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если нареч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образованы о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прилагательных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в которых н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Этих приставок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>
            <a:off x="4140360" y="4365720"/>
            <a:ext cx="396072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остальных случаях  -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лево, направо, засветл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досрочно (от досрочный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ачисто, заново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 rot="16200000">
            <a:off x="1727640" y="1951200"/>
            <a:ext cx="682920" cy="3780000"/>
          </a:xfrm>
          <a:custGeom>
            <a:avLst/>
            <a:gdLst>
              <a:gd name="textAreaLeft" fmla="*/ 436320 w 682920"/>
              <a:gd name="textAreaRight" fmla="*/ 683280 w 682920"/>
              <a:gd name="textAreaTop" fmla="*/ 98280 h 3780000"/>
              <a:gd name="textAreaBottom" fmla="*/ 3681720 h 37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>
            <a:off x="3564000" y="4149720"/>
            <a:ext cx="576360" cy="237492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>
            <a:off x="496800" y="4656240"/>
            <a:ext cx="1122480" cy="1076400"/>
          </a:xfrm>
          <a:prstGeom prst="borderCallout1">
            <a:avLst>
              <a:gd name="adj1" fmla="val 29635"/>
              <a:gd name="adj2" fmla="val -1529"/>
              <a:gd name="adj3" fmla="val 2200"/>
              <a:gd name="adj4" fmla="val -1529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>
            <a:off x="2484360" y="4653000"/>
            <a:ext cx="1147680" cy="1144440"/>
          </a:xfrm>
          <a:prstGeom prst="borderCallout2">
            <a:avLst>
              <a:gd name="adj1" fmla="val 18750"/>
              <a:gd name="adj2" fmla="val -8333"/>
              <a:gd name="adj3" fmla="val 9986"/>
              <a:gd name="adj4" fmla="val -17564"/>
              <a:gd name="adj5" fmla="val -8875"/>
              <a:gd name="adj6" fmla="val -29046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>
            <a:off x="4067280" y="5013360"/>
            <a:ext cx="433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>
            <a:off x="4500720" y="501336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4067280" y="5516640"/>
            <a:ext cx="433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4500720" y="551664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4140360" y="4365720"/>
            <a:ext cx="396072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В остальных случаях  - 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Вле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напра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засветл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д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срочн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от досрочный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н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чист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з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но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5076720" y="5084640"/>
            <a:ext cx="433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5510160" y="5084640"/>
            <a:ext cx="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6227640" y="5084640"/>
            <a:ext cx="433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6661080" y="5084640"/>
            <a:ext cx="0" cy="14472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5867280" y="5589720"/>
            <a:ext cx="433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6300720" y="558972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4140360" y="6021360"/>
            <a:ext cx="4330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4573440" y="602136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5219640" y="6021360"/>
            <a:ext cx="4334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5653080" y="602136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>
            <a:off x="3851280" y="2781360"/>
            <a:ext cx="649440" cy="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Verdana"/>
              </a:rPr>
              <a:t>Дефис между частями слова в наречиях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35" name=""/>
          <p:cNvSpPr/>
          <p:nvPr/>
        </p:nvSpPr>
        <p:spPr>
          <a:xfrm>
            <a:off x="1403280" y="98100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ПО- …    -ОМУ    (-ЕМУ),    -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В-  (ВО-)…     -ЫХ  (-ИХ)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КОЕ-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-ТО,  -ЛИБО,  -НИБУД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Verdana"/>
              </a:rPr>
              <a:t>СЛОЖНЫЕ НАРЕЧИЯ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7" name=""/>
          <p:cNvSpPr/>
          <p:nvPr/>
        </p:nvSpPr>
        <p:spPr>
          <a:xfrm>
            <a:off x="8172360" y="6021360"/>
            <a:ext cx="971640" cy="836640"/>
          </a:xfrm>
          <a:custGeom>
            <a:avLst/>
            <a:gdLst>
              <a:gd name="textAreaLeft" fmla="*/ 54000 w 971640"/>
              <a:gd name="textAreaRight" fmla="*/ 917640 w 971640"/>
              <a:gd name="textAreaTop" fmla="*/ 54000 h 836640"/>
              <a:gd name="textAreaBottom" fmla="*/ 782640 h 836640"/>
            </a:gdLst>
            <a:ahLst/>
            <a:rect l="textAreaLeft" t="textAreaTop" r="textAreaRight" b="textAreaBottom"/>
            <a:pathLst>
              <a:path w="25084" h="21600">
                <a:moveTo>
                  <a:pt x="0" y="0"/>
                </a:moveTo>
                <a:lnTo>
                  <a:pt x="25084" y="0"/>
                </a:lnTo>
                <a:lnTo>
                  <a:pt x="25084" y="21600"/>
                </a:lnTo>
                <a:lnTo>
                  <a:pt x="0" y="21600"/>
                </a:lnTo>
                <a:close/>
              </a:path>
              <a:path fill="lightenLess" w="25084" h="21600">
                <a:moveTo>
                  <a:pt x="0" y="0"/>
                </a:moveTo>
                <a:lnTo>
                  <a:pt x="25084" y="0"/>
                </a:lnTo>
                <a:lnTo>
                  <a:pt x="23684" y="1400"/>
                </a:lnTo>
                <a:lnTo>
                  <a:pt x="1400" y="1400"/>
                </a:lnTo>
                <a:close/>
              </a:path>
              <a:path fill="darken" w="25084" h="21600">
                <a:moveTo>
                  <a:pt x="25084" y="0"/>
                </a:moveTo>
                <a:lnTo>
                  <a:pt x="25084" y="21600"/>
                </a:lnTo>
                <a:lnTo>
                  <a:pt x="23684" y="20200"/>
                </a:lnTo>
                <a:lnTo>
                  <a:pt x="23684" y="1400"/>
                </a:lnTo>
                <a:close/>
              </a:path>
              <a:path fill="darkenLess" w="25084" h="21600">
                <a:moveTo>
                  <a:pt x="250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84" y="20200"/>
                </a:lnTo>
                <a:close/>
              </a:path>
              <a:path fill="lighten" w="250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84" h="21600">
                <a:moveTo>
                  <a:pt x="5535" y="7493"/>
                </a:moveTo>
                <a:lnTo>
                  <a:pt x="9043" y="7493"/>
                </a:lnTo>
                <a:lnTo>
                  <a:pt x="9043" y="12828"/>
                </a:lnTo>
                <a:cubicBezTo>
                  <a:pt x="9043" y="13751"/>
                  <a:pt x="9844" y="14482"/>
                  <a:pt x="10880" y="14482"/>
                </a:cubicBezTo>
                <a:lnTo>
                  <a:pt x="12542" y="14482"/>
                </a:lnTo>
                <a:cubicBezTo>
                  <a:pt x="13578" y="14482"/>
                  <a:pt x="14378" y="13751"/>
                  <a:pt x="14378" y="12828"/>
                </a:cubicBezTo>
                <a:lnTo>
                  <a:pt x="14378" y="7493"/>
                </a:lnTo>
                <a:lnTo>
                  <a:pt x="12542" y="7493"/>
                </a:lnTo>
                <a:lnTo>
                  <a:pt x="16050" y="3985"/>
                </a:lnTo>
                <a:lnTo>
                  <a:pt x="19722" y="7493"/>
                </a:lnTo>
                <a:lnTo>
                  <a:pt x="17886" y="7493"/>
                </a:lnTo>
                <a:lnTo>
                  <a:pt x="17886" y="12828"/>
                </a:lnTo>
                <a:cubicBezTo>
                  <a:pt x="17886" y="15596"/>
                  <a:pt x="15310" y="18155"/>
                  <a:pt x="12542" y="18155"/>
                </a:cubicBezTo>
                <a:lnTo>
                  <a:pt x="10880" y="18155"/>
                </a:lnTo>
                <a:cubicBezTo>
                  <a:pt x="8112" y="18155"/>
                  <a:pt x="5535" y="15596"/>
                  <a:pt x="5535" y="12828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971640" y="981000"/>
            <a:ext cx="431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9" name=""/>
          <p:cNvSpPr/>
          <p:nvPr/>
        </p:nvSpPr>
        <p:spPr>
          <a:xfrm>
            <a:off x="1979640" y="213372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0" name=""/>
          <p:cNvSpPr/>
          <p:nvPr/>
        </p:nvSpPr>
        <p:spPr>
          <a:xfrm>
            <a:off x="1547640" y="2133720"/>
            <a:ext cx="432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1" name=""/>
          <p:cNvSpPr/>
          <p:nvPr/>
        </p:nvSpPr>
        <p:spPr>
          <a:xfrm>
            <a:off x="2843280" y="213372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2411280" y="2133720"/>
            <a:ext cx="4320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1547640" y="3284640"/>
            <a:ext cx="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4" name=""/>
          <p:cNvSpPr/>
          <p:nvPr/>
        </p:nvSpPr>
        <p:spPr>
          <a:xfrm>
            <a:off x="900000" y="3284640"/>
            <a:ext cx="6476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 flipV="1">
            <a:off x="2484360" y="98064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6" name=""/>
          <p:cNvSpPr/>
          <p:nvPr/>
        </p:nvSpPr>
        <p:spPr>
          <a:xfrm>
            <a:off x="2771640" y="981000"/>
            <a:ext cx="3603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7" name=""/>
          <p:cNvSpPr/>
          <p:nvPr/>
        </p:nvSpPr>
        <p:spPr>
          <a:xfrm flipV="1">
            <a:off x="2484360" y="98064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8" name=""/>
          <p:cNvSpPr/>
          <p:nvPr/>
        </p:nvSpPr>
        <p:spPr>
          <a:xfrm>
            <a:off x="4138560" y="981000"/>
            <a:ext cx="3603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9" name=""/>
          <p:cNvSpPr/>
          <p:nvPr/>
        </p:nvSpPr>
        <p:spPr>
          <a:xfrm flipV="1">
            <a:off x="3851280" y="98064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0" name=""/>
          <p:cNvSpPr/>
          <p:nvPr/>
        </p:nvSpPr>
        <p:spPr>
          <a:xfrm>
            <a:off x="4284720" y="2060640"/>
            <a:ext cx="3603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1" name=""/>
          <p:cNvSpPr/>
          <p:nvPr/>
        </p:nvSpPr>
        <p:spPr>
          <a:xfrm flipV="1">
            <a:off x="3997440" y="206028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2" name=""/>
          <p:cNvSpPr/>
          <p:nvPr/>
        </p:nvSpPr>
        <p:spPr>
          <a:xfrm>
            <a:off x="5219640" y="2060640"/>
            <a:ext cx="3603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3" name=""/>
          <p:cNvSpPr/>
          <p:nvPr/>
        </p:nvSpPr>
        <p:spPr>
          <a:xfrm flipV="1">
            <a:off x="4932360" y="206028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4" name=""/>
          <p:cNvSpPr/>
          <p:nvPr/>
        </p:nvSpPr>
        <p:spPr>
          <a:xfrm>
            <a:off x="2050920" y="4076640"/>
            <a:ext cx="3603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5" name=""/>
          <p:cNvSpPr/>
          <p:nvPr/>
        </p:nvSpPr>
        <p:spPr>
          <a:xfrm flipV="1">
            <a:off x="1763640" y="407628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6" name=""/>
          <p:cNvSpPr/>
          <p:nvPr/>
        </p:nvSpPr>
        <p:spPr>
          <a:xfrm>
            <a:off x="3203640" y="4076640"/>
            <a:ext cx="43164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7" name=""/>
          <p:cNvSpPr/>
          <p:nvPr/>
        </p:nvSpPr>
        <p:spPr>
          <a:xfrm flipV="1">
            <a:off x="2771640" y="4076640"/>
            <a:ext cx="432000" cy="21600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8" name=""/>
          <p:cNvSpPr/>
          <p:nvPr/>
        </p:nvSpPr>
        <p:spPr>
          <a:xfrm>
            <a:off x="4643280" y="4005360"/>
            <a:ext cx="576360" cy="21564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9" name=""/>
          <p:cNvSpPr/>
          <p:nvPr/>
        </p:nvSpPr>
        <p:spPr>
          <a:xfrm flipV="1">
            <a:off x="4140360" y="4005360"/>
            <a:ext cx="502920" cy="28728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0" name=""/>
          <p:cNvSpPr/>
          <p:nvPr/>
        </p:nvSpPr>
        <p:spPr>
          <a:xfrm>
            <a:off x="5364000" y="981000"/>
            <a:ext cx="36036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1" name=""/>
          <p:cNvSpPr/>
          <p:nvPr/>
        </p:nvSpPr>
        <p:spPr>
          <a:xfrm flipV="1">
            <a:off x="5076720" y="980640"/>
            <a:ext cx="287280" cy="14436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2" name=""/>
          <p:cNvSpPr/>
          <p:nvPr/>
        </p:nvSpPr>
        <p:spPr>
          <a:xfrm>
            <a:off x="2195640" y="1617840"/>
            <a:ext cx="66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- ЗИМНЕМУ, ПО - ДОБРОМУ,  ПО - ТОВАРИЩЕС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3" name=""/>
          <p:cNvSpPr/>
          <p:nvPr/>
        </p:nvSpPr>
        <p:spPr>
          <a:xfrm>
            <a:off x="1332000" y="278136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 - ПЕРВЫХ, ВО - ВТОРЫХ, В - ТРЕТЬИХ, В - ЧЕТВЁРТЫ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4" name=""/>
          <p:cNvSpPr/>
          <p:nvPr/>
        </p:nvSpPr>
        <p:spPr>
          <a:xfrm>
            <a:off x="2050920" y="3573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Е - КАК, КОЕ -  ГДЕ, КОЕ - КУД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5" name=""/>
          <p:cNvSpPr/>
          <p:nvPr/>
        </p:nvSpPr>
        <p:spPr>
          <a:xfrm>
            <a:off x="1979640" y="465300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ГДА – ТО, КУДА – ЛИБО, ГДЕ – НИБУД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6" name=""/>
          <p:cNvSpPr/>
          <p:nvPr/>
        </p:nvSpPr>
        <p:spPr>
          <a:xfrm>
            <a:off x="684360" y="5516640"/>
            <a:ext cx="792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ЛО – ПОМАЛУ, ЕЛЕ – ЕЛЕ, ПОДОБРУ – ПОЗДОРОВУ,  МАЛО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ЛЬСКИ, ЧУТЬ –ЧУТЬ, КРЕПКО – НАКРЕПКО, КАК – НИКА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Ь -  В – ТОЧЬ ;                     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Е ПУТАЙ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ver dir="r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Запомни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2929"/>
                </a:solidFill>
                <a:latin typeface="Arial"/>
              </a:rPr>
              <a:t>бок о бок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9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2929"/>
                </a:solidFill>
                <a:latin typeface="Arial"/>
              </a:rPr>
              <a:t>с глазу на глаз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2929"/>
                </a:solidFill>
                <a:latin typeface="Arial"/>
              </a:rPr>
              <a:t>один на один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901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2929"/>
                </a:solidFill>
                <a:latin typeface="Arial"/>
              </a:rPr>
              <a:t>точка в точку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-387360">
              <a:spcBef>
                <a:spcPts val="9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92929"/>
                </a:solidFill>
                <a:latin typeface="Arial"/>
              </a:rPr>
              <a:t>с году на год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lvl="4" marL="20700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69" name="">
            <a:hlinkClick r:id="" action="ppaction://hlinkshowjump?jump=previousslide"/>
          </p:cNvPr>
          <p:cNvSpPr/>
          <p:nvPr/>
        </p:nvSpPr>
        <p:spPr>
          <a:xfrm>
            <a:off x="8280360" y="5877000"/>
            <a:ext cx="863640" cy="98100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981000"/>
              <a:gd name="textAreaBottom" fmla="*/ 925200 h 981000"/>
            </a:gdLst>
            <a:ahLst/>
            <a:rect l="textAreaLeft" t="textAreaTop" r="textAreaRight" b="textAreaBottom"/>
            <a:pathLst>
              <a:path w="21600" h="24534">
                <a:moveTo>
                  <a:pt x="0" y="0"/>
                </a:moveTo>
                <a:lnTo>
                  <a:pt x="21600" y="0"/>
                </a:lnTo>
                <a:lnTo>
                  <a:pt x="21600" y="24534"/>
                </a:lnTo>
                <a:lnTo>
                  <a:pt x="0" y="24534"/>
                </a:lnTo>
                <a:close/>
              </a:path>
              <a:path fill="lightenLess" w="21600" h="2453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34">
                <a:moveTo>
                  <a:pt x="21600" y="0"/>
                </a:moveTo>
                <a:lnTo>
                  <a:pt x="21600" y="24534"/>
                </a:lnTo>
                <a:lnTo>
                  <a:pt x="20200" y="23134"/>
                </a:lnTo>
                <a:lnTo>
                  <a:pt x="20200" y="1400"/>
                </a:lnTo>
                <a:close/>
              </a:path>
              <a:path fill="darkenLess" w="21600" h="24534">
                <a:moveTo>
                  <a:pt x="21600" y="24534"/>
                </a:moveTo>
                <a:lnTo>
                  <a:pt x="0" y="24534"/>
                </a:lnTo>
                <a:lnTo>
                  <a:pt x="1400" y="23134"/>
                </a:lnTo>
                <a:lnTo>
                  <a:pt x="20200" y="23134"/>
                </a:lnTo>
                <a:close/>
              </a:path>
              <a:path fill="lighten" w="21600" h="24534">
                <a:moveTo>
                  <a:pt x="0" y="2453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34"/>
                </a:lnTo>
                <a:close/>
              </a:path>
              <a:path fill="darken" w="21600" h="24534">
                <a:moveTo>
                  <a:pt x="3794" y="8960"/>
                </a:moveTo>
                <a:lnTo>
                  <a:pt x="7301" y="8960"/>
                </a:lnTo>
                <a:lnTo>
                  <a:pt x="7301" y="14295"/>
                </a:lnTo>
                <a:cubicBezTo>
                  <a:pt x="7301" y="15218"/>
                  <a:pt x="8102" y="15949"/>
                  <a:pt x="9138" y="15949"/>
                </a:cubicBezTo>
                <a:lnTo>
                  <a:pt x="10800" y="15949"/>
                </a:lnTo>
                <a:cubicBezTo>
                  <a:pt x="11836" y="15949"/>
                  <a:pt x="12636" y="15218"/>
                  <a:pt x="12636" y="14295"/>
                </a:cubicBezTo>
                <a:lnTo>
                  <a:pt x="12636" y="8960"/>
                </a:lnTo>
                <a:lnTo>
                  <a:pt x="10800" y="8960"/>
                </a:lnTo>
                <a:lnTo>
                  <a:pt x="14308" y="5452"/>
                </a:lnTo>
                <a:lnTo>
                  <a:pt x="17981" y="8960"/>
                </a:lnTo>
                <a:lnTo>
                  <a:pt x="16144" y="8960"/>
                </a:lnTo>
                <a:lnTo>
                  <a:pt x="16144" y="14295"/>
                </a:lnTo>
                <a:cubicBezTo>
                  <a:pt x="16144" y="17063"/>
                  <a:pt x="13568" y="19622"/>
                  <a:pt x="10800" y="19622"/>
                </a:cubicBezTo>
                <a:lnTo>
                  <a:pt x="9138" y="19622"/>
                </a:lnTo>
                <a:cubicBezTo>
                  <a:pt x="6370" y="19622"/>
                  <a:pt x="3794" y="17063"/>
                  <a:pt x="3794" y="14295"/>
                </a:cubicBezTo>
                <a:close/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fill="hold">
                      <p:stCondLst>
                        <p:cond delay="0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4" dur="2000" fill="hold"/>
                                        <p:tgtEl>
                                          <p:spTgt spid="2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7" dur="2000" fill="hold"/>
                                        <p:tgtEl>
                                          <p:spTgt spid="2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0" dur="2000" fill="hold"/>
                                        <p:tgtEl>
                                          <p:spTgt spid="2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3" dur="2000" fill="hold"/>
                                        <p:tgtEl>
                                          <p:spTgt spid="2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6" dur="2000" fill="hold"/>
                                        <p:tgtEl>
                                          <p:spTgt spid="2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Предлоги из нареч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752720" cy="49244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ёл впереди (=перед)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лонны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ыл внутри (в) страны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ыл вблизи (=у) школы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мотрел вслед (=за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езду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дил вокруг (=у) дом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ёл навстречу (=к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ругу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5105520" y="1557360"/>
            <a:ext cx="4038480" cy="4852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ыл позади (=за) дом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ступил наперекор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удьбе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оял напроти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=перед) сад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л накануне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(=перед) праздника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верх (=над) план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73" name=""/>
          <p:cNvSpPr/>
          <p:nvPr/>
        </p:nvSpPr>
        <p:spPr>
          <a:xfrm>
            <a:off x="2050920" y="83664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пишутся слит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4" name="">
            <a:hlinkClick r:id="" action="ppaction://hlinkshowjump?jump=previousslide"/>
          </p:cNvPr>
          <p:cNvSpPr/>
          <p:nvPr/>
        </p:nvSpPr>
        <p:spPr>
          <a:xfrm>
            <a:off x="8244000" y="5950080"/>
            <a:ext cx="900000" cy="90792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907920"/>
              <a:gd name="textAreaBottom" fmla="*/ 849600 h 907920"/>
            </a:gdLst>
            <a:ahLst/>
            <a:rect l="textAreaLeft" t="textAreaTop" r="textAreaRight" b="textAreaBottom"/>
            <a:pathLst>
              <a:path w="21600" h="21790">
                <a:moveTo>
                  <a:pt x="0" y="0"/>
                </a:moveTo>
                <a:lnTo>
                  <a:pt x="21600" y="0"/>
                </a:lnTo>
                <a:lnTo>
                  <a:pt x="21600" y="21790"/>
                </a:lnTo>
                <a:lnTo>
                  <a:pt x="0" y="21790"/>
                </a:lnTo>
                <a:close/>
              </a:path>
              <a:path fill="lightenLess" w="21600" h="217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90">
                <a:moveTo>
                  <a:pt x="21600" y="0"/>
                </a:moveTo>
                <a:lnTo>
                  <a:pt x="21600" y="21790"/>
                </a:lnTo>
                <a:lnTo>
                  <a:pt x="20200" y="20390"/>
                </a:lnTo>
                <a:lnTo>
                  <a:pt x="20200" y="1400"/>
                </a:lnTo>
                <a:close/>
              </a:path>
              <a:path fill="darkenLess" w="21600" h="21790">
                <a:moveTo>
                  <a:pt x="21600" y="21790"/>
                </a:moveTo>
                <a:lnTo>
                  <a:pt x="0" y="21790"/>
                </a:lnTo>
                <a:lnTo>
                  <a:pt x="1400" y="20390"/>
                </a:lnTo>
                <a:lnTo>
                  <a:pt x="20200" y="20390"/>
                </a:lnTo>
                <a:close/>
              </a:path>
              <a:path fill="lighten" w="21600" h="21790">
                <a:moveTo>
                  <a:pt x="0" y="217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90"/>
                </a:lnTo>
                <a:close/>
              </a:path>
              <a:path fill="darken" w="21600" h="21790">
                <a:moveTo>
                  <a:pt x="3794" y="7588"/>
                </a:moveTo>
                <a:lnTo>
                  <a:pt x="7301" y="7588"/>
                </a:lnTo>
                <a:lnTo>
                  <a:pt x="7301" y="12923"/>
                </a:lnTo>
                <a:cubicBezTo>
                  <a:pt x="7301" y="13846"/>
                  <a:pt x="8102" y="14577"/>
                  <a:pt x="9138" y="14577"/>
                </a:cubicBezTo>
                <a:lnTo>
                  <a:pt x="10800" y="14577"/>
                </a:lnTo>
                <a:cubicBezTo>
                  <a:pt x="11836" y="14577"/>
                  <a:pt x="12636" y="13846"/>
                  <a:pt x="12636" y="12923"/>
                </a:cubicBezTo>
                <a:lnTo>
                  <a:pt x="12636" y="7588"/>
                </a:lnTo>
                <a:lnTo>
                  <a:pt x="10800" y="7588"/>
                </a:lnTo>
                <a:lnTo>
                  <a:pt x="14308" y="4080"/>
                </a:lnTo>
                <a:lnTo>
                  <a:pt x="17981" y="7588"/>
                </a:lnTo>
                <a:lnTo>
                  <a:pt x="16144" y="7588"/>
                </a:lnTo>
                <a:lnTo>
                  <a:pt x="16144" y="12923"/>
                </a:lnTo>
                <a:cubicBezTo>
                  <a:pt x="16144" y="15691"/>
                  <a:pt x="13568" y="18250"/>
                  <a:pt x="10800" y="18250"/>
                </a:cubicBezTo>
                <a:lnTo>
                  <a:pt x="9138" y="18250"/>
                </a:lnTo>
                <a:cubicBezTo>
                  <a:pt x="6370" y="18250"/>
                  <a:pt x="3794" y="15691"/>
                  <a:pt x="3794" y="12923"/>
                </a:cubicBezTo>
                <a:close/>
              </a:path>
            </a:pathLst>
          </a:custGeom>
          <a:noFill/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Правописание чередующихся гласных зависит от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-360" y="2017440"/>
            <a:ext cx="8955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мыс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к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должительное действие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кака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к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ч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гновенное действие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кочи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гружать в жидкость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ка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пускать жидкость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мокашка, непромокаемый плащ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лавники, плавучий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лько в словах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овец, пловчих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делать одинаковым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равнять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делать ровным, гладким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ровнять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Запомнить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сё равно, поравняться, равнение, равнин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НО: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, поровну, ровесник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">
            <a:hlinkClick r:id="" action="ppaction://hlinkshowjump?jump=previousslide"/>
          </p:cNvPr>
          <p:cNvSpPr/>
          <p:nvPr/>
        </p:nvSpPr>
        <p:spPr>
          <a:xfrm>
            <a:off x="8136000" y="6237360"/>
            <a:ext cx="1008000" cy="620640"/>
          </a:xfrm>
          <a:custGeom>
            <a:avLst/>
            <a:gdLst>
              <a:gd name="textAreaLeft" fmla="*/ 39960 w 1008000"/>
              <a:gd name="textAreaRight" fmla="*/ 968040 w 1008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5073" h="21600">
                <a:moveTo>
                  <a:pt x="0" y="0"/>
                </a:moveTo>
                <a:lnTo>
                  <a:pt x="35073" y="0"/>
                </a:lnTo>
                <a:lnTo>
                  <a:pt x="35073" y="21600"/>
                </a:lnTo>
                <a:lnTo>
                  <a:pt x="0" y="21600"/>
                </a:lnTo>
                <a:close/>
              </a:path>
              <a:path fill="lightenLess" w="35073" h="21600">
                <a:moveTo>
                  <a:pt x="0" y="0"/>
                </a:moveTo>
                <a:lnTo>
                  <a:pt x="35073" y="0"/>
                </a:lnTo>
                <a:lnTo>
                  <a:pt x="33673" y="1400"/>
                </a:lnTo>
                <a:lnTo>
                  <a:pt x="1400" y="1400"/>
                </a:lnTo>
                <a:close/>
              </a:path>
              <a:path fill="darken" w="35073" h="21600">
                <a:moveTo>
                  <a:pt x="35073" y="0"/>
                </a:moveTo>
                <a:lnTo>
                  <a:pt x="35073" y="21600"/>
                </a:lnTo>
                <a:lnTo>
                  <a:pt x="33673" y="20200"/>
                </a:lnTo>
                <a:lnTo>
                  <a:pt x="33673" y="1400"/>
                </a:lnTo>
                <a:close/>
              </a:path>
              <a:path fill="darkenLess" w="35073" h="21600">
                <a:moveTo>
                  <a:pt x="35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73" y="20200"/>
                </a:lnTo>
                <a:close/>
              </a:path>
              <a:path fill="lighten" w="35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73" h="21600">
                <a:moveTo>
                  <a:pt x="10530" y="7493"/>
                </a:moveTo>
                <a:lnTo>
                  <a:pt x="14038" y="7493"/>
                </a:lnTo>
                <a:lnTo>
                  <a:pt x="14038" y="12828"/>
                </a:lnTo>
                <a:cubicBezTo>
                  <a:pt x="14038" y="13751"/>
                  <a:pt x="14839" y="14482"/>
                  <a:pt x="15874" y="14482"/>
                </a:cubicBezTo>
                <a:lnTo>
                  <a:pt x="17537" y="14482"/>
                </a:lnTo>
                <a:cubicBezTo>
                  <a:pt x="18572" y="14482"/>
                  <a:pt x="19373" y="13751"/>
                  <a:pt x="19373" y="12828"/>
                </a:cubicBezTo>
                <a:lnTo>
                  <a:pt x="19373" y="7493"/>
                </a:lnTo>
                <a:lnTo>
                  <a:pt x="17537" y="7493"/>
                </a:lnTo>
                <a:lnTo>
                  <a:pt x="21044" y="3985"/>
                </a:lnTo>
                <a:lnTo>
                  <a:pt x="24717" y="7493"/>
                </a:lnTo>
                <a:lnTo>
                  <a:pt x="22881" y="7493"/>
                </a:lnTo>
                <a:lnTo>
                  <a:pt x="22881" y="12828"/>
                </a:lnTo>
                <a:cubicBezTo>
                  <a:pt x="22881" y="15596"/>
                  <a:pt x="20304" y="18155"/>
                  <a:pt x="17537" y="18155"/>
                </a:cubicBezTo>
                <a:lnTo>
                  <a:pt x="15874" y="18155"/>
                </a:lnTo>
                <a:cubicBezTo>
                  <a:pt x="13107" y="18155"/>
                  <a:pt x="10530" y="15596"/>
                  <a:pt x="10530" y="12828"/>
                </a:cubicBezTo>
                <a:close/>
              </a:path>
            </a:pathLst>
          </a:custGeom>
          <a:noFill/>
          <a:ln w="9360">
            <a:solidFill>
              <a:srgbClr val="7fd3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редлоги из существитель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6" name=""/>
          <p:cNvGraphicFramePr/>
          <p:nvPr/>
        </p:nvGraphicFramePr>
        <p:xfrm>
          <a:off x="179280" y="981000"/>
          <a:ext cx="8713800" cy="5472000"/>
        </p:xfrm>
        <a:graphic>
          <a:graphicData uri="http://schemas.openxmlformats.org/drawingml/2006/table">
            <a:tbl>
              <a:tblPr/>
              <a:tblGrid>
                <a:gridCol w="4318200"/>
                <a:gridCol w="4395600"/>
              </a:tblGrid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одно слов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два или три сло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наподоб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шара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насчё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=о) поездки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ил на счёт в банке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место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=за) него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пал в место, известное всем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род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остюма,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гласуется в роде, числе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вид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=из-за) недостат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ени;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еть в вид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отлич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т него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по причин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=из-з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зни;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целях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безопасности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со сторон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=от) друзей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силу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=по, из-за) привычки;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связи 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емонтом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за счёт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тдыха;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9900cc"/>
                          </a:solidFill>
                          <a:latin typeface="Arial"/>
                        </a:rPr>
                        <a:t>в вид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азы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7" name="">
            <a:hlinkClick r:id="" action="ppaction://hlinkshowjump?jump=previousslide"/>
          </p:cNvPr>
          <p:cNvSpPr/>
          <p:nvPr/>
        </p:nvSpPr>
        <p:spPr>
          <a:xfrm>
            <a:off x="8459640" y="6021360"/>
            <a:ext cx="684360" cy="83664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836640"/>
              <a:gd name="textAreaBottom" fmla="*/ 792360 h 836640"/>
            </a:gdLst>
            <a:ahLst/>
            <a:rect l="textAreaLeft" t="textAreaTop" r="textAreaRight" b="textAreaBottom"/>
            <a:pathLst>
              <a:path w="21600" h="26404">
                <a:moveTo>
                  <a:pt x="0" y="0"/>
                </a:moveTo>
                <a:lnTo>
                  <a:pt x="21600" y="0"/>
                </a:lnTo>
                <a:lnTo>
                  <a:pt x="21600" y="26404"/>
                </a:lnTo>
                <a:lnTo>
                  <a:pt x="0" y="26404"/>
                </a:lnTo>
                <a:close/>
              </a:path>
              <a:path fill="lightenLess" w="21600" h="264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404">
                <a:moveTo>
                  <a:pt x="21600" y="0"/>
                </a:moveTo>
                <a:lnTo>
                  <a:pt x="21600" y="26404"/>
                </a:lnTo>
                <a:lnTo>
                  <a:pt x="20200" y="25004"/>
                </a:lnTo>
                <a:lnTo>
                  <a:pt x="20200" y="1400"/>
                </a:lnTo>
                <a:close/>
              </a:path>
              <a:path fill="darkenLess" w="21600" h="26404">
                <a:moveTo>
                  <a:pt x="21600" y="26404"/>
                </a:moveTo>
                <a:lnTo>
                  <a:pt x="0" y="26404"/>
                </a:lnTo>
                <a:lnTo>
                  <a:pt x="1400" y="25004"/>
                </a:lnTo>
                <a:lnTo>
                  <a:pt x="20200" y="25004"/>
                </a:lnTo>
                <a:close/>
              </a:path>
              <a:path fill="lighten" w="21600" h="26404">
                <a:moveTo>
                  <a:pt x="0" y="264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5004"/>
                </a:lnTo>
                <a:close/>
              </a:path>
              <a:path fill="darken" w="21600" h="26404">
                <a:moveTo>
                  <a:pt x="3794" y="9894"/>
                </a:moveTo>
                <a:lnTo>
                  <a:pt x="7301" y="9894"/>
                </a:lnTo>
                <a:lnTo>
                  <a:pt x="7301" y="15230"/>
                </a:lnTo>
                <a:cubicBezTo>
                  <a:pt x="7301" y="16152"/>
                  <a:pt x="8102" y="16884"/>
                  <a:pt x="9138" y="16884"/>
                </a:cubicBezTo>
                <a:lnTo>
                  <a:pt x="10800" y="16884"/>
                </a:lnTo>
                <a:cubicBezTo>
                  <a:pt x="11836" y="16884"/>
                  <a:pt x="12636" y="16152"/>
                  <a:pt x="12636" y="15230"/>
                </a:cubicBezTo>
                <a:lnTo>
                  <a:pt x="12636" y="9894"/>
                </a:lnTo>
                <a:lnTo>
                  <a:pt x="10800" y="9894"/>
                </a:lnTo>
                <a:lnTo>
                  <a:pt x="14308" y="6387"/>
                </a:lnTo>
                <a:lnTo>
                  <a:pt x="17981" y="9894"/>
                </a:lnTo>
                <a:lnTo>
                  <a:pt x="16144" y="9894"/>
                </a:lnTo>
                <a:lnTo>
                  <a:pt x="16144" y="15230"/>
                </a:lnTo>
                <a:cubicBezTo>
                  <a:pt x="16144" y="17998"/>
                  <a:pt x="13568" y="20557"/>
                  <a:pt x="10800" y="20557"/>
                </a:cubicBezTo>
                <a:lnTo>
                  <a:pt x="9138" y="20557"/>
                </a:lnTo>
                <a:cubicBezTo>
                  <a:pt x="6370" y="20557"/>
                  <a:pt x="3794" y="17998"/>
                  <a:pt x="3794" y="1523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"/>
          <p:cNvSpPr/>
          <p:nvPr/>
        </p:nvSpPr>
        <p:spPr>
          <a:xfrm>
            <a:off x="7093080" y="3645000"/>
            <a:ext cx="1368360" cy="111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ня, суток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часа, года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инуты, т. 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Если слыш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"/>
          <p:cNvSpPr txBox="1"/>
          <p:nvPr/>
        </p:nvSpPr>
        <p:spPr>
          <a:xfrm>
            <a:off x="468360" y="90792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й вопрос. Определи значение и 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существительное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– предлог                                             предл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д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– раздельно, на конце  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 падеж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че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н. п.          предл. п.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должен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Е                  -И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заключен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кл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пал (куда?)        изменения (где?)                               (под конец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течение               в течении реки                           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чему? прич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и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"/>
          <p:cNvSpPr txBox="1"/>
          <p:nvPr/>
        </p:nvSpPr>
        <p:spPr>
          <a:xfrm>
            <a:off x="971640" y="1052640"/>
            <a:ext cx="3529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течени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продолжени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2" name=""/>
          <p:cNvSpPr txBox="1"/>
          <p:nvPr/>
        </p:nvSpPr>
        <p:spPr>
          <a:xfrm>
            <a:off x="4859280" y="981000"/>
            <a:ext cx="34146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заключени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00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ледствие</a:t>
            </a:r>
            <a:endParaRPr b="0" lang="en-US" sz="1800" spc="1" strike="noStrike">
              <a:ln w="9360">
                <a:solidFill>
                  <a:srgbClr val="cc00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3" name=""/>
          <p:cNvSpPr/>
          <p:nvPr/>
        </p:nvSpPr>
        <p:spPr>
          <a:xfrm>
            <a:off x="6948360" y="3789360"/>
            <a:ext cx="144720" cy="936720"/>
          </a:xfrm>
          <a:custGeom>
            <a:avLst/>
            <a:gdLst>
              <a:gd name="textAreaLeft" fmla="*/ 0 w 144720"/>
              <a:gd name="textAreaRight" fmla="*/ 52200 w 14472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273"/>
                </a:lnTo>
                <a:cubicBezTo>
                  <a:pt x="10800" y="9173"/>
                  <a:pt x="16200" y="10073"/>
                  <a:pt x="21600" y="10073"/>
                </a:cubicBezTo>
                <a:cubicBezTo>
                  <a:pt x="16200" y="10073"/>
                  <a:pt x="10800" y="10973"/>
                  <a:pt x="10800" y="1187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4" name=""/>
          <p:cNvSpPr/>
          <p:nvPr/>
        </p:nvSpPr>
        <p:spPr>
          <a:xfrm>
            <a:off x="539640" y="1989000"/>
            <a:ext cx="3168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где? в чём? куда? во что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               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мест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5" name=""/>
          <p:cNvSpPr/>
          <p:nvPr/>
        </p:nvSpPr>
        <p:spPr>
          <a:xfrm>
            <a:off x="5580000" y="198900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когда?  врем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6" name=""/>
          <p:cNvSpPr/>
          <p:nvPr/>
        </p:nvSpPr>
        <p:spPr>
          <a:xfrm>
            <a:off x="4859280" y="609300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следств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= из-за) неурож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7" name=""/>
          <p:cNvSpPr/>
          <p:nvPr/>
        </p:nvSpPr>
        <p:spPr>
          <a:xfrm>
            <a:off x="1042920" y="6338880"/>
            <a:ext cx="3527640" cy="520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О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ре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последстви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8" name=""/>
          <p:cNvSpPr/>
          <p:nvPr/>
        </p:nvSpPr>
        <p:spPr>
          <a:xfrm>
            <a:off x="395280" y="1989000"/>
            <a:ext cx="4105440" cy="424836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9" name=""/>
          <p:cNvSpPr/>
          <p:nvPr/>
        </p:nvSpPr>
        <p:spPr>
          <a:xfrm>
            <a:off x="4788000" y="1989000"/>
            <a:ext cx="4105080" cy="4680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0" name="">
            <a:hlinkClick r:id="" action="ppaction://hlinkshowjump?jump=previousslide"/>
          </p:cNvPr>
          <p:cNvSpPr/>
          <p:nvPr/>
        </p:nvSpPr>
        <p:spPr>
          <a:xfrm>
            <a:off x="8532720" y="5950080"/>
            <a:ext cx="611280" cy="907920"/>
          </a:xfrm>
          <a:custGeom>
            <a:avLst/>
            <a:gdLst>
              <a:gd name="textAreaLeft" fmla="*/ 39600 w 611280"/>
              <a:gd name="textAreaRight" fmla="*/ 571680 w 611280"/>
              <a:gd name="textAreaTop" fmla="*/ 39600 h 907920"/>
              <a:gd name="textAreaBottom" fmla="*/ 868320 h 907920"/>
            </a:gdLst>
            <a:ahLst/>
            <a:rect l="textAreaLeft" t="textAreaTop" r="textAreaRight" b="textAreaBottom"/>
            <a:pathLst>
              <a:path w="21600" h="32076">
                <a:moveTo>
                  <a:pt x="0" y="0"/>
                </a:moveTo>
                <a:lnTo>
                  <a:pt x="21600" y="0"/>
                </a:lnTo>
                <a:lnTo>
                  <a:pt x="21600" y="32076"/>
                </a:lnTo>
                <a:lnTo>
                  <a:pt x="0" y="32076"/>
                </a:lnTo>
                <a:close/>
              </a:path>
              <a:path fill="lightenLess" w="21600" h="320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076">
                <a:moveTo>
                  <a:pt x="21600" y="0"/>
                </a:moveTo>
                <a:lnTo>
                  <a:pt x="21600" y="32076"/>
                </a:lnTo>
                <a:lnTo>
                  <a:pt x="20200" y="30676"/>
                </a:lnTo>
                <a:lnTo>
                  <a:pt x="20200" y="1400"/>
                </a:lnTo>
                <a:close/>
              </a:path>
              <a:path fill="darkenLess" w="21600" h="32076">
                <a:moveTo>
                  <a:pt x="21600" y="32076"/>
                </a:moveTo>
                <a:lnTo>
                  <a:pt x="0" y="32076"/>
                </a:lnTo>
                <a:lnTo>
                  <a:pt x="1400" y="30676"/>
                </a:lnTo>
                <a:lnTo>
                  <a:pt x="20200" y="30676"/>
                </a:lnTo>
                <a:close/>
              </a:path>
              <a:path fill="lighten" w="21600" h="32076">
                <a:moveTo>
                  <a:pt x="0" y="3207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676"/>
                </a:lnTo>
                <a:close/>
              </a:path>
              <a:path fill="darken" w="21600" h="32076">
                <a:moveTo>
                  <a:pt x="3794" y="12730"/>
                </a:moveTo>
                <a:lnTo>
                  <a:pt x="7301" y="12730"/>
                </a:lnTo>
                <a:lnTo>
                  <a:pt x="7301" y="18066"/>
                </a:lnTo>
                <a:cubicBezTo>
                  <a:pt x="7301" y="18988"/>
                  <a:pt x="8102" y="19720"/>
                  <a:pt x="9138" y="19720"/>
                </a:cubicBezTo>
                <a:lnTo>
                  <a:pt x="10800" y="19720"/>
                </a:lnTo>
                <a:cubicBezTo>
                  <a:pt x="11836" y="19720"/>
                  <a:pt x="12636" y="18988"/>
                  <a:pt x="12636" y="18066"/>
                </a:cubicBezTo>
                <a:lnTo>
                  <a:pt x="12636" y="12730"/>
                </a:lnTo>
                <a:lnTo>
                  <a:pt x="10800" y="12730"/>
                </a:lnTo>
                <a:lnTo>
                  <a:pt x="14308" y="9223"/>
                </a:lnTo>
                <a:lnTo>
                  <a:pt x="17981" y="12730"/>
                </a:lnTo>
                <a:lnTo>
                  <a:pt x="16144" y="12730"/>
                </a:lnTo>
                <a:lnTo>
                  <a:pt x="16144" y="18066"/>
                </a:lnTo>
                <a:cubicBezTo>
                  <a:pt x="16144" y="20834"/>
                  <a:pt x="13568" y="23393"/>
                  <a:pt x="10800" y="23393"/>
                </a:cubicBezTo>
                <a:lnTo>
                  <a:pt x="9138" y="23393"/>
                </a:lnTo>
                <a:cubicBezTo>
                  <a:pt x="6370" y="23393"/>
                  <a:pt x="3794" y="20834"/>
                  <a:pt x="3794" y="18066"/>
                </a:cubicBezTo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юзы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тоже,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также, что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юзы тоже, также, чтобы пишутся сли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432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личай от сочета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ТАК ЖЕ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речие с частиц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ын учился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так 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хорошо, как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ТО Ж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местоимение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астиц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То 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слово, да не так молв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ЧТО БЫ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Что бы ни сдел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ё получается хорош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астицы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ЖЕ, Б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гут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пущены или переставл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"/>
          <p:cNvSpPr txBox="1"/>
          <p:nvPr/>
        </p:nvSpPr>
        <p:spPr>
          <a:xfrm>
            <a:off x="611280" y="2492280"/>
            <a:ext cx="102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ож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5" name=""/>
          <p:cNvSpPr txBox="1"/>
          <p:nvPr/>
        </p:nvSpPr>
        <p:spPr>
          <a:xfrm>
            <a:off x="539640" y="3573360"/>
            <a:ext cx="1228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такж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6" name=""/>
          <p:cNvSpPr txBox="1"/>
          <p:nvPr/>
        </p:nvSpPr>
        <p:spPr>
          <a:xfrm>
            <a:off x="395280" y="4869000"/>
            <a:ext cx="1305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тоб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97" name=""/>
          <p:cNvSpPr/>
          <p:nvPr/>
        </p:nvSpPr>
        <p:spPr>
          <a:xfrm>
            <a:off x="1908000" y="2349360"/>
            <a:ext cx="287640" cy="1800360"/>
          </a:xfrm>
          <a:custGeom>
            <a:avLst/>
            <a:gdLst>
              <a:gd name="textAreaLeft" fmla="*/ 0 w 287640"/>
              <a:gd name="textAreaRight" fmla="*/ 103680 w 287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8" name=""/>
          <p:cNvSpPr txBox="1"/>
          <p:nvPr/>
        </p:nvSpPr>
        <p:spPr>
          <a:xfrm>
            <a:off x="2700360" y="2637000"/>
            <a:ext cx="12952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99" name=""/>
          <p:cNvSpPr txBox="1"/>
          <p:nvPr/>
        </p:nvSpPr>
        <p:spPr>
          <a:xfrm>
            <a:off x="2124000" y="5084640"/>
            <a:ext cx="1981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= для тог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б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468360" y="429264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ец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тож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учился в институ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1" name=""/>
          <p:cNvSpPr/>
          <p:nvPr/>
        </p:nvSpPr>
        <p:spPr>
          <a:xfrm>
            <a:off x="250920" y="630864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Чтобы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знать, надо хорошо учиться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2" name=""/>
          <p:cNvSpPr/>
          <p:nvPr/>
        </p:nvSpPr>
        <p:spPr>
          <a:xfrm>
            <a:off x="250920" y="1341360"/>
            <a:ext cx="4321080" cy="532764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3" name=""/>
          <p:cNvSpPr/>
          <p:nvPr/>
        </p:nvSpPr>
        <p:spPr>
          <a:xfrm>
            <a:off x="4716360" y="1341360"/>
            <a:ext cx="4176720" cy="44640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4" name=""/>
          <p:cNvSpPr txBox="1"/>
          <p:nvPr/>
        </p:nvSpPr>
        <p:spPr>
          <a:xfrm>
            <a:off x="5219640" y="6021360"/>
            <a:ext cx="180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омн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5" name=""/>
          <p:cNvSpPr/>
          <p:nvPr/>
        </p:nvSpPr>
        <p:spPr>
          <a:xfrm>
            <a:off x="8172360" y="5950080"/>
            <a:ext cx="971640" cy="907920"/>
          </a:xfrm>
          <a:custGeom>
            <a:avLst/>
            <a:gdLst>
              <a:gd name="textAreaLeft" fmla="*/ 58680 w 971640"/>
              <a:gd name="textAreaRight" fmla="*/ 912960 w 971640"/>
              <a:gd name="textAreaTop" fmla="*/ 58680 h 907920"/>
              <a:gd name="textAreaBottom" fmla="*/ 849240 h 907920"/>
            </a:gdLst>
            <a:ahLst/>
            <a:rect l="textAreaLeft" t="textAreaTop" r="textAreaRight" b="textAreaBottom"/>
            <a:pathLst>
              <a:path w="23115" h="21600">
                <a:moveTo>
                  <a:pt x="0" y="0"/>
                </a:moveTo>
                <a:lnTo>
                  <a:pt x="23115" y="0"/>
                </a:lnTo>
                <a:lnTo>
                  <a:pt x="23115" y="21600"/>
                </a:lnTo>
                <a:lnTo>
                  <a:pt x="0" y="21600"/>
                </a:lnTo>
                <a:close/>
              </a:path>
              <a:path fill="lightenLess" w="23115" h="21600">
                <a:moveTo>
                  <a:pt x="0" y="0"/>
                </a:moveTo>
                <a:lnTo>
                  <a:pt x="23115" y="0"/>
                </a:lnTo>
                <a:lnTo>
                  <a:pt x="21715" y="1400"/>
                </a:lnTo>
                <a:lnTo>
                  <a:pt x="1400" y="1400"/>
                </a:lnTo>
                <a:close/>
              </a:path>
              <a:path fill="darken" w="23115" h="21600">
                <a:moveTo>
                  <a:pt x="23115" y="0"/>
                </a:moveTo>
                <a:lnTo>
                  <a:pt x="23115" y="21600"/>
                </a:lnTo>
                <a:lnTo>
                  <a:pt x="21715" y="20200"/>
                </a:lnTo>
                <a:lnTo>
                  <a:pt x="21715" y="1400"/>
                </a:lnTo>
                <a:close/>
              </a:path>
              <a:path fill="darkenLess" w="23115" h="21600">
                <a:moveTo>
                  <a:pt x="231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15" y="20200"/>
                </a:lnTo>
                <a:close/>
              </a:path>
              <a:path fill="lighten" w="231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15" h="21600">
                <a:moveTo>
                  <a:pt x="4551" y="7493"/>
                </a:moveTo>
                <a:lnTo>
                  <a:pt x="8059" y="7493"/>
                </a:lnTo>
                <a:lnTo>
                  <a:pt x="8059" y="12828"/>
                </a:lnTo>
                <a:cubicBezTo>
                  <a:pt x="8059" y="13751"/>
                  <a:pt x="8860" y="14482"/>
                  <a:pt x="9895" y="14482"/>
                </a:cubicBezTo>
                <a:lnTo>
                  <a:pt x="11558" y="14482"/>
                </a:lnTo>
                <a:cubicBezTo>
                  <a:pt x="12593" y="14482"/>
                  <a:pt x="13394" y="13751"/>
                  <a:pt x="13394" y="12828"/>
                </a:cubicBezTo>
                <a:lnTo>
                  <a:pt x="13394" y="7493"/>
                </a:lnTo>
                <a:lnTo>
                  <a:pt x="11558" y="7493"/>
                </a:lnTo>
                <a:lnTo>
                  <a:pt x="15065" y="3985"/>
                </a:lnTo>
                <a:lnTo>
                  <a:pt x="18738" y="7493"/>
                </a:lnTo>
                <a:lnTo>
                  <a:pt x="16902" y="7493"/>
                </a:lnTo>
                <a:lnTo>
                  <a:pt x="16902" y="12828"/>
                </a:lnTo>
                <a:cubicBezTo>
                  <a:pt x="16902" y="15596"/>
                  <a:pt x="14325" y="18155"/>
                  <a:pt x="11558" y="18155"/>
                </a:cubicBezTo>
                <a:lnTo>
                  <a:pt x="9895" y="18155"/>
                </a:lnTo>
                <a:cubicBezTo>
                  <a:pt x="7127" y="18155"/>
                  <a:pt x="4551" y="15596"/>
                  <a:pt x="4551" y="12828"/>
                </a:cubicBezTo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сегда раздельно в сочетан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так же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как 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 то же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что и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 то же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одно и то же,    то же (само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точно так же,  всё так 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о что бы то ни ст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"/>
          <p:cNvSpPr txBox="1"/>
          <p:nvPr/>
        </p:nvSpPr>
        <p:spPr>
          <a:xfrm>
            <a:off x="2484360" y="260280"/>
            <a:ext cx="4175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апомн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8" name="">
            <a:hlinkClick r:id="" action="ppaction://hlinkshowjump?jump=previousslide"/>
          </p:cNvPr>
          <p:cNvSpPr/>
          <p:nvPr/>
        </p:nvSpPr>
        <p:spPr>
          <a:xfrm>
            <a:off x="8172360" y="6093000"/>
            <a:ext cx="971640" cy="765000"/>
          </a:xfrm>
          <a:custGeom>
            <a:avLst/>
            <a:gdLst>
              <a:gd name="textAreaLeft" fmla="*/ 49320 w 971640"/>
              <a:gd name="textAreaRight" fmla="*/ 922320 w 97164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27432" h="21600">
                <a:moveTo>
                  <a:pt x="0" y="0"/>
                </a:moveTo>
                <a:lnTo>
                  <a:pt x="27432" y="0"/>
                </a:lnTo>
                <a:lnTo>
                  <a:pt x="27432" y="21600"/>
                </a:lnTo>
                <a:lnTo>
                  <a:pt x="0" y="21600"/>
                </a:lnTo>
                <a:close/>
              </a:path>
              <a:path fill="lightenLess" w="27432" h="21600">
                <a:moveTo>
                  <a:pt x="0" y="0"/>
                </a:moveTo>
                <a:lnTo>
                  <a:pt x="27432" y="0"/>
                </a:lnTo>
                <a:lnTo>
                  <a:pt x="26032" y="1400"/>
                </a:lnTo>
                <a:lnTo>
                  <a:pt x="1400" y="1400"/>
                </a:lnTo>
                <a:close/>
              </a:path>
              <a:path fill="darken" w="27432" h="21600">
                <a:moveTo>
                  <a:pt x="27432" y="0"/>
                </a:moveTo>
                <a:lnTo>
                  <a:pt x="27432" y="21600"/>
                </a:lnTo>
                <a:lnTo>
                  <a:pt x="26032" y="20200"/>
                </a:lnTo>
                <a:lnTo>
                  <a:pt x="26032" y="1400"/>
                </a:lnTo>
                <a:close/>
              </a:path>
              <a:path fill="darkenLess" w="27432" h="21600">
                <a:moveTo>
                  <a:pt x="274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32" y="20200"/>
                </a:lnTo>
                <a:close/>
              </a:path>
              <a:path fill="lighten" w="274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32" h="21600">
                <a:moveTo>
                  <a:pt x="6709" y="7493"/>
                </a:moveTo>
                <a:lnTo>
                  <a:pt x="10217" y="7493"/>
                </a:lnTo>
                <a:lnTo>
                  <a:pt x="10217" y="12828"/>
                </a:lnTo>
                <a:cubicBezTo>
                  <a:pt x="10217" y="13751"/>
                  <a:pt x="11018" y="14482"/>
                  <a:pt x="12053" y="14482"/>
                </a:cubicBezTo>
                <a:lnTo>
                  <a:pt x="13716" y="14482"/>
                </a:lnTo>
                <a:cubicBezTo>
                  <a:pt x="14752" y="14482"/>
                  <a:pt x="15552" y="13751"/>
                  <a:pt x="15552" y="12828"/>
                </a:cubicBezTo>
                <a:lnTo>
                  <a:pt x="15552" y="7493"/>
                </a:lnTo>
                <a:lnTo>
                  <a:pt x="13716" y="7493"/>
                </a:lnTo>
                <a:lnTo>
                  <a:pt x="17223" y="3985"/>
                </a:lnTo>
                <a:lnTo>
                  <a:pt x="20896" y="7493"/>
                </a:lnTo>
                <a:lnTo>
                  <a:pt x="19060" y="7493"/>
                </a:lnTo>
                <a:lnTo>
                  <a:pt x="19060" y="12828"/>
                </a:lnTo>
                <a:cubicBezTo>
                  <a:pt x="19060" y="15596"/>
                  <a:pt x="16484" y="18155"/>
                  <a:pt x="13716" y="18155"/>
                </a:cubicBezTo>
                <a:lnTo>
                  <a:pt x="12053" y="18155"/>
                </a:lnTo>
                <a:cubicBezTo>
                  <a:pt x="9286" y="18155"/>
                  <a:pt x="6709" y="15596"/>
                  <a:pt x="6709" y="12828"/>
                </a:cubicBezTo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0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2" dur="2000" fill="hold"/>
                                        <p:tgtEl>
                                          <p:spTgt spid="28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5" dur="2000" fill="hold"/>
                                        <p:tgtEl>
                                          <p:spTgt spid="28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8" dur="2000" fill="hold"/>
                                        <p:tgtEl>
                                          <p:spTgt spid="28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1" dur="2000" fill="hold"/>
                                        <p:tgtEl>
                                          <p:spTgt spid="28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8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4" dur="2000" fill="hold"/>
                                        <p:tgtEl>
                                          <p:spTgt spid="28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Arial"/>
              </a:rPr>
              <a:t>Употребление дефи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0" name=""/>
          <p:cNvGraphicFramePr/>
          <p:nvPr/>
        </p:nvGraphicFramePr>
        <p:xfrm>
          <a:off x="457200" y="1600200"/>
          <a:ext cx="8229600" cy="4070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лужебных словах и междомети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жду слов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– з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 – по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х – ах  (междом.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ё – та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 – ха – х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щ.              ч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л – 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л.               ч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 – 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.               ч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ал – т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аг.                       част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неси - 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1" name=""/>
          <p:cNvSpPr/>
          <p:nvPr/>
        </p:nvSpPr>
        <p:spPr>
          <a:xfrm>
            <a:off x="179280" y="5805360"/>
            <a:ext cx="864072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ждометия, образованные повторением слов, пишутся с дефисом.  №7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179280" y="6237360"/>
            <a:ext cx="85694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астицы  -то и  -ка присоединяются к другим словам через дефис. №69, 7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3" name="">
            <a:hlinkClick r:id="" action="ppaction://hlinkshowjump?jump=previousslide"/>
          </p:cNvPr>
          <p:cNvSpPr/>
          <p:nvPr/>
        </p:nvSpPr>
        <p:spPr>
          <a:xfrm>
            <a:off x="8317080" y="6021360"/>
            <a:ext cx="826920" cy="836640"/>
          </a:xfrm>
          <a:custGeom>
            <a:avLst/>
            <a:gdLst>
              <a:gd name="textAreaLeft" fmla="*/ 53280 w 826920"/>
              <a:gd name="textAreaRight" fmla="*/ 773640 w 826920"/>
              <a:gd name="textAreaTop" fmla="*/ 53280 h 836640"/>
              <a:gd name="textAreaBottom" fmla="*/ 783360 h 836640"/>
            </a:gdLst>
            <a:ahLst/>
            <a:rect l="textAreaLeft" t="textAreaTop" r="textAreaRight" b="textAreaBottom"/>
            <a:pathLst>
              <a:path w="21600" h="21854">
                <a:moveTo>
                  <a:pt x="0" y="0"/>
                </a:moveTo>
                <a:lnTo>
                  <a:pt x="21600" y="0"/>
                </a:lnTo>
                <a:lnTo>
                  <a:pt x="21600" y="21854"/>
                </a:lnTo>
                <a:lnTo>
                  <a:pt x="0" y="21854"/>
                </a:lnTo>
                <a:close/>
              </a:path>
              <a:path fill="lightenLess" w="21600" h="218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54">
                <a:moveTo>
                  <a:pt x="21600" y="0"/>
                </a:moveTo>
                <a:lnTo>
                  <a:pt x="21600" y="21854"/>
                </a:lnTo>
                <a:lnTo>
                  <a:pt x="20200" y="20454"/>
                </a:lnTo>
                <a:lnTo>
                  <a:pt x="20200" y="1400"/>
                </a:lnTo>
                <a:close/>
              </a:path>
              <a:path fill="darkenLess" w="21600" h="21854">
                <a:moveTo>
                  <a:pt x="21600" y="21854"/>
                </a:moveTo>
                <a:lnTo>
                  <a:pt x="0" y="21854"/>
                </a:lnTo>
                <a:lnTo>
                  <a:pt x="1400" y="20454"/>
                </a:lnTo>
                <a:lnTo>
                  <a:pt x="20200" y="20454"/>
                </a:lnTo>
                <a:close/>
              </a:path>
              <a:path fill="lighten" w="21600" h="21854">
                <a:moveTo>
                  <a:pt x="0" y="218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54"/>
                </a:lnTo>
                <a:close/>
              </a:path>
              <a:path fill="darken" w="21600" h="21854">
                <a:moveTo>
                  <a:pt x="3794" y="7619"/>
                </a:moveTo>
                <a:lnTo>
                  <a:pt x="7301" y="7619"/>
                </a:lnTo>
                <a:lnTo>
                  <a:pt x="7301" y="12955"/>
                </a:lnTo>
                <a:cubicBezTo>
                  <a:pt x="7301" y="13877"/>
                  <a:pt x="8102" y="14609"/>
                  <a:pt x="9138" y="14609"/>
                </a:cubicBezTo>
                <a:lnTo>
                  <a:pt x="10800" y="14609"/>
                </a:lnTo>
                <a:cubicBezTo>
                  <a:pt x="11836" y="14609"/>
                  <a:pt x="12636" y="13877"/>
                  <a:pt x="12636" y="12955"/>
                </a:cubicBezTo>
                <a:lnTo>
                  <a:pt x="12636" y="7619"/>
                </a:lnTo>
                <a:lnTo>
                  <a:pt x="10800" y="7619"/>
                </a:lnTo>
                <a:lnTo>
                  <a:pt x="14308" y="4112"/>
                </a:lnTo>
                <a:lnTo>
                  <a:pt x="17981" y="7619"/>
                </a:lnTo>
                <a:lnTo>
                  <a:pt x="16144" y="7619"/>
                </a:lnTo>
                <a:lnTo>
                  <a:pt x="16144" y="12955"/>
                </a:lnTo>
                <a:cubicBezTo>
                  <a:pt x="16144" y="15723"/>
                  <a:pt x="13568" y="18282"/>
                  <a:pt x="10800" y="18282"/>
                </a:cubicBezTo>
                <a:lnTo>
                  <a:pt x="9138" y="18282"/>
                </a:lnTo>
                <a:cubicBezTo>
                  <a:pt x="6370" y="18282"/>
                  <a:pt x="3794" y="15723"/>
                  <a:pt x="3794" y="12955"/>
                </a:cubicBezTo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lus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3399"/>
            </a:gs>
            <a:gs pos="50000">
              <a:srgbClr val="ffffff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авописание Ь после шипящих в наречиях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е сл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611280" y="220500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Исключени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7" name="">
            <a:hlinkClick r:id="" action="ppaction://hlinkshowjump?jump=previousslide"/>
          </p:cNvPr>
          <p:cNvSpPr/>
          <p:nvPr/>
        </p:nvSpPr>
        <p:spPr>
          <a:xfrm>
            <a:off x="8136000" y="5877000"/>
            <a:ext cx="1008000" cy="981000"/>
          </a:xfrm>
          <a:custGeom>
            <a:avLst/>
            <a:gdLst>
              <a:gd name="textAreaLeft" fmla="*/ 63360 w 1008000"/>
              <a:gd name="textAreaRight" fmla="*/ 944640 w 1008000"/>
              <a:gd name="textAreaTop" fmla="*/ 63360 h 981000"/>
              <a:gd name="textAreaBottom" fmla="*/ 917640 h 981000"/>
            </a:gdLst>
            <a:ahLst/>
            <a:rect l="textAreaLeft" t="textAreaTop" r="textAreaRight" b="textAreaBottom"/>
            <a:pathLst>
              <a:path w="22194" h="21600">
                <a:moveTo>
                  <a:pt x="0" y="0"/>
                </a:moveTo>
                <a:lnTo>
                  <a:pt x="22194" y="0"/>
                </a:lnTo>
                <a:lnTo>
                  <a:pt x="22194" y="21600"/>
                </a:lnTo>
                <a:lnTo>
                  <a:pt x="0" y="21600"/>
                </a:lnTo>
                <a:close/>
              </a:path>
              <a:path fill="lightenLess" w="22194" h="21600">
                <a:moveTo>
                  <a:pt x="0" y="0"/>
                </a:moveTo>
                <a:lnTo>
                  <a:pt x="22194" y="0"/>
                </a:lnTo>
                <a:lnTo>
                  <a:pt x="20794" y="1400"/>
                </a:lnTo>
                <a:lnTo>
                  <a:pt x="1400" y="1400"/>
                </a:lnTo>
                <a:close/>
              </a:path>
              <a:path fill="darken" w="22194" h="21600">
                <a:moveTo>
                  <a:pt x="22194" y="0"/>
                </a:moveTo>
                <a:lnTo>
                  <a:pt x="22194" y="21600"/>
                </a:lnTo>
                <a:lnTo>
                  <a:pt x="20794" y="20200"/>
                </a:lnTo>
                <a:lnTo>
                  <a:pt x="20794" y="1400"/>
                </a:lnTo>
                <a:close/>
              </a:path>
              <a:path fill="darkenLess" w="22194" h="21600">
                <a:moveTo>
                  <a:pt x="22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94" y="20200"/>
                </a:lnTo>
                <a:close/>
              </a:path>
              <a:path fill="lighten" w="22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194" h="21600">
                <a:moveTo>
                  <a:pt x="4091" y="7493"/>
                </a:moveTo>
                <a:lnTo>
                  <a:pt x="7598" y="7493"/>
                </a:lnTo>
                <a:lnTo>
                  <a:pt x="7598" y="12828"/>
                </a:lnTo>
                <a:cubicBezTo>
                  <a:pt x="7598" y="13751"/>
                  <a:pt x="8399" y="14482"/>
                  <a:pt x="9435" y="14482"/>
                </a:cubicBezTo>
                <a:lnTo>
                  <a:pt x="11097" y="14482"/>
                </a:lnTo>
                <a:cubicBezTo>
                  <a:pt x="12133" y="14482"/>
                  <a:pt x="12934" y="13751"/>
                  <a:pt x="12934" y="12828"/>
                </a:cubicBezTo>
                <a:lnTo>
                  <a:pt x="12934" y="7493"/>
                </a:lnTo>
                <a:lnTo>
                  <a:pt x="11097" y="7493"/>
                </a:lnTo>
                <a:lnTo>
                  <a:pt x="14605" y="3985"/>
                </a:lnTo>
                <a:lnTo>
                  <a:pt x="18278" y="7493"/>
                </a:lnTo>
                <a:lnTo>
                  <a:pt x="16441" y="7493"/>
                </a:lnTo>
                <a:lnTo>
                  <a:pt x="16441" y="12828"/>
                </a:lnTo>
                <a:cubicBezTo>
                  <a:pt x="16441" y="15596"/>
                  <a:pt x="13865" y="18155"/>
                  <a:pt x="11097" y="18155"/>
                </a:cubicBezTo>
                <a:lnTo>
                  <a:pt x="9435" y="18155"/>
                </a:lnTo>
                <a:cubicBezTo>
                  <a:pt x="6667" y="18155"/>
                  <a:pt x="4091" y="15596"/>
                  <a:pt x="4091" y="12828"/>
                </a:cubicBezTo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8" name=""/>
          <p:cNvGrpSpPr/>
          <p:nvPr/>
        </p:nvGrpSpPr>
        <p:grpSpPr>
          <a:xfrm>
            <a:off x="539640" y="2997360"/>
            <a:ext cx="3241800" cy="2447640"/>
            <a:chOff x="539640" y="2997360"/>
            <a:chExt cx="3241800" cy="2447640"/>
          </a:xfrm>
        </p:grpSpPr>
        <p:sp>
          <p:nvSpPr>
            <p:cNvPr id="2819" name=""/>
            <p:cNvSpPr/>
            <p:nvPr/>
          </p:nvSpPr>
          <p:spPr>
            <a:xfrm>
              <a:off x="539640" y="2997360"/>
              <a:ext cx="3240360" cy="2447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612720" y="3141360"/>
              <a:ext cx="316872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                  </a:t>
              </a: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Д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у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му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невтерпёж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1" name=""/>
          <p:cNvSpPr txBox="1"/>
          <p:nvPr/>
        </p:nvSpPr>
        <p:spPr>
          <a:xfrm>
            <a:off x="395280" y="3141720"/>
            <a:ext cx="15112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ез 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2822" name=""/>
          <p:cNvGrpSpPr/>
          <p:nvPr/>
        </p:nvGrpSpPr>
        <p:grpSpPr>
          <a:xfrm>
            <a:off x="5148360" y="2276640"/>
            <a:ext cx="2950920" cy="2158920"/>
            <a:chOff x="5148360" y="2276640"/>
            <a:chExt cx="2950920" cy="2158920"/>
          </a:xfrm>
        </p:grpSpPr>
        <p:sp>
          <p:nvSpPr>
            <p:cNvPr id="2823" name=""/>
            <p:cNvSpPr/>
            <p:nvPr/>
          </p:nvSpPr>
          <p:spPr>
            <a:xfrm>
              <a:off x="5148360" y="2276640"/>
              <a:ext cx="2950920" cy="2158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219640" y="2276640"/>
              <a:ext cx="287964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33520" indent="-5335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Не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проч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сплош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533520" indent="-533520"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настежь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5" name=""/>
          <p:cNvSpPr txBox="1"/>
          <p:nvPr/>
        </p:nvSpPr>
        <p:spPr>
          <a:xfrm rot="20944800">
            <a:off x="5940000" y="3933360"/>
            <a:ext cx="3203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ягки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к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0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2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6" dur="2000"/>
                                        <p:tgtEl>
                                          <p:spTgt spid="2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0" dur="2000"/>
                                        <p:tgtEl>
                                          <p:spTgt spid="2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6" dur="500"/>
                                        <p:tgtEl>
                                          <p:spTgt spid="2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1" dur="20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28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7" dur="500"/>
                                        <p:tgtEl>
                                          <p:spTgt spid="2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равописание чередующихся гласных зависит о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182600" y="1773000"/>
            <a:ext cx="7772400" cy="4359240"/>
          </a:xfrm>
          <a:prstGeom prst="rect">
            <a:avLst/>
          </a:prstGeom>
          <a:noFill/>
          <a:ln w="9360">
            <a:solidFill>
              <a:srgbClr val="66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буквы в кор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ла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- - л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ж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лаг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ть,  по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лож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т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рас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 - -рос- - -ра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щ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ст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ние, 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ос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и, вы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ращ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енны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e4a8"/>
                </a:solidFill>
                <a:latin typeface="Tahoma"/>
              </a:rPr>
              <a:t>Исключ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трасль, росток, ростовщик, на вырос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">
            <a:hlinkClick r:id="" action="ppaction://hlinkshowjump?jump=previousslide"/>
          </p:cNvPr>
          <p:cNvSpPr/>
          <p:nvPr/>
        </p:nvSpPr>
        <p:spPr>
          <a:xfrm>
            <a:off x="7740720" y="5661000"/>
            <a:ext cx="1403280" cy="1197000"/>
          </a:xfrm>
          <a:custGeom>
            <a:avLst/>
            <a:gdLst>
              <a:gd name="textAreaLeft" fmla="*/ 77400 w 1403280"/>
              <a:gd name="textAreaRight" fmla="*/ 1325880 w 14032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5321" h="21600">
                <a:moveTo>
                  <a:pt x="0" y="0"/>
                </a:moveTo>
                <a:lnTo>
                  <a:pt x="25321" y="0"/>
                </a:lnTo>
                <a:lnTo>
                  <a:pt x="25321" y="21600"/>
                </a:lnTo>
                <a:lnTo>
                  <a:pt x="0" y="21600"/>
                </a:lnTo>
                <a:close/>
              </a:path>
              <a:path fill="lightenLess" w="25321" h="21600">
                <a:moveTo>
                  <a:pt x="0" y="0"/>
                </a:moveTo>
                <a:lnTo>
                  <a:pt x="25321" y="0"/>
                </a:lnTo>
                <a:lnTo>
                  <a:pt x="23921" y="1400"/>
                </a:lnTo>
                <a:lnTo>
                  <a:pt x="1400" y="1400"/>
                </a:lnTo>
                <a:close/>
              </a:path>
              <a:path fill="darken" w="25321" h="21600">
                <a:moveTo>
                  <a:pt x="25321" y="0"/>
                </a:moveTo>
                <a:lnTo>
                  <a:pt x="25321" y="21600"/>
                </a:lnTo>
                <a:lnTo>
                  <a:pt x="23921" y="20200"/>
                </a:lnTo>
                <a:lnTo>
                  <a:pt x="23921" y="1400"/>
                </a:lnTo>
                <a:close/>
              </a:path>
              <a:path fill="darkenLess" w="25321" h="21600">
                <a:moveTo>
                  <a:pt x="253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21" y="20200"/>
                </a:lnTo>
                <a:close/>
              </a:path>
              <a:path fill="lighten" w="253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321" h="21600">
                <a:moveTo>
                  <a:pt x="5654" y="7493"/>
                </a:moveTo>
                <a:lnTo>
                  <a:pt x="9162" y="7493"/>
                </a:lnTo>
                <a:lnTo>
                  <a:pt x="9162" y="12828"/>
                </a:lnTo>
                <a:cubicBezTo>
                  <a:pt x="9162" y="13751"/>
                  <a:pt x="9962" y="14482"/>
                  <a:pt x="10998" y="14482"/>
                </a:cubicBezTo>
                <a:lnTo>
                  <a:pt x="12661" y="14482"/>
                </a:lnTo>
                <a:cubicBezTo>
                  <a:pt x="13696" y="14482"/>
                  <a:pt x="14497" y="13751"/>
                  <a:pt x="14497" y="12828"/>
                </a:cubicBezTo>
                <a:lnTo>
                  <a:pt x="14497" y="7493"/>
                </a:lnTo>
                <a:lnTo>
                  <a:pt x="12661" y="7493"/>
                </a:lnTo>
                <a:lnTo>
                  <a:pt x="16168" y="3985"/>
                </a:lnTo>
                <a:lnTo>
                  <a:pt x="19841" y="7493"/>
                </a:lnTo>
                <a:lnTo>
                  <a:pt x="18005" y="7493"/>
                </a:lnTo>
                <a:lnTo>
                  <a:pt x="18005" y="12828"/>
                </a:lnTo>
                <a:cubicBezTo>
                  <a:pt x="18005" y="15596"/>
                  <a:pt x="15428" y="18155"/>
                  <a:pt x="12661" y="18155"/>
                </a:cubicBezTo>
                <a:lnTo>
                  <a:pt x="10998" y="18155"/>
                </a:lnTo>
                <a:cubicBezTo>
                  <a:pt x="8230" y="18155"/>
                  <a:pt x="5654" y="15596"/>
                  <a:pt x="5654" y="12828"/>
                </a:cubicBezTo>
                <a:close/>
              </a:path>
            </a:pathLst>
          </a:cu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9T18:00:58Z</dcterms:created>
  <dc:creator>1</dc:creator>
  <dc:description/>
  <dc:language>en-US</dc:language>
  <cp:lastModifiedBy>ученик</cp:lastModifiedBy>
  <dcterms:modified xsi:type="dcterms:W3CDTF">2008-11-07T07:20:14Z</dcterms:modified>
  <cp:revision>279</cp:revision>
  <dc:subject/>
  <dc:title>Повтори орфографию</dc:title>
</cp:coreProperties>
</file>