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6.gif" ContentType="image/gif"/>
  <Override PartName="/ppt/media/image36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47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8.png" ContentType="image/png"/>
  <Override PartName="/ppt/media/image10.gif" ContentType="image/gif"/>
  <Override PartName="/ppt/media/image31.png" ContentType="image/png"/>
  <Override PartName="/ppt/media/image30.png" ContentType="image/png"/>
  <Override PartName="/ppt/media/image7.gif" ContentType="image/gif"/>
  <Override PartName="/ppt/media/image5.jpeg" ContentType="image/jpeg"/>
  <Override PartName="/ppt/media/image11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8.gif" ContentType="image/gif"/>
  <Override PartName="/ppt/media/image40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4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  <p:sldId id="282" r:id="rId62"/>
    <p:sldId id="283" r:id="rId63"/>
    <p:sldId id="284" r:id="rId64"/>
    <p:sldId id="285" r:id="rId65"/>
    <p:sldId id="286" r:id="rId66"/>
    <p:sldId id="287" r:id="rId67"/>
    <p:sldId id="288" r:id="rId68"/>
    <p:sldId id="289" r:id="rId69"/>
    <p:sldId id="290" r:id="rId70"/>
    <p:sldId id="291" r:id="rId71"/>
    <p:sldId id="292" r:id="rId72"/>
    <p:sldId id="293" r:id="rId73"/>
    <p:sldId id="294" r:id="rId74"/>
    <p:sldId id="295" r:id="rId75"/>
    <p:sldId id="296" r:id="rId76"/>
    <p:sldId id="297" r:id="rId77"/>
    <p:sldId id="298" r:id="rId78"/>
    <p:sldId id="299" r:id="rId79"/>
    <p:sldId id="300" r:id="rId80"/>
    <p:sldId id="301" r:id="rId81"/>
    <p:sldId id="302" r:id="rId82"/>
    <p:sldId id="303" r:id="rId83"/>
    <p:sldId id="304" r:id="rId84"/>
    <p:sldId id="305" r:id="rId85"/>
    <p:sldId id="306" r:id="rId86"/>
    <p:sldId id="307" r:id="rId87"/>
    <p:sldId id="308" r:id="rId88"/>
    <p:sldId id="309" r:id="rId89"/>
    <p:sldId id="310" r:id="rId90"/>
    <p:sldId id="311" r:id="rId91"/>
    <p:sldId id="312" r:id="rId92"/>
    <p:sldId id="313" r:id="rId93"/>
    <p:sldId id="314" r:id="rId94"/>
    <p:sldId id="315" r:id="rId95"/>
    <p:sldId id="316" r:id="rId96"/>
    <p:sldId id="317" r:id="rId97"/>
    <p:sldId id="318" r:id="rId98"/>
    <p:sldId id="319" r:id="rId99"/>
    <p:sldId id="320" r:id="rId100"/>
    <p:sldId id="321" r:id="rId101"/>
    <p:sldId id="322" r:id="rId102"/>
    <p:sldId id="323" r:id="rId103"/>
    <p:sldId id="324" r:id="rId104"/>
    <p:sldId id="325" r:id="rId105"/>
    <p:sldId id="326" r:id="rId106"/>
    <p:sldId id="327" r:id="rId107"/>
    <p:sldId id="328" r:id="rId108"/>
    <p:sldId id="329" r:id="rId109"/>
    <p:sldId id="330" r:id="rId110"/>
    <p:sldId id="331" r:id="rId111"/>
    <p:sldId id="332" r:id="rId112"/>
    <p:sldId id="333" r:id="rId113"/>
    <p:sldId id="334" r:id="rId114"/>
    <p:sldId id="335" r:id="rId115"/>
    <p:sldId id="336" r:id="rId116"/>
    <p:sldId id="337" r:id="rId117"/>
    <p:sldId id="338" r:id="rId118"/>
    <p:sldId id="339" r:id="rId119"/>
    <p:sldId id="340" r:id="rId120"/>
  </p:sldIdLst>
  <p:sldSz cx="9144000" cy="6858000"/>
  <p:notesSz cx="9677400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slide" Target="slides/slide27.xml"/><Relationship Id="rId63" Type="http://schemas.openxmlformats.org/officeDocument/2006/relationships/slide" Target="slides/slide28.xml"/><Relationship Id="rId64" Type="http://schemas.openxmlformats.org/officeDocument/2006/relationships/slide" Target="slides/slide29.xml"/><Relationship Id="rId65" Type="http://schemas.openxmlformats.org/officeDocument/2006/relationships/slide" Target="slides/slide30.xml"/><Relationship Id="rId66" Type="http://schemas.openxmlformats.org/officeDocument/2006/relationships/slide" Target="slides/slide31.xml"/><Relationship Id="rId67" Type="http://schemas.openxmlformats.org/officeDocument/2006/relationships/slide" Target="slides/slide32.xml"/><Relationship Id="rId68" Type="http://schemas.openxmlformats.org/officeDocument/2006/relationships/slide" Target="slides/slide33.xml"/><Relationship Id="rId69" Type="http://schemas.openxmlformats.org/officeDocument/2006/relationships/slide" Target="slides/slide34.xml"/><Relationship Id="rId70" Type="http://schemas.openxmlformats.org/officeDocument/2006/relationships/slide" Target="slides/slide35.xml"/><Relationship Id="rId71" Type="http://schemas.openxmlformats.org/officeDocument/2006/relationships/slide" Target="slides/slide36.xml"/><Relationship Id="rId72" Type="http://schemas.openxmlformats.org/officeDocument/2006/relationships/slide" Target="slides/slide37.xml"/><Relationship Id="rId73" Type="http://schemas.openxmlformats.org/officeDocument/2006/relationships/slide" Target="slides/slide38.xml"/><Relationship Id="rId74" Type="http://schemas.openxmlformats.org/officeDocument/2006/relationships/slide" Target="slides/slide39.xml"/><Relationship Id="rId75" Type="http://schemas.openxmlformats.org/officeDocument/2006/relationships/slide" Target="slides/slide40.xml"/><Relationship Id="rId76" Type="http://schemas.openxmlformats.org/officeDocument/2006/relationships/slide" Target="slides/slide41.xml"/><Relationship Id="rId77" Type="http://schemas.openxmlformats.org/officeDocument/2006/relationships/slide" Target="slides/slide42.xml"/><Relationship Id="rId78" Type="http://schemas.openxmlformats.org/officeDocument/2006/relationships/slide" Target="slides/slide43.xml"/><Relationship Id="rId79" Type="http://schemas.openxmlformats.org/officeDocument/2006/relationships/slide" Target="slides/slide44.xml"/><Relationship Id="rId80" Type="http://schemas.openxmlformats.org/officeDocument/2006/relationships/slide" Target="slides/slide45.xml"/><Relationship Id="rId81" Type="http://schemas.openxmlformats.org/officeDocument/2006/relationships/slide" Target="slides/slide46.xml"/><Relationship Id="rId82" Type="http://schemas.openxmlformats.org/officeDocument/2006/relationships/slide" Target="slides/slide47.xml"/><Relationship Id="rId83" Type="http://schemas.openxmlformats.org/officeDocument/2006/relationships/slide" Target="slides/slide48.xml"/><Relationship Id="rId84" Type="http://schemas.openxmlformats.org/officeDocument/2006/relationships/slide" Target="slides/slide49.xml"/><Relationship Id="rId85" Type="http://schemas.openxmlformats.org/officeDocument/2006/relationships/slide" Target="slides/slide50.xml"/><Relationship Id="rId86" Type="http://schemas.openxmlformats.org/officeDocument/2006/relationships/slide" Target="slides/slide51.xml"/><Relationship Id="rId87" Type="http://schemas.openxmlformats.org/officeDocument/2006/relationships/slide" Target="slides/slide52.xml"/><Relationship Id="rId88" Type="http://schemas.openxmlformats.org/officeDocument/2006/relationships/slide" Target="slides/slide53.xml"/><Relationship Id="rId89" Type="http://schemas.openxmlformats.org/officeDocument/2006/relationships/slide" Target="slides/slide54.xml"/><Relationship Id="rId90" Type="http://schemas.openxmlformats.org/officeDocument/2006/relationships/slide" Target="slides/slide55.xml"/><Relationship Id="rId91" Type="http://schemas.openxmlformats.org/officeDocument/2006/relationships/slide" Target="slides/slide56.xml"/><Relationship Id="rId92" Type="http://schemas.openxmlformats.org/officeDocument/2006/relationships/slide" Target="slides/slide57.xml"/><Relationship Id="rId93" Type="http://schemas.openxmlformats.org/officeDocument/2006/relationships/slide" Target="slides/slide58.xml"/><Relationship Id="rId94" Type="http://schemas.openxmlformats.org/officeDocument/2006/relationships/slide" Target="slides/slide59.xml"/><Relationship Id="rId95" Type="http://schemas.openxmlformats.org/officeDocument/2006/relationships/slide" Target="slides/slide60.xml"/><Relationship Id="rId96" Type="http://schemas.openxmlformats.org/officeDocument/2006/relationships/slide" Target="slides/slide61.xml"/><Relationship Id="rId97" Type="http://schemas.openxmlformats.org/officeDocument/2006/relationships/slide" Target="slides/slide62.xml"/><Relationship Id="rId98" Type="http://schemas.openxmlformats.org/officeDocument/2006/relationships/slide" Target="slides/slide63.xml"/><Relationship Id="rId99" Type="http://schemas.openxmlformats.org/officeDocument/2006/relationships/slide" Target="slides/slide64.xml"/><Relationship Id="rId100" Type="http://schemas.openxmlformats.org/officeDocument/2006/relationships/slide" Target="slides/slide65.xml"/><Relationship Id="rId101" Type="http://schemas.openxmlformats.org/officeDocument/2006/relationships/slide" Target="slides/slide66.xml"/><Relationship Id="rId102" Type="http://schemas.openxmlformats.org/officeDocument/2006/relationships/slide" Target="slides/slide67.xml"/><Relationship Id="rId103" Type="http://schemas.openxmlformats.org/officeDocument/2006/relationships/slide" Target="slides/slide68.xml"/><Relationship Id="rId104" Type="http://schemas.openxmlformats.org/officeDocument/2006/relationships/slide" Target="slides/slide69.xml"/><Relationship Id="rId105" Type="http://schemas.openxmlformats.org/officeDocument/2006/relationships/slide" Target="slides/slide70.xml"/><Relationship Id="rId106" Type="http://schemas.openxmlformats.org/officeDocument/2006/relationships/slide" Target="slides/slide71.xml"/><Relationship Id="rId107" Type="http://schemas.openxmlformats.org/officeDocument/2006/relationships/slide" Target="slides/slide72.xml"/><Relationship Id="rId108" Type="http://schemas.openxmlformats.org/officeDocument/2006/relationships/slide" Target="slides/slide73.xml"/><Relationship Id="rId109" Type="http://schemas.openxmlformats.org/officeDocument/2006/relationships/slide" Target="slides/slide74.xml"/><Relationship Id="rId110" Type="http://schemas.openxmlformats.org/officeDocument/2006/relationships/slide" Target="slides/slide75.xml"/><Relationship Id="rId111" Type="http://schemas.openxmlformats.org/officeDocument/2006/relationships/slide" Target="slides/slide76.xml"/><Relationship Id="rId112" Type="http://schemas.openxmlformats.org/officeDocument/2006/relationships/slide" Target="slides/slide77.xml"/><Relationship Id="rId113" Type="http://schemas.openxmlformats.org/officeDocument/2006/relationships/slide" Target="slides/slide78.xml"/><Relationship Id="rId114" Type="http://schemas.openxmlformats.org/officeDocument/2006/relationships/slide" Target="slides/slide79.xml"/><Relationship Id="rId115" Type="http://schemas.openxmlformats.org/officeDocument/2006/relationships/slide" Target="slides/slide80.xml"/><Relationship Id="rId116" Type="http://schemas.openxmlformats.org/officeDocument/2006/relationships/slide" Target="slides/slide81.xml"/><Relationship Id="rId117" Type="http://schemas.openxmlformats.org/officeDocument/2006/relationships/slide" Target="slides/slide82.xml"/><Relationship Id="rId118" Type="http://schemas.openxmlformats.org/officeDocument/2006/relationships/slide" Target="slides/slide83.xml"/><Relationship Id="rId119" Type="http://schemas.openxmlformats.org/officeDocument/2006/relationships/slide" Target="slides/slide84.xml"/><Relationship Id="rId120" Type="http://schemas.openxmlformats.org/officeDocument/2006/relationships/slide" Target="slides/slide85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0" y="0"/>
            <a:ext cx="9676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92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dt" idx="100"/>
          </p:nvPr>
        </p:nvSpPr>
        <p:spPr>
          <a:xfrm>
            <a:off x="5481720" y="-360"/>
            <a:ext cx="419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sldImg"/>
          </p:nvPr>
        </p:nvSpPr>
        <p:spPr>
          <a:xfrm>
            <a:off x="3117960" y="515520"/>
            <a:ext cx="34430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ftr" idx="101"/>
          </p:nvPr>
        </p:nvSpPr>
        <p:spPr>
          <a:xfrm>
            <a:off x="0" y="6541560"/>
            <a:ext cx="4192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 type="sldNum" idx="102"/>
          </p:nvPr>
        </p:nvSpPr>
        <p:spPr>
          <a:xfrm>
            <a:off x="5481720" y="6541560"/>
            <a:ext cx="419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007-3931-46C3-AE33-7967F63AC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ти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дел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бственные наименования – заглавия книг, названия журналов, газет, картин, кинофильмов, спектаклей, заводов, фабрик, кораблей и т. д. – заключаются в ка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3369-AB08-4715-A6F1-449A08EB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6FAD-5554-4BE5-B0DB-7F99B0A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065B-8E44-45C5-A4CC-244E5E44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BCB2A-C1FD-4483-A967-E84AB7B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40119-4D1A-4ACD-B75B-6B11355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C4EBB-D1D9-421C-82BD-99E9AE1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638B-FBDA-4CA0-82CB-AA64EF8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AEC3-B27C-44D6-85B5-98A8B08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EE177-F6D3-4E08-A0F5-AB461A37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4520B-2AE6-4FA1-8EC1-0C871435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45C2-2B6B-4D3F-9B6C-DE5EF5ED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8E11D-35D1-4754-8DD0-D74E9638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F74C-86B1-45AA-AA8B-574A3000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6FC6A-859D-4505-8315-A0EF435C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8163-7CBD-4E5D-A76A-F434F6BA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07035-C445-4A77-9981-A0C60E7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328AF-647B-4C4A-BF5E-7474DA6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6874-FBF7-43D3-9CB6-3DBA3A30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74ED3-8C58-49E6-9598-62DDD74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BB4B-6050-4458-86F5-981750C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335A-EE00-4B6E-864D-932F8B47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C3344-CD96-49A0-A1B3-6AAE4EA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CFA7D-C855-4D31-A80F-AA11F7F2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437F-5E2E-4F2C-B6DC-5F88F1A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1ADBA-C663-44E6-9ACF-6A6F0E9E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B458-7BFA-4406-9A86-AA5537F6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59775-6763-42F2-9C0B-A4F77C8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B69E-430C-4296-BAD8-4E7796D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100C-EDAC-4F23-B670-4A48C3A3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5C93F-C398-45E6-88D1-C44709C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348C4-554F-482C-8102-9867F2E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E2F39-D816-4BB8-A161-ECF8B78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FEDAC-8FEB-45B3-B054-CB236F8D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CCEE-3808-48FD-A5FC-D6E9538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FE57-852D-4C53-8136-EF10547E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25238-5DD2-432E-8C63-3207247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7C28D-943C-4A24-B646-61313F4A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1FE19-8731-47B1-9CBC-0D188FF7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F3D29-25B3-4454-9E3C-D0BF60D3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E202F-6149-4FAB-8B46-CD2A7801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9917D-FDDA-408A-916E-7A315E8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BF85-4663-497C-B947-5AFF14B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3E2DB-AA09-49A3-B7F6-A63423D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20B97-022A-44F8-B05D-7100809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4303B-D7DF-4A84-9037-C07FDF7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1330-1180-4889-930D-932CA89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E4977-324E-484F-8B55-F6C8A4E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217E4-BC96-4B2B-A532-458DC8C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C6F64-01FB-434B-9425-380250D6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EA070-54F3-4985-9A70-16A63D4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DDE4F-6565-460D-A603-106D0457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A19B5-6C01-47BE-A180-11278DD5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D4AD9-1A08-4DD9-AFB5-687BE9F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938B4-AF10-43E0-8EBD-580A31C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F5457-4E00-4F64-B1B4-CED8F01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115E6-BED8-48BC-AAF0-3B1843F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0D94-C0E7-4279-8E61-1988CCC7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3CCDE-69F2-4FCE-9F1C-44B02C47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345DA-3E00-46D2-9596-E67530E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13E7A-807B-4834-826E-AF0A1C6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8768C-5E58-4BD5-8A41-6FFFD95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46C7E-9647-4431-A1D9-27F9128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8C389-8F86-407B-B126-0EFA6784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E981C-C539-4070-A93D-7796FAD5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4AEF6-2F0C-4E2E-B4F0-63FBBADE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F5620-CB5C-4D46-91DD-66583D83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629C6-298B-4830-98CA-6D29CF65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F168-DE45-4EE8-A62E-6D8A21FF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0880D-59A1-4C74-8D45-D11DE049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918AB-8919-4BAB-9624-76FBFCCE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67011-4F86-4F79-BB27-1098A3E3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3B06A-84CD-4581-9D59-32AF7C0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53B15-69F3-4D19-8906-51B630A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2A53B-1ADF-476D-B711-CCB8EF9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BB254-404C-4A9E-863D-B5CD4FA6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91D47-8BF4-4647-BF80-47CCF23C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55EEE-EE62-4ED8-B36C-3C2F5214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B87A3-A985-48AB-83CE-8F079796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E052-21BF-49A2-8462-CA396FC9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4D8EC-B0A7-408C-BACE-4DD85BE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C6134-DA08-485F-BF22-59908174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AB309-E0C3-4083-BBCA-D478032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45001-43F8-4BC0-A0D2-DD989471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2264E-DCEA-4FA3-9DD5-4105B149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E97DB-678A-4A15-B978-7D9F21A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9C276-CD4C-41CE-B78A-7EBD880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CA3CE-8A8B-4695-9F72-083E642B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AEF93-B7BB-4018-A2B4-1FC62792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11095-9F9F-4613-A712-9C71ADE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68F-FBC1-4681-B898-36EE581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BBC21-4532-474B-899E-69C4027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747B3-C3C3-48FA-A510-8C5712C6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E1A09-C146-47CF-A12A-D5D6C4AE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59FE5-DE6E-426B-9A4A-7E3104A8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EC7E0-34B7-457A-B98F-B1E15486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DAF17-DE75-462E-A6D9-97FDE8B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8C616-A885-49FE-A597-705C352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8D9E5-FC1B-4237-BC19-BA1AFF7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6DD91-599B-4F82-9457-D38DF896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4CABB-F5B4-4E4A-8904-29ABDFF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52AA-EFB4-4C71-B3F0-0C3FE6B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53D07-3CD9-4589-9593-559A6F1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2EBCA-6F4E-4BD2-9FB3-F36C5A57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15224-DE3D-4C17-A1D9-171727A0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A0AD8-FAE5-4136-AE9F-43E6184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C07DD-D2F3-40C0-A23C-7A612B7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5534B-1227-428B-829F-243B697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85385-98FB-48FE-A240-1CB574C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2DE04-F69B-42A5-A223-1E646CE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B7621-DB7A-4635-BA4D-B19986C2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6761A-F341-4AFB-A489-C9AF912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9572-A33C-4A38-9D87-798AFD42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5CC-B54D-49C9-9F55-A50C690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A5C1D-EDBA-4366-B15D-6673F22E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0C1FD-E94C-49CE-AE69-BE16B24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9705B-DF8A-4C54-8FA2-614B81F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2F50A-6C32-419B-B2C3-85492ABD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8BF71-61FE-47E2-8C66-8A714D03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72C90-AA8E-4A8F-A20A-06F62FEB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F8B2A-7EED-4936-827C-9A91551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EFA39-62CE-4211-A0C7-1F0D5DF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92E5E-91B7-4B69-8D3D-23D61AD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6A4DA-FD95-4C9D-8351-295CFFF1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F1E5-3C81-4CF2-A885-E7555EF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251D9-DC6C-4EDC-86FD-25A7367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7A213-841C-4ED3-B4BD-B6734CD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63A66-4660-4A5B-B56C-F76A91D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5D09C-78A7-430F-B7AF-B14106D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EC0FA-04F6-4286-8EB3-2969384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A6C51-DD91-432C-A50A-10F440AC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7DD6D-D9A2-4B23-9955-352ED37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D6405-A53D-4565-97A5-C0A228E4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8299D-EBB5-4362-9FE5-F143FA91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52099-1A50-4195-99EA-CAC4105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6C1-0DE0-4D3D-B710-26D75A9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33176-7493-4F30-95CD-ADF3A7A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DF32B-5CB0-42D1-AC33-3C5722CE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BF17C-A85F-4A14-8B5D-D9D8B03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47F9B-F19B-43C7-96EE-3129052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6480D-941F-4865-9461-718B6F2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B510F-5330-4C93-B24F-C2B63C5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90EA6-4512-4FD8-83F2-671B5B96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E188D-7D09-4F9C-A566-D3ABC154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6F69C-3584-471A-842D-2FEA55C9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2EDA0-5535-45D0-8159-A9024A10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9BE-5672-4501-BB22-7916B01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FB23B-8320-4F49-B597-53ADA9E9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A4694-BE05-4249-AC7B-5B797CD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29237-288E-4F01-B0E1-DDA788FA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43789-A1AA-4AFE-9E94-BA957C2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BF20F-4D98-465E-B72D-0CE1AF5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EAFFB-2915-4F48-905C-CBE4B0C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2AA4E-A7EF-41BF-B09B-CD7C453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F0C99-47FF-4E94-B9F9-993209E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3C94B-5357-45FE-BF8A-4BD63321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1539B-7628-4442-9797-22421128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0AA5-31E5-4F03-A9D7-3DD31FD0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D038A-E461-45B4-B933-27314EF2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01DA5-0E2F-48BC-8861-E3DF3E1B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05E2A-C2EA-4AAB-9263-22605DF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0D6DB-E6F8-40A7-B094-C373F43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E79DE-5B7D-4105-9041-5A577B74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0E839-3401-4811-AA3E-B78B2762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FDC43-F970-4D02-963A-0D9AC530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E38B0-89E6-4B5E-BD24-852F251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165C0-DA3A-4961-80D4-C3E9C20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E1EDA-88BC-4956-8904-38F684D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1F69-1637-4705-B0FA-EDD1B8C6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71936-1F96-479F-8955-77E93DD7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F9187-7B75-4099-9A97-09E152B6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0E6E3-4626-402F-9923-EF8B5AF3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1F20F-CC02-4A45-A2BE-1FCE4E1C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DD817-B3D5-439B-9C1E-01018B8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A5089-62FE-404F-9FDB-66AB6E34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BEB98-18CB-48A2-AED2-D4128701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64BFC9-5E67-407C-8A10-40EE335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B06D4-DB8E-43C9-B03D-6B2A730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E0C7BC-71F4-4349-9BB6-00C3CEA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F74D-807C-455B-9F67-96BB7B1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E5F7E-8515-45D6-8333-9CEA18E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A41631-7AF9-4A6A-92B1-4572338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B8A81-0C07-4038-9E9F-FECDD86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A133E-06C2-4476-9A9F-BD32A06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C6FE0-22E2-4061-81FF-AF61F2D9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4D6AE8-54AE-48C7-A000-7555AD51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5151F-F24A-4C97-B193-4CC113A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BFC2C0-2C6D-4B8B-9E61-25EC913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126FA-F74E-49F8-B9B2-93E493D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102BF6-C437-4095-8C6A-AB89154D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EDAB-92F8-4B0F-9D1B-7F4BB4C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E95C6-31AB-4601-AE2C-B8F1878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0C987-7C8D-46C1-B21B-DC6219D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2B00B5-05C0-4931-A293-9DA1588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65348-11E4-4346-A218-641850C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738EF-5775-4191-9B45-1B41A2F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0C055-E982-4F6D-9E3C-8B2F27C1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3BADB-46EB-4F4B-AD9F-C47C9770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05839B-DB1B-459B-835B-3879E055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CF44B2-7C6E-4214-AC9A-6120684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F6E8DD-8EA3-4D69-B315-8A23DA3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6281-8033-419B-872B-C78778BA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FEA6DA-45BB-406C-BF45-5E58D9B9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F99CB-4699-498F-9178-7157156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666FA-D3B8-4496-8658-28BA19D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027C65-7BDB-4F89-8799-82CE3B1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14FCF4-5303-4D0A-BF68-00AA3A9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4B348-3D09-4300-9BE7-FAF8A21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A515B6-F04B-4F23-8119-B529EF4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85952-1C07-4E63-A766-340D8FFE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7A2718-9767-47EC-9634-15E84902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ECBFC0-F72A-4E84-9D64-36897BA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72BD-A75E-4E2F-A138-F2878559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80B30F-FA0B-4A5F-B373-9F23FFD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B0EEFC-F811-4193-948C-AE5D10FB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A0DC1F-5DA9-4233-A3FD-6E654AE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C63D2E-A3D0-44B6-8BDE-3E3689A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44DCA6-04CC-468A-8801-57A9D42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82FE6B-910C-4654-9D58-AF47CA46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74F04-3DF8-4FB3-95C3-0858633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868EF-99BF-4308-84CA-58ACCD8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41CE9F-5323-4A3E-ADB6-4312DE1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A4ACCC-D128-40FF-B88A-9B3E4381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E2B8-C941-4C0E-9141-72E0C908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5326-969D-4036-AF2B-7FAC1B13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83FF25-832C-4168-82D5-141F8240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349770-25A4-4493-91A3-B32A9EB2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51AD5A-5737-431B-8BD9-0C742E4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CBA173-0B03-4EB5-AC33-C4197AF8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DF86AA9-3D37-487E-B2E8-7F4DCCCE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C477C8-726C-44A3-9149-FA95FF4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A98F58-AB98-4318-ACFB-AD75A50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40E9260-1640-42FA-B7A5-962825A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B68A9F9-BEB9-4838-AB62-5DC4C46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FBF6D5-4861-4735-A33D-F9B746C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0812-3B50-445B-A03A-4424EAE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EC5E86D-F251-49F2-8AA0-9CEF470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7FA152D-E265-4A3A-A7C6-985637F5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142C7D-3722-475E-824A-A68CFC9D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06B8A2-5BC8-4753-BF67-82D48150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515A5-74BF-49C9-BE10-0571F076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0D37D-7FAE-415D-A452-A3904826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A68B91-0A30-4817-AAB1-157E462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A42A25-B791-4812-8695-657CA01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49CB5F-7871-4A2D-8470-AAEFBAC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B93E04-0FD8-462B-A53C-3712DA4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2AE7-4746-4B17-A035-86C2EA4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749165-4B7E-48BF-BCE4-8E162106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4CDF2A-DBAA-486F-ADE0-B2D3E66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8A987E-D6D1-40BA-95F3-FFB52B2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43D1D-C31A-4D9F-8128-25BE80E9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D16EA0-B016-4FD6-8ADD-67690754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32F7C2-D79C-4BE7-B8B4-490F6C66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496127-B09F-4F3D-A65F-445CF0E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8D3E2A-655D-4242-8914-97EEAE90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943D91-BB9B-4501-AF67-155666D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A10A94-9DEB-4CE0-8C34-24A1622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1A38-132F-4F42-A6B7-0A17273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825F45-EBC8-4899-9D58-2331F41A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C823F2-FF53-4E14-9B9F-308D5B3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2A4CB5-D5B0-41EA-9A6F-D5E9625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1E6475-10A1-4A59-B559-63E3AEA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BF8315-A274-46E9-B184-603A65D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C79597-B857-4A57-947B-A82C6F8E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391FC7-E92F-4ACF-85CE-C72AB86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51B6EA-812B-4EDD-A2AA-3B8C5E86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B77D7F-0B1B-458C-AE1F-37ACEF0A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6BBD5F-0625-4206-B7E9-5EA3CD1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79A3-22AF-4945-8743-AF00DD04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8A063-6F4B-484C-8541-A1A3B86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4B9443-3537-4D2E-ABF1-0E899C6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C3138C-6242-471E-971F-A41C8D80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D36461-BD66-465A-B817-EEFD288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AB8A11-CDB7-4AE2-AA69-E0A1475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13B41B-A6CD-4A8E-BB87-C56CAE0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E5B1D2-A206-4E5A-9B96-306F14A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56422F-C2A2-44CB-A92A-02902BA4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3BC7D7-B7C8-4C0F-BEE0-28105953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C626B9-D004-4B4D-B184-DA8A9C4A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E9A2-4D18-45F2-94CA-ED92D0FB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9FC40F-20BF-4322-911B-B8CE441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034C4F-B984-4886-A004-F955FA3B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B04F67-ED21-4959-85A8-7EF9B07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204DCF-7079-4049-813B-B2785CE5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1AB6C5-925A-4AC5-AD55-C07D1C5D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9334E2-D4B3-4165-8038-C56783A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56C83D-A55E-4BD7-AE4E-7C1065C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88170-3C6A-4DD3-9628-BA769A6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A9D2D-23E5-495A-95BD-12B310A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E73D32-0E77-4E14-918C-7D554FF3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2569-3A4F-44A9-B33D-7486A542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F60AEB-4C25-4773-85CB-204FB3F2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A36074-AF68-4893-AAA0-254E6AF8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9BA434-1E08-4E62-8386-F698863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A275BC-BED8-4013-AE12-1AB39AF1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226FEB-D39A-46CC-82A2-D705A51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DAAEF-C81B-43BD-BF1A-4112D68C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870262-4E72-4533-8272-47F714CE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A3A0A7-3468-405D-9D85-2593686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AB20AD-5E8F-40AB-BDA3-C7D06A0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99BFA8-AAF2-4AE9-8ED2-D5242AE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F53E-A3E1-4085-AF93-56186A52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FF0659-9BAB-4B43-86C0-24876CE5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7A678F-0E15-4DBA-B634-9B662EA2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C910D4-900C-4AB4-8426-ECC831E5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9FF043-1850-49F6-8715-259051C7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1390C2-3093-4D25-B16D-46DA116D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78AA3B-F2C8-47A5-895B-8840639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F86B19-4512-4078-B20E-231D0590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E8B50B-AEE1-48AC-812C-398EBF1D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E0A41F-5D60-4B0E-9A3C-90A906B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488D04-E45B-4AE2-9A5F-11AA8D6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E181-7F36-4D87-9E89-224D199D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07938B-9F11-49FF-812C-C367649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84CAA1-A517-4A8B-93B3-B2B6B62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9AF48C-46A6-4DF2-AB20-D766A7A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8253F1-D2EB-480B-8FFC-A7A7A906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9280FE-4FFB-443C-AEDA-DC812DE9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E122E6-09FD-4E59-9EFD-0191DE53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70D5A1-4D84-474B-BACB-C78C5B8A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D1C81E-7431-4002-AC76-BA01C4E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8C41A9-C1D0-4961-8FCD-B00C96B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EF0523-625A-4117-B3D3-174186B9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F379-DBF0-42A4-BC7A-72D28FF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F38D67-09D0-49CF-91B3-5761172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2F3551-E684-40B2-8A35-D75F536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18A481-030E-4450-8678-F32314B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87614B-8A45-4192-9A25-12DCC3C5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CD75BB-6FCD-4018-8951-4744FA92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6548FB-1848-4CE4-B770-FCFDFB2A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D5B764-7C38-4D10-A643-46677718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4645-9BC6-4CF6-8F98-A32E2AA5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8D8C-5ADF-4140-895C-EA713EE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916E-4AB1-486F-90AF-82E345AC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4B9A-BEDE-43EB-9017-FB7AB78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DA8C-C636-4D30-AA14-7697A8B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FCDD-ADB3-4182-9D3C-1176E441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0C0E-3362-4FBF-891F-04CF4CBC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B062-E1F8-4FE2-A3B2-C43B564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43E1-5D49-4682-86E9-DF1C091D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6175-4351-4C4B-A725-4D20155D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EE939-E1B4-46DA-BD4D-E0C6ED2B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2165-854E-44FE-A137-5519FD02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54D06-9284-43D9-B0D5-6AAC978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49BEB-EDA6-494A-9AC1-A2C80B9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4A562-7997-47D2-B488-EA63404A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BE135-43DA-4158-93B5-311C692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2D74F-DFEA-4644-8B82-18EE94C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6EC80-2544-4AB6-A320-8EF8A11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68E7C-A3B2-4A1D-BCED-AA29A82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74198-DDBA-46EF-BE62-D9FE070B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24C5C-02FD-412D-AFAE-07E7351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1E0C5-69B5-4CC6-9A3A-862DEB58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774F-B26D-43F5-AB50-7BD76955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6AF42-041D-4ABE-84B2-6E366CA2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1129-D203-400F-B096-0800A860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9CB3-562F-4F00-93C4-F23E702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458D-22CB-4213-9B16-675A3A7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BDE4-9D2D-415A-8442-EAA4C37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E88C-C5E7-4664-8700-5AC6297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D0CD-3582-447A-AA52-722146F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15ED-7C12-4D26-9B53-721F94C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726A-2DF4-4FC4-B869-678A480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B998C-7D31-4B18-958B-1CEF125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9D1F-011F-4659-A838-F0302B2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3B8E-6DD5-43C2-9AC5-EBE596E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8E02-C8A9-453C-8BA4-630A99F4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90E7-37DC-4834-8944-2B7A4F3E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2E7E3-A1DB-4B17-8DC4-3A6D9EC2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63A5-6EFB-4F02-8725-02AFAC45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E4B4-51F1-4CD4-A10D-CCCE5D7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1599-1CE0-4CB6-8907-8E2ADEA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BE26-0B24-415D-98FB-487A9A3C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38B1-4C01-4445-A5C4-56D1444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3153-AB17-469E-A88B-2ACF665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B362-0E94-4E92-9521-8C151ED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276CE-A9CB-4255-9908-5496157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B23D-0073-4DAC-8061-C11F5B7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6083-3BBC-4D42-A6EE-8B85D10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145E-6098-4ECD-BB64-FEDB2D10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7818A-77C7-4635-9335-E70A4BBD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05CC2-1C48-4145-8213-80D4CBB1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A879-EDCD-40CA-B81C-570B2811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3D7A-FB36-4375-8BEA-570B594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01FA6-02BE-4E09-B124-93A62E3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172BD-8AE1-416D-9773-105822D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0BC9-9C9B-4B17-A117-564D673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D6A9-3E78-4185-B2EB-05F148B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16FF-ECBE-4C4D-9FD7-8DABAF4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1EC5-1676-4058-A0E1-48AD81E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277BE-5393-48A4-9468-956DD80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6BFCB-9D7B-4883-BF09-67D2F19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CF6E-A00B-4D70-8E39-FE38AA45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2F11-2311-421C-82BC-BA82A187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7460-6C11-4865-B4D5-C011B578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05C7-D22C-44DF-ACA8-B76A3B29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4347B-06A3-4BB8-8890-E7486B8F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83D-DFB5-47AF-973E-68E9D64D1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523-8FF2-45B9-86D5-E988C4A5A8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6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CC9-93CC-4199-AA34-ADE56D3C78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0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5089-4C90-415D-9842-385E14ECE3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5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5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5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6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5FF-0EA7-44CD-A43D-1C9B87F5A4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3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3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5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5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5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6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6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6EF-568E-462A-ACE1-0B17E17917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17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7C2-09CB-459F-81B6-5416744EB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2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DE0-B974-4D89-B065-20A86F0C1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5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7A5-8921-48FB-BA64-7A7801F2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912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5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5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69A-8D82-40FC-83F6-A7DBB44D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6C4-8196-49B5-AA4E-875D98268B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45C-A31D-4532-BA44-20CA11F32E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CA74-7C86-41A9-855E-5ED262DE2C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F11-D6DB-427B-91B6-4F7E8CDC60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8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763-C153-4001-A65E-E5B0587FE6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5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A0E1-1BE8-43FB-BF46-8C690C275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232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768-332D-4A22-990C-C0B5CA8088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27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61C-7488-4872-A0B0-25232315C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ftr" idx="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960-8754-42A7-B216-5411B026C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79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8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8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CAA-9D1D-4DDE-8982-3C083CEA74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9981-BC92-41BE-A14B-84A96B529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2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7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9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8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8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8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BED7-879D-44D5-9A82-80CF532D65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E6D-5FD3-4C53-A072-092352024F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54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dt" idx="8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ftr" idx="8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sldNum" idx="9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3D46-BB19-42BE-AD45-5613DD9696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8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9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9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9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9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142-666C-4A4D-9244-565FECAAE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3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3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4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dt" idx="9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ftr" idx="9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sldNum" idx="9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C1C3-CF93-44A1-9102-3103AF555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351-9A45-405F-BC89-BCE036E8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655-3F56-4581-B428-08D83BF850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1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911D-7A87-4426-BEBB-0669A6A549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BD9-BE87-477E-8276-041A79EEA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2942-FF42-439D-8F93-62BB681B0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CF0-BB53-45F8-8812-5E7F67934A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6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1218-07F3-4367-A2FC-A45692A110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" Target="slide14.xml"/><Relationship Id="rId11" Type="http://schemas.openxmlformats.org/officeDocument/2006/relationships/slideLayout" Target="../slideLayouts/slideLayout1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20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5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4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6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0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0.xml"/><Relationship Id="rId31" Type="http://schemas.openxmlformats.org/officeDocument/2006/relationships/slide" Target="slide20.xml"/><Relationship Id="rId32" Type="http://schemas.openxmlformats.org/officeDocument/2006/relationships/slide" Target="slide20.xml"/><Relationship Id="rId33" Type="http://schemas.openxmlformats.org/officeDocument/2006/relationships/slide" Target="slide21.xml"/><Relationship Id="rId34" Type="http://schemas.openxmlformats.org/officeDocument/2006/relationships/slide" Target="slide21.xml"/><Relationship Id="rId35" Type="http://schemas.openxmlformats.org/officeDocument/2006/relationships/slide" Target="slide21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1.xml"/><Relationship Id="rId39" Type="http://schemas.openxmlformats.org/officeDocument/2006/relationships/slide" Target="slide21.xml"/><Relationship Id="rId40" Type="http://schemas.openxmlformats.org/officeDocument/2006/relationships/slide" Target="slide21.xml"/><Relationship Id="rId41" Type="http://schemas.openxmlformats.org/officeDocument/2006/relationships/slide" Target="slide21.xml"/><Relationship Id="rId42" Type="http://schemas.openxmlformats.org/officeDocument/2006/relationships/slide" Target="slide32.xml"/><Relationship Id="rId43" Type="http://schemas.openxmlformats.org/officeDocument/2006/relationships/slide" Target="slide32.xml"/><Relationship Id="rId44" Type="http://schemas.openxmlformats.org/officeDocument/2006/relationships/slide" Target="slide32.xml"/><Relationship Id="rId45" Type="http://schemas.openxmlformats.org/officeDocument/2006/relationships/slide" Target="slide32.xml"/><Relationship Id="rId46" Type="http://schemas.openxmlformats.org/officeDocument/2006/relationships/slide" Target="slide32.xml"/><Relationship Id="rId47" Type="http://schemas.openxmlformats.org/officeDocument/2006/relationships/slide" Target="slide31.xml"/><Relationship Id="rId48" Type="http://schemas.openxmlformats.org/officeDocument/2006/relationships/slide" Target="slide31.xml"/><Relationship Id="rId49" Type="http://schemas.openxmlformats.org/officeDocument/2006/relationships/slide" Target="slide31.xml"/><Relationship Id="rId50" Type="http://schemas.openxmlformats.org/officeDocument/2006/relationships/slide" Target="slide31.xml"/><Relationship Id="rId51" Type="http://schemas.openxmlformats.org/officeDocument/2006/relationships/slide" Target="slide31.xml"/><Relationship Id="rId52" Type="http://schemas.openxmlformats.org/officeDocument/2006/relationships/slide" Target="slide31.xml"/><Relationship Id="rId53" Type="http://schemas.openxmlformats.org/officeDocument/2006/relationships/slide" Target="slide35.xml"/><Relationship Id="rId54" Type="http://schemas.openxmlformats.org/officeDocument/2006/relationships/slide" Target="slide36.xml"/><Relationship Id="rId55" Type="http://schemas.openxmlformats.org/officeDocument/2006/relationships/slide" Target="slide36.xml"/><Relationship Id="rId56" Type="http://schemas.openxmlformats.org/officeDocument/2006/relationships/slide" Target="slide36.xml"/><Relationship Id="rId57" Type="http://schemas.openxmlformats.org/officeDocument/2006/relationships/slide" Target="slide36.xml"/><Relationship Id="rId58" Type="http://schemas.openxmlformats.org/officeDocument/2006/relationships/slide" Target="slide36.xml"/><Relationship Id="rId59" Type="http://schemas.openxmlformats.org/officeDocument/2006/relationships/slide" Target="slide32.xml"/><Relationship Id="rId60" Type="http://schemas.openxmlformats.org/officeDocument/2006/relationships/slide" Target="slide32.xml"/><Relationship Id="rId61" Type="http://schemas.openxmlformats.org/officeDocument/2006/relationships/slide" Target="slide32.xml"/><Relationship Id="rId62" Type="http://schemas.openxmlformats.org/officeDocument/2006/relationships/slide" Target="slide32.xml"/><Relationship Id="rId63" Type="http://schemas.openxmlformats.org/officeDocument/2006/relationships/slide" Target="slide32.xml"/><Relationship Id="rId64" Type="http://schemas.openxmlformats.org/officeDocument/2006/relationships/slide" Target="slide32.xml"/><Relationship Id="rId65" Type="http://schemas.openxmlformats.org/officeDocument/2006/relationships/slide" Target="slide32.xml"/><Relationship Id="rId66" Type="http://schemas.openxmlformats.org/officeDocument/2006/relationships/slide" Target="slide38.xml"/><Relationship Id="rId67" Type="http://schemas.openxmlformats.org/officeDocument/2006/relationships/slide" Target="slide22.xml"/><Relationship Id="rId68" Type="http://schemas.openxmlformats.org/officeDocument/2006/relationships/slide" Target="slide53.xml"/><Relationship Id="rId69" Type="http://schemas.openxmlformats.org/officeDocument/2006/relationships/image" Target="../media/image3.gif"/><Relationship Id="rId70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4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2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9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slide" Target="slide3.xml"/><Relationship Id="rId17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42.xml"/><Relationship Id="rId13" Type="http://schemas.openxmlformats.org/officeDocument/2006/relationships/slide" Target="slide42.xml"/><Relationship Id="rId14" Type="http://schemas.openxmlformats.org/officeDocument/2006/relationships/slide" Target="slide42.xml"/><Relationship Id="rId15" Type="http://schemas.openxmlformats.org/officeDocument/2006/relationships/slide" Target="slide42.xml"/><Relationship Id="rId16" Type="http://schemas.openxmlformats.org/officeDocument/2006/relationships/slide" Target="slide42.xml"/><Relationship Id="rId17" Type="http://schemas.openxmlformats.org/officeDocument/2006/relationships/slide" Target="slide42.xml"/><Relationship Id="rId18" Type="http://schemas.openxmlformats.org/officeDocument/2006/relationships/slide" Target="slide42.xml"/><Relationship Id="rId19" Type="http://schemas.openxmlformats.org/officeDocument/2006/relationships/slide" Target="slide42.xml"/><Relationship Id="rId20" Type="http://schemas.openxmlformats.org/officeDocument/2006/relationships/slide" Target="slide42.xml"/><Relationship Id="rId21" Type="http://schemas.openxmlformats.org/officeDocument/2006/relationships/slide" Target="slide45.xml"/><Relationship Id="rId22" Type="http://schemas.openxmlformats.org/officeDocument/2006/relationships/slide" Target="slide45.xml"/><Relationship Id="rId23" Type="http://schemas.openxmlformats.org/officeDocument/2006/relationships/slide" Target="slide45.xml"/><Relationship Id="rId24" Type="http://schemas.openxmlformats.org/officeDocument/2006/relationships/slide" Target="slide45.xml"/><Relationship Id="rId25" Type="http://schemas.openxmlformats.org/officeDocument/2006/relationships/slide" Target="slide45.xml"/><Relationship Id="rId26" Type="http://schemas.openxmlformats.org/officeDocument/2006/relationships/slide" Target="slide45.xml"/><Relationship Id="rId27" Type="http://schemas.openxmlformats.org/officeDocument/2006/relationships/slide" Target="slide45.xml"/><Relationship Id="rId28" Type="http://schemas.openxmlformats.org/officeDocument/2006/relationships/slide" Target="slide12.xml"/><Relationship Id="rId29" Type="http://schemas.openxmlformats.org/officeDocument/2006/relationships/slide" Target="slide12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48.xml"/><Relationship Id="rId35" Type="http://schemas.openxmlformats.org/officeDocument/2006/relationships/slide" Target="slide48.xml"/><Relationship Id="rId36" Type="http://schemas.openxmlformats.org/officeDocument/2006/relationships/slide" Target="slide48.xml"/><Relationship Id="rId37" Type="http://schemas.openxmlformats.org/officeDocument/2006/relationships/slide" Target="slide48.xml"/><Relationship Id="rId38" Type="http://schemas.openxmlformats.org/officeDocument/2006/relationships/slide" Target="slide48.xml"/><Relationship Id="rId39" Type="http://schemas.openxmlformats.org/officeDocument/2006/relationships/slide" Target="slide28.xml"/><Relationship Id="rId40" Type="http://schemas.openxmlformats.org/officeDocument/2006/relationships/slide" Target="slide28.xml"/><Relationship Id="rId41" Type="http://schemas.openxmlformats.org/officeDocument/2006/relationships/slide" Target="slide28.xml"/><Relationship Id="rId42" Type="http://schemas.openxmlformats.org/officeDocument/2006/relationships/slide" Target="slide28.xml"/><Relationship Id="rId43" Type="http://schemas.openxmlformats.org/officeDocument/2006/relationships/slide" Target="slide46.xml"/><Relationship Id="rId44" Type="http://schemas.openxmlformats.org/officeDocument/2006/relationships/slide" Target="slide46.xml"/><Relationship Id="rId45" Type="http://schemas.openxmlformats.org/officeDocument/2006/relationships/slide" Target="slide46.xml"/><Relationship Id="rId46" Type="http://schemas.openxmlformats.org/officeDocument/2006/relationships/slide" Target="slide46.xml"/><Relationship Id="rId47" Type="http://schemas.openxmlformats.org/officeDocument/2006/relationships/slide" Target="slide46.xml"/><Relationship Id="rId48" Type="http://schemas.openxmlformats.org/officeDocument/2006/relationships/slide" Target="slide47.xml"/><Relationship Id="rId49" Type="http://schemas.openxmlformats.org/officeDocument/2006/relationships/slide" Target="slide47.xml"/><Relationship Id="rId50" Type="http://schemas.openxmlformats.org/officeDocument/2006/relationships/slide" Target="slide47.xml"/><Relationship Id="rId51" Type="http://schemas.openxmlformats.org/officeDocument/2006/relationships/slide" Target="slide47.xml"/><Relationship Id="rId52" Type="http://schemas.openxmlformats.org/officeDocument/2006/relationships/slide" Target="slide47.xml"/><Relationship Id="rId53" Type="http://schemas.openxmlformats.org/officeDocument/2006/relationships/slide" Target="slide47.xml"/><Relationship Id="rId54" Type="http://schemas.openxmlformats.org/officeDocument/2006/relationships/slide" Target="slide49.xml"/><Relationship Id="rId55" Type="http://schemas.openxmlformats.org/officeDocument/2006/relationships/slide" Target="slide49.xml"/><Relationship Id="rId56" Type="http://schemas.openxmlformats.org/officeDocument/2006/relationships/slide" Target="slide49.xml"/><Relationship Id="rId57" Type="http://schemas.openxmlformats.org/officeDocument/2006/relationships/slide" Target="slide49.xml"/><Relationship Id="rId58" Type="http://schemas.openxmlformats.org/officeDocument/2006/relationships/slide" Target="slide49.xml"/><Relationship Id="rId59" Type="http://schemas.openxmlformats.org/officeDocument/2006/relationships/slide" Target="slide49.xml"/><Relationship Id="rId60" Type="http://schemas.openxmlformats.org/officeDocument/2006/relationships/slide" Target="slide49.xml"/><Relationship Id="rId61" Type="http://schemas.openxmlformats.org/officeDocument/2006/relationships/slide" Target="slide49.xml"/><Relationship Id="rId62" Type="http://schemas.openxmlformats.org/officeDocument/2006/relationships/slide" Target="slide49.xml"/><Relationship Id="rId63" Type="http://schemas.openxmlformats.org/officeDocument/2006/relationships/slide" Target="slide50.xml"/><Relationship Id="rId64" Type="http://schemas.openxmlformats.org/officeDocument/2006/relationships/slide" Target="slide50.xml"/><Relationship Id="rId65" Type="http://schemas.openxmlformats.org/officeDocument/2006/relationships/slide" Target="slide50.xml"/><Relationship Id="rId66" Type="http://schemas.openxmlformats.org/officeDocument/2006/relationships/slide" Target="slide50.xml"/><Relationship Id="rId67" Type="http://schemas.openxmlformats.org/officeDocument/2006/relationships/slide" Target="slide50.xml"/><Relationship Id="rId68" Type="http://schemas.openxmlformats.org/officeDocument/2006/relationships/slide" Target="slide50.xml"/><Relationship Id="rId69" Type="http://schemas.openxmlformats.org/officeDocument/2006/relationships/slide" Target="slide32.xml"/><Relationship Id="rId70" Type="http://schemas.openxmlformats.org/officeDocument/2006/relationships/slide" Target="slide32.xml"/><Relationship Id="rId71" Type="http://schemas.openxmlformats.org/officeDocument/2006/relationships/slide" Target="slide32.xml"/><Relationship Id="rId72" Type="http://schemas.openxmlformats.org/officeDocument/2006/relationships/slide" Target="slide32.xml"/><Relationship Id="rId73" Type="http://schemas.openxmlformats.org/officeDocument/2006/relationships/slide" Target="slide32.xml"/><Relationship Id="rId74" Type="http://schemas.openxmlformats.org/officeDocument/2006/relationships/slide" Target="slide52.xml"/><Relationship Id="rId75" Type="http://schemas.openxmlformats.org/officeDocument/2006/relationships/slide" Target="slide52.xml"/><Relationship Id="rId76" Type="http://schemas.openxmlformats.org/officeDocument/2006/relationships/slide" Target="slide52.xml"/><Relationship Id="rId77" Type="http://schemas.openxmlformats.org/officeDocument/2006/relationships/slide" Target="slide52.xml"/><Relationship Id="rId78" Type="http://schemas.openxmlformats.org/officeDocument/2006/relationships/slide" Target="slide32.xml"/><Relationship Id="rId79" Type="http://schemas.openxmlformats.org/officeDocument/2006/relationships/slide" Target="slide32.xml"/><Relationship Id="rId80" Type="http://schemas.openxmlformats.org/officeDocument/2006/relationships/slide" Target="slide32.xml"/><Relationship Id="rId81" Type="http://schemas.openxmlformats.org/officeDocument/2006/relationships/slide" Target="slide32.xml"/><Relationship Id="rId82" Type="http://schemas.openxmlformats.org/officeDocument/2006/relationships/slide" Target="slide32.xml"/><Relationship Id="rId83" Type="http://schemas.openxmlformats.org/officeDocument/2006/relationships/slide" Target="slide32.xml"/><Relationship Id="rId84" Type="http://schemas.openxmlformats.org/officeDocument/2006/relationships/slide" Target="slide32.xml"/><Relationship Id="rId85" Type="http://schemas.openxmlformats.org/officeDocument/2006/relationships/slide" Target="slide59.xml"/><Relationship Id="rId86" Type="http://schemas.openxmlformats.org/officeDocument/2006/relationships/slide" Target="slide59.xml"/><Relationship Id="rId87" Type="http://schemas.openxmlformats.org/officeDocument/2006/relationships/slide" Target="slide59.xml"/><Relationship Id="rId88" Type="http://schemas.openxmlformats.org/officeDocument/2006/relationships/slide" Target="slide40.xml"/><Relationship Id="rId89" Type="http://schemas.openxmlformats.org/officeDocument/2006/relationships/slide" Target="slide40.xml"/><Relationship Id="rId90" Type="http://schemas.openxmlformats.org/officeDocument/2006/relationships/slide" Target="slide40.xml"/><Relationship Id="rId91" Type="http://schemas.openxmlformats.org/officeDocument/2006/relationships/slide" Target="slide40.xml"/><Relationship Id="rId92" Type="http://schemas.openxmlformats.org/officeDocument/2006/relationships/slide" Target="slide40.xml"/><Relationship Id="rId93" Type="http://schemas.openxmlformats.org/officeDocument/2006/relationships/slide" Target="slide65.xml"/><Relationship Id="rId94" Type="http://schemas.openxmlformats.org/officeDocument/2006/relationships/image" Target="../media/image3.gif"/><Relationship Id="rId95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7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7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3.xml"/><Relationship Id="rId8" Type="http://schemas.openxmlformats.org/officeDocument/2006/relationships/slide" Target="slide63.xml"/><Relationship Id="rId9" Type="http://schemas.openxmlformats.org/officeDocument/2006/relationships/slide" Target="slide63.xml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slide" Target="slide34.xml"/><Relationship Id="rId13" Type="http://schemas.openxmlformats.org/officeDocument/2006/relationships/slide" Target="slide34.xml"/><Relationship Id="rId14" Type="http://schemas.openxmlformats.org/officeDocument/2006/relationships/slide" Target="slide34.xml"/><Relationship Id="rId15" Type="http://schemas.openxmlformats.org/officeDocument/2006/relationships/slide" Target="slide53.xml"/><Relationship Id="rId16" Type="http://schemas.openxmlformats.org/officeDocument/2006/relationships/slide" Target="slide53.xml"/><Relationship Id="rId17" Type="http://schemas.openxmlformats.org/officeDocument/2006/relationships/slide" Target="slide53.xml"/><Relationship Id="rId18" Type="http://schemas.openxmlformats.org/officeDocument/2006/relationships/slide" Target="slide58.xml"/><Relationship Id="rId19" Type="http://schemas.openxmlformats.org/officeDocument/2006/relationships/slide" Target="slide58.xml"/><Relationship Id="rId20" Type="http://schemas.openxmlformats.org/officeDocument/2006/relationships/slide" Target="slide58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2.xml"/><Relationship Id="rId24" Type="http://schemas.openxmlformats.org/officeDocument/2006/relationships/slide" Target="slide32.xml"/><Relationship Id="rId25" Type="http://schemas.openxmlformats.org/officeDocument/2006/relationships/slide" Target="slide32.xml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" Target="slide51.xml"/><Relationship Id="rId8" Type="http://schemas.openxmlformats.org/officeDocument/2006/relationships/slide" Target="slide51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image" Target="../media/image36.gif"/><Relationship Id="rId12" Type="http://schemas.openxmlformats.org/officeDocument/2006/relationships/slideLayout" Target="../slideLayouts/slideLayout7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7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3.xml"/><Relationship Id="rId3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0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3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4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8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7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7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9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4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3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Повтори орфографию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чебный материал в электронном виде для учащихся старших классов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Правописание чередующихся гласных зависит от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Буквы после кор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- - к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(н)         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ка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ся  -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о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уть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– б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-                   с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и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 - с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е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м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и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 –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е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ул -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е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п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вы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жиг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 - вы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же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д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по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 - по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т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рас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ти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ся - рас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те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ст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бл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-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ж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(ч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4" name=""/>
          <p:cNvGraphicFramePr/>
          <p:nvPr/>
        </p:nvGraphicFramePr>
        <p:xfrm>
          <a:off x="2484360" y="24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5" name=""/>
          <p:cNvGraphicFramePr/>
          <p:nvPr/>
        </p:nvGraphicFramePr>
        <p:xfrm>
          <a:off x="2411280" y="278100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6" name=""/>
          <p:cNvGraphicFramePr/>
          <p:nvPr/>
        </p:nvGraphicFramePr>
        <p:xfrm>
          <a:off x="2411280" y="3141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7" name=""/>
          <p:cNvGraphicFramePr/>
          <p:nvPr/>
        </p:nvGraphicFramePr>
        <p:xfrm>
          <a:off x="2411280" y="349992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8" name=""/>
          <p:cNvGraphicFramePr/>
          <p:nvPr/>
        </p:nvGraphicFramePr>
        <p:xfrm>
          <a:off x="2411280" y="393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9" name=""/>
          <p:cNvGraphicFramePr/>
          <p:nvPr/>
        </p:nvGraphicFramePr>
        <p:xfrm>
          <a:off x="2411280" y="42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0" name=""/>
          <p:cNvGraphicFramePr/>
          <p:nvPr/>
        </p:nvGraphicFramePr>
        <p:xfrm>
          <a:off x="2556000" y="458100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1" name=""/>
          <p:cNvGraphicFramePr/>
          <p:nvPr/>
        </p:nvGraphicFramePr>
        <p:xfrm>
          <a:off x="2700360" y="4941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2" name=""/>
          <p:cNvGraphicFramePr/>
          <p:nvPr/>
        </p:nvGraphicFramePr>
        <p:xfrm>
          <a:off x="2411280" y="537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3" name=""/>
          <p:cNvGraphicFramePr/>
          <p:nvPr/>
        </p:nvGraphicFramePr>
        <p:xfrm>
          <a:off x="3059280" y="5373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4" name=""/>
          <p:cNvGraphicFramePr/>
          <p:nvPr/>
        </p:nvGraphicFramePr>
        <p:xfrm>
          <a:off x="2556000" y="573372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5" name=""/>
          <p:cNvSpPr txBox="1"/>
          <p:nvPr/>
        </p:nvSpPr>
        <p:spPr>
          <a:xfrm>
            <a:off x="539640" y="4365720"/>
            <a:ext cx="1152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971640" y="5418000"/>
            <a:ext cx="108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708360" y="3284640"/>
            <a:ext cx="11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5435640" y="5229360"/>
            <a:ext cx="172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7164360" y="5229360"/>
            <a:ext cx="8492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уквы Е и И в корнях с чередовани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р- - бир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- -д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р- -м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- -п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р- -т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ест- -блист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г- -жиг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л- -стил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- -чит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1332000" y="2349360"/>
            <a:ext cx="23032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3" name=""/>
          <p:cNvSpPr/>
          <p:nvPr/>
        </p:nvSpPr>
        <p:spPr>
          <a:xfrm flipV="1" rot="13368000">
            <a:off x="243720" y="2080800"/>
            <a:ext cx="2879280" cy="27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2843280" y="1844280"/>
            <a:ext cx="64908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492360" y="1844640"/>
            <a:ext cx="35892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1187280" y="4869000"/>
            <a:ext cx="11210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cc33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835280" y="5157720"/>
            <a:ext cx="25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Нет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уффикс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39640" y="3573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03120" y="3573360"/>
            <a:ext cx="124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79280" y="3500280"/>
            <a:ext cx="37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т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з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б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у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0" y="6004080"/>
            <a:ext cx="32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т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, за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п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б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ут, у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м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1189080" cy="909360"/>
          </a:xfrm>
          <a:custGeom>
            <a:avLst/>
            <a:gdLst>
              <a:gd name="textAreaLeft" fmla="*/ 58680 w 1189080"/>
              <a:gd name="textAreaRight" fmla="*/ 1130400 w 1189080"/>
              <a:gd name="textAreaTop" fmla="*/ 58680 h 909360"/>
              <a:gd name="textAreaBottom" fmla="*/ 850680 h 909360"/>
            </a:gdLst>
            <a:ahLst/>
            <a:rect l="textAreaLeft" t="textAreaTop" r="textAreaRight" b="textAreaBottom"/>
            <a:pathLst>
              <a:path w="28242" h="21600">
                <a:moveTo>
                  <a:pt x="0" y="0"/>
                </a:moveTo>
                <a:lnTo>
                  <a:pt x="28242" y="0"/>
                </a:lnTo>
                <a:lnTo>
                  <a:pt x="28242" y="21600"/>
                </a:lnTo>
                <a:lnTo>
                  <a:pt x="0" y="21600"/>
                </a:lnTo>
                <a:close/>
              </a:path>
              <a:path fill="lightenLess" w="28242" h="21600">
                <a:moveTo>
                  <a:pt x="0" y="0"/>
                </a:moveTo>
                <a:lnTo>
                  <a:pt x="28242" y="0"/>
                </a:lnTo>
                <a:lnTo>
                  <a:pt x="26842" y="1400"/>
                </a:lnTo>
                <a:lnTo>
                  <a:pt x="1400" y="1400"/>
                </a:lnTo>
                <a:close/>
              </a:path>
              <a:path fill="darken" w="28242" h="21600">
                <a:moveTo>
                  <a:pt x="28242" y="0"/>
                </a:moveTo>
                <a:lnTo>
                  <a:pt x="28242" y="21600"/>
                </a:lnTo>
                <a:lnTo>
                  <a:pt x="26842" y="20200"/>
                </a:lnTo>
                <a:lnTo>
                  <a:pt x="26842" y="1400"/>
                </a:lnTo>
                <a:close/>
              </a:path>
              <a:path fill="darkenLess" w="28242" h="21600">
                <a:moveTo>
                  <a:pt x="28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2" y="20200"/>
                </a:lnTo>
                <a:close/>
              </a:path>
              <a:path fill="lighten" w="28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2" h="21600">
                <a:moveTo>
                  <a:pt x="7114" y="7493"/>
                </a:moveTo>
                <a:lnTo>
                  <a:pt x="10622" y="7493"/>
                </a:lnTo>
                <a:lnTo>
                  <a:pt x="10622" y="12828"/>
                </a:lnTo>
                <a:cubicBezTo>
                  <a:pt x="10622" y="13751"/>
                  <a:pt x="11423" y="14482"/>
                  <a:pt x="12458" y="14482"/>
                </a:cubicBezTo>
                <a:lnTo>
                  <a:pt x="14121" y="14482"/>
                </a:lnTo>
                <a:cubicBezTo>
                  <a:pt x="15157" y="14482"/>
                  <a:pt x="15957" y="13751"/>
                  <a:pt x="15957" y="12828"/>
                </a:cubicBezTo>
                <a:lnTo>
                  <a:pt x="15957" y="7493"/>
                </a:lnTo>
                <a:lnTo>
                  <a:pt x="14121" y="7493"/>
                </a:lnTo>
                <a:lnTo>
                  <a:pt x="17628" y="3985"/>
                </a:lnTo>
                <a:lnTo>
                  <a:pt x="21301" y="7493"/>
                </a:lnTo>
                <a:lnTo>
                  <a:pt x="19465" y="7493"/>
                </a:lnTo>
                <a:lnTo>
                  <a:pt x="19465" y="12828"/>
                </a:lnTo>
                <a:cubicBezTo>
                  <a:pt x="19465" y="15596"/>
                  <a:pt x="16889" y="18155"/>
                  <a:pt x="14121" y="18155"/>
                </a:cubicBezTo>
                <a:lnTo>
                  <a:pt x="12458" y="18155"/>
                </a:lnTo>
                <a:cubicBezTo>
                  <a:pt x="9691" y="18155"/>
                  <a:pt x="7114" y="15596"/>
                  <a:pt x="7114" y="12828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удар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 ударения 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Го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ть, за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го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кл.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гар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ез удар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1" lang="ru-RU" sz="2000" spc="-1" strike="noStrike">
                <a:solidFill>
                  <a:srgbClr val="d4cc2c"/>
                </a:solidFill>
                <a:latin typeface="Tahoma"/>
              </a:rPr>
              <a:t>кло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ться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1" lang="ru-RU" sz="2000" spc="-1" strike="noStrike">
                <a:solidFill>
                  <a:srgbClr val="d4cc2c"/>
                </a:solidFill>
                <a:latin typeface="Tahoma"/>
              </a:rPr>
              <a:t>кло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ть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    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, о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ц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4859280" y="1916280"/>
            <a:ext cx="165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1332000" y="3500280"/>
            <a:ext cx="165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6372360" y="450864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8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2556000" y="1989000"/>
            <a:ext cx="5256000" cy="4319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7236000" y="3141720"/>
            <a:ext cx="46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ип орфограмм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763640" y="1983960"/>
            <a:ext cx="275112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укв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лас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оглас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Ь и Ъ зна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ольш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ефи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бе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ёрточ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3938760" y="1852560"/>
            <a:ext cx="644400" cy="649440"/>
          </a:xfrm>
          <a:prstGeom prst="rect">
            <a:avLst/>
          </a:prstGeom>
          <a:ln w="0">
            <a:noFill/>
          </a:ln>
        </p:spPr>
      </p:pic>
      <p:sp>
        <p:nvSpPr>
          <p:cNvPr id="1834" name="">
            <a:hlinkClick r:id="rId2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427640" y="1700280"/>
            <a:ext cx="720720" cy="4105080"/>
          </a:xfrm>
          <a:prstGeom prst="rightArrowCallout">
            <a:avLst>
              <a:gd name="adj1" fmla="val 142408"/>
              <a:gd name="adj2" fmla="val 14239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940360" y="1773360"/>
            <a:ext cx="280836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Опознава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призна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3"/>
          <a:stretch/>
        </p:blipFill>
        <p:spPr>
          <a:xfrm>
            <a:off x="1955880" y="2768760"/>
            <a:ext cx="668160" cy="649080"/>
          </a:xfrm>
          <a:prstGeom prst="rect">
            <a:avLst/>
          </a:prstGeom>
          <a:ln w="0">
            <a:noFill/>
          </a:ln>
        </p:spPr>
      </p:pic>
      <p:pic>
        <p:nvPicPr>
          <p:cNvPr id="1838" name="" descr=""/>
          <p:cNvPicPr/>
          <p:nvPr/>
        </p:nvPicPr>
        <p:blipFill>
          <a:blip r:embed="rId4"/>
          <a:stretch/>
        </p:blipFill>
        <p:spPr>
          <a:xfrm>
            <a:off x="1258920" y="1125360"/>
            <a:ext cx="792000" cy="757440"/>
          </a:xfrm>
          <a:prstGeom prst="rect">
            <a:avLst/>
          </a:prstGeom>
          <a:ln w="0">
            <a:noFill/>
          </a:ln>
        </p:spPr>
      </p:pic>
      <p:pic>
        <p:nvPicPr>
          <p:cNvPr id="1839" name="" descr=""/>
          <p:cNvPicPr/>
          <p:nvPr/>
        </p:nvPicPr>
        <p:blipFill>
          <a:blip r:embed="rId5"/>
          <a:stretch/>
        </p:blipFill>
        <p:spPr>
          <a:xfrm>
            <a:off x="1187280" y="5877000"/>
            <a:ext cx="590760" cy="571320"/>
          </a:xfrm>
          <a:prstGeom prst="rect">
            <a:avLst/>
          </a:prstGeom>
          <a:ln w="0">
            <a:noFill/>
          </a:ln>
        </p:spPr>
      </p:pic>
      <p:pic>
        <p:nvPicPr>
          <p:cNvPr id="1840" name="" descr=""/>
          <p:cNvPicPr/>
          <p:nvPr/>
        </p:nvPicPr>
        <p:blipFill>
          <a:blip r:embed="rId6"/>
          <a:stretch/>
        </p:blipFill>
        <p:spPr>
          <a:xfrm>
            <a:off x="1763640" y="5877000"/>
            <a:ext cx="514440" cy="57132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7"/>
          <a:stretch/>
        </p:blipFill>
        <p:spPr>
          <a:xfrm>
            <a:off x="2268360" y="5877000"/>
            <a:ext cx="590760" cy="57132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3059280" y="6021360"/>
            <a:ext cx="504720" cy="14436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3" name="" descr=""/>
          <p:cNvPicPr/>
          <p:nvPr/>
        </p:nvPicPr>
        <p:blipFill>
          <a:blip r:embed="rId8"/>
          <a:stretch/>
        </p:blipFill>
        <p:spPr>
          <a:xfrm>
            <a:off x="3635280" y="5877000"/>
            <a:ext cx="514440" cy="57132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9"/>
          <a:stretch/>
        </p:blipFill>
        <p:spPr>
          <a:xfrm>
            <a:off x="4140360" y="587700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1845" name="">
            <a:hlinkClick r:id="rId10" action="ppaction://hlinksldjump"/>
          </p:cNvPr>
          <p:cNvSpPr/>
          <p:nvPr/>
        </p:nvSpPr>
        <p:spPr>
          <a:xfrm rot="19132200">
            <a:off x="8172000" y="2923920"/>
            <a:ext cx="727200" cy="1633320"/>
          </a:xfrm>
          <a:custGeom>
            <a:avLst/>
            <a:gdLst>
              <a:gd name="textAreaLeft" fmla="*/ 0 w 727200"/>
              <a:gd name="textAreaRight" fmla="*/ 727200 w 727200"/>
              <a:gd name="textAreaTop" fmla="*/ 0 h 1633320"/>
              <a:gd name="textAreaBottom" fmla="*/ 1633680 h 1633320"/>
            </a:gdLst>
            <a:ahLst/>
            <a:rect l="textAreaLeft" t="textAreaTop" r="textAreaRight" b="textAreaBottom"/>
            <a:pathLst>
              <a:path w="21600" h="21600">
                <a:moveTo>
                  <a:pt x="5403" y="11609"/>
                </a:moveTo>
                <a:arcTo wR="-5457" hR="-5457" stAng="10288496" swAng="-14904570"/>
                <a:lnTo>
                  <a:pt x="8359" y="21320"/>
                </a:lnTo>
                <a:arcTo wR="10800" hR="10800" stAng="6183926" swAng="14904570"/>
                <a:lnTo>
                  <a:pt x="24151" y="8799"/>
                </a:lnTo>
                <a:lnTo>
                  <a:pt x="19635" y="14907"/>
                </a:lnTo>
                <a:lnTo>
                  <a:pt x="13527" y="103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4284720" y="4194000"/>
            <a:ext cx="453708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Чёрточка (при переносе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ец стро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рфограммы бывают в разных частях слова, между частями слова и между сло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284720" y="2473200"/>
            <a:ext cx="4537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284720" y="1125360"/>
            <a:ext cx="45370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Дефис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жные сл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ставки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е-, в-, по-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ффиксы   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ибудь,  - либо,  - т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ицы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–то,  -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Орфограмма – пробе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слитное и раздельное напис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,  ни,  бы,  же;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лог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жные сл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95280" y="1125360"/>
            <a:ext cx="3889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95280" y="1125360"/>
            <a:ext cx="8426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95280" y="5950080"/>
            <a:ext cx="8426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95280" y="1125360"/>
            <a:ext cx="0" cy="4824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284720" y="1125360"/>
            <a:ext cx="0" cy="482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8821800" y="1125360"/>
            <a:ext cx="0" cy="4824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284720" y="24732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284720" y="38908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Опознавательные призна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Буквы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удар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ящие и Ц перед глас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ец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ечение соглас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 перед гласными в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Не обозначающие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Ь нераздели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е 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ящие на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А  на конц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Ь   и Ъ раздел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к   й   после согласных и перед  гласным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е, ё, ю, я,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Больш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чало предложения, тек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личие собственных имён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ственных наимен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1618560" y="3933720"/>
            <a:ext cx="73080" cy="216000"/>
          </a:xfrm>
          <a:custGeom>
            <a:avLst/>
            <a:gdLst>
              <a:gd name="textAreaLeft" fmla="*/ 21240 w 73080"/>
              <a:gd name="textAreaRight" fmla="*/ 73440 w 7308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332000" y="3933720"/>
            <a:ext cx="71280" cy="216000"/>
          </a:xfrm>
          <a:custGeom>
            <a:avLst/>
            <a:gdLst>
              <a:gd name="textAreaLeft" fmla="*/ 20880 w 71280"/>
              <a:gd name="textAreaRight" fmla="*/ 71640 w 7128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835280" y="4365720"/>
            <a:ext cx="71280" cy="215640"/>
          </a:xfrm>
          <a:custGeom>
            <a:avLst/>
            <a:gdLst>
              <a:gd name="textAreaLeft" fmla="*/ 20880 w 71280"/>
              <a:gd name="textAreaRight" fmla="*/ 71640 w 71280"/>
              <a:gd name="textAreaTop" fmla="*/ 9000 h 215640"/>
              <a:gd name="textAreaBottom" fmla="*/ 20700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978920" y="4365720"/>
            <a:ext cx="73080" cy="215640"/>
          </a:xfrm>
          <a:custGeom>
            <a:avLst/>
            <a:gdLst>
              <a:gd name="textAreaLeft" fmla="*/ 21240 w 73080"/>
              <a:gd name="textAreaRight" fmla="*/ 73440 w 73080"/>
              <a:gd name="textAreaTop" fmla="*/ 9000 h 215640"/>
              <a:gd name="textAreaBottom" fmla="*/ 20700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previousslide"/>
          </p:cNvPr>
          <p:cNvSpPr/>
          <p:nvPr/>
        </p:nvSpPr>
        <p:spPr>
          <a:xfrm>
            <a:off x="7885080" y="6093000"/>
            <a:ext cx="1258920" cy="765000"/>
          </a:xfrm>
          <a:custGeom>
            <a:avLst/>
            <a:gdLst>
              <a:gd name="textAreaLeft" fmla="*/ 49320 w 1258920"/>
              <a:gd name="textAreaRight" fmla="*/ 1209600 w 1258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5539" h="21600">
                <a:moveTo>
                  <a:pt x="0" y="0"/>
                </a:moveTo>
                <a:lnTo>
                  <a:pt x="35539" y="0"/>
                </a:lnTo>
                <a:lnTo>
                  <a:pt x="35539" y="21600"/>
                </a:lnTo>
                <a:lnTo>
                  <a:pt x="0" y="21600"/>
                </a:lnTo>
                <a:close/>
              </a:path>
              <a:path fill="lightenLess" w="35539" h="21600">
                <a:moveTo>
                  <a:pt x="0" y="0"/>
                </a:moveTo>
                <a:lnTo>
                  <a:pt x="35539" y="0"/>
                </a:lnTo>
                <a:lnTo>
                  <a:pt x="34139" y="1400"/>
                </a:lnTo>
                <a:lnTo>
                  <a:pt x="1400" y="1400"/>
                </a:lnTo>
                <a:close/>
              </a:path>
              <a:path fill="darken" w="35539" h="21600">
                <a:moveTo>
                  <a:pt x="35539" y="0"/>
                </a:moveTo>
                <a:lnTo>
                  <a:pt x="35539" y="21600"/>
                </a:lnTo>
                <a:lnTo>
                  <a:pt x="34139" y="20200"/>
                </a:lnTo>
                <a:lnTo>
                  <a:pt x="34139" y="1400"/>
                </a:lnTo>
                <a:close/>
              </a:path>
              <a:path fill="darkenLess" w="35539" h="21600">
                <a:moveTo>
                  <a:pt x="35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39" y="20200"/>
                </a:lnTo>
                <a:close/>
              </a:path>
              <a:path fill="lighten" w="35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39" h="21600">
                <a:moveTo>
                  <a:pt x="10763" y="10800"/>
                </a:moveTo>
                <a:lnTo>
                  <a:pt x="24776" y="3794"/>
                </a:lnTo>
                <a:lnTo>
                  <a:pt x="2477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6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8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6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6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4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16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8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6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32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4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76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8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12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8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4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6040"/>
                            </p:stCondLst>
                            <p:childTnLst>
                              <p:par>
                                <p:cTn id="4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8040"/>
                            </p:stCondLst>
                            <p:childTnLst>
                              <p:par>
                                <p:cTn id="419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40"/>
                            </p:stCondLst>
                            <p:childTnLst>
                              <p:par>
                                <p:cTn id="4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2040"/>
                            </p:stCondLst>
                            <p:childTnLst>
                              <p:par>
                                <p:cTn id="4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5" name=""/>
          <p:cNvGraphicFramePr/>
          <p:nvPr/>
        </p:nvGraphicFramePr>
        <p:xfrm>
          <a:off x="179280" y="1557360"/>
          <a:ext cx="8640720" cy="5040360"/>
        </p:xfrm>
        <a:graphic>
          <a:graphicData uri="http://schemas.openxmlformats.org/drawingml/2006/table">
            <a:tbl>
              <a:tblPr/>
              <a:tblGrid>
                <a:gridCol w="4991040"/>
                <a:gridCol w="364968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онетическ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рение, безудар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ипящие и 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ягкие согла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звончение и оглушение соглас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(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ы), суч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, ш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ё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ёлудь,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га, др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, спря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и, ко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, лист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ба, л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ловообразовательны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сть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днокоренное сло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леить, овраж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у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– ду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к,  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- 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орфологическ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сть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знаки частей речи: склонение и пад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яжение и лиц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лог,  сущ.                      наре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верху (дома)   и    вверх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 опушк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л., п. п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д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  (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.,  3-е  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интаксическ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00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вязь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каком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осен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   лес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мысловы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чени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чение части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ть (бельё), пол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ть (ребёнка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тличный (очень хороши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хал (приближе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4932360" y="5300640"/>
            <a:ext cx="151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5076720" y="5300640"/>
            <a:ext cx="7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6206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о инструкция, в которой указываются условия выбора правильных написаний (орфограмм) в словах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Условия выбора –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о фонетические, словообразовательные, морфологические, синтаксические и смысловые особенности слов, которые определяют, что следует писать в том или ином случ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042920" y="2602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рфографическое правил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>
            <a:hlinkClick r:id="rId1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noFill/>
          <a:ln w="9360">
            <a:solidFill>
              <a:srgbClr val="f2d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 flipH="1" flipV="1" rot="8320200">
            <a:off x="-68400" y="4151880"/>
            <a:ext cx="143712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227640" y="4076640"/>
            <a:ext cx="215424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203640" y="4076640"/>
            <a:ext cx="3024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84360" y="4076640"/>
            <a:ext cx="251748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Орфограммы – согласные в кор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"/>
          <p:cNvSpPr/>
          <p:nvPr/>
        </p:nvSpPr>
        <p:spPr>
          <a:xfrm>
            <a:off x="3203640" y="4076640"/>
            <a:ext cx="302400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чный 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203640" y="2979720"/>
            <a:ext cx="3024000" cy="109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произнос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2979720"/>
            <a:ext cx="2517840" cy="1096920"/>
          </a:xfrm>
          <a:prstGeom prst="rect">
            <a:avLst/>
          </a:prstGeom>
          <a:solidFill>
            <a:srgbClr val="ffef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роверя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227640" y="1828800"/>
            <a:ext cx="2154240" cy="224784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прове-ря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85800" y="1828800"/>
            <a:ext cx="5541840" cy="1150920"/>
          </a:xfrm>
          <a:prstGeom prst="rect">
            <a:avLst/>
          </a:prstGeom>
          <a:solidFill>
            <a:srgbClr val="d4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яемые прави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85800" y="1828800"/>
            <a:ext cx="7696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85800" y="297972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685800" y="407664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85800" y="6191280"/>
            <a:ext cx="7696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684360" y="1844640"/>
            <a:ext cx="0" cy="4362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227640" y="182880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8381880" y="1828800"/>
            <a:ext cx="0" cy="4362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203640" y="297972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rot="18915000">
            <a:off x="885960" y="441648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 rot="13072800">
            <a:off x="244440" y="406080"/>
            <a:ext cx="129456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 rot="14314200">
            <a:off x="-128520" y="26640"/>
            <a:ext cx="1151280" cy="18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rot="18915000">
            <a:off x="3046680" y="448956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rot="18915000">
            <a:off x="3046680" y="448956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 rot="13093200">
            <a:off x="4421880" y="5799600"/>
            <a:ext cx="1292400" cy="165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1" y="89"/>
                </a:moveTo>
                <a:arcTo wR="10800" hR="10800" stAng="-4959069" swAng="2763626"/>
                <a:lnTo>
                  <a:pt x="10800" y="10800"/>
                </a:lnTo>
                <a:close/>
              </a:path>
              <a:path fill="none" w="21600" h="21600">
                <a:moveTo>
                  <a:pt x="12181" y="89"/>
                </a:moveTo>
                <a:arcTo wR="10800" hR="10800" stAng="-4959069" swAng="2763626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rot="18915000">
            <a:off x="6215400" y="4921200"/>
            <a:ext cx="129744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rot="18915000">
            <a:off x="1478520" y="4920840"/>
            <a:ext cx="1406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1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16768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V="1" rot="14443800">
            <a:off x="600120" y="4384800"/>
            <a:ext cx="1517400" cy="182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17" y="1637"/>
                </a:moveTo>
                <a:arcTo wR="10800" hR="10800" stAng="-3482403" swAng="3461201"/>
                <a:lnTo>
                  <a:pt x="10800" y="10800"/>
                </a:lnTo>
                <a:close/>
              </a:path>
              <a:path fill="none" w="21600" h="21600">
                <a:moveTo>
                  <a:pt x="16517" y="1637"/>
                </a:moveTo>
                <a:arcTo wR="10800" hR="10800" stAng="-3482403" swAng="3461201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>
            <a:hlinkClick r:id="rId1" action="ppaction://hlinksldjump"/>
          </p:cNvPr>
          <p:cNvSpPr/>
          <p:nvPr/>
        </p:nvSpPr>
        <p:spPr>
          <a:xfrm>
            <a:off x="8172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 flipV="1">
            <a:off x="323640" y="3574440"/>
            <a:ext cx="14371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763640" y="6165720"/>
            <a:ext cx="2087640" cy="692280"/>
          </a:xfrm>
          <a:custGeom>
            <a:avLst/>
            <a:gdLst>
              <a:gd name="textAreaLeft" fmla="*/ 326160 w 2087640"/>
              <a:gd name="textAreaRight" fmla="*/ 1827000 w 2087640"/>
              <a:gd name="textAreaTop" fmla="*/ 173160 h 692280"/>
              <a:gd name="textAreaBottom" fmla="*/ 519480 h 69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195640" y="638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>
            <a:hlinkClick r:id="rId2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rot="18915000">
            <a:off x="741600" y="535320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rot="18915000">
            <a:off x="1822680" y="578484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rot="18915000">
            <a:off x="4199400" y="4921200"/>
            <a:ext cx="129744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V="1" rot="13093200">
            <a:off x="2766240" y="5366160"/>
            <a:ext cx="1292400" cy="165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1" y="89"/>
                </a:moveTo>
                <a:arcTo wR="10800" hR="10800" stAng="-4959069" swAng="2763626"/>
                <a:lnTo>
                  <a:pt x="10800" y="10800"/>
                </a:lnTo>
                <a:close/>
              </a:path>
              <a:path fill="none" w="21600" h="21600">
                <a:moveTo>
                  <a:pt x="12181" y="89"/>
                </a:moveTo>
                <a:arcTo wR="10800" hR="10800" stAng="-4959069" swAng="2763626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ом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8" name=""/>
          <p:cNvGraphicFramePr/>
          <p:nvPr/>
        </p:nvGraphicFramePr>
        <p:xfrm>
          <a:off x="755640" y="981000"/>
          <a:ext cx="7632720" cy="57610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в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- в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пр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л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мол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д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чуд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– оп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кр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– прекрас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опо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а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вать –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а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ге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о - аге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ж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уж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к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иск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ю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л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в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р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9" name="">
            <a:hlinkClick r:id="rId1" action="ppaction://hlinksldjump"/>
          </p:cNvPr>
          <p:cNvSpPr/>
          <p:nvPr/>
        </p:nvSpPr>
        <p:spPr>
          <a:xfrm>
            <a:off x="7451640" y="6021360"/>
            <a:ext cx="936720" cy="836640"/>
          </a:xfrm>
          <a:custGeom>
            <a:avLst/>
            <a:gdLst>
              <a:gd name="textAreaLeft" fmla="*/ 54000 w 936720"/>
              <a:gd name="textAreaRight" fmla="*/ 882720 w 936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4183" h="21600">
                <a:moveTo>
                  <a:pt x="0" y="0"/>
                </a:moveTo>
                <a:lnTo>
                  <a:pt x="24183" y="0"/>
                </a:lnTo>
                <a:lnTo>
                  <a:pt x="24183" y="21600"/>
                </a:lnTo>
                <a:lnTo>
                  <a:pt x="0" y="21600"/>
                </a:lnTo>
                <a:close/>
              </a:path>
              <a:path fill="lightenLess" w="24183" h="21600">
                <a:moveTo>
                  <a:pt x="0" y="0"/>
                </a:moveTo>
                <a:lnTo>
                  <a:pt x="24183" y="0"/>
                </a:lnTo>
                <a:lnTo>
                  <a:pt x="22783" y="1400"/>
                </a:lnTo>
                <a:lnTo>
                  <a:pt x="1400" y="1400"/>
                </a:lnTo>
                <a:close/>
              </a:path>
              <a:path fill="darken" w="24183" h="21600">
                <a:moveTo>
                  <a:pt x="24183" y="0"/>
                </a:moveTo>
                <a:lnTo>
                  <a:pt x="24183" y="21600"/>
                </a:lnTo>
                <a:lnTo>
                  <a:pt x="22783" y="20200"/>
                </a:lnTo>
                <a:lnTo>
                  <a:pt x="22783" y="1400"/>
                </a:lnTo>
                <a:close/>
              </a:path>
              <a:path fill="darkenLess" w="24183" h="21600">
                <a:moveTo>
                  <a:pt x="24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3" y="20200"/>
                </a:lnTo>
                <a:close/>
              </a:path>
              <a:path fill="lighten" w="24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3" h="21600">
                <a:moveTo>
                  <a:pt x="5085" y="7493"/>
                </a:moveTo>
                <a:lnTo>
                  <a:pt x="8592" y="7493"/>
                </a:lnTo>
                <a:lnTo>
                  <a:pt x="8592" y="12828"/>
                </a:lnTo>
                <a:cubicBezTo>
                  <a:pt x="8592" y="13751"/>
                  <a:pt x="9393" y="14482"/>
                  <a:pt x="10429" y="14482"/>
                </a:cubicBezTo>
                <a:lnTo>
                  <a:pt x="12091" y="14482"/>
                </a:lnTo>
                <a:cubicBezTo>
                  <a:pt x="13127" y="14482"/>
                  <a:pt x="13928" y="13751"/>
                  <a:pt x="13928" y="12828"/>
                </a:cubicBezTo>
                <a:lnTo>
                  <a:pt x="13928" y="7493"/>
                </a:lnTo>
                <a:lnTo>
                  <a:pt x="12091" y="7493"/>
                </a:lnTo>
                <a:lnTo>
                  <a:pt x="15599" y="3985"/>
                </a:lnTo>
                <a:lnTo>
                  <a:pt x="19272" y="7493"/>
                </a:lnTo>
                <a:lnTo>
                  <a:pt x="17435" y="7493"/>
                </a:lnTo>
                <a:lnTo>
                  <a:pt x="17435" y="12828"/>
                </a:lnTo>
                <a:cubicBezTo>
                  <a:pt x="17435" y="15596"/>
                  <a:pt x="14859" y="18155"/>
                  <a:pt x="12091" y="18155"/>
                </a:cubicBezTo>
                <a:lnTo>
                  <a:pt x="10429" y="18155"/>
                </a:lnTo>
                <a:cubicBezTo>
                  <a:pt x="7661" y="18155"/>
                  <a:pt x="5085" y="15596"/>
                  <a:pt x="5085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Буквы И, У, А после шипящих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609120" y="1599840"/>
            <a:ext cx="3886200" cy="240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– Ш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иши с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4647960" y="1599840"/>
            <a:ext cx="3886200" cy="2405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– Щ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иши с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755640" y="4292280"/>
            <a:ext cx="7058160" cy="1873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– Щ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пиши с 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л.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ш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, ж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, параш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 Ж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 Ве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>
            <a:hlinkClick r:id="" action="ppaction://hlinkshowjump?jump=previousslide"/>
          </p:cNvPr>
          <p:cNvSpPr/>
          <p:nvPr/>
        </p:nvSpPr>
        <p:spPr>
          <a:xfrm>
            <a:off x="8172360" y="5994360"/>
            <a:ext cx="971640" cy="863640"/>
          </a:xfrm>
          <a:custGeom>
            <a:avLst/>
            <a:gdLst>
              <a:gd name="textAreaLeft" fmla="*/ 55800 w 971640"/>
              <a:gd name="textAreaRight" fmla="*/ 915840 w 971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7493"/>
                </a:moveTo>
                <a:lnTo>
                  <a:pt x="8651" y="7493"/>
                </a:lnTo>
                <a:lnTo>
                  <a:pt x="8651" y="12828"/>
                </a:lnTo>
                <a:cubicBezTo>
                  <a:pt x="8651" y="13751"/>
                  <a:pt x="9452" y="14482"/>
                  <a:pt x="10488" y="14482"/>
                </a:cubicBezTo>
                <a:lnTo>
                  <a:pt x="12150" y="14482"/>
                </a:lnTo>
                <a:cubicBezTo>
                  <a:pt x="13186" y="14482"/>
                  <a:pt x="13986" y="13751"/>
                  <a:pt x="13986" y="12828"/>
                </a:cubicBezTo>
                <a:lnTo>
                  <a:pt x="13986" y="7493"/>
                </a:lnTo>
                <a:lnTo>
                  <a:pt x="12150" y="7493"/>
                </a:lnTo>
                <a:lnTo>
                  <a:pt x="15658" y="3985"/>
                </a:lnTo>
                <a:lnTo>
                  <a:pt x="19331" y="7493"/>
                </a:lnTo>
                <a:lnTo>
                  <a:pt x="17494" y="7493"/>
                </a:lnTo>
                <a:lnTo>
                  <a:pt x="17494" y="12828"/>
                </a:lnTo>
                <a:cubicBezTo>
                  <a:pt x="17494" y="15596"/>
                  <a:pt x="14918" y="18155"/>
                  <a:pt x="12150" y="18155"/>
                </a:cubicBezTo>
                <a:lnTo>
                  <a:pt x="10488" y="18155"/>
                </a:lnTo>
                <a:cubicBezTo>
                  <a:pt x="7720" y="18155"/>
                  <a:pt x="5144" y="15596"/>
                  <a:pt x="5144" y="12828"/>
                </a:cubicBezTo>
                <a:close/>
              </a:path>
            </a:pathLst>
          </a:custGeom>
          <a:noFill/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39640" y="1628640"/>
            <a:ext cx="4032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643280" y="1628640"/>
            <a:ext cx="360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755640" y="443700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11280" y="1700280"/>
            <a:ext cx="360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2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 txBox="1"/>
          <p:nvPr/>
        </p:nvSpPr>
        <p:spPr>
          <a:xfrm>
            <a:off x="2124000" y="1700280"/>
            <a:ext cx="549360" cy="23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!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834240" cy="1143000"/>
          </a:xfrm>
          <a:prstGeom prst="rect">
            <a:avLst/>
          </a:prstGeom>
          <a:solidFill>
            <a:srgbClr val="d6e0e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Разделительные Ъ и Ь знак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255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Выбор разделительных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Ъ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 и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Ь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зависит от их положения в слове после приставки или не после приставки, а также от того, перед какими буквами они находятся: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Е, Ё, Ю, Я,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2916360" y="1700280"/>
          <a:ext cx="5832360" cy="4681440"/>
        </p:xfrm>
        <a:graphic>
          <a:graphicData uri="http://schemas.openxmlformats.org/drawingml/2006/table">
            <a:tbl>
              <a:tblPr/>
              <a:tblGrid>
                <a:gridCol w="3247920"/>
                <a:gridCol w="25844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сле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иставки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согласную перед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, Ё, Ю, 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не после приставки перед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, Ё, Ю, Я, 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ё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ь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билейный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ю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ё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л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3" name="">
            <a:hlinkClick r:id="rId1" action="ppaction://hlinksldjump"/>
          </p:cNvPr>
          <p:cNvSpPr/>
          <p:nvPr/>
        </p:nvSpPr>
        <p:spPr>
          <a:xfrm>
            <a:off x="8207280" y="6066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7493"/>
                </a:moveTo>
                <a:lnTo>
                  <a:pt x="9274" y="7493"/>
                </a:lnTo>
                <a:lnTo>
                  <a:pt x="9274" y="12828"/>
                </a:lnTo>
                <a:cubicBezTo>
                  <a:pt x="9274" y="13751"/>
                  <a:pt x="10074" y="14482"/>
                  <a:pt x="11110" y="14482"/>
                </a:cubicBezTo>
                <a:lnTo>
                  <a:pt x="12773" y="14482"/>
                </a:lnTo>
                <a:cubicBezTo>
                  <a:pt x="13808" y="14482"/>
                  <a:pt x="14609" y="13751"/>
                  <a:pt x="14609" y="12828"/>
                </a:cubicBezTo>
                <a:lnTo>
                  <a:pt x="14609" y="7493"/>
                </a:lnTo>
                <a:lnTo>
                  <a:pt x="12773" y="7493"/>
                </a:lnTo>
                <a:lnTo>
                  <a:pt x="16280" y="3985"/>
                </a:lnTo>
                <a:lnTo>
                  <a:pt x="19953" y="7493"/>
                </a:lnTo>
                <a:lnTo>
                  <a:pt x="18117" y="7493"/>
                </a:lnTo>
                <a:lnTo>
                  <a:pt x="18117" y="12828"/>
                </a:lnTo>
                <a:cubicBezTo>
                  <a:pt x="18117" y="15596"/>
                  <a:pt x="15540" y="18155"/>
                  <a:pt x="12773" y="18155"/>
                </a:cubicBezTo>
                <a:lnTo>
                  <a:pt x="11110" y="18155"/>
                </a:lnTo>
                <a:cubicBezTo>
                  <a:pt x="8342" y="18155"/>
                  <a:pt x="5766" y="15596"/>
                  <a:pt x="5766" y="12828"/>
                </a:cubicBezTo>
                <a:close/>
              </a:path>
            </a:pathLst>
          </a:custGeom>
          <a:noFill/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>
            <a:hlinkClick r:id="rId2" action="ppaction://hlinksldjump"/>
          </p:cNvPr>
          <p:cNvSpPr/>
          <p:nvPr/>
        </p:nvSpPr>
        <p:spPr>
          <a:xfrm>
            <a:off x="539640" y="5516640"/>
            <a:ext cx="1728720" cy="108108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e0e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>
            <a:hlinkClick r:id="rId3" action="ppaction://hlinksldjump"/>
          </p:cNvPr>
          <p:cNvSpPr/>
          <p:nvPr/>
        </p:nvSpPr>
        <p:spPr>
          <a:xfrm>
            <a:off x="826920" y="580536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00"/>
                </a:solidFill>
                <a:uFillTx/>
                <a:latin typeface="Comic Sans MS"/>
                <a:hlinkClick r:id="rId4" action="ppaction://hlinksldjump"/>
              </a:rPr>
              <a:t>Запомн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9451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Орфограф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"/>
          <p:cNvSpPr/>
          <p:nvPr/>
        </p:nvSpPr>
        <p:spPr>
          <a:xfrm rot="281400">
            <a:off x="4858920" y="2565000"/>
            <a:ext cx="3240000" cy="1297080"/>
          </a:xfrm>
          <a:prstGeom prst="wedgeRoundRectCallout">
            <a:avLst>
              <a:gd name="adj1" fmla="val -63666"/>
              <a:gd name="adj2" fmla="val 6914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читесь грамотно писать – пригодится в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809880" cy="32385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4427640" y="4869000"/>
            <a:ext cx="410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ОРФОГРАММА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 (греч. 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4" action="ppaction://hlinksldjump"/>
              </a:rPr>
              <a:t>орфо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5" action="ppaction://hlinksldjump"/>
              </a:rPr>
              <a:t>» - правильный, «грамма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буква, знак) – такое написание в слове, которое соответствует определённому орфографическому прави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95280" y="98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6" action="ppaction://hlinksldjump"/>
              </a:rPr>
              <a:t>(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7" action="ppaction://hlinksldjump"/>
              </a:rPr>
              <a:t>орфо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8" action="ppaction://hlinksldjump"/>
              </a:rPr>
              <a:t>» - правильный, «графо» - пишу) – раздел науки о языке, в котором излагается система правил написания слов. Ценность русской орфографии – в строгом соблюдении орфографических прав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л</a:t>
            </a:r>
            <a:r>
              <a:rPr b="0" lang="en-US" sz="8800" spc="-1" strike="noStrike" u="sng">
                <a:solidFill>
                  <a:srgbClr val="ff0066"/>
                </a:solidFill>
                <a:uFillTx/>
                <a:latin typeface="Garamond"/>
              </a:rPr>
              <a:t>а</a:t>
            </a:r>
            <a:r>
              <a:rPr b="0" lang="en-US" sz="8800" spc="-1" strike="noStrike">
                <a:solidFill>
                  <a:srgbClr val="cc0000"/>
                </a:solidFill>
                <a:latin typeface="Garamond"/>
              </a:rPr>
              <a:t>г</a:t>
            </a: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  -  -л</a:t>
            </a:r>
            <a:r>
              <a:rPr b="0" lang="en-US" sz="8800" spc="-1" strike="noStrike" u="sng">
                <a:solidFill>
                  <a:srgbClr val="ff0066"/>
                </a:solidFill>
                <a:uFillTx/>
                <a:latin typeface="Garamond"/>
              </a:rPr>
              <a:t>о</a:t>
            </a:r>
            <a:r>
              <a:rPr b="0" lang="en-US" sz="8800" spc="-1" strike="noStrike">
                <a:solidFill>
                  <a:srgbClr val="cc0000"/>
                </a:solidFill>
                <a:latin typeface="Garamond"/>
              </a:rPr>
              <a:t>ж</a:t>
            </a: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282528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В корне –лаг- - -лож-                      безударная                  </a:t>
            </a:r>
            <a:r>
              <a:rPr b="1" lang="en-US" sz="4000" spc="-1" strike="noStrike">
                <a:solidFill>
                  <a:srgbClr val="33cc33"/>
                </a:solidFill>
                <a:latin typeface="Lucida Console"/>
              </a:rPr>
              <a:t>а 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пишется перед </a:t>
            </a:r>
            <a:r>
              <a:rPr b="1" lang="en-US" sz="4000" spc="-1" strike="noStrike">
                <a:solidFill>
                  <a:srgbClr val="33cc33"/>
                </a:solidFill>
                <a:latin typeface="Lucida Console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,         безударная </a:t>
            </a:r>
            <a:r>
              <a:rPr b="1" lang="en-US" sz="4000" spc="-1" strike="noStrike">
                <a:solidFill>
                  <a:srgbClr val="000099"/>
                </a:solidFill>
                <a:latin typeface="Lucida Console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 перед </a:t>
            </a:r>
            <a:r>
              <a:rPr b="1" lang="en-US" sz="4000" spc="-1" strike="noStrike">
                <a:solidFill>
                  <a:srgbClr val="000099"/>
                </a:solidFill>
                <a:latin typeface="Lucida Console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По</a:t>
            </a:r>
            <a:r>
              <a:rPr b="1" lang="en-US" sz="3200" spc="-1" strike="noStrike">
                <a:solidFill>
                  <a:srgbClr val="cc0000"/>
                </a:solidFill>
                <a:latin typeface="Lucida Console"/>
              </a:rPr>
              <a:t>ло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Lucida Console"/>
              </a:rPr>
              <a:t>ж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ить,     распо</a:t>
            </a:r>
            <a:r>
              <a:rPr b="1" lang="en-US" sz="3200" spc="-1" strike="noStrike">
                <a:solidFill>
                  <a:srgbClr val="cc0000"/>
                </a:solidFill>
                <a:latin typeface="Lucida Console"/>
              </a:rPr>
              <a:t>ла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Lucida Console"/>
              </a:rPr>
              <a:t>г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>
            <a:hlinkClick r:id="" action="ppaction://hlinkshowjump?jump=previousslide"/>
          </p:cNvPr>
          <p:cNvSpPr/>
          <p:nvPr/>
        </p:nvSpPr>
        <p:spPr>
          <a:xfrm>
            <a:off x="8209080" y="585000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  <a:path fill="darken" w="21600" h="23288">
                <a:moveTo>
                  <a:pt x="3794" y="8336"/>
                </a:moveTo>
                <a:lnTo>
                  <a:pt x="7301" y="8336"/>
                </a:lnTo>
                <a:lnTo>
                  <a:pt x="7301" y="13672"/>
                </a:lnTo>
                <a:cubicBezTo>
                  <a:pt x="7301" y="14594"/>
                  <a:pt x="8102" y="15326"/>
                  <a:pt x="9138" y="15326"/>
                </a:cubicBezTo>
                <a:lnTo>
                  <a:pt x="10800" y="15326"/>
                </a:lnTo>
                <a:cubicBezTo>
                  <a:pt x="11836" y="15326"/>
                  <a:pt x="12636" y="14594"/>
                  <a:pt x="12636" y="13672"/>
                </a:cubicBezTo>
                <a:lnTo>
                  <a:pt x="12636" y="8336"/>
                </a:lnTo>
                <a:lnTo>
                  <a:pt x="10800" y="8336"/>
                </a:lnTo>
                <a:lnTo>
                  <a:pt x="14308" y="4829"/>
                </a:lnTo>
                <a:lnTo>
                  <a:pt x="17981" y="8336"/>
                </a:lnTo>
                <a:lnTo>
                  <a:pt x="16144" y="8336"/>
                </a:lnTo>
                <a:lnTo>
                  <a:pt x="16144" y="13672"/>
                </a:lnTo>
                <a:cubicBezTo>
                  <a:pt x="16144" y="16440"/>
                  <a:pt x="13568" y="18999"/>
                  <a:pt x="10800" y="18999"/>
                </a:cubicBezTo>
                <a:lnTo>
                  <a:pt x="9138" y="18999"/>
                </a:lnTo>
                <a:cubicBezTo>
                  <a:pt x="6370" y="18999"/>
                  <a:pt x="3794" y="16440"/>
                  <a:pt x="3794" y="13672"/>
                </a:cubicBezTo>
                <a:close/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 rot="13042800">
            <a:off x="1895760" y="1578960"/>
            <a:ext cx="15832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V="1" rot="13042800">
            <a:off x="5611680" y="1452600"/>
            <a:ext cx="1582920" cy="14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2" y="364"/>
                </a:moveTo>
                <a:arcTo wR="10800" hR="10800" stAng="-6294469" swAng="6658830"/>
                <a:lnTo>
                  <a:pt x="10800" y="10800"/>
                </a:lnTo>
                <a:close/>
              </a:path>
              <a:path fill="none" w="21600" h="21600">
                <a:moveTo>
                  <a:pt x="8022" y="364"/>
                </a:moveTo>
                <a:arcTo wR="10800" hR="10800" stAng="-6294469" swAng="665883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276720" y="692280"/>
            <a:ext cx="3105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дующая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68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68" fill="hold"/>
                                        <p:tgtEl>
                                          <p:spTgt spid="19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68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68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998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998"/>
                            </p:stCondLst>
                            <p:childTnLst>
                              <p:par>
                                <p:cTn id="5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998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98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ра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ст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  -  -ро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с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  -  -ра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щ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98100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93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1527120" cy="147780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3059280" y="1268280"/>
            <a:ext cx="4249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771640" y="1484280"/>
            <a:ext cx="59040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ед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т, щ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тр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а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Comic Sans MS"/>
              </a:rPr>
              <a:t>ст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Иск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: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в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Н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еред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т, щ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ро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Comic Sans MS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340000" y="1700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050920" y="558972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cc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 rot="19369800">
            <a:off x="5321160" y="2707920"/>
            <a:ext cx="38228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дующая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395280" y="1916280"/>
            <a:ext cx="23050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раст-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1" name=""/>
          <p:cNvSpPr txBox="1"/>
          <p:nvPr/>
        </p:nvSpPr>
        <p:spPr>
          <a:xfrm rot="21187800">
            <a:off x="1763280" y="4508280"/>
            <a:ext cx="24130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рос-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6767640" y="4365720"/>
            <a:ext cx="2376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ращ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3" name="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760"/>
                            </p:stCondLst>
                            <p:childTnLst>
                              <p:par>
                                <p:cTn id="5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760"/>
                            </p:stCondLst>
                            <p:childTnLst>
                              <p:par>
                                <p:cTn id="5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7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52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2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2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2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152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Правописание на конце слова Ь после шипящих во всех частях речи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0" y="1125360"/>
            <a:ext cx="914400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Задай вопрос. Определи части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6" name=""/>
          <p:cNvGraphicFramePr/>
          <p:nvPr/>
        </p:nvGraphicFramePr>
        <p:xfrm>
          <a:off x="0" y="1989000"/>
          <a:ext cx="9144000" cy="4869000"/>
        </p:xfrm>
        <a:graphic>
          <a:graphicData uri="http://schemas.openxmlformats.org/drawingml/2006/table">
            <a:tbl>
              <a:tblPr/>
              <a:tblGrid>
                <a:gridCol w="1481040"/>
                <a:gridCol w="1751040"/>
                <a:gridCol w="1616040"/>
                <a:gridCol w="1395360"/>
                <a:gridCol w="2900520"/>
              </a:tblGrid>
              <a:tr h="948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скло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краткое прила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исключ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ж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,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ла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щ (мн.ч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(мн. 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. ф. г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 л. ед. ч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ё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вел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ъе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!!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Ься;            -Ь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я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у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ж              про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уж        спло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терпё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ою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, однако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7" name=""/>
          <p:cNvSpPr/>
          <p:nvPr/>
        </p:nvSpPr>
        <p:spPr>
          <a:xfrm>
            <a:off x="2050920" y="3429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1979280" y="3429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292720" y="299736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292720" y="306864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6443640" y="342900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372360" y="350028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227640" y="5157720"/>
            <a:ext cx="29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564000" y="6524640"/>
            <a:ext cx="360360" cy="333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493"/>
                </a:moveTo>
                <a:lnTo>
                  <a:pt x="12754" y="7493"/>
                </a:lnTo>
                <a:lnTo>
                  <a:pt x="12754" y="12828"/>
                </a:lnTo>
                <a:cubicBezTo>
                  <a:pt x="12754" y="13751"/>
                  <a:pt x="13555" y="14482"/>
                  <a:pt x="14591" y="14482"/>
                </a:cubicBezTo>
                <a:lnTo>
                  <a:pt x="16253" y="14482"/>
                </a:lnTo>
                <a:cubicBezTo>
                  <a:pt x="17289" y="14482"/>
                  <a:pt x="18090" y="13751"/>
                  <a:pt x="18090" y="12828"/>
                </a:cubicBezTo>
                <a:lnTo>
                  <a:pt x="18090" y="7493"/>
                </a:lnTo>
                <a:lnTo>
                  <a:pt x="16253" y="7493"/>
                </a:lnTo>
                <a:lnTo>
                  <a:pt x="19761" y="3985"/>
                </a:lnTo>
                <a:lnTo>
                  <a:pt x="23434" y="7493"/>
                </a:lnTo>
                <a:lnTo>
                  <a:pt x="21597" y="7493"/>
                </a:lnTo>
                <a:lnTo>
                  <a:pt x="21597" y="12828"/>
                </a:lnTo>
                <a:cubicBezTo>
                  <a:pt x="21597" y="15596"/>
                  <a:pt x="19021" y="18155"/>
                  <a:pt x="16253" y="18155"/>
                </a:cubicBezTo>
                <a:lnTo>
                  <a:pt x="14591" y="18155"/>
                </a:lnTo>
                <a:cubicBezTo>
                  <a:pt x="11823" y="18155"/>
                  <a:pt x="9247" y="15596"/>
                  <a:pt x="9247" y="12828"/>
                </a:cubicBezTo>
                <a:close/>
              </a:path>
            </a:pathLst>
          </a:cu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924360" y="6093000"/>
            <a:ext cx="142920" cy="7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067280" y="6093000"/>
            <a:ext cx="144360" cy="7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1000" autoRev="1" fill="hold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Запомни: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59" name=""/>
          <p:cNvGraphicFramePr/>
          <p:nvPr/>
        </p:nvGraphicFramePr>
        <p:xfrm>
          <a:off x="457200" y="981000"/>
          <a:ext cx="7427880" cy="8924760"/>
        </p:xfrm>
        <a:graphic>
          <a:graphicData uri="http://schemas.openxmlformats.org/drawingml/2006/table">
            <a:tbl>
              <a:tblPr/>
              <a:tblGrid>
                <a:gridCol w="3714840"/>
                <a:gridCol w="3713040"/>
              </a:tblGrid>
              <a:tr h="89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тан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х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ус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ёх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ч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ер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ц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бин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ту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вшееся положение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льд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ер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ер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з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в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а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а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мпин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0" name="" descr=""/>
          <p:cNvPicPr/>
          <p:nvPr/>
        </p:nvPicPr>
        <p:blipFill>
          <a:blip r:embed="rId1"/>
          <a:stretch/>
        </p:blipFill>
        <p:spPr>
          <a:xfrm flipH="1" rot="10358400">
            <a:off x="6443280" y="2491920"/>
            <a:ext cx="2122560" cy="2433960"/>
          </a:xfrm>
          <a:prstGeom prst="rect">
            <a:avLst/>
          </a:prstGeom>
          <a:ln w="0">
            <a:noFill/>
          </a:ln>
        </p:spPr>
      </p:pic>
      <p:sp>
        <p:nvSpPr>
          <p:cNvPr id="1961" name=""/>
          <p:cNvSpPr txBox="1"/>
          <p:nvPr/>
        </p:nvSpPr>
        <p:spPr>
          <a:xfrm rot="20782800">
            <a:off x="2484360" y="836280"/>
            <a:ext cx="158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ъ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2" name=""/>
          <p:cNvSpPr/>
          <p:nvPr/>
        </p:nvSpPr>
        <p:spPr>
          <a:xfrm flipV="1" rot="14101800">
            <a:off x="324720" y="5197320"/>
            <a:ext cx="1152000" cy="11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11280" y="537372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900000" y="5373720"/>
            <a:ext cx="180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>
            <a:hlinkClick r:id="rId2" action="ppaction://hlinksldjump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9963" y="10800"/>
                </a:moveTo>
                <a:lnTo>
                  <a:pt x="20468" y="3794"/>
                </a:lnTo>
                <a:lnTo>
                  <a:pt x="20468" y="17806"/>
                </a:lnTo>
                <a:close/>
              </a:path>
              <a:path fill="darken" w="26923" h="21600">
                <a:moveTo>
                  <a:pt x="6455" y="3794"/>
                </a:moveTo>
                <a:lnTo>
                  <a:pt x="8118" y="3794"/>
                </a:lnTo>
                <a:lnTo>
                  <a:pt x="8118" y="17806"/>
                </a:lnTo>
                <a:lnTo>
                  <a:pt x="6455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previousslide"/>
          </p:cNvPr>
          <p:cNvSpPr/>
          <p:nvPr/>
        </p:nvSpPr>
        <p:spPr>
          <a:xfrm>
            <a:off x="4140360" y="6381720"/>
            <a:ext cx="1439640" cy="476280"/>
          </a:xfrm>
          <a:custGeom>
            <a:avLst/>
            <a:gdLst>
              <a:gd name="textAreaLeft" fmla="*/ 30600 w 1439640"/>
              <a:gd name="textAreaRight" fmla="*/ 1409040 w 14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5257" h="21600">
                <a:moveTo>
                  <a:pt x="0" y="0"/>
                </a:moveTo>
                <a:lnTo>
                  <a:pt x="65257" y="0"/>
                </a:lnTo>
                <a:lnTo>
                  <a:pt x="65257" y="21600"/>
                </a:lnTo>
                <a:lnTo>
                  <a:pt x="0" y="21600"/>
                </a:lnTo>
                <a:close/>
              </a:path>
              <a:path fill="lightenLess" w="65257" h="21600">
                <a:moveTo>
                  <a:pt x="0" y="0"/>
                </a:moveTo>
                <a:lnTo>
                  <a:pt x="65257" y="0"/>
                </a:lnTo>
                <a:lnTo>
                  <a:pt x="63857" y="1400"/>
                </a:lnTo>
                <a:lnTo>
                  <a:pt x="1400" y="1400"/>
                </a:lnTo>
                <a:close/>
              </a:path>
              <a:path fill="darken" w="65257" h="21600">
                <a:moveTo>
                  <a:pt x="65257" y="0"/>
                </a:moveTo>
                <a:lnTo>
                  <a:pt x="65257" y="21600"/>
                </a:lnTo>
                <a:lnTo>
                  <a:pt x="63857" y="20200"/>
                </a:lnTo>
                <a:lnTo>
                  <a:pt x="63857" y="1400"/>
                </a:lnTo>
                <a:close/>
              </a:path>
              <a:path fill="darkenLess" w="65257" h="21600">
                <a:moveTo>
                  <a:pt x="65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57" y="20200"/>
                </a:lnTo>
                <a:close/>
              </a:path>
              <a:path fill="lighten" w="65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57" h="21600">
                <a:moveTo>
                  <a:pt x="25622" y="10800"/>
                </a:moveTo>
                <a:lnTo>
                  <a:pt x="39635" y="3794"/>
                </a:lnTo>
                <a:lnTo>
                  <a:pt x="39635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6443640" y="765000"/>
            <a:ext cx="2016000" cy="3313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427640" y="907920"/>
            <a:ext cx="41068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коль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н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ь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ь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емьдес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юньский,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нв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72360" y="907920"/>
            <a:ext cx="194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!!! Не пу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Comic Sans MS"/>
              </a:rPr>
              <a:t>Если глагол в повелительном наклонении пиши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Приготов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Познакомьт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Не плачь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Взвесьте,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             </a:t>
            </a:r>
            <a:r>
              <a:rPr b="1" lang="en-US" sz="1800" spc="-1" strike="noStrike">
                <a:solidFill>
                  <a:srgbClr val="669900"/>
                </a:solidFill>
                <a:latin typeface="Copperplate Gothic Bold"/>
              </a:rPr>
              <a:t>ляг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356000" y="4076640"/>
            <a:ext cx="4106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нний              гвоздик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ня                зонтик                   помощник         ночка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ть                 Оранжевый     лучше                нянч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ь            проч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рабанщик     овощ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52360" y="4076640"/>
            <a:ext cx="41086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Ь не пише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ЧК,  ЧН, ЧТ, ЧШ, НЧ, НЩ, РЧ, Р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ЛЛ, НН, СТ, СН, С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Д, ЗН, НЖ, ТВ, РВ, НТ, Т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.: ман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жур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52360" y="907920"/>
            <a:ext cx="4108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Ь пише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обозначения мягкости соглас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Л перед М, К, Г, Б, 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возвратных глаголов в неопределённой фор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илагательных, образованных от названий месяцев (кроме январ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24000" y="4005360"/>
            <a:ext cx="82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427640" y="765000"/>
            <a:ext cx="0" cy="546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потребление Ь для обозначения мягкости соглас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rId1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60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808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864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904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952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Verdana"/>
              </a:rPr>
              <a:t>Слитное и раздельное написание омонимичных сл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8" name=""/>
          <p:cNvGraphicFramePr/>
          <p:nvPr/>
        </p:nvGraphicFramePr>
        <p:xfrm>
          <a:off x="0" y="1484280"/>
          <a:ext cx="9144000" cy="4527720"/>
        </p:xfrm>
        <a:graphic>
          <a:graphicData uri="http://schemas.openxmlformats.org/drawingml/2006/table">
            <a:tbl>
              <a:tblPr/>
              <a:tblGrid>
                <a:gridCol w="3048120"/>
                <a:gridCol w="3179520"/>
                <a:gridCol w="2916360"/>
              </a:tblGrid>
              <a:tr h="64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мостоятельн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лужебн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ущ., числ., мес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реч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сущ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лес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мес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еред тоб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чис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 пя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лежит) 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окру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днях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приедет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верху 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ходитьс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По двое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шл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окру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ом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 течение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ня; 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следств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ждя; 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виду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пас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9" name="">
            <a:hlinkClick r:id="rId1" action="ppaction://hlinksldjump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16165" y="7493"/>
                </a:moveTo>
                <a:lnTo>
                  <a:pt x="19673" y="7493"/>
                </a:lnTo>
                <a:lnTo>
                  <a:pt x="19673" y="12828"/>
                </a:lnTo>
                <a:cubicBezTo>
                  <a:pt x="19673" y="13751"/>
                  <a:pt x="20473" y="14482"/>
                  <a:pt x="21509" y="14482"/>
                </a:cubicBezTo>
                <a:lnTo>
                  <a:pt x="23171" y="14482"/>
                </a:lnTo>
                <a:cubicBezTo>
                  <a:pt x="24207" y="14482"/>
                  <a:pt x="25008" y="13751"/>
                  <a:pt x="25008" y="12828"/>
                </a:cubicBezTo>
                <a:lnTo>
                  <a:pt x="25008" y="7493"/>
                </a:lnTo>
                <a:lnTo>
                  <a:pt x="23171" y="7493"/>
                </a:lnTo>
                <a:lnTo>
                  <a:pt x="26679" y="3985"/>
                </a:lnTo>
                <a:lnTo>
                  <a:pt x="30352" y="7493"/>
                </a:lnTo>
                <a:lnTo>
                  <a:pt x="28516" y="7493"/>
                </a:lnTo>
                <a:lnTo>
                  <a:pt x="28516" y="12828"/>
                </a:lnTo>
                <a:cubicBezTo>
                  <a:pt x="28516" y="15596"/>
                  <a:pt x="25939" y="18155"/>
                  <a:pt x="23171" y="18155"/>
                </a:cubicBezTo>
                <a:lnTo>
                  <a:pt x="21509" y="18155"/>
                </a:lnTo>
                <a:cubicBezTo>
                  <a:pt x="18741" y="18155"/>
                  <a:pt x="16165" y="15596"/>
                  <a:pt x="1616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7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изменяем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3134a"/>
                </a:solidFill>
                <a:uFillTx/>
                <a:latin typeface="Lucida Handwriting"/>
              </a:rPr>
              <a:t>Пиши так, как всегда пишет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Lucida Handwriting"/>
              </a:rPr>
              <a:t>Запомни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о-       от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до-      об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о-      по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ро-    на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на-      пре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за-       в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ере-    с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вне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134a"/>
                </a:solidFill>
                <a:latin typeface="Verdana"/>
              </a:rPr>
              <a:t>Правописание пристав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2" name=""/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3203640" y="3141720"/>
            <a:ext cx="108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3348000" y="4149720"/>
            <a:ext cx="7192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5" name=""/>
          <p:cNvSpPr/>
          <p:nvPr/>
        </p:nvSpPr>
        <p:spPr>
          <a:xfrm>
            <a:off x="3059280" y="4292640"/>
            <a:ext cx="1225440" cy="1224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4643280" y="1628640"/>
          <a:ext cx="4038840" cy="4199040"/>
        </p:xfrm>
        <a:graphic>
          <a:graphicData uri="http://schemas.openxmlformats.org/drawingml/2006/table">
            <a:tbl>
              <a:tblPr/>
              <a:tblGrid>
                <a:gridCol w="2592720"/>
                <a:gridCol w="1446120"/>
              </a:tblGrid>
              <a:tr h="585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 -з,  -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Бе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Ра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Во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В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И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Чре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Ни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ре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7" name=""/>
          <p:cNvSpPr/>
          <p:nvPr/>
        </p:nvSpPr>
        <p:spPr>
          <a:xfrm flipH="1">
            <a:off x="3058920" y="4292640"/>
            <a:ext cx="1081080" cy="136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0364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067280" y="4076640"/>
            <a:ext cx="0" cy="21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20364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4067280" y="4076640"/>
            <a:ext cx="0" cy="21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7672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 rot="1338000">
            <a:off x="5940000" y="2204640"/>
            <a:ext cx="1241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ё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5867280" y="2852640"/>
            <a:ext cx="1293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ец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5867280" y="3789360"/>
            <a:ext cx="14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чеш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084720" y="4581360"/>
            <a:ext cx="935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щец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763640" y="6165720"/>
            <a:ext cx="295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Tahoma"/>
                <a:hlinkClick r:id="rId3" action="ppaction://hlinksldjump"/>
              </a:rPr>
              <a:t>Обрати внимани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4932360" y="609300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372360" y="609300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400"/>
                            </p:stCondLst>
                            <p:childTnLst>
                              <p:par>
                                <p:cTn id="7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800"/>
                            </p:stCondLst>
                            <p:childTnLst>
                              <p:par>
                                <p:cTn id="7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9500"/>
                            </p:stCondLst>
                            <p:childTnLst>
                              <p:par>
                                <p:cTn id="7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200"/>
                            </p:stCondLst>
                            <p:childTnLst>
                              <p:par>
                                <p:cTn id="7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7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6900"/>
                            </p:stCondLst>
                            <p:childTnLst>
                              <p:par>
                                <p:cTn id="7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8900"/>
                            </p:stCondLst>
                            <p:childTnLst>
                              <p:par>
                                <p:cTn id="7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600"/>
                            </p:stCondLst>
                            <p:childTnLst>
                              <p:par>
                                <p:cTn id="8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3800"/>
                            </p:stCondLst>
                            <p:childTnLst>
                              <p:par>
                                <p:cTn id="8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5" dur="2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8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6800"/>
                            </p:stCondLst>
                            <p:childTnLst>
                              <p:par>
                                <p:cTn id="835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2299"/>
                            </p:stCondLst>
                            <p:childTnLst>
                              <p:par>
                                <p:cTn id="8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2800"/>
                            </p:stCondLst>
                            <p:childTnLst>
                              <p:par>
                                <p:cTn id="8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3300"/>
                            </p:stCondLst>
                            <p:childTnLst>
                              <p:par>
                                <p:cTn id="8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Обрати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1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о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и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е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чез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черес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чёт (ср. учёт, отчё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читать (ср. сосчитат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бессчё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орить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происшест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подтиш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близсидящ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воз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восст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ззяб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сох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задо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ер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2" name=""/>
          <p:cNvSpPr/>
          <p:nvPr/>
        </p:nvSpPr>
        <p:spPr>
          <a:xfrm flipV="1" rot="12255000">
            <a:off x="427320" y="164268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 rot="12255000">
            <a:off x="427320" y="250632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V="1" rot="12255000">
            <a:off x="356040" y="300960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 rot="13216200">
            <a:off x="5081040" y="2709360"/>
            <a:ext cx="1555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48" y="1594"/>
                </a:moveTo>
                <a:arcTo wR="10800" hR="10800" stAng="-3508217" swAng="3508217"/>
                <a:lnTo>
                  <a:pt x="10800" y="10800"/>
                </a:lnTo>
                <a:close/>
              </a:path>
              <a:path fill="none" w="21600" h="21600">
                <a:moveTo>
                  <a:pt x="16448" y="1594"/>
                </a:moveTo>
                <a:arcTo wR="10800" hR="10800" stAng="-3508217" swAng="3508217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V="1" rot="13216200">
            <a:off x="4586760" y="2674440"/>
            <a:ext cx="1556640" cy="86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34" y="1911"/>
                </a:moveTo>
                <a:arcTo wR="10800" hR="10800" stAng="-3323459" swAng="3180872"/>
                <a:lnTo>
                  <a:pt x="10800" y="10800"/>
                </a:lnTo>
                <a:close/>
              </a:path>
              <a:path fill="none" w="21600" h="21600">
                <a:moveTo>
                  <a:pt x="16934" y="1911"/>
                </a:moveTo>
                <a:arcTo wR="10800" hR="10800" stAng="-3323459" swAng="3180872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 rot="12255000">
            <a:off x="427320" y="214596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11280" y="3429000"/>
            <a:ext cx="72072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332000" y="342900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39640" y="386064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042920" y="3860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39640" y="429264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042920" y="4292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39640" y="472428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042920" y="4724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39640" y="522936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042920" y="522936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643280" y="170028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148360" y="177336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148360" y="1700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219640" y="170028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508720" y="1700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716360" y="213372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003640" y="213372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76720" y="213372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508720" y="213372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643280" y="299736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076720" y="2997360"/>
            <a:ext cx="0" cy="14256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643280" y="342900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076720" y="342900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643280" y="386064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933800" y="3860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643280" y="429264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932360" y="4292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643280" y="4797360"/>
            <a:ext cx="43344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076720" y="4795920"/>
            <a:ext cx="0" cy="14580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643280" y="5229360"/>
            <a:ext cx="43344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076720" y="5229360"/>
            <a:ext cx="0" cy="14580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"/>
          <p:cNvSpPr/>
          <p:nvPr/>
        </p:nvSpPr>
        <p:spPr>
          <a:xfrm>
            <a:off x="8172360" y="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9043" y="10800"/>
                </a:moveTo>
                <a:lnTo>
                  <a:pt x="19548" y="3794"/>
                </a:lnTo>
                <a:lnTo>
                  <a:pt x="19548" y="17806"/>
                </a:lnTo>
                <a:close/>
              </a:path>
              <a:path fill="darken" w="25084" h="21600">
                <a:moveTo>
                  <a:pt x="5535" y="3794"/>
                </a:moveTo>
                <a:lnTo>
                  <a:pt x="7198" y="3794"/>
                </a:lnTo>
                <a:lnTo>
                  <a:pt x="7198" y="17806"/>
                </a:lnTo>
                <a:lnTo>
                  <a:pt x="5535" y="17806"/>
                </a:lnTo>
                <a:close/>
              </a:path>
            </a:pathLst>
          </a:cu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 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при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пре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Правописание зависит от зна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68360" y="476280"/>
            <a:ext cx="122544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692360" y="476280"/>
            <a:ext cx="0" cy="216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59280" y="476280"/>
            <a:ext cx="122544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284720" y="476280"/>
            <a:ext cx="0" cy="216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8" name=""/>
          <p:cNvGraphicFramePr/>
          <p:nvPr/>
        </p:nvGraphicFramePr>
        <p:xfrm>
          <a:off x="250920" y="1557360"/>
          <a:ext cx="8497800" cy="447516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456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ближен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соединение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около, близк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еполнота действи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оведение действия до конц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ить,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вижение сверху вн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ить,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пер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оч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ку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вели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ос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9" name=""/>
          <p:cNvSpPr/>
          <p:nvPr/>
        </p:nvSpPr>
        <p:spPr>
          <a:xfrm>
            <a:off x="205200" y="6093000"/>
            <a:ext cx="738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Неясное значение – смотри словарь, запомин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3772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образ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одо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след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подне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рек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имуще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к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пятств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врат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небреч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мень преткнов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мь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зидиу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тенз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сти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омин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95280" y="1196640"/>
            <a:ext cx="4060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пособ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бщ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тов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ык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утствов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дить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леч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лас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рит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лег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адлежн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">
            <a:hlinkClick r:id="rId1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95280" y="105264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132000" y="105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0" y="3789360"/>
            <a:ext cx="113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7" name=""/>
          <p:cNvSpPr/>
          <p:nvPr/>
        </p:nvSpPr>
        <p:spPr>
          <a:xfrm flipV="1" rot="13549200">
            <a:off x="-388800" y="3344040"/>
            <a:ext cx="359928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219640" y="105264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7956720" y="105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V="1" rot="13549200">
            <a:off x="4075200" y="4064040"/>
            <a:ext cx="3600000" cy="345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0" y="257"/>
                </a:moveTo>
                <a:arcTo wR="10800" hR="10800" stAng="-4649046" swAng="4144206"/>
                <a:lnTo>
                  <a:pt x="10800" y="10800"/>
                </a:lnTo>
                <a:close/>
              </a:path>
              <a:path fill="none" w="21600" h="21600">
                <a:moveTo>
                  <a:pt x="13140" y="257"/>
                </a:moveTo>
                <a:arcTo wR="10800" hR="10800" stAng="-4649046" swAng="414420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4643280" y="4365720"/>
            <a:ext cx="9874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е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195640" y="6453360"/>
            <a:ext cx="4464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Различай слова – омоф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95280" y="105264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2050920" y="1197000"/>
            <a:ext cx="108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6732720" y="1125360"/>
            <a:ext cx="10587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95280" y="1197000"/>
            <a:ext cx="4060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посо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бщ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то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ык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утств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д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ле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лас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рит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ле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адле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0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5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0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0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8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0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0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0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0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0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0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0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0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0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0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0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1000"/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1000"/>
                                        <p:tgtEl>
                                          <p:spTgt spid="2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2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2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2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1000"/>
                                        <p:tgtEl>
                                          <p:spTgt spid="2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1000"/>
                                        <p:tgtEl>
                                          <p:spTgt spid="2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1000"/>
                                        <p:tgtEl>
                                          <p:spTgt spid="2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1000"/>
                                        <p:tgtEl>
                                          <p:spTgt spid="2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20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1000"/>
                                        <p:tgtEl>
                                          <p:spTgt spid="20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1000"/>
                                        <p:tgtEl>
                                          <p:spTgt spid="20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20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1000"/>
                                        <p:tgtEl>
                                          <p:spTgt spid="20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1000"/>
                                        <p:tgtEl>
                                          <p:spTgt spid="20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1000"/>
                                        <p:tgtEl>
                                          <p:spTgt spid="20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Список изученных в школе орф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Безударные проверяемые 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Непроверяемые гласны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Проверяемые со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Непроизносимые со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и, у, а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после шип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Разделитель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Ъ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 зн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Раздельное написание предлогов с другими сл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Употреблени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 на конце существительных после шип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Употреблени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 для обозначения мягкости соглас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Гласные и согласные в приставках (кроме согласных на З (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З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С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6" action="ppaction://hlinksldjump"/>
              </a:rPr>
              <a:t> на конц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А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в корн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2" action="ppaction://hlinksldjump"/>
              </a:rPr>
              <a:t>–лаг-  -  -лож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3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4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5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6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7" action="ppaction://hlinksldjump"/>
              </a:rPr>
              <a:t> в корн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8" action="ppaction://hlinksldjump"/>
              </a:rPr>
              <a:t>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9" action="ppaction://hlinksldjump"/>
              </a:rPr>
              <a:t>раст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0" action="ppaction://hlinksldjump"/>
              </a:rPr>
              <a:t>-  -  -рос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3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4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5" action="ppaction://hlinksldjump"/>
              </a:rPr>
              <a:t> Ё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6" action="ppaction://hlinksldjump"/>
              </a:rPr>
              <a:t> после шипящих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8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9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0" action="ppaction://hlinksldjump"/>
              </a:rPr>
              <a:t>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1" action="ppaction://hlinksldjump"/>
              </a:rPr>
              <a:t> посл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2" action="ppaction://hlinksldjump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3" action="ppaction://hlinksldjump"/>
              </a:rPr>
              <a:t>Большая буква и кавычки в собственных наименова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4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5" action="ppaction://hlinksldjump"/>
              </a:rPr>
              <a:t>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6" action="ppaction://hlinksldjump"/>
              </a:rPr>
              <a:t>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7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8" action="ppaction://hlinksldjump"/>
              </a:rPr>
              <a:t> в падежных окончаниях 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9" action="ppaction://hlinksldjump"/>
              </a:rPr>
              <a:t>Букв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0" action="ppaction://hlinksldjump"/>
              </a:rPr>
              <a:t> 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1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2" action="ppaction://hlinksldjump"/>
              </a:rPr>
              <a:t>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3" action="ppaction://hlinksldjump"/>
              </a:rPr>
              <a:t>после шипящих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4" action="ppaction://hlinksldjump"/>
              </a:rPr>
              <a:t> Ц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5" action="ppaction://hlinksldjump"/>
              </a:rPr>
              <a:t>в окончаниях сущ. и пр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6" action="ppaction://hlinksldjump"/>
              </a:rPr>
              <a:t>Безударные гласные в окончаниях 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7" action="ppaction://hlinksldjump"/>
              </a:rPr>
              <a:t>Краткие прилагательные с основой на шипящ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8" action="ppaction://hlinksldjump"/>
              </a:rPr>
              <a:t>Не с глаг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69"/>
          <a:stretch/>
        </p:blipFill>
        <p:spPr>
          <a:xfrm>
            <a:off x="8115480" y="0"/>
            <a:ext cx="1028520" cy="1276200"/>
          </a:xfrm>
          <a:prstGeom prst="rect">
            <a:avLst/>
          </a:prstGeom>
          <a:ln w="0">
            <a:noFill/>
          </a:ln>
        </p:spPr>
      </p:pic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3794"/>
                </a:moveTo>
                <a:lnTo>
                  <a:pt x="22162" y="10800"/>
                </a:lnTo>
                <a:lnTo>
                  <a:pt x="8149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1851 L -0.00278 0.35185 E">
                                      <p:cBhvr>
                                        <p:cTn id="37" dur="3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Различай слова-омофон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566280" y="620640"/>
            <a:ext cx="8037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быв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риезжать куда-то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быв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находиться где-то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зре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дать приют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зирать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(ненавиде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твор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закры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твор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воплотить мечту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клон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наклон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клоняться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глубоко уважать);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 преклонный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возрас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д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добав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дать, предател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;  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даться мечта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уп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к работ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уп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закон,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упник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ходящи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являющийся вовремя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ходящи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временный, недолговечный), (радость, явление);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непреходящее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значение – долговеч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вратник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– сторо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вратный –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искажён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лож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оложить вплотную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Непреложны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закон) – неоспоримый, не подлежащий измен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ав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остав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авиться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(умереть); с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ветопреставл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терпеться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к неудобствам) – привыкнут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терпе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лишения, изменения) – вытерпеть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ёмник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ради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емник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продолжател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анище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приют, убежищ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Беспрестанный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- непрерыв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9" name="">
            <a:hlinkClick r:id="rId1" action="ppaction://hlinksldjump"/>
          </p:cNvPr>
          <p:cNvSpPr/>
          <p:nvPr/>
        </p:nvSpPr>
        <p:spPr>
          <a:xfrm>
            <a:off x="7380360" y="5445000"/>
            <a:ext cx="1763640" cy="1413000"/>
          </a:xfrm>
          <a:custGeom>
            <a:avLst/>
            <a:gdLst>
              <a:gd name="textAreaLeft" fmla="*/ 91440 w 1763640"/>
              <a:gd name="textAreaRight" fmla="*/ 1672200 w 176364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6959" h="21600">
                <a:moveTo>
                  <a:pt x="0" y="0"/>
                </a:moveTo>
                <a:lnTo>
                  <a:pt x="26959" y="0"/>
                </a:lnTo>
                <a:lnTo>
                  <a:pt x="26959" y="21600"/>
                </a:lnTo>
                <a:lnTo>
                  <a:pt x="0" y="21600"/>
                </a:lnTo>
                <a:close/>
              </a:path>
              <a:path fill="lightenLess" w="26959" h="21600">
                <a:moveTo>
                  <a:pt x="0" y="0"/>
                </a:moveTo>
                <a:lnTo>
                  <a:pt x="26959" y="0"/>
                </a:lnTo>
                <a:lnTo>
                  <a:pt x="25559" y="1400"/>
                </a:lnTo>
                <a:lnTo>
                  <a:pt x="1400" y="1400"/>
                </a:lnTo>
                <a:close/>
              </a:path>
              <a:path fill="darken" w="26959" h="21600">
                <a:moveTo>
                  <a:pt x="26959" y="0"/>
                </a:moveTo>
                <a:lnTo>
                  <a:pt x="26959" y="21600"/>
                </a:lnTo>
                <a:lnTo>
                  <a:pt x="25559" y="20200"/>
                </a:lnTo>
                <a:lnTo>
                  <a:pt x="25559" y="1400"/>
                </a:lnTo>
                <a:close/>
              </a:path>
              <a:path fill="darkenLess" w="26959" h="21600">
                <a:moveTo>
                  <a:pt x="2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9" y="20200"/>
                </a:lnTo>
                <a:close/>
              </a:path>
              <a:path fill="lighten" w="2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9" h="21600">
                <a:moveTo>
                  <a:pt x="6473" y="7493"/>
                </a:moveTo>
                <a:lnTo>
                  <a:pt x="9980" y="7493"/>
                </a:lnTo>
                <a:lnTo>
                  <a:pt x="9980" y="12828"/>
                </a:lnTo>
                <a:cubicBezTo>
                  <a:pt x="9980" y="13751"/>
                  <a:pt x="10781" y="14482"/>
                  <a:pt x="11817" y="14482"/>
                </a:cubicBezTo>
                <a:lnTo>
                  <a:pt x="13479" y="14482"/>
                </a:lnTo>
                <a:cubicBezTo>
                  <a:pt x="14515" y="14482"/>
                  <a:pt x="15316" y="13751"/>
                  <a:pt x="15316" y="12828"/>
                </a:cubicBezTo>
                <a:lnTo>
                  <a:pt x="15316" y="7493"/>
                </a:lnTo>
                <a:lnTo>
                  <a:pt x="13479" y="7493"/>
                </a:lnTo>
                <a:lnTo>
                  <a:pt x="16987" y="3985"/>
                </a:lnTo>
                <a:lnTo>
                  <a:pt x="20660" y="7493"/>
                </a:lnTo>
                <a:lnTo>
                  <a:pt x="18823" y="7493"/>
                </a:lnTo>
                <a:lnTo>
                  <a:pt x="18823" y="12828"/>
                </a:lnTo>
                <a:cubicBezTo>
                  <a:pt x="18823" y="15596"/>
                  <a:pt x="16247" y="18155"/>
                  <a:pt x="13479" y="18155"/>
                </a:cubicBezTo>
                <a:lnTo>
                  <a:pt x="11817" y="18155"/>
                </a:lnTo>
                <a:cubicBezTo>
                  <a:pt x="9049" y="18155"/>
                  <a:pt x="6473" y="15596"/>
                  <a:pt x="6473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>
            <a:hlinkClick r:id="rId2" action="ppaction://hlinksldjump"/>
          </p:cNvPr>
          <p:cNvSpPr/>
          <p:nvPr/>
        </p:nvSpPr>
        <p:spPr>
          <a:xfrm>
            <a:off x="2556000" y="6524640"/>
            <a:ext cx="1944720" cy="333360"/>
          </a:xfrm>
          <a:prstGeom prst="rightArrow">
            <a:avLst>
              <a:gd name="adj1" fmla="val 50000"/>
              <a:gd name="adj2" fmla="val 145842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3492360" y="1197000"/>
            <a:ext cx="5651640" cy="49687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Буквы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Ы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и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после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Ц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3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1657440" cy="2438640"/>
          </a:xfrm>
          <a:prstGeom prst="rect">
            <a:avLst/>
          </a:prstGeom>
          <a:ln w="0">
            <a:noFill/>
          </a:ln>
        </p:spPr>
      </p:pic>
      <p:pic>
        <p:nvPicPr>
          <p:cNvPr id="2074" name="" descr=""/>
          <p:cNvPicPr/>
          <p:nvPr/>
        </p:nvPicPr>
        <p:blipFill>
          <a:blip r:embed="rId3"/>
          <a:stretch/>
        </p:blipFill>
        <p:spPr>
          <a:xfrm>
            <a:off x="3995640" y="5805360"/>
            <a:ext cx="1619280" cy="84780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 txBox="1"/>
          <p:nvPr/>
        </p:nvSpPr>
        <p:spPr>
          <a:xfrm>
            <a:off x="539640" y="1773360"/>
            <a:ext cx="148284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5940360" y="1700280"/>
            <a:ext cx="1511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11280" y="3213000"/>
            <a:ext cx="2303280" cy="1893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1.-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Станция, ле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2.-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Цирк, цит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 rot="14117400">
            <a:off x="4246560" y="3543480"/>
            <a:ext cx="201636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932360" y="645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124000" y="3933720"/>
            <a:ext cx="201636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564000" y="386064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omic Sans MS"/>
              </a:rPr>
              <a:t>Искл.: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Цыган на цыпочках подошёл к цыплёнку и цыкнул: «Цыц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716360" y="1773360"/>
            <a:ext cx="79236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67640" y="1699920"/>
            <a:ext cx="360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8028000" y="1700280"/>
            <a:ext cx="720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 rot="14117400">
            <a:off x="1145520" y="4130280"/>
            <a:ext cx="862560" cy="11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92360" y="1844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Улиц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rot="19918800">
            <a:off x="6372360" y="263628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Синиц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ы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9" dur="20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/>
          <p:nvPr/>
        </p:nvSpPr>
        <p:spPr>
          <a:xfrm>
            <a:off x="4356000" y="3573360"/>
            <a:ext cx="4032360" cy="2951280"/>
          </a:xfrm>
          <a:prstGeom prst="ellipse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716360" y="1341360"/>
            <a:ext cx="3527640" cy="2664000"/>
          </a:xfrm>
          <a:prstGeom prst="ellipse">
            <a:avLst/>
          </a:prstGeom>
          <a:solidFill>
            <a:srgbClr val="7fd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8360" y="1413000"/>
            <a:ext cx="3529080" cy="417672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158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Ё и О после шипящих и 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1187280" y="1628640"/>
            <a:ext cx="2376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4855680" y="1981080"/>
            <a:ext cx="3754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, нареч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24000" y="3212640"/>
            <a:ext cx="306072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Искл.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рыж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вни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ро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пю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4856040" y="4292280"/>
            <a:ext cx="302904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7" name="">
            <a:hlinkClick r:id="rId1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 rot="13620000">
            <a:off x="1239840" y="2179800"/>
            <a:ext cx="2304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2987640" y="191628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2195640" y="2421000"/>
            <a:ext cx="5317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1" name="">
            <a:hlinkClick r:id="rId2" action="ppaction://hlinksldjump"/>
          </p:cNvPr>
          <p:cNvSpPr/>
          <p:nvPr/>
        </p:nvSpPr>
        <p:spPr>
          <a:xfrm>
            <a:off x="1979640" y="4797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Comic Sans MS"/>
                <a:hlinkClick r:id="rId3" action="ppaction://hlinksldjump"/>
              </a:rPr>
              <a:t>Запомни!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5508720" y="2565360"/>
            <a:ext cx="934920" cy="432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6443640" y="2565360"/>
            <a:ext cx="936720" cy="358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7092720" y="2349360"/>
            <a:ext cx="215640" cy="28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6300720" y="2781360"/>
            <a:ext cx="4539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6" name=""/>
          <p:cNvSpPr/>
          <p:nvPr/>
        </p:nvSpPr>
        <p:spPr>
          <a:xfrm>
            <a:off x="5940360" y="4724280"/>
            <a:ext cx="1295640" cy="10098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6300720" y="4797360"/>
            <a:ext cx="576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7020000" y="429264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7812000" y="1989000"/>
            <a:ext cx="576360" cy="3745080"/>
          </a:xfrm>
          <a:custGeom>
            <a:avLst/>
            <a:gdLst>
              <a:gd name="textAreaLeft" fmla="*/ 0 w 576360"/>
              <a:gd name="textAreaRight" fmla="*/ 208080 w 576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388360" y="256536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5148360" y="3789360"/>
            <a:ext cx="23796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з ударения 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900000" y="5589720"/>
            <a:ext cx="345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глагол -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мпо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ущоб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пор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рни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кнут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ж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ещот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жог (руки), 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жёг (руку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355640" y="1628280"/>
            <a:ext cx="208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ащоба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кать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ж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ечо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ажо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кола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сс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фё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ол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6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9320 w 1332000"/>
              <a:gd name="textAreaRight" fmla="*/ 1282680 w 133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02" y="1400"/>
                </a:lnTo>
                <a:lnTo>
                  <a:pt x="1400" y="140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02" y="20200"/>
                </a:lnTo>
                <a:lnTo>
                  <a:pt x="36202" y="140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2" y="2020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2" h="21600">
                <a:moveTo>
                  <a:pt x="11794" y="7493"/>
                </a:moveTo>
                <a:lnTo>
                  <a:pt x="15302" y="7493"/>
                </a:lnTo>
                <a:lnTo>
                  <a:pt x="15302" y="12828"/>
                </a:lnTo>
                <a:cubicBezTo>
                  <a:pt x="15302" y="13751"/>
                  <a:pt x="16103" y="14482"/>
                  <a:pt x="17139" y="14482"/>
                </a:cubicBezTo>
                <a:lnTo>
                  <a:pt x="18801" y="14482"/>
                </a:lnTo>
                <a:cubicBezTo>
                  <a:pt x="19837" y="14482"/>
                  <a:pt x="20637" y="13751"/>
                  <a:pt x="20637" y="12828"/>
                </a:cubicBezTo>
                <a:lnTo>
                  <a:pt x="20637" y="7493"/>
                </a:lnTo>
                <a:lnTo>
                  <a:pt x="18801" y="7493"/>
                </a:lnTo>
                <a:lnTo>
                  <a:pt x="22309" y="3985"/>
                </a:lnTo>
                <a:lnTo>
                  <a:pt x="25981" y="7493"/>
                </a:lnTo>
                <a:lnTo>
                  <a:pt x="24145" y="7493"/>
                </a:lnTo>
                <a:lnTo>
                  <a:pt x="24145" y="12828"/>
                </a:lnTo>
                <a:cubicBezTo>
                  <a:pt x="24145" y="15596"/>
                  <a:pt x="21569" y="18155"/>
                  <a:pt x="18801" y="18155"/>
                </a:cubicBezTo>
                <a:lnTo>
                  <a:pt x="17139" y="18155"/>
                </a:lnTo>
                <a:cubicBezTo>
                  <a:pt x="14371" y="18155"/>
                  <a:pt x="11794" y="15596"/>
                  <a:pt x="11794" y="12828"/>
                </a:cubicBez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>
            <a:hlinkClick r:id="rId1" action="ppaction://hlinksldjump"/>
          </p:cNvPr>
          <p:cNvSpPr/>
          <p:nvPr/>
        </p:nvSpPr>
        <p:spPr>
          <a:xfrm>
            <a:off x="7812000" y="0"/>
            <a:ext cx="1332000" cy="792000"/>
          </a:xfrm>
          <a:custGeom>
            <a:avLst/>
            <a:gdLst>
              <a:gd name="textAreaLeft" fmla="*/ 51120 w 1332000"/>
              <a:gd name="textAreaRight" fmla="*/ 1280880 w 133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6321" h="21600">
                <a:moveTo>
                  <a:pt x="0" y="0"/>
                </a:moveTo>
                <a:lnTo>
                  <a:pt x="36321" y="0"/>
                </a:lnTo>
                <a:lnTo>
                  <a:pt x="36321" y="21600"/>
                </a:lnTo>
                <a:lnTo>
                  <a:pt x="0" y="21600"/>
                </a:lnTo>
                <a:close/>
              </a:path>
              <a:path fill="lightenLess" w="36321" h="21600">
                <a:moveTo>
                  <a:pt x="0" y="0"/>
                </a:moveTo>
                <a:lnTo>
                  <a:pt x="36321" y="0"/>
                </a:lnTo>
                <a:lnTo>
                  <a:pt x="34921" y="1400"/>
                </a:lnTo>
                <a:lnTo>
                  <a:pt x="1400" y="1400"/>
                </a:lnTo>
                <a:close/>
              </a:path>
              <a:path fill="darken" w="36321" h="21600">
                <a:moveTo>
                  <a:pt x="36321" y="0"/>
                </a:moveTo>
                <a:lnTo>
                  <a:pt x="36321" y="21600"/>
                </a:lnTo>
                <a:lnTo>
                  <a:pt x="34921" y="20200"/>
                </a:lnTo>
                <a:lnTo>
                  <a:pt x="34921" y="1400"/>
                </a:lnTo>
                <a:close/>
              </a:path>
              <a:path fill="darkenLess" w="36321" h="21600">
                <a:moveTo>
                  <a:pt x="36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21" y="20200"/>
                </a:lnTo>
                <a:close/>
              </a:path>
              <a:path fill="lighten" w="36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21" h="21600">
                <a:moveTo>
                  <a:pt x="14661" y="10800"/>
                </a:moveTo>
                <a:lnTo>
                  <a:pt x="25167" y="3794"/>
                </a:lnTo>
                <a:lnTo>
                  <a:pt x="25167" y="17806"/>
                </a:lnTo>
                <a:close/>
              </a:path>
              <a:path fill="darken" w="36321" h="21600">
                <a:moveTo>
                  <a:pt x="11154" y="3794"/>
                </a:moveTo>
                <a:lnTo>
                  <a:pt x="12816" y="3794"/>
                </a:lnTo>
                <a:lnTo>
                  <a:pt x="12816" y="17806"/>
                </a:lnTo>
                <a:lnTo>
                  <a:pt x="11154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6372360" y="1844640"/>
            <a:ext cx="252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 !!! дирижёр, 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чёб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икчёмный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чёвк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шёнк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межёвывать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щё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084720" y="630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олько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4787640" y="6237360"/>
            <a:ext cx="21564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badi MT Condensed Light"/>
              </a:rPr>
              <a:t>Ё   в окончаниях глаголов и суффиксах причастий</a:t>
            </a: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Глагол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ережёт,   печём, жжё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Страдательное причаст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ударением –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шённый - реш</a:t>
            </a: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 ударения –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сли они образованы от глагола на –ить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шенный - окрас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4211640" y="2565360"/>
            <a:ext cx="43164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651640" y="2565360"/>
            <a:ext cx="50472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877080" y="2565360"/>
            <a:ext cx="50472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3924360" y="4005000"/>
            <a:ext cx="360360" cy="21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284720" y="4005360"/>
            <a:ext cx="287280" cy="21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4284720" y="5300640"/>
            <a:ext cx="360360" cy="216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4643280" y="5300640"/>
            <a:ext cx="287640" cy="216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14926" y="7493"/>
                </a:moveTo>
                <a:lnTo>
                  <a:pt x="18434" y="7493"/>
                </a:lnTo>
                <a:lnTo>
                  <a:pt x="18434" y="12828"/>
                </a:lnTo>
                <a:cubicBezTo>
                  <a:pt x="18434" y="13751"/>
                  <a:pt x="19234" y="14482"/>
                  <a:pt x="20270" y="14482"/>
                </a:cubicBezTo>
                <a:lnTo>
                  <a:pt x="21932" y="14482"/>
                </a:lnTo>
                <a:cubicBezTo>
                  <a:pt x="22968" y="14482"/>
                  <a:pt x="23769" y="13751"/>
                  <a:pt x="23769" y="12828"/>
                </a:cubicBezTo>
                <a:lnTo>
                  <a:pt x="23769" y="7493"/>
                </a:lnTo>
                <a:lnTo>
                  <a:pt x="21932" y="7493"/>
                </a:lnTo>
                <a:lnTo>
                  <a:pt x="25440" y="3985"/>
                </a:lnTo>
                <a:lnTo>
                  <a:pt x="29113" y="7493"/>
                </a:lnTo>
                <a:lnTo>
                  <a:pt x="27276" y="7493"/>
                </a:lnTo>
                <a:lnTo>
                  <a:pt x="27276" y="12828"/>
                </a:lnTo>
                <a:cubicBezTo>
                  <a:pt x="27276" y="15596"/>
                  <a:pt x="24700" y="18155"/>
                  <a:pt x="21932" y="18155"/>
                </a:cubicBezTo>
                <a:lnTo>
                  <a:pt x="20270" y="18155"/>
                </a:lnTo>
                <a:cubicBezTo>
                  <a:pt x="17502" y="18155"/>
                  <a:pt x="14926" y="15596"/>
                  <a:pt x="14926" y="12828"/>
                </a:cubicBezTo>
                <a:close/>
              </a:path>
            </a:pathLst>
          </a:custGeom>
          <a:noFill/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рфограммы – большие букв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61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Выбор больших букв зависит от наличия в тексте собственных имён, собственных  наименований, от положения слова в начале пред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">
            <a:hlinkClick r:id="" action="ppaction://hlinkshowjump?jump=previousslide"/>
          </p:cNvPr>
          <p:cNvSpPr/>
          <p:nvPr/>
        </p:nvSpPr>
        <p:spPr>
          <a:xfrm>
            <a:off x="7524720" y="5373720"/>
            <a:ext cx="1440000" cy="148428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484280"/>
              <a:gd name="textAreaBottom" fmla="*/ 1391040 h 1484280"/>
            </a:gdLst>
            <a:ahLst/>
            <a:rect l="textAreaLeft" t="textAreaTop" r="textAreaRight" b="textAreaBottom"/>
            <a:pathLst>
              <a:path w="21600" h="22264">
                <a:moveTo>
                  <a:pt x="0" y="0"/>
                </a:moveTo>
                <a:lnTo>
                  <a:pt x="21600" y="0"/>
                </a:lnTo>
                <a:lnTo>
                  <a:pt x="21600" y="22264"/>
                </a:lnTo>
                <a:lnTo>
                  <a:pt x="0" y="22264"/>
                </a:lnTo>
                <a:close/>
              </a:path>
              <a:path fill="lightenLess" w="21600" h="22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4">
                <a:moveTo>
                  <a:pt x="21600" y="0"/>
                </a:moveTo>
                <a:lnTo>
                  <a:pt x="21600" y="22264"/>
                </a:lnTo>
                <a:lnTo>
                  <a:pt x="20200" y="20864"/>
                </a:lnTo>
                <a:lnTo>
                  <a:pt x="20200" y="1400"/>
                </a:lnTo>
                <a:close/>
              </a:path>
              <a:path fill="darkenLess" w="21600" h="22264">
                <a:moveTo>
                  <a:pt x="21600" y="22264"/>
                </a:moveTo>
                <a:lnTo>
                  <a:pt x="0" y="22264"/>
                </a:lnTo>
                <a:lnTo>
                  <a:pt x="1400" y="20864"/>
                </a:lnTo>
                <a:lnTo>
                  <a:pt x="20200" y="20864"/>
                </a:lnTo>
                <a:close/>
              </a:path>
              <a:path fill="lighten" w="21600" h="22264">
                <a:moveTo>
                  <a:pt x="0" y="22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4"/>
                </a:lnTo>
                <a:close/>
              </a:path>
              <a:path fill="darken" w="21600" h="22264">
                <a:moveTo>
                  <a:pt x="3794" y="7825"/>
                </a:moveTo>
                <a:lnTo>
                  <a:pt x="7301" y="7825"/>
                </a:lnTo>
                <a:lnTo>
                  <a:pt x="7301" y="13160"/>
                </a:lnTo>
                <a:cubicBezTo>
                  <a:pt x="7301" y="14083"/>
                  <a:pt x="8102" y="14814"/>
                  <a:pt x="9138" y="14814"/>
                </a:cubicBezTo>
                <a:lnTo>
                  <a:pt x="10800" y="14814"/>
                </a:lnTo>
                <a:cubicBezTo>
                  <a:pt x="11836" y="14814"/>
                  <a:pt x="12636" y="14083"/>
                  <a:pt x="12636" y="13160"/>
                </a:cubicBezTo>
                <a:lnTo>
                  <a:pt x="12636" y="7825"/>
                </a:lnTo>
                <a:lnTo>
                  <a:pt x="10800" y="7825"/>
                </a:lnTo>
                <a:lnTo>
                  <a:pt x="14308" y="4317"/>
                </a:lnTo>
                <a:lnTo>
                  <a:pt x="17981" y="7825"/>
                </a:lnTo>
                <a:lnTo>
                  <a:pt x="16144" y="7825"/>
                </a:lnTo>
                <a:lnTo>
                  <a:pt x="16144" y="13160"/>
                </a:lnTo>
                <a:cubicBezTo>
                  <a:pt x="16144" y="15928"/>
                  <a:pt x="13568" y="18487"/>
                  <a:pt x="10800" y="18487"/>
                </a:cubicBezTo>
                <a:lnTo>
                  <a:pt x="9138" y="18487"/>
                </a:lnTo>
                <a:cubicBezTo>
                  <a:pt x="6370" y="18487"/>
                  <a:pt x="3794" y="15928"/>
                  <a:pt x="3794" y="1316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4" name=""/>
          <p:cNvGraphicFramePr/>
          <p:nvPr/>
        </p:nvGraphicFramePr>
        <p:xfrm>
          <a:off x="468360" y="2565360"/>
          <a:ext cx="8351280" cy="3925800"/>
        </p:xfrm>
        <a:graphic>
          <a:graphicData uri="http://schemas.openxmlformats.org/drawingml/2006/table">
            <a:tbl>
              <a:tblPr/>
              <a:tblGrid>
                <a:gridCol w="2046960"/>
                <a:gridCol w="3940560"/>
                <a:gridCol w="236376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отдельных слов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чале пред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обственных име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обственных наименован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р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е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би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йка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ликая Отечественн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йская Феде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российский Выставочный Цен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ета «Извести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ман «Евгений Онегин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езд «Дружб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говорила роща золотая берёзовым, весёлым языком (С. Есенин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5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предели род и склонение. Задай вопрос, определи пад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склонение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2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склонение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с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.п.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. п.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468360" y="4076640"/>
            <a:ext cx="8280360" cy="2521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-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окончаниях существительны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- ИЯ                                                     - ИЕ                                 - 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.                                                пред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84360" y="620640"/>
            <a:ext cx="358560" cy="4320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547640" y="620640"/>
            <a:ext cx="360360" cy="4320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1908000" y="2060640"/>
            <a:ext cx="11052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 (-ы)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1906560" y="2637000"/>
            <a:ext cx="504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1908000" y="3284640"/>
            <a:ext cx="4320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4140360" y="3284640"/>
            <a:ext cx="433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6227640" y="2133720"/>
            <a:ext cx="50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6300720" y="270828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6300720" y="328464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1908000" y="4653000"/>
            <a:ext cx="1295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2700360" y="4508640"/>
            <a:ext cx="719280" cy="1008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116000" y="4581360"/>
            <a:ext cx="647640" cy="360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116000" y="5229360"/>
            <a:ext cx="792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1332000" y="5444640"/>
            <a:ext cx="576000" cy="505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6227640" y="4797360"/>
            <a:ext cx="1295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020000" y="4581360"/>
            <a:ext cx="718920" cy="1008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148360" y="5229360"/>
            <a:ext cx="93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>
            <a:hlinkClick r:id="rId16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2" dur="2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6" dur="2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Verdana"/>
              </a:rPr>
              <a:t>склонени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. р.                             ст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ж. р.                             земл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. р.                             ко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р. р                             село, пол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ж. р.                             степ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еч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0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059280" y="198900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-а - -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195640" y="1989000"/>
            <a:ext cx="1368360" cy="360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050920" y="2421000"/>
            <a:ext cx="1511280" cy="712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451640" y="170028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308720" y="2276640"/>
            <a:ext cx="287640" cy="4330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780000" y="2205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788000" y="2205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132000" y="3716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-о - -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924360" y="400536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003640" y="400536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564000" y="4653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7020000" y="386064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8317080" y="378936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7236000" y="328464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1628360" y="364500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524720" y="4869000"/>
            <a:ext cx="287280" cy="4330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451640" y="537372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268360" y="350028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268360" y="407664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268360" y="508464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98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98" fill="hold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98" fill="hold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98" fill="hold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98" fill="hold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98" fill="hold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98" fill="hold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2195640" y="314172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езударные гласные в        имён прилагательных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451640" y="5229360"/>
            <a:ext cx="1513080" cy="1368360"/>
          </a:xfrm>
          <a:custGeom>
            <a:avLst/>
            <a:gdLst>
              <a:gd name="textAreaLeft" fmla="*/ 88560 w 1513080"/>
              <a:gd name="textAreaRight" fmla="*/ 1424520 w 1513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884" h="21600">
                <a:moveTo>
                  <a:pt x="0" y="0"/>
                </a:moveTo>
                <a:lnTo>
                  <a:pt x="23884" y="0"/>
                </a:lnTo>
                <a:lnTo>
                  <a:pt x="23884" y="21600"/>
                </a:lnTo>
                <a:lnTo>
                  <a:pt x="0" y="21600"/>
                </a:lnTo>
                <a:close/>
              </a:path>
              <a:path fill="lightenLess" w="23884" h="21600">
                <a:moveTo>
                  <a:pt x="0" y="0"/>
                </a:moveTo>
                <a:lnTo>
                  <a:pt x="23884" y="0"/>
                </a:lnTo>
                <a:lnTo>
                  <a:pt x="22484" y="1400"/>
                </a:lnTo>
                <a:lnTo>
                  <a:pt x="1400" y="1400"/>
                </a:lnTo>
                <a:close/>
              </a:path>
              <a:path fill="darken" w="23884" h="21600">
                <a:moveTo>
                  <a:pt x="23884" y="0"/>
                </a:moveTo>
                <a:lnTo>
                  <a:pt x="23884" y="21600"/>
                </a:lnTo>
                <a:lnTo>
                  <a:pt x="22484" y="20200"/>
                </a:lnTo>
                <a:lnTo>
                  <a:pt x="22484" y="1400"/>
                </a:lnTo>
                <a:close/>
              </a:path>
              <a:path fill="darkenLess" w="23884" h="21600">
                <a:moveTo>
                  <a:pt x="23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84" y="20200"/>
                </a:lnTo>
                <a:close/>
              </a:path>
              <a:path fill="lighten" w="23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84" h="21600">
                <a:moveTo>
                  <a:pt x="4935" y="7493"/>
                </a:moveTo>
                <a:lnTo>
                  <a:pt x="8443" y="7493"/>
                </a:lnTo>
                <a:lnTo>
                  <a:pt x="8443" y="12828"/>
                </a:lnTo>
                <a:cubicBezTo>
                  <a:pt x="8443" y="13751"/>
                  <a:pt x="9244" y="14482"/>
                  <a:pt x="10280" y="14482"/>
                </a:cubicBezTo>
                <a:lnTo>
                  <a:pt x="11942" y="14482"/>
                </a:lnTo>
                <a:cubicBezTo>
                  <a:pt x="12978" y="14482"/>
                  <a:pt x="13778" y="13751"/>
                  <a:pt x="13778" y="12828"/>
                </a:cubicBezTo>
                <a:lnTo>
                  <a:pt x="13778" y="7493"/>
                </a:lnTo>
                <a:lnTo>
                  <a:pt x="11942" y="7493"/>
                </a:lnTo>
                <a:lnTo>
                  <a:pt x="15450" y="3985"/>
                </a:lnTo>
                <a:lnTo>
                  <a:pt x="19122" y="7493"/>
                </a:lnTo>
                <a:lnTo>
                  <a:pt x="17286" y="7493"/>
                </a:lnTo>
                <a:lnTo>
                  <a:pt x="17286" y="12828"/>
                </a:lnTo>
                <a:cubicBezTo>
                  <a:pt x="17286" y="15596"/>
                  <a:pt x="14710" y="18155"/>
                  <a:pt x="11942" y="18155"/>
                </a:cubicBezTo>
                <a:lnTo>
                  <a:pt x="10280" y="18155"/>
                </a:lnTo>
                <a:cubicBezTo>
                  <a:pt x="7512" y="18155"/>
                  <a:pt x="4935" y="15596"/>
                  <a:pt x="493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previousslide"/>
          </p:cNvPr>
          <p:cNvSpPr/>
          <p:nvPr/>
        </p:nvSpPr>
        <p:spPr>
          <a:xfrm>
            <a:off x="8317080" y="5950080"/>
            <a:ext cx="826920" cy="907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07920"/>
              <a:gd name="textAreaBottom" fmla="*/ 854640 h 907920"/>
            </a:gdLst>
            <a:ahLst/>
            <a:rect l="textAreaLeft" t="textAreaTop" r="textAreaRight" b="textAreaBottom"/>
            <a:pathLst>
              <a:path w="21600" h="23715">
                <a:moveTo>
                  <a:pt x="0" y="0"/>
                </a:moveTo>
                <a:lnTo>
                  <a:pt x="21600" y="0"/>
                </a:lnTo>
                <a:lnTo>
                  <a:pt x="21600" y="23715"/>
                </a:lnTo>
                <a:lnTo>
                  <a:pt x="0" y="23715"/>
                </a:lnTo>
                <a:close/>
              </a:path>
              <a:path fill="lightenLess" w="21600" h="23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15">
                <a:moveTo>
                  <a:pt x="21600" y="0"/>
                </a:moveTo>
                <a:lnTo>
                  <a:pt x="21600" y="23715"/>
                </a:lnTo>
                <a:lnTo>
                  <a:pt x="20200" y="22315"/>
                </a:lnTo>
                <a:lnTo>
                  <a:pt x="20200" y="1400"/>
                </a:lnTo>
                <a:close/>
              </a:path>
              <a:path fill="darkenLess" w="21600" h="23715">
                <a:moveTo>
                  <a:pt x="21600" y="23715"/>
                </a:moveTo>
                <a:lnTo>
                  <a:pt x="0" y="23715"/>
                </a:lnTo>
                <a:lnTo>
                  <a:pt x="1400" y="22315"/>
                </a:lnTo>
                <a:lnTo>
                  <a:pt x="20200" y="22315"/>
                </a:lnTo>
                <a:close/>
              </a:path>
              <a:path fill="lighten" w="21600" h="23715">
                <a:moveTo>
                  <a:pt x="0" y="23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15"/>
                </a:lnTo>
                <a:close/>
              </a:path>
              <a:path fill="darken" w="21600" h="23715">
                <a:moveTo>
                  <a:pt x="3794" y="8550"/>
                </a:moveTo>
                <a:lnTo>
                  <a:pt x="7301" y="8550"/>
                </a:lnTo>
                <a:lnTo>
                  <a:pt x="7301" y="13885"/>
                </a:lnTo>
                <a:cubicBezTo>
                  <a:pt x="7301" y="14808"/>
                  <a:pt x="8102" y="15539"/>
                  <a:pt x="9138" y="15539"/>
                </a:cubicBezTo>
                <a:lnTo>
                  <a:pt x="10800" y="15539"/>
                </a:lnTo>
                <a:cubicBezTo>
                  <a:pt x="11836" y="15539"/>
                  <a:pt x="12636" y="14808"/>
                  <a:pt x="12636" y="13885"/>
                </a:cubicBezTo>
                <a:lnTo>
                  <a:pt x="12636" y="8550"/>
                </a:lnTo>
                <a:lnTo>
                  <a:pt x="10800" y="8550"/>
                </a:lnTo>
                <a:lnTo>
                  <a:pt x="14308" y="5042"/>
                </a:lnTo>
                <a:lnTo>
                  <a:pt x="17981" y="8550"/>
                </a:lnTo>
                <a:lnTo>
                  <a:pt x="16144" y="8550"/>
                </a:lnTo>
                <a:lnTo>
                  <a:pt x="16144" y="13885"/>
                </a:lnTo>
                <a:cubicBezTo>
                  <a:pt x="16144" y="16653"/>
                  <a:pt x="13568" y="19212"/>
                  <a:pt x="10800" y="19212"/>
                </a:cubicBezTo>
                <a:lnTo>
                  <a:pt x="9138" y="19212"/>
                </a:lnTo>
                <a:cubicBezTo>
                  <a:pt x="6370" y="19212"/>
                  <a:pt x="3794" y="16653"/>
                  <a:pt x="3794" y="13885"/>
                </a:cubicBezTo>
                <a:close/>
              </a:path>
            </a:pathLst>
          </a:custGeom>
          <a:noFill/>
          <a:ln w="93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724360" y="836640"/>
            <a:ext cx="648000" cy="576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492360" y="314172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140360" y="314172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62728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5128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57200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195640" y="371628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348000" y="371628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284720" y="371628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5" name=""/>
          <p:cNvGraphicFramePr/>
          <p:nvPr/>
        </p:nvGraphicFramePr>
        <p:xfrm>
          <a:off x="826920" y="4653000"/>
          <a:ext cx="7777440" cy="17287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е ,  -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го ,  -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му , -е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м , -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м , -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ая , я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й , -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ую , -ю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е , -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х , -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ми , и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Задай вопрос от существительног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Проверяй безударное окончание вопросительным словом с ударным окончани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море (каком?) огромном син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морем (каким?) огромным сини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ру (какую?) студёную зимнюю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омни о соответствия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635280" y="5805360"/>
            <a:ext cx="417672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кл. в м.р., ед. ч.,им. п. -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лышится   ца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авописание –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тся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и –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ться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в глаголах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дай вопрос. Определи часть 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Кто? Что?                           Что делать? Что с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уществительное                              глаго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ца                                     2. От какого слова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висит? Ставлю к глагол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ица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опро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ица                 он, она что сделает?       что 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рая спица        они что сделают?            что с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истая водиц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ит переносиц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ется  -утся  -ются                (что делать?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ится  -атся  -ятся                 Он хочет уч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ься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ченик (что делает?)           занима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ьс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ч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ся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, занимае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с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В безличных глаголах всегда пишется –тся без 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сидится, хочется, дремлет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0" name=""/>
          <p:cNvSpPr/>
          <p:nvPr/>
        </p:nvSpPr>
        <p:spPr>
          <a:xfrm>
            <a:off x="5219640" y="333360"/>
            <a:ext cx="146160" cy="431640"/>
          </a:xfrm>
          <a:custGeom>
            <a:avLst/>
            <a:gdLst>
              <a:gd name="textAreaLeft" fmla="*/ 42840 w 146160"/>
              <a:gd name="textAreaRight" fmla="*/ 146520 w 14616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580000" y="333360"/>
            <a:ext cx="217440" cy="431640"/>
          </a:xfrm>
          <a:custGeom>
            <a:avLst/>
            <a:gdLst>
              <a:gd name="textAreaLeft" fmla="*/ 0 w 217440"/>
              <a:gd name="textAreaRight" fmla="*/ 152640 w 21744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3276720" y="3789360"/>
            <a:ext cx="1298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 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067280" y="3860640"/>
            <a:ext cx="720720" cy="719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067280" y="3716280"/>
            <a:ext cx="649080" cy="7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771640" y="2060640"/>
            <a:ext cx="0" cy="396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 txBox="1"/>
          <p:nvPr/>
        </p:nvSpPr>
        <p:spPr>
          <a:xfrm>
            <a:off x="6300720" y="3716280"/>
            <a:ext cx="1521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ть  Ь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7" name=""/>
          <p:cNvSpPr/>
          <p:nvPr/>
        </p:nvSpPr>
        <p:spPr>
          <a:xfrm>
            <a:off x="305928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78000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50072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05928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78000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50072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previousslide"/>
          </p:cNvPr>
          <p:cNvSpPr/>
          <p:nvPr/>
        </p:nvSpPr>
        <p:spPr>
          <a:xfrm>
            <a:off x="7920000" y="613728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1331" y="7493"/>
                </a:moveTo>
                <a:lnTo>
                  <a:pt x="14839" y="7493"/>
                </a:lnTo>
                <a:lnTo>
                  <a:pt x="14839" y="12828"/>
                </a:lnTo>
                <a:cubicBezTo>
                  <a:pt x="14839" y="13751"/>
                  <a:pt x="15640" y="14482"/>
                  <a:pt x="16675" y="14482"/>
                </a:cubicBezTo>
                <a:lnTo>
                  <a:pt x="18338" y="14482"/>
                </a:lnTo>
                <a:cubicBezTo>
                  <a:pt x="19374" y="14482"/>
                  <a:pt x="20174" y="13751"/>
                  <a:pt x="20174" y="12828"/>
                </a:cubicBezTo>
                <a:lnTo>
                  <a:pt x="20174" y="7493"/>
                </a:lnTo>
                <a:lnTo>
                  <a:pt x="18338" y="7493"/>
                </a:lnTo>
                <a:lnTo>
                  <a:pt x="21845" y="3985"/>
                </a:lnTo>
                <a:lnTo>
                  <a:pt x="25518" y="7493"/>
                </a:lnTo>
                <a:lnTo>
                  <a:pt x="23682" y="7493"/>
                </a:lnTo>
                <a:lnTo>
                  <a:pt x="23682" y="12828"/>
                </a:lnTo>
                <a:cubicBezTo>
                  <a:pt x="23682" y="15596"/>
                  <a:pt x="21106" y="18155"/>
                  <a:pt x="18338" y="18155"/>
                </a:cubicBezTo>
                <a:lnTo>
                  <a:pt x="16675" y="18155"/>
                </a:lnTo>
                <a:cubicBezTo>
                  <a:pt x="13908" y="18155"/>
                  <a:pt x="11331" y="15596"/>
                  <a:pt x="11331" y="12828"/>
                </a:cubicBezTo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ягкий знак после шипящих в неопределённой форме глагола и во 2-м лице ед.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тся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ться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 в глаг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 в корнях с черед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в окончаниях глаголов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I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II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спря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в корн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6" action="ppaction://hlinksldjump"/>
              </a:rPr>
              <a:t>КОС-- КАС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2" action="ppaction://hlinksldjump"/>
              </a:rPr>
              <a:t> в корн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3" action="ppaction://hlinksldjump"/>
              </a:rPr>
              <a:t>ГОР– ГА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4" action="ppaction://hlinksldjump"/>
              </a:rPr>
              <a:t>Букв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5" action="ppaction://hlinksldjump"/>
              </a:rPr>
              <a:t> 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6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7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8" action="ppaction://hlinksldjump"/>
              </a:rPr>
              <a:t>посл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9" action="ppaction://hlinksldjump"/>
              </a:rPr>
              <a:t>Гласные в приставках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0" action="ppaction://hlinksldjump"/>
              </a:rPr>
              <a:t> ПР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1" action="ppaction://hlinksldjump"/>
              </a:rPr>
              <a:t>- 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2" action="ppaction://hlinksldjump"/>
              </a:rPr>
              <a:t> П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3" action="ppaction://hlinksldjump"/>
              </a:rPr>
              <a:t>Соединитель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4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5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6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7" action="ppaction://hlinksldjump"/>
              </a:rPr>
              <a:t> в сложных слов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8" action="ppaction://hlinksldjump"/>
              </a:rPr>
              <a:t>Букв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9" action="ppaction://hlinksldjump"/>
              </a:rPr>
              <a:t> 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0" action="ppaction://hlinksldjump"/>
              </a:rPr>
              <a:t>в суффикс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1" action="ppaction://hlinksldjump"/>
              </a:rPr>
              <a:t>–ЕН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2" action="ppaction://hlinksldjump"/>
              </a:rPr>
              <a:t> существительных на 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3" action="ppaction://hlinksldjump"/>
              </a:rPr>
              <a:t>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 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 существите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4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5" action="ppaction://hlinksldjump"/>
              </a:rPr>
              <a:t>Щ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6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7" action="ppaction://hlinksldjump"/>
              </a:rPr>
              <a:t>Ч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8" action="ppaction://hlinksldjump"/>
              </a:rPr>
              <a:t> в суффикс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9" action="ppaction://hlinksldjump"/>
              </a:rPr>
              <a:t>ЩИК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0" action="ppaction://hlinksldjump"/>
              </a:rPr>
              <a:t>-   (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1" action="ppaction://hlinksldjump"/>
              </a:rPr>
              <a:t> ЧИК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2" action="ppaction://hlinksldjump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3" action="ppaction://hlinksldjump"/>
              </a:rPr>
              <a:t>Глас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4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5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6" action="ppaction://hlinksldjump"/>
              </a:rPr>
              <a:t>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7" action="ppaction://hlinksldjump"/>
              </a:rPr>
              <a:t>  в суффиксах существительных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8" action="ppaction://hlinksldjump"/>
              </a:rPr>
              <a:t>– ЕК- , -ИК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9" action="ppaction://hlinksldjump"/>
              </a:rPr>
              <a:t>Буквы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0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1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2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3" action="ppaction://hlinksldjump"/>
              </a:rPr>
              <a:t> после шипящих в суффиксах существи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4" action="ppaction://hlinksldjump"/>
              </a:rPr>
              <a:t>Дефисное и слитное написание слов с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5" action="ppaction://hlinksldjump"/>
              </a:rPr>
              <a:t> ПОЛ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6" action="ppaction://hlinksldjump"/>
              </a:rPr>
              <a:t>- 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7" action="ppaction://hlinksldjump"/>
              </a:rPr>
              <a:t>ПОЛУ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 прилагате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8" action="ppaction://hlinksldjump"/>
              </a:rPr>
              <a:t>Буквы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9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0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1" action="ppaction://hlinksldjump"/>
              </a:rPr>
              <a:t> 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2" action="ppaction://hlinksldjump"/>
              </a:rPr>
              <a:t>после шипящих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3" action="ppaction://hlinksldjump"/>
              </a:rPr>
              <a:t> Ц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4" action="ppaction://hlinksldjump"/>
              </a:rPr>
              <a:t>  в суффикса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5" action="ppaction://hlinksldjump"/>
              </a:rPr>
              <a:t>Одна и две 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6" action="ppaction://hlinksldjump"/>
              </a:rPr>
              <a:t>Н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7" action="ppaction://hlinksldjump"/>
              </a:rPr>
              <a:t> в суффикса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8" action="ppaction://hlinksldjump"/>
              </a:rPr>
              <a:t>Различение на письме суффиксов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9" action="ppaction://hlinksldjump"/>
              </a:rPr>
              <a:t>-К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0" action="ppaction://hlinksldjump"/>
              </a:rPr>
              <a:t>  и  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1" action="ppaction://hlinksldjump"/>
              </a:rPr>
              <a:t> СК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2" action="ppaction://hlinksldjump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3" action="ppaction://hlinksldjump"/>
              </a:rPr>
              <a:t>Дефис в сложны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гкий знак в середине числ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ончаниях количественных числ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неопределён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с в неопределён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личение приставок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и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 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в отрицатель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в отрицатель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94"/>
          <a:stretch/>
        </p:blipFill>
        <p:spPr>
          <a:xfrm>
            <a:off x="7524720" y="1268280"/>
            <a:ext cx="1028880" cy="1276560"/>
          </a:xfrm>
          <a:prstGeom prst="rect">
            <a:avLst/>
          </a:prstGeom>
          <a:ln w="0">
            <a:noFill/>
          </a:ln>
        </p:spPr>
      </p:pic>
      <p:sp>
        <p:nvSpPr>
          <p:cNvPr id="1745" name="">
            <a:hlinkClick r:id="" action="ppaction://hlinkshowjump?jump=nextslide"/>
          </p:cNvPr>
          <p:cNvSpPr/>
          <p:nvPr/>
        </p:nvSpPr>
        <p:spPr>
          <a:xfrm>
            <a:off x="7956720" y="6165720"/>
            <a:ext cx="1187280" cy="692280"/>
          </a:xfrm>
          <a:custGeom>
            <a:avLst/>
            <a:gdLst>
              <a:gd name="textAreaLeft" fmla="*/ 44640 w 1187280"/>
              <a:gd name="textAreaRight" fmla="*/ 1142640 w 118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7037" h="21600">
                <a:moveTo>
                  <a:pt x="0" y="0"/>
                </a:moveTo>
                <a:lnTo>
                  <a:pt x="37037" y="0"/>
                </a:lnTo>
                <a:lnTo>
                  <a:pt x="37037" y="21600"/>
                </a:lnTo>
                <a:lnTo>
                  <a:pt x="0" y="21600"/>
                </a:lnTo>
                <a:close/>
              </a:path>
              <a:path fill="lightenLess" w="37037" h="21600">
                <a:moveTo>
                  <a:pt x="0" y="0"/>
                </a:moveTo>
                <a:lnTo>
                  <a:pt x="37037" y="0"/>
                </a:lnTo>
                <a:lnTo>
                  <a:pt x="35637" y="1400"/>
                </a:lnTo>
                <a:lnTo>
                  <a:pt x="1400" y="1400"/>
                </a:lnTo>
                <a:close/>
              </a:path>
              <a:path fill="darken" w="37037" h="21600">
                <a:moveTo>
                  <a:pt x="37037" y="0"/>
                </a:moveTo>
                <a:lnTo>
                  <a:pt x="37037" y="21600"/>
                </a:lnTo>
                <a:lnTo>
                  <a:pt x="35637" y="20200"/>
                </a:lnTo>
                <a:lnTo>
                  <a:pt x="35637" y="1400"/>
                </a:lnTo>
                <a:close/>
              </a:path>
              <a:path fill="darkenLess" w="37037" h="21600">
                <a:moveTo>
                  <a:pt x="37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7" y="20200"/>
                </a:lnTo>
                <a:close/>
              </a:path>
              <a:path fill="lighten" w="37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7" h="21600">
                <a:moveTo>
                  <a:pt x="11512" y="3794"/>
                </a:moveTo>
                <a:lnTo>
                  <a:pt x="25525" y="10800"/>
                </a:lnTo>
                <a:lnTo>
                  <a:pt x="11512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 и 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 в прилагатель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крат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(качественно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атель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резок – рез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скользок – скольз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на  -к,  -ц,  -ч. (относительное прилагатель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Немец – немец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Рыбак – рыба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ц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Ткач – ткац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сключение: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таджикский, узбекский, угличский, иракский, тюркский, камчатский, корякский, каракалпак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альных случа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француз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рус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секретар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матрос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84360" y="333360"/>
            <a:ext cx="2156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468360" y="333360"/>
            <a:ext cx="2142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92360" y="404640"/>
            <a:ext cx="2872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403280" y="404640"/>
            <a:ext cx="287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042920" y="3284640"/>
            <a:ext cx="0" cy="865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611280" y="1773000"/>
            <a:ext cx="43164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042920" y="1773360"/>
            <a:ext cx="36036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6084720" y="2349360"/>
            <a:ext cx="14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ск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6084720" y="1988640"/>
            <a:ext cx="86364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948360" y="1989000"/>
            <a:ext cx="57636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539640" y="2133720"/>
            <a:ext cx="936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к-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276720" y="6308640"/>
            <a:ext cx="4032000" cy="44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Comic Sans MS"/>
                <a:hlinkClick r:id="rId1" action="ppaction://hlinksldjump"/>
              </a:rPr>
              <a:t>Правописание 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6012000" y="6453360"/>
            <a:ext cx="1150920" cy="144360"/>
          </a:xfrm>
          <a:prstGeom prst="rightArrow">
            <a:avLst>
              <a:gd name="adj1" fmla="val 50000"/>
              <a:gd name="adj2" fmla="val 199314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>
            <a:hlinkClick r:id="rId2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Правописание 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ител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НО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огаты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!!!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нь-ден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юн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юл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нт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т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ка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НО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нва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 rot="19562400">
            <a:off x="4557240" y="2662200"/>
            <a:ext cx="3959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5" name="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1187280" cy="765000"/>
          </a:xfrm>
          <a:custGeom>
            <a:avLst/>
            <a:gdLst>
              <a:gd name="textAreaLeft" fmla="*/ 49320 w 1187280"/>
              <a:gd name="textAreaRight" fmla="*/ 1137960 w 118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518" h="21600">
                <a:moveTo>
                  <a:pt x="0" y="0"/>
                </a:moveTo>
                <a:lnTo>
                  <a:pt x="33518" y="0"/>
                </a:lnTo>
                <a:lnTo>
                  <a:pt x="33518" y="21600"/>
                </a:lnTo>
                <a:lnTo>
                  <a:pt x="0" y="21600"/>
                </a:lnTo>
                <a:close/>
              </a:path>
              <a:path fill="lightenLess" w="33518" h="21600">
                <a:moveTo>
                  <a:pt x="0" y="0"/>
                </a:moveTo>
                <a:lnTo>
                  <a:pt x="33518" y="0"/>
                </a:lnTo>
                <a:lnTo>
                  <a:pt x="32118" y="1400"/>
                </a:lnTo>
                <a:lnTo>
                  <a:pt x="1400" y="1400"/>
                </a:lnTo>
                <a:close/>
              </a:path>
              <a:path fill="darken" w="33518" h="21600">
                <a:moveTo>
                  <a:pt x="33518" y="0"/>
                </a:moveTo>
                <a:lnTo>
                  <a:pt x="33518" y="21600"/>
                </a:lnTo>
                <a:lnTo>
                  <a:pt x="32118" y="20200"/>
                </a:lnTo>
                <a:lnTo>
                  <a:pt x="32118" y="1400"/>
                </a:lnTo>
                <a:close/>
              </a:path>
              <a:path fill="darkenLess" w="33518" h="21600">
                <a:moveTo>
                  <a:pt x="33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8" y="20200"/>
                </a:lnTo>
                <a:close/>
              </a:path>
              <a:path fill="lighten" w="33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8" h="21600">
                <a:moveTo>
                  <a:pt x="9752" y="7493"/>
                </a:moveTo>
                <a:lnTo>
                  <a:pt x="13260" y="7493"/>
                </a:lnTo>
                <a:lnTo>
                  <a:pt x="13260" y="12828"/>
                </a:lnTo>
                <a:cubicBezTo>
                  <a:pt x="13260" y="13751"/>
                  <a:pt x="14061" y="14482"/>
                  <a:pt x="15096" y="14482"/>
                </a:cubicBezTo>
                <a:lnTo>
                  <a:pt x="16759" y="14482"/>
                </a:lnTo>
                <a:cubicBezTo>
                  <a:pt x="17795" y="14482"/>
                  <a:pt x="18595" y="13751"/>
                  <a:pt x="18595" y="12828"/>
                </a:cubicBezTo>
                <a:lnTo>
                  <a:pt x="18595" y="7493"/>
                </a:lnTo>
                <a:lnTo>
                  <a:pt x="16759" y="7493"/>
                </a:lnTo>
                <a:lnTo>
                  <a:pt x="20266" y="3985"/>
                </a:lnTo>
                <a:lnTo>
                  <a:pt x="23939" y="7493"/>
                </a:lnTo>
                <a:lnTo>
                  <a:pt x="22103" y="7493"/>
                </a:lnTo>
                <a:lnTo>
                  <a:pt x="22103" y="12828"/>
                </a:lnTo>
                <a:cubicBezTo>
                  <a:pt x="22103" y="15596"/>
                  <a:pt x="19527" y="18155"/>
                  <a:pt x="16759" y="18155"/>
                </a:cubicBezTo>
                <a:lnTo>
                  <a:pt x="15096" y="18155"/>
                </a:lnTo>
                <a:cubicBezTo>
                  <a:pt x="12329" y="18155"/>
                  <a:pt x="9752" y="15596"/>
                  <a:pt x="9752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2000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1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2" dur="3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395280" y="5229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Чтобы узнать спряжение глагола с безударным окончанием, нужно поставить глагол в неопр. форму и посмотреть, на что оканчивается глаго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 и И в окончаниях глаголо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ря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rId1" action="ppaction://hlinksldjump"/>
          </p:cNvPr>
          <p:cNvSpPr/>
          <p:nvPr/>
        </p:nvSpPr>
        <p:spPr>
          <a:xfrm>
            <a:off x="8172360" y="5877000"/>
            <a:ext cx="971640" cy="981000"/>
          </a:xfrm>
          <a:custGeom>
            <a:avLst/>
            <a:gdLst>
              <a:gd name="textAreaLeft" fmla="*/ 63000 w 971640"/>
              <a:gd name="textAreaRight" fmla="*/ 909000 w 971640"/>
              <a:gd name="textAreaTop" fmla="*/ 63000 h 981000"/>
              <a:gd name="textAreaBottom" fmla="*/ 918360 h 981000"/>
            </a:gdLst>
            <a:ahLst/>
            <a:rect l="textAreaLeft" t="textAreaTop" r="textAreaRight" b="textAreaBottom"/>
            <a:pathLst>
              <a:path w="21600" h="21808">
                <a:moveTo>
                  <a:pt x="0" y="0"/>
                </a:moveTo>
                <a:lnTo>
                  <a:pt x="21600" y="0"/>
                </a:lnTo>
                <a:lnTo>
                  <a:pt x="21600" y="21808"/>
                </a:lnTo>
                <a:lnTo>
                  <a:pt x="0" y="21808"/>
                </a:lnTo>
                <a:close/>
              </a:path>
              <a:path fill="lightenLess" w="21600" h="21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8">
                <a:moveTo>
                  <a:pt x="21600" y="0"/>
                </a:moveTo>
                <a:lnTo>
                  <a:pt x="21600" y="21808"/>
                </a:lnTo>
                <a:lnTo>
                  <a:pt x="20200" y="20408"/>
                </a:lnTo>
                <a:lnTo>
                  <a:pt x="20200" y="1400"/>
                </a:lnTo>
                <a:close/>
              </a:path>
              <a:path fill="darkenLess" w="21600" h="21808">
                <a:moveTo>
                  <a:pt x="21600" y="21808"/>
                </a:moveTo>
                <a:lnTo>
                  <a:pt x="0" y="21808"/>
                </a:lnTo>
                <a:lnTo>
                  <a:pt x="1400" y="20408"/>
                </a:lnTo>
                <a:lnTo>
                  <a:pt x="20200" y="20408"/>
                </a:lnTo>
                <a:close/>
              </a:path>
              <a:path fill="lighten" w="21600" h="21808">
                <a:moveTo>
                  <a:pt x="0" y="21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8"/>
                </a:lnTo>
                <a:close/>
              </a:path>
              <a:path fill="darken" w="21600" h="21808">
                <a:moveTo>
                  <a:pt x="3794" y="7597"/>
                </a:moveTo>
                <a:lnTo>
                  <a:pt x="7301" y="7597"/>
                </a:lnTo>
                <a:lnTo>
                  <a:pt x="7301" y="12932"/>
                </a:lnTo>
                <a:cubicBezTo>
                  <a:pt x="7301" y="13855"/>
                  <a:pt x="8102" y="14586"/>
                  <a:pt x="9138" y="14586"/>
                </a:cubicBezTo>
                <a:lnTo>
                  <a:pt x="10800" y="14586"/>
                </a:lnTo>
                <a:cubicBezTo>
                  <a:pt x="11836" y="14586"/>
                  <a:pt x="12636" y="13855"/>
                  <a:pt x="12636" y="12932"/>
                </a:cubicBezTo>
                <a:lnTo>
                  <a:pt x="12636" y="7597"/>
                </a:lnTo>
                <a:lnTo>
                  <a:pt x="10800" y="7597"/>
                </a:lnTo>
                <a:lnTo>
                  <a:pt x="14308" y="4089"/>
                </a:lnTo>
                <a:lnTo>
                  <a:pt x="17981" y="7597"/>
                </a:lnTo>
                <a:lnTo>
                  <a:pt x="16144" y="7597"/>
                </a:lnTo>
                <a:lnTo>
                  <a:pt x="16144" y="12932"/>
                </a:lnTo>
                <a:cubicBezTo>
                  <a:pt x="16144" y="15700"/>
                  <a:pt x="13568" y="18259"/>
                  <a:pt x="10800" y="18259"/>
                </a:cubicBezTo>
                <a:lnTo>
                  <a:pt x="9138" y="18259"/>
                </a:lnTo>
                <a:cubicBezTo>
                  <a:pt x="6370" y="18259"/>
                  <a:pt x="3794" y="15700"/>
                  <a:pt x="3794" y="129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4642920" y="1413000"/>
            <a:ext cx="38862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1" name=""/>
          <p:cNvGraphicFramePr/>
          <p:nvPr/>
        </p:nvGraphicFramePr>
        <p:xfrm>
          <a:off x="4572000" y="1916280"/>
          <a:ext cx="3457440" cy="3373200"/>
        </p:xfrm>
        <a:graphic>
          <a:graphicData uri="http://schemas.openxmlformats.org/drawingml/2006/table">
            <a:tbl>
              <a:tblPr/>
              <a:tblGrid>
                <a:gridCol w="1152360"/>
                <a:gridCol w="1152360"/>
                <a:gridCol w="11527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, -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,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2" name=""/>
          <p:cNvSpPr/>
          <p:nvPr/>
        </p:nvSpPr>
        <p:spPr>
          <a:xfrm>
            <a:off x="395280" y="191628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3" name=""/>
          <p:cNvGraphicFramePr/>
          <p:nvPr/>
        </p:nvGraphicFramePr>
        <p:xfrm>
          <a:off x="468360" y="1916280"/>
          <a:ext cx="3456000" cy="334296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</a:tblGrid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,-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, 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4" name="">
            <a:hlinkClick r:id="rId2" action="ppaction://hlinksldjump"/>
          </p:cNvPr>
          <p:cNvSpPr/>
          <p:nvPr/>
        </p:nvSpPr>
        <p:spPr>
          <a:xfrm>
            <a:off x="2627280" y="6308640"/>
            <a:ext cx="3816360" cy="54936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>
            <a:off x="3492360" y="4365720"/>
            <a:ext cx="2087640" cy="2492280"/>
          </a:xfrm>
          <a:prstGeom prst="borderCallout1">
            <a:avLst>
              <a:gd name="adj1" fmla="val 46173"/>
              <a:gd name="adj2" fmla="val 22260"/>
              <a:gd name="adj3" fmla="val 1183"/>
              <a:gd name="adj4" fmla="val 22260"/>
            </a:avLst>
          </a:prstGeom>
          <a:solidFill>
            <a:srgbClr val="cce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Слыш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Вид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Ненавид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Гн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Держа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Не обид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Смотр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Дыш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Верт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Завис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терп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предели спряжение глагол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-у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ы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е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rId1" action="ppaction://hlinksldjump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755640" y="1483920"/>
            <a:ext cx="6769080" cy="475308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826920" y="1341360"/>
            <a:ext cx="49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 спря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1" name=""/>
          <p:cNvSpPr txBox="1"/>
          <p:nvPr/>
        </p:nvSpPr>
        <p:spPr>
          <a:xfrm rot="19674600">
            <a:off x="3053880" y="2739960"/>
            <a:ext cx="175896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+ брить,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телить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52" name=""/>
          <p:cNvSpPr txBox="1"/>
          <p:nvPr/>
        </p:nvSpPr>
        <p:spPr>
          <a:xfrm rot="207600">
            <a:off x="5294160" y="2349000"/>
            <a:ext cx="33624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 2 спряжени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643280" y="3500280"/>
            <a:ext cx="41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тносятся все глаг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–ить, к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203640" y="3860640"/>
            <a:ext cx="4032360" cy="57636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18901" y="17942"/>
                </a:moveTo>
                <a:arcTo wR="-10800" hR="-10800" stAng="2483982" swAng="-14726762"/>
                <a:lnTo>
                  <a:pt x="20663" y="6399"/>
                </a:lnTo>
                <a:arcTo wR="10800" hR="10800" stAng="-1442780" swAng="14726762"/>
                <a:lnTo>
                  <a:pt x="673" y="1872"/>
                </a:lnTo>
                <a:lnTo>
                  <a:pt x="4484" y="1633"/>
                </a:lnTo>
                <a:lnTo>
                  <a:pt x="4724" y="5443"/>
                </a:lnTo>
                <a:close/>
              </a:path>
            </a:pathLst>
          </a:custGeom>
          <a:solidFill>
            <a:srgbClr val="cc00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5580000" y="4941720"/>
            <a:ext cx="214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7 на -е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4 на -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132000" y="4076640"/>
            <a:ext cx="2311560" cy="1709640"/>
          </a:xfrm>
          <a:prstGeom prst="borderCallout3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179280" y="63342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лгорит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58" name="">
            <a:hlinkClick r:id="" action="ppaction://hlinkshowjump?jump=nextslide"/>
          </p:cNvPr>
          <p:cNvSpPr/>
          <p:nvPr/>
        </p:nvSpPr>
        <p:spPr>
          <a:xfrm>
            <a:off x="2340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3794"/>
                </a:moveTo>
                <a:lnTo>
                  <a:pt x="24960" y="10800"/>
                </a:lnTo>
                <a:lnTo>
                  <a:pt x="10947" y="17806"/>
                </a:lnTo>
                <a:close/>
              </a:path>
            </a:pathLst>
          </a:custGeom>
          <a:noFill/>
          <a:ln w="9360">
            <a:solidFill>
              <a:srgbClr val="99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авописание безударных окончаний глагола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Алгорит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32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глагол в неопределённую форму (что делать? что сделать?) того же самого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1 глаго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на  -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ави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е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ы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т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а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             крик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ш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у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т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е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л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т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т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я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 (-я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ыв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ь (-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(-о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340000" y="2349360"/>
            <a:ext cx="1584360" cy="287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1403280" y="2349360"/>
            <a:ext cx="649440" cy="287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611280" y="2708280"/>
            <a:ext cx="1771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спряжение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3851280" y="2708280"/>
            <a:ext cx="720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0033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т</a:t>
            </a:r>
            <a:endParaRPr b="0" lang="en-US" sz="2800" spc="1" strike="noStrike">
              <a:ln w="9360">
                <a:solidFill>
                  <a:srgbClr val="330033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843280" y="4149720"/>
            <a:ext cx="1771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спряжение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643280" y="3573360"/>
            <a:ext cx="172728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6227640" y="4221000"/>
            <a:ext cx="720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0033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т</a:t>
            </a:r>
            <a:endParaRPr b="0" lang="en-US" sz="2800" spc="1" strike="noStrike">
              <a:ln w="9360">
                <a:solidFill>
                  <a:srgbClr val="330033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419640" y="3357720"/>
            <a:ext cx="144360" cy="142560"/>
          </a:xfrm>
          <a:prstGeom prst="flowChartConnector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3635280" y="3573360"/>
            <a:ext cx="72072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5940360" y="5013360"/>
            <a:ext cx="20671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cc33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пряжение</a:t>
            </a:r>
            <a:endParaRPr b="0" lang="en-US" sz="2800" spc="1" strike="noStrike">
              <a:ln w="12600">
                <a:solidFill>
                  <a:srgbClr val="33cc33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1" name="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7" dur="3000" fill="hold"/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4" dur="3000" fill="hold"/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9" dur="2000" fill="hold"/>
                                        <p:tgtEl>
                                          <p:spTgt spid="2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3" dur="2000" fill="hold"/>
                                        <p:tgtEl>
                                          <p:spTgt spid="2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7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8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9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4" dur="250" autoRev="1" fill="hold"/>
                                        <p:tgtEl>
                                          <p:spTgt spid="2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8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2" dur="2000" fill="hold"/>
                                        <p:tgtEl>
                                          <p:spTgt spid="2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рне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с- - ка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 безударном положен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если есть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если нет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1619280" y="2708280"/>
            <a:ext cx="16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с-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6084720" y="2637000"/>
            <a:ext cx="432000" cy="100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5651640" y="2420640"/>
            <a:ext cx="64908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300720" y="2421000"/>
            <a:ext cx="57636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1476360" y="4365720"/>
            <a:ext cx="151128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6227640" y="4508640"/>
            <a:ext cx="4460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5867280" y="4149720"/>
            <a:ext cx="576360" cy="50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6443640" y="4149720"/>
            <a:ext cx="57636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5651280" y="4292640"/>
            <a:ext cx="1657080" cy="1224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724360" y="4221000"/>
            <a:ext cx="1584360" cy="115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187280" y="5805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и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кас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ься, пр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кос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уться (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нет а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1042920" cy="981000"/>
          </a:xfrm>
          <a:custGeom>
            <a:avLst/>
            <a:gdLst>
              <a:gd name="textAreaLeft" fmla="*/ 63360 w 1042920"/>
              <a:gd name="textAreaRight" fmla="*/ 979560 w 1042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963" h="21600">
                <a:moveTo>
                  <a:pt x="0" y="0"/>
                </a:moveTo>
                <a:lnTo>
                  <a:pt x="22963" y="0"/>
                </a:lnTo>
                <a:lnTo>
                  <a:pt x="22963" y="21600"/>
                </a:lnTo>
                <a:lnTo>
                  <a:pt x="0" y="21600"/>
                </a:lnTo>
                <a:close/>
              </a:path>
              <a:path fill="lightenLess" w="22963" h="21600">
                <a:moveTo>
                  <a:pt x="0" y="0"/>
                </a:moveTo>
                <a:lnTo>
                  <a:pt x="22963" y="0"/>
                </a:lnTo>
                <a:lnTo>
                  <a:pt x="21563" y="1400"/>
                </a:lnTo>
                <a:lnTo>
                  <a:pt x="1400" y="1400"/>
                </a:lnTo>
                <a:close/>
              </a:path>
              <a:path fill="darken" w="22963" h="21600">
                <a:moveTo>
                  <a:pt x="22963" y="0"/>
                </a:moveTo>
                <a:lnTo>
                  <a:pt x="22963" y="21600"/>
                </a:lnTo>
                <a:lnTo>
                  <a:pt x="21563" y="20200"/>
                </a:lnTo>
                <a:lnTo>
                  <a:pt x="21563" y="1400"/>
                </a:lnTo>
                <a:close/>
              </a:path>
              <a:path fill="darkenLess" w="22963" h="21600">
                <a:moveTo>
                  <a:pt x="22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3" y="20200"/>
                </a:lnTo>
                <a:close/>
              </a:path>
              <a:path fill="lighten" w="22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3" h="21600">
                <a:moveTo>
                  <a:pt x="4475" y="7493"/>
                </a:moveTo>
                <a:lnTo>
                  <a:pt x="7983" y="7493"/>
                </a:lnTo>
                <a:lnTo>
                  <a:pt x="7983" y="12828"/>
                </a:lnTo>
                <a:cubicBezTo>
                  <a:pt x="7983" y="13751"/>
                  <a:pt x="8783" y="14482"/>
                  <a:pt x="9819" y="14482"/>
                </a:cubicBezTo>
                <a:lnTo>
                  <a:pt x="11481" y="14482"/>
                </a:lnTo>
                <a:cubicBezTo>
                  <a:pt x="12517" y="14482"/>
                  <a:pt x="13318" y="13751"/>
                  <a:pt x="13318" y="12828"/>
                </a:cubicBezTo>
                <a:lnTo>
                  <a:pt x="13318" y="7493"/>
                </a:lnTo>
                <a:lnTo>
                  <a:pt x="11481" y="7493"/>
                </a:lnTo>
                <a:lnTo>
                  <a:pt x="14989" y="3985"/>
                </a:lnTo>
                <a:lnTo>
                  <a:pt x="18662" y="7493"/>
                </a:lnTo>
                <a:lnTo>
                  <a:pt x="16826" y="7493"/>
                </a:lnTo>
                <a:lnTo>
                  <a:pt x="16826" y="12828"/>
                </a:lnTo>
                <a:cubicBezTo>
                  <a:pt x="16826" y="15596"/>
                  <a:pt x="14249" y="18155"/>
                  <a:pt x="11481" y="18155"/>
                </a:cubicBezTo>
                <a:lnTo>
                  <a:pt x="9819" y="18155"/>
                </a:lnTo>
                <a:cubicBezTo>
                  <a:pt x="7051" y="18155"/>
                  <a:pt x="4475" y="15596"/>
                  <a:pt x="4475" y="12828"/>
                </a:cubicBez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8" dur="2000" fill="hold"/>
                                        <p:tgtEl>
                                          <p:spTgt spid="2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1" dur="2000" fill="hold"/>
                                        <p:tgtEl>
                                          <p:spTgt spid="2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Соединительные гласные в сложных словах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362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В сложных словах после </a:t>
            </a: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твёрдых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 согласных пишется соединительная </a:t>
            </a: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, а после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мягких 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согласных,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шипящих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 и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Ц 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– соединительная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Abadi MT Condensed Light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Земн</a:t>
            </a:r>
            <a:r>
              <a:rPr b="1" i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водный, земл</a:t>
            </a:r>
            <a:r>
              <a:rPr b="1" i="1" lang="en-US" sz="1600" spc="-1" strike="noStrike">
                <a:solidFill>
                  <a:srgbClr val="009900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мер, пеш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ход, птиц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лов, земл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трясение, сердц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биение, природ</a:t>
            </a:r>
            <a:r>
              <a:rPr b="1" i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badi MT Condensed Light"/>
              </a:rPr>
              <a:t>Запомни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395280" y="2421000"/>
          <a:ext cx="8569440" cy="370188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00360"/>
                <a:gridCol w="2232000"/>
              </a:tblGrid>
              <a:tr h="82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ров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к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ед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шё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часть – числит. в род. 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часть – глагол в повелит. на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оединит. гласн. с иноязычн. элемен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с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нос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в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п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ж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иА, аэрО, автО, биО, библиО, гидрО. зоО, кинО, микрО, метеО, мотО, велО, фотО, телЕ, радиО, псевдО, стереО, электрО, ультрА, п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льтр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и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9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1968480" y="4437000"/>
            <a:ext cx="7794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7" dur="2000" fill="hold"/>
                                        <p:tgtEl>
                                          <p:spTgt spid="2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носклоняемые существитель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существительных на  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р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мя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сущ. 3 скло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тремя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сущ. 2 скло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сущ. м. р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у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             пиши гласную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"/>
          <p:cNvSpPr/>
          <p:nvPr/>
        </p:nvSpPr>
        <p:spPr>
          <a:xfrm>
            <a:off x="2916360" y="170028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.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ат. п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дл. 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4788000" y="1916280"/>
            <a:ext cx="617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5" name=""/>
          <p:cNvSpPr/>
          <p:nvPr/>
        </p:nvSpPr>
        <p:spPr>
          <a:xfrm>
            <a:off x="4572000" y="1773360"/>
            <a:ext cx="936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916360" y="3716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твор. 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4500720" y="3429000"/>
            <a:ext cx="107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е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8" name=""/>
          <p:cNvSpPr/>
          <p:nvPr/>
        </p:nvSpPr>
        <p:spPr>
          <a:xfrm>
            <a:off x="4356000" y="3357720"/>
            <a:ext cx="1295640" cy="122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2556000" y="5445000"/>
            <a:ext cx="136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ен-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84360" y="5013000"/>
            <a:ext cx="71928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203640" y="5013360"/>
            <a:ext cx="64764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627280" y="623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 знам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ен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 (на  -м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previousslide"/>
          </p:cNvPr>
          <p:cNvSpPr/>
          <p:nvPr/>
        </p:nvSpPr>
        <p:spPr>
          <a:xfrm>
            <a:off x="7956720" y="6021360"/>
            <a:ext cx="1187280" cy="836640"/>
          </a:xfrm>
          <a:custGeom>
            <a:avLst/>
            <a:gdLst>
              <a:gd name="textAreaLeft" fmla="*/ 54000 w 1187280"/>
              <a:gd name="textAreaRight" fmla="*/ 1133280 w 1187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0649" h="21600">
                <a:moveTo>
                  <a:pt x="0" y="0"/>
                </a:moveTo>
                <a:lnTo>
                  <a:pt x="30649" y="0"/>
                </a:lnTo>
                <a:lnTo>
                  <a:pt x="30649" y="21600"/>
                </a:lnTo>
                <a:lnTo>
                  <a:pt x="0" y="21600"/>
                </a:lnTo>
                <a:close/>
              </a:path>
              <a:path fill="lightenLess" w="30649" h="21600">
                <a:moveTo>
                  <a:pt x="0" y="0"/>
                </a:moveTo>
                <a:lnTo>
                  <a:pt x="30649" y="0"/>
                </a:lnTo>
                <a:lnTo>
                  <a:pt x="29249" y="1400"/>
                </a:lnTo>
                <a:lnTo>
                  <a:pt x="1400" y="1400"/>
                </a:lnTo>
                <a:close/>
              </a:path>
              <a:path fill="darken" w="30649" h="21600">
                <a:moveTo>
                  <a:pt x="30649" y="0"/>
                </a:moveTo>
                <a:lnTo>
                  <a:pt x="30649" y="21600"/>
                </a:lnTo>
                <a:lnTo>
                  <a:pt x="29249" y="20200"/>
                </a:lnTo>
                <a:lnTo>
                  <a:pt x="29249" y="1400"/>
                </a:lnTo>
                <a:close/>
              </a:path>
              <a:path fill="darkenLess" w="30649" h="21600">
                <a:moveTo>
                  <a:pt x="3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9" y="20200"/>
                </a:lnTo>
                <a:close/>
              </a:path>
              <a:path fill="lighten" w="3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9" h="21600">
                <a:moveTo>
                  <a:pt x="8318" y="7493"/>
                </a:moveTo>
                <a:lnTo>
                  <a:pt x="11825" y="7493"/>
                </a:lnTo>
                <a:lnTo>
                  <a:pt x="11825" y="12828"/>
                </a:lnTo>
                <a:cubicBezTo>
                  <a:pt x="11825" y="13751"/>
                  <a:pt x="12626" y="14482"/>
                  <a:pt x="13662" y="14482"/>
                </a:cubicBezTo>
                <a:lnTo>
                  <a:pt x="15324" y="14482"/>
                </a:lnTo>
                <a:cubicBezTo>
                  <a:pt x="16360" y="14482"/>
                  <a:pt x="17161" y="13751"/>
                  <a:pt x="17161" y="12828"/>
                </a:cubicBezTo>
                <a:lnTo>
                  <a:pt x="17161" y="7493"/>
                </a:lnTo>
                <a:lnTo>
                  <a:pt x="15324" y="7493"/>
                </a:lnTo>
                <a:lnTo>
                  <a:pt x="18832" y="3985"/>
                </a:lnTo>
                <a:lnTo>
                  <a:pt x="22505" y="7493"/>
                </a:lnTo>
                <a:lnTo>
                  <a:pt x="20668" y="7493"/>
                </a:lnTo>
                <a:lnTo>
                  <a:pt x="20668" y="12828"/>
                </a:lnTo>
                <a:cubicBezTo>
                  <a:pt x="20668" y="15596"/>
                  <a:pt x="18092" y="18155"/>
                  <a:pt x="15324" y="18155"/>
                </a:cubicBezTo>
                <a:lnTo>
                  <a:pt x="13662" y="18155"/>
                </a:lnTo>
                <a:cubicBezTo>
                  <a:pt x="10894" y="18155"/>
                  <a:pt x="8318" y="15596"/>
                  <a:pt x="8318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mph" presetID="8" repeatCount="2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"/>
          <p:cNvSpPr/>
          <p:nvPr/>
        </p:nvSpPr>
        <p:spPr>
          <a:xfrm>
            <a:off x="4643280" y="2205000"/>
            <a:ext cx="3241800" cy="4392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684360" y="2205000"/>
            <a:ext cx="3743280" cy="4392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643280" y="2205000"/>
            <a:ext cx="3241800" cy="4392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84360" y="2205000"/>
            <a:ext cx="3743280" cy="4392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288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квы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после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риста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685440" y="2421000"/>
            <a:ext cx="3957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                   ду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без                  зве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                   стор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                       гр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ущи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вестны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тор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гра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4643280" y="2421000"/>
            <a:ext cx="3772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рх-  сверхизыска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ж-     межинститут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б-       субинформ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з-       дезинформация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нс-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-     контриг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ртинвентар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институ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им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98100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81000"/>
              <a:gd name="textAreaBottom" fmla="*/ 927720 h 981000"/>
            </a:gdLst>
            <a:ahLst/>
            <a:rect l="textAreaLeft" t="textAreaTop" r="textAreaRight" b="textAreaBottom"/>
            <a:pathLst>
              <a:path w="21600" h="25623">
                <a:moveTo>
                  <a:pt x="0" y="0"/>
                </a:moveTo>
                <a:lnTo>
                  <a:pt x="21600" y="0"/>
                </a:lnTo>
                <a:lnTo>
                  <a:pt x="21600" y="25623"/>
                </a:lnTo>
                <a:lnTo>
                  <a:pt x="0" y="25623"/>
                </a:lnTo>
                <a:close/>
              </a:path>
              <a:path fill="lightenLess" w="21600" h="25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23">
                <a:moveTo>
                  <a:pt x="21600" y="0"/>
                </a:moveTo>
                <a:lnTo>
                  <a:pt x="21600" y="25623"/>
                </a:lnTo>
                <a:lnTo>
                  <a:pt x="20200" y="24223"/>
                </a:lnTo>
                <a:lnTo>
                  <a:pt x="20200" y="1400"/>
                </a:lnTo>
                <a:close/>
              </a:path>
              <a:path fill="darkenLess" w="21600" h="25623">
                <a:moveTo>
                  <a:pt x="21600" y="25623"/>
                </a:moveTo>
                <a:lnTo>
                  <a:pt x="0" y="25623"/>
                </a:lnTo>
                <a:lnTo>
                  <a:pt x="1400" y="24223"/>
                </a:lnTo>
                <a:lnTo>
                  <a:pt x="20200" y="24223"/>
                </a:lnTo>
                <a:close/>
              </a:path>
              <a:path fill="lighten" w="21600" h="25623">
                <a:moveTo>
                  <a:pt x="0" y="25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23"/>
                </a:lnTo>
                <a:close/>
              </a:path>
              <a:path fill="darken" w="21600" h="25623">
                <a:moveTo>
                  <a:pt x="3794" y="9504"/>
                </a:moveTo>
                <a:lnTo>
                  <a:pt x="7301" y="9504"/>
                </a:lnTo>
                <a:lnTo>
                  <a:pt x="7301" y="14839"/>
                </a:lnTo>
                <a:cubicBezTo>
                  <a:pt x="7301" y="15762"/>
                  <a:pt x="8102" y="16493"/>
                  <a:pt x="9138" y="16493"/>
                </a:cubicBezTo>
                <a:lnTo>
                  <a:pt x="10800" y="16493"/>
                </a:lnTo>
                <a:cubicBezTo>
                  <a:pt x="11836" y="16493"/>
                  <a:pt x="12636" y="15762"/>
                  <a:pt x="12636" y="14839"/>
                </a:cubicBezTo>
                <a:lnTo>
                  <a:pt x="12636" y="9504"/>
                </a:lnTo>
                <a:lnTo>
                  <a:pt x="10800" y="9504"/>
                </a:lnTo>
                <a:lnTo>
                  <a:pt x="14308" y="5996"/>
                </a:lnTo>
                <a:lnTo>
                  <a:pt x="17981" y="9504"/>
                </a:lnTo>
                <a:lnTo>
                  <a:pt x="16144" y="9504"/>
                </a:lnTo>
                <a:lnTo>
                  <a:pt x="16144" y="14839"/>
                </a:lnTo>
                <a:cubicBezTo>
                  <a:pt x="16144" y="17607"/>
                  <a:pt x="13568" y="20166"/>
                  <a:pt x="10800" y="20166"/>
                </a:cubicBezTo>
                <a:lnTo>
                  <a:pt x="9138" y="20166"/>
                </a:lnTo>
                <a:cubicBezTo>
                  <a:pt x="6370" y="20166"/>
                  <a:pt x="3794" y="17607"/>
                  <a:pt x="3794" y="14839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900000" y="1413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осле приставок, оканчивающихся на согласный, вместо И пишется Ы согласно произнош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1835280" y="2205000"/>
            <a:ext cx="136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71636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5435640" y="299736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716360" y="335772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35640" y="335772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4788000" y="3716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291280" y="371628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716360" y="407664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362560" y="4076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716360" y="4437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5435640" y="4437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716360" y="47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435640" y="479736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V="1" rot="14418000">
            <a:off x="4554360" y="4987800"/>
            <a:ext cx="7200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 rot="11903400">
            <a:off x="5408640" y="4974480"/>
            <a:ext cx="1286280" cy="10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14" y="2650"/>
                </a:moveTo>
                <a:arcTo wR="10800" hR="10800" stAng="-7860210" swAng="7495576"/>
                <a:lnTo>
                  <a:pt x="10800" y="10800"/>
                </a:lnTo>
                <a:close/>
              </a:path>
              <a:path fill="none" w="21600" h="21600">
                <a:moveTo>
                  <a:pt x="3714" y="2650"/>
                </a:moveTo>
                <a:arcTo wR="10800" hR="10800" stAng="-7860210" swAng="749557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 flipV="1" rot="14418000">
            <a:off x="4410000" y="534780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 rot="11903400">
            <a:off x="5197320" y="5393520"/>
            <a:ext cx="1286280" cy="10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14" y="2650"/>
                </a:moveTo>
                <a:arcTo wR="10800" hR="10800" stAng="-7860210" swAng="7495576"/>
                <a:lnTo>
                  <a:pt x="10800" y="10800"/>
                </a:lnTo>
                <a:close/>
              </a:path>
              <a:path fill="none" w="21600" h="21600">
                <a:moveTo>
                  <a:pt x="3714" y="2650"/>
                </a:moveTo>
                <a:arcTo wR="10800" hR="10800" stAng="-7860210" swAng="749557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643280" y="2421000"/>
            <a:ext cx="3772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ключ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рх-  сверхизыск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ж-     межинститут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б-       суб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з-       дезинформация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нс-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-     контр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ртинвент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инстит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и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6" dur="1000" autoRev="1" fill="hold"/>
                                        <p:tgtEl>
                                          <p:spTgt spid="2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702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и, как образовано слово. Поставь формулу «тот, кто». Найди букву перед суффикс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987640" y="18900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5564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к-  и  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щ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к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2987640" y="18900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859280" y="259920"/>
            <a:ext cx="50472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364000" y="260280"/>
            <a:ext cx="648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2" name=""/>
          <p:cNvGraphicFramePr/>
          <p:nvPr/>
        </p:nvGraphicFramePr>
        <p:xfrm>
          <a:off x="324000" y="2060640"/>
          <a:ext cx="8496000" cy="4346640"/>
        </p:xfrm>
        <a:graphic>
          <a:graphicData uri="http://schemas.openxmlformats.org/drawingml/2006/table">
            <a:tbl>
              <a:tblPr/>
              <a:tblGrid>
                <a:gridCol w="2781000"/>
                <a:gridCol w="2856240"/>
                <a:gridCol w="28587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ле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ё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ъез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пи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бе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ж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ле других бук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мен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ар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дов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коль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(не посла д, т, з, с, ж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т, кто грузит, - гру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з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!!!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пута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канчик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уффикс умен.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гончи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ласкательны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3" name=""/>
          <p:cNvSpPr/>
          <p:nvPr/>
        </p:nvSpPr>
        <p:spPr>
          <a:xfrm flipV="1">
            <a:off x="6084720" y="5300280"/>
            <a:ext cx="28764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372360" y="5300640"/>
            <a:ext cx="287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012000" y="5805360"/>
            <a:ext cx="28728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300720" y="5805360"/>
            <a:ext cx="28728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6156360" y="263700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щ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6156360" y="2349000"/>
            <a:ext cx="792000" cy="2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948360" y="2349360"/>
            <a:ext cx="71928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 txBox="1"/>
          <p:nvPr/>
        </p:nvSpPr>
        <p:spPr>
          <a:xfrm>
            <a:off x="1908000" y="256536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чи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1" name=""/>
          <p:cNvSpPr/>
          <p:nvPr/>
        </p:nvSpPr>
        <p:spPr>
          <a:xfrm>
            <a:off x="1547640" y="2133720"/>
            <a:ext cx="287640" cy="1726920"/>
          </a:xfrm>
          <a:custGeom>
            <a:avLst/>
            <a:gdLst>
              <a:gd name="textAreaLeft" fmla="*/ 0 w 287640"/>
              <a:gd name="textAreaRight" fmla="*/ 103680 w 28764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>
            <a:hlinkClick r:id="" action="ppaction://hlinkshowjump?jump=previousslide"/>
          </p:cNvPr>
          <p:cNvSpPr/>
          <p:nvPr/>
        </p:nvSpPr>
        <p:spPr>
          <a:xfrm>
            <a:off x="8388360" y="5877000"/>
            <a:ext cx="755640" cy="981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981000"/>
              <a:gd name="textAreaBottom" fmla="*/ 932040 h 981000"/>
            </a:gdLst>
            <a:ahLst/>
            <a:rect l="textAreaLeft" t="textAreaTop" r="textAreaRight" b="textAreaBottom"/>
            <a:pathLst>
              <a:path w="21600" h="28039">
                <a:moveTo>
                  <a:pt x="0" y="0"/>
                </a:moveTo>
                <a:lnTo>
                  <a:pt x="21600" y="0"/>
                </a:lnTo>
                <a:lnTo>
                  <a:pt x="21600" y="28039"/>
                </a:lnTo>
                <a:lnTo>
                  <a:pt x="0" y="28039"/>
                </a:lnTo>
                <a:close/>
              </a:path>
              <a:path fill="lightenLess" w="21600" h="28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39">
                <a:moveTo>
                  <a:pt x="21600" y="0"/>
                </a:moveTo>
                <a:lnTo>
                  <a:pt x="21600" y="28039"/>
                </a:lnTo>
                <a:lnTo>
                  <a:pt x="20200" y="26639"/>
                </a:lnTo>
                <a:lnTo>
                  <a:pt x="20200" y="1400"/>
                </a:lnTo>
                <a:close/>
              </a:path>
              <a:path fill="darkenLess" w="21600" h="28039">
                <a:moveTo>
                  <a:pt x="21600" y="28039"/>
                </a:moveTo>
                <a:lnTo>
                  <a:pt x="0" y="28039"/>
                </a:lnTo>
                <a:lnTo>
                  <a:pt x="1400" y="26639"/>
                </a:lnTo>
                <a:lnTo>
                  <a:pt x="20200" y="26639"/>
                </a:lnTo>
                <a:close/>
              </a:path>
              <a:path fill="lighten" w="21600" h="28039">
                <a:moveTo>
                  <a:pt x="0" y="28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39"/>
                </a:lnTo>
                <a:close/>
              </a:path>
              <a:path fill="darken" w="21600" h="28039">
                <a:moveTo>
                  <a:pt x="3794" y="10712"/>
                </a:moveTo>
                <a:lnTo>
                  <a:pt x="7301" y="10712"/>
                </a:lnTo>
                <a:lnTo>
                  <a:pt x="7301" y="16047"/>
                </a:lnTo>
                <a:cubicBezTo>
                  <a:pt x="7301" y="16970"/>
                  <a:pt x="8102" y="17701"/>
                  <a:pt x="9138" y="17701"/>
                </a:cubicBezTo>
                <a:lnTo>
                  <a:pt x="10800" y="17701"/>
                </a:lnTo>
                <a:cubicBezTo>
                  <a:pt x="11836" y="17701"/>
                  <a:pt x="12636" y="16970"/>
                  <a:pt x="12636" y="16047"/>
                </a:cubicBezTo>
                <a:lnTo>
                  <a:pt x="12636" y="10712"/>
                </a:lnTo>
                <a:lnTo>
                  <a:pt x="10800" y="10712"/>
                </a:lnTo>
                <a:lnTo>
                  <a:pt x="14308" y="7204"/>
                </a:lnTo>
                <a:lnTo>
                  <a:pt x="17981" y="10712"/>
                </a:lnTo>
                <a:lnTo>
                  <a:pt x="16144" y="10712"/>
                </a:lnTo>
                <a:lnTo>
                  <a:pt x="16144" y="16047"/>
                </a:lnTo>
                <a:cubicBezTo>
                  <a:pt x="16144" y="18815"/>
                  <a:pt x="13568" y="21374"/>
                  <a:pt x="10800" y="21374"/>
                </a:cubicBezTo>
                <a:lnTo>
                  <a:pt x="9138" y="21374"/>
                </a:lnTo>
                <a:cubicBezTo>
                  <a:pt x="6370" y="21374"/>
                  <a:pt x="3794" y="18815"/>
                  <a:pt x="3794" y="16047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й знак в глаголах повелительного накло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глаголов –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ВА -  (-ЕВА-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ЫВА  (-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действительных  причастий настоящ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страдательных причастий настоящ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литное и 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 с причаст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Две 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Н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 в суффиксах полных страдательных причастий прошедшего времени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Одна и две 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Н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 в суффиксах кратких страдательных причастий прошедшего времени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перед одной и двумя буквам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страдательных причастиях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 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Ё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 после шипящих в суффиксах страдательных причастий прошедш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 с деепричаст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Слитное и 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 с нареч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приставках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 отрицательных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 и две 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наречиях на –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О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 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после шипящих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 между частями слова в нареч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й знак после шипящих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предлогов, образованных из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предлогов, образованных от существительных с предлог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а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на конце предлогов   </a:t>
            </a:r>
            <a:r>
              <a:rPr b="1" i="1" lang="en-US" sz="1400" spc="-1" strike="noStrike">
                <a:solidFill>
                  <a:srgbClr val="ff33cc"/>
                </a:solidFill>
                <a:latin typeface="Arial"/>
              </a:rPr>
              <a:t>в течение, в продолжение, вслед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написание союзов  </a:t>
            </a:r>
            <a:r>
              <a:rPr b="1" i="1" lang="en-US" sz="1400" spc="-1" strike="noStrike">
                <a:solidFill>
                  <a:srgbClr val="ff33cc"/>
                </a:solidFill>
                <a:latin typeface="Arial"/>
              </a:rPr>
              <a:t>также, тоже, 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ное написание частиц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–Т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со сл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ное написание частицы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с глаголами в повелительном наклон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 в междомет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26"/>
          <a:stretch/>
        </p:blipFill>
        <p:spPr>
          <a:xfrm>
            <a:off x="7451640" y="3429000"/>
            <a:ext cx="1028880" cy="1276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 rot="37800">
            <a:off x="3346560" y="2563920"/>
            <a:ext cx="2519280" cy="2016000"/>
          </a:xfrm>
          <a:prstGeom prst="rect">
            <a:avLst/>
          </a:prstGeom>
          <a:ln w="0">
            <a:noFill/>
          </a:ln>
        </p:spPr>
      </p:pic>
      <p:sp>
        <p:nvSpPr>
          <p:cNvPr id="23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мени слово, поставь в род. падеж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ласный убегает                                        гласный остаё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замочка – замочек                                       ключика – ключ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сыночка – сыночек                                      мячика – мяч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рючочка – крючочек                                 носика – носи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ласные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и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в суффиксах сущ.  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, 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2700000" y="2421000"/>
            <a:ext cx="136692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2421000"/>
            <a:ext cx="165564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1763640" y="3357720"/>
            <a:ext cx="1008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ек-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6588000" y="335772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ик-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1692360" y="3141720"/>
            <a:ext cx="7189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2411280" y="3141720"/>
            <a:ext cx="50508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6516720" y="3068280"/>
            <a:ext cx="79200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7236000" y="3068640"/>
            <a:ext cx="5047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4" name="" descr=""/>
          <p:cNvPicPr/>
          <p:nvPr/>
        </p:nvPicPr>
        <p:blipFill>
          <a:blip r:embed="rId6"/>
          <a:stretch/>
        </p:blipFill>
        <p:spPr>
          <a:xfrm>
            <a:off x="8137440" y="3141720"/>
            <a:ext cx="1006560" cy="2011320"/>
          </a:xfrm>
          <a:prstGeom prst="rect">
            <a:avLst/>
          </a:prstGeom>
          <a:ln w="0">
            <a:noFill/>
          </a:ln>
        </p:spPr>
      </p:pic>
      <p:sp>
        <p:nvSpPr>
          <p:cNvPr id="2365" name=""/>
          <p:cNvSpPr/>
          <p:nvPr/>
        </p:nvSpPr>
        <p:spPr>
          <a:xfrm>
            <a:off x="1403280" y="5734080"/>
            <a:ext cx="6769080" cy="947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7" action="ppaction://hlinksldjump"/>
              </a:rPr>
              <a:t>Правописание неизменяемых суффик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8" action="ppaction://hlinksldjump"/>
              </a:rPr>
              <a:t>смотри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588000" y="717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>
            <a:hlinkClick r:id="rId9" action="ppaction://hlinksldjump"/>
          </p:cNvPr>
          <p:cNvSpPr/>
          <p:nvPr/>
        </p:nvSpPr>
        <p:spPr>
          <a:xfrm>
            <a:off x="8244000" y="5805360"/>
            <a:ext cx="900000" cy="105264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1052640"/>
              <a:gd name="textAreaBottom" fmla="*/ 994320 h 105264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  <a:path fill="darken" w="21600" h="25262">
                <a:moveTo>
                  <a:pt x="3794" y="9324"/>
                </a:moveTo>
                <a:lnTo>
                  <a:pt x="7301" y="9324"/>
                </a:lnTo>
                <a:lnTo>
                  <a:pt x="7301" y="14659"/>
                </a:lnTo>
                <a:cubicBezTo>
                  <a:pt x="7301" y="15582"/>
                  <a:pt x="8102" y="16313"/>
                  <a:pt x="9138" y="16313"/>
                </a:cubicBezTo>
                <a:lnTo>
                  <a:pt x="10800" y="16313"/>
                </a:lnTo>
                <a:cubicBezTo>
                  <a:pt x="11836" y="16313"/>
                  <a:pt x="12636" y="15582"/>
                  <a:pt x="12636" y="14659"/>
                </a:cubicBezTo>
                <a:lnTo>
                  <a:pt x="12636" y="9324"/>
                </a:lnTo>
                <a:lnTo>
                  <a:pt x="10800" y="9324"/>
                </a:lnTo>
                <a:lnTo>
                  <a:pt x="14308" y="5816"/>
                </a:lnTo>
                <a:lnTo>
                  <a:pt x="17981" y="9324"/>
                </a:lnTo>
                <a:lnTo>
                  <a:pt x="16144" y="9324"/>
                </a:lnTo>
                <a:lnTo>
                  <a:pt x="16144" y="14659"/>
                </a:lnTo>
                <a:cubicBezTo>
                  <a:pt x="16144" y="17427"/>
                  <a:pt x="13568" y="19986"/>
                  <a:pt x="10800" y="19986"/>
                </a:cubicBezTo>
                <a:lnTo>
                  <a:pt x="9138" y="19986"/>
                </a:lnTo>
                <a:cubicBezTo>
                  <a:pt x="6370" y="19986"/>
                  <a:pt x="3794" y="17427"/>
                  <a:pt x="3794" y="1465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>
            <a:hlinkClick r:id="rId10" action="ppaction://hlinksldjump"/>
          </p:cNvPr>
          <p:cNvSpPr/>
          <p:nvPr/>
        </p:nvSpPr>
        <p:spPr>
          <a:xfrm>
            <a:off x="8172360" y="5877000"/>
            <a:ext cx="971640" cy="981000"/>
          </a:xfrm>
          <a:custGeom>
            <a:avLst/>
            <a:gdLst>
              <a:gd name="textAreaLeft" fmla="*/ 63000 w 971640"/>
              <a:gd name="textAreaRight" fmla="*/ 909000 w 971640"/>
              <a:gd name="textAreaTop" fmla="*/ 63000 h 981000"/>
              <a:gd name="textAreaBottom" fmla="*/ 918360 h 981000"/>
            </a:gdLst>
            <a:ahLst/>
            <a:rect l="textAreaLeft" t="textAreaTop" r="textAreaRight" b="textAreaBottom"/>
            <a:pathLst>
              <a:path w="21600" h="21808">
                <a:moveTo>
                  <a:pt x="0" y="0"/>
                </a:moveTo>
                <a:lnTo>
                  <a:pt x="21600" y="0"/>
                </a:lnTo>
                <a:lnTo>
                  <a:pt x="21600" y="21808"/>
                </a:lnTo>
                <a:lnTo>
                  <a:pt x="0" y="21808"/>
                </a:lnTo>
                <a:close/>
              </a:path>
              <a:path fill="lightenLess" w="21600" h="21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8">
                <a:moveTo>
                  <a:pt x="21600" y="0"/>
                </a:moveTo>
                <a:lnTo>
                  <a:pt x="21600" y="21808"/>
                </a:lnTo>
                <a:lnTo>
                  <a:pt x="20200" y="20408"/>
                </a:lnTo>
                <a:lnTo>
                  <a:pt x="20200" y="1400"/>
                </a:lnTo>
                <a:close/>
              </a:path>
              <a:path fill="darkenLess" w="21600" h="21808">
                <a:moveTo>
                  <a:pt x="21600" y="21808"/>
                </a:moveTo>
                <a:lnTo>
                  <a:pt x="0" y="21808"/>
                </a:lnTo>
                <a:lnTo>
                  <a:pt x="1400" y="20408"/>
                </a:lnTo>
                <a:lnTo>
                  <a:pt x="20200" y="20408"/>
                </a:lnTo>
                <a:close/>
              </a:path>
              <a:path fill="lighten" w="21600" h="21808">
                <a:moveTo>
                  <a:pt x="0" y="21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8"/>
                </a:lnTo>
                <a:close/>
              </a:path>
              <a:path fill="darken" w="21600" h="21808">
                <a:moveTo>
                  <a:pt x="3794" y="7597"/>
                </a:moveTo>
                <a:lnTo>
                  <a:pt x="7301" y="7597"/>
                </a:lnTo>
                <a:lnTo>
                  <a:pt x="7301" y="12932"/>
                </a:lnTo>
                <a:cubicBezTo>
                  <a:pt x="7301" y="13855"/>
                  <a:pt x="8102" y="14586"/>
                  <a:pt x="9138" y="14586"/>
                </a:cubicBezTo>
                <a:lnTo>
                  <a:pt x="10800" y="14586"/>
                </a:lnTo>
                <a:cubicBezTo>
                  <a:pt x="11836" y="14586"/>
                  <a:pt x="12636" y="13855"/>
                  <a:pt x="12636" y="12932"/>
                </a:cubicBezTo>
                <a:lnTo>
                  <a:pt x="12636" y="7597"/>
                </a:lnTo>
                <a:lnTo>
                  <a:pt x="10800" y="7597"/>
                </a:lnTo>
                <a:lnTo>
                  <a:pt x="14308" y="4089"/>
                </a:lnTo>
                <a:lnTo>
                  <a:pt x="17981" y="7597"/>
                </a:lnTo>
                <a:lnTo>
                  <a:pt x="16144" y="7597"/>
                </a:lnTo>
                <a:lnTo>
                  <a:pt x="16144" y="12932"/>
                </a:lnTo>
                <a:cubicBezTo>
                  <a:pt x="16144" y="15700"/>
                  <a:pt x="13568" y="18259"/>
                  <a:pt x="10800" y="18259"/>
                </a:cubicBezTo>
                <a:lnTo>
                  <a:pt x="9138" y="18259"/>
                </a:lnTo>
                <a:cubicBezTo>
                  <a:pt x="6370" y="18259"/>
                  <a:pt x="3794" y="15700"/>
                  <a:pt x="3794" y="12932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11"/>
          <a:stretch/>
        </p:blipFill>
        <p:spPr>
          <a:xfrm>
            <a:off x="263520" y="4221000"/>
            <a:ext cx="733320" cy="863640"/>
          </a:xfrm>
          <a:prstGeom prst="rect">
            <a:avLst/>
          </a:prstGeom>
          <a:ln w="0">
            <a:noFill/>
          </a:ln>
        </p:spPr>
      </p:pic>
      <p:sp>
        <p:nvSpPr>
          <p:cNvPr id="2370" name=""/>
          <p:cNvSpPr txBox="1"/>
          <p:nvPr/>
        </p:nvSpPr>
        <p:spPr>
          <a:xfrm>
            <a:off x="7885080" y="4724280"/>
            <a:ext cx="576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2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9" dur="20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1000" autoRev="1" fill="hold"/>
                                        <p:tgtEl>
                                          <p:spTgt spid="2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"/>
          <p:cNvSpPr txBox="1"/>
          <p:nvPr/>
        </p:nvSpPr>
        <p:spPr>
          <a:xfrm>
            <a:off x="6478560" y="76500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i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равописание неизменяемых суффикс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179280" y="1125360"/>
            <a:ext cx="8785440" cy="5481720"/>
            <a:chOff x="179280" y="1125360"/>
            <a:chExt cx="8785440" cy="5481720"/>
          </a:xfrm>
        </p:grpSpPr>
        <p:sp>
          <p:nvSpPr>
            <p:cNvPr id="2374" name=""/>
            <p:cNvSpPr/>
            <p:nvPr/>
          </p:nvSpPr>
          <p:spPr>
            <a:xfrm>
              <a:off x="5435640" y="1628640"/>
              <a:ext cx="103824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ч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л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ч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в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с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ч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с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443640" y="1628640"/>
              <a:ext cx="252108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тзы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ч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забо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л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еснушч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тупе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ч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жел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и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в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мал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лёг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дел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люмини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равд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ест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НО: пенз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рождест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таруш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ч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оры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с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484440" y="1628640"/>
              <a:ext cx="19209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треск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тн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Ива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вн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бед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т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еж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тяж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ханж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ищ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н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меньш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упад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ниче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О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з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п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б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86080" y="1628640"/>
              <a:ext cx="19983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ег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т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ол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ест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нищ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ер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ве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одру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ер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ольш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лоды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ниче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царап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голуб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з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рем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ерёз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доро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79280" y="1628640"/>
              <a:ext cx="130680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т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сть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сть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ниче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з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05400" y="1125360"/>
              <a:ext cx="3559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6699"/>
                  </a:solidFill>
                  <a:latin typeface="Verdana"/>
                </a:rPr>
                <a:t>имён прилагательны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179280" y="1125360"/>
            <a:ext cx="5226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имен существи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79280" y="1125360"/>
            <a:ext cx="8785440" cy="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179280" y="1628640"/>
            <a:ext cx="8785440" cy="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179280" y="6607080"/>
            <a:ext cx="8785440" cy="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7928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405400" y="1125360"/>
            <a:ext cx="0" cy="548172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896472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48608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48444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644364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79280" y="1125360"/>
            <a:ext cx="5226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имен существи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7928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2" dur="3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фисное и слитное написание слов с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  и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ПОЛ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ишутся с дефисо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Л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по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гласным           пол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заглавной буквой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о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лябин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 остальны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-    в сложных словах пишется слит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класса, полмандарина, полпервого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угод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: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 чайной ложки, поллитров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6268" y="7493"/>
                </a:moveTo>
                <a:lnTo>
                  <a:pt x="9775" y="7493"/>
                </a:lnTo>
                <a:lnTo>
                  <a:pt x="9775" y="12828"/>
                </a:lnTo>
                <a:cubicBezTo>
                  <a:pt x="9775" y="13751"/>
                  <a:pt x="10576" y="14482"/>
                  <a:pt x="11612" y="14482"/>
                </a:cubicBezTo>
                <a:lnTo>
                  <a:pt x="13274" y="14482"/>
                </a:lnTo>
                <a:cubicBezTo>
                  <a:pt x="14310" y="14482"/>
                  <a:pt x="15111" y="13751"/>
                  <a:pt x="15111" y="12828"/>
                </a:cubicBezTo>
                <a:lnTo>
                  <a:pt x="15111" y="7493"/>
                </a:lnTo>
                <a:lnTo>
                  <a:pt x="13274" y="7493"/>
                </a:lnTo>
                <a:lnTo>
                  <a:pt x="16782" y="3985"/>
                </a:lnTo>
                <a:lnTo>
                  <a:pt x="20455" y="7493"/>
                </a:lnTo>
                <a:lnTo>
                  <a:pt x="18618" y="7493"/>
                </a:lnTo>
                <a:lnTo>
                  <a:pt x="18618" y="12828"/>
                </a:lnTo>
                <a:cubicBezTo>
                  <a:pt x="18618" y="15596"/>
                  <a:pt x="16042" y="18155"/>
                  <a:pt x="13274" y="18155"/>
                </a:cubicBezTo>
                <a:lnTo>
                  <a:pt x="11612" y="18155"/>
                </a:lnTo>
                <a:cubicBezTo>
                  <a:pt x="8844" y="18155"/>
                  <a:pt x="6268" y="15596"/>
                  <a:pt x="626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>
            <a:hlinkClick r:id="" action="ppaction://hlinkshowjump?jump=previousslide"/>
          </p:cNvPr>
          <p:cNvSpPr/>
          <p:nvPr/>
        </p:nvSpPr>
        <p:spPr>
          <a:xfrm>
            <a:off x="8244000" y="6137280"/>
            <a:ext cx="900000" cy="720720"/>
          </a:xfrm>
          <a:custGeom>
            <a:avLst/>
            <a:gdLst>
              <a:gd name="textAreaLeft" fmla="*/ 46440 w 900000"/>
              <a:gd name="textAreaRight" fmla="*/ 853560 w 9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6479" y="7493"/>
                </a:moveTo>
                <a:lnTo>
                  <a:pt x="9986" y="7493"/>
                </a:lnTo>
                <a:lnTo>
                  <a:pt x="9986" y="12828"/>
                </a:lnTo>
                <a:cubicBezTo>
                  <a:pt x="9986" y="13751"/>
                  <a:pt x="10787" y="14482"/>
                  <a:pt x="11823" y="14482"/>
                </a:cubicBezTo>
                <a:lnTo>
                  <a:pt x="13485" y="14482"/>
                </a:lnTo>
                <a:cubicBezTo>
                  <a:pt x="14521" y="14482"/>
                  <a:pt x="15322" y="13751"/>
                  <a:pt x="15322" y="12828"/>
                </a:cubicBezTo>
                <a:lnTo>
                  <a:pt x="15322" y="7493"/>
                </a:lnTo>
                <a:lnTo>
                  <a:pt x="13485" y="7493"/>
                </a:lnTo>
                <a:lnTo>
                  <a:pt x="16993" y="3985"/>
                </a:lnTo>
                <a:lnTo>
                  <a:pt x="20666" y="7493"/>
                </a:lnTo>
                <a:lnTo>
                  <a:pt x="18829" y="7493"/>
                </a:lnTo>
                <a:lnTo>
                  <a:pt x="18829" y="12828"/>
                </a:lnTo>
                <a:cubicBezTo>
                  <a:pt x="18829" y="15596"/>
                  <a:pt x="16253" y="18155"/>
                  <a:pt x="13485" y="18155"/>
                </a:cubicBezTo>
                <a:lnTo>
                  <a:pt x="11823" y="18155"/>
                </a:lnTo>
                <a:cubicBezTo>
                  <a:pt x="9055" y="18155"/>
                  <a:pt x="6479" y="15596"/>
                  <a:pt x="6479" y="12828"/>
                </a:cubicBezTo>
                <a:close/>
              </a:path>
            </a:pathLst>
          </a:cu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 с глагол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Не с глаголами и деепричастиями пишется раздель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Не заметил, не заметив, не был, не м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литно, если слово не употребляется без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навидеть,  негодовать,          нездоровитс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взлюбить,  недоумевать,         неможетс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волить,      неистовствовать,   неймё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8464"/>
                </a:moveTo>
                <a:lnTo>
                  <a:pt x="7301" y="8464"/>
                </a:lnTo>
                <a:lnTo>
                  <a:pt x="7301" y="13800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800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7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800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826920" y="6021360"/>
            <a:ext cx="7056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1" action="ppaction://hlinksldjump"/>
              </a:rPr>
              <a:t>Различай  не  до-  и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2" action="ppaction://hlinksldjump"/>
              </a:rPr>
              <a:t>недо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3" action="ppaction://hlinksldjump"/>
              </a:rPr>
              <a:t>-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4" action="ppaction://hlinksldjump"/>
              </a:rPr>
              <a:t>  с глагол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>
            <a:hlinkClick r:id="rId5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2916360" y="6093000"/>
            <a:ext cx="43164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419640" y="609300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780000" y="6093000"/>
            <a:ext cx="0" cy="142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4356000" y="6093000"/>
            <a:ext cx="79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148360" y="6093000"/>
            <a:ext cx="0" cy="142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до-  и   недо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33956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предели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делано не  до  конц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пить ч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смотреть филь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белить комна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везти до д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иже нормы, мало, есть антоним с пер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недовыполнить пл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брать ве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е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груз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"/>
          <p:cNvSpPr txBox="1"/>
          <p:nvPr/>
        </p:nvSpPr>
        <p:spPr>
          <a:xfrm>
            <a:off x="6012000" y="1989000"/>
            <a:ext cx="23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до-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2268360" y="5013360"/>
            <a:ext cx="1767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до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916360" y="404640"/>
            <a:ext cx="576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492360" y="40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4932360" y="333360"/>
            <a:ext cx="1440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372360" y="333360"/>
            <a:ext cx="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692360" y="189000"/>
            <a:ext cx="863640" cy="718920"/>
          </a:xfrm>
          <a:prstGeom prst="rect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268360" y="6381720"/>
            <a:ext cx="2590920" cy="44136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собо запом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>
            <a:hlinkClick r:id="rId2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собо запомни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достаёт денег, времен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 достаёт до стола = не  дотягив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: не хватает денег (мал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 хватает за под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даром  (не  напрасно) беспокоил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даром (не бесплатно) получи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противопоставл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союзом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правда, а лож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добрый, а з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далеко, а близ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слова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далеко, вовсе, ничуть, нисколько, никогда (слова с 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а далеко не краса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все не интере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чуть не знаком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кому не знаком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не употребляется без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веж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взрач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леп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заменить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синон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то неправда = (лож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интересный рассказ (скучны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громко читал (тихо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сказ неинтересен (кр. прил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Человек несчастли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916360" y="6165720"/>
            <a:ext cx="4392360" cy="441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Comic Sans MS"/>
                <a:hlinkClick r:id="rId1" action="ppaction://hlinksldjump"/>
              </a:rPr>
              <a:t>Проверь по словарю и запом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>
            <a:hlinkClick r:id="rId2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24000" y="62064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 существительными, качествен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агательными и наречиями на –о,  -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рад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долж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обяз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нам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клон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же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ви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располо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винов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огл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>
            <a:hlinkClick r:id="" action="ppaction://hlinkshowjump?jump=previous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Правописание не с наречиям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51130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Слит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употребляются без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избежно, нелеп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жно заменить синонимом без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плохо (хорошо), немн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(мало), неудачно, (безуспешно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отрицательных наречия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где, некуда, неоткуда, незаче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отымённых наречия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далеке, невдомёк, невзначай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моготу, невмочь, невпопад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терпёж, недаром =(ненапрасно)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Но: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даром =(не бесплатно)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кстати, неспроста, нехот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сочетаниях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есть кто (что, какой, где, куда и т. п.)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219640" y="836640"/>
            <a:ext cx="3673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дель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 наречиями не  -о и –е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ли есть </a:t>
            </a:r>
            <a:r>
              <a:rPr b="1" lang="ru-RU" sz="1400" spc="-1" strike="noStrike">
                <a:solidFill>
                  <a:srgbClr val="009900"/>
                </a:solidFill>
                <a:latin typeface="Verdana"/>
              </a:rPr>
              <a:t>противопос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богато, а бедн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ли есть </a:t>
            </a:r>
            <a:r>
              <a:rPr b="1" lang="ru-RU" sz="1400" spc="-1" strike="noStrike">
                <a:solidFill>
                  <a:srgbClr val="009900"/>
                </a:solidFill>
                <a:latin typeface="Verdana"/>
              </a:rPr>
              <a:t>далеко не, вовсе не, отнюдь не + слова с ни (ничуть…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наречиями не на  -О, -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здесь, не так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лностью, не совсем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жаль, не хуже (срав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т.), не сегодня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иначе, не по-моему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-товарищески, не 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ример,  не к добру, не 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пеху, не по вкусу, не под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илу, не по нутру, не с рук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в зачёт, не в мер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4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46836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туш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ебед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ж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а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фт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я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ребр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я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сключения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текл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ло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, дере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               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сключ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ветре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ар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люкв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лом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мисси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7" name=""/>
          <p:cNvSpPr txBox="1"/>
          <p:nvPr/>
        </p:nvSpPr>
        <p:spPr>
          <a:xfrm rot="20367600">
            <a:off x="6732360" y="5300640"/>
            <a:ext cx="2133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фмов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38" name=""/>
          <p:cNvSpPr/>
          <p:nvPr/>
        </p:nvSpPr>
        <p:spPr>
          <a:xfrm>
            <a:off x="611280" y="5516640"/>
            <a:ext cx="5905440" cy="360360"/>
          </a:xfrm>
          <a:prstGeom prst="rect">
            <a:avLst/>
          </a:prstGeom>
          <a:solidFill>
            <a:srgbClr val="99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68360" y="5516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т            синий, юный, румяный, св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Н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НН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в суффиксах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прилагательны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684360" y="2349360"/>
            <a:ext cx="1008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ин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ан-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ян-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755640" y="2707920"/>
            <a:ext cx="503280" cy="289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258920" y="2060640"/>
            <a:ext cx="28872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755640" y="2060640"/>
            <a:ext cx="50328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755640" y="3357720"/>
            <a:ext cx="50328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258920" y="2708280"/>
            <a:ext cx="288720" cy="289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1258920" y="3357720"/>
            <a:ext cx="28872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1979640" y="981000"/>
            <a:ext cx="863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5435640" y="836640"/>
            <a:ext cx="17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0" name=""/>
          <p:cNvSpPr txBox="1"/>
          <p:nvPr/>
        </p:nvSpPr>
        <p:spPr>
          <a:xfrm>
            <a:off x="5076720" y="227664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 + н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5003640" y="314172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енн-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4932360" y="3860640"/>
            <a:ext cx="115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онн-</a:t>
            </a:r>
            <a:endParaRPr b="0" i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427640" y="2852640"/>
            <a:ext cx="934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364000" y="2637000"/>
            <a:ext cx="0" cy="217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4500720" y="2637000"/>
            <a:ext cx="0" cy="217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796000" y="2205000"/>
            <a:ext cx="2174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6012000" y="2205000"/>
            <a:ext cx="1425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076720" y="2997000"/>
            <a:ext cx="43200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5508720" y="2997360"/>
            <a:ext cx="43344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5076720" y="3715920"/>
            <a:ext cx="43200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508720" y="3716280"/>
            <a:ext cx="43164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1476360" y="5516640"/>
            <a:ext cx="36036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51664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 rot="13522200">
            <a:off x="1942560" y="5517720"/>
            <a:ext cx="7171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 rot="12873600">
            <a:off x="2912400" y="5510160"/>
            <a:ext cx="716760" cy="7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184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18424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 rot="13522200">
            <a:off x="4047480" y="5481360"/>
            <a:ext cx="715680" cy="7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2" y="241"/>
                </a:moveTo>
                <a:arcTo wR="10800" hR="10800" stAng="-6127423" swAng="7432716"/>
                <a:lnTo>
                  <a:pt x="10800" y="10800"/>
                </a:lnTo>
                <a:close/>
              </a:path>
              <a:path fill="none" w="21600" h="21600">
                <a:moveTo>
                  <a:pt x="8532" y="241"/>
                </a:moveTo>
                <a:arcTo wR="10800" hR="10800" stAng="-6127423" swAng="7432716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 rot="13522200">
            <a:off x="5199840" y="5481360"/>
            <a:ext cx="715680" cy="7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2" y="241"/>
                </a:moveTo>
                <a:arcTo wR="10800" hR="10800" stAng="-6127423" swAng="7432716"/>
                <a:lnTo>
                  <a:pt x="10800" y="10800"/>
                </a:lnTo>
                <a:close/>
              </a:path>
              <a:path fill="none" w="21600" h="21600">
                <a:moveTo>
                  <a:pt x="8532" y="241"/>
                </a:moveTo>
                <a:arcTo wR="10800" hR="10800" stAng="-6127423" swAng="7432716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11280" y="5877000"/>
            <a:ext cx="5904000" cy="7855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нь, погода, человек   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ветр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ен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вигатель, оспа, мельница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ветр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ян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rot="19131000">
            <a:off x="6842160" y="4898520"/>
            <a:ext cx="2209680" cy="1357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1155" y="5940"/>
                </a:moveTo>
                <a:arcTo wR="-10800" hR="-10800" stAng="-9195464" swAng="-14290934"/>
                <a:lnTo>
                  <a:pt x="1586" y="16433"/>
                </a:lnTo>
                <a:arcTo wR="10800" hR="10800" stAng="8913602" swAng="14290934"/>
                <a:lnTo>
                  <a:pt x="22856" y="16875"/>
                </a:lnTo>
                <a:lnTo>
                  <a:pt x="19230" y="18071"/>
                </a:lnTo>
                <a:lnTo>
                  <a:pt x="18034" y="14445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рфограмма в корне сло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755640" y="2311560"/>
          <a:ext cx="936720" cy="403380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403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0" name=""/>
          <p:cNvGraphicFramePr/>
          <p:nvPr/>
        </p:nvGraphicFramePr>
        <p:xfrm>
          <a:off x="2124000" y="2205000"/>
          <a:ext cx="6543720" cy="4652640"/>
        </p:xfrm>
        <a:graphic>
          <a:graphicData uri="http://schemas.openxmlformats.org/drawingml/2006/table">
            <a:tbl>
              <a:tblPr/>
              <a:tblGrid>
                <a:gridCol w="1943280"/>
                <a:gridCol w="2592360"/>
                <a:gridCol w="20080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ределяемые прави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проверяемые прави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веряемые удар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лаг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ать - 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лож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и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Раст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ение –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 ро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л.                     Иск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ь –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с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ься -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1" name=""/>
          <p:cNvSpPr/>
          <p:nvPr/>
        </p:nvSpPr>
        <p:spPr>
          <a:xfrm flipH="1">
            <a:off x="2916000" y="364500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771640" y="4365720"/>
            <a:ext cx="14472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rot="1120800">
            <a:off x="2242080" y="4444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rot="1120800">
            <a:off x="2097720" y="516528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1120800">
            <a:off x="2097720" y="595764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2700000" y="5084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2700000" y="5805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21259200">
            <a:off x="6808320" y="3656880"/>
            <a:ext cx="57924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7235640" y="3645000"/>
            <a:ext cx="144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rot="21259200">
            <a:off x="6809040" y="4363200"/>
            <a:ext cx="944280" cy="35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2799361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27993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7596000" y="436572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00760" y="5157720"/>
            <a:ext cx="726840" cy="24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7380000" y="5084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716360" y="3645000"/>
            <a:ext cx="14472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795640" y="3573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4716360" y="4221000"/>
            <a:ext cx="1447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594000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4284360" y="522936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5795640" y="515772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571640" y="5805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5795640" y="587700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3347640" y="4076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3276360" y="4797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347640" y="5516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3419280" y="6237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>
            <a:hlinkClick r:id="rId10" action="ppaction://hlinksldjump"/>
          </p:cNvPr>
          <p:cNvSpPr/>
          <p:nvPr/>
        </p:nvSpPr>
        <p:spPr>
          <a:xfrm>
            <a:off x="8028000" y="6093000"/>
            <a:ext cx="1116000" cy="765000"/>
          </a:xfrm>
          <a:custGeom>
            <a:avLst/>
            <a:gdLst>
              <a:gd name="textAreaLeft" fmla="*/ 49320 w 1116000"/>
              <a:gd name="textAreaRight" fmla="*/ 1066680 w 1116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1506" h="21600">
                <a:moveTo>
                  <a:pt x="0" y="0"/>
                </a:moveTo>
                <a:lnTo>
                  <a:pt x="31506" y="0"/>
                </a:lnTo>
                <a:lnTo>
                  <a:pt x="31506" y="21600"/>
                </a:lnTo>
                <a:lnTo>
                  <a:pt x="0" y="21600"/>
                </a:lnTo>
                <a:close/>
              </a:path>
              <a:path fill="lightenLess" w="31506" h="21600">
                <a:moveTo>
                  <a:pt x="0" y="0"/>
                </a:moveTo>
                <a:lnTo>
                  <a:pt x="31506" y="0"/>
                </a:lnTo>
                <a:lnTo>
                  <a:pt x="30106" y="1400"/>
                </a:lnTo>
                <a:lnTo>
                  <a:pt x="1400" y="1400"/>
                </a:lnTo>
                <a:close/>
              </a:path>
              <a:path fill="darken" w="31506" h="21600">
                <a:moveTo>
                  <a:pt x="31506" y="0"/>
                </a:moveTo>
                <a:lnTo>
                  <a:pt x="31506" y="21600"/>
                </a:lnTo>
                <a:lnTo>
                  <a:pt x="30106" y="20200"/>
                </a:lnTo>
                <a:lnTo>
                  <a:pt x="30106" y="1400"/>
                </a:lnTo>
                <a:close/>
              </a:path>
              <a:path fill="darkenLess" w="31506" h="21600">
                <a:moveTo>
                  <a:pt x="31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6" y="20200"/>
                </a:lnTo>
                <a:close/>
              </a:path>
              <a:path fill="lighten" w="31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06" h="21600">
                <a:moveTo>
                  <a:pt x="12254" y="10800"/>
                </a:moveTo>
                <a:lnTo>
                  <a:pt x="22759" y="3794"/>
                </a:lnTo>
                <a:lnTo>
                  <a:pt x="22759" y="17806"/>
                </a:lnTo>
                <a:close/>
              </a:path>
              <a:path fill="darken" w="31506" h="21600">
                <a:moveTo>
                  <a:pt x="8746" y="3794"/>
                </a:moveTo>
                <a:lnTo>
                  <a:pt x="10409" y="3794"/>
                </a:lnTo>
                <a:lnTo>
                  <a:pt x="10409" y="17806"/>
                </a:lnTo>
                <a:lnTo>
                  <a:pt x="8746" y="17806"/>
                </a:ln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>
            <a:hlinkClick r:id="rId11" action="ppaction://hlinksldjump"/>
          </p:cNvPr>
          <p:cNvSpPr/>
          <p:nvPr/>
        </p:nvSpPr>
        <p:spPr>
          <a:xfrm>
            <a:off x="1187280" y="1341360"/>
            <a:ext cx="676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12" action="ppaction://hlinksldjump"/>
              </a:rPr>
              <a:t>Слышатся безударные гласные в корне? Алгорит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7236000" y="148428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7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6156360" y="1700280"/>
            <a:ext cx="1584360" cy="360360"/>
          </a:xfrm>
          <a:prstGeom prst="rect">
            <a:avLst/>
          </a:prstGeom>
          <a:solidFill>
            <a:srgbClr val="f2d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Н и НН в суффиксах полных причасти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92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От какого слова образовано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 существительного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лагатель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 глагола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част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Задай 4 вопро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4" name=""/>
          <p:cNvSpPr/>
          <p:nvPr/>
        </p:nvSpPr>
        <p:spPr>
          <a:xfrm>
            <a:off x="5219640" y="1557360"/>
            <a:ext cx="7192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780000" y="1916280"/>
            <a:ext cx="216036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539640" y="2421000"/>
          <a:ext cx="8218440" cy="4152960"/>
        </p:xfrm>
        <a:graphic>
          <a:graphicData uri="http://schemas.openxmlformats.org/drawingml/2006/table">
            <a:tbl>
              <a:tblPr/>
              <a:tblGrid>
                <a:gridCol w="1295640"/>
                <a:gridCol w="5903640"/>
                <a:gridCol w="101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канчивается на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ванный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ванны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Есть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приставк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кроме н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Есть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зависимое слов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сов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и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глагола, от которого слово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что сделать?) </a:t>
                      </a:r>
                      <a:r>
                        <a:rPr b="0" lang="en-US" sz="1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Запомни глаголы сов. ви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91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ли хотя бы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если </a:t>
                      </a: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 Нет          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                    печ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картофель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рганиз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ванный            не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я трава         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лугу;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шённая       свеже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я тр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дача (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т гл сов вида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                  вар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, суш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7" name=""/>
          <p:cNvSpPr txBox="1"/>
          <p:nvPr/>
        </p:nvSpPr>
        <p:spPr>
          <a:xfrm>
            <a:off x="684360" y="5013360"/>
            <a:ext cx="86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7740720" y="479736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9" name=""/>
          <p:cNvSpPr/>
          <p:nvPr/>
        </p:nvSpPr>
        <p:spPr>
          <a:xfrm>
            <a:off x="4788000" y="4724280"/>
            <a:ext cx="0" cy="18734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4284720" y="2060640"/>
            <a:ext cx="244800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076720" y="5661000"/>
            <a:ext cx="3589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5435640" y="5661000"/>
            <a:ext cx="0" cy="14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Verdana"/>
              </a:rPr>
              <a:t>Запомни глаголы совершенного вид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Реш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Лиш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Встрет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Конч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Пуст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Куп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Обиде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Прост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Брос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Стренож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7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3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4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0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80"/>
                            </p:stCondLst>
                            <p:childTnLst>
                              <p:par>
                                <p:cTn id="1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6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7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8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280"/>
                            </p:stCondLst>
                            <p:childTnLst>
                              <p:par>
                                <p:cTn id="1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9280"/>
                            </p:stCondLst>
                            <p:childTnLst>
                              <p:par>
                                <p:cTn id="1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280"/>
                            </p:stCondLst>
                            <p:childTnLst>
                              <p:par>
                                <p:cTn id="17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4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5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6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6780"/>
                            </p:stCondLst>
                            <p:childTnLst>
                              <p:par>
                                <p:cTn id="1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20780"/>
                            </p:stCondLst>
                            <p:childTnLst>
                              <p:par>
                                <p:cTn id="1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6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7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8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25280"/>
                            </p:stCondLst>
                            <p:childTnLst>
                              <p:par>
                                <p:cTn id="1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2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3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9280"/>
                            </p:stCondLst>
                            <p:childTnLst>
                              <p:par>
                                <p:cTn id="1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8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9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0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4067280" y="1268280"/>
            <a:ext cx="4751280" cy="1081080"/>
          </a:xfrm>
          <a:prstGeom prst="wedgeEllipseCallout">
            <a:avLst>
              <a:gd name="adj1" fmla="val -98847"/>
              <a:gd name="adj2" fmla="val 268500"/>
            </a:avLst>
          </a:prstGeom>
          <a:solidFill>
            <a:srgbClr val="ebf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Мошенник украл у труже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 смышлёного меха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 гостинице одну «эн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Правописание </a:t>
            </a:r>
            <a:r>
              <a:rPr b="0" lang="ru-RU" sz="44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 и </a:t>
            </a:r>
            <a:r>
              <a:rPr b="0" lang="ru-RU" sz="4400" spc="-1" strike="noStrike">
                <a:solidFill>
                  <a:srgbClr val="cc0000"/>
                </a:solidFill>
                <a:latin typeface="Verdana"/>
              </a:rPr>
              <a:t>нн</a:t>
            </a:r>
            <a:br>
              <a:rPr sz="4400"/>
            </a:b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Рифмов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90" name="" descr=""/>
          <p:cNvPicPr/>
          <p:nvPr/>
        </p:nvPicPr>
        <p:blipFill>
          <a:blip r:embed="rId1"/>
          <a:stretch/>
        </p:blipFill>
        <p:spPr>
          <a:xfrm>
            <a:off x="0" y="4687920"/>
            <a:ext cx="2192400" cy="2170080"/>
          </a:xfrm>
          <a:prstGeom prst="rect">
            <a:avLst/>
          </a:prstGeom>
          <a:ln w="0">
            <a:noFill/>
          </a:ln>
        </p:spPr>
      </p:pic>
      <p:sp>
        <p:nvSpPr>
          <p:cNvPr id="2491" name=""/>
          <p:cNvSpPr/>
          <p:nvPr/>
        </p:nvSpPr>
        <p:spPr>
          <a:xfrm>
            <a:off x="3419640" y="2637000"/>
            <a:ext cx="5724360" cy="1511280"/>
          </a:xfrm>
          <a:prstGeom prst="wedgeEllipseCallout">
            <a:avLst>
              <a:gd name="adj1" fmla="val -79921"/>
              <a:gd name="adj2" fmla="val 102731"/>
            </a:avLst>
          </a:prstGeom>
          <a:solidFill>
            <a:srgbClr val="edfad2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рошенный, данный и лишён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щенный, купленный и решё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ть без приставки, но соверше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ид, поэтому две «эн» сто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340000" y="4365720"/>
            <a:ext cx="3527280" cy="1150920"/>
          </a:xfrm>
          <a:prstGeom prst="wedgeRectCallout">
            <a:avLst>
              <a:gd name="adj1" fmla="val -71694"/>
              <a:gd name="adj2" fmla="val 36759"/>
            </a:avLst>
          </a:prstGeom>
          <a:solidFill>
            <a:srgbClr val="f2dffd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вященный и желан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гаданный, нежда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рименяя правил знань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иши две «эн» без колебан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rot="10800000">
            <a:off x="2268000" y="5733720"/>
            <a:ext cx="6480360" cy="863640"/>
          </a:xfrm>
          <a:prstGeom prst="wedgeRoundRectCallout">
            <a:avLst>
              <a:gd name="adj1" fmla="val 61046"/>
              <a:gd name="adj2" fmla="val 67462"/>
              <a:gd name="adj3" fmla="val 16667"/>
            </a:avLst>
          </a:prstGeom>
          <a:solidFill>
            <a:srgbClr val="99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то смышлёный, жёваный, приданое и кованый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помнить можно без труда, что в них одна лишь «эн» всег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79280" y="1341360"/>
            <a:ext cx="3024360" cy="1871640"/>
          </a:xfrm>
          <a:prstGeom prst="wedgeRoundRectCallout">
            <a:avLst>
              <a:gd name="adj1" fmla="val -11995"/>
              <a:gd name="adj2" fmla="val 162296"/>
              <a:gd name="adj3" fmla="val 16667"/>
            </a:avLst>
          </a:prstGeom>
          <a:solidFill>
            <a:srgbClr val="ffff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виной, зелёный, синий, рья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Юный, пряный и румя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десь ты суффикс не ищ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 одну лишь «эн» пиш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Н – НН в производных фор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324000" y="907560"/>
            <a:ext cx="8820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адай вопрос. Определи часть реч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ТО?   ЧТО?                  КАК?                            КАКОВ(А, О, Ы)?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ожно ли заменить глаголом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кое                        кратк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столько Н, сколько                            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ичастие            прилагательно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производной                            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+ сущ. в твор. п.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(есть синоним-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рме)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веча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мест. в твор. п.          прилагательное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путаница </a:t>
            </a:r>
            <a:r>
              <a:rPr b="0" i="1" lang="ru-RU" sz="2000" spc="-1" strike="noStrike" u="sng">
                <a:solidFill>
                  <a:srgbClr val="292929"/>
                </a:solidFill>
                <a:uFillTx/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от путаны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)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путано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чем-то, кем-то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ассеянность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рассеянно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столько Н, сколько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от рассеянны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)                                     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 полной форме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емена рассеяны;   поля пустын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о полю (кем-то,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ем-то) (кто-то рассеял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684360" y="220500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Сущ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2843280" y="2276640"/>
            <a:ext cx="15336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нареч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2500" name=""/>
          <p:cNvSpPr/>
          <p:nvPr/>
        </p:nvSpPr>
        <p:spPr>
          <a:xfrm rot="16200000">
            <a:off x="2159640" y="800640"/>
            <a:ext cx="720720" cy="3961080"/>
          </a:xfrm>
          <a:custGeom>
            <a:avLst/>
            <a:gdLst>
              <a:gd name="textAreaLeft" fmla="*/ 460440 w 720720"/>
              <a:gd name="textAreaRight" fmla="*/ 721080 w 72072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4"/>
                </a:lnTo>
                <a:cubicBezTo>
                  <a:pt x="10800" y="9964"/>
                  <a:pt x="5400" y="10864"/>
                  <a:pt x="0" y="10864"/>
                </a:cubicBezTo>
                <a:cubicBezTo>
                  <a:pt x="5400" y="10864"/>
                  <a:pt x="10800" y="11764"/>
                  <a:pt x="10800" y="1266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 rot="990000">
            <a:off x="1550520" y="2604960"/>
            <a:ext cx="8636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, н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2" name=""/>
          <p:cNvSpPr/>
          <p:nvPr/>
        </p:nvSpPr>
        <p:spPr>
          <a:xfrm>
            <a:off x="1187280" y="1989000"/>
            <a:ext cx="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419640" y="191628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6011640" y="2349360"/>
            <a:ext cx="64764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732720" y="2349360"/>
            <a:ext cx="64764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5435640" y="2565360"/>
            <a:ext cx="42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7451640" y="249228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580000" y="4941720"/>
            <a:ext cx="0" cy="4320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5435640" y="537372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7236000" y="4581360"/>
            <a:ext cx="93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, н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32000" y="4149720"/>
            <a:ext cx="1368720" cy="12952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250920" y="1557360"/>
            <a:ext cx="4248000" cy="511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500720" y="1557360"/>
            <a:ext cx="4427280" cy="511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588000" y="2492280"/>
            <a:ext cx="432000" cy="3745080"/>
          </a:xfrm>
          <a:custGeom>
            <a:avLst/>
            <a:gdLst/>
            <a:ahLst/>
            <a:rect l="l" t="t" r="r" b="b"/>
            <a:pathLst>
              <a:path w="302" h="2404">
                <a:moveTo>
                  <a:pt x="30" y="0"/>
                </a:moveTo>
                <a:cubicBezTo>
                  <a:pt x="15" y="809"/>
                  <a:pt x="0" y="1618"/>
                  <a:pt x="30" y="1951"/>
                </a:cubicBezTo>
                <a:cubicBezTo>
                  <a:pt x="60" y="2284"/>
                  <a:pt x="167" y="1921"/>
                  <a:pt x="212" y="1996"/>
                </a:cubicBezTo>
                <a:cubicBezTo>
                  <a:pt x="257" y="2071"/>
                  <a:pt x="279" y="2237"/>
                  <a:pt x="302" y="24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7020000" y="6165720"/>
            <a:ext cx="1152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539640" cy="692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92280"/>
              <a:gd name="textAreaBottom" fmla="*/ 657360 h 692280"/>
            </a:gdLst>
            <a:ahLst/>
            <a:rect l="textAreaLeft" t="textAreaTop" r="textAreaRight" b="textAreaBottom"/>
            <a:pathLst>
              <a:path w="21600" h="27706">
                <a:moveTo>
                  <a:pt x="0" y="0"/>
                </a:moveTo>
                <a:lnTo>
                  <a:pt x="21600" y="0"/>
                </a:lnTo>
                <a:lnTo>
                  <a:pt x="21600" y="27706"/>
                </a:lnTo>
                <a:lnTo>
                  <a:pt x="0" y="27706"/>
                </a:lnTo>
                <a:close/>
              </a:path>
              <a:path fill="lightenLess" w="21600" h="27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06">
                <a:moveTo>
                  <a:pt x="21600" y="0"/>
                </a:moveTo>
                <a:lnTo>
                  <a:pt x="21600" y="27706"/>
                </a:lnTo>
                <a:lnTo>
                  <a:pt x="20200" y="26306"/>
                </a:lnTo>
                <a:lnTo>
                  <a:pt x="20200" y="1400"/>
                </a:lnTo>
                <a:close/>
              </a:path>
              <a:path fill="darkenLess" w="21600" h="27706">
                <a:moveTo>
                  <a:pt x="21600" y="27706"/>
                </a:moveTo>
                <a:lnTo>
                  <a:pt x="0" y="27706"/>
                </a:lnTo>
                <a:lnTo>
                  <a:pt x="1400" y="26306"/>
                </a:lnTo>
                <a:lnTo>
                  <a:pt x="20200" y="26306"/>
                </a:lnTo>
                <a:close/>
              </a:path>
              <a:path fill="lighten" w="21600" h="27706">
                <a:moveTo>
                  <a:pt x="0" y="27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06"/>
                </a:lnTo>
                <a:close/>
              </a:path>
              <a:path fill="darken" w="21600" h="27706">
                <a:moveTo>
                  <a:pt x="3794" y="10545"/>
                </a:moveTo>
                <a:lnTo>
                  <a:pt x="7301" y="10545"/>
                </a:lnTo>
                <a:lnTo>
                  <a:pt x="7301" y="15881"/>
                </a:lnTo>
                <a:cubicBezTo>
                  <a:pt x="7301" y="16803"/>
                  <a:pt x="8102" y="17534"/>
                  <a:pt x="9138" y="17534"/>
                </a:cubicBezTo>
                <a:lnTo>
                  <a:pt x="10800" y="17534"/>
                </a:lnTo>
                <a:cubicBezTo>
                  <a:pt x="11836" y="17534"/>
                  <a:pt x="12636" y="16803"/>
                  <a:pt x="12636" y="15881"/>
                </a:cubicBezTo>
                <a:lnTo>
                  <a:pt x="12636" y="10545"/>
                </a:lnTo>
                <a:lnTo>
                  <a:pt x="10800" y="10545"/>
                </a:lnTo>
                <a:lnTo>
                  <a:pt x="14308" y="7038"/>
                </a:lnTo>
                <a:lnTo>
                  <a:pt x="17981" y="10545"/>
                </a:lnTo>
                <a:lnTo>
                  <a:pt x="16144" y="10545"/>
                </a:lnTo>
                <a:lnTo>
                  <a:pt x="16144" y="15881"/>
                </a:lnTo>
                <a:cubicBezTo>
                  <a:pt x="16144" y="18649"/>
                  <a:pt x="13568" y="21207"/>
                  <a:pt x="10800" y="21207"/>
                </a:cubicBezTo>
                <a:lnTo>
                  <a:pt x="9138" y="21207"/>
                </a:lnTo>
                <a:cubicBezTo>
                  <a:pt x="6370" y="21207"/>
                  <a:pt x="3794" y="18649"/>
                  <a:pt x="3794" y="15881"/>
                </a:cubicBezTo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0" y="5734080"/>
            <a:ext cx="4356000" cy="107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В наречиях на –о и –е пиш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столько же Н, сколько в прилагател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от которых они образова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75438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Правописание не с причастиями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слово употребляется без 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 Краткая или полная фор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ратка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пол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 Есть ли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отивопоставление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       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 Есть ли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висимое слов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  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63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1835280" y="2060640"/>
            <a:ext cx="93816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843280" y="2060640"/>
            <a:ext cx="108108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332000" y="2565360"/>
            <a:ext cx="0" cy="35892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250920" y="2997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2124000" y="3860640"/>
            <a:ext cx="15112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059280" y="3429000"/>
            <a:ext cx="0" cy="35892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3276360" y="2997360"/>
            <a:ext cx="1150920" cy="21564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4643280" y="2997360"/>
            <a:ext cx="1008360" cy="21564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5435640" y="4292640"/>
            <a:ext cx="0" cy="35856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 txBox="1"/>
          <p:nvPr/>
        </p:nvSpPr>
        <p:spPr>
          <a:xfrm>
            <a:off x="4427640" y="4653000"/>
            <a:ext cx="15112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812000" y="4292640"/>
            <a:ext cx="0" cy="36036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7164360" y="4724280"/>
            <a:ext cx="11383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-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итн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508720" y="3860640"/>
            <a:ext cx="86184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6948360" y="3860640"/>
            <a:ext cx="79236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79280" y="3860640"/>
            <a:ext cx="1944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чит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смотр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раскры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1979640" y="472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2050920" y="4869000"/>
            <a:ext cx="28083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читан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а просмотр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опубликован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а в рукопи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72000" y="5421240"/>
            <a:ext cx="2376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ещё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очитан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время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публикова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804000" y="566100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прочита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50920" y="3716280"/>
            <a:ext cx="1800000" cy="1657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2124000" y="4869000"/>
            <a:ext cx="2303640" cy="18000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4643280" y="5516640"/>
            <a:ext cx="2160720" cy="134136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877080" y="5661000"/>
            <a:ext cx="1871640" cy="79236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Сложные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9800" cy="561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утся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 дефи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ы путём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ых слов (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ить союз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ыпукло – вог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шахматно – ша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ы от сущ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пишутся с дефи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веро – запад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ма - ат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ют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зжелта – крас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бледно – розо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синевато - 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48320" y="907920"/>
            <a:ext cx="4316400" cy="5545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шутся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ли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если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ы сли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восочетания в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ечнозелёный, долгоиграю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лухонемой, белос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ервая часть таких слов – нареч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быстро, вечно, густо, высо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выше, гладко, глубоко, д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коротко, легко, много, м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мелко, ниже, остро, ред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сильно, трудно, тяжело, уз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чисто, шир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высокохудож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8388360" y="5950080"/>
            <a:ext cx="755640" cy="90792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907920"/>
              <a:gd name="textAreaBottom" fmla="*/ 858960 h 907920"/>
            </a:gdLst>
            <a:ahLst/>
            <a:rect l="textAreaLeft" t="textAreaTop" r="textAreaRight" b="textAreaBottom"/>
            <a:pathLst>
              <a:path w="21600" h="25951">
                <a:moveTo>
                  <a:pt x="0" y="0"/>
                </a:moveTo>
                <a:lnTo>
                  <a:pt x="21600" y="0"/>
                </a:lnTo>
                <a:lnTo>
                  <a:pt x="21600" y="25951"/>
                </a:lnTo>
                <a:lnTo>
                  <a:pt x="0" y="25951"/>
                </a:lnTo>
                <a:close/>
              </a:path>
              <a:path fill="lightenLess" w="21600" h="259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1">
                <a:moveTo>
                  <a:pt x="21600" y="0"/>
                </a:moveTo>
                <a:lnTo>
                  <a:pt x="21600" y="25951"/>
                </a:lnTo>
                <a:lnTo>
                  <a:pt x="20200" y="24551"/>
                </a:lnTo>
                <a:lnTo>
                  <a:pt x="20200" y="1400"/>
                </a:lnTo>
                <a:close/>
              </a:path>
              <a:path fill="darkenLess" w="21600" h="25951">
                <a:moveTo>
                  <a:pt x="21600" y="25951"/>
                </a:moveTo>
                <a:lnTo>
                  <a:pt x="0" y="25951"/>
                </a:lnTo>
                <a:lnTo>
                  <a:pt x="1400" y="24551"/>
                </a:lnTo>
                <a:lnTo>
                  <a:pt x="20200" y="24551"/>
                </a:lnTo>
                <a:close/>
              </a:path>
              <a:path fill="lighten" w="21600" h="25951">
                <a:moveTo>
                  <a:pt x="0" y="259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1"/>
                </a:lnTo>
                <a:close/>
              </a:path>
              <a:path fill="darken" w="21600" h="25951">
                <a:moveTo>
                  <a:pt x="3794" y="9668"/>
                </a:moveTo>
                <a:lnTo>
                  <a:pt x="7301" y="9668"/>
                </a:lnTo>
                <a:lnTo>
                  <a:pt x="7301" y="15003"/>
                </a:lnTo>
                <a:cubicBezTo>
                  <a:pt x="7301" y="15926"/>
                  <a:pt x="8102" y="16657"/>
                  <a:pt x="9138" y="16657"/>
                </a:cubicBezTo>
                <a:lnTo>
                  <a:pt x="10800" y="16657"/>
                </a:lnTo>
                <a:cubicBezTo>
                  <a:pt x="11836" y="16657"/>
                  <a:pt x="12636" y="15926"/>
                  <a:pt x="12636" y="15003"/>
                </a:cubicBezTo>
                <a:lnTo>
                  <a:pt x="12636" y="9668"/>
                </a:lnTo>
                <a:lnTo>
                  <a:pt x="10800" y="9668"/>
                </a:lnTo>
                <a:lnTo>
                  <a:pt x="14308" y="6160"/>
                </a:lnTo>
                <a:lnTo>
                  <a:pt x="17981" y="9668"/>
                </a:lnTo>
                <a:lnTo>
                  <a:pt x="16144" y="9668"/>
                </a:lnTo>
                <a:lnTo>
                  <a:pt x="16144" y="15003"/>
                </a:lnTo>
                <a:cubicBezTo>
                  <a:pt x="16144" y="17771"/>
                  <a:pt x="13568" y="20330"/>
                  <a:pt x="10800" y="20330"/>
                </a:cubicBezTo>
                <a:lnTo>
                  <a:pt x="9138" y="20330"/>
                </a:lnTo>
                <a:cubicBezTo>
                  <a:pt x="6370" y="20330"/>
                  <a:pt x="3794" y="17771"/>
                  <a:pt x="3794" y="15003"/>
                </a:cubicBez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2050920" y="6308640"/>
            <a:ext cx="54007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Не путай! Смотри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>
            <a:hlinkClick r:id="" action="ppaction://hlinkshowjump?jump=nextslide"/>
          </p:cNvPr>
          <p:cNvSpPr/>
          <p:nvPr/>
        </p:nvSpPr>
        <p:spPr>
          <a:xfrm>
            <a:off x="5796000" y="630864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49" h="21600">
                <a:moveTo>
                  <a:pt x="36118" y="3794"/>
                </a:moveTo>
                <a:lnTo>
                  <a:pt x="50131" y="10800"/>
                </a:lnTo>
                <a:lnTo>
                  <a:pt x="36118" y="17806"/>
                </a:ln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Не путай! Смотри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908000" y="2637000"/>
            <a:ext cx="511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общественно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пол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общественн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необходи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резк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отриц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детски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наи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абсолютн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верные  расчё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443640" y="2781360"/>
            <a:ext cx="649440" cy="2519280"/>
          </a:xfrm>
          <a:custGeom>
            <a:avLst/>
            <a:gdLst>
              <a:gd name="textAreaLeft" fmla="*/ 0 w 649440"/>
              <a:gd name="textAreaRight" fmla="*/ 234360 w 649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0"/>
                </a:lnTo>
                <a:cubicBezTo>
                  <a:pt x="10800" y="10190"/>
                  <a:pt x="16200" y="11090"/>
                  <a:pt x="21600" y="11090"/>
                </a:cubicBezTo>
                <a:cubicBezTo>
                  <a:pt x="16200" y="11090"/>
                  <a:pt x="10800" y="11990"/>
                  <a:pt x="10800" y="128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rot="10800000">
            <a:off x="1402920" y="2707920"/>
            <a:ext cx="647640" cy="2590920"/>
          </a:xfrm>
          <a:custGeom>
            <a:avLst/>
            <a:gdLst>
              <a:gd name="textAreaLeft" fmla="*/ 0 w 647640"/>
              <a:gd name="textAreaRight" fmla="*/ 234000 w 647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0"/>
                </a:lnTo>
                <a:cubicBezTo>
                  <a:pt x="10800" y="10190"/>
                  <a:pt x="16200" y="11090"/>
                  <a:pt x="21600" y="11090"/>
                </a:cubicBezTo>
                <a:cubicBezTo>
                  <a:pt x="16200" y="11090"/>
                  <a:pt x="10800" y="11990"/>
                  <a:pt x="10800" y="128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 txBox="1"/>
          <p:nvPr/>
        </p:nvSpPr>
        <p:spPr>
          <a:xfrm rot="5400000">
            <a:off x="-44280" y="3652920"/>
            <a:ext cx="2490480" cy="45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реч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2556" name=""/>
          <p:cNvSpPr txBox="1"/>
          <p:nvPr/>
        </p:nvSpPr>
        <p:spPr>
          <a:xfrm rot="5400000">
            <a:off x="5470920" y="3609360"/>
            <a:ext cx="403236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лаг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7" name="">
            <a:hlinkClick r:id="" action="ppaction://hlinkshowjump?jump=previous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3794" y="8650"/>
                </a:moveTo>
                <a:lnTo>
                  <a:pt x="7301" y="8650"/>
                </a:lnTo>
                <a:lnTo>
                  <a:pt x="7301" y="13985"/>
                </a:lnTo>
                <a:cubicBezTo>
                  <a:pt x="7301" y="14908"/>
                  <a:pt x="8102" y="15639"/>
                  <a:pt x="9138" y="15639"/>
                </a:cubicBezTo>
                <a:lnTo>
                  <a:pt x="10800" y="15639"/>
                </a:lnTo>
                <a:cubicBezTo>
                  <a:pt x="11836" y="15639"/>
                  <a:pt x="12636" y="14908"/>
                  <a:pt x="12636" y="13985"/>
                </a:cubicBezTo>
                <a:lnTo>
                  <a:pt x="12636" y="8650"/>
                </a:lnTo>
                <a:lnTo>
                  <a:pt x="10800" y="8650"/>
                </a:lnTo>
                <a:lnTo>
                  <a:pt x="14308" y="5142"/>
                </a:lnTo>
                <a:lnTo>
                  <a:pt x="17981" y="8650"/>
                </a:lnTo>
                <a:lnTo>
                  <a:pt x="16144" y="8650"/>
                </a:lnTo>
                <a:lnTo>
                  <a:pt x="16144" y="13985"/>
                </a:lnTo>
                <a:cubicBezTo>
                  <a:pt x="16144" y="16753"/>
                  <a:pt x="13568" y="19312"/>
                  <a:pt x="10800" y="19312"/>
                </a:cubicBezTo>
                <a:lnTo>
                  <a:pt x="9138" y="19312"/>
                </a:lnTo>
                <a:cubicBezTo>
                  <a:pt x="6370" y="19312"/>
                  <a:pt x="3794" y="16753"/>
                  <a:pt x="3794" y="1398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0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Правописание числитель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нце                               в середине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надцат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емнадцат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шест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 txBox="1"/>
          <p:nvPr/>
        </p:nvSpPr>
        <p:spPr>
          <a:xfrm>
            <a:off x="3851280" y="1773360"/>
            <a:ext cx="17272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1" name=""/>
          <p:cNvSpPr/>
          <p:nvPr/>
        </p:nvSpPr>
        <p:spPr>
          <a:xfrm>
            <a:off x="5651640" y="1773360"/>
            <a:ext cx="288720" cy="287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539640" y="2997360"/>
            <a:ext cx="2376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-20, 30</a:t>
            </a:r>
            <a:endParaRPr b="0" lang="en-US" sz="18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6372360" y="2421000"/>
            <a:ext cx="180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0-80,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6372360" y="350028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00-900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5" name=""/>
          <p:cNvSpPr/>
          <p:nvPr/>
        </p:nvSpPr>
        <p:spPr>
          <a:xfrm>
            <a:off x="2556000" y="5805360"/>
            <a:ext cx="59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девяносто, двести, триста, четырес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одиннадцать, миллион, миллиа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684360" y="5373720"/>
            <a:ext cx="176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7" name="">
            <a:hlinkClick r:id="" action="ppaction://hlinkshowjump?jump=previousslide"/>
          </p:cNvPr>
          <p:cNvSpPr/>
          <p:nvPr/>
        </p:nvSpPr>
        <p:spPr>
          <a:xfrm>
            <a:off x="8459640" y="5805360"/>
            <a:ext cx="684360" cy="1052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1052640"/>
              <a:gd name="textAreaBottom" fmla="*/ 1008360 h 1052640"/>
            </a:gdLst>
            <a:ahLst/>
            <a:rect l="textAreaLeft" t="textAreaTop" r="textAreaRight" b="textAreaBottom"/>
            <a:pathLst>
              <a:path w="21600" h="33218">
                <a:moveTo>
                  <a:pt x="0" y="0"/>
                </a:moveTo>
                <a:lnTo>
                  <a:pt x="21600" y="0"/>
                </a:lnTo>
                <a:lnTo>
                  <a:pt x="21600" y="33218"/>
                </a:lnTo>
                <a:lnTo>
                  <a:pt x="0" y="33218"/>
                </a:lnTo>
                <a:close/>
              </a:path>
              <a:path fill="lightenLess" w="21600" h="332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18">
                <a:moveTo>
                  <a:pt x="21600" y="0"/>
                </a:moveTo>
                <a:lnTo>
                  <a:pt x="21600" y="33218"/>
                </a:lnTo>
                <a:lnTo>
                  <a:pt x="20200" y="31818"/>
                </a:lnTo>
                <a:lnTo>
                  <a:pt x="20200" y="1400"/>
                </a:lnTo>
                <a:close/>
              </a:path>
              <a:path fill="darkenLess" w="21600" h="33218">
                <a:moveTo>
                  <a:pt x="21600" y="33218"/>
                </a:moveTo>
                <a:lnTo>
                  <a:pt x="0" y="33218"/>
                </a:lnTo>
                <a:lnTo>
                  <a:pt x="1400" y="31818"/>
                </a:lnTo>
                <a:lnTo>
                  <a:pt x="20200" y="31818"/>
                </a:lnTo>
                <a:close/>
              </a:path>
              <a:path fill="lighten" w="21600" h="33218">
                <a:moveTo>
                  <a:pt x="0" y="3321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18"/>
                </a:lnTo>
                <a:close/>
              </a:path>
              <a:path fill="darken" w="21600" h="33218">
                <a:moveTo>
                  <a:pt x="3794" y="13301"/>
                </a:moveTo>
                <a:lnTo>
                  <a:pt x="7301" y="13301"/>
                </a:lnTo>
                <a:lnTo>
                  <a:pt x="7301" y="18637"/>
                </a:lnTo>
                <a:cubicBezTo>
                  <a:pt x="7301" y="19559"/>
                  <a:pt x="8102" y="20290"/>
                  <a:pt x="9138" y="20290"/>
                </a:cubicBezTo>
                <a:lnTo>
                  <a:pt x="10800" y="20290"/>
                </a:lnTo>
                <a:cubicBezTo>
                  <a:pt x="11836" y="20290"/>
                  <a:pt x="12636" y="19559"/>
                  <a:pt x="12636" y="18637"/>
                </a:cubicBezTo>
                <a:lnTo>
                  <a:pt x="12636" y="13301"/>
                </a:lnTo>
                <a:lnTo>
                  <a:pt x="10800" y="13301"/>
                </a:lnTo>
                <a:lnTo>
                  <a:pt x="14308" y="9794"/>
                </a:lnTo>
                <a:lnTo>
                  <a:pt x="17981" y="13301"/>
                </a:lnTo>
                <a:lnTo>
                  <a:pt x="16144" y="13301"/>
                </a:lnTo>
                <a:lnTo>
                  <a:pt x="16144" y="18637"/>
                </a:lnTo>
                <a:cubicBezTo>
                  <a:pt x="16144" y="21405"/>
                  <a:pt x="13568" y="23963"/>
                  <a:pt x="10800" y="23963"/>
                </a:cubicBezTo>
                <a:lnTo>
                  <a:pt x="9138" y="23963"/>
                </a:lnTo>
                <a:cubicBezTo>
                  <a:pt x="6370" y="23963"/>
                  <a:pt x="3794" y="21405"/>
                  <a:pt x="3794" y="18637"/>
                </a:cubicBezTo>
                <a:close/>
              </a:path>
            </a:pathLst>
          </a:cu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0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7" dur="20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8" dur="1000" autoRev="1" fill="hold"/>
                                        <p:tgtEl>
                                          <p:spTgt spid="2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0" dur="10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"/>
          <p:cNvSpPr/>
          <p:nvPr/>
        </p:nvSpPr>
        <p:spPr>
          <a:xfrm>
            <a:off x="7093080" y="1268280"/>
            <a:ext cx="2050920" cy="222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о скольк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лонение числ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е числительные отвечают на вопрос </a:t>
            </a: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ва (две), три, четы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ые форм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вух, трёх, четырёх; двум, тр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тырём; два (двух), три (трёх), четы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четырёх); двумя, тремя, четырьмя; о двух, о трёх, о четырё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от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пя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вадц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тридц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клоняются как существительно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скло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сорок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евяносто, 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склонении образуют две формы: в им. и вин. п.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рок, девяносто, сто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 остальных падежах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рока, девяноста, 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склонении сложных количественных числительных от 50 и далее изменяется каждая часть слова, хотя пишутся они как одн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7596360" y="112536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596360" y="162864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596360" y="206064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7596360" y="256536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7884720" y="2997360"/>
            <a:ext cx="7164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184464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до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9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од., дат. и предл. падежах   -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372360" y="1844640"/>
            <a:ext cx="360360" cy="3603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7956720" y="404640"/>
            <a:ext cx="1008000" cy="6494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3519" h="21600">
                <a:moveTo>
                  <a:pt x="0" y="0"/>
                </a:moveTo>
                <a:lnTo>
                  <a:pt x="33519" y="0"/>
                </a:lnTo>
                <a:lnTo>
                  <a:pt x="33519" y="21600"/>
                </a:lnTo>
                <a:lnTo>
                  <a:pt x="0" y="21600"/>
                </a:lnTo>
                <a:close/>
              </a:path>
              <a:path fill="lightenLess" w="33519" h="21600">
                <a:moveTo>
                  <a:pt x="0" y="0"/>
                </a:moveTo>
                <a:lnTo>
                  <a:pt x="33519" y="0"/>
                </a:lnTo>
                <a:lnTo>
                  <a:pt x="32119" y="1400"/>
                </a:lnTo>
                <a:lnTo>
                  <a:pt x="1400" y="1400"/>
                </a:lnTo>
                <a:close/>
              </a:path>
              <a:path fill="darken" w="33519" h="21600">
                <a:moveTo>
                  <a:pt x="33519" y="0"/>
                </a:moveTo>
                <a:lnTo>
                  <a:pt x="33519" y="21600"/>
                </a:lnTo>
                <a:lnTo>
                  <a:pt x="32119" y="20200"/>
                </a:lnTo>
                <a:lnTo>
                  <a:pt x="32119" y="1400"/>
                </a:lnTo>
                <a:close/>
              </a:path>
              <a:path fill="darkenLess" w="33519" h="21600">
                <a:moveTo>
                  <a:pt x="33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9" y="20200"/>
                </a:lnTo>
                <a:close/>
              </a:path>
              <a:path fill="lighten" w="33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9" h="21600">
                <a:moveTo>
                  <a:pt x="167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3519" h="21600">
                <a:moveTo>
                  <a:pt x="167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3519" h="21600">
                <a:moveTo>
                  <a:pt x="14183" y="8224"/>
                </a:moveTo>
                <a:lnTo>
                  <a:pt x="18048" y="8224"/>
                </a:lnTo>
                <a:lnTo>
                  <a:pt x="18048" y="15221"/>
                </a:lnTo>
                <a:lnTo>
                  <a:pt x="19336" y="15221"/>
                </a:lnTo>
                <a:lnTo>
                  <a:pt x="19336" y="16144"/>
                </a:lnTo>
                <a:lnTo>
                  <a:pt x="14183" y="16144"/>
                </a:lnTo>
                <a:lnTo>
                  <a:pt x="14183" y="15221"/>
                </a:lnTo>
                <a:lnTo>
                  <a:pt x="15471" y="15221"/>
                </a:lnTo>
                <a:lnTo>
                  <a:pt x="15471" y="9129"/>
                </a:lnTo>
                <a:lnTo>
                  <a:pt x="14183" y="9129"/>
                </a:ln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2627280" y="6308640"/>
            <a:ext cx="1297080" cy="289080"/>
          </a:xfrm>
          <a:custGeom>
            <a:avLst/>
            <a:gdLst>
              <a:gd name="textAreaLeft" fmla="*/ 18720 w 1297080"/>
              <a:gd name="textAreaRight" fmla="*/ 1278360 w 1297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96824" h="21600">
                <a:moveTo>
                  <a:pt x="0" y="0"/>
                </a:moveTo>
                <a:lnTo>
                  <a:pt x="96824" y="0"/>
                </a:lnTo>
                <a:lnTo>
                  <a:pt x="96824" y="21600"/>
                </a:lnTo>
                <a:lnTo>
                  <a:pt x="0" y="21600"/>
                </a:lnTo>
                <a:close/>
              </a:path>
              <a:path fill="lightenLess" w="96824" h="21600">
                <a:moveTo>
                  <a:pt x="0" y="0"/>
                </a:moveTo>
                <a:lnTo>
                  <a:pt x="96824" y="0"/>
                </a:lnTo>
                <a:lnTo>
                  <a:pt x="95424" y="1400"/>
                </a:lnTo>
                <a:lnTo>
                  <a:pt x="1400" y="1400"/>
                </a:lnTo>
                <a:close/>
              </a:path>
              <a:path fill="darken" w="96824" h="21600">
                <a:moveTo>
                  <a:pt x="96824" y="0"/>
                </a:moveTo>
                <a:lnTo>
                  <a:pt x="96824" y="21600"/>
                </a:lnTo>
                <a:lnTo>
                  <a:pt x="95424" y="20200"/>
                </a:lnTo>
                <a:lnTo>
                  <a:pt x="95424" y="1400"/>
                </a:lnTo>
                <a:close/>
              </a:path>
              <a:path fill="darkenLess" w="96824" h="21600">
                <a:moveTo>
                  <a:pt x="96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424" y="20200"/>
                </a:lnTo>
                <a:close/>
              </a:path>
              <a:path fill="lighten" w="96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824" h="21600">
                <a:moveTo>
                  <a:pt x="41405" y="3794"/>
                </a:moveTo>
                <a:lnTo>
                  <a:pt x="55418" y="10800"/>
                </a:lnTo>
                <a:lnTo>
                  <a:pt x="41405" y="17806"/>
                </a:ln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8207280" y="621036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7493"/>
                </a:moveTo>
                <a:lnTo>
                  <a:pt x="12119" y="7493"/>
                </a:lnTo>
                <a:lnTo>
                  <a:pt x="12119" y="12828"/>
                </a:lnTo>
                <a:cubicBezTo>
                  <a:pt x="12119" y="13751"/>
                  <a:pt x="12920" y="14482"/>
                  <a:pt x="13956" y="14482"/>
                </a:cubicBezTo>
                <a:lnTo>
                  <a:pt x="15618" y="14482"/>
                </a:lnTo>
                <a:cubicBezTo>
                  <a:pt x="16654" y="14482"/>
                  <a:pt x="17454" y="13751"/>
                  <a:pt x="17454" y="12828"/>
                </a:cubicBezTo>
                <a:lnTo>
                  <a:pt x="17454" y="7493"/>
                </a:lnTo>
                <a:lnTo>
                  <a:pt x="15618" y="7493"/>
                </a:lnTo>
                <a:lnTo>
                  <a:pt x="19126" y="3985"/>
                </a:lnTo>
                <a:lnTo>
                  <a:pt x="22799" y="7493"/>
                </a:lnTo>
                <a:lnTo>
                  <a:pt x="20962" y="7493"/>
                </a:lnTo>
                <a:lnTo>
                  <a:pt x="20962" y="12828"/>
                </a:lnTo>
                <a:cubicBezTo>
                  <a:pt x="20962" y="15596"/>
                  <a:pt x="18386" y="18155"/>
                  <a:pt x="15618" y="18155"/>
                </a:cubicBezTo>
                <a:lnTo>
                  <a:pt x="13956" y="18155"/>
                </a:lnTo>
                <a:cubicBezTo>
                  <a:pt x="11188" y="18155"/>
                  <a:pt x="8612" y="15596"/>
                  <a:pt x="8612" y="12828"/>
                </a:cubicBez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яды числ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643280" y="3500280"/>
            <a:ext cx="45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Собир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означают количество предметов как одно цел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Двое, трое, четверо, оба (обе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отребляются с сущ.  1).  муж. р.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четверо учеников, трое друз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2). обозначающими детёнышей: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семеро козлят, трое котя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 3). Имеющими только форму мн. ч. или обозначающими парные предметы: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трое ножниц, двое брюк, двое перчат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076720" y="1052640"/>
            <a:ext cx="3851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рядко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ют порядковый номер при счёте: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ерв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м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двадцат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м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тысяча девятьсот девяносто тре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1125360"/>
            <a:ext cx="5184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личе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значают количество предметов или отвлечённое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Д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а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, пя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дей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, т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рёзы,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двадцать один, 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0" y="1125360"/>
            <a:ext cx="4968720" cy="17290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076720" y="1125360"/>
            <a:ext cx="3600720" cy="1944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572000" y="3573360"/>
            <a:ext cx="4392720" cy="29512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>
            <a:hlinkClick r:id="" action="ppaction://hlinkshowjump?jump=previous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79280" y="3573360"/>
            <a:ext cx="17287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Цел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сор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одиннадц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пятнадц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79280" y="3645000"/>
            <a:ext cx="1656000" cy="208764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050920" y="3573360"/>
            <a:ext cx="2521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роб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рядков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Две третьи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восемь десяты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ущ.           Сущ.        кол. чис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Ноль целых 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рядк. числ.</a:t>
            </a: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                  </a:t>
            </a: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десят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124000" y="436572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979640" y="3573360"/>
            <a:ext cx="2448000" cy="309564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059280" y="2852640"/>
            <a:ext cx="0" cy="5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971640" y="2852640"/>
            <a:ext cx="0" cy="647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788000" y="2852640"/>
            <a:ext cx="0" cy="647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116000" y="6093000"/>
            <a:ext cx="1979640" cy="5760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042920" y="6021360"/>
            <a:ext cx="2305080" cy="6314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полтора (и.в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полутора(Р. Д. Т. П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лышатся безударные гласные в корне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рь ударен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мени форму слова (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уса – 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у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дбери родственное слово (с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ить – с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бери сложносокращённое слово (к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бль – линк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проверяем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спомни происхождение слова, найди дальнего родственника (сост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ться – т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жба; бр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юра – бр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мотри словар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дующиеся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Нельзя проверить удар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писание зависит 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уквы в кор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Буквы после корн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Уда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смыс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>
            <a:hlinkClick r:id="rId5" action="ppaction://hlinksldjump"/>
          </p:cNvPr>
          <p:cNvSpPr/>
          <p:nvPr/>
        </p:nvSpPr>
        <p:spPr>
          <a:xfrm>
            <a:off x="7812000" y="5950080"/>
            <a:ext cx="1008000" cy="90792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980" h="21600">
                <a:moveTo>
                  <a:pt x="0" y="0"/>
                </a:moveTo>
                <a:lnTo>
                  <a:pt x="23980" y="0"/>
                </a:lnTo>
                <a:lnTo>
                  <a:pt x="23980" y="21600"/>
                </a:lnTo>
                <a:lnTo>
                  <a:pt x="0" y="21600"/>
                </a:lnTo>
                <a:close/>
              </a:path>
              <a:path fill="lightenLess" w="23980" h="21600">
                <a:moveTo>
                  <a:pt x="0" y="0"/>
                </a:moveTo>
                <a:lnTo>
                  <a:pt x="23980" y="0"/>
                </a:lnTo>
                <a:lnTo>
                  <a:pt x="22580" y="1400"/>
                </a:lnTo>
                <a:lnTo>
                  <a:pt x="1400" y="1400"/>
                </a:lnTo>
                <a:close/>
              </a:path>
              <a:path fill="darken" w="23980" h="21600">
                <a:moveTo>
                  <a:pt x="23980" y="0"/>
                </a:moveTo>
                <a:lnTo>
                  <a:pt x="23980" y="21600"/>
                </a:lnTo>
                <a:lnTo>
                  <a:pt x="22580" y="20200"/>
                </a:lnTo>
                <a:lnTo>
                  <a:pt x="22580" y="1400"/>
                </a:lnTo>
                <a:close/>
              </a:path>
              <a:path fill="darkenLess" w="23980" h="21600">
                <a:moveTo>
                  <a:pt x="2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0" y="20200"/>
                </a:lnTo>
                <a:close/>
              </a:path>
              <a:path fill="lighten" w="2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0" h="21600">
                <a:moveTo>
                  <a:pt x="4984" y="7493"/>
                </a:moveTo>
                <a:lnTo>
                  <a:pt x="8491" y="7493"/>
                </a:lnTo>
                <a:lnTo>
                  <a:pt x="8491" y="12828"/>
                </a:lnTo>
                <a:cubicBezTo>
                  <a:pt x="8491" y="13751"/>
                  <a:pt x="9292" y="14482"/>
                  <a:pt x="10328" y="14482"/>
                </a:cubicBezTo>
                <a:lnTo>
                  <a:pt x="11990" y="14482"/>
                </a:lnTo>
                <a:cubicBezTo>
                  <a:pt x="13026" y="14482"/>
                  <a:pt x="13826" y="13751"/>
                  <a:pt x="13826" y="12828"/>
                </a:cubicBezTo>
                <a:lnTo>
                  <a:pt x="13826" y="7493"/>
                </a:lnTo>
                <a:lnTo>
                  <a:pt x="11990" y="7493"/>
                </a:lnTo>
                <a:lnTo>
                  <a:pt x="15498" y="3985"/>
                </a:lnTo>
                <a:lnTo>
                  <a:pt x="19171" y="7493"/>
                </a:lnTo>
                <a:lnTo>
                  <a:pt x="17334" y="7493"/>
                </a:lnTo>
                <a:lnTo>
                  <a:pt x="17334" y="12828"/>
                </a:lnTo>
                <a:cubicBezTo>
                  <a:pt x="17334" y="15596"/>
                  <a:pt x="14758" y="18155"/>
                  <a:pt x="11990" y="18155"/>
                </a:cubicBezTo>
                <a:lnTo>
                  <a:pt x="10328" y="18155"/>
                </a:lnTo>
                <a:cubicBezTo>
                  <a:pt x="7560" y="18155"/>
                  <a:pt x="4984" y="15596"/>
                  <a:pt x="498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клонение сложных количественных числи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00" name=""/>
          <p:cNvGraphicFramePr/>
          <p:nvPr/>
        </p:nvGraphicFramePr>
        <p:xfrm>
          <a:off x="0" y="1827360"/>
          <a:ext cx="8964720" cy="4554360"/>
        </p:xfrm>
        <a:graphic>
          <a:graphicData uri="http://schemas.openxmlformats.org/drawingml/2006/table">
            <a:tbl>
              <a:tblPr/>
              <a:tblGrid>
                <a:gridCol w="468360"/>
                <a:gridCol w="1727280"/>
                <a:gridCol w="1439640"/>
                <a:gridCol w="1441440"/>
                <a:gridCol w="1943280"/>
                <a:gridCol w="194472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- 8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 - 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- 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ь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1" name="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5796000" y="3933720"/>
            <a:ext cx="5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1979640" y="4005360"/>
            <a:ext cx="79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описание не - 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ставь удар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д ударением                           без удар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ть ли предлог (для местоим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иши в одно слово                         пиши в три сл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екого спросить                                          не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у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го спрос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икого не спросишь                                   ни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кого не спросиш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икакая работа не нравилась                  н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какой работы 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тказывал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н здесь н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чё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900000" y="69228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с отрицательными местоимениями и нареч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1692360" y="292428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5580000" y="2852640"/>
            <a:ext cx="64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9" name=""/>
          <p:cNvSpPr/>
          <p:nvPr/>
        </p:nvSpPr>
        <p:spPr>
          <a:xfrm>
            <a:off x="5651640" y="2781360"/>
            <a:ext cx="718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372360" y="2781360"/>
            <a:ext cx="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2338560" y="2781360"/>
            <a:ext cx="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619280" y="2781360"/>
            <a:ext cx="719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>
            <a:hlinkClick r:id="" action="ppaction://hlinkshowjump?jump=previous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39640" y="5788080"/>
            <a:ext cx="4680000" cy="132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badi MT Condensed Light"/>
              </a:rPr>
              <a:t>Наречия всегда в одно слов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badi MT Condensed Light"/>
              </a:rPr>
              <a:t>нигде не остановиться, ниоткуда 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badi MT Condensed Light"/>
              </a:rPr>
              <a:t>ждал, незачем спорить, нипочём не уступл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"/>
          <p:cNvSpPr txBox="1"/>
          <p:nvPr/>
        </p:nvSpPr>
        <p:spPr>
          <a:xfrm>
            <a:off x="6804000" y="3357720"/>
            <a:ext cx="20160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о-т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971640" y="3357720"/>
            <a:ext cx="1666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т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7" name="" descr=""/>
          <p:cNvPicPr/>
          <p:nvPr/>
        </p:nvPicPr>
        <p:blipFill>
          <a:blip r:embed="rId5"/>
          <a:stretch/>
        </p:blipFill>
        <p:spPr>
          <a:xfrm>
            <a:off x="3635280" y="3141720"/>
            <a:ext cx="2160720" cy="1582560"/>
          </a:xfrm>
          <a:prstGeom prst="rect">
            <a:avLst/>
          </a:prstGeom>
          <a:ln w="0">
            <a:noFill/>
          </a:ln>
        </p:spPr>
      </p:pic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cc"/>
                </a:solidFill>
                <a:latin typeface="Arial"/>
              </a:rPr>
              <a:t>Разряды местоимений по значе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30200" y="3141720"/>
            <a:ext cx="8713800" cy="76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НЕ пишется слитно в неопределённых местоимениях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в отрицательных наречиях </a:t>
            </a: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(орф. №44, 59)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неотку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7451640" y="3500280"/>
            <a:ext cx="144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95280" y="3860640"/>
            <a:ext cx="874872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ставка кое- и суффиксы -то, -либо, -ниб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ишутся с дефисом </a:t>
            </a:r>
            <a:r>
              <a:rPr b="1" lang="ru-RU" sz="2000" spc="-1" strike="noStrike">
                <a:solidFill>
                  <a:srgbClr val="9900cc"/>
                </a:solidFill>
                <a:latin typeface="Verdana"/>
              </a:rPr>
              <a:t>(орф. № 45)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(кое-ку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я, ты, он, она, оно, мы, вы, они,(меня, тебя, нас, вас, их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вратно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прос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кто, что, какой, чей, который, каков, 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нос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кто, что, какой, чей, который, каков, 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определённы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некто, нечто, некоторый, несколько, кое-кто, кто-то, кто-либо, кто-нибудь, кое-какой, какой-то. какой-либо, какой-нибудь, сколько-то, сколько-ниб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иц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никто, ничто, никакой, ничей, некого, не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тяж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мой, твой, наш, ваш, свой, его, её,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з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тот, этот, такой, таков, с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весь, всякий, каждый, сам, самый, любой, иной,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21" dur="indefinite" restart="never" nodeType="tmRoot">
          <p:childTnLst>
            <p:seq>
              <p:cTn id="1822" dur="indefinite" nodeType="mainSeq">
                <p:childTnLst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велительное наклон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         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         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         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        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1763640" y="1773360"/>
            <a:ext cx="129564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7" name=""/>
          <p:cNvSpPr/>
          <p:nvPr/>
        </p:nvSpPr>
        <p:spPr>
          <a:xfrm>
            <a:off x="826920" y="5229360"/>
            <a:ext cx="25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скл.: ляг, ляг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иляг, приляг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76720" y="1773360"/>
            <a:ext cx="349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ложат – полож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кладут – клад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станут – встань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ют – пой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7812000" y="177336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7308720" y="227664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732720" y="321300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7596360" y="1628640"/>
            <a:ext cx="14436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7740720" y="1628640"/>
            <a:ext cx="7128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7093080" y="2133360"/>
            <a:ext cx="14436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7237440" y="2133720"/>
            <a:ext cx="7128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6516720" y="3068640"/>
            <a:ext cx="14436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661080" y="3068640"/>
            <a:ext cx="7164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572000" y="3645000"/>
            <a:ext cx="3959280" cy="2037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адо говорить: </a:t>
            </a: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полож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положь», «лож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клад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поклад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поезжай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езжай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ехай»; беги, а не «беж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55640" y="6093000"/>
            <a:ext cx="792000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Частицы пусть, пускай, да, давай + глагол изъявит. на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у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пшениц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олосится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а здравствует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разу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>
            <a:hlinkClick r:id="" action="ppaction://hlinkshowjump?jump=previousslide"/>
          </p:cNvPr>
          <p:cNvSpPr/>
          <p:nvPr/>
        </p:nvSpPr>
        <p:spPr>
          <a:xfrm>
            <a:off x="8532720" y="6021360"/>
            <a:ext cx="611280" cy="836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836640"/>
              <a:gd name="textAreaBottom" fmla="*/ 797040 h 836640"/>
            </a:gdLst>
            <a:ahLst/>
            <a:rect l="textAreaLeft" t="textAreaTop" r="textAreaRight" b="textAreaBottom"/>
            <a:pathLst>
              <a:path w="21600" h="29559">
                <a:moveTo>
                  <a:pt x="0" y="0"/>
                </a:moveTo>
                <a:lnTo>
                  <a:pt x="21600" y="0"/>
                </a:lnTo>
                <a:lnTo>
                  <a:pt x="21600" y="29559"/>
                </a:lnTo>
                <a:lnTo>
                  <a:pt x="0" y="29559"/>
                </a:lnTo>
                <a:close/>
              </a:path>
              <a:path fill="lightenLess" w="21600" h="29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9">
                <a:moveTo>
                  <a:pt x="21600" y="0"/>
                </a:moveTo>
                <a:lnTo>
                  <a:pt x="21600" y="29559"/>
                </a:lnTo>
                <a:lnTo>
                  <a:pt x="20200" y="28159"/>
                </a:lnTo>
                <a:lnTo>
                  <a:pt x="20200" y="1400"/>
                </a:lnTo>
                <a:close/>
              </a:path>
              <a:path fill="darkenLess" w="21600" h="29559">
                <a:moveTo>
                  <a:pt x="21600" y="29559"/>
                </a:moveTo>
                <a:lnTo>
                  <a:pt x="0" y="29559"/>
                </a:lnTo>
                <a:lnTo>
                  <a:pt x="1400" y="28159"/>
                </a:lnTo>
                <a:lnTo>
                  <a:pt x="20200" y="28159"/>
                </a:lnTo>
                <a:close/>
              </a:path>
              <a:path fill="lighten" w="21600" h="29559">
                <a:moveTo>
                  <a:pt x="0" y="29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9"/>
                </a:lnTo>
                <a:close/>
              </a:path>
              <a:path fill="darken" w="21600" h="29559">
                <a:moveTo>
                  <a:pt x="3794" y="11472"/>
                </a:moveTo>
                <a:lnTo>
                  <a:pt x="7301" y="11472"/>
                </a:lnTo>
                <a:lnTo>
                  <a:pt x="7301" y="16807"/>
                </a:lnTo>
                <a:cubicBezTo>
                  <a:pt x="7301" y="17730"/>
                  <a:pt x="8102" y="18461"/>
                  <a:pt x="9138" y="18461"/>
                </a:cubicBezTo>
                <a:lnTo>
                  <a:pt x="10800" y="18461"/>
                </a:lnTo>
                <a:cubicBezTo>
                  <a:pt x="11836" y="18461"/>
                  <a:pt x="12636" y="17730"/>
                  <a:pt x="12636" y="16807"/>
                </a:cubicBezTo>
                <a:lnTo>
                  <a:pt x="12636" y="11472"/>
                </a:lnTo>
                <a:lnTo>
                  <a:pt x="10800" y="11472"/>
                </a:lnTo>
                <a:lnTo>
                  <a:pt x="14308" y="7964"/>
                </a:lnTo>
                <a:lnTo>
                  <a:pt x="17981" y="11472"/>
                </a:lnTo>
                <a:lnTo>
                  <a:pt x="16144" y="11472"/>
                </a:lnTo>
                <a:lnTo>
                  <a:pt x="16144" y="16807"/>
                </a:lnTo>
                <a:cubicBezTo>
                  <a:pt x="16144" y="19575"/>
                  <a:pt x="13568" y="22134"/>
                  <a:pt x="10800" y="22134"/>
                </a:cubicBezTo>
                <a:lnTo>
                  <a:pt x="9138" y="22134"/>
                </a:lnTo>
                <a:cubicBezTo>
                  <a:pt x="6370" y="22134"/>
                  <a:pt x="3794" y="19575"/>
                  <a:pt x="3794" y="16807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Правописание безударных суффиксов глаголов –ова-,  -ева-,  -ыва-,  -ива-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643" name=""/>
          <p:cNvGraphicFramePr/>
          <p:nvPr/>
        </p:nvGraphicFramePr>
        <p:xfrm>
          <a:off x="755640" y="1773360"/>
          <a:ext cx="8064000" cy="4632120"/>
        </p:xfrm>
        <a:graphic>
          <a:graphicData uri="http://schemas.openxmlformats.org/drawingml/2006/table">
            <a:tbl>
              <a:tblPr/>
              <a:tblGrid>
                <a:gridCol w="1879560"/>
                <a:gridCol w="2420280"/>
                <a:gridCol w="3764160"/>
              </a:tblGrid>
              <a:tr h="78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авь глагол в форме 1 лица наст. или буд. времени (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что оканчивается глагол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 -ую, (-ю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–ываю  (-ива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ы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ве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коман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оман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ыва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докла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ы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ваю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ве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!!! –иров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!!! - изиров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з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ал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з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 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дывать, проведывать, наведыватьс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дыва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4" name="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8464"/>
                </a:moveTo>
                <a:lnTo>
                  <a:pt x="7301" y="8464"/>
                </a:lnTo>
                <a:lnTo>
                  <a:pt x="7301" y="13800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800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7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800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800"/>
                </a:cubicBezTo>
                <a:close/>
              </a:path>
            </a:pathLst>
          </a:custGeom>
          <a:noFill/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Правописание безударных суффиксов в причастиях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6" name=""/>
          <p:cNvSpPr/>
          <p:nvPr/>
        </p:nvSpPr>
        <p:spPr>
          <a:xfrm>
            <a:off x="6227640" y="836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рф. № 50, 51, 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7" name=""/>
          <p:cNvGraphicFramePr/>
          <p:nvPr/>
        </p:nvGraphicFramePr>
        <p:xfrm>
          <a:off x="324000" y="1268280"/>
          <a:ext cx="8640720" cy="5670720"/>
        </p:xfrm>
        <a:graphic>
          <a:graphicData uri="http://schemas.openxmlformats.org/drawingml/2006/table">
            <a:tbl>
              <a:tblPr/>
              <a:tblGrid>
                <a:gridCol w="2160360"/>
                <a:gridCol w="1871640"/>
                <a:gridCol w="2160720"/>
                <a:gridCol w="2448000"/>
              </a:tblGrid>
              <a:tr h="455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рем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ас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оящ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ед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преде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пряжение глагола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которого причас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мотри на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букву перед  - т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 напиши её перед суф. причаст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сп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 сп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я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 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-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-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 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вш-   -ивш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о только –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ыш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бл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+  искл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лющ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езжу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ждущ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им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старого г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ит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–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нч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нч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ид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, н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 -ить           -енн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ов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в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ж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8" name=""/>
          <p:cNvSpPr/>
          <p:nvPr/>
        </p:nvSpPr>
        <p:spPr>
          <a:xfrm>
            <a:off x="7524720" y="22050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rot="16200000">
            <a:off x="4930560" y="2638080"/>
            <a:ext cx="360360" cy="1366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rot="16200000">
            <a:off x="7235640" y="2638080"/>
            <a:ext cx="360360" cy="1366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7524720" y="5589720"/>
            <a:ext cx="503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1187280" y="321300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1476360" y="321300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1114560" y="350028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1403280" y="350028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1114560" y="386064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1403280" y="386064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3130560" y="321300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419640" y="321300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3130560" y="350028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419640" y="350028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3130560" y="386064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419640" y="386064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V="1">
            <a:off x="471636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8592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 flipV="1">
            <a:off x="471636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85928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550872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65164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58000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5435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702000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6875640" y="3573000"/>
            <a:ext cx="1425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8850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774072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3132000" y="350028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421080" y="350028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7956720" y="393372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8245440" y="393372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4427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57056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V="1">
            <a:off x="514836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2912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521964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36256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442908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57200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673272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658800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759636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7451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7453440" y="292428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7308720" y="292392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6732720" y="292428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6588000" y="292392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Буквы О и А на конце нареч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-                     изредк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-                     досух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-                       слев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о «ок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>
            <a:hlinkClick r:id="" action="ppaction://hlinkshowjump?jump=previousslide"/>
          </p:cNvPr>
          <p:cNvSpPr/>
          <p:nvPr/>
        </p:nvSpPr>
        <p:spPr>
          <a:xfrm>
            <a:off x="8317080" y="5805360"/>
            <a:ext cx="826920" cy="1052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52640"/>
              <a:gd name="textAreaBottom" fmla="*/ 999360 h 1052640"/>
            </a:gdLst>
            <a:ahLst/>
            <a:rect l="textAreaLeft" t="textAreaTop" r="textAreaRight" b="textAreaBottom"/>
            <a:pathLst>
              <a:path w="21600" h="27493">
                <a:moveTo>
                  <a:pt x="0" y="0"/>
                </a:moveTo>
                <a:lnTo>
                  <a:pt x="21600" y="0"/>
                </a:lnTo>
                <a:lnTo>
                  <a:pt x="21600" y="27493"/>
                </a:lnTo>
                <a:lnTo>
                  <a:pt x="0" y="27493"/>
                </a:lnTo>
                <a:close/>
              </a:path>
              <a:path fill="lightenLess" w="21600" h="274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3">
                <a:moveTo>
                  <a:pt x="21600" y="0"/>
                </a:moveTo>
                <a:lnTo>
                  <a:pt x="21600" y="27493"/>
                </a:lnTo>
                <a:lnTo>
                  <a:pt x="20200" y="26093"/>
                </a:lnTo>
                <a:lnTo>
                  <a:pt x="20200" y="1400"/>
                </a:lnTo>
                <a:close/>
              </a:path>
              <a:path fill="darkenLess" w="21600" h="27493">
                <a:moveTo>
                  <a:pt x="21600" y="27493"/>
                </a:moveTo>
                <a:lnTo>
                  <a:pt x="0" y="27493"/>
                </a:lnTo>
                <a:lnTo>
                  <a:pt x="1400" y="26093"/>
                </a:lnTo>
                <a:lnTo>
                  <a:pt x="20200" y="26093"/>
                </a:lnTo>
                <a:close/>
              </a:path>
              <a:path fill="lighten" w="21600" h="27493">
                <a:moveTo>
                  <a:pt x="0" y="274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3"/>
                </a:lnTo>
                <a:close/>
              </a:path>
              <a:path fill="darken" w="21600" h="27493">
                <a:moveTo>
                  <a:pt x="3794" y="10439"/>
                </a:moveTo>
                <a:lnTo>
                  <a:pt x="7301" y="10439"/>
                </a:lnTo>
                <a:lnTo>
                  <a:pt x="7301" y="15775"/>
                </a:lnTo>
                <a:cubicBezTo>
                  <a:pt x="7301" y="16697"/>
                  <a:pt x="8102" y="17428"/>
                  <a:pt x="9138" y="17428"/>
                </a:cubicBezTo>
                <a:lnTo>
                  <a:pt x="10800" y="17428"/>
                </a:lnTo>
                <a:cubicBezTo>
                  <a:pt x="11836" y="17428"/>
                  <a:pt x="12636" y="16697"/>
                  <a:pt x="12636" y="15775"/>
                </a:cubicBezTo>
                <a:lnTo>
                  <a:pt x="12636" y="10439"/>
                </a:lnTo>
                <a:lnTo>
                  <a:pt x="10800" y="10439"/>
                </a:lnTo>
                <a:lnTo>
                  <a:pt x="14308" y="6932"/>
                </a:lnTo>
                <a:lnTo>
                  <a:pt x="17981" y="10439"/>
                </a:lnTo>
                <a:lnTo>
                  <a:pt x="16144" y="10439"/>
                </a:lnTo>
                <a:lnTo>
                  <a:pt x="16144" y="15775"/>
                </a:lnTo>
                <a:cubicBezTo>
                  <a:pt x="16144" y="18542"/>
                  <a:pt x="13568" y="21101"/>
                  <a:pt x="10800" y="21101"/>
                </a:cubicBezTo>
                <a:lnTo>
                  <a:pt x="9138" y="21101"/>
                </a:lnTo>
                <a:cubicBezTo>
                  <a:pt x="6370" y="21101"/>
                  <a:pt x="3794" y="18542"/>
                  <a:pt x="3794" y="15775"/>
                </a:cubicBezTo>
                <a:close/>
              </a:path>
            </a:pathLst>
          </a:cu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2771640" y="1916280"/>
            <a:ext cx="93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2556000" y="1484280"/>
            <a:ext cx="576000" cy="504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132000" y="1484280"/>
            <a:ext cx="576360" cy="4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979640" y="2133720"/>
            <a:ext cx="576360" cy="50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835280" y="2781360"/>
            <a:ext cx="792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1763640" y="2997000"/>
            <a:ext cx="792360" cy="502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826920" y="1700280"/>
            <a:ext cx="865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755640" y="2421000"/>
            <a:ext cx="865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620720" y="242100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684360" y="3141720"/>
            <a:ext cx="865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549440" y="314172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6659640" y="1989000"/>
            <a:ext cx="2305080" cy="181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если нареч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бразованы 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илагательны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 которых 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Этих пристав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4140360" y="4365720"/>
            <a:ext cx="396072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остальных случаях  -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ево, направо, засвет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срочно (от досрочный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чисто, зано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rot="16200000">
            <a:off x="1727640" y="1951200"/>
            <a:ext cx="682920" cy="3780000"/>
          </a:xfrm>
          <a:custGeom>
            <a:avLst/>
            <a:gdLst>
              <a:gd name="textAreaLeft" fmla="*/ 436320 w 682920"/>
              <a:gd name="textAreaRight" fmla="*/ 683280 w 682920"/>
              <a:gd name="textAreaTop" fmla="*/ 98280 h 3780000"/>
              <a:gd name="textAreaBottom" fmla="*/ 3681720 h 37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3564000" y="4149720"/>
            <a:ext cx="576360" cy="2374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496800" y="4656240"/>
            <a:ext cx="1122480" cy="1076400"/>
          </a:xfrm>
          <a:prstGeom prst="borderCallout1">
            <a:avLst>
              <a:gd name="adj1" fmla="val 29635"/>
              <a:gd name="adj2" fmla="val -1529"/>
              <a:gd name="adj3" fmla="val 2200"/>
              <a:gd name="adj4" fmla="val -1529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2484360" y="4653000"/>
            <a:ext cx="1147680" cy="1144440"/>
          </a:xfrm>
          <a:prstGeom prst="borderCallout2">
            <a:avLst>
              <a:gd name="adj1" fmla="val 18750"/>
              <a:gd name="adj2" fmla="val -8333"/>
              <a:gd name="adj3" fmla="val 9986"/>
              <a:gd name="adj4" fmla="val -17564"/>
              <a:gd name="adj5" fmla="val -8875"/>
              <a:gd name="adj6" fmla="val -29046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4067280" y="501336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4500720" y="5013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067280" y="5516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4500720" y="551664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140360" y="4365720"/>
            <a:ext cx="396072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остальных случаях  -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е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напра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засветл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очн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от досрочный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т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5076720" y="5084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510160" y="508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227640" y="5084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661080" y="508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5867280" y="558972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6300720" y="5589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4140360" y="6021360"/>
            <a:ext cx="433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573440" y="6021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219640" y="602136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653080" y="6021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51280" y="2781360"/>
            <a:ext cx="6494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Дефис между частями слова в наречия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5" name=""/>
          <p:cNvSpPr/>
          <p:nvPr/>
        </p:nvSpPr>
        <p:spPr>
          <a:xfrm>
            <a:off x="1403280" y="98100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ПО- …    -ОМУ    (-ЕМУ),    -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В-  (ВО-)…     -ЫХ  (-ИХ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КОЕ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-ТО,  -ЛИБО,  -НИБУД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СЛОЖНЫЕ НАРЕЧ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7" name="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971640" y="981000"/>
            <a:ext cx="431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979640" y="2133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1547640" y="213372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843280" y="2133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411280" y="213372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547640" y="328464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900000" y="328464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48436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77164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248436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13856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385128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84720" y="2060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3997440" y="2060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219640" y="2060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4932360" y="2060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050920" y="4076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1763640" y="4076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203640" y="4076640"/>
            <a:ext cx="4316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V="1">
            <a:off x="2771640" y="4076640"/>
            <a:ext cx="43200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643280" y="4005360"/>
            <a:ext cx="57636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4140360" y="4005360"/>
            <a:ext cx="50292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36400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507672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2195640" y="161784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- ЗИМНЕМУ, ПО - ДОБРОМУ,  ПО - ТОВАРИЩЕ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332000" y="278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- ПЕРВЫХ, ВО - ВТОРЫХ, В - ТРЕТЬИХ, В - ЧЕТВЁР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050920" y="3573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Е - КАК, КОЕ -  ГДЕ, КОЕ - КУ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1979640" y="4653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– ТО, КУДА – ЛИБО, ГДЕ – НИБУ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684360" y="551664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О – ПОМАЛУ, ЕЛЕ – ЕЛЕ, ПОДОБРУ – ПОЗДОРОВУ,  МАЛ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ЬСКИ, ЧУТЬ –ЧУТЬ, КРЕПКО – НАКРЕПКО, КАК – НИКА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Ь -  В – ТОЧЬ ;  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 ПУТАЙ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Запомн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бок о бо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с глазу на гла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один на оди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9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точка в точку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с году на го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9" name="">
            <a:hlinkClick r:id="" action="ppaction://hlinkshowjump?jump=previousslide"/>
          </p:cNvPr>
          <p:cNvSpPr/>
          <p:nvPr/>
        </p:nvSpPr>
        <p:spPr>
          <a:xfrm>
            <a:off x="8280360" y="5877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3794" y="8960"/>
                </a:moveTo>
                <a:lnTo>
                  <a:pt x="7301" y="8960"/>
                </a:lnTo>
                <a:lnTo>
                  <a:pt x="7301" y="14295"/>
                </a:lnTo>
                <a:cubicBezTo>
                  <a:pt x="7301" y="15218"/>
                  <a:pt x="8102" y="15949"/>
                  <a:pt x="9138" y="15949"/>
                </a:cubicBezTo>
                <a:lnTo>
                  <a:pt x="10800" y="15949"/>
                </a:lnTo>
                <a:cubicBezTo>
                  <a:pt x="11836" y="15949"/>
                  <a:pt x="12636" y="15218"/>
                  <a:pt x="12636" y="14295"/>
                </a:cubicBezTo>
                <a:lnTo>
                  <a:pt x="12636" y="8960"/>
                </a:lnTo>
                <a:lnTo>
                  <a:pt x="10800" y="8960"/>
                </a:lnTo>
                <a:lnTo>
                  <a:pt x="14308" y="5452"/>
                </a:lnTo>
                <a:lnTo>
                  <a:pt x="17981" y="8960"/>
                </a:lnTo>
                <a:lnTo>
                  <a:pt x="16144" y="8960"/>
                </a:lnTo>
                <a:lnTo>
                  <a:pt x="16144" y="14295"/>
                </a:lnTo>
                <a:cubicBezTo>
                  <a:pt x="16144" y="17063"/>
                  <a:pt x="13568" y="19622"/>
                  <a:pt x="10800" y="19622"/>
                </a:cubicBezTo>
                <a:lnTo>
                  <a:pt x="9138" y="19622"/>
                </a:lnTo>
                <a:cubicBezTo>
                  <a:pt x="6370" y="19622"/>
                  <a:pt x="3794" y="17063"/>
                  <a:pt x="3794" y="14295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0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4" dur="2000" fill="hold"/>
                                        <p:tgtEl>
                                          <p:spTgt spid="2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7" dur="2000" fill="hold"/>
                                        <p:tgtEl>
                                          <p:spTgt spid="2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0" dur="2000" fill="hold"/>
                                        <p:tgtEl>
                                          <p:spTgt spid="2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3" dur="2000" fill="hold"/>
                                        <p:tgtEl>
                                          <p:spTgt spid="2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6" dur="2000" fill="hold"/>
                                        <p:tgtEl>
                                          <p:spTgt spid="2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едлоги из нареч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924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ёл впереди (=перед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лонн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внутри (в) стран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вблизи (=у) школ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мотрел вслед (=з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езд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дил вокруг (=у) дом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ёл навстречу (=к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г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852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позади (=за) дом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упил наперекор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дь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оял напроти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=перед) сад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л наканун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=перед) праздни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ерх (=над) план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3" name=""/>
          <p:cNvSpPr/>
          <p:nvPr/>
        </p:nvSpPr>
        <p:spPr>
          <a:xfrm>
            <a:off x="2050920" y="8366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ишутся сли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олжительное действ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к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ч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гновенное действ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коч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гружать в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к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ть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мокашка, непромокаемый пла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лавники, плавуч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ько в словах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вец, пловчих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елать одинаковым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авня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елать ровным, гладким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вня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помнить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ё равно, поравняться, равнение, равни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О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, поровну, ровесн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">
            <a:hlinkClick r:id="" action="ppaction://hlinkshowjump?jump=previousslide"/>
          </p:cNvPr>
          <p:cNvSpPr/>
          <p:nvPr/>
        </p:nvSpPr>
        <p:spPr>
          <a:xfrm>
            <a:off x="8136000" y="6237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3" h="21600">
                <a:moveTo>
                  <a:pt x="10530" y="7493"/>
                </a:moveTo>
                <a:lnTo>
                  <a:pt x="14038" y="7493"/>
                </a:lnTo>
                <a:lnTo>
                  <a:pt x="14038" y="12828"/>
                </a:lnTo>
                <a:cubicBezTo>
                  <a:pt x="14038" y="13751"/>
                  <a:pt x="14839" y="14482"/>
                  <a:pt x="15874" y="14482"/>
                </a:cubicBezTo>
                <a:lnTo>
                  <a:pt x="17537" y="14482"/>
                </a:lnTo>
                <a:cubicBezTo>
                  <a:pt x="18572" y="14482"/>
                  <a:pt x="19373" y="13751"/>
                  <a:pt x="19373" y="12828"/>
                </a:cubicBezTo>
                <a:lnTo>
                  <a:pt x="19373" y="7493"/>
                </a:lnTo>
                <a:lnTo>
                  <a:pt x="17537" y="7493"/>
                </a:lnTo>
                <a:lnTo>
                  <a:pt x="21044" y="3985"/>
                </a:lnTo>
                <a:lnTo>
                  <a:pt x="24717" y="7493"/>
                </a:lnTo>
                <a:lnTo>
                  <a:pt x="22881" y="7493"/>
                </a:lnTo>
                <a:lnTo>
                  <a:pt x="22881" y="12828"/>
                </a:lnTo>
                <a:cubicBezTo>
                  <a:pt x="22881" y="15596"/>
                  <a:pt x="20304" y="18155"/>
                  <a:pt x="17537" y="18155"/>
                </a:cubicBezTo>
                <a:lnTo>
                  <a:pt x="15874" y="18155"/>
                </a:lnTo>
                <a:cubicBezTo>
                  <a:pt x="13107" y="18155"/>
                  <a:pt x="10530" y="15596"/>
                  <a:pt x="10530" y="12828"/>
                </a:cubicBez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едлоги из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6" name=""/>
          <p:cNvGraphicFramePr/>
          <p:nvPr/>
        </p:nvGraphicFramePr>
        <p:xfrm>
          <a:off x="179280" y="981000"/>
          <a:ext cx="8713800" cy="5472000"/>
        </p:xfrm>
        <a:graphic>
          <a:graphicData uri="http://schemas.openxmlformats.org/drawingml/2006/table">
            <a:tbl>
              <a:tblPr/>
              <a:tblGrid>
                <a:gridCol w="4318200"/>
                <a:gridCol w="43956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одно сло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два или три сло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аподоб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ар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асчё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о) поездки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л на счёт в банк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мес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за) нег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ал в место, известное все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род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стюм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уется в роде, числ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вид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из-за) недоста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и;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ть в вид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отлич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него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по причин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из-з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;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целя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зопасност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о сторо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от) друзей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сил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по, из-за) привычк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связи 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монтом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за счё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дыха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вид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з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7" name="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684360" cy="836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36640"/>
              <a:gd name="textAreaBottom" fmla="*/ 792360 h 836640"/>
            </a:gdLst>
            <a:ahLst/>
            <a:rect l="textAreaLeft" t="textAreaTop" r="textAreaRight" b="textAreaBottom"/>
            <a:pathLst>
              <a:path w="21600" h="26404">
                <a:moveTo>
                  <a:pt x="0" y="0"/>
                </a:moveTo>
                <a:lnTo>
                  <a:pt x="21600" y="0"/>
                </a:lnTo>
                <a:lnTo>
                  <a:pt x="21600" y="26404"/>
                </a:lnTo>
                <a:lnTo>
                  <a:pt x="0" y="26404"/>
                </a:lnTo>
                <a:close/>
              </a:path>
              <a:path fill="lightenLess" w="21600" h="264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4">
                <a:moveTo>
                  <a:pt x="21600" y="0"/>
                </a:moveTo>
                <a:lnTo>
                  <a:pt x="21600" y="26404"/>
                </a:lnTo>
                <a:lnTo>
                  <a:pt x="20200" y="25004"/>
                </a:lnTo>
                <a:lnTo>
                  <a:pt x="20200" y="1400"/>
                </a:lnTo>
                <a:close/>
              </a:path>
              <a:path fill="darkenLess" w="21600" h="26404">
                <a:moveTo>
                  <a:pt x="21600" y="26404"/>
                </a:moveTo>
                <a:lnTo>
                  <a:pt x="0" y="26404"/>
                </a:lnTo>
                <a:lnTo>
                  <a:pt x="1400" y="25004"/>
                </a:lnTo>
                <a:lnTo>
                  <a:pt x="20200" y="25004"/>
                </a:lnTo>
                <a:close/>
              </a:path>
              <a:path fill="lighten" w="21600" h="26404">
                <a:moveTo>
                  <a:pt x="0" y="264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4"/>
                </a:lnTo>
                <a:close/>
              </a:path>
              <a:path fill="darken" w="21600" h="26404">
                <a:moveTo>
                  <a:pt x="3794" y="9894"/>
                </a:moveTo>
                <a:lnTo>
                  <a:pt x="7301" y="9894"/>
                </a:lnTo>
                <a:lnTo>
                  <a:pt x="7301" y="15230"/>
                </a:lnTo>
                <a:cubicBezTo>
                  <a:pt x="7301" y="16152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2"/>
                  <a:pt x="12636" y="15230"/>
                </a:cubicBezTo>
                <a:lnTo>
                  <a:pt x="12636" y="9894"/>
                </a:lnTo>
                <a:lnTo>
                  <a:pt x="10800" y="9894"/>
                </a:lnTo>
                <a:lnTo>
                  <a:pt x="14308" y="6387"/>
                </a:lnTo>
                <a:lnTo>
                  <a:pt x="17981" y="9894"/>
                </a:lnTo>
                <a:lnTo>
                  <a:pt x="16144" y="9894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7093080" y="3645000"/>
            <a:ext cx="1368360" cy="111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я, суто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аса, год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уты, т. 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Если слыш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 txBox="1"/>
          <p:nvPr/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й вопрос. Определи значение и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уществительное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– предлог                                             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– раздельно, на конце  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падеж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. п.          предл. п.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долж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Е                  -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ключ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л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ал (куда?)        изменения (где?)                               (под конец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              в течении реки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? 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и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971640" y="105264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теч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долж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2" name=""/>
          <p:cNvSpPr txBox="1"/>
          <p:nvPr/>
        </p:nvSpPr>
        <p:spPr>
          <a:xfrm>
            <a:off x="4859280" y="981000"/>
            <a:ext cx="3414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аключ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ледств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3" name=""/>
          <p:cNvSpPr/>
          <p:nvPr/>
        </p:nvSpPr>
        <p:spPr>
          <a:xfrm>
            <a:off x="6948360" y="3789360"/>
            <a:ext cx="144720" cy="936720"/>
          </a:xfrm>
          <a:custGeom>
            <a:avLst/>
            <a:gdLst>
              <a:gd name="textAreaLeft" fmla="*/ 0 w 144720"/>
              <a:gd name="textAreaRight" fmla="*/ 5220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73"/>
                </a:lnTo>
                <a:cubicBezTo>
                  <a:pt x="10800" y="9173"/>
                  <a:pt x="16200" y="10073"/>
                  <a:pt x="21600" y="10073"/>
                </a:cubicBezTo>
                <a:cubicBezTo>
                  <a:pt x="16200" y="10073"/>
                  <a:pt x="10800" y="10973"/>
                  <a:pt x="10800" y="1187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39640" y="1989000"/>
            <a:ext cx="316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где? в чём? куда? во чт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мес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580000" y="1989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когда? 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859280" y="6093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ледст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= из-за) неурож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042920" y="6338880"/>
            <a:ext cx="352764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О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е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последст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95280" y="1989000"/>
            <a:ext cx="4105440" cy="424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788000" y="1989000"/>
            <a:ext cx="4105080" cy="4680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>
            <a:hlinkClick r:id="" action="ppaction://hlinkshowjump?jump=previousslide"/>
          </p:cNvPr>
          <p:cNvSpPr/>
          <p:nvPr/>
        </p:nvSpPr>
        <p:spPr>
          <a:xfrm>
            <a:off x="8532720" y="5950080"/>
            <a:ext cx="611280" cy="90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907920"/>
              <a:gd name="textAreaBottom" fmla="*/ 868320 h 907920"/>
            </a:gdLst>
            <a:ahLst/>
            <a:rect l="textAreaLeft" t="textAreaTop" r="textAreaRight" b="textAreaBottom"/>
            <a:pathLst>
              <a:path w="21600" h="32076">
                <a:moveTo>
                  <a:pt x="0" y="0"/>
                </a:moveTo>
                <a:lnTo>
                  <a:pt x="21600" y="0"/>
                </a:lnTo>
                <a:lnTo>
                  <a:pt x="21600" y="32076"/>
                </a:lnTo>
                <a:lnTo>
                  <a:pt x="0" y="32076"/>
                </a:lnTo>
                <a:close/>
              </a:path>
              <a:path fill="lightenLess" w="21600" h="32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076">
                <a:moveTo>
                  <a:pt x="21600" y="0"/>
                </a:moveTo>
                <a:lnTo>
                  <a:pt x="21600" y="32076"/>
                </a:lnTo>
                <a:lnTo>
                  <a:pt x="20200" y="30676"/>
                </a:lnTo>
                <a:lnTo>
                  <a:pt x="20200" y="1400"/>
                </a:lnTo>
                <a:close/>
              </a:path>
              <a:path fill="darkenLess" w="21600" h="32076">
                <a:moveTo>
                  <a:pt x="21600" y="32076"/>
                </a:moveTo>
                <a:lnTo>
                  <a:pt x="0" y="32076"/>
                </a:lnTo>
                <a:lnTo>
                  <a:pt x="1400" y="30676"/>
                </a:lnTo>
                <a:lnTo>
                  <a:pt x="20200" y="30676"/>
                </a:lnTo>
                <a:close/>
              </a:path>
              <a:path fill="lighten" w="21600" h="32076">
                <a:moveTo>
                  <a:pt x="0" y="32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676"/>
                </a:lnTo>
                <a:close/>
              </a:path>
              <a:path fill="darken" w="21600" h="32076">
                <a:moveTo>
                  <a:pt x="3794" y="12730"/>
                </a:moveTo>
                <a:lnTo>
                  <a:pt x="7301" y="12730"/>
                </a:lnTo>
                <a:lnTo>
                  <a:pt x="7301" y="18066"/>
                </a:lnTo>
                <a:cubicBezTo>
                  <a:pt x="7301" y="18988"/>
                  <a:pt x="8102" y="19720"/>
                  <a:pt x="9138" y="19720"/>
                </a:cubicBezTo>
                <a:lnTo>
                  <a:pt x="10800" y="19720"/>
                </a:lnTo>
                <a:cubicBezTo>
                  <a:pt x="11836" y="19720"/>
                  <a:pt x="12636" y="18988"/>
                  <a:pt x="12636" y="18066"/>
                </a:cubicBezTo>
                <a:lnTo>
                  <a:pt x="12636" y="12730"/>
                </a:lnTo>
                <a:lnTo>
                  <a:pt x="10800" y="12730"/>
                </a:lnTo>
                <a:lnTo>
                  <a:pt x="14308" y="9223"/>
                </a:lnTo>
                <a:lnTo>
                  <a:pt x="17981" y="12730"/>
                </a:lnTo>
                <a:lnTo>
                  <a:pt x="16144" y="12730"/>
                </a:lnTo>
                <a:lnTo>
                  <a:pt x="16144" y="18066"/>
                </a:lnTo>
                <a:cubicBezTo>
                  <a:pt x="16144" y="20834"/>
                  <a:pt x="13568" y="23393"/>
                  <a:pt x="10800" y="23393"/>
                </a:cubicBezTo>
                <a:lnTo>
                  <a:pt x="9138" y="23393"/>
                </a:lnTo>
                <a:cubicBezTo>
                  <a:pt x="6370" y="23393"/>
                  <a:pt x="3794" y="20834"/>
                  <a:pt x="3794" y="18066"/>
                </a:cubicBezTo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юзы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тоже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также, чт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юзы тоже, также, чтобы пишутся 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3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ай от сочет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АК Ж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речие с частиц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учился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так 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хорошо, к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О Ж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оимени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ц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То 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ово, да не так мол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ЧТО БЫ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Что бы ни сдел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получается хорош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цы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ЖЕ, Б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ущены или перест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611280" y="249228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ж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539640" y="3573360"/>
            <a:ext cx="122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кж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395280" y="4869000"/>
            <a:ext cx="1305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б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908000" y="2349360"/>
            <a:ext cx="287640" cy="1800360"/>
          </a:xfrm>
          <a:custGeom>
            <a:avLst/>
            <a:gdLst>
              <a:gd name="textAreaLeft" fmla="*/ 0 w 287640"/>
              <a:gd name="textAreaRight" fmla="*/ 10368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2700360" y="2637000"/>
            <a:ext cx="1295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2124000" y="5084640"/>
            <a:ext cx="198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для то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68360" y="4292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ец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ож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учился в институ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50920" y="63086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Чтоб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ть, надо хорошо учиться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250920" y="1341360"/>
            <a:ext cx="4321080" cy="5327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4716360" y="1341360"/>
            <a:ext cx="4176720" cy="4464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5219640" y="602136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сегда раздельно в сочет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ак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ак 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 то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что 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то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дно и то же,    то же (сам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очно так же,  всё так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 что бы то ни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2484360" y="260280"/>
            <a:ext cx="417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8" name="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6709" y="7493"/>
                </a:moveTo>
                <a:lnTo>
                  <a:pt x="10217" y="7493"/>
                </a:lnTo>
                <a:lnTo>
                  <a:pt x="10217" y="12828"/>
                </a:lnTo>
                <a:cubicBezTo>
                  <a:pt x="10217" y="13751"/>
                  <a:pt x="11018" y="14482"/>
                  <a:pt x="12053" y="14482"/>
                </a:cubicBezTo>
                <a:lnTo>
                  <a:pt x="13716" y="14482"/>
                </a:lnTo>
                <a:cubicBezTo>
                  <a:pt x="14752" y="14482"/>
                  <a:pt x="15552" y="13751"/>
                  <a:pt x="15552" y="12828"/>
                </a:cubicBezTo>
                <a:lnTo>
                  <a:pt x="15552" y="7493"/>
                </a:lnTo>
                <a:lnTo>
                  <a:pt x="13716" y="7493"/>
                </a:lnTo>
                <a:lnTo>
                  <a:pt x="17223" y="3985"/>
                </a:lnTo>
                <a:lnTo>
                  <a:pt x="20896" y="7493"/>
                </a:lnTo>
                <a:lnTo>
                  <a:pt x="19060" y="7493"/>
                </a:lnTo>
                <a:lnTo>
                  <a:pt x="19060" y="12828"/>
                </a:lnTo>
                <a:cubicBezTo>
                  <a:pt x="19060" y="15596"/>
                  <a:pt x="16484" y="18155"/>
                  <a:pt x="13716" y="18155"/>
                </a:cubicBezTo>
                <a:lnTo>
                  <a:pt x="12053" y="18155"/>
                </a:lnTo>
                <a:cubicBezTo>
                  <a:pt x="9286" y="18155"/>
                  <a:pt x="6709" y="15596"/>
                  <a:pt x="6709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0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2" dur="2000" fill="hold"/>
                                        <p:tgtEl>
                                          <p:spTgt spid="2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5" dur="2000" fill="hold"/>
                                        <p:tgtEl>
                                          <p:spTgt spid="2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8" dur="2000" fill="hold"/>
                                        <p:tgtEl>
                                          <p:spTgt spid="2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1" dur="2000" fill="hold"/>
                                        <p:tgtEl>
                                          <p:spTgt spid="2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4" dur="2000" fill="hold"/>
                                        <p:tgtEl>
                                          <p:spTgt spid="2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Употребление деф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0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жебных словах и междомет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 слов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– 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– п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 – ах  (междом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ё – т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 – ха – х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.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.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ал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.        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еси - 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1" name=""/>
          <p:cNvSpPr/>
          <p:nvPr/>
        </p:nvSpPr>
        <p:spPr>
          <a:xfrm>
            <a:off x="179280" y="5805360"/>
            <a:ext cx="864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ждометия, образованные повторением слов, пишутся с дефисом.  №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79280" y="6237360"/>
            <a:ext cx="8569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ы  -то и  -ка присоединяются к другим словам через дефис. №69,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Ь после шипящих в наречия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11280" y="220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Исключе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>
            <a:hlinkClick r:id="" action="ppaction://hlinkshowjump?jump=previousslide"/>
          </p:cNvPr>
          <p:cNvSpPr/>
          <p:nvPr/>
        </p:nvSpPr>
        <p:spPr>
          <a:xfrm>
            <a:off x="8136000" y="5877000"/>
            <a:ext cx="1008000" cy="981000"/>
          </a:xfrm>
          <a:custGeom>
            <a:avLst/>
            <a:gdLst>
              <a:gd name="textAreaLeft" fmla="*/ 63360 w 1008000"/>
              <a:gd name="textAreaRight" fmla="*/ 944640 w 1008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194" h="21600">
                <a:moveTo>
                  <a:pt x="0" y="0"/>
                </a:moveTo>
                <a:lnTo>
                  <a:pt x="22194" y="0"/>
                </a:lnTo>
                <a:lnTo>
                  <a:pt x="22194" y="21600"/>
                </a:lnTo>
                <a:lnTo>
                  <a:pt x="0" y="21600"/>
                </a:lnTo>
                <a:close/>
              </a:path>
              <a:path fill="lightenLess" w="22194" h="21600">
                <a:moveTo>
                  <a:pt x="0" y="0"/>
                </a:moveTo>
                <a:lnTo>
                  <a:pt x="22194" y="0"/>
                </a:lnTo>
                <a:lnTo>
                  <a:pt x="20794" y="1400"/>
                </a:lnTo>
                <a:lnTo>
                  <a:pt x="1400" y="1400"/>
                </a:lnTo>
                <a:close/>
              </a:path>
              <a:path fill="darken" w="22194" h="21600">
                <a:moveTo>
                  <a:pt x="22194" y="0"/>
                </a:moveTo>
                <a:lnTo>
                  <a:pt x="22194" y="21600"/>
                </a:lnTo>
                <a:lnTo>
                  <a:pt x="20794" y="20200"/>
                </a:lnTo>
                <a:lnTo>
                  <a:pt x="20794" y="1400"/>
                </a:lnTo>
                <a:close/>
              </a:path>
              <a:path fill="darkenLess" w="22194" h="21600">
                <a:moveTo>
                  <a:pt x="2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4" y="20200"/>
                </a:lnTo>
                <a:close/>
              </a:path>
              <a:path fill="lighten" w="2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94" h="21600">
                <a:moveTo>
                  <a:pt x="4091" y="7493"/>
                </a:moveTo>
                <a:lnTo>
                  <a:pt x="7598" y="7493"/>
                </a:lnTo>
                <a:lnTo>
                  <a:pt x="7598" y="12828"/>
                </a:lnTo>
                <a:cubicBezTo>
                  <a:pt x="7598" y="13751"/>
                  <a:pt x="8399" y="14482"/>
                  <a:pt x="9435" y="14482"/>
                </a:cubicBezTo>
                <a:lnTo>
                  <a:pt x="11097" y="14482"/>
                </a:lnTo>
                <a:cubicBezTo>
                  <a:pt x="12133" y="14482"/>
                  <a:pt x="12934" y="13751"/>
                  <a:pt x="12934" y="12828"/>
                </a:cubicBezTo>
                <a:lnTo>
                  <a:pt x="12934" y="7493"/>
                </a:lnTo>
                <a:lnTo>
                  <a:pt x="11097" y="7493"/>
                </a:lnTo>
                <a:lnTo>
                  <a:pt x="14605" y="3985"/>
                </a:lnTo>
                <a:lnTo>
                  <a:pt x="18278" y="7493"/>
                </a:lnTo>
                <a:lnTo>
                  <a:pt x="16441" y="7493"/>
                </a:lnTo>
                <a:lnTo>
                  <a:pt x="16441" y="12828"/>
                </a:lnTo>
                <a:cubicBezTo>
                  <a:pt x="16441" y="15596"/>
                  <a:pt x="13865" y="18155"/>
                  <a:pt x="11097" y="18155"/>
                </a:cubicBezTo>
                <a:lnTo>
                  <a:pt x="9435" y="18155"/>
                </a:lnTo>
                <a:cubicBezTo>
                  <a:pt x="6667" y="18155"/>
                  <a:pt x="4091" y="15596"/>
                  <a:pt x="4091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539640" y="2997360"/>
            <a:ext cx="3241800" cy="2447640"/>
            <a:chOff x="539640" y="2997360"/>
            <a:chExt cx="3241800" cy="2447640"/>
          </a:xfrm>
        </p:grpSpPr>
        <p:sp>
          <p:nvSpPr>
            <p:cNvPr id="2819" name=""/>
            <p:cNvSpPr/>
            <p:nvPr/>
          </p:nvSpPr>
          <p:spPr>
            <a:xfrm>
              <a:off x="539640" y="2997360"/>
              <a:ext cx="3240360" cy="2447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2720" y="3141360"/>
              <a:ext cx="31687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му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евтерпё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1" name=""/>
          <p:cNvSpPr txBox="1"/>
          <p:nvPr/>
        </p:nvSpPr>
        <p:spPr>
          <a:xfrm>
            <a:off x="395280" y="3141720"/>
            <a:ext cx="1511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5148360" y="2276640"/>
            <a:ext cx="2950920" cy="2158920"/>
            <a:chOff x="5148360" y="2276640"/>
            <a:chExt cx="2950920" cy="2158920"/>
          </a:xfrm>
        </p:grpSpPr>
        <p:sp>
          <p:nvSpPr>
            <p:cNvPr id="2823" name=""/>
            <p:cNvSpPr/>
            <p:nvPr/>
          </p:nvSpPr>
          <p:spPr>
            <a:xfrm>
              <a:off x="5148360" y="2276640"/>
              <a:ext cx="2950920" cy="2158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19640" y="2276640"/>
              <a:ext cx="28796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роч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плош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стеж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5" name=""/>
          <p:cNvSpPr txBox="1"/>
          <p:nvPr/>
        </p:nvSpPr>
        <p:spPr>
          <a:xfrm rot="20944800">
            <a:off x="5940000" y="3933360"/>
            <a:ext cx="320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ягки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6" dur="2000"/>
                                        <p:tgtEl>
                                          <p:spTgt spid="2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0" dur="20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1" dur="2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уквы в кор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л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- - л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ла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ь,  п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лож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рас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- -рос- - -р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с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ние,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о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, вы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н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Исключ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трасль, росток, ростовщик, на выр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7740720" y="5661000"/>
            <a:ext cx="1403280" cy="1197000"/>
          </a:xfrm>
          <a:custGeom>
            <a:avLst/>
            <a:gdLst>
              <a:gd name="textAreaLeft" fmla="*/ 77400 w 1403280"/>
              <a:gd name="textAreaRight" fmla="*/ 1325880 w 14032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321" h="21600">
                <a:moveTo>
                  <a:pt x="0" y="0"/>
                </a:moveTo>
                <a:lnTo>
                  <a:pt x="25321" y="0"/>
                </a:lnTo>
                <a:lnTo>
                  <a:pt x="25321" y="21600"/>
                </a:lnTo>
                <a:lnTo>
                  <a:pt x="0" y="21600"/>
                </a:lnTo>
                <a:close/>
              </a:path>
              <a:path fill="lightenLess" w="25321" h="21600">
                <a:moveTo>
                  <a:pt x="0" y="0"/>
                </a:moveTo>
                <a:lnTo>
                  <a:pt x="25321" y="0"/>
                </a:lnTo>
                <a:lnTo>
                  <a:pt x="23921" y="1400"/>
                </a:lnTo>
                <a:lnTo>
                  <a:pt x="1400" y="1400"/>
                </a:lnTo>
                <a:close/>
              </a:path>
              <a:path fill="darken" w="25321" h="21600">
                <a:moveTo>
                  <a:pt x="25321" y="0"/>
                </a:moveTo>
                <a:lnTo>
                  <a:pt x="25321" y="21600"/>
                </a:lnTo>
                <a:lnTo>
                  <a:pt x="23921" y="20200"/>
                </a:lnTo>
                <a:lnTo>
                  <a:pt x="23921" y="1400"/>
                </a:lnTo>
                <a:close/>
              </a:path>
              <a:path fill="darkenLess" w="25321" h="21600">
                <a:moveTo>
                  <a:pt x="25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21" y="20200"/>
                </a:lnTo>
                <a:close/>
              </a:path>
              <a:path fill="lighten" w="25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21" h="21600">
                <a:moveTo>
                  <a:pt x="5654" y="7493"/>
                </a:moveTo>
                <a:lnTo>
                  <a:pt x="9162" y="7493"/>
                </a:lnTo>
                <a:lnTo>
                  <a:pt x="9162" y="12828"/>
                </a:lnTo>
                <a:cubicBezTo>
                  <a:pt x="9162" y="13751"/>
                  <a:pt x="9962" y="14482"/>
                  <a:pt x="10998" y="14482"/>
                </a:cubicBezTo>
                <a:lnTo>
                  <a:pt x="12661" y="14482"/>
                </a:lnTo>
                <a:cubicBezTo>
                  <a:pt x="13696" y="14482"/>
                  <a:pt x="14497" y="13751"/>
                  <a:pt x="14497" y="12828"/>
                </a:cubicBezTo>
                <a:lnTo>
                  <a:pt x="14497" y="7493"/>
                </a:lnTo>
                <a:lnTo>
                  <a:pt x="12661" y="7493"/>
                </a:lnTo>
                <a:lnTo>
                  <a:pt x="16168" y="3985"/>
                </a:lnTo>
                <a:lnTo>
                  <a:pt x="19841" y="7493"/>
                </a:lnTo>
                <a:lnTo>
                  <a:pt x="18005" y="7493"/>
                </a:lnTo>
                <a:lnTo>
                  <a:pt x="18005" y="12828"/>
                </a:lnTo>
                <a:cubicBezTo>
                  <a:pt x="18005" y="15596"/>
                  <a:pt x="15428" y="18155"/>
                  <a:pt x="12661" y="18155"/>
                </a:cubicBezTo>
                <a:lnTo>
                  <a:pt x="10998" y="18155"/>
                </a:lnTo>
                <a:cubicBezTo>
                  <a:pt x="8230" y="18155"/>
                  <a:pt x="5654" y="15596"/>
                  <a:pt x="5654" y="12828"/>
                </a:cubicBezTo>
                <a:close/>
              </a:path>
            </a:pathLst>
          </a:cu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8:00:58Z</dcterms:created>
  <dc:creator>1</dc:creator>
  <dc:description/>
  <dc:language>en-US</dc:language>
  <cp:lastModifiedBy>ученик</cp:lastModifiedBy>
  <dcterms:modified xsi:type="dcterms:W3CDTF">2008-11-07T07:20:14Z</dcterms:modified>
  <cp:revision>279</cp:revision>
  <dc:subject/>
  <dc:title>Повтори орфографию</dc:title>
</cp:coreProperties>
</file>