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12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3.gif" ContentType="image/gif"/>
  <Override PartName="/ppt/media/image1.jpeg" ContentType="image/jpe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24F6A-8D92-4FF6-B962-46FAFBCE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113AF-270B-4146-ADB7-C70DF906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53FAE-4C57-422D-AB64-E355FCBC6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5B7AC-9C86-4033-BF25-BC40C7FD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96B6B-BA43-407A-82EB-C49E8693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D53230-04F7-46AB-A101-247A2507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6F4D9-BD09-41AE-951F-944BC2D8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10C26-BB37-4438-BA09-F15D817B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8F057-2802-4AC7-98CD-C1102C25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2E99F-F92D-4780-B084-5C1E554A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0D41E-0430-44FF-8FE2-6DEC3940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E2144-58FE-4027-B844-65E20BD1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B7F3A-8782-4D36-9C76-C77B944B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170C4-7CAC-4F1F-B468-60535A05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84260-0A86-474C-AD71-A6084FAB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4D3FB-90F5-4914-ADC7-9C9FF057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8DB41-5D8A-4EAF-9605-2BAB84B4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96693-E0B2-45A4-A685-7962FE08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D5580-F553-478B-99AF-C93F4873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1F141-C06E-4031-8413-EB4FF3E0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7C0A4-08B2-427C-8F95-2C93E2FE6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C13EFE-B540-4F46-8C28-83A93B04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66EF3-F1D9-40C9-ABD7-EB8DD7FDD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C00AB-9DD4-4566-8CE5-C611336E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413261-8726-4CAC-B03D-1106F35E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E0FD4-8E56-415E-8149-4CDA4D76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13FD8-5555-4398-921B-85202413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BA727-B52C-4A3C-B19A-0E84911E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EEB26-437D-40D8-A0C8-2EF62FE2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2EEB5-0CF4-4BC4-8D0A-12B813DE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993B-F6FD-48D1-8807-86F88C156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7C6AB-00E1-4472-B417-B93098E7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976F4-E96A-48E3-B30E-95C309ED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23A97-9172-49C6-8EC4-2A4C8767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E755D-2AF8-43F2-A584-BD5E26F41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26BB3-FE56-4CE7-A4B1-6628D639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74BB2-6C77-458E-A778-E7EC8283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2B57D-4061-4074-B223-1511C491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4579A-D12E-41E9-BC66-747A024D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89A90-7F31-4F13-BB7C-1F2C582A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A755E-60F5-4FB7-AB50-78FAD284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C1D8-40A9-4427-95B2-17DA8144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CBE9E-DADB-42A9-A203-D226D2D4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5C2B9-7467-4F71-B4F5-52C45771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FE9D9-4040-4568-BA40-2955BBCC2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C9BDD-E42A-4B94-898E-89D03E42D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72F0A-B7C4-4764-86D9-2E0123AC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9420D-0724-4483-AC1E-EA32B1B2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E16EB-F151-4428-ACCA-8AB89A44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FB2F0-659F-4F4A-9246-1DFD270E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BC585-57A5-43EE-9878-729CF36F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18EBF-1836-4FB5-8318-09F8C7BC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F3D-D44F-46C1-A5CF-3B82A31A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95F8F-2656-40D3-8763-AC8F004B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FA92E-0AC8-4E47-A113-0D34C3B8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9924C-8BAF-4986-9E05-5A410C21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48C66-C8E3-4036-AAFF-9F83F435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AB001-5188-4188-99FA-C87BB4E12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F7617-A1D5-4397-9C2C-442A08B7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AFAED7-17E7-4873-9976-58A09A6CE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ADB256-D669-4410-AFA9-C93FD1574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289C0-1469-4BE5-8C07-B9388393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1173E-1AD8-4CED-8D2A-2FA98C35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2B7D-B9A8-4BF3-8BBA-BE391A5FB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C88DD-A9D8-4691-AFC0-E58674F7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32E41-2DE1-4A6E-A699-9747BAD0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DB0A0-2D57-4725-B9CE-CE6501242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71647-AF95-4B58-951B-C5855E08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121028-5F64-46F5-9165-0584C97F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9B465C-D343-4401-B23D-7DCA35E7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C0BC9D-8262-4045-9C81-D450EB58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B1EB8-CCD3-43BF-8B25-E1C381C53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E7A8E5-059F-475C-9132-F5639D7B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C625-CE53-4C2A-B746-27B2E52DF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F025-5DB9-4906-A321-D5E3744A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BD8-2B75-486B-93E4-27B7CBE8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57A2-4476-407B-A102-66EDA674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B134-2AB1-4C02-A9D7-6ED56D7F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2D0-0AED-4A30-95EA-9643686C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9080-2063-4D53-B73A-C389C5F5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E02-53C8-4863-B305-D7B6D0FEE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D891-D167-4FB3-8B6C-B2146DFD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09B7-5D21-4A9C-99B5-89B0349C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4091-340B-465F-BF07-50799F06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E8CA-7C5D-4E03-A8C2-E5F33AD3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DF6A-056C-401F-88FA-C8DB8B7B4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306C-022F-448F-9810-4E660571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A7AB-88EA-4B7C-81C3-AE24A872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F96A3-0F1A-454C-AFF5-AF31B608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B8E7-CB45-469C-AB17-0A5DF44A6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9C87-2722-4CF6-8DA7-AE1EF15F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43EC-443E-4D4B-88E4-696819B4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5B7FE-4D63-408A-8027-42B097B3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014BC-F883-49B9-989F-B4083D189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26CBE-D3A9-4881-BDF4-224AE043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108E2-4B68-448F-96A0-C8214C17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7125-666F-4A17-929A-B6CCD2A1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66C79-9804-48AB-8605-D3C3310E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77F5-D910-4841-966B-43E0C8CB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DD201-35EF-4951-BDF7-FD50057D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A4D18-FAD8-44E5-96A5-8D31EA98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81D26-8B72-4674-8941-8BFE6B6F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92E6F-7893-4906-A39E-5A913E31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B46D4-383D-4B95-BAE4-8C92201F7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8E277-482D-455B-BC21-801B82EDC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53A9E-51A0-44CC-872B-DD46C71C2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53581-8504-4430-B0FA-A5D94FEC8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2B7D0-9B1E-4EAC-9EB2-E1752C2B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75BF5-F254-44C3-9405-C136C865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11DB5-782B-42F3-A08D-613CA0F8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A57CF-EF82-42D6-BBE1-16B0E658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17729-62B0-4FE4-AF74-8FC547AE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04EB9-1419-48B6-835C-B98E4BAF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AAFBA-97CA-461B-95EB-3BB07F47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7ABDC-3528-4572-A5FE-8176621B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EA27C-AD11-47E5-BA12-1F00AB77E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6B06B-B5D5-4299-9CF9-B1924758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0E934-C8F7-4E2F-AD43-9AE537D56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A1134-1BCB-43F2-8D8D-B427F1F2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923B2-C501-4FF2-96D5-1DF4BCD9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D86FA-044C-42D1-B06C-371E1E8A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50D3D-47AC-4450-962E-68D39414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CE092-0721-428F-9B68-8F8371CC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76C19-5468-400A-A3B2-18A66CCD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09384-F52B-48E3-9E59-DEBC0B8F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FF672-815A-4032-AE29-886120F1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77AC8-D9B7-43D2-B5EA-82015308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920E7-BCEA-4D6F-9CF3-D5CE43ABD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D477D-C8E2-4336-8A8F-E766D8FE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82B7D-7D1F-4BDB-A05B-FB0410AB3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804EB-A87F-4E19-B21B-20F8D3359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78C58-C62D-497E-81C0-1A34B249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5FBA6-3E82-48C6-9609-8B3CCC64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79A3B-954C-4698-9289-0ACC965B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08CCF-44C3-4338-BBB7-E0CA6CF3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99B37-E96C-4301-9AAE-105B3EDB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7769B-987E-4A5A-B681-C2D90981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77834-42F2-4AD1-825D-AECE8311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EE8FC-A792-4528-AA97-F5AB76E6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4655A-529B-42FB-80EF-441571EA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2A4C9-F30A-4BA4-89B7-75255F87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F26AC-96E3-4899-9254-AFDC9149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74306-B000-4124-B55A-BDFE11E8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BC8A9-8422-4AD4-8C87-CD8F2EDB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561E-057E-42CA-880A-065036F74982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75BE-A4C2-46A5-BF8A-79D12BE3CF3B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A767D-98B0-4FB5-827C-D3F33F5FA2AD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A641-4A2B-4588-9B12-3EC5773FD336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G:\Presentations\NewYearBlue\72946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8EF9-6AB3-4F6F-8D9F-618DF38217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4E51-3C99-437B-83DC-5912C34E9C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G:\Presentations\NewYearBlue\72946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1F1B-D272-4E07-AE40-31E269D335F4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62EC-0169-45A1-AFBE-AF3B69CE50B8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5977-13DE-4DAB-B49A-A7202F0A57FF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EEAC-1A52-44BB-A212-EC419D6F7D0E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1749-BAD5-4086-A41E-DC0284AD70E5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G:\Presentations\NewYearBlue\NewYearBlueSlia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2C87-6908-4999-B777-FC408DED938E}" type="slidenum">
              <a:rPr b="0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42960" y="1052280"/>
            <a:ext cx="8501040" cy="114300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Занятие по окружающему миру</a:t>
            </a:r>
            <a:br>
              <a:rPr sz="4900"/>
            </a:b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ru-RU" sz="4900" spc="-1" strike="noStrike">
                <a:solidFill>
                  <a:srgbClr val="000000"/>
                </a:solidFill>
                <a:latin typeface="Gabriola"/>
              </a:rPr>
              <a:t>Зима-Зимушка.</a:t>
            </a:r>
            <a:br>
              <a:rPr sz="4900"/>
            </a:br>
            <a:r>
              <a:rPr b="0" lang="ru-RU" sz="4900" spc="-1" strike="noStrike">
                <a:solidFill>
                  <a:srgbClr val="000000"/>
                </a:solidFill>
                <a:latin typeface="Monotype Corsiva"/>
              </a:rPr>
              <a:t>Как зимуют животные</a:t>
            </a:r>
            <a:r>
              <a:rPr b="0" lang="ru-RU" sz="49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4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1403280" y="5732640"/>
            <a:ext cx="6400800" cy="72072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яя группа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4" name="Picture 2" descr="C:\Documents and Settings\1\Рабочий стол\0875f0b0be6b583a0e99a8580a100804.gif"/>
          <p:cNvPicPr/>
          <p:nvPr/>
        </p:nvPicPr>
        <p:blipFill>
          <a:blip r:embed="rId1"/>
          <a:stretch/>
        </p:blipFill>
        <p:spPr>
          <a:xfrm>
            <a:off x="7812000" y="4149720"/>
            <a:ext cx="1143000" cy="1133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Отгадайте загадки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Скатерть бела,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весь мир одела.</a:t>
            </a:r>
            <a:endParaRPr b="0" lang="en-US" sz="6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2" name="Picture 6" descr="C:\Users\user\Desktop\53-300x187.jpg"/>
          <p:cNvPicPr/>
          <p:nvPr/>
        </p:nvPicPr>
        <p:blipFill>
          <a:blip r:embed="rId1"/>
          <a:stretch/>
        </p:blipFill>
        <p:spPr>
          <a:xfrm>
            <a:off x="-277920" y="0"/>
            <a:ext cx="9421920" cy="6858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4" name="Picture 4" descr="Картинка 15 из 2068"/>
          <p:cNvPicPr/>
          <p:nvPr/>
        </p:nvPicPr>
        <p:blipFill>
          <a:blip r:embed="rId1"/>
          <a:stretch/>
        </p:blipFill>
        <p:spPr>
          <a:xfrm>
            <a:off x="566640" y="633240"/>
            <a:ext cx="2938680" cy="39085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Картинка 64 из 4148"/>
          <p:cNvPicPr/>
          <p:nvPr/>
        </p:nvPicPr>
        <p:blipFill>
          <a:blip r:embed="rId2"/>
          <a:stretch/>
        </p:blipFill>
        <p:spPr>
          <a:xfrm>
            <a:off x="-6480" y="4425840"/>
            <a:ext cx="2968920" cy="22240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" descr="Картинка 30 из 2593"/>
          <p:cNvPicPr/>
          <p:nvPr/>
        </p:nvPicPr>
        <p:blipFill>
          <a:blip r:embed="rId3"/>
          <a:stretch/>
        </p:blipFill>
        <p:spPr>
          <a:xfrm>
            <a:off x="2852640" y="3279600"/>
            <a:ext cx="2871720" cy="214632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" descr="Картинка 55 из 65"/>
          <p:cNvPicPr/>
          <p:nvPr/>
        </p:nvPicPr>
        <p:blipFill>
          <a:blip r:embed="rId4"/>
          <a:stretch/>
        </p:blipFill>
        <p:spPr>
          <a:xfrm>
            <a:off x="4925880" y="1047600"/>
            <a:ext cx="3724560" cy="27925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2" descr=""/>
          <p:cNvPicPr/>
          <p:nvPr/>
        </p:nvPicPr>
        <p:blipFill>
          <a:blip r:embed="rId5"/>
          <a:stretch/>
        </p:blipFill>
        <p:spPr>
          <a:xfrm>
            <a:off x="5754600" y="3925800"/>
            <a:ext cx="3395880" cy="2548080"/>
          </a:xfrm>
          <a:prstGeom prst="rect">
            <a:avLst/>
          </a:prstGeom>
          <a:ln w="0">
            <a:noFill/>
          </a:ln>
        </p:spPr>
      </p:pic>
      <p:pic>
        <p:nvPicPr>
          <p:cNvPr id="619" name="Прямоугольник 8" descr=""/>
          <p:cNvPicPr/>
          <p:nvPr/>
        </p:nvPicPr>
        <p:blipFill>
          <a:blip r:embed="rId6"/>
          <a:stretch/>
        </p:blipFill>
        <p:spPr>
          <a:xfrm>
            <a:off x="611280" y="333360"/>
            <a:ext cx="7785000" cy="1187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Цели: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Symbol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знакомить воспитанников с жизнью животных зимой;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Symbol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оспитывать любовь к природе, ко всему живому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Symbol" charset="2"/>
              <a:buChar char="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9" name="Picture 2" descr="00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1" name="Picture 2" descr="C:\Users\user\Desktop\412576_medved-buryi-zimo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onotype Corsiva"/>
              </a:rPr>
              <a:t>Отгадайте загадки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Жёлтая хозяюш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 лесу пришла,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сех кур пересчитал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 с собой унесла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4" name="Picture 5" descr="C:\Users\user\Desktop\448071_html_3cbd074d.jpg"/>
          <p:cNvPicPr/>
          <p:nvPr/>
        </p:nvPicPr>
        <p:blipFill>
          <a:blip r:embed="rId1"/>
          <a:stretch/>
        </p:blipFill>
        <p:spPr>
          <a:xfrm>
            <a:off x="-412920" y="378000"/>
            <a:ext cx="9525240" cy="7057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Прямоугольник 4" descr=""/>
          <p:cNvPicPr/>
          <p:nvPr/>
        </p:nvPicPr>
        <p:blipFill>
          <a:blip r:embed="rId1"/>
          <a:stretch/>
        </p:blipFill>
        <p:spPr>
          <a:xfrm>
            <a:off x="1725480" y="378000"/>
            <a:ext cx="5693040" cy="25970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5" descr="C:\Users\user\Desktop\mini_2.jpg"/>
          <p:cNvPicPr/>
          <p:nvPr/>
        </p:nvPicPr>
        <p:blipFill>
          <a:blip r:embed="rId2"/>
          <a:stretch/>
        </p:blipFill>
        <p:spPr>
          <a:xfrm>
            <a:off x="0" y="2060640"/>
            <a:ext cx="4716360" cy="47973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6" descr="C:\Users\user\Desktop\Животные-России-01.jpg"/>
          <p:cNvPicPr/>
          <p:nvPr/>
        </p:nvPicPr>
        <p:blipFill>
          <a:blip r:embed="rId3"/>
          <a:stretch/>
        </p:blipFill>
        <p:spPr>
          <a:xfrm>
            <a:off x="5003640" y="2133720"/>
            <a:ext cx="4140360" cy="472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белки летняя шубка - рыжая, а зимняя – сера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Picture 4" descr="C:\Users\user\Desktop\Новая папка (2)\screen1024x1024.jpeg"/>
          <p:cNvPicPr/>
          <p:nvPr/>
        </p:nvPicPr>
        <p:blipFill>
          <a:blip r:embed="rId1"/>
          <a:stretch/>
        </p:blipFill>
        <p:spPr>
          <a:xfrm>
            <a:off x="0" y="1628640"/>
            <a:ext cx="5435640" cy="4032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" descr="C:\Users\user\Desktop\bel3.jpg"/>
          <p:cNvPicPr/>
          <p:nvPr/>
        </p:nvPicPr>
        <p:blipFill>
          <a:blip r:embed="rId2"/>
          <a:stretch/>
        </p:blipFill>
        <p:spPr>
          <a:xfrm>
            <a:off x="4203720" y="3213000"/>
            <a:ext cx="49402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Наши любимые зан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C:\Users\user\Desktop\kartinki-zima4-500x708.jpg"/>
          <p:cNvPicPr/>
          <p:nvPr/>
        </p:nvPicPr>
        <p:blipFill>
          <a:blip r:embed="rId2"/>
          <a:stretch/>
        </p:blipFill>
        <p:spPr>
          <a:xfrm>
            <a:off x="4759200" y="1268280"/>
            <a:ext cx="4384800" cy="52038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3" descr="C:\Users\user\Desktop\Новая папка (2)\kartinki-zima8-500x708.jpg"/>
          <p:cNvPicPr/>
          <p:nvPr/>
        </p:nvPicPr>
        <p:blipFill>
          <a:blip r:embed="rId3"/>
          <a:stretch/>
        </p:blipFill>
        <p:spPr>
          <a:xfrm>
            <a:off x="395280" y="1268280"/>
            <a:ext cx="43927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Катание на коньках и на лыжа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2" descr="C:\Users\user\Desktop\kartinki-zima9-500x708.jpg"/>
          <p:cNvPicPr/>
          <p:nvPr/>
        </p:nvPicPr>
        <p:blipFill>
          <a:blip r:embed="rId2"/>
          <a:stretch/>
        </p:blipFill>
        <p:spPr>
          <a:xfrm>
            <a:off x="4716360" y="1125360"/>
            <a:ext cx="4322880" cy="5399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3" descr="C:\Users\user\Desktop\kartinki-zima7-500x708.jpg"/>
          <p:cNvPicPr/>
          <p:nvPr/>
        </p:nvPicPr>
        <p:blipFill>
          <a:blip r:embed="rId3"/>
          <a:stretch/>
        </p:blipFill>
        <p:spPr>
          <a:xfrm>
            <a:off x="0" y="1197000"/>
            <a:ext cx="48387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1:59:13Z</dcterms:created>
  <dc:creator>user</dc:creator>
  <dc:description>Презентации по культуре и искусству, шабоны PowerPoint - http://freeppt.ru</dc:description>
  <dc:language>en-US</dc:language>
  <cp:lastModifiedBy>user</cp:lastModifiedBy>
  <dcterms:modified xsi:type="dcterms:W3CDTF">2017-10-09T16:11:58Z</dcterms:modified>
  <cp:revision>21</cp:revision>
  <dc:subject>Шаблон для презентаций</dc:subject>
  <dc:title>Как зимуют животные</dc:title>
</cp:coreProperties>
</file>