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gif" ContentType="image/gif"/>
  <Override PartName="/ppt/media/image1.jpeg" ContentType="image/jpe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65A39-A6CA-48E6-B60F-1B9E1E26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DBA27-94E7-4D9F-825B-CA8303EB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DAE61-22CE-423E-AC82-BB76A5B9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58511-BD67-437A-A5C0-6C6A0FB6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53A4D-EF6F-4DFB-8EF3-AD84B347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85B61-18A4-4486-BAAB-35EA91CC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64D3C-3FFB-45CA-871D-9A92FF4C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43242-294F-4B83-81CB-B162DB37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F03C6-3D12-4EE5-9D3D-F6CCB07B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9C1C0-B2F3-42EB-8CE1-3CD05470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8A46B-6C2A-425E-A8E3-29DA6E97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A8D52-A421-476C-BC80-77CEB9C2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34B05-3CF2-437C-8B6D-4D6BAD89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639BF-0CB2-4542-8457-E776842A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70794-6BC3-4443-8575-74378883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9E27B-6CB9-49D5-907F-6596ABF4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BDD65-5497-4E19-97D8-CBCB8D82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B0B55-080E-41A8-96E1-8850302E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33FD0-A368-4951-B706-3368D635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D1E95-6A9F-49D0-B676-0EF2DAE6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20F65-A09E-4AF9-A1D4-6F10751A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AC7C9-9B12-4509-A795-F20C36CA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CA0BA-6112-45BC-B153-E05C4B09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7B20E-350A-4480-A647-9D82C765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1687C-7171-44B3-8E79-259A4980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D93E6-FCED-45CC-9221-F38816F0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F831D-66AA-4754-A7A6-F5253468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132E0-93DB-41A6-ADCD-AE7CE45E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544C6-E11F-4DA2-B7F8-155D901E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208E9-4E2A-457D-A24B-D08E6031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0776-13B6-42C5-BB7C-BF4FDF0C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3425B-C9D4-4BCA-AD0E-004EC8FF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639A4-0A0D-4A0A-A0F0-6080782B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01EAF-F19D-44FE-B6A5-04BE14E7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5667A-3A25-4822-B9EB-AE0D934B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AAD9D-78B8-4DEE-9364-A342D71C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0762A-20B3-46CA-9353-B52AEF2D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E8B1B-B3A6-43D0-8D5A-2D740205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C6553-6B26-474D-8419-52169884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249E4-898C-4F6B-AFFF-0FFC12CC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377C2-B984-4767-B8A9-2DCF35C7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804-C596-4D77-A6D9-1FE3FCB3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74B2A-C738-4819-A78F-FC414BDD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0DDFC-8BC6-487B-8498-921475D5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BE659-E0D6-4E31-9A4E-FFB8D800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4A87B-F25E-4610-A889-E545022A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2272C-E324-4004-A8C9-F52ABC57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C7953-2C2E-444E-8607-0019B024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F0286-E999-4AA9-81BF-585CAAE6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A298B-CF4D-4BA7-8BDD-12CC9BBF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4B188-E5D5-4098-B72A-808579CE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CC579-AE9F-428B-9CDD-8335C646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F3C-B009-41D1-B727-AB8BA75E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F9FAC-895F-4545-AF31-8E4F5DBD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13B81-C6BF-47A9-8249-B2BC2679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6BF83-7B2A-4B47-ADB2-C90D36DD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8CFFE-5B9E-425A-A789-712B8033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9C7C9-4666-4A34-9AFC-82CA7FEF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D8E5C-2289-46D2-8733-76FFDAD1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EEA3A-C3EF-4FD4-941F-F31A3820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99760-A99F-4A04-A101-CF000437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3BB7C-59A5-49AC-8D2A-7779F006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DA37F-ADA1-46A7-88A7-F366C467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04E1-382B-45B5-A798-4CA7B1C5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D45F1-D3BA-4AAF-B7AA-AF832660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CC2D9-7506-4A33-8215-A5DD8840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20A20-2156-464F-BED4-5D18A345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B173A-237E-466E-AEB6-951E3805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21E16-C396-4B3A-8FC0-52A425BE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15F30-724D-4515-A86A-AC751CCB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FB97E-92D8-4959-8B88-324772F3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0799D-DE24-4BD8-9DF4-18E8C8B0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66699-89C3-436D-8362-E9063367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3A0D-03FD-4516-AF4D-88147151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5352-3A15-419A-A70B-59795A5E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CB6-1944-4A10-A732-999CE335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652B-5225-4B8A-931D-C94F9503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972-30C8-4DF9-90E7-1C362299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E3C-AFFB-4900-83C7-8E2C85F3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F7F-D9DD-41FF-92FE-2E037CFB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C1F8-623A-4494-A300-918C3BAD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1A5B-4C4D-4CD0-B235-61BB3D63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6241-449C-4676-A75B-C82B2F1C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0344-FE3C-404C-A87C-7BB9DF2D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84D1-58E1-480E-9882-C30DEBDE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F504-1F5E-4487-8C88-80567029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DA2A-2BD5-4756-95F1-A38A80E7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66A9-5D5D-47B6-8A2E-7A1529E5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3D2C-F558-47B4-918A-85966E10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C849-6A67-4FD8-97C6-398797FE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94B6-8978-4D23-9116-4FD29130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1880-11E4-4C9E-A518-369965FC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63A7-4566-4244-8285-CDF317E5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30977-05EE-485C-B374-2202D84B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4AF8F-0ACB-4321-8331-45814856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13317-80CF-4838-A3D8-CA7927C0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9AE8B-189C-4A5B-85DF-5167BD08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263FE-DE06-49EF-AE24-7A1C80EA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54DE3-711D-46C9-8118-449581FC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6775B-F554-42FD-BB86-A46DF3A9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AE0B7-DF03-422B-B492-AF79AA95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E0989-32B9-4709-A664-A2655668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54AA7-7CDD-4FB1-BCD3-A9DE51C9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225BF-C908-422F-A75B-3253B20B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37DBA-EB3C-4ED2-BE9A-341DD30B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7AD25-B3D7-4DE7-A420-AE91981A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505EE-0E3E-47C6-9062-A6291107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96E96-FF8E-4B95-8BDE-F1477E8B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40C98-DCED-4AE5-906E-F807BE08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46570-B357-4F40-BF9A-C9E1BE46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78217-B925-4EC0-A301-CB69850C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E8EB0-8E6E-4498-B91D-CA4804FE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90113-8A0E-421A-A5AA-7EC99B1A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683FB-A751-43EE-98CB-3753BE2C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7CB82-CB7F-44CF-9623-08ABC8BB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96E76-929A-4F21-833B-CA8B2D50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50934-4F75-4386-A9E4-07ACC0EE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F191F-EB98-48AA-8190-1C5AC9BE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97BA4-C3B0-42FC-ACA7-03BE2926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8E69F-EE34-4DB9-8901-99B5A5E4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4BD72-6FD0-4657-A01D-35005E85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BAF61-8788-4D08-80ED-B450A336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8D70E-88B0-4A67-803A-CD818755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0D72B-7063-4A1D-8338-3BDDEDE4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D5089-59C2-4BD3-8BF0-563CD944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3D679-36D8-4595-8F87-56643D6F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DE924-FFD8-4BC8-A63F-455591E9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5E6A8-4646-4D0C-B7F7-C07B64F7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04344-0F22-4680-930D-A6DFF085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5558E-F974-4092-8420-5A46AEA8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B9114-D712-4DB7-8B46-1E8A965F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23DB5-A148-4C77-9EDB-887FD26E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8EE83-F2D1-4163-B92D-A3BF4DAB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60314-67B4-4922-A25C-243BDA1B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64378-6EA6-4E96-BD16-C217C4B2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23805-52EB-4875-B808-67E97669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1B421-F5CB-4365-9F1E-7C16B231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87C15-473C-46FA-8885-71D2B88A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0B4A4-F544-42C9-BE16-C97E6779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E69CA-BF0B-4CF4-B7C5-0900445B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40A7E-834A-46E7-A97C-5955AF1F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A9B99-17B8-42AD-8A60-12551C2A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FE795-A888-4361-956B-20E4C9AC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E268A-20A8-4B27-AA52-35F33D25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:\Presentations\NewYearBlue\NewYearBlueSli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G:\Presentations\NewYearBlue\NewYearBlueSli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365A-E4F5-425C-B0E6-25D3B98A171E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G:\Presentations\NewYearBlue\NewYearBlueSli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AAC4-FB5D-4AD3-A191-7BD760753000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G:\Presentations\NewYearBlue\NewYearBlueSli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1E33-4875-43AD-B91E-6BF950D678D0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G:\Presentations\NewYearBlue\NewYearBlueSli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7EE0-BCA3-492C-937B-FD64271877EF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G:\Presentations\NewYearBlue\72946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7D48-A06A-4C2E-A27A-6D9A3917E4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4D57-500E-44CA-8885-FEE088F84A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G:\Presentations\NewYearBlue\NewYearBlueSli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G:\Presentations\NewYearBlue\72946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G:\Presentations\NewYearBlue\NewYearBlueSli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E3A2-2316-4DA4-8E39-3BFFB56055BE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G:\Presentations\NewYearBlue\NewYearBlueSli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9022-EDDE-4923-8A11-1C4B2E470158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G:\Presentations\NewYearBlue\NewYearBlueSli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DA21-73D8-41E5-AF7E-82110AAA7957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G:\Presentations\NewYearBlue\NewYearBlueSli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E98E-AC1A-4F82-AA95-286077E1263C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G:\Presentations\NewYearBlue\NewYearBlueSli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E8C6-BE9B-4608-84A2-AD147E771C0C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G:\Presentations\NewYearBlue\NewYearBlueSli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4E0A-69E1-4C3D-92C2-5EF141EDBAA7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42960" y="1052280"/>
            <a:ext cx="8501040" cy="114300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Занятие по окружающему миру</a:t>
            </a:r>
            <a:br>
              <a:rPr sz="4900"/>
            </a:b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900" spc="-1" strike="noStrike">
                <a:solidFill>
                  <a:srgbClr val="000000"/>
                </a:solidFill>
                <a:latin typeface="Gabriola"/>
              </a:rPr>
              <a:t>Зима-Зимушка.</a:t>
            </a:r>
            <a:br>
              <a:rPr sz="4900"/>
            </a:br>
            <a:r>
              <a:rPr b="0" lang="ru-RU" sz="4900" spc="-1" strike="noStrike">
                <a:solidFill>
                  <a:srgbClr val="000000"/>
                </a:solidFill>
                <a:latin typeface="Monotype Corsiva"/>
              </a:rPr>
              <a:t>Как зимуют животные</a:t>
            </a: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1403280" y="5732640"/>
            <a:ext cx="6400800" cy="72072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яя групп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4" name="Picture 2" descr="C:\Documents and Settings\1\Рабочий стол\0875f0b0be6b583a0e99a8580a100804.gif"/>
          <p:cNvPicPr/>
          <p:nvPr/>
        </p:nvPicPr>
        <p:blipFill>
          <a:blip r:embed="rId1"/>
          <a:stretch/>
        </p:blipFill>
        <p:spPr>
          <a:xfrm>
            <a:off x="7812000" y="4149720"/>
            <a:ext cx="1143000" cy="1133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Отгадайте загадки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Скатерть бела,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весь мир одела.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2" name="Picture 6" descr="C:\Users\user\Desktop\53-300x187.jpg"/>
          <p:cNvPicPr/>
          <p:nvPr/>
        </p:nvPicPr>
        <p:blipFill>
          <a:blip r:embed="rId1"/>
          <a:stretch/>
        </p:blipFill>
        <p:spPr>
          <a:xfrm>
            <a:off x="-277920" y="0"/>
            <a:ext cx="942192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Picture 4" descr="Картинка 15 из 2068"/>
          <p:cNvPicPr/>
          <p:nvPr/>
        </p:nvPicPr>
        <p:blipFill>
          <a:blip r:embed="rId1"/>
          <a:stretch/>
        </p:blipFill>
        <p:spPr>
          <a:xfrm>
            <a:off x="566640" y="633240"/>
            <a:ext cx="2938680" cy="39085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" descr="Картинка 64 из 4148"/>
          <p:cNvPicPr/>
          <p:nvPr/>
        </p:nvPicPr>
        <p:blipFill>
          <a:blip r:embed="rId2"/>
          <a:stretch/>
        </p:blipFill>
        <p:spPr>
          <a:xfrm>
            <a:off x="-6480" y="4425840"/>
            <a:ext cx="2968920" cy="22240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" descr="Картинка 30 из 2593"/>
          <p:cNvPicPr/>
          <p:nvPr/>
        </p:nvPicPr>
        <p:blipFill>
          <a:blip r:embed="rId3"/>
          <a:stretch/>
        </p:blipFill>
        <p:spPr>
          <a:xfrm>
            <a:off x="2852640" y="3279600"/>
            <a:ext cx="2871720" cy="2146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" descr="Картинка 55 из 65"/>
          <p:cNvPicPr/>
          <p:nvPr/>
        </p:nvPicPr>
        <p:blipFill>
          <a:blip r:embed="rId4"/>
          <a:stretch/>
        </p:blipFill>
        <p:spPr>
          <a:xfrm>
            <a:off x="4925880" y="1047600"/>
            <a:ext cx="3724560" cy="27925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"/>
          <p:cNvPicPr/>
          <p:nvPr/>
        </p:nvPicPr>
        <p:blipFill>
          <a:blip r:embed="rId5"/>
          <a:stretch/>
        </p:blipFill>
        <p:spPr>
          <a:xfrm>
            <a:off x="5754600" y="3925800"/>
            <a:ext cx="3395880" cy="2548080"/>
          </a:xfrm>
          <a:prstGeom prst="rect">
            <a:avLst/>
          </a:prstGeom>
          <a:ln w="0">
            <a:noFill/>
          </a:ln>
        </p:spPr>
      </p:pic>
      <p:pic>
        <p:nvPicPr>
          <p:cNvPr id="619" name="Прямоугольник 8" descr=""/>
          <p:cNvPicPr/>
          <p:nvPr/>
        </p:nvPicPr>
        <p:blipFill>
          <a:blip r:embed="rId6"/>
          <a:stretch/>
        </p:blipFill>
        <p:spPr>
          <a:xfrm>
            <a:off x="611280" y="333360"/>
            <a:ext cx="7785000" cy="1187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Цел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Symbol" charset="2"/>
              <a:buChar char="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знакомить воспитанников с жизнью животных зимой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Symbol" charset="2"/>
              <a:buChar char="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спитывать любовь к природе, ко всему живом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Symbol" charset="2"/>
              <a:buChar char="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9" name="Picture 2" descr="0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Picture 2" descr="C:\Users\user\Desktop\412576_medved-buryi-zimo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Отгадайте загадки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Жёлтая хозяюш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з лесу пришла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сех кур пересчитал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 с собой унесл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4" name="Picture 5" descr="C:\Users\user\Desktop\448071_html_3cbd074d.jpg"/>
          <p:cNvPicPr/>
          <p:nvPr/>
        </p:nvPicPr>
        <p:blipFill>
          <a:blip r:embed="rId1"/>
          <a:stretch/>
        </p:blipFill>
        <p:spPr>
          <a:xfrm>
            <a:off x="-412920" y="378000"/>
            <a:ext cx="9525240" cy="70578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Прямоугольник 4" descr=""/>
          <p:cNvPicPr/>
          <p:nvPr/>
        </p:nvPicPr>
        <p:blipFill>
          <a:blip r:embed="rId1"/>
          <a:stretch/>
        </p:blipFill>
        <p:spPr>
          <a:xfrm>
            <a:off x="1725480" y="378000"/>
            <a:ext cx="5693040" cy="25970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C:\Users\user\Desktop\mini_2.jpg"/>
          <p:cNvPicPr/>
          <p:nvPr/>
        </p:nvPicPr>
        <p:blipFill>
          <a:blip r:embed="rId2"/>
          <a:stretch/>
        </p:blipFill>
        <p:spPr>
          <a:xfrm>
            <a:off x="0" y="2060640"/>
            <a:ext cx="4716360" cy="47973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6" descr="C:\Users\user\Desktop\Животные-России-01.jpg"/>
          <p:cNvPicPr/>
          <p:nvPr/>
        </p:nvPicPr>
        <p:blipFill>
          <a:blip r:embed="rId3"/>
          <a:stretch/>
        </p:blipFill>
        <p:spPr>
          <a:xfrm>
            <a:off x="5003640" y="2133720"/>
            <a:ext cx="414036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елки летняя шубка - рыжая, а зимняя – сер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4" descr="C:\Users\user\Desktop\Новая папка (2)\screen1024x1024.jpeg"/>
          <p:cNvPicPr/>
          <p:nvPr/>
        </p:nvPicPr>
        <p:blipFill>
          <a:blip r:embed="rId1"/>
          <a:stretch/>
        </p:blipFill>
        <p:spPr>
          <a:xfrm>
            <a:off x="0" y="1628640"/>
            <a:ext cx="5435640" cy="40323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" descr="C:\Users\user\Desktop\bel3.jpg"/>
          <p:cNvPicPr/>
          <p:nvPr/>
        </p:nvPicPr>
        <p:blipFill>
          <a:blip r:embed="rId2"/>
          <a:stretch/>
        </p:blipFill>
        <p:spPr>
          <a:xfrm>
            <a:off x="4203720" y="3213000"/>
            <a:ext cx="4940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Наши любимые заня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" descr="C:\Users\user\Desktop\kartinki-zima4-500x708.jpg"/>
          <p:cNvPicPr/>
          <p:nvPr/>
        </p:nvPicPr>
        <p:blipFill>
          <a:blip r:embed="rId2"/>
          <a:stretch/>
        </p:blipFill>
        <p:spPr>
          <a:xfrm>
            <a:off x="4759200" y="1268280"/>
            <a:ext cx="4384800" cy="52038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3" descr="C:\Users\user\Desktop\Новая папка (2)\kartinki-zima8-500x708.jpg"/>
          <p:cNvPicPr/>
          <p:nvPr/>
        </p:nvPicPr>
        <p:blipFill>
          <a:blip r:embed="rId3"/>
          <a:stretch/>
        </p:blipFill>
        <p:spPr>
          <a:xfrm>
            <a:off x="395280" y="1268280"/>
            <a:ext cx="439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тание на коньках и на лыж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" descr="C:\Users\user\Desktop\kartinki-zima9-500x708.jpg"/>
          <p:cNvPicPr/>
          <p:nvPr/>
        </p:nvPicPr>
        <p:blipFill>
          <a:blip r:embed="rId2"/>
          <a:stretch/>
        </p:blipFill>
        <p:spPr>
          <a:xfrm>
            <a:off x="4716360" y="1125360"/>
            <a:ext cx="4322880" cy="53992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C:\Users\user\Desktop\kartinki-zima7-500x708.jpg"/>
          <p:cNvPicPr/>
          <p:nvPr/>
        </p:nvPicPr>
        <p:blipFill>
          <a:blip r:embed="rId3"/>
          <a:stretch/>
        </p:blipFill>
        <p:spPr>
          <a:xfrm>
            <a:off x="0" y="1197000"/>
            <a:ext cx="48387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1:59:13Z</dcterms:created>
  <dc:creator>user</dc:creator>
  <dc:description>Презентации по культуре и искусству, шабоны PowerPoint - http://freeppt.ru</dc:description>
  <dc:language>en-US</dc:language>
  <cp:lastModifiedBy>user</cp:lastModifiedBy>
  <dcterms:modified xsi:type="dcterms:W3CDTF">2017-10-09T16:11:58Z</dcterms:modified>
  <cp:revision>21</cp:revision>
  <dc:subject>Шаблон для презентаций</dc:subject>
  <dc:title>Как зимуют животные</dc:title>
</cp:coreProperties>
</file>