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FE6-11D7-4C09-BDB8-5CE805B0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339-FE50-4155-A1EB-566D38B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C64-BB00-4592-9A7B-1634706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65D-BB72-4C46-8C8F-9676018B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C6EA-EA0C-484D-8A26-3AFCD716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DFC-2132-43C5-A004-F59CCF7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E63-8746-41D6-8454-D9F7521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D86-16E6-4457-A1C1-A9A51F0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C378-51AC-4D5D-9B32-056DE05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A4B9-7017-4771-A3EA-4C02224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34CD-AE06-43B1-BCFF-6C7035F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10C-2FF4-45EB-877F-C1F13A46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068A-FE4E-439D-B465-5DFE3A9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CE31-5111-4967-A052-0F0DEED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FC41-85AD-4D99-B3BB-C808675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6D98-54B9-4178-8C9A-25021581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30F2-0F9B-4229-BA38-56DFDB4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4B03-384C-41D6-B6BD-4BCA0FA9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1E36-BD2C-4E46-9CA4-2D668C3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ABF2-0078-491A-A997-DDF57B4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A628-D507-4FC3-BB26-0BFB5EC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B604-EC4C-4E05-BDAD-9E93DB49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27A-3DDC-4EAC-AFF4-A634D10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18D8-9A18-4DF4-91E0-A60B8D54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A7A4-37DE-4C11-9D10-E8D34B7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2154F-DBFD-4DBB-B8A2-1158A68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400E-8D11-4C2A-9C07-B8D9E7E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5A73-79F8-4DDC-BF2D-681F01D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AD93-F49E-481A-8B53-E681616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B9FA-56FB-4897-869E-267F45DF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B252-FB4E-4C24-8DCE-A48EC5F4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6F0F-91A5-42E3-8A19-A189C053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7F15-0BAD-4D9E-8872-D0AC20E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D7E-284B-4DFE-B72B-1DC1AD4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F1F1-B547-4581-9689-5721B3F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865A-E71A-404D-9207-7666FA7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7614-4630-40B5-83AC-1FB6C25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EB83-B077-4407-B43C-628004E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2D40-B970-4FFF-8F25-22DC483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5CD5-5F48-4CC8-8628-859542CD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6E39-594D-4414-918B-5A0D14E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05E0-629A-49B2-AC75-9BE7C02A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E17B-F8CD-4560-AC98-7591C791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9E2E-C7E4-4B2F-8138-3E611327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E27-35B8-44C6-8FAE-55CE960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6F77-8939-4A85-878C-535E93A8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C923-2DC5-4E34-B6A4-857B211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B979-4017-4CC8-8EEB-CAA1E32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A2BC-B011-4D81-8ACF-66A7ED4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0B22-A0E1-4FF4-9439-1C8CA5B6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60E4-C299-477D-9A8B-6E597B3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BC36-3328-4C76-BA11-30C1A24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99E2-18EC-4B01-ADA4-0A03C3E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EA684-AD1F-4D9A-8FC3-E4DD2465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B387-FFF0-469B-8C7A-282575D5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CA7-F5A0-47B7-8B0B-4BCB0C9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C548-D02D-4C87-8793-1494F89A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058-3139-42DF-B72A-5C748E2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4AA-B16A-4F4C-A6D4-EC26484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6E1-2220-4573-90AD-893804FE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9A4D-7A4F-4A64-AD48-E6177E7E7E5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2DF-A819-4950-8A39-F4569E6CCD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61D3-85A8-4CDE-B3F2-A5BC58FE1C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D4B-840F-4E17-AD4C-0E98EC1DDA2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C0D0-0CF1-4CFE-AEB6-DB61F7D889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ЧТО ТАКО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rebuchet MS"/>
              </a:rPr>
              <a:t>ЭЛЕКТРОН</a:t>
            </a:r>
            <a:r>
              <a:rPr b="0" lang="ru-RU" sz="4800" spc="-1" strike="noStrike">
                <a:solidFill>
                  <a:srgbClr val="7f7f7f"/>
                </a:solidFill>
                <a:latin typeface="Trebuchet MS"/>
              </a:rPr>
              <a:t>?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ХЕМА СТРОЕНИЯ АТОМ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ru-RU" sz="4800" spc="-1" strike="noStrike">
                <a:solidFill>
                  <a:srgbClr val="404040"/>
                </a:solidFill>
                <a:latin typeface="Trebuchet MS"/>
              </a:rPr>
              <a:t>Н 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+1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уровням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80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en-US" sz="8000" spc="-1" strike="noStrike" baseline="30000">
                <a:solidFill>
                  <a:srgbClr val="404040"/>
                </a:solidFill>
                <a:latin typeface="Trebuchet MS"/>
              </a:rPr>
              <a:t>1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по подуровня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ЛЕКТРОННО - ГРАФИЧЕСКАЯ ФОРМУЛА АТОМ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по А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  <a:ea typeface="Arial"/>
              </a:rPr>
              <a:t>•</a:t>
            </a:r>
            <a:r>
              <a:rPr b="0" lang="ru-RU" sz="5400" spc="-1" strike="noStrike">
                <a:solidFill>
                  <a:srgbClr val="90c226"/>
                </a:solidFill>
                <a:latin typeface="Trebuchet MS"/>
                <a:ea typeface="Arial"/>
              </a:rPr>
              <a:t>  </a:t>
            </a:r>
            <a:r>
              <a:rPr b="0" lang="en-US" sz="5400" spc="-1" strike="noStrike">
                <a:solidFill>
                  <a:srgbClr val="90c226"/>
                </a:solidFill>
                <a:latin typeface="Trebuchet MS"/>
                <a:ea typeface="Arial"/>
              </a:rPr>
              <a:t>é</a:t>
            </a:r>
            <a:r>
              <a:rPr b="0" lang="ru-RU" sz="5400" spc="-1" strike="noStrike">
                <a:solidFill>
                  <a:srgbClr val="90c226"/>
                </a:solidFill>
                <a:latin typeface="Trebuchet MS"/>
                <a:ea typeface="Arial"/>
              </a:rPr>
              <a:t> – это частица!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m0=0,9109534*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10 </a:t>
            </a:r>
            <a:r>
              <a:rPr b="0" lang="ru-RU" sz="1800" spc="-1" strike="noStrike" baseline="30000">
                <a:solidFill>
                  <a:srgbClr val="7f7f7f"/>
                </a:solidFill>
                <a:latin typeface="Trebuchet MS"/>
              </a:rPr>
              <a:t>-27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г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Z=1,6021892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*10 </a:t>
            </a:r>
            <a:r>
              <a:rPr b="0" lang="ru-RU" sz="1800" spc="-1" strike="noStrike" baseline="30000">
                <a:solidFill>
                  <a:srgbClr val="7f7f7f"/>
                </a:solidFill>
                <a:latin typeface="Trebuchet MS"/>
              </a:rPr>
              <a:t>-19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К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Arial"/>
              </a:rPr>
              <a:t>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  <a:ea typeface="Arial"/>
              </a:rPr>
              <a:t>é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Arial"/>
              </a:rPr>
              <a:t> – волна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лектрон обладает большой СКОРОСТЬЮ и ЭНЕРГИЕЙ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 долю секунды электрон способен «обежать» целую область пространства, называему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иды электронных облаков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8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900000" y="1413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лектроны атома образуют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1409760" y="3165480"/>
            <a:ext cx="63244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ЛЕКТРОННАЯ ОБОЛОЧКА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ЛИТСЯ Н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3635280" y="2492280"/>
            <a:ext cx="2105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20364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268360" y="5300640"/>
            <a:ext cx="53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Diagram 5"/>
          <p:cNvGrpSpPr/>
          <p:nvPr/>
        </p:nvGrpSpPr>
        <p:grpSpPr>
          <a:xfrm>
            <a:off x="2785680" y="1231920"/>
            <a:ext cx="3905280" cy="3368520"/>
            <a:chOff x="2785680" y="1231920"/>
            <a:chExt cx="3905280" cy="3368520"/>
          </a:xfrm>
        </p:grpSpPr>
        <p:sp>
          <p:nvSpPr>
            <p:cNvPr id="286" name="_s1028"/>
            <p:cNvSpPr/>
            <p:nvPr/>
          </p:nvSpPr>
          <p:spPr>
            <a:xfrm>
              <a:off x="2785680" y="2176560"/>
              <a:ext cx="2423160" cy="2423880"/>
            </a:xfrm>
            <a:prstGeom prst="donut">
              <a:avLst>
                <a:gd name="adj" fmla="val 16666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29"/>
            <p:cNvSpPr/>
            <p:nvPr/>
          </p:nvSpPr>
          <p:spPr>
            <a:xfrm>
              <a:off x="6045480" y="23083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0"/>
            <p:cNvSpPr/>
            <p:nvPr/>
          </p:nvSpPr>
          <p:spPr>
            <a:xfrm>
              <a:off x="3188880" y="2579760"/>
              <a:ext cx="1615320" cy="1616040"/>
            </a:xfrm>
            <a:prstGeom prst="donut">
              <a:avLst>
                <a:gd name="adj" fmla="val 25000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031"/>
            <p:cNvSpPr/>
            <p:nvPr/>
          </p:nvSpPr>
          <p:spPr>
            <a:xfrm>
              <a:off x="6045480" y="17701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032"/>
            <p:cNvSpPr/>
            <p:nvPr/>
          </p:nvSpPr>
          <p:spPr>
            <a:xfrm>
              <a:off x="3593520" y="2984400"/>
              <a:ext cx="807480" cy="8082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3"/>
            <p:cNvSpPr/>
            <p:nvPr/>
          </p:nvSpPr>
          <p:spPr>
            <a:xfrm>
              <a:off x="6045480" y="12319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" descr=""/>
          <p:cNvPicPr/>
          <p:nvPr/>
        </p:nvPicPr>
        <p:blipFill>
          <a:blip r:embed="rId1"/>
          <a:srcRect l="1512" t="32068" r="31980" b="3120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2050920" y="549360"/>
            <a:ext cx="48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состоят из ПОДУРОВНЕЙ, на которых располагаются  атомные орбитал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Deafult User</cp:lastModifiedBy>
  <dcterms:modified xsi:type="dcterms:W3CDTF">2017-10-10T18:22:02Z</dcterms:modified>
  <cp:revision>5</cp:revision>
  <dc:subject/>
  <dc:title>ЧТО ТАКОЕ</dc:title>
</cp:coreProperties>
</file>