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37A7C-2A8D-4124-A4B9-61A837E54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BDCB2-EF48-4B2F-B486-5ADE6DC65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51E53-8CAA-4FEE-8DD9-12683C438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F14FB-9D64-4C43-BF78-3C9A41E79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167AE-94FA-4ABD-8F3B-8B09E3F49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655B2-2E31-44DF-A255-A28973D59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51634-FC70-46D3-8A88-46AC5C708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FD082-1DFD-4B7F-9876-F34BDAB71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EF747-EBA6-4A01-A10D-9BA6F49CF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4AE1A-9BE7-444F-A1B6-1C08B7334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71764-975C-4EBF-AB6F-CE12A253E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4CE0E-13C9-4E5D-85F1-A51FE0BD0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4CDE9-3F08-4EBD-B427-306416ECF2D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85840" y="-360"/>
            <a:ext cx="5257800" cy="396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663300"/>
                </a:solidFill>
                <a:latin typeface="Arial"/>
              </a:rPr>
              <a:t>Эрнест Миллер Хемингуэй</a:t>
            </a:r>
            <a:br>
              <a:rPr sz="3200"/>
            </a:br>
            <a:br>
              <a:rPr sz="2000"/>
            </a:br>
            <a:r>
              <a:rPr b="1" lang="ru-RU" sz="4000" spc="-1" strike="noStrike">
                <a:solidFill>
                  <a:srgbClr val="663300"/>
                </a:solidFill>
                <a:latin typeface="Arial"/>
              </a:rPr>
              <a:t>(1899-1961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1640" y="4190760"/>
            <a:ext cx="426708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825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Arial"/>
              </a:rPr>
              <a:t>    </a:t>
            </a:r>
            <a:r>
              <a:rPr b="1" lang="ru-RU" sz="3300" spc="-1" strike="noStrike">
                <a:solidFill>
                  <a:srgbClr val="663300"/>
                </a:solidFill>
                <a:latin typeface="Arial"/>
              </a:rPr>
              <a:t>Биография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25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663300"/>
                </a:solidFill>
                <a:latin typeface="Arial"/>
              </a:rPr>
              <a:t>    </a:t>
            </a:r>
            <a:r>
              <a:rPr b="1" lang="ru-RU" sz="3300" spc="-1" strike="noStrike">
                <a:solidFill>
                  <a:srgbClr val="663300"/>
                </a:solidFill>
                <a:latin typeface="Arial"/>
              </a:rPr>
              <a:t>Личность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25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663300"/>
                </a:solidFill>
                <a:latin typeface="Arial"/>
              </a:rPr>
              <a:t>    </a:t>
            </a:r>
            <a:r>
              <a:rPr b="1" lang="ru-RU" sz="3300" spc="-1" strike="noStrike">
                <a:solidFill>
                  <a:srgbClr val="663300"/>
                </a:solidFill>
                <a:latin typeface="Arial"/>
              </a:rPr>
              <a:t>Библиография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7" descr="200px-Ernest_Hemingway_1950"/>
          <p:cNvPicPr/>
          <p:nvPr/>
        </p:nvPicPr>
        <p:blipFill>
          <a:blip r:embed="rId2"/>
          <a:stretch/>
        </p:blipFill>
        <p:spPr>
          <a:xfrm>
            <a:off x="380880" y="1143000"/>
            <a:ext cx="350532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f00"/>
              </a:gs>
              <a:gs pos="100000">
                <a:srgbClr val="ffb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-9900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3580920" y="457200"/>
            <a:ext cx="52578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«Жизнь писателя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когда он на высоте, протекает в одиночестве. Ибо творит он один, и, если он достаточно хороший писатель, его дело изо дня в день видеть впереди вечность или отсутствие таковой»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(Э. Хемингуэй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5" descr="1954-23_20060228_-1"/>
          <p:cNvPicPr/>
          <p:nvPr/>
        </p:nvPicPr>
        <p:blipFill>
          <a:blip r:embed="rId1"/>
          <a:stretch/>
        </p:blipFill>
        <p:spPr>
          <a:xfrm>
            <a:off x="533520" y="228600"/>
            <a:ext cx="2666880" cy="33526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6" descr="OldmanQuinn"/>
          <p:cNvPicPr/>
          <p:nvPr/>
        </p:nvPicPr>
        <p:blipFill>
          <a:blip r:embed="rId2"/>
          <a:srcRect l="4498" t="4908" r="4498" b="4908"/>
          <a:stretch/>
        </p:blipFill>
        <p:spPr>
          <a:xfrm>
            <a:off x="609480" y="3657600"/>
            <a:ext cx="251460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62" dur="1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65" dur="10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68" dur="10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71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73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75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f00"/>
              </a:gs>
              <a:gs pos="100000">
                <a:srgbClr val="ffb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Любовь к путешествия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62120" y="914040"/>
            <a:ext cx="769608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Times New Roman"/>
              </a:rPr>
              <a:t>Это как пересадка на новую почву, и людям она так же необходима, как и растениям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0" lang="ru-RU" sz="2900" spc="-1" strike="noStrike">
                <a:solidFill>
                  <a:srgbClr val="ffffff"/>
                </a:solidFill>
                <a:latin typeface="Times New Roman"/>
              </a:rPr>
              <a:t>в городах Швейцарии и Италии, куда мы ездили, пока не открыли Шрунс в Австрии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0" lang="ru-RU" sz="2900" spc="-1" strike="noStrike">
                <a:solidFill>
                  <a:srgbClr val="ffffff"/>
                </a:solidFill>
                <a:latin typeface="Times New Roman"/>
              </a:rPr>
              <a:t>а затем продевал руку в пропитанные солёным потом ремни рюкзака, вскидывал его, просовывал вторую руку и начинал спускаться к озеру, чувствуя под мокасинами сосновые иглы, а на спине – тяжесть рюкзака (описывает написание романа, как увлекательное путешествие)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f00"/>
              </a:gs>
              <a:gs pos="100000">
                <a:srgbClr val="ffb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Отношение к работ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990360"/>
            <a:ext cx="82296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imes New Roman"/>
              </a:rPr>
              <a:t>Я хочу знать, о чём пишут люди. Это помогает мне не писать то же само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imes New Roman"/>
              </a:rPr>
              <a:t>Я всегда работал до тех пор, пока мне не удавалось чего-то добиться, и всегда останавливал работу, уже зная, что должно произойти дальше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imes New Roman"/>
              </a:rPr>
              <a:t>Писать для газеты я мог где угодно и при любых обстоятельствах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imes New Roman"/>
              </a:rPr>
              <a:t>Мне легче думалось, когда я гулял, или был чем-то занят, или наблюдал, как другие занимаются делом, в котором знают тол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10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f00"/>
              </a:gs>
              <a:gs pos="100000">
                <a:srgbClr val="ffb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-2991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574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Times New Roman"/>
              </a:rPr>
              <a:t>Будь я проклят, если напишу роман только ради того, чтобы обедать каждый день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imes New Roman"/>
              </a:rPr>
              <a:t>- У вас был вид человека, заблудившегося в тропическом лесу,  – сказал он 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0" lang="ru-RU" sz="3000" spc="-1" strike="noStrike">
                <a:solidFill>
                  <a:srgbClr val="ffffff"/>
                </a:solidFill>
                <a:latin typeface="Times New Roman"/>
              </a:rPr>
              <a:t>хозяин ресторана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0" lang="ru-RU" sz="3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Times New Roman"/>
              </a:rPr>
              <a:t>- Когда я работаю, я как слепой кабан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0" lang="ru-RU" sz="3000" spc="-1" strike="noStrike">
                <a:solidFill>
                  <a:srgbClr val="ffffff"/>
                </a:solidFill>
                <a:latin typeface="Times New Roman"/>
              </a:rPr>
              <a:t>он начал говорить о том, что я написал, а я перестал слушать. Когда меня хвалили в глаза, мне становилось тошно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5" descr="The Old man and the sea/ Старик и море. Повесть (на английском языке). Хемингуэй Эрнест. Купить книгу. Издательство Изд-во &amp;quot;Радуга&amp;quot;."/>
          <p:cNvPicPr/>
          <p:nvPr/>
        </p:nvPicPr>
        <p:blipFill>
          <a:blip r:embed="rId1"/>
          <a:stretch/>
        </p:blipFill>
        <p:spPr>
          <a:xfrm>
            <a:off x="0" y="0"/>
            <a:ext cx="251460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8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5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50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f00"/>
              </a:gs>
              <a:gs pos="100000">
                <a:srgbClr val="ffb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Образованнос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imes New Roman"/>
              </a:rPr>
              <a:t>Я ходил туда почти каждый день из-за Сезанна и чтобы посмотреть полотна Моне и Мане, а также других импрессионистов, с которыми впервые познакомился в Институте искусств в Чикаго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0" lang="ru-RU" sz="3000" spc="-1" strike="noStrike">
                <a:solidFill>
                  <a:srgbClr val="ffffff"/>
                </a:solidFill>
                <a:latin typeface="Times New Roman"/>
              </a:rPr>
              <a:t>она обладала … волосами, подстриженными, как у Жанны д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’</a:t>
            </a:r>
            <a:r>
              <a:rPr b="0" lang="ru-RU" sz="3000" spc="-1" strike="noStrike">
                <a:solidFill>
                  <a:srgbClr val="ffffff"/>
                </a:solidFill>
                <a:latin typeface="Times New Roman"/>
              </a:rPr>
              <a:t>Арк на иллюстрациях Бутэ де Монвел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imes New Roman"/>
              </a:rPr>
              <a:t>Знание французского, немецкого языко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9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45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45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5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45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f00"/>
              </a:gs>
              <a:gs pos="100000">
                <a:srgbClr val="ffb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Чувство собственного достоинст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85345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Times New Roman"/>
              </a:rPr>
              <a:t>Я не пытался с ней </a:t>
            </a: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0" lang="ru-RU" sz="2900" spc="-1" strike="noStrike">
                <a:solidFill>
                  <a:srgbClr val="ffffff"/>
                </a:solidFill>
                <a:latin typeface="Times New Roman"/>
              </a:rPr>
              <a:t>Г.Стайн</a:t>
            </a:r>
            <a:r>
              <a:rPr b="0" lang="en-US" sz="29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0" lang="ru-RU" sz="2900" spc="-1" strike="noStrike">
                <a:solidFill>
                  <a:srgbClr val="ffffff"/>
                </a:solidFill>
                <a:latin typeface="Times New Roman"/>
              </a:rPr>
              <a:t> спорить и не стал повторять, как я строю диалог. Это моё личное дело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Times New Roman"/>
              </a:rPr>
              <a:t>Я почувствовал отвращение к себе за эти жалобы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0" lang="ru-RU" sz="2900" spc="-1" strike="noStrike">
                <a:solidFill>
                  <a:srgbClr val="ffffff"/>
                </a:solidFill>
                <a:latin typeface="Times New Roman"/>
              </a:rPr>
              <a:t>подросток, живущий среди мужчин, всегда должен быть готов убить человека и быть уверенным, что сумеет это сделать, если он хочет, чтобы к нему не приставали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0" lang="ru-RU" sz="2900" spc="-1" strike="noStrike">
                <a:solidFill>
                  <a:srgbClr val="ffffff"/>
                </a:solidFill>
                <a:latin typeface="Times New Roman"/>
              </a:rPr>
              <a:t>мы вовсе не считали себя бедными. Мы просто не желали мириться с этой мыслью. Мы причисляли себя к избранным, а те, на кого мы смотрели сверху вниз, были богатыми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f00"/>
              </a:gs>
              <a:gs pos="100000">
                <a:srgbClr val="ffb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Внутреннее благородство, пристойнос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Times New Roman"/>
              </a:rPr>
              <a:t>(Услышав разговор Гертруды Стайн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3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3400" spc="-1" strike="noStrike">
                <a:solidFill>
                  <a:srgbClr val="ffffff"/>
                </a:solidFill>
                <a:latin typeface="Times New Roman"/>
              </a:rPr>
              <a:t>- Мне нужно идти,  – сказал я и старался не   слушать, пока выходил из комнаты, но разговор   продолжался, и, чтобы не слышать, мне оставалось только уйти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3400" spc="-1" strike="noStrike">
                <a:solidFill>
                  <a:srgbClr val="ffffff"/>
                </a:solidFill>
                <a:latin typeface="Times New Roman"/>
              </a:rPr>
              <a:t>То, что говорилось, было отвратительно, а ответы ещё отвратительнее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f00"/>
              </a:gs>
              <a:gs pos="100000">
                <a:srgbClr val="ffb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Пристрастие к алкогол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68580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lvl="3" marL="15681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ино пили не из снобизма и не ради позы, и это не было культом: пить было так же естественно, как есть, а мне – так же необходимо, и я не стал бы обедать без вина, сидра или пи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Мы выпили по виски с минеральной водой, и настроение у нас обоих стало заметно лучш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…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мы пили хороший кагор, заказывали четверть бутылки, полбутылки, а то и целый граф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Я зачастил в студию, и она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Г.Стайн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угощала меня настоящей водк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азве можно развратить бутылкой марсалы того, кто, как вы, пьёт чистый спирт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5" descr="hemingway_17_s"/>
          <p:cNvPicPr/>
          <p:nvPr/>
        </p:nvPicPr>
        <p:blipFill>
          <a:blip r:embed="rId1"/>
          <a:stretch/>
        </p:blipFill>
        <p:spPr>
          <a:xfrm>
            <a:off x="228600" y="762120"/>
            <a:ext cx="213372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nodeType="clickEffect" fill="hold">
                      <p:stCondLst>
                        <p:cond delay="indefinite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6" dur="4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7" dur="4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4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4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8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4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6" dur="4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4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4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nodeType="clickEffect" fill="hold">
                      <p:stCondLst>
                        <p:cond delay="indefinite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5" dur="4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6" dur="4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4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4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nodeType="clickEffect" fill="hold">
                      <p:stCondLst>
                        <p:cond delay="indefinite"/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5" dur="4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6" dur="4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4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4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nodeType="clickEffect" fill="hold">
                      <p:stCondLst>
                        <p:cond delay="indefinite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5" dur="4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6" dur="4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4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4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nodeType="clickEffect" fill="hold">
                      <p:stCondLst>
                        <p:cond delay="indefinite"/>
                      </p:stCondLst>
                      <p:childTnLst>
                        <p:par>
                          <p:cTn id="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4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6" dur="4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4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4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f00"/>
              </a:gs>
              <a:gs pos="100000">
                <a:srgbClr val="ffb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Прямота, искреннос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(на просьбу Скотта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Фитцджеральда сказать ему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равду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3400" spc="-1" strike="noStrike">
                <a:solidFill>
                  <a:srgbClr val="ffffff"/>
                </a:solidFill>
                <a:latin typeface="Times New Roman"/>
              </a:rPr>
              <a:t>Ты совершенно нормально сложен. И тебе не о чем беспокоиться. Ты просил меня сказать тебе правду, и я мог бы сказать тебе значительно больше, но это правда, и остальное неважно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5" descr="Эрнест Хемингуэй (фото)"/>
          <p:cNvPicPr/>
          <p:nvPr/>
        </p:nvPicPr>
        <p:blipFill>
          <a:blip r:embed="rId1"/>
          <a:stretch/>
        </p:blipFill>
        <p:spPr>
          <a:xfrm>
            <a:off x="990720" y="990720"/>
            <a:ext cx="182880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1" dur="indefinite" restart="never" nodeType="tmRoot">
          <p:childTnLst>
            <p:seq>
              <p:cTn id="632" dur="indefinite" nodeType="mainSeq">
                <p:childTnLst>
                  <p:par>
                    <p:cTn id="633" nodeType="clickEffect" fill="hold">
                      <p:stCondLst>
                        <p:cond delay="indefinite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nodeType="clickEffect" fill="hold">
                      <p:stCondLst>
                        <p:cond delay="indefinite"/>
                      </p:stCondLst>
                      <p:childTnLst>
                        <p:par>
                          <p:cTn id="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644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4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nodeType="clickEffect" fill="hold">
                      <p:stCondLst>
                        <p:cond delay="indefinite"/>
                      </p:stCondLst>
                      <p:childTnLst>
                        <p:par>
                          <p:cTn id="6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52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f00"/>
              </a:gs>
              <a:gs pos="100000">
                <a:srgbClr val="ffb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Оптимиз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0" lang="ru-RU" sz="3000" spc="-1" strike="noStrike">
                <a:solidFill>
                  <a:srgbClr val="ffffff"/>
                </a:solidFill>
                <a:latin typeface="Times New Roman"/>
              </a:rPr>
              <a:t>ведь даже в самые плохие времена случаются нелепые и забавные вещ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imes New Roman"/>
              </a:rPr>
              <a:t>Каждый год в тебе что-то умирает, когда с деревьев опадают листья …Но ты знаешь, что весна обязательно придёт, так же как ты уверен, что замёрзшая река снова освободится ото льд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imes New Roman"/>
              </a:rPr>
              <a:t>Теперь я пишу рассказы, которых никто не понимает. Но их поймут. Нужно лишь время и вера в себ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imes New Roman"/>
              </a:rPr>
              <a:t>Только смерть непоправим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nodeType="clickEffect" fill="hold">
                      <p:stCondLst>
                        <p:cond delay="indefinite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nodeType="clickEffect" fill="hold">
                      <p:stCondLst>
                        <p:cond delay="indefinite"/>
                      </p:stCondLst>
                      <p:childTnLst>
                        <p:par>
                          <p:cTn id="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nodeType="clickEffect" fill="hold">
                      <p:stCondLst>
                        <p:cond delay="indefinite"/>
                      </p:stCondLst>
                      <p:childTnLst>
                        <p:par>
                          <p:cTn id="6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nodeType="clickEffect" fill="hold">
                      <p:stCondLst>
                        <p:cond delay="indefinite"/>
                      </p:stCondLst>
                      <p:childTnLst>
                        <p:par>
                          <p:cTn id="6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nodeType="clickEffect" fill="hold">
                      <p:stCondLst>
                        <p:cond delay="indefinite"/>
                      </p:stCondLst>
                      <p:childTnLst>
                        <p:par>
                          <p:cTn id="6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663300"/>
                </a:solidFill>
                <a:latin typeface="Arial"/>
              </a:rPr>
              <a:t>Биография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rnest Miller Hemingway</a:t>
            </a:r>
            <a:br>
              <a:rPr sz="3600"/>
            </a:br>
            <a:r>
              <a:rPr b="0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(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1899-196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428640" y="1980720"/>
            <a:ext cx="57150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мериканский писатель, лауреат Нобелевской премии по литератур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Широкое признание получил благодаря своим романам и многочисленным рассказа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го стиль, краткий и насыщенный, сильно повлиял на американскую и британскую литературу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X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ве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5" descr="Эрнест Хемингуэй (фото)"/>
          <p:cNvPicPr/>
          <p:nvPr/>
        </p:nvPicPr>
        <p:blipFill>
          <a:blip r:embed="rId2"/>
          <a:stretch/>
        </p:blipFill>
        <p:spPr>
          <a:xfrm>
            <a:off x="304920" y="2438280"/>
            <a:ext cx="304776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3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5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40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45" dur="5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50" dur="5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f00"/>
              </a:gs>
              <a:gs pos="100000">
                <a:srgbClr val="ffb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Суевер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imes New Roman"/>
              </a:rPr>
              <a:t>- Нам всегда везёт, – сказал я и, как дурак, не постучал по дереву, чтобы не сглазить. А ведь в той квартире всюду было дерево, по которому можно было постучат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imes New Roman"/>
              </a:rPr>
              <a:t>А удачу должны принести конский каштан и кроличья лапка в правом кармане. Мех кроличьей лапки давным-давно стёрся, а косточки и сухожилия стали как полированные. Когти царапали подкладку кармана, и ты знал, что твоя удача с тобой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0" dur="indefinite" restart="never" nodeType="tmRoot">
          <p:childTnLst>
            <p:seq>
              <p:cTn id="711" dur="indefinite" nodeType="mainSeq">
                <p:childTnLst>
                  <p:par>
                    <p:cTn id="712" nodeType="clickEffect" fill="hold">
                      <p:stCondLst>
                        <p:cond delay="indefinite"/>
                      </p:stCondLst>
                      <p:childTnLst>
                        <p:par>
                          <p:cTn id="7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nodeType="clickEffect" fill="hold">
                      <p:stCondLst>
                        <p:cond delay="indefinite"/>
                      </p:stCondLst>
                      <p:childTnLst>
                        <p:par>
                          <p:cTn id="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6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nodeType="clickEffect" fill="hold">
                      <p:stCondLst>
                        <p:cond delay="indefinite"/>
                      </p:stCondLst>
                      <p:childTnLst>
                        <p:par>
                          <p:cTn id="7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1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4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f00"/>
              </a:gs>
              <a:gs pos="100000">
                <a:srgbClr val="ffb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Духовное важнее материального, неприхотливос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ашим домом на улице Кардинала Лемуана была двухкомнатная квартирка без горячей воды и канализации, которую заменял бак. Зато из окна открывался чудесный ви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иние блокноты, два карандаша и точилка, мраморные столики, запах раннего утра, свежий и всеочищающий, да немного удачи – вот и всё, что требовалос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Того, кто работает и получает удовлетворение от работы, нужда не огорчает. Ванные, души и тёплые уборные я считал удобствами, которые существуют для людей во всех отношениях ниже на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5" dur="indefinite" restart="never" nodeType="tmRoot">
          <p:childTnLst>
            <p:seq>
              <p:cTn id="736" dur="indefinite" nodeType="mainSeq">
                <p:childTnLst>
                  <p:par>
                    <p:cTn id="737" nodeType="clickEffect" fill="hold">
                      <p:stCondLst>
                        <p:cond delay="indefinite"/>
                      </p:stCondLst>
                      <p:childTnLst>
                        <p:par>
                          <p:cTn id="7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nodeType="clickEffect" fill="hold">
                      <p:stCondLst>
                        <p:cond delay="indefinite"/>
                      </p:stCondLst>
                      <p:childTnLst>
                        <p:par>
                          <p:cTn id="7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8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9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nodeType="clickEffect" fill="hold">
                      <p:stCondLst>
                        <p:cond delay="indefinite"/>
                      </p:stCondLst>
                      <p:childTnLst>
                        <p:par>
                          <p:cTn id="7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5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6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nodeType="clickEffect" fill="hold">
                      <p:stCondLst>
                        <p:cond delay="indefinite"/>
                      </p:stCondLst>
                      <p:childTnLst>
                        <p:par>
                          <p:cTn id="7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2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3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f00"/>
              </a:gs>
              <a:gs pos="100000">
                <a:srgbClr val="ffb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400" y="460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Увлеч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8390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3000" spc="-1" strike="noStrike" u="sng">
                <a:solidFill>
                  <a:srgbClr val="ffffff"/>
                </a:solidFill>
                <a:uFillTx/>
                <a:latin typeface="Times New Roman"/>
              </a:rPr>
              <a:t>Рыбалк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9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900" spc="-1" strike="noStrike">
                <a:solidFill>
                  <a:srgbClr val="ffffff"/>
                </a:solidFill>
                <a:latin typeface="Times New Roman"/>
              </a:rPr>
              <a:t>Сам я не удил, потому что у меня не </a:t>
            </a:r>
            <a:r>
              <a:rPr b="0" lang="ru-RU" sz="29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900" spc="-1" strike="noStrike">
                <a:solidFill>
                  <a:srgbClr val="ffffff"/>
                </a:solidFill>
                <a:latin typeface="Times New Roman"/>
              </a:rPr>
              <a:t>было снасти, и я предпочитал </a:t>
            </a:r>
            <a:r>
              <a:rPr b="0" lang="ru-RU" sz="29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900" spc="-1" strike="noStrike">
                <a:solidFill>
                  <a:srgbClr val="ffffff"/>
                </a:solidFill>
                <a:latin typeface="Times New Roman"/>
              </a:rPr>
              <a:t>откладывать деньги, чтобы поехать </a:t>
            </a:r>
            <a:r>
              <a:rPr b="0" lang="ru-RU" sz="29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900" spc="-1" strike="noStrike">
                <a:solidFill>
                  <a:srgbClr val="ffffff"/>
                </a:solidFill>
                <a:latin typeface="Times New Roman"/>
              </a:rPr>
              <a:t>удить рыбу в Испании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Times New Roman"/>
              </a:rPr>
              <a:t>Я внимательно следил за рыболовами, и мне всегда было приятно сознавать, что я разбираюсь во всех тонкостях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 u="sng">
                <a:solidFill>
                  <a:srgbClr val="ffffff"/>
                </a:solidFill>
                <a:uFillTx/>
                <a:latin typeface="Times New Roman"/>
              </a:rPr>
              <a:t>Теннис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Times New Roman"/>
              </a:rPr>
              <a:t>Я играл в теннис с Эзрой, когда вы заходили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Times New Roman"/>
              </a:rPr>
              <a:t>После тенниса Эзра предложил зайти к нему выпить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5" descr="hemingway_15_s"/>
          <p:cNvPicPr/>
          <p:nvPr/>
        </p:nvPicPr>
        <p:blipFill>
          <a:blip r:embed="rId1"/>
          <a:stretch/>
        </p:blipFill>
        <p:spPr>
          <a:xfrm>
            <a:off x="304920" y="304920"/>
            <a:ext cx="259056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5" dur="indefinite" restart="never" nodeType="tmRoot">
          <p:childTnLst>
            <p:seq>
              <p:cTn id="766" dur="indefinite" nodeType="mainSeq">
                <p:childTnLst>
                  <p:par>
                    <p:cTn id="767" nodeType="clickEffect" fill="hold">
                      <p:stCondLst>
                        <p:cond delay="indefinite"/>
                      </p:stCondLst>
                      <p:childTnLst>
                        <p:par>
                          <p:cTn id="7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nodeType="clickEffect" fill="hold">
                      <p:stCondLst>
                        <p:cond delay="indefinite"/>
                      </p:stCondLst>
                      <p:childTnLst>
                        <p:par>
                          <p:cTn id="7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8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9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nodeType="clickEffect" fill="hold">
                      <p:stCondLst>
                        <p:cond delay="indefinite"/>
                      </p:stCondLst>
                      <p:childTnLst>
                        <p:par>
                          <p:cTn id="7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0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1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nodeType="clickEffect" fill="hold">
                      <p:stCondLst>
                        <p:cond delay="indefinite"/>
                      </p:stCondLst>
                      <p:childTnLst>
                        <p:par>
                          <p:cTn id="7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7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nodeType="clickEffect" fill="hold">
                      <p:stCondLst>
                        <p:cond delay="indefinite"/>
                      </p:stCondLst>
                      <p:childTnLst>
                        <p:par>
                          <p:cTn id="8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4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5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nodeType="clickEffect" fill="hold">
                      <p:stCondLst>
                        <p:cond delay="indefinite"/>
                      </p:stCondLst>
                      <p:childTnLst>
                        <p:par>
                          <p:cTn id="8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1" dur="5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2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nodeType="clickEffect" fill="hold">
                      <p:stCondLst>
                        <p:cond delay="indefinite"/>
                      </p:stCondLst>
                      <p:childTnLst>
                        <p:par>
                          <p:cTn id="8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8" dur="500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9" dur="5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5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f00"/>
              </a:gs>
              <a:gs pos="100000">
                <a:srgbClr val="ffb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-93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45720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 u="sng">
                <a:solidFill>
                  <a:srgbClr val="ffffff"/>
                </a:solidFill>
                <a:uFillTx/>
                <a:latin typeface="Times New Roman"/>
              </a:rPr>
              <a:t>Бокс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Times New Roman"/>
              </a:rPr>
              <a:t>Эзра попросил, чтобы я научил его боксировать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Times New Roman"/>
              </a:rPr>
              <a:t>Я внимательно следил за Льюисом, незаметно, как следит за противником боксёр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 u="sng">
                <a:solidFill>
                  <a:srgbClr val="ffffff"/>
                </a:solidFill>
                <a:uFillTx/>
                <a:latin typeface="Times New Roman"/>
              </a:rPr>
              <a:t>Лыжи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Times New Roman"/>
              </a:rPr>
              <a:t>Герр Вальтер Лент собирался открыть школу горнолыжного спорта, и мы оба записались в неё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Times New Roman"/>
              </a:rPr>
              <a:t>Мы с Хэдли увлекались лыжами с тех пор, как в первый раз попробовали этот вид спорта в Швейцарии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1" dur="indefinite" restart="never" nodeType="tmRoot">
          <p:childTnLst>
            <p:seq>
              <p:cTn id="822" dur="indefinite" nodeType="mainSeq">
                <p:childTnLst>
                  <p:par>
                    <p:cTn id="823" nodeType="clickEffect" fill="hold">
                      <p:stCondLst>
                        <p:cond delay="indefinite"/>
                      </p:stCondLst>
                      <p:childTnLst>
                        <p:par>
                          <p:cTn id="8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7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8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nodeType="clickEffect" fill="hold">
                      <p:stCondLst>
                        <p:cond delay="indefinite"/>
                      </p:stCondLst>
                      <p:childTnLst>
                        <p:par>
                          <p:cTn id="8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4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5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nodeType="clickEffect" fill="hold">
                      <p:stCondLst>
                        <p:cond delay="indefinite"/>
                      </p:stCondLst>
                      <p:childTnLst>
                        <p:par>
                          <p:cTn id="8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1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2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nodeType="clickEffect" fill="hold">
                      <p:stCondLst>
                        <p:cond delay="indefinite"/>
                      </p:stCondLst>
                      <p:childTnLst>
                        <p:par>
                          <p:cTn id="8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8" dur="5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9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nodeType="clickEffect" fill="hold">
                      <p:stCondLst>
                        <p:cond delay="indefinite"/>
                      </p:stCondLst>
                      <p:childTnLst>
                        <p:par>
                          <p:cTn id="8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5" dur="500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6" dur="5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5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nodeType="clickEffect" fill="hold">
                      <p:stCondLst>
                        <p:cond delay="indefinite"/>
                      </p:stCondLst>
                      <p:childTnLst>
                        <p:par>
                          <p:cTn id="8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2" dur="500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3" dur="500" fill="hold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500" fill="hold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f00"/>
              </a:gs>
              <a:gs pos="100000">
                <a:srgbClr val="ffb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Азартнос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Фонд для скачек я хранил в секрете и отдельно от всех других дене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Значит, когда я закончу работать, мы отправимся на скачк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Мы решили сделать крупную ставку, чтобы выиграть приличную сумм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елогонки были прекрасной новинкой, почти мне не извест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5" dur="indefinite" restart="never" nodeType="tmRoot">
          <p:childTnLst>
            <p:seq>
              <p:cTn id="866" dur="indefinite" nodeType="mainSeq">
                <p:childTnLst>
                  <p:par>
                    <p:cTn id="867" nodeType="clickEffect" fill="hold">
                      <p:stCondLst>
                        <p:cond delay="indefinite"/>
                      </p:stCondLst>
                      <p:childTnLst>
                        <p:par>
                          <p:cTn id="8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nodeType="clickEffect" fill="hold">
                      <p:stCondLst>
                        <p:cond delay="indefinite"/>
                      </p:stCondLst>
                      <p:childTnLst>
                        <p:par>
                          <p:cTn id="8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8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1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nodeType="clickEffect" fill="hold">
                      <p:stCondLst>
                        <p:cond delay="indefinite"/>
                      </p:stCondLst>
                      <p:childTnLst>
                        <p:par>
                          <p:cTn id="8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6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7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9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nodeType="clickEffect" fill="hold">
                      <p:stCondLst>
                        <p:cond delay="indefinite"/>
                      </p:stCondLst>
                      <p:childTnLst>
                        <p:par>
                          <p:cTn id="8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4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5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6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7" dur="5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nodeType="clickEffect" fill="hold">
                      <p:stCondLst>
                        <p:cond delay="indefinite"/>
                      </p:stCondLst>
                      <p:childTnLst>
                        <p:par>
                          <p:cTn id="8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2" dur="500" fill="hold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500" fill="hold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500" fill="hold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5" dur="500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f00"/>
              </a:gs>
              <a:gs pos="100000">
                <a:srgbClr val="ffb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Практичнос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imes New Roman"/>
              </a:rPr>
              <a:t>Я был строг в расходах. Мне казалось вполне естественным носить для тепла свитер вместо нижней рубашк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imes New Roman"/>
              </a:rPr>
              <a:t>...я знал, сколько придётся отдать за маленькую вязанку хвороста… Дыма не было, и я решил, что трубы, очевидно, остыли, и не будет тяги, и в комнате будет полно дыма, и дрова сгорят зря, а с ними сгорят и деньги, и зашагал под дождём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6" dur="indefinite" restart="never" nodeType="tmRoot">
          <p:childTnLst>
            <p:seq>
              <p:cTn id="907" dur="indefinite" nodeType="mainSeq">
                <p:childTnLst>
                  <p:par>
                    <p:cTn id="908" nodeType="clickEffect" fill="hold">
                      <p:stCondLst>
                        <p:cond delay="indefinite"/>
                      </p:stCondLst>
                      <p:childTnLst>
                        <p:par>
                          <p:cTn id="9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nodeType="clickEffect" fill="hold">
                      <p:stCondLst>
                        <p:cond delay="indefinite"/>
                      </p:stCondLst>
                      <p:childTnLst>
                        <p:par>
                          <p:cTn id="9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9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0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3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nodeType="clickEffect" fill="hold">
                      <p:stCondLst>
                        <p:cond delay="indefinite"/>
                      </p:stCondLst>
                      <p:childTnLst>
                        <p:par>
                          <p:cTn id="9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8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9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1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2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f00"/>
              </a:gs>
              <a:gs pos="100000">
                <a:srgbClr val="ffb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Чувство юмора 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даже в тяжёлой жизненной ситуац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60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3000" spc="-1" strike="noStrike">
                <a:solidFill>
                  <a:srgbClr val="ffffff"/>
                </a:solidFill>
                <a:latin typeface="Times New Roman"/>
              </a:rPr>
              <a:t>Когда приходится экономить на еде, надо держать себя в руках, чтобы не думать слишком много о голоде. Голод хорошо дисциплинирует и многому учит. И до тех пор, пока читатели не понимают этого, ты впереди них. «Ещё бы, –  подумал я, – сейчас я настолько впереди них, что даже не могу обедать каждый день. Было бы неплохо, если бы они немного сократили разрыв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3" dur="indefinite" restart="never" nodeType="tmRoot">
          <p:childTnLst>
            <p:seq>
              <p:cTn id="934" dur="indefinite" nodeType="mainSeq">
                <p:childTnLst>
                  <p:par>
                    <p:cTn id="935" nodeType="clickEffect" fill="hold">
                      <p:stCondLst>
                        <p:cond delay="indefinite"/>
                      </p:stCondLst>
                      <p:childTnLst>
                        <p:par>
                          <p:cTn id="9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nodeType="clickEffect" fill="hold">
                      <p:stCondLst>
                        <p:cond delay="indefinite"/>
                      </p:stCondLst>
                      <p:childTnLst>
                        <p:par>
                          <p:cTn id="9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6" dur="10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7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8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f00"/>
              </a:gs>
              <a:gs pos="100000">
                <a:srgbClr val="ffb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Раздражительность, 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когда мешают работа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Times New Roman"/>
              </a:rPr>
              <a:t>Характер был у меня тогда очень скверный и вспыльчивый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Times New Roman"/>
              </a:rPr>
              <a:t>- Привет, Хем. Чем занимаешься? Пишешь в кафе?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(Хэл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900" spc="-1" strike="noStrike">
                <a:solidFill>
                  <a:srgbClr val="ffffff"/>
                </a:solidFill>
                <a:latin typeface="Times New Roman"/>
              </a:rPr>
              <a:t>- За каким чёртом тебя принесло сюда, сукин ты сын! Убирайся отсюда вместе со своим паршивым длинным языком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(Хемингуэй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Times New Roman"/>
              </a:rPr>
              <a:t>- Я просто зашёл выпить. Что тут такого?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(Хэл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900" spc="-1" strike="noStrike">
                <a:solidFill>
                  <a:srgbClr val="ffffff"/>
                </a:solidFill>
                <a:latin typeface="Times New Roman"/>
              </a:rPr>
              <a:t>- У нас дома тебе дали бы выпить, а потом выбросили бы твой стакан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(Хем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9" dur="indefinite" restart="never" nodeType="tmRoot">
          <p:childTnLst>
            <p:seq>
              <p:cTn id="950" dur="indefinite" nodeType="mainSeq">
                <p:childTnLst>
                  <p:par>
                    <p:cTn id="951" nodeType="clickEffect" fill="hold">
                      <p:stCondLst>
                        <p:cond delay="indefinite"/>
                      </p:stCondLst>
                      <p:childTnLst>
                        <p:par>
                          <p:cTn id="9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nodeType="clickEffect" fill="hold">
                      <p:stCondLst>
                        <p:cond delay="indefinite"/>
                      </p:stCondLst>
                      <p:childTnLst>
                        <p:par>
                          <p:cTn id="9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2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nodeType="clickEffect" fill="hold">
                      <p:stCondLst>
                        <p:cond delay="indefinite"/>
                      </p:stCondLst>
                      <p:childTnLst>
                        <p:par>
                          <p:cTn id="9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7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1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nodeType="clickEffect" fill="hold">
                      <p:stCondLst>
                        <p:cond delay="indefinite"/>
                      </p:stCondLst>
                      <p:childTnLst>
                        <p:par>
                          <p:cTn id="9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6" dur="5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0" dur="5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f00"/>
              </a:gs>
              <a:gs pos="100000">
                <a:srgbClr val="ffb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Жёсткость к тем, кто не нравитс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28600" y="761760"/>
            <a:ext cx="86868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 Тебе не интересны жизнь и страдания других людей? (Хэл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 Только не твои (Хемингуэй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 Я думал, ты поможешь мне, Хем (Хэл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 Я бы с радостью пристрелил тебя (Хем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 А я для тебя сделал бы всё, что угодно (Хэл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 Тогда держись подальше от этого кафе. Начни с этого. Ты пишешь? (Хем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 Стараюсь написать что-нибудь получше. (Хэл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 Если не получается, лучше не писать. Найди работу. Хоть повесься, только молчи. Ты никогда не сможешь писать. (Хем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1" dur="indefinite" restart="never" nodeType="tmRoot">
          <p:childTnLst>
            <p:seq>
              <p:cTn id="982" dur="indefinite" nodeType="mainSeq">
                <p:childTnLst>
                  <p:par>
                    <p:cTn id="983" nodeType="clickEffect" fill="hold">
                      <p:stCondLst>
                        <p:cond delay="indefinite"/>
                      </p:stCondLst>
                      <p:childTnLst>
                        <p:par>
                          <p:cTn id="9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0" nodeType="clickEffect" fill="hold">
                      <p:stCondLst>
                        <p:cond delay="indefinite"/>
                      </p:stCondLst>
                      <p:childTnLst>
                        <p:par>
                          <p:cTn id="9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4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8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nodeType="clickEffect" fill="hold">
                      <p:stCondLst>
                        <p:cond delay="indefinite"/>
                      </p:stCondLst>
                      <p:childTnLst>
                        <p:par>
                          <p:cTn id="10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3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7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8" nodeType="clickEffect" fill="hold">
                      <p:stCondLst>
                        <p:cond delay="indefinite"/>
                      </p:stCondLst>
                      <p:childTnLst>
                        <p:par>
                          <p:cTn id="10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2" dur="5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6" dur="50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nodeType="clickEffect" fill="hold">
                      <p:stCondLst>
                        <p:cond delay="indefinite"/>
                      </p:stCondLst>
                      <p:childTnLst>
                        <p:par>
                          <p:cTn id="10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1" dur="500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5" dur="500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f00"/>
              </a:gs>
              <a:gs pos="100000">
                <a:srgbClr val="ffb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Тонкий психоло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imes New Roman"/>
              </a:rPr>
              <a:t>Я могу многому научиться у кого угодно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imes New Roman"/>
              </a:rPr>
              <a:t>Жил я в настоящем мире, и были там разные люди, и я старался понять их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imes New Roman"/>
              </a:rPr>
              <a:t>Скотт разыгрывал заботливого, весёлого хозяина, а Зельда смотрела на него, и глаза её и рот трогала счастливая улыбка, потому что он пил вино. Впоследствии я хорошо изучил эту улыбку. Она означала, что Зельда знает, что Скотт опять не сможет писать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6" dur="indefinite" restart="never" nodeType="tmRoot">
          <p:childTnLst>
            <p:seq>
              <p:cTn id="1027" dur="indefinite" nodeType="mainSeq">
                <p:childTnLst>
                  <p:par>
                    <p:cTn id="1028" nodeType="clickEffect" fill="hold">
                      <p:stCondLst>
                        <p:cond delay="indefinite"/>
                      </p:stCondLst>
                      <p:childTnLst>
                        <p:par>
                          <p:cTn id="10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5" nodeType="clickEffect" fill="hold">
                      <p:stCondLst>
                        <p:cond delay="indefinite"/>
                      </p:stCondLst>
                      <p:childTnLst>
                        <p:par>
                          <p:cTn id="10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9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0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nodeType="clickEffect" fill="hold">
                      <p:stCondLst>
                        <p:cond delay="indefinite"/>
                      </p:stCondLst>
                      <p:childTnLst>
                        <p:par>
                          <p:cTn id="10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5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6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nodeType="clickEffect" fill="hold">
                      <p:stCondLst>
                        <p:cond delay="indefinite"/>
                      </p:stCondLst>
                      <p:childTnLst>
                        <p:par>
                          <p:cTn id="10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1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2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Детство и юнос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1066680"/>
            <a:ext cx="91440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5740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Эрнест Хемингуэй родился 21 июля 1899 года в пригороде Чикаго - городке Оук-Парк, штат Иллинойс, США, в семье врач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Эрнест был старшим ребёнком в семье, где кроме него было ещё 5 братьев и сестё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Литературное призвание проявилось в школьные годы, дебютировал в небольшой школьной газе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916 – первые рассказы напечатаны в школьном журнале «Скрижаль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сле школы решил не поступать в университет. Работает полицейским репортёром в газете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Star”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Канзас-си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hemingway_62091405_tonnel_s"/>
          <p:cNvPicPr/>
          <p:nvPr/>
        </p:nvPicPr>
        <p:blipFill>
          <a:blip r:embed="rId2"/>
          <a:stretch/>
        </p:blipFill>
        <p:spPr>
          <a:xfrm>
            <a:off x="304920" y="609480"/>
            <a:ext cx="1752480" cy="17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5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0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5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0" dur="5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5" dur="5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144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Библиограф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464796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3" dur="indefinite" restart="never" nodeType="tmRoot">
          <p:childTnLst>
            <p:seq>
              <p:cTn id="1054" dur="indefinite" nodeType="mainSeq">
                <p:childTnLst>
                  <p:par>
                    <p:cTn id="1055" nodeType="clickEffect" fill="hold">
                      <p:stCondLst>
                        <p:cond delay="indefinite"/>
                      </p:stCondLst>
                      <p:childTnLst>
                        <p:par>
                          <p:cTn id="10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-2991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657600" y="685440"/>
            <a:ext cx="5486400" cy="5715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ffffff"/>
                </a:solidFill>
                <a:latin typeface="Times New Roman"/>
              </a:rPr>
              <a:t>Мерцали их лиры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ffffff"/>
                </a:solidFill>
                <a:latin typeface="Times New Roman"/>
              </a:rPr>
              <a:t>А сумерки были и тусклы и сыры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ffffff"/>
                </a:solidFill>
                <a:latin typeface="Times New Roman"/>
              </a:rPr>
              <a:t>Синели зубчатые стены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ffffff"/>
                </a:solidFill>
                <a:latin typeface="Times New Roman"/>
              </a:rPr>
              <a:t>Вкруг мачт обвивались сирены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ffffff"/>
                </a:solidFill>
                <a:latin typeface="Times New Roman"/>
              </a:rPr>
              <a:t>Как пламя, дрожали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ffffff"/>
                </a:solidFill>
                <a:latin typeface="Times New Roman"/>
              </a:rPr>
              <a:t>Высокие груди..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ffffff"/>
                </a:solidFill>
                <a:latin typeface="Times New Roman"/>
              </a:rPr>
              <a:t>Но в море глядевшие люди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ffffff"/>
                </a:solidFill>
                <a:latin typeface="Times New Roman"/>
              </a:rPr>
              <a:t>Их не видали... </a:t>
            </a:r>
            <a:br>
              <a:rPr sz="2500"/>
            </a:br>
            <a:r>
              <a:rPr b="1" i="1" lang="ru-RU" sz="2500" spc="-1" strike="noStrike">
                <a:solidFill>
                  <a:srgbClr val="ffffff"/>
                </a:solidFill>
                <a:latin typeface="Times New Roman"/>
              </a:rPr>
              <a:t>     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ffffff"/>
                </a:solidFill>
                <a:latin typeface="Times New Roman"/>
              </a:rPr>
              <a:t>И мимо прошел торжествующий сон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ffffff"/>
                </a:solidFill>
                <a:latin typeface="Times New Roman"/>
              </a:rPr>
              <a:t>Корабли, подобные лилиям,-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ffffff"/>
                </a:solidFill>
                <a:latin typeface="Times New Roman"/>
              </a:rPr>
              <a:t>Потому что он не был похож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ffffff"/>
                </a:solidFill>
                <a:latin typeface="Times New Roman"/>
              </a:rPr>
              <a:t>На старую ложь,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ffffff"/>
                </a:solidFill>
                <a:latin typeface="Times New Roman"/>
              </a:rPr>
              <a:t>Которую с детства твердили им.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5" descr="Автограф писателя"/>
          <p:cNvPicPr/>
          <p:nvPr/>
        </p:nvPicPr>
        <p:blipFill>
          <a:blip r:embed="rId1"/>
          <a:stretch/>
        </p:blipFill>
        <p:spPr>
          <a:xfrm>
            <a:off x="457200" y="838080"/>
            <a:ext cx="3048120" cy="25146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6" descr="Письменный стол писателя в Ки-Уэсте"/>
          <p:cNvPicPr/>
          <p:nvPr/>
        </p:nvPicPr>
        <p:blipFill>
          <a:blip r:embed="rId2"/>
          <a:stretch/>
        </p:blipFill>
        <p:spPr>
          <a:xfrm>
            <a:off x="457200" y="3886200"/>
            <a:ext cx="304812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nodeType="clickEffect" fill="hold">
                      <p:stCondLst>
                        <p:cond delay="indefinite"/>
                      </p:stCondLst>
                      <p:childTnLst>
                        <p:par>
                          <p:cTn id="10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7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74" dur="20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77" dur="20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80" dur="20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83" dur="20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86" dur="2000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89" dur="2000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92" dur="2000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95" dur="2000"/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98" dur="2000"/>
                                        <p:tgtEl>
                                          <p:spTgt spid="1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01" dur="2000"/>
                                        <p:tgtEl>
                                          <p:spTgt spid="1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04" dur="2000"/>
                                        <p:tgtEl>
                                          <p:spTgt spid="1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07" dur="2000"/>
                                        <p:tgtEl>
                                          <p:spTgt spid="1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10" dur="2000"/>
                                        <p:tgtEl>
                                          <p:spTgt spid="1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504960" y="0"/>
            <a:ext cx="5638680" cy="373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«Задача писателя – говорить правду. Его уровень верности правде должен быть настолько высок, что придуманное им на основании его опыта должно давать более правдивое изображение, чем любое описание фактов»(Э.Хемингуэй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28600" y="3886200"/>
            <a:ext cx="86868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обелевская премия по литературе «за повествовательное мастерство, в очередной раз продемонстрированное в «Старике и море», а также за влияние на современную прозу»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(195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5" descr="Обложка книги: Старик и море: Повесть; Рассказы (пер. с англ. Голышевой Е., Изакова Б., Волжиной Н. и др.), Издательство: СПб: Азбука-классика, Год: 04/01"/>
          <p:cNvPicPr/>
          <p:nvPr/>
        </p:nvPicPr>
        <p:blipFill>
          <a:blip r:embed="rId1"/>
          <a:stretch/>
        </p:blipFill>
        <p:spPr>
          <a:xfrm>
            <a:off x="762120" y="304920"/>
            <a:ext cx="24382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1" dur="indefinite" restart="never" nodeType="tmRoot">
          <p:childTnLst>
            <p:seq>
              <p:cTn id="1112" dur="indefinite" nodeType="mainSeq">
                <p:childTnLst>
                  <p:par>
                    <p:cTn id="1113" nodeType="clickEffect" fill="hold">
                      <p:stCondLst>
                        <p:cond delay="indefinite"/>
                      </p:stCondLst>
                      <p:childTnLst>
                        <p:par>
                          <p:cTn id="1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8" nodeType="clickEffect" fill="hold">
                      <p:stCondLst>
                        <p:cond delay="indefinite"/>
                      </p:stCondLst>
                      <p:childTnLst>
                        <p:par>
                          <p:cTn id="1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5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-1148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676520" y="304920"/>
            <a:ext cx="7238880" cy="62481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>
                <a:alpha val="50000"/>
              </a:srgbClr>
            </a:outerShdw>
          </a:effectLst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1920 – Весенние ручь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1924 – В наше врем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Индейский посёл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Доктор и его же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До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На Биг-Риве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1926 – И восходит солнце (Фиест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1927 – Мужчины без женщи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В чужой стра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Непобеждён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Убийц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6" dur="indefinite" restart="never" nodeType="tmRoot">
          <p:childTnLst>
            <p:seq>
              <p:cTn id="1127" dur="indefinite" nodeType="mainSeq">
                <p:childTnLst>
                  <p:par>
                    <p:cTn id="1128" nodeType="clickEffect" fill="hold">
                      <p:stCondLst>
                        <p:cond delay="indefinite"/>
                      </p:stCondLst>
                      <p:childTnLst>
                        <p:par>
                          <p:cTn id="1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2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3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34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3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8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9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40" dur="5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4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5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46" dur="5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0" dur="5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1" dur="5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52" dur="500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5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6" dur="5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7" dur="5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58" dur="500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6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2" dur="500" fill="hold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3" dur="500" fill="hold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64" dur="500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6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8" dur="500" fill="hold"/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9" dur="500" fill="hold"/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70" dur="500"/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17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4" dur="500" fill="hold"/>
                                        <p:tgtEl>
                                          <p:spTgt spid="1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5" dur="500" fill="hold"/>
                                        <p:tgtEl>
                                          <p:spTgt spid="1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76" dur="500"/>
                                        <p:tgtEl>
                                          <p:spTgt spid="1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17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0" dur="500" fill="hold"/>
                                        <p:tgtEl>
                                          <p:spTgt spid="1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1" dur="500" fill="hold"/>
                                        <p:tgtEl>
                                          <p:spTgt spid="1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82" dur="500"/>
                                        <p:tgtEl>
                                          <p:spTgt spid="1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3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18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6" dur="500" fill="hold"/>
                                        <p:tgtEl>
                                          <p:spTgt spid="1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7" dur="500" fill="hold"/>
                                        <p:tgtEl>
                                          <p:spTgt spid="1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88" dur="500"/>
                                        <p:tgtEl>
                                          <p:spTgt spid="1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19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2" dur="500" fill="hold"/>
                                        <p:tgtEl>
                                          <p:spTgt spid="1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3" dur="500" fill="hold"/>
                                        <p:tgtEl>
                                          <p:spTgt spid="1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94" dur="500"/>
                                        <p:tgtEl>
                                          <p:spTgt spid="1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-2991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228600"/>
            <a:ext cx="82296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1921 – Прощай, оружи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1932 – Смерть после полуд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1933 – Победитель ничего не получает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  Там, где чисто, светл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1935 – Зелёные холмы Африки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1937 – Иметь и не име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1938 – Пятая колон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Мотылёк и тан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Разоблач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Недолгое счастье Фрэнсиса Макомбе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Снега Килиманджар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5" dur="indefinite" restart="never" nodeType="tmRoot">
          <p:childTnLst>
            <p:seq>
              <p:cTn id="1196" dur="indefinite" nodeType="mainSeq">
                <p:childTnLst>
                  <p:par>
                    <p:cTn id="1197" nodeType="clickEffect" fill="hold">
                      <p:stCondLst>
                        <p:cond delay="indefinite"/>
                      </p:stCondLst>
                      <p:childTnLst>
                        <p:par>
                          <p:cTn id="1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1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2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03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0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7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8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09" dur="5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3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4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15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1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9" dur="5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0" dur="5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21" dur="5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2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5" dur="5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6" dur="5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27" dur="50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2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1" dur="500" fill="hold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2" dur="500" fill="hold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33" dur="500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3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7" dur="500" fill="hold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8" dur="500" fill="hold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39" dur="500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4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3" dur="500" fill="hold"/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4" dur="500" fill="hold"/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45" dur="500"/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4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9" dur="500" fill="hold"/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0" dur="500" fill="hold"/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51" dur="500"/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2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25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5" dur="500" fill="hold"/>
                                        <p:tgtEl>
                                          <p:spTgt spid="1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6" dur="500" fill="hold"/>
                                        <p:tgtEl>
                                          <p:spTgt spid="1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57" dur="500"/>
                                        <p:tgtEl>
                                          <p:spTgt spid="1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-2991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28240" y="533160"/>
            <a:ext cx="89154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1940 – По ком звонит колоко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1950 – За рекой, в тени деревь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1952 – Старик и мор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1954 – Праздник, который всегда с тоб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1960 – Опасное лет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Книги, вышедшие после смерти писател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Острова в океа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Райский са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Лев Мисс Мэр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8" dur="indefinite" restart="never" nodeType="tmRoot">
          <p:childTnLst>
            <p:seq>
              <p:cTn id="1259" dur="indefinite" nodeType="mainSeq">
                <p:childTnLst>
                  <p:par>
                    <p:cTn id="1260" nodeType="clickEffect" fill="hold">
                      <p:stCondLst>
                        <p:cond delay="indefinite"/>
                      </p:stCondLst>
                      <p:childTnLst>
                        <p:par>
                          <p:cTn id="1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4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5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66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6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0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1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72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6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7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78" dur="5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8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2" dur="5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3" dur="5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84" dur="5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8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8" dur="5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9" dur="5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90" dur="500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1" nodeType="clickEffect" fill="hold">
                      <p:stCondLst>
                        <p:cond delay="indefinite"/>
                      </p:stCondLst>
                      <p:childTnLst>
                        <p:par>
                          <p:cTn id="1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5" dur="500" fill="hold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6" dur="500" fill="hold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97" dur="500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9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1" dur="500" fill="hold"/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2" dur="500" fill="hold"/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03" dur="500"/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7" dur="500" fill="hold"/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8" dur="500" fill="hold"/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09" dur="500"/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1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3" dur="500" fill="hold"/>
                                        <p:tgtEl>
                                          <p:spTgt spid="1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4" dur="500" fill="hold"/>
                                        <p:tgtEl>
                                          <p:spTgt spid="1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15" dur="500"/>
                                        <p:tgtEl>
                                          <p:spTgt spid="1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Известные цитаты и фразы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51920" y="1066320"/>
            <a:ext cx="899172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Устаревают не только ответы, но и вопрос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Хорошая проза подобна айсбергу, семь восьмых которого скрыто под водо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Что мешает писателю? Выпивка, женщины, деньги и честолюбие. А также отсутствие выпивки, женщин, денег и честолюб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Каждый человек рождается для какого-то дел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Вся американская литература вышла из «Гекльберри Финна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Человек один не может... Все равно человек один не может ни черт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Впереди пятьдесят лет необъявленных войн, и я подписал договор на весь срок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Человека можно уничтожить, но его нельзя победит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6" dur="indefinite" restart="never" nodeType="tmRoot">
          <p:childTnLst>
            <p:seq>
              <p:cTn id="1317" dur="indefinite" nodeType="mainSeq">
                <p:childTnLst>
                  <p:par>
                    <p:cTn id="1318" nodeType="clickEffect" fill="hold">
                      <p:stCondLst>
                        <p:cond delay="indefinite"/>
                      </p:stCondLst>
                      <p:childTnLst>
                        <p:par>
                          <p:cTn id="1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6" nodeType="clickEffect" fill="hold">
                      <p:stCondLst>
                        <p:cond delay="indefinite"/>
                      </p:stCondLst>
                      <p:childTnLst>
                        <p:par>
                          <p:cTn id="1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0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1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2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3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4" nodeType="clickEffect" fill="hold">
                      <p:stCondLst>
                        <p:cond delay="indefinite"/>
                      </p:stCondLst>
                      <p:childTnLst>
                        <p:par>
                          <p:cTn id="1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8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9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0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1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2" nodeType="clickEffect" fill="hold">
                      <p:stCondLst>
                        <p:cond delay="indefinite"/>
                      </p:stCondLst>
                      <p:childTnLst>
                        <p:par>
                          <p:cTn id="1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6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7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8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9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0" nodeType="clickEffect" fill="hold">
                      <p:stCondLst>
                        <p:cond delay="indefinite"/>
                      </p:stCondLst>
                      <p:childTnLst>
                        <p:par>
                          <p:cTn id="1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4" dur="5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5" dur="5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6" dur="5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7" dur="5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8" nodeType="clickEffect" fill="hold">
                      <p:stCondLst>
                        <p:cond delay="indefinite"/>
                      </p:stCondLst>
                      <p:childTnLst>
                        <p:par>
                          <p:cTn id="1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2" dur="5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3" dur="5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4" dur="5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5" dur="5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6" nodeType="clickEffect" fill="hold">
                      <p:stCondLst>
                        <p:cond delay="indefinite"/>
                      </p:stCondLst>
                      <p:childTnLst>
                        <p:par>
                          <p:cTn id="1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0" dur="5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1" dur="5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2" dur="5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3" dur="5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4" nodeType="clickEffect" fill="hold">
                      <p:stCondLst>
                        <p:cond delay="indefinite"/>
                      </p:stCondLst>
                      <p:childTnLst>
                        <p:par>
                          <p:cTn id="1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8" dur="5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9" dur="5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0" dur="5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1" dur="5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2" nodeType="clickEffect" fill="hold">
                      <p:stCondLst>
                        <p:cond delay="indefinite"/>
                      </p:stCondLst>
                      <p:childTnLst>
                        <p:par>
                          <p:cTn id="1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6" dur="5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7" dur="5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8" dur="5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9" dur="5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3300"/>
                </a:solidFill>
                <a:latin typeface="Arial"/>
              </a:rPr>
              <a:t>Использованная литератур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52280" y="2362320"/>
            <a:ext cx="876312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50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663300"/>
                </a:solidFill>
                <a:latin typeface="Arial"/>
              </a:rPr>
              <a:t>Э. Хемингуэй «Праздник, который всегда с тобой» (перевод М. Брука, Л. Петрова, Ф. Розенталя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663300"/>
                </a:solidFill>
                <a:latin typeface="Arial"/>
              </a:rPr>
              <a:t>Интернет: биография, иллюстрации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0" dur="indefinite" restart="never" nodeType="tmRoot">
          <p:childTnLst>
            <p:seq>
              <p:cTn id="1391" dur="indefinite" nodeType="mainSeq">
                <p:childTnLst>
                  <p:par>
                    <p:cTn id="1392" nodeType="clickEffect" fill="hold">
                      <p:stCondLst>
                        <p:cond delay="indefinite"/>
                      </p:stCondLst>
                      <p:childTnLst>
                        <p:par>
                          <p:cTn id="1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6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9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0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4" dur="5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ервая мировая вой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5790960"/>
            <a:ext cx="403848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Хемингуэй, 1918 г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885840" y="761760"/>
            <a:ext cx="52578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чень хотел служить в армии, отказывали из-за плохого зр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умел попасть на первую мировую войну в Италии шофёром Красного крес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обровольно перевёлся на передову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8 июля 1918г – ранен на австро-итальянском фрон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Январь 1919 – вернулся в США героем (первый американец, раненый на итальянском фронте). Награждён «Военным Крестом» и серебряной медалью «За доблесть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6" descr="Хемингуэй в военной форме, 1918 год."/>
          <p:cNvPicPr/>
          <p:nvPr/>
        </p:nvPicPr>
        <p:blipFill>
          <a:blip r:embed="rId2"/>
          <a:stretch/>
        </p:blipFill>
        <p:spPr>
          <a:xfrm>
            <a:off x="457200" y="762120"/>
            <a:ext cx="33526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92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97" dur="1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00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04" dur="1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09" dur="1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14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19" dur="10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24" dur="10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ариж и первый писательский успе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276720" y="762120"/>
            <a:ext cx="586728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1921г Корреспондент В Париже от газеты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“Toronto Star”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Женитьба на Хэдли Ричардсон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Много путешествует, знакомится с Ф.С.Фитцджеральдом, Г. Стайн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1926 – настоящий успех после выхода в свет «И восходит солнце (Фиеста)»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1927, 1933 – сборники рассказов «Мужчины без женщин» и «Победители ничего не получают»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1929 – роман «Прощай, оружие!» о любви на фоне Первой Мировой Войны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Хемингуэй за работой, 1930-е годы."/>
          <p:cNvPicPr/>
          <p:nvPr/>
        </p:nvPicPr>
        <p:blipFill>
          <a:blip r:embed="rId2"/>
          <a:stretch/>
        </p:blipFill>
        <p:spPr>
          <a:xfrm>
            <a:off x="0" y="685800"/>
            <a:ext cx="3276720" cy="449568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6"/>
          <p:cNvSpPr/>
          <p:nvPr/>
        </p:nvSpPr>
        <p:spPr>
          <a:xfrm>
            <a:off x="0" y="5105520"/>
            <a:ext cx="33526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7"/>
          <p:cNvSpPr/>
          <p:nvPr/>
        </p:nvSpPr>
        <p:spPr>
          <a:xfrm>
            <a:off x="609480" y="5257800"/>
            <a:ext cx="236232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Хемингуэй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за работой, 1930-е годы</a:t>
            </a:r>
            <a:r>
              <a:rPr b="0" lang="ru-RU" sz="26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6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3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6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1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6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1" dur="5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6" dur="50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67816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Флорида – Исп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-360" y="837720"/>
            <a:ext cx="6629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927г – женитьба на Полине Пфейффе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930 – возвращение в США, Флори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«Зелёные холмы Африки» (1935), «Иметь и не иметь» (1937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2666880" y="3276360"/>
            <a:ext cx="647712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яжело переживает гражданскую войну в Испании (30е гг.), организовал сбор пожертвований республиканцам. 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«По ком звонит колокол» (194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ходится в Мадриде во время его осады фашистами. 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пьеса «Пятая колонна» (1937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6" descr="1954-24_20060228_-1"/>
          <p:cNvPicPr/>
          <p:nvPr/>
        </p:nvPicPr>
        <p:blipFill>
          <a:blip r:embed="rId2"/>
          <a:stretch/>
        </p:blipFill>
        <p:spPr>
          <a:xfrm>
            <a:off x="6629400" y="228600"/>
            <a:ext cx="2286000" cy="27432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7" descr="Обложка книги: По ком звонит колокол: Роман (пер. с англ. Волжиной Н., Калашниковой Е., Кашкина И.), Издательство: СПб: Азбука-классика, Год: `04"/>
          <p:cNvPicPr/>
          <p:nvPr/>
        </p:nvPicPr>
        <p:blipFill>
          <a:blip r:embed="rId3"/>
          <a:stretch/>
        </p:blipFill>
        <p:spPr>
          <a:xfrm>
            <a:off x="304920" y="3276720"/>
            <a:ext cx="2286000" cy="30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73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74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5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76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84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85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86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87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92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93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94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95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00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01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02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03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11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12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13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14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19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20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21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22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Вторая мировая вой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743200" y="837720"/>
            <a:ext cx="640080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 началом войны возобновляет журналистскую деятельность: корреспондент в Лондон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940 – женитьба на марте Геллхор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941-1943 – контрразведка против фашистских шпионов на Кубе, охота за немецкими подводными лодками в Карибском мор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944 – участвует в боевых и разведывательных действиях, глава отряда французских партиза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946 – женитьба на Мэри Уэл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5" descr="1954.JPG"/>
          <p:cNvPicPr/>
          <p:nvPr/>
        </p:nvPicPr>
        <p:blipFill>
          <a:blip r:embed="rId2"/>
          <a:stretch/>
        </p:blipFill>
        <p:spPr>
          <a:xfrm>
            <a:off x="380880" y="990720"/>
            <a:ext cx="2057400" cy="25905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6" descr="1954-215_20060228_-1"/>
          <p:cNvPicPr/>
          <p:nvPr/>
        </p:nvPicPr>
        <p:blipFill>
          <a:blip r:embed="rId3"/>
          <a:stretch/>
        </p:blipFill>
        <p:spPr>
          <a:xfrm>
            <a:off x="380880" y="3886200"/>
            <a:ext cx="198144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5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5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Куба и последние год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28240" y="990720"/>
            <a:ext cx="89154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574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939 – переезд на Кубу, повесть «Старик и море» (195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953 – Пулитцеровская премия за повесть «Старик и море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954 – Нобелевская премия по литератур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втобиографическая книга «Праздник, который всегда с тобой»(195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953 – автокатастрофа в Африк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960 – возвращение в СШ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2 июля 1961 года – застрелился из ружья в своём доме в г. Кетчем, штат Айдах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5" descr="hemingway_6_s"/>
          <p:cNvPicPr/>
          <p:nvPr/>
        </p:nvPicPr>
        <p:blipFill>
          <a:blip r:embed="rId2"/>
          <a:stretch/>
        </p:blipFill>
        <p:spPr>
          <a:xfrm>
            <a:off x="228600" y="1066680"/>
            <a:ext cx="1981080" cy="22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5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5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500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500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500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7" dur="500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bf00"/>
              </a:gs>
              <a:gs pos="100000">
                <a:srgbClr val="ffb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title"/>
          </p:nvPr>
        </p:nvSpPr>
        <p:spPr>
          <a:xfrm>
            <a:off x="380880" y="1447560"/>
            <a:ext cx="8229600" cy="1143000"/>
          </a:xfrm>
          <a:prstGeom prst="rect">
            <a:avLst/>
          </a:prstGeom>
          <a:gradFill rotWithShape="0">
            <a:gsLst>
              <a:gs pos="0">
                <a:srgbClr val="ffbf00"/>
              </a:gs>
              <a:gs pos="100000">
                <a:srgbClr val="ffb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ffffff"/>
                </a:solidFill>
                <a:latin typeface="Arial"/>
              </a:rPr>
              <a:t>Личность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Коля</dc:creator>
  <dc:description/>
  <dc:language>en-US</dc:language>
  <cp:lastModifiedBy>андрей</cp:lastModifiedBy>
  <dcterms:modified xsi:type="dcterms:W3CDTF">2016-03-09T14:09:06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