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DCF9-31F0-4F55-BED3-53EFCB72F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6E9-8B32-4F13-8978-BCF3BC9AB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4E5D-DCC9-49D6-BC4A-1A3B072B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5C2-8AB0-4B07-A55C-E32EB7C6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42E7-DD84-4A1A-9E5E-C741D591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BB7-DED1-4547-A534-0C3E0F23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B67B-6D9F-4E97-87D9-FB2E68B5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4D4F-4FAA-44E6-8B7E-0CB3781E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BBA8-BCD6-4EB5-8327-8874ACD56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90B-2358-49D8-B121-A5A1A882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843-419C-4FDB-964A-16689F67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7D73-1A1E-4451-9BCB-FCBCF6DB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A663B-83A8-4D4D-94CC-507378FC80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43;&#1077;&#1088;&#1073;%20-%20&#1101;&#1090;&#1086;%20&#1075;&#1083;&#1072;&#1074;&#1085;&#1099;&#1081;%20&#1089;&#1080;&#1084;&#1074;&#1086;&#1083;%20&#1083;&#1102;&#1073;&#1086;&#1075;&#1086;%20&#1075;&#1086;&#1089;&#1091;&#1076;&#1072;&#1088;&#1089;&#1090;&#1074;&#1072;.ppt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3;&#1086;&#1089;&#1091;&#1076;&#1072;&#1088;&#1089;&#1090;&#1074;&#1077;&#1085;&#1085;&#1099;&#1081;%20&#1092;&#1083;&#1072;&#1075;,%20&#1082;&#1072;&#1082;%20&#1080;%20&#1075;&#1077;&#1088;&#1073;,%20&#1103;&#1074;&#1083;&#1103;&#1077;&#1090;&#1089;&#1103;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92;&#1083;&#1072;&#1075;.ppt" TargetMode="External"/><Relationship Id="rId2" Type="http://schemas.openxmlformats.org/officeDocument/2006/relationships/hyperlink" Target="file:///&#1092;&#1083;&#1072;&#1075;.ppt" TargetMode="External"/><Relationship Id="rId3" Type="http://schemas.openxmlformats.org/officeDocument/2006/relationships/hyperlink" Target="file:///&#1075;&#1077;&#1088;&#1073;.ppt" TargetMode="External"/><Relationship Id="rId4" Type="http://schemas.openxmlformats.org/officeDocument/2006/relationships/hyperlink" Target="file:///&#1075;&#1077;&#1088;&#1073;.ppt" TargetMode="External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55;&#1077;&#1090;&#1088;&#1072;%20I.ppt" TargetMode="External"/><Relationship Id="rId2" Type="http://schemas.openxmlformats.org/officeDocument/2006/relationships/hyperlink" Target="file:///&#1092;&#1083;&#1072;&#1075;.ppt" TargetMode="External"/><Relationship Id="rId3" Type="http://schemas.openxmlformats.org/officeDocument/2006/relationships/hyperlink" Target="file:///&#1043;&#1086;&#1089;&#1091;&#1076;&#1072;&#1088;&#1089;&#1090;&#1074;&#1077;&#1085;&#1085;&#1099;&#1081;%20&#1092;&#1083;&#1072;&#1075;,%20&#1082;&#1072;&#1082;%20&#1080;%20&#1075;&#1077;&#1088;&#1073;,%20&#1103;&#1074;&#1083;&#1103;&#1077;&#1090;&#1089;&#1103;.ppt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7;&#1086;&#1083;&#1086;&#1090;&#1086;&#1081;%20&#1096;&#1072;&#1088;%20&#1089;%20&#1082;&#1088;&#1077;&#1089;&#1090;&#1086;&#1084;%20&#1085;&#1072;&#1074;&#1077;&#1088;&#1093;&#1091;(1).ppt" TargetMode="External"/><Relationship Id="rId2" Type="http://schemas.openxmlformats.org/officeDocument/2006/relationships/hyperlink" Target="file:///&#1055;&#1090;&#1080;&#1094;&#1072;,%20&#1080;&#1079;&#1086;&#1073;&#1088;&#1072;&#1078;&#1105;&#1085;&#1085;&#1072;&#1103;%20&#1085;&#1072;%20&#1088;&#1086;&#1089;&#1089;&#1080;&#1081;&#1089;&#1082;&#1086;&#1084;%20&#1075;&#1077;&#1088;&#1073;&#1077;%20(2).ppt" TargetMode="External"/><Relationship Id="rId3" Type="http://schemas.openxmlformats.org/officeDocument/2006/relationships/hyperlink" Target="file:///&#1048;&#1084;&#1103;%20&#1074;&#1086;&#1080;&#1085;&#1072;,%20&#1080;&#1079;&#1086;&#1073;&#1088;&#1072;&#1078;&#1105;&#1085;&#1085;&#1086;&#1075;&#1086;%20&#1085;&#1072;%20&#1075;&#1077;&#1088;&#1073;&#1077;%20&#1056;&#1086;&#1089;&#1089;&#1080;&#1080;%20&#1080;(3).ppt" TargetMode="External"/><Relationship Id="rId4" Type="http://schemas.openxmlformats.org/officeDocument/2006/relationships/hyperlink" Target="file:///&#1050;&#1072;&#1082;%20&#1080;&#1085;&#1072;&#1095;&#1077;%20&#1085;&#1072;&#1079;&#1099;&#1074;&#1072;&#1077;&#1090;&#1089;&#1103;%20&#1092;&#1083;&#1072;&#1075;(4).ppt" TargetMode="External"/><Relationship Id="rId5" Type="http://schemas.openxmlformats.org/officeDocument/2006/relationships/hyperlink" Target="file:///&#1050;&#1072;&#1082;&#1086;&#1081;%20&#1094;&#1074;&#1077;&#1090;%20&#1080;&#1084;&#1077;&#1077;&#1090;%20&#1089;&#1088;&#1077;&#1076;&#1085;&#1103;&#1103;%20&#1087;&#1086;&#1083;&#1086;&#1089;&#1072;%20&#1085;&#1072;%20&#1092;&#1083;&#1072;&#1075;&#1077;%20&#1056;&#1086;&#1089;&#1089;&#1080;&#1080;(5).ppt" TargetMode="External"/><Relationship Id="rId6" Type="http://schemas.openxmlformats.org/officeDocument/2006/relationships/hyperlink" Target="file:///&#1046;&#1077;&#1079;&#1083;%20&#8211;%20&#1089;&#1080;&#1084;&#1074;&#1086;&#1083;%20&#1074;&#1083;&#1072;&#1089;&#1090;&#1080;%20&#8211;%20&#1101;&#1090;&#1086;(6).ppt" TargetMode="Externa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Государственные символы </a:t>
            </a:r>
            <a:br>
              <a:rPr sz="6600"/>
            </a:br>
            <a:r>
              <a:rPr b="1" lang="en-US" sz="6600" spc="-1" strike="noStrike">
                <a:solidFill>
                  <a:srgbClr val="ff0066"/>
                </a:solidFill>
                <a:latin typeface="Arial"/>
              </a:rPr>
              <a:t>РОСС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2920" y="6021360"/>
            <a:ext cx="6264360" cy="83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4360" y="0"/>
            <a:ext cx="7704000" cy="38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6048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6600"/>
                    </a:gs>
                    <a:gs pos="50000">
                      <a:srgbClr val="ff9933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цы</a:t>
            </a:r>
            <a:endParaRPr b="0" lang="en-US" sz="1800" spc="1" strike="noStrike">
              <a:ln cap="rnd" w="6048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6600"/>
                  </a:gs>
                  <a:gs pos="5000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000" y="-360"/>
            <a:ext cx="7559640" cy="73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трана наша огромна. Она протянулась далеко с запада на восток и с севера на ю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ак у каждого государства, у России есть сво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герб, флаг, гимн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87640" y="1341360"/>
            <a:ext cx="314316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2916360" cy="2408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56360" y="1341360"/>
            <a:ext cx="2987640" cy="2435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2987640" cy="2241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084720" y="3933720"/>
            <a:ext cx="3059280" cy="2163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059280" y="3860640"/>
            <a:ext cx="295272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Герб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1501920"/>
            <a:ext cx="842472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Государственный фла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1484280"/>
            <a:ext cx="7554960" cy="48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Гимн Росси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имн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– в переводе с греческого языка – «торжественная песнь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У каждого государства есть свой гимн. В гимне проявляется величие страны, так как в нём , обычно, рассказывается о славных страницах истории государства, о его исторической судьбе и его предназнач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Гимн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– это главная песня нашей страны, прославляющая свою стра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Мы – россияне – должны знать его, подпевать, когда он звучит и слушать его стоя, показывая этим самым уважение к нашей стране и нашему правительст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8000"/>
                            </p:stCondLst>
                            <p:childTnLst>
                              <p:par>
                                <p:cTn id="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9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00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8000"/>
                </a:solidFill>
                <a:latin typeface="Arial"/>
              </a:rPr>
              <a:t>Что вы узнали о </a:t>
            </a:r>
            <a:r>
              <a:rPr b="1" i="1" lang="en-US" sz="6600" spc="-1" strike="noStrike" u="sng">
                <a:solidFill>
                  <a:srgbClr val="ff0066"/>
                </a:solidFill>
                <a:uFillTx/>
                <a:latin typeface="Arial"/>
              </a:rPr>
              <a:t>символах России</a:t>
            </a:r>
            <a:r>
              <a:rPr b="1" i="1" lang="en-US" sz="66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- Как называется наша Родина?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- Какие символы страны вам известны?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- </a:t>
            </a: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О каких символах страны идёт реч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рикреплённое к древку или шнуру полотнище определённого цвета или нескольких цв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2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Эмблема государства, города, сословия, рода, изображаемая на флагах, монетах, печатях, государственных и других документ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Торжественная песня, принятая как символ государственного или социального еди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92360" y="2060640"/>
            <a:ext cx="71280" cy="730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2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Приготовьтесь ответить на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ff6600"/>
                </a:solidFill>
                <a:latin typeface="Arial"/>
              </a:rPr>
              <a:t>вопросы: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раб. в пар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1.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Кого историки считают основателем российского флаг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2.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Какие цвета у флага Росс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3. </a:t>
            </a: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Что обозначает каждый цвет на флаг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4. Как надо относиться к символам своей стра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Кроссворд «Символика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1125360"/>
          <a:ext cx="7775280" cy="5313600"/>
        </p:xfrm>
        <a:graphic>
          <a:graphicData uri="http://schemas.openxmlformats.org/drawingml/2006/table">
            <a:tbl>
              <a:tblPr/>
              <a:tblGrid>
                <a:gridCol w="1555560"/>
                <a:gridCol w="515880"/>
                <a:gridCol w="520920"/>
                <a:gridCol w="517320"/>
                <a:gridCol w="541440"/>
                <a:gridCol w="495360"/>
                <a:gridCol w="515880"/>
                <a:gridCol w="519120"/>
                <a:gridCol w="519120"/>
                <a:gridCol w="519120"/>
                <a:gridCol w="517320"/>
                <a:gridCol w="519120"/>
                <a:gridCol w="519120"/>
              </a:tblGrid>
              <a:tr h="337320">
                <a:tc gridSpan="5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1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2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3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4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 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5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  </a:t>
                      </a:r>
                      <a:r>
                        <a:rPr b="0" lang="en-US" sz="1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6 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   7       8       9       10       10      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7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4932360" y="1052640"/>
            <a:ext cx="44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87840" y="380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141300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32360" y="2205000"/>
            <a:ext cx="3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932360" y="177336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256536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292428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32360" y="3284640"/>
            <a:ext cx="36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940360" y="1052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940360" y="1413000"/>
            <a:ext cx="4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940360" y="18446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940360" y="22050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84720" y="1052640"/>
            <a:ext cx="41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1341360"/>
            <a:ext cx="29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64000" y="1413000"/>
            <a:ext cx="52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516720" y="141300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67480" y="1413000"/>
            <a:ext cx="136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и   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2205000"/>
            <a:ext cx="4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256536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92428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2130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64500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028000" y="4076640"/>
            <a:ext cx="476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924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4360" y="3284640"/>
            <a:ext cx="41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24360" y="364500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404496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440532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797360"/>
            <a:ext cx="4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515772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88000" y="2924280"/>
            <a:ext cx="2654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35640" y="2924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24720" y="256536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4720" y="292428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24720" y="3284640"/>
            <a:ext cx="45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24720" y="364500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24720" y="4076640"/>
            <a:ext cx="52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 rot="10862400">
            <a:off x="8098920" y="2922480"/>
            <a:ext cx="3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5640" y="2924280"/>
            <a:ext cx="20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С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   д  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328464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36450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43280" y="328464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328464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27640" y="3284640"/>
            <a:ext cx="45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67120" y="496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360" y="4437000"/>
            <a:ext cx="3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27640" y="4405320"/>
            <a:ext cx="45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11840" y="44370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4869000"/>
            <a:ext cx="3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51973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19640" y="555768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80200" y="328464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01080" y="368460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101080" y="40766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01080" y="4437000"/>
            <a:ext cx="44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101080" y="479736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01080" y="522936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01080" y="5557680"/>
            <a:ext cx="4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2205000"/>
            <a:ext cx="498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0T18:41:44Z</dcterms:created>
  <dc:creator>Dan</dc:creator>
  <dc:description/>
  <dc:language>en-US</dc:language>
  <cp:lastModifiedBy>Славик</cp:lastModifiedBy>
  <dcterms:modified xsi:type="dcterms:W3CDTF">2012-12-17T14:13:41Z</dcterms:modified>
  <cp:revision>24</cp:revision>
  <dc:subject/>
  <dc:title>Государственная символика  РОССИИ</dc:title>
</cp:coreProperties>
</file>