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40B-D6C7-48DA-A088-E5E17087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FDA-1ECD-4365-B643-9F57C222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BD7-80A6-41A7-81DA-FA6DAD32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F82-130E-427D-9CD5-5AA22F8E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995-1052-48C4-B76C-9B211244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671-D0F3-4CD1-9B1A-4B68A279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7C3-5CD1-476E-9D64-4543B788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C73-28AA-4723-85BE-43BDC163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837-E60F-4D8B-A13A-51CDB69F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69C-0B3D-42E3-8E78-85CC772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AB6-C390-43C0-A0D4-9594EE7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C64-3D6A-40BC-BE16-8F7AD95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505-0723-482F-916F-EB8D05D46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43;&#1077;&#1088;&#1073;%20-%20&#1101;&#1090;&#1086;%20&#1075;&#1083;&#1072;&#1074;&#1085;&#1099;&#1081;%20&#1089;&#1080;&#1084;&#1074;&#1086;&#1083;%20&#1083;&#1102;&#1073;&#1086;&#1075;&#1086;%20&#1075;&#1086;&#1089;&#1091;&#1076;&#1072;&#1088;&#1089;&#1090;&#1074;&#1072;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3;&#1086;&#1089;&#1091;&#1076;&#1072;&#1088;&#1089;&#1090;&#1074;&#1077;&#1085;&#1085;&#1099;&#1081;%20&#1092;&#1083;&#1072;&#1075;,%20&#1082;&#1072;&#1082;%20&#1080;%20&#1075;&#1077;&#1088;&#1073;,%20&#1103;&#1074;&#1083;&#1103;&#1077;&#1090;&#1089;&#1103;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92;&#1083;&#1072;&#1075;.ppt" TargetMode="External"/><Relationship Id="rId2" Type="http://schemas.openxmlformats.org/officeDocument/2006/relationships/hyperlink" Target="file:///&#1092;&#1083;&#1072;&#1075;.ppt" TargetMode="External"/><Relationship Id="rId3" Type="http://schemas.openxmlformats.org/officeDocument/2006/relationships/hyperlink" Target="file:///&#1075;&#1077;&#1088;&#1073;.ppt" TargetMode="External"/><Relationship Id="rId4" Type="http://schemas.openxmlformats.org/officeDocument/2006/relationships/hyperlink" Target="file:///&#1075;&#1077;&#1088;&#1073;.ppt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77;&#1090;&#1088;&#1072;%20I.ppt" TargetMode="External"/><Relationship Id="rId2" Type="http://schemas.openxmlformats.org/officeDocument/2006/relationships/hyperlink" Target="file:///&#1092;&#1083;&#1072;&#1075;.ppt" TargetMode="External"/><Relationship Id="rId3" Type="http://schemas.openxmlformats.org/officeDocument/2006/relationships/hyperlink" Target="file:///&#1043;&#1086;&#1089;&#1091;&#1076;&#1072;&#1088;&#1089;&#1090;&#1074;&#1077;&#1085;&#1085;&#1099;&#1081;%20&#1092;&#1083;&#1072;&#1075;,%20&#1082;&#1072;&#1082;%20&#1080;%20&#1075;&#1077;&#1088;&#1073;,%20&#1103;&#1074;&#1083;&#1103;&#1077;&#1090;&#1089;&#1103;.ppt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7;&#1086;&#1083;&#1086;&#1090;&#1086;&#1081;%20&#1096;&#1072;&#1088;%20&#1089;%20&#1082;&#1088;&#1077;&#1089;&#1090;&#1086;&#1084;%20&#1085;&#1072;&#1074;&#1077;&#1088;&#1093;&#1091;(1).ppt" TargetMode="External"/><Relationship Id="rId2" Type="http://schemas.openxmlformats.org/officeDocument/2006/relationships/hyperlink" Target="file:///&#1055;&#1090;&#1080;&#1094;&#1072;,%20&#1080;&#1079;&#1086;&#1073;&#1088;&#1072;&#1078;&#1105;&#1085;&#1085;&#1072;&#1103;%20&#1085;&#1072;%20&#1088;&#1086;&#1089;&#1089;&#1080;&#1081;&#1089;&#1082;&#1086;&#1084;%20&#1075;&#1077;&#1088;&#1073;&#1077;%20(2).ppt" TargetMode="External"/><Relationship Id="rId3" Type="http://schemas.openxmlformats.org/officeDocument/2006/relationships/hyperlink" Target="file:///&#1048;&#1084;&#1103;%20&#1074;&#1086;&#1080;&#1085;&#1072;,%20&#1080;&#1079;&#1086;&#1073;&#1088;&#1072;&#1078;&#1105;&#1085;&#1085;&#1086;&#1075;&#1086;%20&#1085;&#1072;%20&#1075;&#1077;&#1088;&#1073;&#1077;%20&#1056;&#1086;&#1089;&#1089;&#1080;&#1080;%20&#1080;(3).ppt" TargetMode="External"/><Relationship Id="rId4" Type="http://schemas.openxmlformats.org/officeDocument/2006/relationships/hyperlink" Target="file:///&#1050;&#1072;&#1082;%20&#1080;&#1085;&#1072;&#1095;&#1077;%20&#1085;&#1072;&#1079;&#1099;&#1074;&#1072;&#1077;&#1090;&#1089;&#1103;%20&#1092;&#1083;&#1072;&#1075;(4).ppt" TargetMode="External"/><Relationship Id="rId5" Type="http://schemas.openxmlformats.org/officeDocument/2006/relationships/hyperlink" Target="file:///&#1050;&#1072;&#1082;&#1086;&#1081;%20&#1094;&#1074;&#1077;&#1090;%20&#1080;&#1084;&#1077;&#1077;&#1090;%20&#1089;&#1088;&#1077;&#1076;&#1085;&#1103;&#1103;%20&#1087;&#1086;&#1083;&#1086;&#1089;&#1072;%20&#1085;&#1072;%20&#1092;&#1083;&#1072;&#1075;&#1077;%20&#1056;&#1086;&#1089;&#1089;&#1080;&#1080;(5).ppt" TargetMode="External"/><Relationship Id="rId6" Type="http://schemas.openxmlformats.org/officeDocument/2006/relationships/hyperlink" Target="file:///&#1046;&#1077;&#1079;&#1083;%20&#8211;%20&#1089;&#1080;&#1084;&#1074;&#1086;&#1083;%20&#1074;&#1083;&#1072;&#1089;&#1090;&#1080;%20&#8211;%20&#1101;&#1090;&#1086;(6).ppt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Государственные символы </a:t>
            </a:r>
            <a:br>
              <a:rPr sz="6600"/>
            </a:b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6021360"/>
            <a:ext cx="62643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4360" y="0"/>
            <a:ext cx="770400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6048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33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cap="rnd" w="6048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755964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рана наша огромна. Она протянулась далеко с запада на восток и с севера на ю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 у каждого государства, у России есть св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герб, флаг, гимн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43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408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987640" cy="24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84720" y="3933720"/>
            <a:ext cx="3059280" cy="216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59280" y="3860640"/>
            <a:ext cx="2952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Герб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01920"/>
            <a:ext cx="8424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Государственный фл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84280"/>
            <a:ext cx="755496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Гимн 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им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в переводе с греческого языка – «торжественная песн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У каждого государства есть свой гимн. В гимне проявляется величие страны, так как в нём , обычно, рассказывается о славных страницах истории государства, о его исторической судьбе и его предназнач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им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это главная песня нашей страны, прославляющая свою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ы – россияне – должны знать его, подпевать, когда он звучит и слушать его стоя, показывая этим самым уважение к нашей стране и нашему правитель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9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8000"/>
                </a:solidFill>
                <a:latin typeface="Arial"/>
              </a:rPr>
              <a:t>Что вы узнали о </a:t>
            </a:r>
            <a:r>
              <a:rPr b="1" i="1" lang="en-US" sz="6600" spc="-1" strike="noStrike" u="sng">
                <a:solidFill>
                  <a:srgbClr val="ff0066"/>
                </a:solidFill>
                <a:uFillTx/>
                <a:latin typeface="Arial"/>
              </a:rPr>
              <a:t>символах России</a:t>
            </a:r>
            <a:r>
              <a:rPr b="1" i="1" lang="en-US" sz="6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- Как называется наша Родина?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- Какие символы страны вам известны?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-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О каких символах страны идёт реч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рикреплённое к древку или шнуру полотнище определённого цвета или нескольких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Эмблема государства, города, сословия, рода, изображаемая на флагах, монетах, печатях, государственных и других док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Торжественная песня, принятая как символ государственного или социального ед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92360" y="2060640"/>
            <a:ext cx="71280" cy="73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Приготовьтесь ответить на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вопросы: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раб. в па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ого историки считают основателем российского фла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акие цвета у флага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Что обозначает каждый цвет на флаг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. Как надо относиться к символам своей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Кроссворд «Символик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1125360"/>
          <a:ext cx="7775280" cy="5313600"/>
        </p:xfrm>
        <a:graphic>
          <a:graphicData uri="http://schemas.openxmlformats.org/drawingml/2006/table">
            <a:tbl>
              <a:tblPr/>
              <a:tblGrid>
                <a:gridCol w="1555560"/>
                <a:gridCol w="515880"/>
                <a:gridCol w="520920"/>
                <a:gridCol w="517320"/>
                <a:gridCol w="541440"/>
                <a:gridCol w="495360"/>
                <a:gridCol w="515880"/>
                <a:gridCol w="519120"/>
                <a:gridCol w="519120"/>
                <a:gridCol w="519120"/>
                <a:gridCol w="517320"/>
                <a:gridCol w="519120"/>
                <a:gridCol w="519120"/>
              </a:tblGrid>
              <a:tr h="337320">
                <a:tc gridSpan="5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1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2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3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4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5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6 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7       8       9       10       10      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932360" y="105264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784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41300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205000"/>
            <a:ext cx="3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7733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5653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2924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328464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141300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220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1052640"/>
            <a:ext cx="41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1341360"/>
            <a:ext cx="2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1413000"/>
            <a:ext cx="5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16720" y="141300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67480" y="1413000"/>
            <a:ext cx="13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  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220500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5653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2428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213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6450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4076640"/>
            <a:ext cx="47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9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328464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364500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404496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44053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797360"/>
            <a:ext cx="4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15772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924280"/>
            <a:ext cx="265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4720" y="2565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292428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3284640"/>
            <a:ext cx="4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4720" y="364500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407664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10862400">
            <a:off x="8098920" y="2922480"/>
            <a:ext cx="3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9242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   д 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328464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645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2846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328464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6712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443700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40532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1840" y="4437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4869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51973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55576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80200" y="328464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36846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01080" y="4076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443700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479736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01080" y="52293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01080" y="55576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220500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8:41:44Z</dcterms:created>
  <dc:creator>Dan</dc:creator>
  <dc:description/>
  <dc:language>en-US</dc:language>
  <cp:lastModifiedBy>Славик</cp:lastModifiedBy>
  <dcterms:modified xsi:type="dcterms:W3CDTF">2012-12-17T14:13:41Z</dcterms:modified>
  <cp:revision>24</cp:revision>
  <dc:subject/>
  <dc:title>Государственная символика  РОССИИ</dc:title>
</cp:coreProperties>
</file>