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DCB-0DF0-4CC8-8543-87C28063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34D2-5ED9-495F-A6F1-855F6886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74E-0570-49B2-8C03-7A7DB2D3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20CC-842E-483F-9D29-27F87B7EF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FA7E-5403-4200-AA5A-673A3B13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3733-DAC5-40A8-9848-ED071F28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455-A27E-462C-B55B-818DE669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7A36-F100-4812-AD1B-425CE42B0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3B1D-81DE-4D64-8BD8-72AD7A3F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6D58-3D45-4C24-AA07-43AA8745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EBE1-62AD-4DED-A074-237E8D08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BD3-3A54-4180-96FD-23C8216B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FA5A-A954-419C-83BC-B6C4902D2C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on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826920" y="1433520"/>
            <a:ext cx="684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Как хорош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           </a:t>
            </a: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умет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                      </a:t>
            </a: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читать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224680" y="4724280"/>
            <a:ext cx="339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БОУ «Абрамовская С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им.А.И.Плотник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ученица 3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узина 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Руководитель: Четне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fon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391680" y="476280"/>
            <a:ext cx="807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Люблю читать сказки. Они учат нас быть добры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трудолюбивыми, смелыми, чест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 удовольствием читаю волшебные сказ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и сказки А.С.Пушк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445709"/>
          <p:cNvPicPr/>
          <p:nvPr/>
        </p:nvPicPr>
        <p:blipFill>
          <a:blip r:embed="rId2"/>
          <a:stretch/>
        </p:blipFill>
        <p:spPr>
          <a:xfrm>
            <a:off x="5143680" y="2060640"/>
            <a:ext cx="3308040" cy="4321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1269616829_skazki"/>
          <p:cNvPicPr/>
          <p:nvPr/>
        </p:nvPicPr>
        <p:blipFill>
          <a:blip r:embed="rId3"/>
          <a:stretch/>
        </p:blipFill>
        <p:spPr>
          <a:xfrm>
            <a:off x="826920" y="2060640"/>
            <a:ext cx="316080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on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79640" y="333360"/>
            <a:ext cx="880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чень нравится читать рассказы разных писателе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М.Пришвина, Н.Сладкова, В.Бианки, Л.Толст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Много поучительного и смешного в рассказах Н.Нос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Рассказы учат нас любить животны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чат дружить, помогать близким, уважать старш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i?id=d2d5817396a0f0b8bbdb68269e670b30&amp;n=33&amp;h=215&amp;w=158"/>
          <p:cNvPicPr/>
          <p:nvPr/>
        </p:nvPicPr>
        <p:blipFill>
          <a:blip r:embed="rId2"/>
          <a:stretch/>
        </p:blipFill>
        <p:spPr>
          <a:xfrm>
            <a:off x="539640" y="2565360"/>
            <a:ext cx="2594160" cy="374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4911150"/>
          <p:cNvPicPr/>
          <p:nvPr/>
        </p:nvPicPr>
        <p:blipFill>
          <a:blip r:embed="rId3"/>
          <a:stretch/>
        </p:blipFill>
        <p:spPr>
          <a:xfrm>
            <a:off x="3348000" y="2565360"/>
            <a:ext cx="2521080" cy="374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5501366"/>
          <p:cNvPicPr/>
          <p:nvPr/>
        </p:nvPicPr>
        <p:blipFill>
          <a:blip r:embed="rId4"/>
          <a:stretch/>
        </p:blipFill>
        <p:spPr>
          <a:xfrm>
            <a:off x="6227640" y="2565360"/>
            <a:ext cx="25225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fon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95280" y="40464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а уроках знакомимся с произведениями поэ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начала стихи читаем, подробно разбирае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учим наизусть, готовим выразительное чт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Третий год принимаю участие в конкурсе стихов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это мне очень нрав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1000273825"/>
          <p:cNvPicPr/>
          <p:nvPr/>
        </p:nvPicPr>
        <p:blipFill>
          <a:blip r:embed="rId2"/>
          <a:stretch/>
        </p:blipFill>
        <p:spPr>
          <a:xfrm>
            <a:off x="539640" y="2637000"/>
            <a:ext cx="2697120" cy="360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%D0%BD"/>
          <p:cNvPicPr/>
          <p:nvPr/>
        </p:nvPicPr>
        <p:blipFill>
          <a:blip r:embed="rId3"/>
          <a:stretch/>
        </p:blipFill>
        <p:spPr>
          <a:xfrm>
            <a:off x="3419640" y="2637000"/>
            <a:ext cx="2520720" cy="3600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8919a44e1f1f0da5b2338db531a11371"/>
          <p:cNvPicPr/>
          <p:nvPr/>
        </p:nvPicPr>
        <p:blipFill>
          <a:blip r:embed="rId4"/>
          <a:stretch/>
        </p:blipFill>
        <p:spPr>
          <a:xfrm>
            <a:off x="6156360" y="2637000"/>
            <a:ext cx="230508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on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393840" y="404640"/>
            <a:ext cx="855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о втором классе познакомились с былинами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баснями. Некоторые былины читать трудно, т.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многие слова непонятны. Но мне интересно узна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 подвигах русских богатыр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Басни и читаю, и учу наизу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1082336541015781ccd13848dc75c116"/>
          <p:cNvPicPr/>
          <p:nvPr/>
        </p:nvPicPr>
        <p:blipFill>
          <a:blip r:embed="rId2"/>
          <a:stretch/>
        </p:blipFill>
        <p:spPr>
          <a:xfrm>
            <a:off x="5403960" y="2349360"/>
            <a:ext cx="3043080" cy="3969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78004_big"/>
          <p:cNvPicPr/>
          <p:nvPr/>
        </p:nvPicPr>
        <p:blipFill>
          <a:blip r:embed="rId3"/>
          <a:stretch/>
        </p:blipFill>
        <p:spPr>
          <a:xfrm>
            <a:off x="900000" y="2421000"/>
            <a:ext cx="280836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fon-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95280" y="40464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Необходимо читать научно-популярную литер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овари, энциклопедии, справочники помогают при подготовке к урокам. Из этих книг узнаю много интересного, они пополняют мои 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bolshaya-ehntsiklopediya-khochu-vse-znat_1"/>
          <p:cNvPicPr/>
          <p:nvPr/>
        </p:nvPicPr>
        <p:blipFill>
          <a:blip r:embed="rId2"/>
          <a:stretch/>
        </p:blipFill>
        <p:spPr>
          <a:xfrm>
            <a:off x="971640" y="2205000"/>
            <a:ext cx="2303280" cy="3362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i417035"/>
          <p:cNvPicPr/>
          <p:nvPr/>
        </p:nvPicPr>
        <p:blipFill>
          <a:blip r:embed="rId3"/>
          <a:stretch/>
        </p:blipFill>
        <p:spPr>
          <a:xfrm>
            <a:off x="3492360" y="2205000"/>
            <a:ext cx="2305080" cy="3384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imgh1217856"/>
          <p:cNvPicPr/>
          <p:nvPr/>
        </p:nvPicPr>
        <p:blipFill>
          <a:blip r:embed="rId4"/>
          <a:stretch/>
        </p:blipFill>
        <p:spPr>
          <a:xfrm>
            <a:off x="6084720" y="2205000"/>
            <a:ext cx="2448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fon-2"/>
          <p:cNvPicPr/>
          <p:nvPr/>
        </p:nvPicPr>
        <p:blipFill>
          <a:blip r:embed="rId1"/>
          <a:stretch/>
        </p:blipFill>
        <p:spPr>
          <a:xfrm>
            <a:off x="0" y="0"/>
            <a:ext cx="9720360" cy="7289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468360" y="907920"/>
            <a:ext cx="849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ак хорошо уметь чит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едь можно многое узн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 космосе, планет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Морях и о коме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 том, как раньше жил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ак Родину люб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 том, что на плане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И взрослые, и д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Хотят все в мире ж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И мир в семье храни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                                                                      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Женя 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1T14:36:49Z</dcterms:created>
  <dc:creator>USER</dc:creator>
  <dc:description/>
  <dc:language>en-US</dc:language>
  <cp:lastModifiedBy>USER</cp:lastModifiedBy>
  <dcterms:modified xsi:type="dcterms:W3CDTF">2017-10-10T17:36:24Z</dcterms:modified>
  <cp:revision>4</cp:revision>
  <dc:subject/>
  <dc:title>Слайд 1</dc:title>
</cp:coreProperties>
</file>