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move the slide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DF95-1A6A-4E9A-BCD7-15FA724845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9464-D03C-4D7E-AD22-4C7D283C02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ED7-1E80-430A-A83D-A59B930A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0AE-54DC-474B-A69F-52FBD5AF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8C9-9590-4C7C-914D-766332832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A67-0514-4B37-A767-9A615E1C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1C7D-5D68-4D43-BD66-ED550733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58C0-4E7B-4DA7-859D-01873E53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E27E-161C-43D4-833B-36FDFD96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346A-7C50-4999-9F70-997CE89C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D5F8-2D95-4EA9-AA37-0A5D03D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2505-DF00-44DC-BAFA-45F07311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3CE1-9C28-473A-ABDC-E1493250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4EA-1985-450D-85C8-F0773D1A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5668-17D5-46B0-A198-3CB738A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65A4-2037-46B1-B7DE-44EBAB3E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F9ED-B6DA-485D-B6DB-6771C4D1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9488-1D15-4F1D-85DB-3B568186B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C82E-9E5F-4624-85F2-A654FDC6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CC6-753F-46D4-9997-76ABA0AA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718F-3641-4796-961B-DA481F49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719-2C40-44BB-97B7-2B4E6E89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6CF9-330F-433B-B58D-1159C1CC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397-A19F-41D8-9764-6163CA7B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BD62-071F-4B0A-B5C0-D849C72F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B2F8-418F-46CB-B9F6-4AFCC29A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EFCA-9710-4927-958A-6009A092343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6c0a"/>
                </a:solidFill>
                <a:latin typeface="Impact"/>
              </a:rPr>
              <a:t>Click to edit the title text format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604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7030a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4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3AB7-95D8-4E64-8D27-37A3D26430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052280"/>
            <a:ext cx="57117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ОДГОТОВИТЬ И ПРАВИЛЬНО ОФОРМИТЬ РЕФЕРАТ</a:t>
            </a:r>
            <a:endParaRPr b="1" lang="en-US" sz="44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90" name="Rectangle 5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54E5-375F-4E16-AA9E-9476559DD17D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мен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ферата 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(оглавление) реферата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сточников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.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4EA4-C83E-4C2C-92E5-79AAFF0B10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ницей реферата и служит источником информации, необходимой для обработки и поиска документа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331D-9D20-48C4-9285-C80858C5CB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j0397210"/>
          <p:cNvPicPr/>
          <p:nvPr/>
        </p:nvPicPr>
        <p:blipFill>
          <a:blip r:embed="rId1"/>
          <a:stretch/>
        </p:blipFill>
        <p:spPr>
          <a:xfrm>
            <a:off x="468360" y="5084640"/>
            <a:ext cx="1801800" cy="15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1763640" y="0"/>
            <a:ext cx="532944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339640" y="333000"/>
            <a:ext cx="4535640" cy="626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НИЖЕГОРОДСКОЙ ОБЛАСТИ ГБПОУ «Дзержинский индустриально-коммерческий техникум"</a:t>
            </a:r>
            <a:endParaRPr b="0" lang="en-US" sz="11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исциплине: история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 Грюнвальдская битва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Лебедев Михаил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гр. № 26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л: Медведева В. Е.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зержинск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endParaRPr b="0" lang="en-US" sz="1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C58B-877E-417F-80BC-534E6F8A3A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4"/>
          <p:cNvSpPr/>
          <p:nvPr/>
        </p:nvSpPr>
        <p:spPr>
          <a:xfrm>
            <a:off x="2340000" y="981000"/>
            <a:ext cx="4248000" cy="5616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Требования  к оформлению реферата.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916360" y="1413000"/>
            <a:ext cx="3311280" cy="4752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56C2-F073-4246-B9C0-0B5CE26A48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140360" y="1052640"/>
            <a:ext cx="936360" cy="3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м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140360" y="6165720"/>
            <a:ext cx="936360" cy="3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 rot="5400000">
            <a:off x="5953680" y="3631320"/>
            <a:ext cx="934920" cy="38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м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 rot="16200000">
            <a:off x="2136600" y="3703680"/>
            <a:ext cx="936720" cy="387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м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4E94-70A3-441A-9A0B-8740E3BF4A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916360" y="1413000"/>
            <a:ext cx="3311280" cy="4752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36" name="Прямоугольник 6"/>
          <p:cNvSpPr/>
          <p:nvPr/>
        </p:nvSpPr>
        <p:spPr>
          <a:xfrm>
            <a:off x="2411280" y="981000"/>
            <a:ext cx="4248360" cy="5616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987640" y="1268280"/>
            <a:ext cx="3529080" cy="5040360"/>
          </a:xfrm>
          <a:prstGeom prst="rect">
            <a:avLst/>
          </a:prstGeom>
          <a:solidFill>
            <a:srgbClr val="eeece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отделён от текста  междустрочным интервалом равным 4-ем единица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ая глава печатается с нового лист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главы печатается 14-м размером шрифт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главы печатается 10-12-м размером шрифта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ние (оглавление) реферата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286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ведение, наименование всех разделов, подразделов, пунктов и заключение с указанием номеров начальных страниц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ы реферата должны быть скомпонованы в следующем порядке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тульный лист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вление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(обоснование выбранной темы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(выводы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информационных ресурсов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(если таковые имеются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195B-BD84-4503-AB73-4C7DFF259D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240" y="981000"/>
            <a:ext cx="8915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ведении дается: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изучаемой тем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ывается е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а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 автор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ее исследовании,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я данного вопроса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введ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авляет пример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/1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общего объема работы.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ение –визитная карточка рабо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!!! текст введения лучше написать после окончания работы над основной частью, когда будут точно видны результаты реферирования.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97BC-6B5B-4C5C-8FEF-701EBE25CF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ые клише, используемые во введении:</a:t>
            </a:r>
            <a:br>
              <a:rPr sz="3600"/>
            </a:b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посвящен теме, проблеме, актуальному вопросу…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посвящен характеристике проблемы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ой реферата является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ферате… рассматривается (что?), говорится (о чем?), дается оценка, анализ (чего?), обобщается (что?), представлена точка зрения (на что?) и т. д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акже используются, например, такие глаголы: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… выявить… установить… и т.п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8709-FB33-474E-B623-A7F5492F28F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В центре внимания автора находятся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lvl="1" marL="971640" indent="-514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 первый план автором выдвигаются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lvl="1" marL="971640" indent="-514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Главные усилия автора направлены на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lvl="1" marL="971640" indent="-51444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В своей работе автор ставит (затрагивает, освещает) следующие проблемы… …останавливается на следующих проблемах и т.д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59E1-AAD5-4205-A6CA-975ECAAC5AC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j0410907"/>
          <p:cNvPicPr/>
          <p:nvPr/>
        </p:nvPicPr>
        <p:blipFill>
          <a:blip r:embed="rId1"/>
          <a:stretch/>
        </p:blipFill>
        <p:spPr>
          <a:xfrm>
            <a:off x="179280" y="4476600"/>
            <a:ext cx="24210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404640"/>
            <a:ext cx="91440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Данная тема (проблема) представляет особую актуальность, так как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Данная тема (проблема) чрезвычайно актуальна в последние годы (на современном этапе)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Данная тема (проблема) привлекает внимание многих ученых (критиков, педагогов и т.д.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В современной науке особенную остроту приобретает тема (какая?)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0568-A0FB-4BE8-A99F-4932BA06861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3716280"/>
            <a:ext cx="8915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Автор привлекает к анализу следующие материалы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Материалом исследования послужил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В основе реферата лежат материалы исследований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лавление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этапы работы над реферато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структурным элементам реферат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ния к оформлению реферата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A935-12D7-48F4-A5F6-048669FCEC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анном разделе должна быть раскрыта тема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рыть все пункты составленного плана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о изложить накопленный и проанализированный материал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ожить суть проблемы, различные точки зрения на нее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зить собственную позицию автора реферата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аздел основной части должен открываться определенной задачей и заканчиваться краткими выводами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1430-DD1D-438F-A687-B7A11E2E12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часть реферата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ссылок и сносок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A213-52EA-417C-BB5D-2A9B029010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нутритекстовые </a:t>
            </a:r>
            <a:r>
              <a:rPr b="0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носки являются неразрывной частью основного текста. Внутри текста указывается номер источника в списке литературы с указанием страниц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Подстрочные</a:t>
            </a:r>
            <a:r>
              <a:rPr b="0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сноски располагают под чертой  внизу страницы с указанием номера источника и страниц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Затекстовые</a:t>
            </a:r>
            <a:r>
              <a:rPr b="0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 сноски вынесены за текст всего реферата либо его части, в этом случае их следует применять сквозную (через всю работу) нумерацию. Допускается сокращенный вариант сноски, например: [7, с.15]. Это означает, что цитата взята с 15 страницы источника, который в списке источников и литературы стоит под седьмым номером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реферата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125000"/>
            <a:ext cx="914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тся итоги по всей работе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ируются выводы, содержащие ясные ответы на поставленные в цели исследования вопросы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ются собственные обобщения (иногда с учетом различных точек зрения на изложенную проблему)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ся то новое, что получено в результате работы над данной темой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о объему не должно превышать введение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A2D8-6242-4F7F-A66A-BA4F972592D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4" descr="j0432665"/>
          <p:cNvPicPr/>
          <p:nvPr/>
        </p:nvPicPr>
        <p:blipFill>
          <a:blip r:embed="rId1"/>
          <a:stretch/>
        </p:blipFill>
        <p:spPr>
          <a:xfrm>
            <a:off x="0" y="5516640"/>
            <a:ext cx="148104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0" y="88056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приходит к выводу,( заключению )о том…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ключение можно сказать…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я сказанное, можно сделать вывод, что…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литературы позволил нам выявить наиболее обоснованную точку зрения (какую?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всего сказанного следует, что наиболее доказательным является мнение (чьё?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этих данных мы принимаем точку зрения (какую?) и т.д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6E1A-C83C-4557-8ABF-8A3099C882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зыковые клише, используемые в заключении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нформационных ресурсов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79280" y="1699920"/>
            <a:ext cx="87854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составляется в алфавитном порядке по фамилиям авторов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аличии нескольких работ одного автора их названия располагаются по годам изданий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е источники (изданные на иностранном языке) перечисляются в конце всего списка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B45C-5974-4D41-9E94-D840E7CB818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0" y="1196640"/>
            <a:ext cx="88200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ковый номер литературного источника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нициалы автора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название книги (без кавычек, исключение – если название – цитата)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издания (Текст, изопродукция, электронное издание и т.д.)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(город) издания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тельство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издания – цифрой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страниц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DF43D-2892-4B7F-85F2-0266A29BCEC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графическое описание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28600" y="404640"/>
            <a:ext cx="77724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ниги:</a:t>
            </a:r>
            <a:endParaRPr b="0" lang="en-US" sz="36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цов, Г.А. Основы библиотековедения и работа с книгой [Текст]: Учебн. пособие для преподавателей и учащихся ср. спец. уч. заведений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 Высшая школа, 1977. 83 с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вов, Ю.А. Основы экономики и организации бизнеса [Текст]. СПб.: ГМП «Формика», 1992. 383 с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и методика проведения деловых совещаний: Учебное пособие. [Текст].  Киев: МАУП, 1995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энциклопедии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здецкий, Н.А. Эльбрус [Текст] //БСЭ 3-е изд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978. Т.30. С.151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027D-C526-4983-A416-9089FB31F1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28240" y="404640"/>
            <a:ext cx="845820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урнал:</a:t>
            </a:r>
            <a:endParaRPr b="0" lang="en-US" sz="36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а, З. Правовое регулирование труда государственных служащих [Текст] //Русский язык и литература в средних учебных заведениях УССР. 1989. №1. С. 16 – 19.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ов, Ю. Непримиримость: Роман-хроника [Текст]//Смена  1987. №20. С.25–32; №21. С.24 – 32; №22. С. 24–31; №23. С.24–31; №24. С.24–32.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23EC-250D-4E75-8F76-C783F90374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604a7b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-документ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льникова И.А. Рабочий конспект для внедряющих информационные технологии в школе. Центр «Информика». [Электронный ресурс]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ik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ool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нференция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ина И.Н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zin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p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просы для преподавателей, осуществляющих дистанционное обучение с использованием компьютерных телекоммуникаций в России и США. 7 января 1999. —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b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GROUP emissia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line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629 (1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dhfkz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9)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ый ресурс на компакт-диске: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энциклопедия зарубежного классического искусства [Электронный ресурс]. — Электрон. текстовые, граф., Зв. дан. и прикладная прог. (546 Мб). М.: Большая Рос. энцикл. [и др.], 1996. 1 электрон. опт. диск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D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зв., цв., 12 см + рук. пользователя (1л.)+открытка (1л.)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таких информационных ресурсов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DCAE-724C-41BF-BD6D-1C1FA0A4DC2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 списка электронных ресурсов</a:t>
            </a:r>
            <a:endParaRPr b="1" lang="en-US" sz="32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став приложений могут входить: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и документов (с указанием «ксерокопировано с…» или «перерисовано с…»)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и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ы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и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,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ы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должно иметь название или пояснительную подпись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приложение начинается с нового листа. Нумеруется, чтобы на него можно было сослаться в тексте с использованием круглых скобок, например: (Приложение 5).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609480" indent="-6094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ицы, на которых даны приложения, продолжают общую нумерацию текста, но в общий объем реферата не включаются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0D84-053B-43F8-B4AB-DD260C64C38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</a:t>
            </a: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инского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er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докладываю, сообщаю) — письменный доклад или выступление по определённой теме, в котором собрана информация из одного или нескольких источников</a:t>
            </a: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0F79-6397-47FE-AE73-775FFE72AE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ые ресурсы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цов, Г.А. Работа над рефератом. [Текст]. Ростов н/Д: Издательский центр «МарТ», 2002. 64 с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Т 7.9-77 «Реферат и аннотация»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лмыкова, И.Р. Реферат как форма устной итоговой аттестации учащихся 9 и 11 классов [Текст]. // Образование в современной школе. 2001. №11. С. 57- 61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государственный стандарт «Библиографическая запись. Библиографическое описание. Общие требования и правила составления» [Текст]. 2004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 (подготовка, оформление и процедура защиты) [Текст]. //Практика административной работы в школе. 2002.  №1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ина, И.Н. Оформление библиографических ссылок на электронные информационные ресурсы. Ростовский государственный педагогический университет. [Электронный ресурс].  http://bspu.ab.ru/Journal/vestnik/ARHIW/N1_1999/rosina.html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лова, О.Н., Лебедева, М.Б. Как разработать эффективный учебно-методический пакет средствами информационных технологий. [Текст]. М.: Интуит.ру, 2006. 144с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72960" indent="-37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8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50B5-8862-4C59-A103-96B07B5E545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0" y="549360"/>
            <a:ext cx="91440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у должны быть присущи следующие свойства: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держательно-тематическая, стилевая, языковая)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огическая и формально-языковая)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личие введения, основной части и заключения, их оптимальное соотношение)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енность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мысловая и жанрово-композиционная)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9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4DEE-04C7-485A-A0E3-DE061B862FD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863360"/>
            <a:ext cx="91440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ческ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написанные на основе одного источника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зданные на основе нескольких исходных текстов, объединенных общей темой и сходными проблемами исследования)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844E-2B72-46AB-9AD1-899076E25E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j0404643"/>
          <p:cNvPicPr/>
          <p:nvPr/>
        </p:nvPicPr>
        <p:blipFill>
          <a:blip r:embed="rId1"/>
          <a:stretch/>
        </p:blipFill>
        <p:spPr>
          <a:xfrm>
            <a:off x="0" y="4724280"/>
            <a:ext cx="2087640" cy="1820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ератов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4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аботы над рефератом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этап — подготовительный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 материалов по определенной теме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ор литературы в конкретной библиотеке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круга справочных пособий для последующей работы по теме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этап — исполнительский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книг (других источников)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записей прочитанного (сканирование)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материалов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плана реферата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этап — заключительный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меющихся материалов и написание реферата 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списка использованной литературы.</a:t>
            </a: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4231-9FFD-489A-8932-982528CDD2B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28600" y="1483920"/>
            <a:ext cx="83757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to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«призываю в свидетели») — это  выписки из текста книг (статей) — выдержки, сведения словами автора. Правила цитирования: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ую цитату следует заключать в кавычки. Если цитату выписывают из середины предложения, то после  вводных кавычек ставят три точки: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у учащихся следует развивать мыслительные умения более высокого уровня, позволяющие глубже понимать факты, анализировать их, делать хорошо обоснованные выводы и видеть более общую картину явлений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0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4B1AA-84A0-42C9-9420-77F465CC264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ы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1331640"/>
            <a:ext cx="8964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греч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zo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«утверждаю») — более сложная  и более совершенная форма записи.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ые(краткие) - в них мысли содержат одно утверждение и ничем больше не подтверждаются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ными (развернутые, распространенные) - подкрепляемые доводами, аргументами.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4003-71BC-40B3-BBB8-4A6E0BB30B9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68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28240" y="1341360"/>
            <a:ext cx="89154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т лат.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pectu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«обзор, изложение») —форма записи прочитанного, объединяющая в себе многие виды записей: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тки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иски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аты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, 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зисы.</a:t>
            </a:r>
            <a:endParaRPr b="0" lang="en-US" sz="3200" spc="-1" strike="noStrike">
              <a:solidFill>
                <a:srgbClr val="604a7b"/>
              </a:solidFill>
              <a:latin typeface="Calibri"/>
            </a:endParaRPr>
          </a:p>
        </p:txBody>
      </p:sp>
      <p:sp>
        <p:nvSpPr>
          <p:cNvPr id="11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6724-2898-4065-8C5E-78A487E0640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j0433868"/>
          <p:cNvPicPr/>
          <p:nvPr/>
        </p:nvPicPr>
        <p:blipFill>
          <a:blip r:embed="rId1"/>
          <a:stretch/>
        </p:blipFill>
        <p:spPr>
          <a:xfrm>
            <a:off x="250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нспект</a:t>
            </a:r>
            <a:endParaRPr b="1" lang="en-US" sz="3600" spc="-1" strike="noStrike">
              <a:solidFill>
                <a:srgbClr val="e46c0a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24:29Z</dcterms:created>
  <dc:creator>Каримова Г.М.</dc:creator>
  <dc:description/>
  <cp:keywords/>
  <dc:language>en-US</dc:language>
  <cp:lastModifiedBy>ДИКТ4</cp:lastModifiedBy>
  <dcterms:modified xsi:type="dcterms:W3CDTF">2016-02-24T08:56:18Z</dcterms:modified>
  <cp:revision>36</cp:revision>
  <dc:subject>КАК ПОДГОТОВИТЬ И ПРАВИЛЬНО ОФОРМИТЬ РЕФЕРАТ</dc:subject>
  <dc:title>КАК ПОДГОТОВИТЬ И ПРАВИЛЬНО ОФОРМИТЬ РЕФЕРА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641049</vt:lpwstr>
  </property>
</Properties>
</file>