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move the slide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B8DD-C306-4AB9-8D5A-2E6221E0CB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9547-FDEB-42E5-A524-821ADCD08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DB2-D051-4383-8395-16FF932D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308-8104-4DEB-84A6-2A773FB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7B4-B334-4318-B592-2E60D93C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823-E913-4327-85E2-ABC75F3B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00D9-0DD2-4FA7-A463-3B55546E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879-C972-4667-BEF0-B341047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3AC2-3941-4FB5-BFE0-64B7A39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CA7F-7F6B-4A87-9EE7-46F82EF3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889-728E-40C3-9444-F2B57CB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162A-C48A-4210-9870-6E5E298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A75-E4D4-4151-B927-F653AB3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01E-C228-4985-9FE0-3918AB85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CB23-7148-4DA9-A583-4A8BB1F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93F-EE42-40BC-901E-A343B36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E48-E24D-4A53-A4AB-B291616B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DD85-2462-44AD-BACC-68922EA4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3BC3-867D-41C7-8FBF-26962A1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DCA-5896-46C2-A5F0-BCA7583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28A-BB1D-446F-B769-982FFCA9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12F-3BF1-410A-AC8D-50B76BD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2D3-62D1-4C92-9A8F-3AAA85C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B9D-4702-452D-B837-0BD11D9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4BB-34EB-46DF-A2C3-BAB9C1D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60F-DABC-4B73-B4EB-F17B69E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69DA-4A81-494C-860A-7F4157FF8D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E984-3556-4EAA-9909-E824580794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052280"/>
            <a:ext cx="57117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ГОТОВИТЬ И ПРАВИЛЬНО ОФОРМИТЬ РЕФЕРАТ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90" name="Rectangle 5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2D12-864A-4D66-9DAD-7559841258F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мен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ферата 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(оглавление) реферата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.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131-7B2E-4C41-9FF3-2DF110431D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ницей реферата и служит источником информации, необходимой для обработки и поиска документа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786-3DD1-49B3-8B3D-051285FFE6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j0397210"/>
          <p:cNvPicPr/>
          <p:nvPr/>
        </p:nvPicPr>
        <p:blipFill>
          <a:blip r:embed="rId1"/>
          <a:stretch/>
        </p:blipFill>
        <p:spPr>
          <a:xfrm>
            <a:off x="468360" y="5084640"/>
            <a:ext cx="18018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1763640" y="0"/>
            <a:ext cx="532944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39640" y="333000"/>
            <a:ext cx="4535640" cy="62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НИЖЕГОРОДСКОЙ ОБЛАСТИ ГБПОУ «Дзержинский индустриально-коммерческий техникум"</a:t>
            </a:r>
            <a:endParaRPr b="0" lang="en-US" sz="11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исциплине: история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Грюнвальдская битва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Лебедев Михаил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№ 26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: Медведева В. Е.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зержинск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E61F-2515-4C4B-85D9-BBD020B22F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2340000" y="981000"/>
            <a:ext cx="4248000" cy="561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ребования  к оформлению реферата.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16360" y="1413000"/>
            <a:ext cx="3311280" cy="4752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B508-79A2-4D5A-8E3D-BFE889A9B9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140360" y="1052640"/>
            <a:ext cx="93636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140360" y="6165720"/>
            <a:ext cx="936360" cy="3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 rot="5400000">
            <a:off x="5953680" y="3631320"/>
            <a:ext cx="934920" cy="38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rot="16200000">
            <a:off x="2136600" y="3703680"/>
            <a:ext cx="936720" cy="38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3D39-A693-40A7-9B4E-9C19D46FBE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16360" y="1413000"/>
            <a:ext cx="3311280" cy="4752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2411280" y="981000"/>
            <a:ext cx="4248360" cy="561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987640" y="1268280"/>
            <a:ext cx="3529080" cy="504036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отделён от текста  междустрочным интервалом равным 4-ем един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глава печатается с нового лис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главы печатается 14-м размером шрифт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главы печатается 10-12-м размером шрифт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(оглавление) реферата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ведение, наименование всех разделов, подразделов, пунктов и заключение с указанием номеров начальных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ы реферата должны быть скомпонованы в следующем порядке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вление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(обоснование выбранной темы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(выводы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нформационных ресурсо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(если таковые имеются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1F52-B894-4E9D-8D35-5A973E988F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98100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ведении дается: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зучаемой 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ывается 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 авто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е исследовании,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я данного вопроса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введ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пример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/1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щего объема работы.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–визитная карточка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!!! текст введения лучше написать после окончания работы над основной частью, когда будут точно видны результаты реферирования.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EC73-01C5-4BB2-8FB4-6D530ED12B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е клише, используемые во введении:</a:t>
            </a:r>
            <a:br>
              <a:rPr sz="3600"/>
            </a:b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посвящен теме, проблеме, актуальному вопросу…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посвящен характеристике проблемы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ой реферата является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ферате… рассматривается (что?), говорится (о чем?), дается оценка, анализ (чего?), обобщается (что?), представлена точка зрения (на что?) и т. д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используются, например, такие глаголы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… выявить… установить… и т.п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89C4-DE4C-4713-AC3B-FAD9F71843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центре внимания автора находятся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 первый план автором выдвигаются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лавные усилия автора направлены на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 своей работе автор ставит (затрагивает, освещает) следующие проблемы… …останавливается на следующих проблемах и т.д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DE93-6692-4918-A817-A2C23E485A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j0410907"/>
          <p:cNvPicPr/>
          <p:nvPr/>
        </p:nvPicPr>
        <p:blipFill>
          <a:blip r:embed="rId1"/>
          <a:stretch/>
        </p:blipFill>
        <p:spPr>
          <a:xfrm>
            <a:off x="179280" y="4476600"/>
            <a:ext cx="2421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40464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анная тема (проблема) представляет особую актуальность, так как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Данная тема (проблема) чрезвычайно актуальна в последние годы (на современном этапе)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Данная тема (проблема) привлекает внимание многих ученых (критиков, педагогов и т.д.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В современной науке особенную остроту приобретает тема (какая?)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1E7-D911-44BF-9F69-97AE60DC50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3716280"/>
            <a:ext cx="8915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Автор привлекает к анализу следующие материал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Материалом исследования послужил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В основе реферата лежат материалы исследовани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вление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 работы над реферат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структурным элементам рефер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формлению реферата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9C44-3474-4D05-A05E-0E8FFBA931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должна быть раскрыта тема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все пункты составленного плана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 изложить накопленный и проанализированный материал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ть суть проблемы, различные точки зрения на нее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ь собственную позицию автора реферата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аздел основной части должен открываться определенной задачей и заканчиваться краткими выводами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6C86-EF15-4660-81BF-0C9B69874D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 реферата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ссылок и сносок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DB9-5C5E-415D-B7B4-5CAAC0F59C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нутритекстовые </a:t>
            </a: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носки являются неразрывной частью основного текста. Внутри текста указывается номер источника в списке литературы с указанием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одстрочные</a:t>
            </a: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сноски располагают под чертой  внизу страницы с указанием номера источника и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текстовые</a:t>
            </a: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сноски вынесены за текст всего реферата либо его части, в этом случае их следует применять сквозную (через всю работу) нумерацию. Допускается сокращенный вариант сноски, например: [7, с.15]. Это означает, что цитата взята с 15 страницы источника, который в списке источников и литературы стоит под седьмым номером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реферата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125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тся итоги по всей работе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уются выводы, содержащие ясные ответы на поставленные в цели исследования вопросы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ся собственные обобщения (иногда с учетом различных точек зрения на изложенную проблему)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то новое, что получено в результате работы над данной темой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о объему не должно превышать введение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79D-93B5-4AFC-A56A-EABAE6BDAF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j0432665"/>
          <p:cNvPicPr/>
          <p:nvPr/>
        </p:nvPicPr>
        <p:blipFill>
          <a:blip r:embed="rId1"/>
          <a:stretch/>
        </p:blipFill>
        <p:spPr>
          <a:xfrm>
            <a:off x="0" y="5516640"/>
            <a:ext cx="14810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88056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иходит к выводу,( заключению )о том…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 можно сказать…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я сказанное, можно сделать вывод, что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 позволил нам выявить наиболее обоснованную точку зрения (какую?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го сказанного следует, что наиболее доказательным является мнение (чьё?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этих данных мы принимаем точку зрения (какую?) и т.д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153-EF93-4978-827D-C75632CB66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е клише, используемые в заключении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нформационных ресурсов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составляется в алфавитном порядке по фамилиям авторов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скольких работ одного автора их названия располагаются по годам изданий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источники (изданные на иностранном языке) перечисляются в конце всего списка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5C8D-8534-4740-A2D2-A85236668C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1196640"/>
            <a:ext cx="88200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ый номер литературного источника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нициалы автора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звание книги (без кавычек, исключение – если название – цитата)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издания (Текст, изопродукция, электронное издание и т.д.)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(город) издания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ство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издания – цифрой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BC3D-C07F-4C46-9E5F-A31B2D483F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графическое описание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6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:</a:t>
            </a:r>
            <a:endParaRPr b="0" lang="en-US" sz="36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цов, Г.А. Основы библиотековедения и работа с книгой [Текст]: Учебн. пособие для преподавателей и учащихся ср. спец. уч. заведений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Высшая школа, 1977. 83 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в, Ю.А. Основы экономики и организации бизнеса [Текст]. СПб.: ГМП «Формика», 1992. 383 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методика проведения деловых совещаний: Учебное пособие. [Текст].  Киев: МАУП, 1995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энциклопедии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здецкий, Н.А. Эльбрус [Текст] //БСЭ 3-е изд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978. Т.30. С.151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F62D-983E-4B40-B70C-AE4010FD87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28240" y="404640"/>
            <a:ext cx="84582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урнал:</a:t>
            </a:r>
            <a:endParaRPr b="0" lang="en-US" sz="36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а, З. Правовое регулирование труда государственных служащих [Текст] //Русский язык и литература в средних учебных заведениях УССР. 1989. №1. С. 16 – 19.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, Ю. Непримиримость: Роман-хроника [Текст]//Смена  1987. №20. С.25–32; №21. С.24 – 32; №22. С. 24–31; №23. С.24–31; №24. С.24–32.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E7C-9F82-4AE8-8B10-6DC0BE9B7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604a7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документ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ьникова И.А. Рабочий конспект для внедряющих информационные технологии в школе. Центр «Информика». [Электронный ресурс]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k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нференция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ина И.Н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in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p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ы для преподавателей, осуществляющих дистанционное обучение с использованием компьютерных телекоммуникаций в России и США. 7 января 1999. —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GROUP emissi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lin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29 (1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dhfkz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9)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на компакт-диске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энциклопедия зарубежного классического искусства [Электронный ресурс]. — Электрон. текстовые, граф., Зв. дан. и прикладная прог. (546 Мб). М.: Большая Рос. энцикл. [и др.], 1996. 1 электрон. опт. диск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зв., цв., 12 см + рук. пользователя (1л.)+открытка (1л.)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таких информационных ресурсо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7CE2-A898-4552-B9E2-4AF59964C3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 списка электронных ресурсов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приложений могут входить: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 (с указанием «ксерокопировано с…» или «перерисовано с…»)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и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ы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должно иметь название или пояснительную подпись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приложение начинается с нового листа. Нумеруется, чтобы на него можно было сослаться в тексте с использованием круглых скобок, например: (Приложение 5)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ы, на которых даны приложения, продолжают общую нумерацию текста, но в общий объем реферата не включаются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52A-AA44-4BE9-A726-0D0AA75B7D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инског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докладываю, сообщаю) — письменный доклад или выступление по определённой теме, в котором собрана информация из одного или нескольких источников</a:t>
            </a: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EDEC-8BA4-4AB5-988F-19C6A1BA53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цов, Г.А. Работа над рефератом. [Текст]. Ростов н/Д: Издательский центр «МарТ», 2002. 64 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7.9-77 «Реферат и аннотация»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мыкова, И.Р. Реферат как форма устной итоговой аттестации учащихся 9 и 11 классов [Текст]. // Образование в современной школе. 2001. №11. С. 57- 61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государственный стандарт «Библиографическая запись. Библиографическое описание. Общие требования и правила составления» [Текст]. 2004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(подготовка, оформление и процедура защиты) [Текст]. //Практика административной работы в школе. 2002.  №1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ина, И.Н. Оформление библиографических ссылок на электронные информационные ресурсы. Ростовский государственный педагогический университет. [Электронный ресурс].  http://bspu.ab.ru/Journal/vestnik/ARHIW/N1_1999/rosina.html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ова, О.Н., Лебедева, М.Б. Как разработать эффективный учебно-методический пакет средствами информационных технологий. [Текст]. М.: Интуит.ру, 2006. 144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F024-3D7E-4F81-8360-B41268D26D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549360"/>
            <a:ext cx="9144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у должны быть присущи следующие свойства: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держательно-тематическая, стилевая, языковая)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огическая и формально-языковая)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личие введения, основной части и заключения, их оптимальное соотношение)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ысловая и жанрово-композиционная)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D2BB-7CC7-4631-8E9F-5E64B298C6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863360"/>
            <a:ext cx="91440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ческ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писанные на основе одного источника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зданные на основе нескольких исходных текстов, объединенных общей темой и сходными проблемами исследования)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33D-793F-47CC-948B-5C2758D5DF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j0404643"/>
          <p:cNvPicPr/>
          <p:nvPr/>
        </p:nvPicPr>
        <p:blipFill>
          <a:blip r:embed="rId1"/>
          <a:stretch/>
        </p:blipFill>
        <p:spPr>
          <a:xfrm>
            <a:off x="0" y="4724280"/>
            <a:ext cx="2087640" cy="1820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рефератом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этап — подготовительный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материалов по определенной теме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литературы в конкретной библиотеке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руга справочных пособий для последующей работы по теме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этап — исполнительский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книг (других источников)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записей прочитанного (сканирование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материало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еферата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этап — заключительный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меющихся материалов и написание реферата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писка использованной литературы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26C-B70E-46E8-ABFD-DFCD0419DA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483920"/>
            <a:ext cx="8375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«призываю в свидетели») — это  выписки из текста книг (статей) — выдержки, сведения словами автора. Правила цитирования: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ую цитату следует заключать в кавычки. Если цитату выписывают из середины предложения, то после  вводных кавычек ставят три точки: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у учащихся следует развивать мыслительные умения более высокого уровня, позволяющие глубже понимать факты, анализировать их, делать хорошо обоснованные выводы и видеть более общую картину явлени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0D4-EB3A-462C-ADFF-15597EEF44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331640"/>
            <a:ext cx="8964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z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«утверждаю») — более сложная  и более совершенная форма записи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(краткие) - в них мысли содержат одно утверждение и ничем больше не подтверждаются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(развернутые, распространенные) - подкрепляемые доводами, аргументами.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518C-0B7E-4CAF-937E-C76CEEAD2E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134136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pectu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«обзор, изложение») —форма записи прочитанного, объединяющая в себе многие виды записей: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тки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ки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ы.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E58-08B0-44DE-B188-E3015FC86B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j0433868"/>
          <p:cNvPicPr/>
          <p:nvPr/>
        </p:nvPicPr>
        <p:blipFill>
          <a:blip r:embed="rId1"/>
          <a:stretch/>
        </p:blipFill>
        <p:spPr>
          <a:xfrm>
            <a:off x="250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спект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4:29Z</dcterms:created>
  <dc:creator>Каримова Г.М.</dc:creator>
  <dc:description/>
  <cp:keywords/>
  <dc:language>en-US</dc:language>
  <cp:lastModifiedBy>ДИКТ4</cp:lastModifiedBy>
  <dcterms:modified xsi:type="dcterms:W3CDTF">2016-02-24T08:56:18Z</dcterms:modified>
  <cp:revision>36</cp:revision>
  <dc:subject>КАК ПОДГОТОВИТЬ И ПРАВИЛЬНО ОФОРМИТЬ РЕФЕРАТ</dc:subject>
  <dc:title>КАК ПОДГОТОВИТЬ И ПРАВИЛЬНО ОФОРМИТЬ РЕФЕР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