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B22-2FE1-4EC3-8D3B-FE27A597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136B-E784-4AFE-80B8-EC9A1E86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D122-3CD4-4EF7-A9F9-5D2819F0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8FD8-9C89-49ED-B621-0A2EFB9F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0681-806D-412D-97C3-06794E06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FF1F-3EFB-4541-A1DA-CAA1EA09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157-B64A-4DF5-9961-65C5038A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32E-5900-43F6-817E-786AE90F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8EDB-EDDC-4625-AE06-C7364614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592-C658-4A5E-83FD-8513A73A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80D8-B7C8-43DA-A499-7C85CC06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214-3D64-4C14-BE4A-A0F5FECC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C2BC-1351-4382-A5E2-91CC0F9649C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masterclassy.ru/vyazanie/vyazanie-novorozhdennym/7031-vyazanie-spicami-varezhki-dlya-detey-do-goda-master-klass-s-poshagovymi-foto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7640" y="4365720"/>
            <a:ext cx="453708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множение н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5084640"/>
            <a:ext cx="39924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имова Л.А.    2 г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бник: стр. 34 № 5,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42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тся ур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пройдёт ребятам вп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йтесь всё поня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сь тайны открыв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полные дав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на уроке не зевай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тный сч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усте малины было 9 зеленых ягод. 3 ягоды поспели, и их сорвал Паша. Сколько ягод малины осталось на кусте малин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huge.jpeg"/>
          <p:cNvPicPr/>
          <p:nvPr/>
        </p:nvPicPr>
        <p:blipFill>
          <a:blip r:embed="rId1"/>
          <a:stretch/>
        </p:blipFill>
        <p:spPr>
          <a:xfrm>
            <a:off x="3571920" y="35002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ша старше брата на 3 года. На сколько Лет Маша Будет старше брата через 5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1.jpg"/>
          <p:cNvPicPr/>
          <p:nvPr/>
        </p:nvPicPr>
        <p:blipFill>
          <a:blip r:embed="rId1"/>
          <a:stretch/>
        </p:blipFill>
        <p:spPr>
          <a:xfrm>
            <a:off x="3000240" y="3143160"/>
            <a:ext cx="51436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бушка вязала внукам шарфы и 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вареж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Всего она связала 3 шарфа и 6 варежек. Сколько внуков у баб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3" descr="depositphotos_33632597-stock-illustration-cap-mittens-scarf.jpg"/>
          <p:cNvPicPr/>
          <p:nvPr/>
        </p:nvPicPr>
        <p:blipFill>
          <a:blip r:embed="rId2"/>
          <a:stretch/>
        </p:blipFill>
        <p:spPr>
          <a:xfrm>
            <a:off x="3000240" y="3286080"/>
            <a:ext cx="415764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Содержимое 3" descr="11vmrb5wl8o.jpg"/>
          <p:cNvPicPr/>
          <p:nvPr/>
        </p:nvPicPr>
        <p:blipFill>
          <a:blip r:embed="rId1"/>
          <a:stretch/>
        </p:blipFill>
        <p:spPr>
          <a:xfrm>
            <a:off x="1785960" y="1776240"/>
            <a:ext cx="621504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stihi---umnozhenie-na-2.jpg"/>
          <p:cNvPicPr/>
          <p:nvPr/>
        </p:nvPicPr>
        <p:blipFill>
          <a:blip r:embed="rId1"/>
          <a:stretch/>
        </p:blipFill>
        <p:spPr>
          <a:xfrm>
            <a:off x="1000080" y="357120"/>
            <a:ext cx="752004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Содержимое 3" descr="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57600" y="2214360"/>
            <a:ext cx="178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 № 4,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одержимое 3" descr="7rtjdbQfhR4.jpg"/>
          <p:cNvPicPr/>
          <p:nvPr/>
        </p:nvPicPr>
        <p:blipFill>
          <a:blip r:embed="rId1"/>
          <a:stretch/>
        </p:blipFill>
        <p:spPr>
          <a:xfrm>
            <a:off x="285840" y="0"/>
            <a:ext cx="528624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221</cp:lastModifiedBy>
  <dcterms:modified xsi:type="dcterms:W3CDTF">2017-10-09T12:49:37Z</dcterms:modified>
  <cp:revision>578</cp:revision>
  <dc:subject/>
  <dc:title>Diapositiva 1</dc:title>
</cp:coreProperties>
</file>