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785-DB90-497F-B76E-0A8CE654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54C-0259-401D-9936-687167AA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92D-79B3-4268-8B32-5A263083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A0E-2882-48E4-8160-E4BFDB75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18A-050B-469A-9B27-89521AF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CE2-E281-4B01-BEC9-3C4676D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203-2F53-4752-A427-5DC9D1F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A8C-FFDF-47EF-B320-30AC45E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9C1-DADD-46E9-983A-2B298FE2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6B0-2082-47E1-A043-ACE4B07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139-57F8-4B20-91E5-8B2539D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F8D-B4B5-4665-A87D-1CAB209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639-7D5A-46E1-A681-445F10861A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sterclassy.ru/vyazanie/vyazanie-novorozhdennym/7031-vyazanie-spicami-varezhki-dlya-detey-do-goda-master-klass-s-poshagovymi-foto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множение н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имова Л.А.    2 г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тр. 34 № 5,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ся у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ойдёт ребятам вп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йтесь всё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сь тайны откр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полные дав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уроке не зев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усте малины было 9 зеленых ягод. 3 ягоды поспели, и их сорвал Паша. Сколько ягод малины осталось на кусте мал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huge.jpeg"/>
          <p:cNvPicPr/>
          <p:nvPr/>
        </p:nvPicPr>
        <p:blipFill>
          <a:blip r:embed="rId1"/>
          <a:stretch/>
        </p:blipFill>
        <p:spPr>
          <a:xfrm>
            <a:off x="3571920" y="3500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а старше брата на 3 года. На сколько Лет Маша Будет старше брата через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1.jpg"/>
          <p:cNvPicPr/>
          <p:nvPr/>
        </p:nvPicPr>
        <p:blipFill>
          <a:blip r:embed="rId1"/>
          <a:stretch/>
        </p:blipFill>
        <p:spPr>
          <a:xfrm>
            <a:off x="3000240" y="3143160"/>
            <a:ext cx="514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 вязала внукам шарфы и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ареж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сего она связала 3 шарфа и 6 варежек. Сколько внуков у баб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depositphotos_33632597-stock-illustration-cap-mittens-scarf.jpg"/>
          <p:cNvPicPr/>
          <p:nvPr/>
        </p:nvPicPr>
        <p:blipFill>
          <a:blip r:embed="rId2"/>
          <a:stretch/>
        </p:blipFill>
        <p:spPr>
          <a:xfrm>
            <a:off x="3000240" y="3286080"/>
            <a:ext cx="4157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11vmrb5wl8o.jpg"/>
          <p:cNvPicPr/>
          <p:nvPr/>
        </p:nvPicPr>
        <p:blipFill>
          <a:blip r:embed="rId1"/>
          <a:stretch/>
        </p:blipFill>
        <p:spPr>
          <a:xfrm>
            <a:off x="1785960" y="1776240"/>
            <a:ext cx="621504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stihi---umnozhenie-na-2.jpg"/>
          <p:cNvPicPr/>
          <p:nvPr/>
        </p:nvPicPr>
        <p:blipFill>
          <a:blip r:embed="rId1"/>
          <a:stretch/>
        </p:blipFill>
        <p:spPr>
          <a:xfrm>
            <a:off x="1000080" y="357120"/>
            <a:ext cx="7520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57600" y="2214360"/>
            <a:ext cx="178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 № 4,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7rtjdbQfhR4.jpg"/>
          <p:cNvPicPr/>
          <p:nvPr/>
        </p:nvPicPr>
        <p:blipFill>
          <a:blip r:embed="rId1"/>
          <a:stretch/>
        </p:blipFill>
        <p:spPr>
          <a:xfrm>
            <a:off x="285840" y="0"/>
            <a:ext cx="52862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221</cp:lastModifiedBy>
  <dcterms:modified xsi:type="dcterms:W3CDTF">2017-10-09T12:49:37Z</dcterms:modified>
  <cp:revision>578</cp:revision>
  <dc:subject/>
  <dc:title>Diapositiva 1</dc:title>
</cp:coreProperties>
</file>