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51DA-9DD5-451A-A249-02B7C5269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Е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[гр. meta –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сле, за, чере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 - первая составная часть сложных слов, обозначающая следование за чем-либо, переход к чему-либо другому, превращение. Применительно к образовательным результатам приставка «МЕТА…» означает  более высокий, «обобщающий» уровень способностей и знаний, приобретаемых учащимися (по сравнению с узко предметным). Под метапредметными (т.е. «надпредметными» или «общеучебными») действиями понимаются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ы деятель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применимые как в рамках образовательного процесса, так и при решении проблем в реальных жизненных ситуациях, освоенные обучающимися на базе одного, нескольких или всех учебных предметов.  Это универсальные действия учащихся, направленные на анализ и управление своей познавательной деятельностью. По своему виду метапредметные УУД могут быть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познавательными, регулятивными  и коммуникатив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3DD5-E798-44DB-A571-E2B540135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D6A-09AB-4EB9-BF88-1ADB69BD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6AA-B290-4692-B83F-7A15DB59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83E-64EC-4FD0-90DF-9A87343A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971-7737-472A-B7A4-670306B9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AE2-A27F-4ECC-B4DC-86E5900E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0E7-FE39-45A8-8142-0DB9469C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610-1FD3-4BD5-9593-48800E9F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820-8F96-49CD-8DCB-B8341EC7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6B4-730E-44F3-9EC2-EB76FE1E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CC7-BB2B-45FB-AA47-7B897BB4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6F2-C117-4553-89F3-8ECACBA6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770-3B69-46CA-ADE8-5EDA3BFD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5621-83D8-4225-AAFF-6001F6F31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572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онтрольно-измерительные материалы для промежуточной аттестации по предмет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Метапредметные универсальные учебные действия 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пособы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рименимые как в рамках образовательного процесса, так и при решении проблем в реальных жизненных ситуациях, освоенные обучающимися на базе одного, нескольких или всех учебных предм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4714920" y="100008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мение создавать, применять и преобразовывать знаки и символы, модели и схемы для решения учебных и познавательных зад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14200" y="857160"/>
            <a:ext cx="4214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м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пределять понят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оздавать обобще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станавливать аналоги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лассифицирова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амостоятельно выбирать основания и критерии для классификац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станавливать причинно-следственные связ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роить логическое рассуждение, умозаключение (индуктивное, дедуктивное, по аналоги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елать выв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929120" y="2571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мысловое чт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714920" y="3357720"/>
            <a:ext cx="400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Формирование и развитие экологического мышления, умение применять его в познавательной, коммуникативной, социальной практике и профессиональной ори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714920" y="542916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звитие мотивации к овладению культурой активного использования словарей и других поисковых сис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1285920" y="21420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знавательные У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Живые организ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ыделять существенные признак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биологических объектов (клеток и организмов растений, животных, грибов, бактерий) и процессов, характерных для живых организм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ргументировать, приводить доказательств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одства различных таксонов растений, животных, грибов и бактер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ргументировать, приводить доказательств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личий растений, животных, грибов и бактер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уществлять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лассификаци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биологических объектов (растений, животных, бактерий, грибов) на основе определения их принадлежности к определенной систематической групп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Живые организ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Различать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по внешнему виду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, схемам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 описаниям реальные биологические объекты или их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изображения, выявлять отличительные призна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биологических объек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сравниват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биологические объекты (растения, животные, бактерии, грибы), процессы жизнедеятельности; делать выводы и умозаключения на основе срав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устанавливать взаимосвяз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между особенностями строения и функциями клеток и тканей, органов и систем орган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спользовать методы биологической науки: наблюдать и описывать биологические объекты и процессы; ставить биологические эксперименты и объяснять их результат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нать и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аргументировать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основные правила поведения в природ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анализировать и оцениват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оследствия деятельности человека в природ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9284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это мысленное расчленение предмета или явления на образующие его части, выделение в нем отдельных частей, признаков и свой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инте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это мысленное соединение отдельных элементов, частей и признаков в единое цел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          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нализ и синтез неразрывно связаны, находятся в единстве друг с другом в процессе познания. Анализ и синтез – важнейшие мыслительные операции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бстракци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это мысленное выделение существенных свойств и признаков предметов или явлений при одновременном отвлечении от несущественных. Абстракция лежит в основе обобщ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бобще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мысленное объединение предметов и явлений в группы по тем общим и существенным признакам, которые выделяются в процессе абстрагирования. Процессам абстрагирования и обобщения противоположен процесс конкретизации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Конкретизац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мыслительный переход от общего к единичному, которое соответствует этому общему. В учебной деятельности конкретизировать – значит привести прим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равн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420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равнение − логический прием умственных действий, заключается в выявлении сходства и различий между признаками объектов (предметов, явлений, групп предметов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) Выделение признак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становление общих признак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ыделение основания для сравн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поставление объектов, процессов, явлений по данному основан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Характеристика признаков сход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Характеристика признаков отлич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равнение. Выделение признаков сх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072200" y="928800"/>
            <a:ext cx="1500480" cy="25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932360" y="1071720"/>
            <a:ext cx="1925640" cy="2695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357120" y="100008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берите из приведённого перечня систематических таксонов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ри таксона, которы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являютс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щими при описании изображённых организ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357120" y="2571840"/>
            <a:ext cx="421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ечень таксон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 класс Двудо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империя Неклеточ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) надцарство Прокари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) царство Раст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) подцарство Многоклеточ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) отдел Цветков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9" descr="Картинки по запросу горох растение"/>
          <p:cNvPicPr/>
          <p:nvPr/>
        </p:nvPicPr>
        <p:blipFill>
          <a:blip r:embed="rId3"/>
          <a:stretch/>
        </p:blipFill>
        <p:spPr>
          <a:xfrm>
            <a:off x="5857920" y="3857760"/>
            <a:ext cx="1905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равнение. Выделение признаков отлич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отосинтез в отличие от биосинтеза белка происходит в клет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любого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содержащих хлороплас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содержащих лизосо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содержащих митохонд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28720" y="1600200"/>
            <a:ext cx="4257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Чем пластический обмен отличается от энергетическог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энергия запасается в молекулах АТ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запасённая в молекулах АТФ энергия расходу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органические вещества синтезирую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происходит расщепление 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конечные продукты обмена – углекислый газ и в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в результате реакций обмена образуются бе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сифика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214280"/>
            <a:ext cx="8643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ассификация − это логический прием умственных действий, который предполагает разделение множества объектов на группы, классы по каким-то признакам, которые выступают основой для классифик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лассификац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92844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Исключите лишнее. Напишите, на каком основании Вы сделали свой выбор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) радиолярии, инфузория-туфелька, амеба дезинтерийная, споровик, солнечник, сувой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) преломление, ускорение, отражение, поглоще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) (128+57) х 36; 43 х 25+62 х 25; 1355 х 68-955 х 68; (43+62) х 25; 128 х 36+57 х 3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) 1) Всю ночь зима вязала кружевные узоры и щедро раздавала наряды деревьям. 2) Исчезают последние островки снега и на свет пробивается зелёная травка. 3) Снег заботливо укутал все деревья и белой накидкой покрыл землю. 4) Вот показалось долгожданное солнце и залило всю окрестность ярким све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атья 58 п.1 «Закон об образован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920" y="1600200"/>
            <a:ext cx="88581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воение образовательной программы, в том числе отдельной части или всего объема учебного предмета, курса, дисциплины (модуля) образовательной программы, сопровожда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межуточной аттестацие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учающихся, проводимой в формах, определенных учебным планом, и в порядке, установленном образовательной организац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s://paintingrussia.files.wordpress.com/2016/05/d184d0b0d18ed0bcd181d0bad0b8d0b9-d0bfd0bed180d182d180d0b5d182-d0bcd183d0b6d187d0b8d0bdd0b0.jpg?w=517&amp;h=750&amp;crop=1"/>
          <p:cNvPicPr/>
          <p:nvPr/>
        </p:nvPicPr>
        <p:blipFill>
          <a:blip r:embed="rId1"/>
          <a:stretch/>
        </p:blipFill>
        <p:spPr>
          <a:xfrm>
            <a:off x="2714760" y="714240"/>
            <a:ext cx="133668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http://agent4stars.com/wp-content/uploads/2013/12/La_Bella_Principess-Da-Vinci.jpg"/>
          <p:cNvPicPr/>
          <p:nvPr/>
        </p:nvPicPr>
        <p:blipFill>
          <a:blip r:embed="rId2"/>
          <a:stretch/>
        </p:blipFill>
        <p:spPr>
          <a:xfrm>
            <a:off x="4572000" y="642960"/>
            <a:ext cx="1492200" cy="2122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images.icon-art.info/main/00500-00599/00535_hires.jpg"/>
          <p:cNvPicPr/>
          <p:nvPr/>
        </p:nvPicPr>
        <p:blipFill>
          <a:blip r:embed="rId3"/>
          <a:stretch/>
        </p:blipFill>
        <p:spPr>
          <a:xfrm>
            <a:off x="6572160" y="571680"/>
            <a:ext cx="1889280" cy="220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ttp://fastpicc.ru/img/2014-11/09/vkuibkyayrq1ug0la1txv8j7c.jpg"/>
          <p:cNvPicPr/>
          <p:nvPr/>
        </p:nvPicPr>
        <p:blipFill>
          <a:blip r:embed="rId4"/>
          <a:stretch/>
        </p:blipFill>
        <p:spPr>
          <a:xfrm>
            <a:off x="2643120" y="3643200"/>
            <a:ext cx="1371600" cy="188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s://img-2.fruugo.com/product/3/19/14267193_max.jpg"/>
          <p:cNvPicPr/>
          <p:nvPr/>
        </p:nvPicPr>
        <p:blipFill>
          <a:blip r:embed="rId5"/>
          <a:stretch/>
        </p:blipFill>
        <p:spPr>
          <a:xfrm>
            <a:off x="4572000" y="3857760"/>
            <a:ext cx="2001960" cy="1501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artageless.com/images/artists/rus-artists/repin-i-e/repin-003.jpg"/>
          <p:cNvPicPr/>
          <p:nvPr/>
        </p:nvPicPr>
        <p:blipFill>
          <a:blip r:embed="rId6"/>
          <a:stretch/>
        </p:blipFill>
        <p:spPr>
          <a:xfrm>
            <a:off x="7143840" y="3714840"/>
            <a:ext cx="1216080" cy="17431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2649960" y="300024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Фаю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4152240" y="30002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Леонардо да Вин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6722280" y="300024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Россия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296440" y="585792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Альбрехт Дюр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4863960" y="578628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Каравадж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7006680" y="57862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Репин И.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760680"/>
            <a:ext cx="264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, какая из представленных  репродукций является лишн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s://jf-cdn2.imgix.net/pictures/images/000/027/446/original/data.jpeg?auto=format&amp;q=75&amp;fit=max&amp;h=600&amp;w=600"/>
          <p:cNvPicPr/>
          <p:nvPr/>
        </p:nvPicPr>
        <p:blipFill>
          <a:blip r:embed="rId1"/>
          <a:stretch/>
        </p:blipFill>
        <p:spPr>
          <a:xfrm>
            <a:off x="4429080" y="1143000"/>
            <a:ext cx="1484280" cy="2311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artist-gallery.ru/uploads/posts/2012-10/72ae31dfc3ad7463a5ef676a75fb6037.jpg"/>
          <p:cNvPicPr/>
          <p:nvPr/>
        </p:nvPicPr>
        <p:blipFill>
          <a:blip r:embed="rId2"/>
          <a:stretch/>
        </p:blipFill>
        <p:spPr>
          <a:xfrm>
            <a:off x="4429080" y="3929040"/>
            <a:ext cx="1517760" cy="2182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ttp://proxy10.media.online.ua/uol/r2-bf533319d7/581936e5f1a0f.jpg"/>
          <p:cNvPicPr/>
          <p:nvPr/>
        </p:nvPicPr>
        <p:blipFill>
          <a:blip r:embed="rId3"/>
          <a:stretch/>
        </p:blipFill>
        <p:spPr>
          <a:xfrm>
            <a:off x="6572160" y="928800"/>
            <a:ext cx="1743120" cy="243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ttp://funlib.ru/cimg/2014/101522/5319767"/>
          <p:cNvPicPr/>
          <p:nvPr/>
        </p:nvPicPr>
        <p:blipFill>
          <a:blip r:embed="rId4"/>
          <a:stretch/>
        </p:blipFill>
        <p:spPr>
          <a:xfrm>
            <a:off x="6572160" y="3857760"/>
            <a:ext cx="1758960" cy="2243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2"/>
          <p:cNvSpPr/>
          <p:nvPr/>
        </p:nvSpPr>
        <p:spPr>
          <a:xfrm>
            <a:off x="442908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нри Мати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4357800" y="6143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узнецов П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500880" y="34290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нецианов А.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6429240" y="61437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оровиковский В.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42920" y="1044000"/>
            <a:ext cx="4143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 на основании какого признака разделены представленные репродукции на две групп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йзаж – натюрмор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тюрморт – портр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трет – пейза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4500720" y="571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уппа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9"/>
          <p:cNvSpPr/>
          <p:nvPr/>
        </p:nvSpPr>
        <p:spPr>
          <a:xfrm>
            <a:off x="6572160" y="428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уппа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лассификация и обобщ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4200" y="1071720"/>
            <a:ext cx="8715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ставьте пропущенные буквы и разделите слова на три группы. Укажите названия груп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.токол, соб.ру, укр.тить, ст.рожка, ум.рать, р.внение, к.т.лог, к.сить, к.сание, пр.оритет, пром.кашка, к.согор, к.нкурент, пр.зидент, объед.н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явите признак и разделите дроби на группы. Укажите названия груп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5,1/8, 2,67, 2/16, 7/6, 0,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ассификация. Выбор основания для классифик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214280"/>
            <a:ext cx="8713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Изучите таблицу, в которой приведены две группы расте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Группа 1                                                  Группа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Хламидомонада                           Хвощ полево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лотрикс                                        Кукушкин лё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Ламинария                                     Ряс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Что из перечисленного ниже было положено в основу разделения (классификации) этих растений в группы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реда обита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источник питания для челове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пособ питания растен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деление тела на ча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бобщ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Обобщи предложенные термины одним понятием или терми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глекислый газ, хлорофилл, вода, глюко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Трапеция, ромб, квадра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кажи понятие, которым можно обобщить следующие термины: тканевая жидкость, лимфа, кров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Ткан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нутренняя среда организ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иды жидкост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на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99972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жно заложить самые разнообразные виды отно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кончи вторую пару слов по аналогии с перв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Часть-цел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ыльник-тычинка; завязь-….(столбик, рыльце, пестик, семязачаток, цвето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ичина-след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тественный отбор-видообразование; борьба за существование-…(конкуренция, естественный отбор, размножение в геометрической прогрессии, изоляц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бъект-проце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змножение-семя; фотосинтез-…(корень, лист, хлоропласты, цвето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налог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 приведённой ниже таблице между позициями первого и второго столбца имеется взаимосвяз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Объект                                               Процесс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Зигота                                                Дроб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.                                              Образование зарост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акое понятие следует вписать на место пропуска в этой таблиц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Гам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Цис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п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очк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www.figarobaget.ru/images/world_Renoir_zhanna_samari.jpg"/>
          <p:cNvPicPr/>
          <p:nvPr/>
        </p:nvPicPr>
        <p:blipFill>
          <a:blip r:embed="rId1"/>
          <a:stretch/>
        </p:blipFill>
        <p:spPr>
          <a:xfrm>
            <a:off x="3643200" y="928800"/>
            <a:ext cx="1441440" cy="1776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http://picsview.ru/images/1462652_golubya-mira-pikasso.jpg"/>
          <p:cNvPicPr/>
          <p:nvPr/>
        </p:nvPicPr>
        <p:blipFill>
          <a:blip r:embed="rId2"/>
          <a:stretch/>
        </p:blipFill>
        <p:spPr>
          <a:xfrm>
            <a:off x="3286080" y="3286080"/>
            <a:ext cx="1959120" cy="19591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5938920" y="157176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Живоп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57120" y="2547720"/>
            <a:ext cx="20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Ли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Штр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ортр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Граф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5357880" y="15001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5429160" y="3857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6215040" y="385776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285840" y="857160"/>
            <a:ext cx="27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кое понятие следует вписать на месте пропус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налог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приведённой ниже паре словосочетаний имеется взаимосвяз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ечерняя прохлада       -         Прохлада вечера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ородской житель           -        …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е словосочетание следует вписать на место пропус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окусное расстояние – метр; оптическая сила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ериац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13840" y="107172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строение упорядоченных возрастающих или убывающих рядов по выбранному призна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положи понятия, начиная с наибольш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дуза аурелия, царство Животные, тип Кишечнополостные, класс Сцифоид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пловое движение, движение, броуновское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ГОС О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920" y="857160"/>
            <a:ext cx="885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Достижение предметных и метапредметных результатов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своения основной образовательной программы основного общего образования, необходимых для продолжения образования, является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предметом итоговой оценки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своения обучающимися основной образовательной программы основного обще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Итоговая оценк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включает две составляющи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результаты промежуточной аттестации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бучающихся, отражающие динамику их индивидуальных образовательных достижений в соответствии с планируемыми результатами освоения основной образовательной программы основного общего образова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результатам индивидуальных достижений обучающих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 понят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ажи признаки, являющиеся существенными для данного поня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билизирующий отбор – ( действует против средних промежуточных форм, способствует сдвигу среднего значения признака или свойства, направлен на поддержание ранее сложившегося признака или свойства,  направлен на повышение устойчивости реализации среднего признака или свойст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мение устанавливать причинно-следственные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кончи логическую цепоч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тырехкамерное сердце       полное разделение крови на артериальную и венозную         увеличение интенсивности обмена веществ        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трелка вправо 3"/>
          <p:cNvSpPr/>
          <p:nvPr/>
        </p:nvSpPr>
        <p:spPr>
          <a:xfrm flipV="1">
            <a:off x="5076720" y="2349360"/>
            <a:ext cx="503280" cy="21600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трелка вправо 4"/>
          <p:cNvSpPr/>
          <p:nvPr/>
        </p:nvSpPr>
        <p:spPr>
          <a:xfrm>
            <a:off x="2411280" y="3389400"/>
            <a:ext cx="505080" cy="142920"/>
          </a:xfrm>
          <a:prstGeom prst="rightArrow">
            <a:avLst>
              <a:gd name="adj1" fmla="val 50000"/>
              <a:gd name="adj2" fmla="val 504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3492360" y="3862440"/>
            <a:ext cx="5302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дведение под пон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420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Докажите, что гидра пресноводная – это кишечнополостное животно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тнесение любого объекта к тому или иному понятию предполагает установление наличия у этого объекта признаков данного понятия, достаточных или необходимых и одновременно достаточны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мение выделять в объектах, процессах, явлениях свойст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Формирование понятия об общих и отличительных признака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Различение существенных и несущественных свойст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Выделение признаков необходимых и достаточны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дведение под пон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400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ажи признак, который является достаточным для определения представителя типа Кишечнополост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еточное 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ногоклеточ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екательные кле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вухслойное 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дведение под пон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2500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бери признаки, которые можно использовать для доказательства того, что луковица – это видоизмененный поб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н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л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ист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ч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357120" y="85716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зучите график, отражающий зависимость скорости реакции, катализируемой ферментом, от температуры тела собаки (по оси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х отложена температура тела собаки (в °С), а по оси у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корость химической реакции (в усл. ед.)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57168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мение работать со схемами (ВП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357200" y="1714680"/>
            <a:ext cx="6058080" cy="212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1357200" y="3857760"/>
            <a:ext cx="6058080" cy="2124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7"/>
          <p:cNvSpPr/>
          <p:nvPr/>
        </p:nvSpPr>
        <p:spPr>
          <a:xfrm>
            <a:off x="142920" y="5857920"/>
            <a:ext cx="87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звестно, что температура тела здоровой собаки находится в пределах 37,5–38,5 °С. Как изменится скорость химических реакций в организме собаки, если температура её тела будет выше нормально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071960" y="2071800"/>
            <a:ext cx="4486320" cy="3092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142920" y="100008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 диаграмме представлены площади нескольких озёр. Пользуясь диаграммой, ответьте на вопрос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42920" y="207180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 Какое озеро занимает третье место по величине площади среди представленных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иаграмм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1643040" y="2142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мение работать со схемами (ВП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2920" y="371484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Площади двух из представленных озёр различаются вдвое. Какие это озё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142920" y="57168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Холестерин играет важную роль в обмене веществ и работе нервной системы. Он поступает в организм из продуктов животного происхождения. В растительных продуктах его практически нет. Количество холестерина, поступающего в организм с пищей, не должно превышать 0,3–0,5 г в сут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142920" y="185724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пользуя данные таблицы, рассчитайте количество холестерина в завтраке челове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торый съел 100 г нежирного творога, 25 г «Голландского» сыра, 20 г сливочного масла и две сосис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214200" y="3071880"/>
            <a:ext cx="8786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4200" y="2786040"/>
          <a:ext cx="8572680" cy="4041720"/>
        </p:xfrm>
        <a:graphic>
          <a:graphicData uri="http://schemas.openxmlformats.org/drawingml/2006/table">
            <a:tbl>
              <a:tblPr/>
              <a:tblGrid>
                <a:gridCol w="2143080"/>
                <a:gridCol w="2143440"/>
                <a:gridCol w="2143080"/>
                <a:gridCol w="2143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лестери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/100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лестери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/100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стеризова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и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одна сосиска – 40 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ог нежи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б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р «Голландск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йцо кури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одно яйцо – 50 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о слив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0" name="TextBox 5"/>
          <p:cNvSpPr/>
          <p:nvPr/>
        </p:nvSpPr>
        <p:spPr>
          <a:xfrm>
            <a:off x="285840" y="1429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мение работать с табли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142920" y="857160"/>
            <a:ext cx="8858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Молния и гр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тмосферное электричество образуется и концентрируется в облаках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бразованиях из мелких частиц воды, находящейся в жидком или твёр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стоянии. При дроблении водяных капель и кристаллов льда,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олкновениях их с ионами атмосферного воздуха крупные капли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ристаллы приобретают избыточный отрицательный заряд, а мелкие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ложительный. Восходящие потоки воздуха в грозовом облаке подним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елкие капли и кристаллы к вершине облака, крупные капли и кристал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пускаются к его основа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ряженные облака наводят на земной поверхности под соб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отивоположный по знаку заряд. Внутри облака и между облаком и Землё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здаётся сильное электрическое поле, которое способствует ион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оздуха и возникновению искровых разрядов (молний) как внутри обла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ак и между облаком и поверхностью Зем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14200" y="535788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Как направлен (сверху вниз или снизу вверх) электрический ток разря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нутриоблачной молнии при механизме электризации, описанном в текс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твет поясн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785880" y="2142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мысловое чт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ализ заданий учеб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ажите задания для развития УУ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ие УУД формирую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статочно ли заданий для достижения всех планируемых метапредметных результат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Цель промежуточной аттест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109440" y="1066680"/>
            <a:ext cx="89679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уктура спец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920" y="64260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Назначение КИМ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оценить уровень общеобразовательной подготовки по биологии учащихся 6 класса в целях промежуточной аттестации учащихся. Результаты работы используются для выставления годовой оценки по биолог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омежуточная аттестация проводится в соответствии с 58 статьей Федерального закона от 29.12.2012 № 273-ФЗ «Об образовании в Российской Федерации» и «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Положением о текущем оценивании и промежуточной аттестации……» (утверждено дата, год, № приказ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Документы, определяющие содержание КИ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одержание работы определяет Основная образовательная программа МБОУ «…….» (приказ от дата, год,  № ..) и рабочая программа по биолог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Подходы к отбору содержания, разработке структуры КИ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новой разработки КИМ является целевой и содержательный разделы Основной образовательной программы МБОУ «…..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Материалы КИМ направлены на проверку усвоения учащимися элементов содержания и оценку уровня достижения предметных и метапредметных результатов раздела «Многообразие живых организмов: растения, грибы, лишайники, бактерии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уктура спец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2920" y="785520"/>
            <a:ext cx="88581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Характеристика структуры и содержания К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Работа включает в себя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0 задан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и состоит из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двух часте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Часть 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содержит 8 заданий с кратким ответом: 4 задания базового уровня сложности с ответом в виде одной цифры, соответствующей номеру правильного ответа; 2 задания базового уровня сложности, из которых 1с выбором и записью трех верных ответов из шести, 1 задание на сериацию, 1 задание базового уровня на включение пропущенных в тексте терминов и понятий, 1 задание повышенного уровня на соотнесение морфологических признаков организма или его отдельных органов с предложенными моделями по заданному алгоритму.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Часть 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содержит 2 задания с развернутым ответом: 1 повышенного уровня сложности на работу с текстом, предполагающее использование информации из текста контекстных знаний для ответа на поставленные вопросы; 1 задание повышенного уровня сложности на классификацию, обобщение и аргументирование своего выбор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руктура специфик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14200" y="9284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. Кодификатор элементов содержа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6. Кодификатор проверяемых требований к уровню подготов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. Типы задан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. Распределение заданий проверочной работы по уровню сложност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. Продолжительность работ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. Дополнительные материалы и оборудова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0. Система оценивания выполнения отдельных заданий и работы в цел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еревод первичных баллов в отметки по пятибалльной шкал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1. Обобщенный план варианта КИМ для промежуточной аттестаци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одификатор. Элементы содерж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42920" y="857160"/>
            <a:ext cx="8786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Многообразие и значение растений в природе и жизни человека. Общее знакомство с цветковыми растениями. Растительные ткани и органы растений. Вегетативные и генеративные органы. Жизненные формы растений. Растение – целостный организм (биосистема). Условия обитания растений. Среды обитания растений. Сезонные явления в жизни растен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рганы цветкового раст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емя. Строение семени. Корень. Зоны корня. Виды корней. Корневые системы. Значение корня. Видоизменения корней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Побег. Генеративные и вегетативные побеги. Строение побега. Разнообразие и значение побегов. Видоизмененные побеги. Почки. Вегетативные и генеративные почки. Строение листа. Листорасположение. Жилкование листа. Стебель. Строение и значение стебля. Строение и значение цветка. Соцветия. Опыление. Виды опыления. Строение и значение плода. Многообразие плодов. Распространение плод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дификатор элементов содерж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4200" y="64260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лементы содерж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1       Многообразие и значение растений в природе и жизни человека. Обще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накомство с цветковыми растениями. Растительные ткани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рганы растений. Вегетативные и генеративные орг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2       Жизненные формы растений. Растение – целостный организ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биосистема). Условия обитания растений. Среды обитания раст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зонные явления в жизни раст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Органы цветкового раст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       Семя. Строение сем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2        Корень. Зоны корня. Виды корней. Корневые системы. Значение кор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идоизменения корней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3        Побег. Генеративные и вегетативные побеги. Строение побе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знообразие и значение побегов. Видоизмененные побеги. Поч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гетативные и генеративные по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4        Строение листа. Листорасположение. Жилкование ли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5        Стебель. Строение и значение стеб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6        Строение и значение цветка. Соцветия. Опыление. Виды опыл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7        Строение и значение плода. Многообразие плодов. Распространение пл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дификатор проверяемых требований к уровню подгот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713880"/>
            <a:ext cx="8715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д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веряемые требования к уровню подгот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1 выделять существенные признаки биологических объектов (клеток и организмов растений, грибов, бактерий) и процессов, характерных для живых организм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2 аргументировать, приводить доказательства родства различных таксонов растений, грибов и бактер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3 аргументировать, приводить доказательства различий растений, грибов и бактер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етапредмет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Умения логическ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.1      определять поня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.2      создавать обобщ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.3      устанавливать аналог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.4       классифицировать, самостоятельно выбирать основания и критерии для классифик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.5       устанавливать причинно-следственны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2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Умение создавать, применять и преобразовывать знаки и символы, модели и схемы для решения учебных и познавательных зад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3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Смысловое чт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3.1   находить в тексте требуемую информацию (в соответствии с целями своей деятельност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3.2   ориентироваться в содержании текста, понимать целостный смысл текста, структурировать тек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иагност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ецификация. По аналогии со спецификацией ВПР или ГИ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ализ работы. На основе технологической матр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ценива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% - 64% -  3 (базовый уровен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5% - 80% - 4 (повышенный уровен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лее 81% - 5 (высокий уровен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хнологическая матр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600200"/>
          <a:ext cx="8229600" cy="4686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Познавательные универсальные учебные действия"/>
          <p:cNvPicPr/>
          <p:nvPr/>
        </p:nvPicPr>
        <p:blipFill>
          <a:blip r:embed="rId1"/>
          <a:stretch/>
        </p:blipFill>
        <p:spPr>
          <a:xfrm>
            <a:off x="142920" y="21420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Познавательные универсальные учебные действия"/>
          <p:cNvPicPr/>
          <p:nvPr/>
        </p:nvPicPr>
        <p:blipFill>
          <a:blip r:embed="rId2"/>
          <a:stretch/>
        </p:blipFill>
        <p:spPr>
          <a:xfrm>
            <a:off x="3000240" y="2762280"/>
            <a:ext cx="54579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Познавательные универсальные учебные действия"/>
          <p:cNvPicPr/>
          <p:nvPr/>
        </p:nvPicPr>
        <p:blipFill>
          <a:blip r:embed="rId1"/>
          <a:stretch/>
        </p:blipFill>
        <p:spPr>
          <a:xfrm>
            <a:off x="214200" y="14292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Познавательные универсальные учебные действия"/>
          <p:cNvPicPr/>
          <p:nvPr/>
        </p:nvPicPr>
        <p:blipFill>
          <a:blip r:embed="rId2"/>
          <a:stretch/>
        </p:blipFill>
        <p:spPr>
          <a:xfrm>
            <a:off x="3929040" y="2751120"/>
            <a:ext cx="50292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ланируемые результ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9284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еспечивают связь между требованиями ФГОС ООО, образовательным процессом и системой оценки результатов освоения ООП ООО, выступа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держательной и критериальной осново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ля разработки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програм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чебных предметов, курсов, учебно-методической литературы, программ воспитания и социализации, с одной стороны, и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системы оценки результато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с друг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Познавательные универсальные учебные действия"/>
          <p:cNvPicPr/>
          <p:nvPr/>
        </p:nvPicPr>
        <p:blipFill>
          <a:blip r:embed="rId1"/>
          <a:stretch/>
        </p:blipFill>
        <p:spPr>
          <a:xfrm>
            <a:off x="357120" y="571680"/>
            <a:ext cx="54579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ГОС О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4200" y="92844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.2.2. Программы отдельных учебных предметов, курсов должны обеспечивать достижение планируемых результатов освоения основной образовательной программы основного общего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Программы отдельных учебных предметов, курсов разрабатываю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 основе требований к результатам освоения основной образовательной программы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с учетом основных направлений программ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включенных в структуру основной образовательной програм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руктура рабочей программы (приказ Министерства РФ от 31.12.2015 № 157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ланируемые результаты освоения учебного предмета, 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держание учебного предмета, 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матическое планирование с указанием количества часов, отводимых на освоение каждой 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Разработка рабочей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208080" y="920880"/>
            <a:ext cx="86547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Рабочие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420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ланируемые результа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отнести планируемые результаты авторской программы и Основной образовательной программы основного общего образования образовательно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работать блок «Планируемые результаты» рабочей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6:25:40Z</dcterms:created>
  <dc:creator>Admin</dc:creator>
  <dc:description/>
  <dc:language>en-US</dc:language>
  <cp:lastModifiedBy>Admin</cp:lastModifiedBy>
  <dcterms:modified xsi:type="dcterms:W3CDTF">2017-09-21T13:50:00Z</dcterms:modified>
  <cp:revision>222</cp:revision>
  <dc:subject/>
  <dc:title>Слайд 1</dc:title>
</cp:coreProperties>
</file>