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6DA8-586E-4491-BDFB-FD55B88E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C9F-8D1B-4C26-83BC-302B47EC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6BC5-1C2B-4802-9784-EBA96F78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97E-28EA-4808-9C6C-052EC3B2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F4DB-0B03-44E6-AE24-E2E538F2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235-E5B1-4DA6-A5E9-0C223C52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B4C-8827-4729-9ABD-7D9B22DB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E00-07DD-4E25-8AA2-7746FF21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C89C-4D82-4A40-B214-25C7D926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B103-FEB0-445D-8F31-FC2F2090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8580-C5E5-4516-8BE1-38CAC19F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AF9C-C3A5-4844-BBAB-D6E91EA9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04B9-BDAF-4933-A571-E8A7400C605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Опера «Князь Игорь». Русская эпическая опера. </a:t>
            </a:r>
            <a:br>
              <a:rPr sz="6600"/>
            </a:b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Ария князя Игоря.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11280" y="5445000"/>
          <a:ext cx="7993080" cy="93024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93024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0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Н.К. Рерих. Половецкий стан. Эскиз к половецким пляскам из оперы А.П. Бородина "Князь Игорь"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Рисунок 23" descr="Н.К. Рерих. Половецкий стан. Эскиз к половецким пляскам."/>
          <p:cNvPicPr/>
          <p:nvPr/>
        </p:nvPicPr>
        <p:blipFill>
          <a:blip r:embed="rId1"/>
          <a:stretch/>
        </p:blipFill>
        <p:spPr>
          <a:xfrm>
            <a:off x="684360" y="476280"/>
            <a:ext cx="766764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419280" y="115560"/>
            <a:ext cx="56163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альным и самым известным фрагментом оперы "Князь Игорь", выражающим главную мысль произведения, является ария князя Игоря.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ия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главная песнь героя в опере, мысли героя, высказанные вслух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зитор Бородин подарил арию своему главному герою в трудный момент его жизни. Ведь можно было сделать так, чтобы князь Игорь пел, когда собирался в поход, или в момент солнечного затмения, или в час победы над половцами. Нет, князь Игорь поет в плену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5548320"/>
          <a:ext cx="3095640" cy="930240"/>
        </p:xfrm>
        <a:graphic>
          <a:graphicData uri="http://schemas.openxmlformats.org/drawingml/2006/table">
            <a:tbl>
              <a:tblPr/>
              <a:tblGrid>
                <a:gridCol w="3095640"/>
              </a:tblGrid>
              <a:tr h="9302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200"/>
                      </a:b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вец Виктор Кури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в образе князя Игоря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Рисунок 22" descr="Певец Виктор Курин в образе князя Игоря."/>
          <p:cNvPicPr/>
          <p:nvPr/>
        </p:nvPicPr>
        <p:blipFill>
          <a:blip r:embed="rId1"/>
          <a:stretch/>
        </p:blipFill>
        <p:spPr>
          <a:xfrm>
            <a:off x="108000" y="115920"/>
            <a:ext cx="3311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07640" y="333000"/>
            <a:ext cx="4824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носимо Игорю в неволе, стыд и позор терзают его душу: "Ни сна, ни отдыха измученной душе, / Мне ночь не шлёт надежды и спасенья, / Всё прошлое я вновь переживаю…" Но музыка говорит нам, что это страдания мужественного человека. Благородными, сдержанными интонациями начинается его большая ария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Рисунок 25" descr="Обложка видеокассеты."/>
          <p:cNvPicPr/>
          <p:nvPr/>
        </p:nvPicPr>
        <p:blipFill>
          <a:blip r:embed="rId1"/>
          <a:stretch/>
        </p:blipFill>
        <p:spPr>
          <a:xfrm>
            <a:off x="5219640" y="476280"/>
            <a:ext cx="28814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8000" y="115920"/>
            <a:ext cx="395928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 большим отчаянием в третьей части звучит горестный возглас: "О дайте, дайте мне свободу! Я свой позор сумею искупить!" Даже в этом взрыве горя и отчаяния музыкальный образ Игоря сохраняет благородство и силу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Рисунок 26" descr="Кадр из фильма."/>
          <p:cNvPicPr/>
          <p:nvPr/>
        </p:nvPicPr>
        <p:blipFill>
          <a:blip r:embed="rId1"/>
          <a:stretch/>
        </p:blipFill>
        <p:spPr>
          <a:xfrm>
            <a:off x="4211640" y="836640"/>
            <a:ext cx="4662360" cy="41767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5"/>
          <p:cNvSpPr/>
          <p:nvPr/>
        </p:nvSpPr>
        <p:spPr>
          <a:xfrm>
            <a:off x="4500720" y="5516640"/>
            <a:ext cx="424800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др из фильма "Князь Игорь"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08000" y="115560"/>
            <a:ext cx="4680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Князь Игорь» — народно-эпическая опера. Сам композитор указывал на ее близость к глинкинскому «Руслану»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пический склад оперы проявляется в богатырских музыкальных образах, в масштабности форм, в неторопливом, как в былинах, течении действия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Рисунок 24" descr="Кадр из фильма."/>
          <p:cNvPicPr/>
          <p:nvPr/>
        </p:nvPicPr>
        <p:blipFill>
          <a:blip r:embed="rId1"/>
          <a:stretch/>
        </p:blipFill>
        <p:spPr>
          <a:xfrm>
            <a:off x="4770360" y="907920"/>
            <a:ext cx="424512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5219640" y="522144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 из фильма "Князь Игорь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Использованные ресурсы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az.lib.ru/z/zhukowskij_w_a/text_0126.s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www.belcanto.ru/igor.html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www.centre.smr.ru/win/books/knyaz_igor.ht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http://www.kruzhalov.ru/html/history-of-russia/lesson10/lesson10.htm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http://ru.wikipedia.org/wiki/%D0%91%D0%BE%D1%80%D0%BE%D0%B4%D0%B8%D0%BD_%D0%90.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915920"/>
            <a:ext cx="45338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лександр Порфирьевич Бородин</a:t>
            </a:r>
            <a:br>
              <a:rPr sz="54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833 — 1887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Рисунок 14" descr="А.П. Бородин. Фотография."/>
          <p:cNvPicPr/>
          <p:nvPr/>
        </p:nvPicPr>
        <p:blipFill>
          <a:blip r:embed="rId1"/>
          <a:stretch/>
        </p:blipFill>
        <p:spPr>
          <a:xfrm>
            <a:off x="5651640" y="404640"/>
            <a:ext cx="2496960" cy="3745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4436640"/>
            <a:ext cx="6688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ликий русский композитор </a:t>
            </a:r>
            <a:r>
              <a:rPr b="1" i="1" lang="en-US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XIX</a:t>
            </a:r>
            <a:r>
              <a:rPr b="1" i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века, член содружества русских композиторов «Могучая кучка», профессор, академик – химик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3716280"/>
          <a:ext cx="4038480" cy="2937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9376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П. Бородин. Фотография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.Е. Репин. Портрет А.П. Бородина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 txBox="1"/>
          <p:nvPr/>
        </p:nvSpPr>
        <p:spPr>
          <a:xfrm>
            <a:off x="178920" y="115920"/>
            <a:ext cx="504036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7 лет Александр блестяще выдержал экзамен на аттестат зрелости и поступил в Медико-хирургическую академию, здесь он проявил себя как талантливый ученый-химик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3 года, окончив с отличием академию, он получил назначение в госпиталь в качестве врача-ординатора, где проработал четыре года. В дальнейшем стал профессором, академиком химии и медицины, опубликовал более 40 серьезных научных работ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Рисунок 15" descr="А.П. Бородин. Фотография."/>
          <p:cNvPicPr/>
          <p:nvPr/>
        </p:nvPicPr>
        <p:blipFill>
          <a:blip r:embed="rId1"/>
          <a:stretch/>
        </p:blipFill>
        <p:spPr>
          <a:xfrm>
            <a:off x="5364000" y="620640"/>
            <a:ext cx="3556080" cy="532944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7"/>
          <p:cNvSpPr/>
          <p:nvPr/>
        </p:nvSpPr>
        <p:spPr>
          <a:xfrm>
            <a:off x="6449040" y="6093000"/>
            <a:ext cx="16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.П. Бород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48320" y="76464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 была увлечением всей его жизни Бородина. Он -  автор симфоний (среди них "Богатырская", "Русская"), инструментальных, вокальных и других сочинений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 создана монументальная героическая опера "Князь Игорь", которая увидела свет год спустя после смерти Александра Порфирьевича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16" descr="И.Е. Репин. Портрет А.П. Бородина."/>
          <p:cNvPicPr/>
          <p:nvPr/>
        </p:nvPicPr>
        <p:blipFill>
          <a:blip r:embed="rId1"/>
          <a:stretch/>
        </p:blipFill>
        <p:spPr>
          <a:xfrm>
            <a:off x="539640" y="549360"/>
            <a:ext cx="3527640" cy="53449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5"/>
          <p:cNvSpPr/>
          <p:nvPr/>
        </p:nvSpPr>
        <p:spPr>
          <a:xfrm>
            <a:off x="554760" y="6237360"/>
            <a:ext cx="367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</a:rPr>
              <a:t>И.Е. Репин. Портрет А.П. Бороди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57200" y="3430440"/>
          <a:ext cx="4038480" cy="8668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93760">
                <a:tc gridSpan="3"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аринное издание нотной партитуры оперы "Князь Игорь". Титульный лис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312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П. Бородин. Портр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дание нотной партитуры оперы "Князь Игорь". Обложка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.П. Бородин. Фотография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 txBox="1"/>
          <p:nvPr/>
        </p:nvSpPr>
        <p:spPr>
          <a:xfrm>
            <a:off x="3780000" y="0"/>
            <a:ext cx="5186160" cy="65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преле 1869 года В. В. Стасов предложил Бородину в качестве оперного сюжета замечательный памятник древнерусской литературы "Слово о полку Игореве». Бородин был не только создателем музыки, но и автором замечательного текста оперы. Большую помощь композитору оказывал В. В. Стасов, крупнейший знаток русской истории и древней  литературы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Рисунок 11" descr="Старинное издание нотной партитуры оперы КНЯЗЬ ИГОРЬ. Титульный лист."/>
          <p:cNvPicPr/>
          <p:nvPr/>
        </p:nvPicPr>
        <p:blipFill>
          <a:blip r:embed="rId1"/>
          <a:stretch/>
        </p:blipFill>
        <p:spPr>
          <a:xfrm>
            <a:off x="108000" y="320760"/>
            <a:ext cx="3792600" cy="52689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9"/>
          <p:cNvSpPr/>
          <p:nvPr/>
        </p:nvSpPr>
        <p:spPr>
          <a:xfrm>
            <a:off x="250920" y="5661000"/>
            <a:ext cx="364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инное издание нотной партитуры оперы "Князь Игорь". Титульный лис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3851280" y="18864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 и музыка "Игоря" сочинялись одновременно. Опера писалась в течение 18 лет, но не была завершена. После смерти Бородина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. Глазунов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амяти восстановил увертюру и на основе авторских эскизов дописал недостающие эпизоды оперы, а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А. Римский-Корсаков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овал большую ее часть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ьер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шла с большим успехом 23 октября (4 ноября) 1890 года в Петербурге, на сцене Мариинского театра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. 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Рисунок 13" descr="Издание нотной партитуры оперы КНЯЗЬ ИГОРЬ. Обложка."/>
          <p:cNvPicPr/>
          <p:nvPr/>
        </p:nvPicPr>
        <p:blipFill>
          <a:blip r:embed="rId1"/>
          <a:stretch/>
        </p:blipFill>
        <p:spPr>
          <a:xfrm>
            <a:off x="108000" y="115920"/>
            <a:ext cx="4105080" cy="533088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5"/>
          <p:cNvSpPr/>
          <p:nvPr/>
        </p:nvSpPr>
        <p:spPr>
          <a:xfrm>
            <a:off x="684360" y="5445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ание нотной партитуры опер              ы "Князь Игорь"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13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пера начинается с музыкального вступления - 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вертюры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Она подготавливает слушателя к предстоящему действию, концентрирует его внимание, кратко передает идейный замысел и важнейшие образы произведения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Рисунок 18" descr="Сцена из оперы."/>
          <p:cNvPicPr/>
          <p:nvPr/>
        </p:nvPicPr>
        <p:blipFill>
          <a:blip r:embed="rId1"/>
          <a:stretch/>
        </p:blipFill>
        <p:spPr>
          <a:xfrm>
            <a:off x="324000" y="1844640"/>
            <a:ext cx="3676680" cy="2664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9" descr="Сцена из оперы."/>
          <p:cNvPicPr/>
          <p:nvPr/>
        </p:nvPicPr>
        <p:blipFill>
          <a:blip r:embed="rId2"/>
          <a:stretch/>
        </p:blipFill>
        <p:spPr>
          <a:xfrm>
            <a:off x="4427640" y="1484280"/>
            <a:ext cx="3816360" cy="34704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8"/>
          <p:cNvSpPr/>
          <p:nvPr/>
        </p:nvSpPr>
        <p:spPr>
          <a:xfrm>
            <a:off x="4427640" y="5084640"/>
            <a:ext cx="439236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из оперы "Князь Игорь". Государственный Большой академический театр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9"/>
          <p:cNvSpPr/>
          <p:nvPr/>
        </p:nvSpPr>
        <p:spPr>
          <a:xfrm>
            <a:off x="324000" y="5084640"/>
            <a:ext cx="38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из оперы "Князь Игорь". Самарский театр в декорациях Ярославского кремля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63640" y="6093000"/>
          <a:ext cx="5761080" cy="50292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50364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8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. Рерих. Эскиз к декорации «Князь Игорь"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Рисунок 17" descr="Н. Рерих. Эскиз декорации к опере КНЯЗЬ ИГОРЬ."/>
          <p:cNvPicPr/>
          <p:nvPr/>
        </p:nvPicPr>
        <p:blipFill>
          <a:blip r:embed="rId1"/>
          <a:stretch/>
        </p:blipFill>
        <p:spPr>
          <a:xfrm>
            <a:off x="900000" y="476280"/>
            <a:ext cx="698508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187280" y="5445000"/>
          <a:ext cx="7345440" cy="1189080"/>
        </p:xfrm>
        <a:graphic>
          <a:graphicData uri="http://schemas.openxmlformats.org/drawingml/2006/table">
            <a:tbl>
              <a:tblPr/>
              <a:tblGrid>
                <a:gridCol w="7345440"/>
              </a:tblGrid>
              <a:tr h="1189080">
                <a:tc>
                  <a:txBody>
                    <a:bodyPr lIns="6480" rIns="6480" tIns="6480" bIns="648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П. Соколов-Скаля. Эскиз декораций к опере "Князь Игор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Рисунок 21" descr="П.П. Соколов-Скаля. Эскиз декораций к опере КНЯЗЬ ИГОРЬ."/>
          <p:cNvPicPr/>
          <p:nvPr/>
        </p:nvPicPr>
        <p:blipFill>
          <a:blip r:embed="rId1"/>
          <a:stretch/>
        </p:blipFill>
        <p:spPr>
          <a:xfrm>
            <a:off x="539640" y="372960"/>
            <a:ext cx="79930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21:27:59Z</dcterms:created>
  <dc:creator>Эксперт</dc:creator>
  <dc:description/>
  <dc:language>en-US</dc:language>
  <cp:lastModifiedBy>User</cp:lastModifiedBy>
  <dcterms:modified xsi:type="dcterms:W3CDTF">2012-11-20T08:18:15Z</dcterms:modified>
  <cp:revision>11</cp:revision>
  <dc:subject/>
  <dc:title>Александр Порфирьевич Бородин</dc:title>
</cp:coreProperties>
</file>