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BAE-31C2-4FA0-8D65-82EB064E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7F9-870B-462D-8CEE-7F8E7E91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275-F68B-4916-8ACF-7D21649D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19E-90AA-477C-8DD7-4892B4AE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54C7-AEA2-453E-9EEC-3853151A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5167-3897-45AA-BFD5-7B6DB0BC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28CA-0D31-4647-8FF1-34294297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3F9C-FAC8-4E50-AB6E-21370E97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C1E9-08E6-432D-9AA9-0CA0D179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C24E-7D5B-4EED-8C3A-A11A202F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F4C2-E5BA-45BF-B777-03AEBE06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3AF-F815-44C7-A21D-25B3E432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2FB3-17A5-4C58-B568-21A760B2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19E4-A643-48A0-A519-1E384342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989A-863D-44BC-874A-EF15FEAC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0812-561C-4A11-856F-C54A6849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39AE-F16E-4E4D-B111-9489A41D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CB580-83F0-4383-8802-BBEFC3DE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142AE-4FA7-481A-82A6-B9753105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BB705-3B91-42F3-85B4-7C13A521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00BE-739C-4B64-948C-E43DA26D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F98CE-32E8-4258-87BE-773F7B8F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DCE-2F52-4BDE-9E3A-A6AD0592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C001A-4800-47A0-8456-1783D462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30F99-6A26-429B-B48C-8273E95A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60D82-AC7D-4B96-B40A-62F396FE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093E-EBDE-416E-A811-CAC70C16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1EC60-DCCC-45C5-A407-19EC8608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D707-B3A9-4CB4-9E07-A05BAA84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B407-6E31-45BF-AFE3-15500D98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DE9-5E7F-4432-B3D1-828F4202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C9F-FB4A-416F-8FA7-6A58B322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E31-85DB-45F5-A862-99DE838E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26F-9964-4B04-9D4F-5393EE42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8E2C-C842-42CB-8141-75A5579E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B2F-FFBF-44FB-A919-AFF28706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9C7E-DB36-45AC-8524-9A6BD33B63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5860-7D27-49A0-A794-DB7FF3A8D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ECB9-D91B-431A-B3BE-11408FC9A0B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4731840"/>
            <a:ext cx="822960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755640" y="765000"/>
            <a:ext cx="7596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рок литературы в  10 классе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 поэме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. С. Пушкина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Медный всадник"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920" y="2349360"/>
            <a:ext cx="49068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узнал тог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то неподвижно возвышал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 мраке медною главо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го, чьей волей роков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морем город основался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жасен он в окрестной мгле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ая дума на челе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ая сила в нём сокрыта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4" descr="benua3"/>
          <p:cNvPicPr/>
          <p:nvPr/>
        </p:nvPicPr>
        <p:blipFill>
          <a:blip r:embed="rId1"/>
          <a:stretch/>
        </p:blipFill>
        <p:spPr>
          <a:xfrm>
            <a:off x="5110200" y="1052640"/>
            <a:ext cx="3922560" cy="50403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212" name="WordArt 5"/>
          <p:cNvSpPr txBox="1"/>
          <p:nvPr/>
        </p:nvSpPr>
        <p:spPr>
          <a:xfrm>
            <a:off x="324000" y="549360"/>
            <a:ext cx="8064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треча Евгения С "горделивым истуканом". Бунт геро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3" name="WordArt 6"/>
          <p:cNvSpPr txBox="1"/>
          <p:nvPr/>
        </p:nvSpPr>
        <p:spPr>
          <a:xfrm>
            <a:off x="5148360" y="5013360"/>
            <a:ext cx="370836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Ужо тебе!..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500"/>
                            </p:stCondLst>
                            <p:childTnLst>
                              <p:par>
                                <p:cTn id="2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000"/>
                            </p:stCondLst>
                            <p:childTnLst>
                              <p:par>
                                <p:cTn id="2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Konstantinov"/>
          <p:cNvPicPr/>
          <p:nvPr/>
        </p:nvPicPr>
        <p:blipFill>
          <a:blip r:embed="rId1"/>
          <a:stretch/>
        </p:blipFill>
        <p:spPr>
          <a:xfrm>
            <a:off x="4392720" y="189000"/>
            <a:ext cx="4500360" cy="4043160"/>
          </a:xfrm>
          <a:prstGeom prst="rect">
            <a:avLst/>
          </a:prstGeom>
          <a:ln w="76320">
            <a:solidFill>
              <a:srgbClr val="feec94"/>
            </a:solidFill>
            <a:miter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268000" y="4265640"/>
            <a:ext cx="68756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Евгений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– пленник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жертва города, созданного Петром; но он и укор Петру, антипод «кумира на бронзовом коне», «горделивого истукана», потому что у него есть то, чего лишён Медный всадник: сердце и душ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WordArt 7"/>
          <p:cNvSpPr txBox="1"/>
          <p:nvPr/>
        </p:nvSpPr>
        <p:spPr>
          <a:xfrm>
            <a:off x="539640" y="536400"/>
            <a:ext cx="2952720" cy="11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спом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17" name="WordArt 8"/>
          <p:cNvSpPr txBox="1"/>
          <p:nvPr/>
        </p:nvSpPr>
        <p:spPr>
          <a:xfrm rot="18845400">
            <a:off x="214200" y="2241720"/>
            <a:ext cx="36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eec94"/>
                    </a:gs>
                  </a:gsLst>
                  <a:lin ang="10854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н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eec94"/>
                  </a:gs>
                </a:gsLst>
                <a:lin ang="10854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eec94"/>
                    </a:gs>
                  </a:gsLst>
                  <a:lin ang="10854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умир на бронзовом коне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eec94"/>
                  </a:gs>
                </a:gsLst>
                <a:lin ang="10854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eec94"/>
                    </a:gs>
                  </a:gsLst>
                  <a:lin ang="10854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орделивый истукан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eec94"/>
                  </a:gs>
                </a:gsLst>
                <a:lin ang="10854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6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3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p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58760" y="4248000"/>
            <a:ext cx="8229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да ты скачешь, гордый кон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где опустишь ты копы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 мощный властелин судьб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так ли ты над самой безд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высоте, уздой желез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ю поднял на дыб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Жестокая, немилосердная власть губительна не только для человека, но и для самой власти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Необходимо соединить две правды: правду Петра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(«великие думы») и правду Евгения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(«мечты»),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т.е.  свести государство на уровень человека, а человека поднять до уровня истории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08000" y="115920"/>
            <a:ext cx="8893080" cy="6597720"/>
          </a:xfrm>
          <a:prstGeom prst="rect">
            <a:avLst/>
          </a:prstGeom>
          <a:solidFill>
            <a:srgbClr val="ff99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WordArt 6"/>
          <p:cNvSpPr txBox="1"/>
          <p:nvPr/>
        </p:nvSpPr>
        <p:spPr>
          <a:xfrm>
            <a:off x="1332000" y="549360"/>
            <a:ext cx="583236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3" name="Picture 10" descr="pu06_1"/>
          <p:cNvPicPr/>
          <p:nvPr/>
        </p:nvPicPr>
        <p:blipFill>
          <a:blip r:embed="rId1"/>
          <a:stretch/>
        </p:blipFill>
        <p:spPr>
          <a:xfrm>
            <a:off x="1365120" y="216000"/>
            <a:ext cx="630252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p01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6048720"/>
          </a:xfrm>
          <a:prstGeom prst="rect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411280" y="3036960"/>
            <a:ext cx="640872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ушкин — не только  величайший  русский                                                           поэт, но и истинно  великий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ыслитель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.Л.Фран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 algn="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дрой  любви  исполнена  пушкинская                                                         повесть.                                                             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.Н.Княжн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WordArt 7"/>
          <p:cNvSpPr txBox="1"/>
          <p:nvPr/>
        </p:nvSpPr>
        <p:spPr>
          <a:xfrm>
            <a:off x="395280" y="0"/>
            <a:ext cx="84837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cc"/>
                    </a:gs>
                    <a:gs pos="100000">
                      <a:srgbClr val="ff9900"/>
                    </a:gs>
                  </a:gsLst>
                  <a:lin ang="0"/>
                </a:gradFill>
                <a:latin typeface="Times New Roman"/>
              </a:rPr>
              <a:t>         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cc"/>
                  </a:gs>
                  <a:gs pos="100000">
                    <a:srgbClr val="ff9900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cc"/>
                    </a:gs>
                    <a:gs pos="100000">
                      <a:srgbClr val="ff9900"/>
                    </a:gs>
                  </a:gsLst>
                  <a:lin ang="0"/>
                </a:gradFill>
                <a:latin typeface="Times New Roman"/>
              </a:rPr>
              <a:t> 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cc"/>
                  </a:gs>
                  <a:gs pos="100000">
                    <a:srgbClr val="ff9900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cc"/>
                    </a:gs>
                    <a:gs pos="100000">
                      <a:srgbClr val="ff9900"/>
                    </a:gs>
                  </a:gsLst>
                  <a:lin ang="0"/>
                </a:gradFill>
                <a:latin typeface="Times New Roman"/>
              </a:rPr>
              <a:t>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cc"/>
                  </a:gs>
                  <a:gs pos="100000">
                    <a:srgbClr val="ff9900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519120" y="5537160"/>
            <a:ext cx="80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дея урок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еловечность и милосердие -  необходимые составляющие любой в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9" descr="pu04"/>
          <p:cNvPicPr/>
          <p:nvPr/>
        </p:nvPicPr>
        <p:blipFill>
          <a:blip r:embed="rId1"/>
          <a:stretch/>
        </p:blipFill>
        <p:spPr>
          <a:xfrm>
            <a:off x="324000" y="2997360"/>
            <a:ext cx="2158920" cy="24476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ekatresh"/>
          <p:cNvPicPr/>
          <p:nvPr/>
        </p:nvPicPr>
        <p:blipFill>
          <a:blip r:embed="rId1"/>
          <a:stretch/>
        </p:blipFill>
        <p:spPr>
          <a:xfrm>
            <a:off x="0" y="0"/>
            <a:ext cx="4572000" cy="3645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Дворцы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645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neva"/>
          <p:cNvPicPr/>
          <p:nvPr/>
        </p:nvPicPr>
        <p:blipFill>
          <a:blip r:embed="rId3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b5f03"/>
                </a:solidFill>
                <a:latin typeface="Arial"/>
              </a:rPr>
              <a:t>Каким вы увидели Петербург во Вступлении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79640" y="4437000"/>
            <a:ext cx="42116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Невы державное течень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Береговой её грани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4572000" y="2781360"/>
            <a:ext cx="45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Громады стройные тесня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орцов и баш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0" y="3068640"/>
            <a:ext cx="406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Твоих оград узор чугун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5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85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95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45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75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bankovsky_foto14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3284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mpole1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67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admiralt1"/>
          <p:cNvPicPr/>
          <p:nvPr/>
        </p:nvPicPr>
        <p:blipFill>
          <a:blip r:embed="rId3"/>
          <a:stretch/>
        </p:blipFill>
        <p:spPr>
          <a:xfrm>
            <a:off x="0" y="0"/>
            <a:ext cx="4427640" cy="3672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250920" y="2997360"/>
            <a:ext cx="38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eec94"/>
                </a:solidFill>
                <a:latin typeface="Arial"/>
              </a:rPr>
              <a:t>Адмиралтейская игл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859280" y="2687760"/>
            <a:ext cx="38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eec94"/>
                </a:solidFill>
                <a:latin typeface="Arial"/>
              </a:rPr>
              <a:t>Живость потешных Марсовых пол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2916360" y="6093000"/>
            <a:ext cx="59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eec94"/>
                </a:solidFill>
                <a:latin typeface="Arial"/>
              </a:rPr>
              <a:t>Мосты повисли над водам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11280" y="5850000"/>
            <a:ext cx="78501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, что делается назло, злом и является. Город был построен не для людей, а  для воплощения какой-то государственной иде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WordArt 6"/>
          <p:cNvSpPr txBox="1"/>
          <p:nvPr/>
        </p:nvSpPr>
        <p:spPr>
          <a:xfrm rot="20465400">
            <a:off x="492120" y="1244520"/>
            <a:ext cx="254808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сториче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фа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008000" y="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Почему в таком красивейшем городе трудно жить не только бедному Евгению, но даже царю? («Печален, смутен вышел он», «Скорбными очами на злое бедствие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 глядел»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539640" y="191628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ec94"/>
                </a:solidFill>
                <a:latin typeface="Times New Roman"/>
              </a:rPr>
              <a:t>После очередного наводнения графиня Толстая, проезжая около памятника Петру, показала ему язык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 flipV="1" rot="10828200">
            <a:off x="4861080" y="205344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Здесь будет город заложё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Назло надменному сосе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4" descr="bigwater"/>
          <p:cNvPicPr/>
          <p:nvPr/>
        </p:nvPicPr>
        <p:blipFill>
          <a:blip r:embed="rId5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LED"/>
          <p:cNvPicPr/>
          <p:nvPr/>
        </p:nvPicPr>
        <p:blipFill>
          <a:blip r:embed="rId6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324000" y="1916280"/>
            <a:ext cx="457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тербург мыслилс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тром как симво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сударственной власт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личия родной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9" descr="anichkov_foto07"/>
          <p:cNvPicPr/>
          <p:nvPr/>
        </p:nvPicPr>
        <p:blipFill>
          <a:blip r:embed="rId1"/>
          <a:stretch/>
        </p:blipFill>
        <p:spPr>
          <a:xfrm>
            <a:off x="0" y="1844640"/>
            <a:ext cx="4716360" cy="5013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benua"/>
          <p:cNvPicPr/>
          <p:nvPr/>
        </p:nvPicPr>
        <p:blipFill>
          <a:blip r:embed="rId2"/>
          <a:stretch/>
        </p:blipFill>
        <p:spPr>
          <a:xfrm>
            <a:off x="4932360" y="3357720"/>
            <a:ext cx="4211640" cy="3500280"/>
          </a:xfrm>
          <a:prstGeom prst="rect">
            <a:avLst/>
          </a:prstGeom>
          <a:ln w="0">
            <a:noFill/>
          </a:ln>
        </p:spPr>
      </p:pic>
      <p:sp>
        <p:nvSpPr>
          <p:cNvPr id="190" name="WordArt 6"/>
          <p:cNvSpPr txBox="1"/>
          <p:nvPr/>
        </p:nvSpPr>
        <p:spPr>
          <a:xfrm>
            <a:off x="250920" y="333360"/>
            <a:ext cx="41767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их же дум был полон Пётр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788000" y="17460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На берегу пустынных вол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тоял он , дум великих полн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 вдаль глядел.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924000" y="4508640"/>
            <a:ext cx="52196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ff"/>
                </a:solidFill>
                <a:latin typeface="Times New Roman"/>
              </a:rPr>
              <a:t>Прошло сто лет, и юный град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ff"/>
                </a:solidFill>
                <a:latin typeface="Times New Roman"/>
              </a:rPr>
              <a:t>Полнощных стран краса и диво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ff"/>
                </a:solidFill>
                <a:latin typeface="Times New Roman"/>
              </a:rPr>
              <a:t>Из тьмы лесов, из топи бла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ff"/>
                </a:solidFill>
                <a:latin typeface="Times New Roman"/>
              </a:rPr>
              <a:t>Вознёсся пышно, горделив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6000"/>
                            </p:stCondLst>
                            <p:childTnLst>
                              <p:par>
                                <p:cTn id="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benua"/>
          <p:cNvPicPr/>
          <p:nvPr/>
        </p:nvPicPr>
        <p:blipFill>
          <a:blip r:embed="rId1"/>
          <a:stretch/>
        </p:blipFill>
        <p:spPr>
          <a:xfrm>
            <a:off x="324000" y="306360"/>
            <a:ext cx="8567640" cy="6291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484360" y="5229360"/>
            <a:ext cx="6229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жды близ Балтийских вол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оял задумавшись глубок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й цар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324000" y="260280"/>
            <a:ext cx="2600280" cy="24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гля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чернов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э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96" name="WordArt 6"/>
          <p:cNvSpPr txBox="1"/>
          <p:nvPr/>
        </p:nvSpPr>
        <p:spPr>
          <a:xfrm rot="1343400">
            <a:off x="6372360" y="836280"/>
            <a:ext cx="2305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2676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зьм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2676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2676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 заметк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2676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5543640" y="2421000"/>
            <a:ext cx="36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- воплощение власти; важно не имя, важен симво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ётр показан со спин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!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124000" y="130500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 берегу Варяжских  вол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оял глубокой думы пол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еликий Пётр…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250920" y="335772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жды близ пустынных вол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оял задумавшись глубо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й муж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р07"/>
          <p:cNvPicPr/>
          <p:nvPr/>
        </p:nvPicPr>
        <p:blipFill>
          <a:blip r:embed="rId1"/>
          <a:stretch/>
        </p:blipFill>
        <p:spPr>
          <a:xfrm>
            <a:off x="4716360" y="3100320"/>
            <a:ext cx="4356360" cy="37134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201" name="Picture 5" descr="р05"/>
          <p:cNvPicPr/>
          <p:nvPr/>
        </p:nvPicPr>
        <p:blipFill>
          <a:blip r:embed="rId2"/>
          <a:stretch/>
        </p:blipFill>
        <p:spPr>
          <a:xfrm>
            <a:off x="108000" y="73080"/>
            <a:ext cx="3651120" cy="48686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166560" y="87120"/>
            <a:ext cx="63010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ительна находка Пушкин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сопоставляет Евг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с Петром- человеком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со статуей Пе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дный всадни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симв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ой власт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вобождённой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ческого нача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755640" y="3932280"/>
            <a:ext cx="5040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7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еличественн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трог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орд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шительн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ластн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уров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невн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езжалостн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2411280" y="2781360"/>
            <a:ext cx="4464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990000"/>
                  </a:outerShdw>
                </a:effectLst>
                <a:latin typeface="Arial"/>
              </a:rPr>
              <a:t>Подбери эпитеты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750"/>
                            </p:stCondLst>
                            <p:childTnLst>
                              <p:par>
                                <p:cTn id="1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250"/>
                            </p:stCondLst>
                            <p:childTnLst>
                              <p:par>
                                <p:cTn id="1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700"/>
                            </p:stCondLst>
                            <p:childTnLst>
                              <p:par>
                                <p:cTn id="1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950"/>
                            </p:stCondLst>
                            <p:childTnLst>
                              <p:par>
                                <p:cTn id="1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400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950"/>
                            </p:stCondLst>
                            <p:childTnLst>
                              <p:par>
                                <p:cTn id="1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150"/>
                            </p:stCondLst>
                            <p:childTnLst>
                              <p:par>
                                <p:cTn id="1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66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16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karazin"/>
          <p:cNvPicPr/>
          <p:nvPr/>
        </p:nvPicPr>
        <p:blipFill>
          <a:blip r:embed="rId1"/>
          <a:stretch/>
        </p:blipFill>
        <p:spPr>
          <a:xfrm>
            <a:off x="174600" y="1557360"/>
            <a:ext cx="3749760" cy="5300640"/>
          </a:xfrm>
          <a:prstGeom prst="rect">
            <a:avLst/>
          </a:prstGeom>
          <a:ln w="76320">
            <a:solidFill>
              <a:srgbClr val="feec94"/>
            </a:solidFill>
            <a:miter/>
          </a:ln>
        </p:spPr>
      </p:pic>
      <p:sp>
        <p:nvSpPr>
          <p:cNvPr id="206" name="WordArt 6"/>
          <p:cNvSpPr txBox="1"/>
          <p:nvPr/>
        </p:nvSpPr>
        <p:spPr>
          <a:xfrm rot="212400">
            <a:off x="0" y="0"/>
            <a:ext cx="838836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50000"/>
                </a:gradFill>
                <a:latin typeface="Impact"/>
              </a:rPr>
              <a:t>Встреча Евгения с "кумиром на бронзовом коне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50000"/>
              </a:gradFill>
              <a:latin typeface="Impact"/>
              <a:ea typeface="Impact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24360" y="1557360"/>
            <a:ext cx="52196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УМИ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изваяние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жествлённая стату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предмет восхищения, прекло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71280" y="5091120"/>
            <a:ext cx="399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Arial"/>
              </a:rPr>
              <a:t>И, обращён к нему спиною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Arial"/>
              </a:rPr>
              <a:t>В неколебимой вышине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Arial"/>
              </a:rPr>
              <a:t>Над возмущённою Невою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Arial"/>
              </a:rPr>
              <a:t>Стоит с простёртою рукою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Arial"/>
              </a:rPr>
              <a:t>Кумир на бронзовом кон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924360" y="3284640"/>
            <a:ext cx="5256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русском языке существует фразеологизм «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вернуться спино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», который обозначает равнодушие, невнимание к кому или чему-либо; нежелание проявлять участие, заинтересованность в ком или в чём-либо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0:00:28Z</dcterms:created>
  <dc:creator>student</dc:creator>
  <dc:description/>
  <dc:language>en-US</dc:language>
  <cp:lastModifiedBy>Катя</cp:lastModifiedBy>
  <dcterms:modified xsi:type="dcterms:W3CDTF">2017-09-14T18:51:55Z</dcterms:modified>
  <cp:revision>23</cp:revision>
  <dc:subject/>
  <dc:title>Конфликт  человек и власти в поэме А.С.Пушкина «Медный всадник»</dc:title>
</cp:coreProperties>
</file>