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gif" ContentType="image/gi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32BE-FBEB-4F8D-94A4-810D84E3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337C-99BF-43F4-AF83-A22FB8E45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9429-0BAE-4234-8804-15A9F9FA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AC4-D55A-4E94-BE3C-3D7FF6DFD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19D1-D110-4F48-9C39-6F035A52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6909-C3E4-4456-9755-8F64B7FD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4F59-9884-4986-B869-4663C043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A2BA4-4DF2-4E4A-BDDA-4CCBB3065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6AE-2C1F-4881-86DF-0B5635DC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103E-CD41-4E47-9ED5-296E007D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52A3-676B-4F64-B684-E373E54B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DFF-3486-466F-AD15-E1BAE729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80F3-85A6-47B4-8490-A8B6E043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93EE-E165-426A-A130-27C66B6B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9C2A-F19E-4430-B1C5-56BA496E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AE72-CC15-454F-B457-B95E2F9B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01A2C-D9A2-4F54-8E95-6D46938B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E007-A4E6-4A46-9A60-0C5F31DF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4868E-FD9A-4E7D-9578-0FFE0F44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5AE1-F1B1-4359-8150-D4FE0AEB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92CA3-157E-4EB4-AFE8-AFCAACA31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56DD2-A831-4061-8472-C19A1514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D60-CB85-4F04-92B7-B781B74A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0A69A-55DF-4ECF-8271-641DEEE7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EAA5D-EFC4-4889-B531-D2D5D73E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3D27-C35B-4829-9DD8-F480AC04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9237-FC4D-4FDC-A7C1-E9122F7A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6300F-9CA3-4AB6-8834-81792920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116FC-82FD-4894-B9D9-28AC5F7C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D806-D5C9-4D7A-8D11-62C1ABC5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40D0-1AE1-4286-A267-96905721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284D-849A-43B6-9FEA-187B857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6AB-BE6C-4E05-B313-A5B81945A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17F-33AB-47D6-B15F-5ADA5D27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96CA-ED94-4A74-9E17-AEE6B24C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56A-D2CD-448F-A5E3-6BA64284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5AB4-404E-4756-B0B4-D367EAE9C0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FEDD1-AED6-4C47-8629-A5818F3300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91F-B384-41D1-A327-89F505E8FA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360" y="4731840"/>
            <a:ext cx="8229600" cy="21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WordArt 4"/>
          <p:cNvSpPr txBox="1"/>
          <p:nvPr/>
        </p:nvSpPr>
        <p:spPr>
          <a:xfrm>
            <a:off x="755640" y="765000"/>
            <a:ext cx="759636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рок литературы в  10 классе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 поэме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 С. Пушк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Медный всадник"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250920" y="2349360"/>
            <a:ext cx="49068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узнал тог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то неподвижно возвыша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 мраке медною главой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ого, чьей волей роков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 морем город основался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жасен он в окрестной мгл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дума на челе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ая сила в нём сокрыт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4" descr="benua3"/>
          <p:cNvPicPr/>
          <p:nvPr/>
        </p:nvPicPr>
        <p:blipFill>
          <a:blip r:embed="rId1"/>
          <a:stretch/>
        </p:blipFill>
        <p:spPr>
          <a:xfrm>
            <a:off x="5110200" y="1052640"/>
            <a:ext cx="3922560" cy="504036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12" name="WordArt 5"/>
          <p:cNvSpPr txBox="1"/>
          <p:nvPr/>
        </p:nvSpPr>
        <p:spPr>
          <a:xfrm>
            <a:off x="324000" y="549360"/>
            <a:ext cx="8064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стреча Евгения С "горделивым истуканом". Бунт геро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13" name="WordArt 6"/>
          <p:cNvSpPr txBox="1"/>
          <p:nvPr/>
        </p:nvSpPr>
        <p:spPr>
          <a:xfrm>
            <a:off x="5148360" y="5013360"/>
            <a:ext cx="370836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6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Ужо тебе!..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8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0"/>
                            </p:stCondLst>
                            <p:childTnLst>
                              <p:par>
                                <p:cTn id="2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0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4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3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Konstantinov"/>
          <p:cNvPicPr/>
          <p:nvPr/>
        </p:nvPicPr>
        <p:blipFill>
          <a:blip r:embed="rId1"/>
          <a:stretch/>
        </p:blipFill>
        <p:spPr>
          <a:xfrm>
            <a:off x="4392720" y="189000"/>
            <a:ext cx="4500360" cy="4043160"/>
          </a:xfrm>
          <a:prstGeom prst="rect">
            <a:avLst/>
          </a:prstGeom>
          <a:ln w="76320">
            <a:solidFill>
              <a:srgbClr val="feec94"/>
            </a:solidFill>
            <a:miter/>
          </a:ln>
        </p:spPr>
      </p:pic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2268000" y="4265640"/>
            <a:ext cx="687564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Евгений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– пленник</a:t>
            </a: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, жертва города, созданного Петром; но он и укор Петру, антипод «кумира на бронзовом коне», «горделивого истукана», потому что у него есть то, чего лишён Медный всадник: сердце и душ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WordArt 7"/>
          <p:cNvSpPr txBox="1"/>
          <p:nvPr/>
        </p:nvSpPr>
        <p:spPr>
          <a:xfrm>
            <a:off x="539640" y="536400"/>
            <a:ext cx="2952720" cy="116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Вспомн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17" name="WordArt 8"/>
          <p:cNvSpPr txBox="1"/>
          <p:nvPr/>
        </p:nvSpPr>
        <p:spPr>
          <a:xfrm rot="18845400">
            <a:off x="214200" y="2241720"/>
            <a:ext cx="3673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ec94"/>
                    </a:gs>
                  </a:gsLst>
                  <a:lin ang="1085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он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eec94"/>
                  </a:gs>
                </a:gsLst>
                <a:lin ang="1085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ec94"/>
                    </a:gs>
                  </a:gsLst>
                  <a:lin ang="1085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умир на бронзовом коне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eec94"/>
                  </a:gs>
                </a:gsLst>
                <a:lin ang="1085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eec94"/>
                    </a:gs>
                  </a:gsLst>
                  <a:lin ang="10854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орделивый истукан</a:t>
            </a:r>
            <a:endParaRPr b="1" lang="en-US" sz="20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eec94"/>
                  </a:gs>
                </a:gsLst>
                <a:lin ang="10854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500"/>
                            </p:stCondLst>
                            <p:childTnLst>
                              <p:par>
                                <p:cTn id="2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0" dur="3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p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58760" y="4248000"/>
            <a:ext cx="8229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да ты скачешь, гордый кон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где опустишь ты копы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 мощный властелин судьб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 так ли ты над самой бездн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высоте, уздой желез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ю поднял на дыб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10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3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32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7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10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0" y="2060640"/>
            <a:ext cx="9144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Жестокая, немилосердная власть губительна не только для человека, но и для самой власти.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Необходимо соединить две правды: правду Петра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(«великие думы») и правду Евгения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(«мечты»),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т.е.  свести государство на уровень человека, а человека поднять до уровня истории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08000" y="115920"/>
            <a:ext cx="8893080" cy="6597720"/>
          </a:xfrm>
          <a:prstGeom prst="rect">
            <a:avLst/>
          </a:prstGeom>
          <a:solidFill>
            <a:srgbClr val="ff99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WordArt 6"/>
          <p:cNvSpPr txBox="1"/>
          <p:nvPr/>
        </p:nvSpPr>
        <p:spPr>
          <a:xfrm>
            <a:off x="1332000" y="549360"/>
            <a:ext cx="583236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ы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23" name="Picture 10" descr="pu06_1"/>
          <p:cNvPicPr/>
          <p:nvPr/>
        </p:nvPicPr>
        <p:blipFill>
          <a:blip r:embed="rId1"/>
          <a:stretch/>
        </p:blipFill>
        <p:spPr>
          <a:xfrm>
            <a:off x="1365120" y="216000"/>
            <a:ext cx="630252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3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5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7" descr="p01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6048720"/>
          </a:xfrm>
          <a:prstGeom prst="rect">
            <a:avLst/>
          </a:prstGeom>
          <a:ln cap="rnd" w="76320">
            <a:solidFill>
              <a:srgbClr val="ff990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411280" y="3036960"/>
            <a:ext cx="640872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ушкин — не только  величайший  русский                                                           поэт, но и истинно  великий 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ыслитель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.Л.Фран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 algn="r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дрой  любви  исполнена  пушкинская                                                         повесть.                                                    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.Н.Княжн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WordArt 7"/>
          <p:cNvSpPr txBox="1"/>
          <p:nvPr/>
        </p:nvSpPr>
        <p:spPr>
          <a:xfrm>
            <a:off x="395280" y="0"/>
            <a:ext cx="848376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cc"/>
                    </a:gs>
                    <a:gs pos="100000">
                      <a:srgbClr val="ff9900"/>
                    </a:gs>
                  </a:gsLst>
                  <a:lin ang="0"/>
                </a:gradFill>
                <a:latin typeface="Times New Roman"/>
              </a:rPr>
              <a:t>        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cc"/>
                  </a:gs>
                  <a:gs pos="100000">
                    <a:srgbClr val="ff9900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cc"/>
                    </a:gs>
                    <a:gs pos="100000">
                      <a:srgbClr val="ff9900"/>
                    </a:gs>
                  </a:gsLst>
                  <a:lin ang="0"/>
                </a:gradFill>
                <a:latin typeface="Times New Roman"/>
              </a:rPr>
              <a:t>    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cc"/>
                  </a:gs>
                  <a:gs pos="100000">
                    <a:srgbClr val="ff9900"/>
                  </a:gs>
                </a:gsLst>
                <a:lin ang="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cc"/>
                    </a:gs>
                    <a:gs pos="100000">
                      <a:srgbClr val="ff9900"/>
                    </a:gs>
                  </a:gsLst>
                  <a:lin ang="0"/>
                </a:gradFill>
                <a:latin typeface="Times New Roman"/>
              </a:rPr>
              <a:t>              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cc"/>
                  </a:gs>
                  <a:gs pos="100000">
                    <a:srgbClr val="ff9900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19120" y="5537160"/>
            <a:ext cx="80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дея урока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человечность и милосердие -  необходимые составляющие любой вла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9" descr="pu04"/>
          <p:cNvPicPr/>
          <p:nvPr/>
        </p:nvPicPr>
        <p:blipFill>
          <a:blip r:embed="rId1"/>
          <a:stretch/>
        </p:blipFill>
        <p:spPr>
          <a:xfrm>
            <a:off x="324000" y="2997360"/>
            <a:ext cx="2158920" cy="244764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ekatresh"/>
          <p:cNvPicPr/>
          <p:nvPr/>
        </p:nvPicPr>
        <p:blipFill>
          <a:blip r:embed="rId1"/>
          <a:stretch/>
        </p:blipFill>
        <p:spPr>
          <a:xfrm>
            <a:off x="0" y="0"/>
            <a:ext cx="4572000" cy="364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Дворцы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645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neva"/>
          <p:cNvPicPr/>
          <p:nvPr/>
        </p:nvPicPr>
        <p:blipFill>
          <a:blip r:embed="rId3"/>
          <a:stretch/>
        </p:blipFill>
        <p:spPr>
          <a:xfrm>
            <a:off x="0" y="3500280"/>
            <a:ext cx="9144000" cy="3357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b5f03"/>
                </a:solidFill>
                <a:latin typeface="Arial"/>
              </a:rPr>
              <a:t>Каким вы увидели Петербург во Вступлении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79640" y="4437000"/>
            <a:ext cx="4211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Невы державное течень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Береговой её грани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572000" y="2781360"/>
            <a:ext cx="45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Громады стройные тесня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орцов и баше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0" y="3068640"/>
            <a:ext cx="4067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Твоих оград узор чугун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5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8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95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45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75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bankovsky_foto14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284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mpole1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67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admiralt1"/>
          <p:cNvPicPr/>
          <p:nvPr/>
        </p:nvPicPr>
        <p:blipFill>
          <a:blip r:embed="rId3"/>
          <a:stretch/>
        </p:blipFill>
        <p:spPr>
          <a:xfrm>
            <a:off x="0" y="0"/>
            <a:ext cx="44276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2"/>
          <p:cNvSpPr/>
          <p:nvPr/>
        </p:nvSpPr>
        <p:spPr>
          <a:xfrm>
            <a:off x="250920" y="2997360"/>
            <a:ext cx="388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Arial"/>
              </a:rPr>
              <a:t>Адмиралтейская игл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4859280" y="2687760"/>
            <a:ext cx="38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Arial"/>
              </a:rPr>
              <a:t>Живость потешных Марсовых полей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2916360" y="6093000"/>
            <a:ext cx="59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eec94"/>
                </a:solidFill>
                <a:latin typeface="Arial"/>
              </a:rPr>
              <a:t>Мосты повисли над водам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11280" y="5850000"/>
            <a:ext cx="78501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, что делается назло, злом и является. Город был построен не для людей, а  для воплощения какой-то государственной иде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WordArt 6"/>
          <p:cNvSpPr txBox="1"/>
          <p:nvPr/>
        </p:nvSpPr>
        <p:spPr>
          <a:xfrm rot="20465400">
            <a:off x="492120" y="1244520"/>
            <a:ext cx="254808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Историче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фак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008000" y="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Почему в таком красивейшем городе трудно жить не только бедному Евгению, но даже царю? («Печален, смутен вышел он», «Скорбными очами на злое бедствие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 глядел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539640" y="1916280"/>
            <a:ext cx="439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ec94"/>
                </a:solidFill>
                <a:latin typeface="Times New Roman"/>
              </a:rPr>
              <a:t>После очередного наводнения графиня Толстая, проезжая около памятника Петру, показала ему язык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0"/>
          <p:cNvSpPr/>
          <p:nvPr/>
        </p:nvSpPr>
        <p:spPr>
          <a:xfrm flipV="1" rot="10828200">
            <a:off x="4861080" y="205344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Здесь будет город заложё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66ff"/>
                </a:solidFill>
                <a:latin typeface="Times New Roman"/>
              </a:rPr>
              <a:t>Назло надменному сосед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4" descr="bigwater"/>
          <p:cNvPicPr/>
          <p:nvPr/>
        </p:nvPicPr>
        <p:blipFill>
          <a:blip r:embed="rId5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ED"/>
          <p:cNvPicPr/>
          <p:nvPr/>
        </p:nvPicPr>
        <p:blipFill>
          <a:blip r:embed="rId6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"/>
          <p:cNvSpPr/>
          <p:nvPr/>
        </p:nvSpPr>
        <p:spPr>
          <a:xfrm>
            <a:off x="324000" y="1916280"/>
            <a:ext cx="4572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тербург мыслилс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етром как символ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осударственной власт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личия родной стра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9" descr="anichkov_foto07"/>
          <p:cNvPicPr/>
          <p:nvPr/>
        </p:nvPicPr>
        <p:blipFill>
          <a:blip r:embed="rId1"/>
          <a:stretch/>
        </p:blipFill>
        <p:spPr>
          <a:xfrm>
            <a:off x="0" y="1844640"/>
            <a:ext cx="4716360" cy="501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benua"/>
          <p:cNvPicPr/>
          <p:nvPr/>
        </p:nvPicPr>
        <p:blipFill>
          <a:blip r:embed="rId2"/>
          <a:stretch/>
        </p:blipFill>
        <p:spPr>
          <a:xfrm>
            <a:off x="4932360" y="3357720"/>
            <a:ext cx="4211640" cy="3500280"/>
          </a:xfrm>
          <a:prstGeom prst="rect">
            <a:avLst/>
          </a:prstGeom>
          <a:ln w="0">
            <a:noFill/>
          </a:ln>
        </p:spPr>
      </p:pic>
      <p:sp>
        <p:nvSpPr>
          <p:cNvPr id="190" name="WordArt 6"/>
          <p:cNvSpPr txBox="1"/>
          <p:nvPr/>
        </p:nvSpPr>
        <p:spPr>
          <a:xfrm>
            <a:off x="250920" y="333360"/>
            <a:ext cx="4176720" cy="155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ких же дум был полон Пётр?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788000" y="17460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На берегу пустынных вол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Стоял он , дум великих пол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ff"/>
                </a:solidFill>
                <a:latin typeface="Times New Roman"/>
              </a:rPr>
              <a:t>И вдаль глядел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924000" y="4508640"/>
            <a:ext cx="5219640" cy="23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Прошло сто лет, и юный град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Полнощных стран краса и диво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Из тьмы лесов, из топи бла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ff"/>
                </a:solidFill>
                <a:latin typeface="Times New Roman"/>
              </a:rPr>
              <a:t>Вознёсся пышно, горделив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6000"/>
                            </p:stCondLst>
                            <p:childTnLst>
                              <p:par>
                                <p:cTn id="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8000"/>
                            </p:stCondLst>
                            <p:childTnLst>
                              <p:par>
                                <p:cTn id="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2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20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benua"/>
          <p:cNvPicPr/>
          <p:nvPr/>
        </p:nvPicPr>
        <p:blipFill>
          <a:blip r:embed="rId1"/>
          <a:stretch/>
        </p:blipFill>
        <p:spPr>
          <a:xfrm>
            <a:off x="324000" y="306360"/>
            <a:ext cx="8567640" cy="62913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484360" y="5229360"/>
            <a:ext cx="6229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жды близ Балтийских вол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ял задумавшись глубоко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й цар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WordArt 5"/>
          <p:cNvSpPr txBox="1"/>
          <p:nvPr/>
        </p:nvSpPr>
        <p:spPr>
          <a:xfrm>
            <a:off x="324000" y="260280"/>
            <a:ext cx="2600280" cy="24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агляне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чернов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оэ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96" name="WordArt 6"/>
          <p:cNvSpPr txBox="1"/>
          <p:nvPr/>
        </p:nvSpPr>
        <p:spPr>
          <a:xfrm rot="1343400">
            <a:off x="6372360" y="836280"/>
            <a:ext cx="2305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267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озьм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267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2676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а заметку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2676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543640" y="2421000"/>
            <a:ext cx="36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- воплощение власти; важно не имя, важен символ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ётр показан со спи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!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2124000" y="1305000"/>
            <a:ext cx="43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 берегу Варяжских  вол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тоял глубокой думы полн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еликий Пётр…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50920" y="3357720"/>
            <a:ext cx="55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днажды близ пустынных вол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оял задумавшись глубок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ликий муж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р07"/>
          <p:cNvPicPr/>
          <p:nvPr/>
        </p:nvPicPr>
        <p:blipFill>
          <a:blip r:embed="rId1"/>
          <a:stretch/>
        </p:blipFill>
        <p:spPr>
          <a:xfrm>
            <a:off x="4716360" y="3100320"/>
            <a:ext cx="4356360" cy="371340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pic>
        <p:nvPicPr>
          <p:cNvPr id="201" name="Picture 5" descr="р05"/>
          <p:cNvPicPr/>
          <p:nvPr/>
        </p:nvPicPr>
        <p:blipFill>
          <a:blip r:embed="rId2"/>
          <a:stretch/>
        </p:blipFill>
        <p:spPr>
          <a:xfrm>
            <a:off x="108000" y="73080"/>
            <a:ext cx="3651120" cy="486864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166560" y="87120"/>
            <a:ext cx="630108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ительна находка Пушкин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сопоставляет Евг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 с Петром- человеком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со статуей Петр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дный всадни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имв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ударственной власти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вобождённой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еловеческого нача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WordArt 6"/>
          <p:cNvSpPr txBox="1"/>
          <p:nvPr/>
        </p:nvSpPr>
        <p:spPr>
          <a:xfrm>
            <a:off x="755640" y="3932280"/>
            <a:ext cx="504036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7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еличествен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троги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орд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шитель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ласт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уров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гнев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              </a:t>
            </a: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безжалостный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4" name="WordArt 7"/>
          <p:cNvSpPr txBox="1"/>
          <p:nvPr/>
        </p:nvSpPr>
        <p:spPr>
          <a:xfrm>
            <a:off x="2411280" y="2781360"/>
            <a:ext cx="4464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4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990000"/>
                  </a:outerShdw>
                </a:effectLst>
                <a:latin typeface="Arial"/>
              </a:rPr>
              <a:t>Подбери эпитет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53753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6750"/>
                            </p:stCondLst>
                            <p:childTnLst>
                              <p:par>
                                <p:cTn id="1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250"/>
                            </p:stCondLst>
                            <p:childTnLst>
                              <p:par>
                                <p:cTn id="1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9700"/>
                            </p:stCondLst>
                            <p:childTnLst>
                              <p:par>
                                <p:cTn id="16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950"/>
                            </p:stCondLst>
                            <p:childTnLst>
                              <p:par>
                                <p:cTn id="1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2400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3950"/>
                            </p:stCondLst>
                            <p:childTnLst>
                              <p:par>
                                <p:cTn id="1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150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6600"/>
                            </p:stCondLst>
                            <p:childTnLst>
                              <p:par>
                                <p:cTn id="1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1600"/>
                            </p:stCondLst>
                            <p:childTnLst>
                              <p:par>
                                <p:cTn id="1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karazin"/>
          <p:cNvPicPr/>
          <p:nvPr/>
        </p:nvPicPr>
        <p:blipFill>
          <a:blip r:embed="rId1"/>
          <a:stretch/>
        </p:blipFill>
        <p:spPr>
          <a:xfrm>
            <a:off x="174600" y="1557360"/>
            <a:ext cx="3749760" cy="5300640"/>
          </a:xfrm>
          <a:prstGeom prst="rect">
            <a:avLst/>
          </a:prstGeom>
          <a:ln w="76320">
            <a:solidFill>
              <a:srgbClr val="feec94"/>
            </a:solidFill>
            <a:miter/>
          </a:ln>
        </p:spPr>
      </p:pic>
      <p:sp>
        <p:nvSpPr>
          <p:cNvPr id="206" name="WordArt 6"/>
          <p:cNvSpPr txBox="1"/>
          <p:nvPr/>
        </p:nvSpPr>
        <p:spPr>
          <a:xfrm rot="212400">
            <a:off x="0" y="0"/>
            <a:ext cx="83883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950000"/>
                </a:gradFill>
                <a:latin typeface="Impact"/>
              </a:rPr>
              <a:t>Встреча Евгения с "кумиром на бронзовом кон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950000"/>
              </a:gradFill>
              <a:latin typeface="Impact"/>
              <a:ea typeface="Impact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924360" y="1557360"/>
            <a:ext cx="521964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КУМИР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зваяние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ожествлённая стату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предмет восхищения, прекло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71280" y="5091120"/>
            <a:ext cx="39960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И, обращён к нему спиною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В неколебимой вышине,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Над возмущённою Нево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Стоит с простёртою рукою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9900"/>
                </a:solidFill>
                <a:latin typeface="Arial"/>
              </a:rPr>
              <a:t>Кумир на бронзовом кон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924360" y="3284640"/>
            <a:ext cx="525600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русском языке существует фразеологизм «</a:t>
            </a:r>
            <a:r>
              <a:rPr b="1" i="1" lang="ru-RU" sz="2600" spc="-1" strike="noStrike">
                <a:solidFill>
                  <a:srgbClr val="ffffff"/>
                </a:solidFill>
                <a:latin typeface="Arial"/>
              </a:rPr>
              <a:t>Повернуться спино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», который обозначает равнодушие, невнимание к кому или чему-либо; нежелание проявлять участие, заинтересованность в ком или в чём-либо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0:00:28Z</dcterms:created>
  <dc:creator>student</dc:creator>
  <dc:description/>
  <dc:language>en-US</dc:language>
  <cp:lastModifiedBy>Катя</cp:lastModifiedBy>
  <dcterms:modified xsi:type="dcterms:W3CDTF">2017-09-14T18:51:55Z</dcterms:modified>
  <cp:revision>23</cp:revision>
  <dc:subject/>
  <dc:title>Конфликт  человек и власти в поэме А.С.Пушкина «Медный всадник»</dc:title>
</cp:coreProperties>
</file>