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35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FBE-E628-4F8B-B3A0-880A45A7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80C-967F-42ED-BF8A-6F6CCB0F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4C40-01C9-4A24-A7B1-F8F4CF0C4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DA2-93D8-421B-A55E-87BC2C350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962-F4A8-4F60-9477-3FB6ADAC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FC6-24D9-4A38-9A7D-88DEFDCD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E89-19B9-4881-9D1E-16A1C823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A33C-D802-4E9F-9B9E-9CFF7DCE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36E1-5E0D-4914-9D8D-81032A57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69E-7F8C-4BED-B382-9350AF77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68FD-A29E-4197-A2A4-5ABFB965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ACF8-9DB5-44C7-A316-6CED7324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3C89-381F-422F-879C-A6756A1CF055}" type="slidenum">
              <a:rPr b="0" lang="ru-RU" sz="12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image" Target="../media/image35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2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254670_42454-7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1547640" y="18900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rebuchet MS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WordArt 11"/>
          <p:cNvSpPr txBox="1"/>
          <p:nvPr/>
        </p:nvSpPr>
        <p:spPr>
          <a:xfrm>
            <a:off x="1908000" y="5805360"/>
            <a:ext cx="554544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вет, Никита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6" descr="D:\танюшка\Детский сад\НАТАШЕ\презентация МАША\мост.jpg"/>
          <p:cNvPicPr/>
          <p:nvPr/>
        </p:nvPicPr>
        <p:blipFill>
          <a:blip r:embed="rId1"/>
          <a:stretch/>
        </p:blipFill>
        <p:spPr>
          <a:xfrm>
            <a:off x="722160" y="3286080"/>
            <a:ext cx="7201080" cy="5397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D:\танюшка\Детский сад\НАТАШЕ\презентация МАША\мост.jpg"/>
          <p:cNvPicPr/>
          <p:nvPr/>
        </p:nvPicPr>
        <p:blipFill>
          <a:blip r:embed="rId2"/>
          <a:stretch/>
        </p:blipFill>
        <p:spPr>
          <a:xfrm>
            <a:off x="6156360" y="1484280"/>
            <a:ext cx="1928880" cy="432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9"/>
          <p:cNvSpPr/>
          <p:nvPr/>
        </p:nvSpPr>
        <p:spPr>
          <a:xfrm>
            <a:off x="250920" y="26028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моги Маше перейти мостик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дбери слова «наоборот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9"/>
          <p:cNvSpPr/>
          <p:nvPr/>
        </p:nvSpPr>
        <p:spPr>
          <a:xfrm>
            <a:off x="357120" y="14288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Маленьки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8" descr="D:\танюшка\Детский сад\НАТАШЕ\презентация МАША\мост.jpg"/>
          <p:cNvPicPr/>
          <p:nvPr/>
        </p:nvPicPr>
        <p:blipFill>
          <a:blip r:embed="rId3"/>
          <a:stretch/>
        </p:blipFill>
        <p:spPr>
          <a:xfrm>
            <a:off x="2571840" y="1500120"/>
            <a:ext cx="1928880" cy="432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2411280" y="1413000"/>
            <a:ext cx="20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больш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572000" y="14130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Гладки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6012000" y="1484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шершавы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357120" y="2214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Узки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18" descr="D:\танюшка\Детский сад\НАТАШЕ\презентация МАША\мост.jpg"/>
          <p:cNvPicPr/>
          <p:nvPr/>
        </p:nvPicPr>
        <p:blipFill>
          <a:blip r:embed="rId4"/>
          <a:stretch/>
        </p:blipFill>
        <p:spPr>
          <a:xfrm>
            <a:off x="1785960" y="2286000"/>
            <a:ext cx="1928880" cy="4316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1785960" y="2214720"/>
            <a:ext cx="20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широ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4929120" y="22147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Плохой 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18" descr="D:\танюшка\Детский сад\НАТАШЕ\презентация МАША\мост.jpg"/>
          <p:cNvPicPr/>
          <p:nvPr/>
        </p:nvPicPr>
        <p:blipFill>
          <a:blip r:embed="rId5"/>
          <a:stretch/>
        </p:blipFill>
        <p:spPr>
          <a:xfrm>
            <a:off x="6643800" y="2286000"/>
            <a:ext cx="1928880" cy="4316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6643800" y="2214720"/>
            <a:ext cx="20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хорош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4" descr="D:\танюшка\Детский сад\НАТАШЕ\презентация МАША\b99fcb3c3602e635b213eb8ce0ff993d.png"/>
          <p:cNvPicPr/>
          <p:nvPr/>
        </p:nvPicPr>
        <p:blipFill>
          <a:blip r:embed="rId6"/>
          <a:stretch/>
        </p:blipFill>
        <p:spPr>
          <a:xfrm>
            <a:off x="6643800" y="3025800"/>
            <a:ext cx="25606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3 0.00833 L 0.32604 0.58588 E">
                                      <p:cBhvr>
                                        <p:cTn id="169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3 0.00833 L -0.25295 0.48079 E">
                                      <p:cBhvr>
                                        <p:cTn id="184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4 0.00834 L 0.07327 0.36621 E">
                                      <p:cBhvr>
                                        <p:cTn id="199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2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414 0.00834 L -0.61545 0.4713 E">
                                      <p:cBhvr>
                                        <p:cTn id="214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2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05556E-006 0 C -0.03889 -0.06319 -0.07778 -0.12639 -0.13403 -0.16551 C -0.19028 -0.20463 -0.27153 -0.22523 -0.33716 -0.23426 C -0.40278 -0.24328 -0.46945 -0.23958 -0.52761 -0.21921 C -0.58542 -0.19884 -0.64601 -0.15254 -0.6856 -0.1118 C -0.72518 -0.07106 -0.74497 -0.02268 -0.76459 0.02593 E">
                                      <p:cBhvr>
                                        <p:cTn id="21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Овал 1"/>
          <p:cNvSpPr/>
          <p:nvPr/>
        </p:nvSpPr>
        <p:spPr>
          <a:xfrm>
            <a:off x="3780000" y="692280"/>
            <a:ext cx="1728720" cy="187308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А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Овал 2"/>
          <p:cNvSpPr/>
          <p:nvPr/>
        </p:nvSpPr>
        <p:spPr>
          <a:xfrm>
            <a:off x="5796000" y="765000"/>
            <a:ext cx="936720" cy="1800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О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Овал 3"/>
          <p:cNvSpPr/>
          <p:nvPr/>
        </p:nvSpPr>
        <p:spPr>
          <a:xfrm>
            <a:off x="7093080" y="836640"/>
            <a:ext cx="1366560" cy="15127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rebuchet MS"/>
              </a:rPr>
              <a:t>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5"/>
          <p:cNvSpPr/>
          <p:nvPr/>
        </p:nvSpPr>
        <p:spPr>
          <a:xfrm>
            <a:off x="2411280" y="5445000"/>
            <a:ext cx="865440" cy="703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  <a:ea typeface="Arial"/>
              </a:rPr>
              <a:t>Ш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Равнобедренный треугольник 6"/>
          <p:cNvSpPr/>
          <p:nvPr/>
        </p:nvSpPr>
        <p:spPr>
          <a:xfrm>
            <a:off x="4284720" y="2565360"/>
            <a:ext cx="574560" cy="282600"/>
          </a:xfrm>
          <a:prstGeom prst="triangle">
            <a:avLst>
              <a:gd name="adj" fmla="val 5319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Равнобедренный треугольник 7"/>
          <p:cNvSpPr/>
          <p:nvPr/>
        </p:nvSpPr>
        <p:spPr>
          <a:xfrm>
            <a:off x="5977080" y="2608200"/>
            <a:ext cx="574560" cy="282600"/>
          </a:xfrm>
          <a:prstGeom prst="triangle">
            <a:avLst>
              <a:gd name="adj" fmla="val 5319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Равнобедренный треугольник 8"/>
          <p:cNvSpPr/>
          <p:nvPr/>
        </p:nvSpPr>
        <p:spPr>
          <a:xfrm>
            <a:off x="7254720" y="2349360"/>
            <a:ext cx="576360" cy="282600"/>
          </a:xfrm>
          <a:prstGeom prst="triangle">
            <a:avLst>
              <a:gd name="adj" fmla="val 53190"/>
            </a:avLst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ая соединительная линия 11"/>
          <p:cNvSpPr/>
          <p:nvPr/>
        </p:nvSpPr>
        <p:spPr>
          <a:xfrm flipV="1">
            <a:off x="2664000" y="2847600"/>
            <a:ext cx="1927080" cy="3089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ая соединительная линия 14"/>
          <p:cNvSpPr/>
          <p:nvPr/>
        </p:nvSpPr>
        <p:spPr>
          <a:xfrm flipV="1">
            <a:off x="3059280" y="2890800"/>
            <a:ext cx="3205080" cy="3046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16"/>
          <p:cNvSpPr/>
          <p:nvPr/>
        </p:nvSpPr>
        <p:spPr>
          <a:xfrm flipV="1">
            <a:off x="3059280" y="2631600"/>
            <a:ext cx="4502160" cy="3305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254670_42454-700x500"/>
          <p:cNvPicPr/>
          <p:nvPr/>
        </p:nvPicPr>
        <p:blipFill>
          <a:blip r:embed="rId1"/>
          <a:srcRect l="35695" t="9854" r="35659" b="2540"/>
          <a:stretch/>
        </p:blipFill>
        <p:spPr>
          <a:xfrm>
            <a:off x="826920" y="3598920"/>
            <a:ext cx="118620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9"/>
          <p:cNvSpPr/>
          <p:nvPr/>
        </p:nvSpPr>
        <p:spPr>
          <a:xfrm>
            <a:off x="285840" y="500040"/>
            <a:ext cx="84963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rebuchet MS"/>
                <a:ea typeface="Arial"/>
              </a:rPr>
              <a:t>Молодец  Никита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До новых встре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3" descr="D:\танюшка\Детский сад\НАТАШЕ\презентация МАША\c9b869d9-1d7e-43c6-a29f-475f9a7e6170.jpg"/>
          <p:cNvPicPr/>
          <p:nvPr/>
        </p:nvPicPr>
        <p:blipFill>
          <a:blip r:embed="rId1"/>
          <a:stretch/>
        </p:blipFill>
        <p:spPr>
          <a:xfrm>
            <a:off x="2071800" y="1738440"/>
            <a:ext cx="4601880" cy="51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4"/>
          <p:cNvSpPr/>
          <p:nvPr/>
        </p:nvSpPr>
        <p:spPr>
          <a:xfrm>
            <a:off x="1500120" y="1500120"/>
            <a:ext cx="635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Все ребята по поряд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Утром делают заряд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Язычок наш хочет то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rebuchet MS"/>
                <a:ea typeface="Arial"/>
              </a:rPr>
              <a:t>На детишек быть похо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9" descr="D:\танюшка\Детский сад\НАТАШЕ\презентация МАША\6602631.jpg"/>
          <p:cNvPicPr/>
          <p:nvPr/>
        </p:nvPicPr>
        <p:blipFill>
          <a:blip r:embed="rId1"/>
          <a:stretch/>
        </p:blipFill>
        <p:spPr>
          <a:xfrm>
            <a:off x="214200" y="3500280"/>
            <a:ext cx="2752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1276452557_8f47616ba909fcf8bd156508e8ad981d копия"/>
          <p:cNvPicPr/>
          <p:nvPr/>
        </p:nvPicPr>
        <p:blipFill>
          <a:blip r:embed="rId1"/>
          <a:stretch/>
        </p:blipFill>
        <p:spPr>
          <a:xfrm>
            <a:off x="4859280" y="765000"/>
            <a:ext cx="4284720" cy="3151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original копия"/>
          <p:cNvPicPr/>
          <p:nvPr/>
        </p:nvPicPr>
        <p:blipFill>
          <a:blip r:embed="rId2"/>
          <a:stretch/>
        </p:blipFill>
        <p:spPr>
          <a:xfrm>
            <a:off x="826920" y="3068640"/>
            <a:ext cx="3313440" cy="25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2844 C 0.03316 -0.05665 0.0665 -0.08463 0.10452 -0.09619 C 0.14254 -0.10798 0.18906 -0.11422 0.22847 -0.0985 C 0.26788 -0.08254 0.30035 -0.01942 0.34115 -0.00023 C 0.38212 0.01896 0.42934 0.02774 0.47327 0.0178 C 0.51736 0.00832 0.56893 -0.03838 0.60521 -0.05827 C 0.6415 -0.07838 0.6625 -0.09734 0.69063 -0.10243 C 0.71875 -0.10728 0.75677 -0.09549 0.77431 -0.08833 C 0.79167 -0.08116 0.79341 -0.06983 0.79531 -0.05827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30040" y="4527720"/>
            <a:ext cx="835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382680" y="4680000"/>
            <a:ext cx="83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rebuchet MS"/>
                <a:ea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D:\танюшка\Детский сад\НАТАШЕ\презентация МАША\машка.jpg"/>
          <p:cNvPicPr/>
          <p:nvPr/>
        </p:nvPicPr>
        <p:blipFill>
          <a:blip r:embed="rId1"/>
          <a:stretch/>
        </p:blipFill>
        <p:spPr>
          <a:xfrm>
            <a:off x="2771640" y="549360"/>
            <a:ext cx="4321440" cy="58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8"/>
          <p:cNvSpPr/>
          <p:nvPr/>
        </p:nvSpPr>
        <p:spPr>
          <a:xfrm>
            <a:off x="4643280" y="5013360"/>
            <a:ext cx="410400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324000" y="1628640"/>
            <a:ext cx="4103640" cy="165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324000" y="5084640"/>
            <a:ext cx="4103640" cy="1584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15"/>
          <p:cNvSpPr/>
          <p:nvPr/>
        </p:nvSpPr>
        <p:spPr>
          <a:xfrm>
            <a:off x="324000" y="3357720"/>
            <a:ext cx="4103640" cy="1655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572000" y="3357720"/>
            <a:ext cx="4103640" cy="1655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250920" y="2602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моги Маше добавить недостающие части слов и проговори их цел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Картинки помогут справиться с задани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5" descr="ep03sc00800011_700x700 копия"/>
          <p:cNvPicPr/>
          <p:nvPr/>
        </p:nvPicPr>
        <p:blipFill>
          <a:blip r:embed="rId1"/>
          <a:stretch/>
        </p:blipFill>
        <p:spPr>
          <a:xfrm>
            <a:off x="324000" y="1628640"/>
            <a:ext cx="1377720" cy="1729080"/>
          </a:xfrm>
          <a:prstGeom prst="rect">
            <a:avLst/>
          </a:prstGeom>
          <a:ln w="0">
            <a:noFill/>
          </a:ln>
        </p:spPr>
      </p:pic>
      <p:sp>
        <p:nvSpPr>
          <p:cNvPr id="58" name="TextBox 9"/>
          <p:cNvSpPr/>
          <p:nvPr/>
        </p:nvSpPr>
        <p:spPr>
          <a:xfrm>
            <a:off x="2050920" y="213372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У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8" descr="reeds копия"/>
          <p:cNvPicPr/>
          <p:nvPr/>
        </p:nvPicPr>
        <p:blipFill>
          <a:blip r:embed="rId2"/>
          <a:stretch/>
        </p:blipFill>
        <p:spPr>
          <a:xfrm>
            <a:off x="395280" y="3357720"/>
            <a:ext cx="1600200" cy="1631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1979640" y="3933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КАМЫ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10" descr="Безимени-1"/>
          <p:cNvPicPr/>
          <p:nvPr/>
        </p:nvPicPr>
        <p:blipFill>
          <a:blip r:embed="rId3"/>
          <a:stretch/>
        </p:blipFill>
        <p:spPr>
          <a:xfrm>
            <a:off x="395280" y="5084640"/>
            <a:ext cx="1544760" cy="155736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1908000" y="566100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БАБУ _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2" descr="meshok-300x300 копия"/>
          <p:cNvPicPr/>
          <p:nvPr/>
        </p:nvPicPr>
        <p:blipFill>
          <a:blip r:embed="rId4"/>
          <a:stretch/>
        </p:blipFill>
        <p:spPr>
          <a:xfrm>
            <a:off x="4427640" y="3429000"/>
            <a:ext cx="1501560" cy="150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5b98beb84a95 копия"/>
          <p:cNvPicPr/>
          <p:nvPr/>
        </p:nvPicPr>
        <p:blipFill>
          <a:blip r:embed="rId5"/>
          <a:stretch/>
        </p:blipFill>
        <p:spPr>
          <a:xfrm>
            <a:off x="4716360" y="5229360"/>
            <a:ext cx="1052640" cy="1365120"/>
          </a:xfrm>
          <a:prstGeom prst="rect">
            <a:avLst/>
          </a:prstGeom>
          <a:ln w="0">
            <a:noFill/>
          </a:ln>
        </p:spPr>
      </p:pic>
      <p:sp>
        <p:nvSpPr>
          <p:cNvPr id="65" name="TextBox 9"/>
          <p:cNvSpPr/>
          <p:nvPr/>
        </p:nvSpPr>
        <p:spPr>
          <a:xfrm>
            <a:off x="5940360" y="393372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МЕ _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5940360" y="5734080"/>
            <a:ext cx="32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КАРАНДА _ _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2" descr="mashamedved-perviyklass копия"/>
          <p:cNvPicPr/>
          <p:nvPr/>
        </p:nvPicPr>
        <p:blipFill>
          <a:blip r:embed="rId6"/>
          <a:stretch/>
        </p:blipFill>
        <p:spPr>
          <a:xfrm>
            <a:off x="6300720" y="620640"/>
            <a:ext cx="235764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TextBox 9"/>
          <p:cNvSpPr/>
          <p:nvPr/>
        </p:nvSpPr>
        <p:spPr>
          <a:xfrm>
            <a:off x="2340000" y="213372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9"/>
          <p:cNvSpPr/>
          <p:nvPr/>
        </p:nvSpPr>
        <p:spPr>
          <a:xfrm>
            <a:off x="3132000" y="393372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Box 9"/>
          <p:cNvSpPr/>
          <p:nvPr/>
        </p:nvSpPr>
        <p:spPr>
          <a:xfrm>
            <a:off x="2987640" y="566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6588000" y="3933720"/>
            <a:ext cx="10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9"/>
          <p:cNvSpPr/>
          <p:nvPr/>
        </p:nvSpPr>
        <p:spPr>
          <a:xfrm>
            <a:off x="7775640" y="5734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rebuchet MS"/>
                <a:ea typeface="Arial"/>
              </a:rPr>
              <a:t>Ш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1276452557_8f47616ba909fcf8bd156508e8ad981d копия ррркопия"/>
          <p:cNvPicPr/>
          <p:nvPr/>
        </p:nvPicPr>
        <p:blipFill>
          <a:blip r:embed="rId1"/>
          <a:stretch/>
        </p:blipFill>
        <p:spPr>
          <a:xfrm>
            <a:off x="3564000" y="3705120"/>
            <a:ext cx="4286160" cy="3152880"/>
          </a:xfrm>
          <a:prstGeom prst="rect">
            <a:avLst/>
          </a:prstGeom>
          <a:ln w="0">
            <a:noFill/>
          </a:ln>
        </p:spPr>
      </p:pic>
      <p:sp>
        <p:nvSpPr>
          <p:cNvPr id="74" name="TextBox 9"/>
          <p:cNvSpPr/>
          <p:nvPr/>
        </p:nvSpPr>
        <p:spPr>
          <a:xfrm>
            <a:off x="250920" y="260280"/>
            <a:ext cx="849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Положи в шкаф к Маш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только одежду со звуком </a:t>
            </a:r>
            <a:r>
              <a:rPr b="1" lang="ru-RU" sz="3600" spc="-1" strike="noStrike">
                <a:solidFill>
                  <a:srgbClr val="006600"/>
                </a:solidFill>
                <a:latin typeface="Trebuchet MS"/>
                <a:ea typeface="Arial"/>
              </a:rPr>
              <a:t>Ш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43042g_12543 копия"/>
          <p:cNvPicPr/>
          <p:nvPr/>
        </p:nvPicPr>
        <p:blipFill>
          <a:blip r:embed="rId2"/>
          <a:stretch/>
        </p:blipFill>
        <p:spPr>
          <a:xfrm>
            <a:off x="5932440" y="1125360"/>
            <a:ext cx="3211560" cy="573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13907 копия"/>
          <p:cNvPicPr/>
          <p:nvPr/>
        </p:nvPicPr>
        <p:blipFill>
          <a:blip r:embed="rId3"/>
          <a:stretch/>
        </p:blipFill>
        <p:spPr>
          <a:xfrm>
            <a:off x="3924360" y="184464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392_pic копия"/>
          <p:cNvPicPr/>
          <p:nvPr/>
        </p:nvPicPr>
        <p:blipFill>
          <a:blip r:embed="rId4"/>
          <a:stretch/>
        </p:blipFill>
        <p:spPr>
          <a:xfrm>
            <a:off x="395280" y="4653000"/>
            <a:ext cx="1703520" cy="1787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children-fur копия"/>
          <p:cNvPicPr/>
          <p:nvPr/>
        </p:nvPicPr>
        <p:blipFill>
          <a:blip r:embed="rId5"/>
          <a:stretch/>
        </p:blipFill>
        <p:spPr>
          <a:xfrm>
            <a:off x="179280" y="1268280"/>
            <a:ext cx="1728720" cy="230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sharf_4 копия"/>
          <p:cNvPicPr/>
          <p:nvPr/>
        </p:nvPicPr>
        <p:blipFill>
          <a:blip r:embed="rId6"/>
          <a:stretch/>
        </p:blipFill>
        <p:spPr>
          <a:xfrm>
            <a:off x="2124000" y="170028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shapka_val копия"/>
          <p:cNvPicPr/>
          <p:nvPr/>
        </p:nvPicPr>
        <p:blipFill>
          <a:blip r:embed="rId7"/>
          <a:stretch/>
        </p:blipFill>
        <p:spPr>
          <a:xfrm>
            <a:off x="1403280" y="3213000"/>
            <a:ext cx="1441440" cy="1773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4" descr="29-3340-1 копия"/>
          <p:cNvPicPr/>
          <p:nvPr/>
        </p:nvPicPr>
        <p:blipFill>
          <a:blip r:embed="rId8"/>
          <a:stretch/>
        </p:blipFill>
        <p:spPr>
          <a:xfrm>
            <a:off x="2987640" y="3429000"/>
            <a:ext cx="1133640" cy="1297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14285_9 копия"/>
          <p:cNvPicPr/>
          <p:nvPr/>
        </p:nvPicPr>
        <p:blipFill>
          <a:blip r:embed="rId9"/>
          <a:stretch/>
        </p:blipFill>
        <p:spPr>
          <a:xfrm>
            <a:off x="2556000" y="4665600"/>
            <a:ext cx="219204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63 L 0.73247 0.16782 E">
                                      <p:cBhvr>
                                        <p:cTn id="56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19653E-006 L 0.46476 0.06289 E">
                                      <p:cBhvr>
                                        <p:cTn id="60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6185E-006 L 0.66146 -0.2726 E">
                                      <p:cBhvr>
                                        <p:cTn id="64" dur="3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0.36232 -0.31468 E">
                                      <p:cBhvr>
                                        <p:cTn id="68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9.07514E-006 L 0.36215 -0.15723 E">
                                      <p:cBhvr>
                                        <p:cTn id="72" dur="3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indefinite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43042g_12543 копия"/>
          <p:cNvPicPr/>
          <p:nvPr/>
        </p:nvPicPr>
        <p:blipFill>
          <a:blip r:embed="rId1"/>
          <a:stretch/>
        </p:blipFill>
        <p:spPr>
          <a:xfrm>
            <a:off x="3995640" y="404640"/>
            <a:ext cx="5472360" cy="645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children-fur копия"/>
          <p:cNvPicPr/>
          <p:nvPr/>
        </p:nvPicPr>
        <p:blipFill>
          <a:blip r:embed="rId2"/>
          <a:stretch/>
        </p:blipFill>
        <p:spPr>
          <a:xfrm>
            <a:off x="5003640" y="2060640"/>
            <a:ext cx="1729080" cy="2303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sharf_4 копия"/>
          <p:cNvPicPr/>
          <p:nvPr/>
        </p:nvPicPr>
        <p:blipFill>
          <a:blip r:embed="rId3"/>
          <a:stretch/>
        </p:blipFill>
        <p:spPr>
          <a:xfrm>
            <a:off x="5057640" y="765000"/>
            <a:ext cx="1727280" cy="156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shapka_val копия"/>
          <p:cNvPicPr/>
          <p:nvPr/>
        </p:nvPicPr>
        <p:blipFill>
          <a:blip r:embed="rId4"/>
          <a:stretch/>
        </p:blipFill>
        <p:spPr>
          <a:xfrm>
            <a:off x="7359480" y="773280"/>
            <a:ext cx="1441800" cy="1773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29-3340-1 копия"/>
          <p:cNvPicPr/>
          <p:nvPr/>
        </p:nvPicPr>
        <p:blipFill>
          <a:blip r:embed="rId5"/>
          <a:stretch/>
        </p:blipFill>
        <p:spPr>
          <a:xfrm>
            <a:off x="5354640" y="4780080"/>
            <a:ext cx="1133640" cy="1296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14285_9 копия"/>
          <p:cNvPicPr/>
          <p:nvPr/>
        </p:nvPicPr>
        <p:blipFill>
          <a:blip r:embed="rId6"/>
          <a:stretch/>
        </p:blipFill>
        <p:spPr>
          <a:xfrm>
            <a:off x="6937200" y="2171880"/>
            <a:ext cx="2192400" cy="2192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1276452557_8f47616ba909fcf8bd156508e8ad981d копия ррркопия"/>
          <p:cNvPicPr/>
          <p:nvPr/>
        </p:nvPicPr>
        <p:blipFill>
          <a:blip r:embed="rId7"/>
          <a:stretch/>
        </p:blipFill>
        <p:spPr>
          <a:xfrm>
            <a:off x="1714680" y="3705120"/>
            <a:ext cx="428616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1063 L 0.73247 0.16782 E">
                                      <p:cBhvr>
                                        <p:cTn id="86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19653E-006 L 0.46476 0.06289 E">
                                      <p:cBhvr>
                                        <p:cTn id="90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6185E-006 L 0.66146 -0.2726 E">
                                      <p:cBhvr>
                                        <p:cTn id="94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4.62428E-007 L 0.36232 -0.31468 E">
                                      <p:cBhvr>
                                        <p:cTn id="98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88889E-006 -9.07514E-006 L 0.36215 -0.15723 E">
                                      <p:cBhvr>
                                        <p:cTn id="102" dur="3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9"/>
          <p:cNvSpPr/>
          <p:nvPr/>
        </p:nvSpPr>
        <p:spPr>
          <a:xfrm>
            <a:off x="250920" y="260280"/>
            <a:ext cx="849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Дорогу домой Маше преграждают слова со звуком </a:t>
            </a:r>
            <a:r>
              <a:rPr b="1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Ш</a:t>
            </a:r>
            <a:r>
              <a:rPr b="0" lang="ru-RU" sz="2800" spc="-1" strike="noStrike">
                <a:solidFill>
                  <a:srgbClr val="006600"/>
                </a:solidFill>
                <a:latin typeface="Trebuchet MS"/>
                <a:ea typeface="Arial"/>
              </a:rPr>
              <a:t>, назови их правильно и Маша сможет идти дальш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Рисунок1"/>
          <p:cNvPicPr/>
          <p:nvPr/>
        </p:nvPicPr>
        <p:blipFill>
          <a:blip r:embed="rId1"/>
          <a:stretch/>
        </p:blipFill>
        <p:spPr>
          <a:xfrm>
            <a:off x="0" y="2349360"/>
            <a:ext cx="9144000" cy="4262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gril_domik_besedka копия"/>
          <p:cNvPicPr/>
          <p:nvPr/>
        </p:nvPicPr>
        <p:blipFill>
          <a:blip r:embed="rId2"/>
          <a:stretch/>
        </p:blipFill>
        <p:spPr>
          <a:xfrm>
            <a:off x="179280" y="1628640"/>
            <a:ext cx="2017800" cy="1094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МАШКА"/>
          <p:cNvPicPr/>
          <p:nvPr/>
        </p:nvPicPr>
        <p:blipFill>
          <a:blip r:embed="rId3"/>
          <a:stretch/>
        </p:blipFill>
        <p:spPr>
          <a:xfrm>
            <a:off x="7367760" y="3716280"/>
            <a:ext cx="1731960" cy="2727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f_4a34565be104e копия"/>
          <p:cNvPicPr/>
          <p:nvPr/>
        </p:nvPicPr>
        <p:blipFill>
          <a:blip r:embed="rId4"/>
          <a:stretch/>
        </p:blipFill>
        <p:spPr>
          <a:xfrm>
            <a:off x="4788000" y="3860640"/>
            <a:ext cx="1763640" cy="2492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Vareshka_1_koteiko"/>
          <p:cNvPicPr/>
          <p:nvPr/>
        </p:nvPicPr>
        <p:blipFill>
          <a:blip r:embed="rId5"/>
          <a:stretch/>
        </p:blipFill>
        <p:spPr>
          <a:xfrm>
            <a:off x="6443640" y="1989000"/>
            <a:ext cx="1285920" cy="1793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1267441219427 копия"/>
          <p:cNvPicPr/>
          <p:nvPr/>
        </p:nvPicPr>
        <p:blipFill>
          <a:blip r:embed="rId6"/>
          <a:stretch/>
        </p:blipFill>
        <p:spPr>
          <a:xfrm>
            <a:off x="4500720" y="1628640"/>
            <a:ext cx="1474560" cy="1727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1" descr="frog копия"/>
          <p:cNvPicPr/>
          <p:nvPr/>
        </p:nvPicPr>
        <p:blipFill>
          <a:blip r:embed="rId7"/>
          <a:stretch/>
        </p:blipFill>
        <p:spPr>
          <a:xfrm>
            <a:off x="2124000" y="4508640"/>
            <a:ext cx="1666800" cy="1452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cuckoo копия"/>
          <p:cNvPicPr/>
          <p:nvPr/>
        </p:nvPicPr>
        <p:blipFill>
          <a:blip r:embed="rId8"/>
          <a:stretch/>
        </p:blipFill>
        <p:spPr>
          <a:xfrm>
            <a:off x="2340000" y="1268280"/>
            <a:ext cx="1689120" cy="1689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0006-029-Myshka-reshila-razdelit-syr-popolam"/>
          <p:cNvPicPr/>
          <p:nvPr/>
        </p:nvPicPr>
        <p:blipFill>
          <a:blip r:embed="rId9"/>
          <a:stretch/>
        </p:blipFill>
        <p:spPr>
          <a:xfrm>
            <a:off x="468360" y="3284640"/>
            <a:ext cx="230508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7037E-006 L -0.30712 -0.05231 E">
                                      <p:cBhvr>
                                        <p:cTn id="11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712 -0.05225 L -0.12466 -0.33479 E">
                                      <p:cBhvr>
                                        <p:cTn id="120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407 -0.34543 L -0.33733 -0.42913 E">
                                      <p:cBhvr>
                                        <p:cTn id="12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733 -0.42913 L -0.54219 -0.04116 E">
                                      <p:cBhvr>
                                        <p:cTn id="136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2205 0.05781 C -0.7092 0.06891 -0.79636 0.08024 -0.81094 0.04301 C -0.82552 0.00578 -0.73056 -0.13387 -0.70938 -0.16624 C -0.6882 -0.19861 -0.68611 -0.17502 -0.68403 -0.15144 E">
                                      <p:cBhvr>
                                        <p:cTn id="14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4479 -0.17133 C -0.57379 -0.19768 -0.50261 -0.22381 -0.49566 -0.26843 C -0.48872 -0.31306 -0.54618 -0.37641 -0.60347 -0.43976 E">
                                      <p:cBhvr>
                                        <p:cTn id="152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2441520" cy="2298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2484360" y="2133720"/>
            <a:ext cx="1333440" cy="1211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4643280" y="754200"/>
            <a:ext cx="2089440" cy="2087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6588000" y="1989000"/>
            <a:ext cx="997200" cy="997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"/>
          <p:cNvPicPr/>
          <p:nvPr/>
        </p:nvPicPr>
        <p:blipFill>
          <a:blip r:embed="rId5"/>
          <a:stretch/>
        </p:blipFill>
        <p:spPr>
          <a:xfrm>
            <a:off x="108000" y="4797360"/>
            <a:ext cx="2232000" cy="1665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6"/>
          <a:stretch/>
        </p:blipFill>
        <p:spPr>
          <a:xfrm>
            <a:off x="2268360" y="5661000"/>
            <a:ext cx="1149480" cy="85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7"/>
          <a:stretch/>
        </p:blipFill>
        <p:spPr>
          <a:xfrm>
            <a:off x="3995640" y="4292640"/>
            <a:ext cx="1933560" cy="1933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8"/>
          <a:stretch/>
        </p:blipFill>
        <p:spPr>
          <a:xfrm>
            <a:off x="5827680" y="5016600"/>
            <a:ext cx="1074600" cy="107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1276452557_8f47616ba909fcf8bd156508e8ad981d копия"/>
          <p:cNvPicPr/>
          <p:nvPr/>
        </p:nvPicPr>
        <p:blipFill>
          <a:blip r:embed="rId9"/>
          <a:srcRect l="31931" t="2166" r="27037" b="0"/>
          <a:stretch/>
        </p:blipFill>
        <p:spPr>
          <a:xfrm>
            <a:off x="7332840" y="2593800"/>
            <a:ext cx="1757160" cy="308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1T05:14:42Z</dcterms:created>
  <dc:creator>техно</dc:creator>
  <dc:description/>
  <dc:language>en-US</dc:language>
  <cp:lastModifiedBy>Рябинка</cp:lastModifiedBy>
  <dcterms:modified xsi:type="dcterms:W3CDTF">2015-03-23T09:32:01Z</dcterms:modified>
  <cp:revision>123</cp:revision>
  <dc:subject/>
  <dc:title>Утёнок ЛУ</dc:title>
</cp:coreProperties>
</file>