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75F-4057-40CD-95CA-210CF967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1D2-14DD-4ADD-808F-B2B851AE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BFC-47B1-4E2D-87E9-2F600A59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640-AC71-4C95-BBAD-D227F563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3362-77BE-491F-A6D9-9B353EE7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3C1F-4FB0-46C6-B667-BF7C35B2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5C5D-7D44-4105-A9BA-A6F8A8C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FB20-2CE2-4645-96AD-46DA8467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9AF-7A2F-4A3E-B539-6289E2D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AA63-FCC7-4BEF-A433-0848287C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E6B0-8859-4DBD-A866-806285C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028-59F0-45D3-B59B-CC7891F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168A-DCE3-4D6D-8CC4-E11BEA1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D55D-2E55-436D-86B2-A96274FE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DEF7-4CC0-4352-8CD7-8247B68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48A-5082-438E-9549-5409E337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F0D5-0112-4B76-A709-30D91390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3007-3481-4D7F-8A95-0469BC0B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165C-0CA7-49F2-BB40-E62B016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9C3B-510C-4473-8CCB-F76EF16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91A2-9EC7-4DF4-A388-887C808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012A-D6C3-4864-9259-5391FAB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31B-3A73-49A1-AB2E-EFE958C5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46BC-5CAF-4D68-BEBC-DDF3902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830F-26D3-42C4-A6B8-9FDF6EFB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85B5-064D-4ECC-BD74-054FA53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0603-A645-42A7-9168-B63094A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C479-AE51-405F-A4DC-2D28B5DE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00B5-0A5A-46F2-90BB-289CB60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8221-F964-477F-9B1D-D89A642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A496-ECE5-4546-BDDA-CFA890BB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3EEE-25E1-4E13-8140-5204CB9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AC23-C8C6-4B4E-BE10-473E0E7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FF4-27C0-4F7E-8B96-410542AE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4971-5CB4-48ED-9A53-7BDCDF0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C4BF-8BAD-49DF-B7A6-8456774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5243-ECFF-4DC7-B81D-4675DDF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A089-C476-4653-A0A5-84BBE67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DA9C-81C8-4CBA-B445-E0544E1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4237-72C5-4EF8-BED3-45F02F7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435F-05B0-4B5F-9E44-789DB52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D8B2-D62E-4BA8-9907-64D3B72F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BE14-8363-4DCA-B6A7-F6401007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946F0-6270-4AA4-B877-118C2080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E1A-FB63-4C9A-A537-94D3B34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F066-9684-4C78-B2E2-97CC856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CF0C-6669-4DCF-BD55-97C6E34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F9BA-0DEE-4D37-BE45-EBD2A130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99A9-B239-4F90-A11D-6D64C25C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670A-5475-4B12-BBF2-BE771A75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B0DC7-BEAC-4A17-A9BB-F8B8E8B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70C0-5AB3-4BDD-8054-EDD8B59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C74A1-7F5E-479D-AE3A-9894D73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FFC2-82D6-441F-8281-85E0B61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32F1-1551-454F-8F79-FDD5427E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AF3-F272-4D50-A145-7994627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DE99-E656-4A9A-A0F2-4CC137B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9967-8114-4A39-B568-9E82D282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B2A7-F517-4BD3-B093-9CF4DF17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DFF8-4372-42F3-B1C3-060F628A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3A2C-4F95-4381-8CE4-96D8D61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3D8A-1B83-4E27-892D-5661902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2511-B270-4913-B0B2-A068C4B6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FDFD4-99BA-44F8-93AB-B27C1AC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DCCB-DE9F-483D-813A-C3980F6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5197-0546-457A-9124-0FEF26B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5B6-A4E4-4328-89C1-E3BB31E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2223-384E-45B9-B737-2B839E68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A43C-BDB8-4744-B9FA-DFD06288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481D-BFC8-4BC7-9300-FF59A275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A3B-5ADA-425A-AB0F-5FCFC37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A09-F135-4063-90CE-468D2E5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28A1-E356-43C5-8D12-386BCF1A95D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B00-CA96-4744-80B4-E3DEACCE11D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624-5190-4DED-BB38-E55B6E258AA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26C2-85E2-44F0-B539-CFB2A8BB1BA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93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BB69-3B71-4220-873C-8CA9BA82D9F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240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BD8-F2A9-4463-B240-73DDE822874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Edwardian Script ITC"/>
              </a:rPr>
              <a:t>УМНОЖЕНИЕ И ДЕЛЕНИЕ ОБЫКНОВЕННЫХ ДРОБЕЙ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Кузнецова А.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00015950"/>
          <p:cNvPicPr/>
          <p:nvPr/>
        </p:nvPicPr>
        <p:blipFill>
          <a:blip r:embed="rId2"/>
          <a:stretch/>
        </p:blipFill>
        <p:spPr>
          <a:xfrm>
            <a:off x="-1523880" y="-623880"/>
            <a:ext cx="12191760" cy="81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entury Gothic"/>
              </a:rPr>
              <a:t>ДОМАШНЕЕ ЗАДАНИЕ: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1280" y="3500280"/>
            <a:ext cx="79214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0f496f"/>
                </a:solidFill>
                <a:latin typeface="Century Gothic"/>
              </a:rPr>
              <a:t>Параграф 19;  № 710, №716 (в, г)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С П А С И Б О </a:t>
            </a:r>
            <a:br>
              <a:rPr sz="86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 З А </a:t>
            </a:r>
            <a:br>
              <a:rPr sz="86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 У Р О К.</a:t>
            </a:r>
            <a:endParaRPr b="0" lang="en-US" sz="8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-0.00023 C 0.00694 -0.01341 0.01406 -0.02797 0.02101 -0.0467 C 0.03993 -0.09988 0.04497 -0.1519 0.03108 -0.15977 C 0.01701 -0.16925 -0.01007 -0.13202 -0.02899 -0.07861 C -0.03906 -0.05063 -0.44392 0.13573 -0.44601 0.15607 C -0.44896 0.17203 -0.05104 0.02798 -0.05104 0.04671 C -0.05104 0.10659 -0.17066 0.69734 -0.15556 0.69734 C -0.14062 0.69734 0.00503 0.10659 0.00503 0.04671 C 0.00503 0.01873 0.00208 -0.00809 -0.00295 -0.02659 C -0.00503 -0.04277 -0.01007 -0.06034 -0.01597 -0.07722 C -0.03594 -0.13202 -0.06302 -0.16925 -0.07708 -0.15977 C -0.09097 -0.15075 -0.08594 -0.09988 -0.06597 -0.04531 C -0.05799 -0.02011 0.2349 0.65942 0.24601 0.67399 C 0.25399 0.68717 -0.01892 0.04139 -0.00694 0.05318 C 0.02899 0.09203 0.25017 0.35168 0.26024 0.33573 C 0.26927 0.31954 0.06406 0.0333 0.02795 -0.00393 C 0.01302 -0.02011 0.43212 0.10289 0.4191 0.0948 C 0.40712 0.08671 -0.04306 -0.05479 -0.05903 -0.05919 C -0.10295 -0.0719 -0.2875 -0.07029 -0.29045 -0.04901 C -0.29444 -0.0289 -0.11493 -0.000229999999999999 -0.07101 0.01341 C -0.05104 0.01873 -0.03194 0.02127 -0.01701 0.02012 C -0.00399 0.02012 0.12153 0.06058 0.13646 0.05665 C 0.18038 0.04301 0.20729 -0.03514 0.20313 -0.05549 C 0.20017 -0.07514 0.05694 -0.07329 0.01302 -0.06034 C -0.00799 -0.05341 -0.02708 -0.04393 -0.03993 -0.03329 C -0.05104 -0.02543 -0.06198 -0.01595 -0.07396 -0.00393 C -0.10903 0.03469 -0.30538 0.26867 -0.29531 0.28509 C -0.28628 0.30104 -0.07396 0.09203 -0.03906 0.05434 C -0.02205 0.03607 -0.00799 0.01734 0.0099 0.01318 E">
                                      <p:cBhvr>
                                        <p:cTn id="11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entury Gothic"/>
              </a:rPr>
              <a:t>ДЕЙСТВИЯ С ДРОБЯМИ: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окращение дробей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равнение дробей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ложение и вычитание дробей с одинаковым и разным знаменателем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ложение и вычитание дробей на числовом луче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Умножение и деление дроб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760" y="1742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Н А Й Д И   О Ш И Б К У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1"/>
              <p:cNvSpPr txBox="1"/>
              <p:nvPr/>
            </p:nvSpPr>
            <p:spPr>
              <a:xfrm>
                <a:off x="1258920" y="3141720"/>
                <a:ext cx="4390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6"/>
              <p:cNvSpPr txBox="1"/>
              <p:nvPr/>
            </p:nvSpPr>
            <p:spPr>
              <a:xfrm>
                <a:off x="127080" y="1974960"/>
                <a:ext cx="3078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4"/>
              <p:cNvSpPr txBox="1"/>
              <p:nvPr/>
            </p:nvSpPr>
            <p:spPr>
              <a:xfrm>
                <a:off x="3276720" y="4208400"/>
                <a:ext cx="3311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3"/>
              <p:cNvSpPr txBox="1"/>
              <p:nvPr/>
            </p:nvSpPr>
            <p:spPr>
              <a:xfrm>
                <a:off x="5194440" y="5229360"/>
                <a:ext cx="3338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37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8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0"/>
          <p:cNvSpPr/>
          <p:nvPr/>
        </p:nvSpPr>
        <p:spPr>
          <a:xfrm>
            <a:off x="0" y="38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ffff"/>
                </a:solidFill>
                <a:latin typeface="Sylfaen"/>
              </a:rPr>
              <a:t>    </a:t>
            </a:r>
            <a:r>
              <a:rPr b="1" i="1" lang="ru-RU" sz="4900" spc="-1" strike="noStrike">
                <a:solidFill>
                  <a:srgbClr val="ffffff"/>
                </a:solidFill>
                <a:latin typeface="Sylfaen"/>
              </a:rPr>
              <a:t>ПОВТОРИМ ПРАВИЛА: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Что значит сократить дробь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умножить дробь на дробь, дробь на целое число, смешанные числа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разделить дробь на дробь, дробь на целое число, дробь на смешанное число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найти дробь от числа, число по его дроби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4176720" cy="55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 algn="ctr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риант 1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620280"/>
            <a:ext cx="3898800" cy="547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риант 2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5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16"/>
              <p:cNvSpPr txBox="1"/>
              <p:nvPr/>
            </p:nvSpPr>
            <p:spPr>
              <a:xfrm>
                <a:off x="4932360" y="1341360"/>
                <a:ext cx="4032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3"/>
              <p:cNvSpPr txBox="1"/>
              <p:nvPr/>
            </p:nvSpPr>
            <p:spPr>
              <a:xfrm>
                <a:off x="5003640" y="3860640"/>
                <a:ext cx="3889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12"/>
              <p:cNvSpPr txBox="1"/>
              <p:nvPr/>
            </p:nvSpPr>
            <p:spPr>
              <a:xfrm>
                <a:off x="5076720" y="4724280"/>
                <a:ext cx="37450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1"/>
              <p:cNvSpPr txBox="1"/>
              <p:nvPr/>
            </p:nvSpPr>
            <p:spPr>
              <a:xfrm>
                <a:off x="5148360" y="5661000"/>
                <a:ext cx="3744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Rectangle 1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18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9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20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1"/>
          <p:cNvSpPr/>
          <p:nvPr/>
        </p:nvSpPr>
        <p:spPr>
          <a:xfrm>
            <a:off x="0" y="141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2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25"/>
              <p:cNvSpPr txBox="1"/>
              <p:nvPr/>
            </p:nvSpPr>
            <p:spPr>
              <a:xfrm>
                <a:off x="5038560" y="2997360"/>
                <a:ext cx="392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Rectangle 127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31"/>
              <p:cNvSpPr txBox="1"/>
              <p:nvPr/>
            </p:nvSpPr>
            <p:spPr>
              <a:xfrm>
                <a:off x="5003640" y="2205000"/>
                <a:ext cx="3889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1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3"/>
              <p:cNvSpPr txBox="1"/>
              <p:nvPr/>
            </p:nvSpPr>
            <p:spPr>
              <a:xfrm>
                <a:off x="250920" y="1413000"/>
                <a:ext cx="3600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1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35"/>
              <p:cNvSpPr txBox="1"/>
              <p:nvPr/>
            </p:nvSpPr>
            <p:spPr>
              <a:xfrm>
                <a:off x="250920" y="2133720"/>
                <a:ext cx="3600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1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39"/>
              <p:cNvSpPr txBox="1"/>
              <p:nvPr/>
            </p:nvSpPr>
            <p:spPr>
              <a:xfrm>
                <a:off x="165240" y="2941560"/>
                <a:ext cx="3671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Rectangle 1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41"/>
              <p:cNvSpPr txBox="1"/>
              <p:nvPr/>
            </p:nvSpPr>
            <p:spPr>
              <a:xfrm>
                <a:off x="250920" y="3716280"/>
                <a:ext cx="3600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43"/>
              <p:cNvSpPr txBox="1"/>
              <p:nvPr/>
            </p:nvSpPr>
            <p:spPr>
              <a:xfrm>
                <a:off x="179280" y="4365720"/>
                <a:ext cx="3672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5"/>
              <p:cNvSpPr txBox="1"/>
              <p:nvPr/>
            </p:nvSpPr>
            <p:spPr>
              <a:xfrm>
                <a:off x="179280" y="4941720"/>
                <a:ext cx="4176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йд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исло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г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4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47"/>
              <p:cNvSpPr txBox="1"/>
              <p:nvPr/>
            </p:nvSpPr>
            <p:spPr>
              <a:xfrm>
                <a:off x="250920" y="5734080"/>
                <a:ext cx="36734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900" spc="-1" strike="noStrike">
                <a:solidFill>
                  <a:srgbClr val="ffffff"/>
                </a:solidFill>
                <a:latin typeface="Century Gothic"/>
              </a:rPr>
              <a:t>Т Е М А   У Р О К А:</a:t>
            </a:r>
            <a:endParaRPr b="0" lang="en-US" sz="5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700" spc="-1" strike="noStrike">
                <a:solidFill>
                  <a:srgbClr val="0f496f"/>
                </a:solidFill>
                <a:latin typeface="Edwardian Script ITC"/>
              </a:rPr>
              <a:t>«Умножение и деление обыкновенных дробей».</a:t>
            </a:r>
            <a:endParaRPr b="0" lang="en-US" sz="47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345" name="Picture 4" descr="j0282747"/>
          <p:cNvPicPr/>
          <p:nvPr/>
        </p:nvPicPr>
        <p:blipFill>
          <a:blip r:embed="rId1"/>
          <a:stretch/>
        </p:blipFill>
        <p:spPr>
          <a:xfrm>
            <a:off x="691056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О Т В Е Т Ы.</a:t>
            </a:r>
            <a:br>
              <a:rPr sz="3600"/>
            </a:br>
            <a:br>
              <a:rPr sz="1100"/>
            </a:b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ВАРИАНТ 1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8"/>
              <p:cNvSpPr txBox="1"/>
              <p:nvPr/>
            </p:nvSpPr>
            <p:spPr>
              <a:xfrm>
                <a:off x="1187280" y="2406600"/>
                <a:ext cx="1695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2"/>
              <p:cNvSpPr txBox="1"/>
              <p:nvPr/>
            </p:nvSpPr>
            <p:spPr>
              <a:xfrm>
                <a:off x="2484360" y="3479760"/>
                <a:ext cx="2230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20"/>
              <p:cNvSpPr txBox="1"/>
              <p:nvPr/>
            </p:nvSpPr>
            <p:spPr>
              <a:xfrm>
                <a:off x="1763640" y="2967120"/>
                <a:ext cx="180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22"/>
              <p:cNvSpPr txBox="1"/>
              <p:nvPr/>
            </p:nvSpPr>
            <p:spPr>
              <a:xfrm>
                <a:off x="3494160" y="4379760"/>
                <a:ext cx="2195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6"/>
              <p:cNvSpPr txBox="1"/>
              <p:nvPr/>
            </p:nvSpPr>
            <p:spPr>
              <a:xfrm>
                <a:off x="250920" y="1413000"/>
                <a:ext cx="193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24"/>
              <p:cNvSpPr txBox="1"/>
              <p:nvPr/>
            </p:nvSpPr>
            <p:spPr>
              <a:xfrm>
                <a:off x="4643280" y="5013360"/>
                <a:ext cx="251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25"/>
              <p:cNvSpPr txBox="1"/>
              <p:nvPr/>
            </p:nvSpPr>
            <p:spPr>
              <a:xfrm>
                <a:off x="5940360" y="5805360"/>
                <a:ext cx="1957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Ц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Picture 226" descr="j0282747"/>
          <p:cNvPicPr/>
          <p:nvPr/>
        </p:nvPicPr>
        <p:blipFill>
          <a:blip r:embed="rId1"/>
          <a:stretch/>
        </p:blipFill>
        <p:spPr>
          <a:xfrm>
            <a:off x="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О Т В Е Т Ы.</a:t>
            </a:r>
            <a:br>
              <a:rPr sz="3600"/>
            </a:br>
            <a:br>
              <a:rPr sz="1600"/>
            </a:b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ВАРИАНТ 2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250920" y="1792440"/>
                <a:ext cx="15112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403280" y="2558880"/>
                <a:ext cx="165744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2700360" y="3298680"/>
                <a:ext cx="1719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0"/>
              <p:cNvSpPr txBox="1"/>
              <p:nvPr/>
            </p:nvSpPr>
            <p:spPr>
              <a:xfrm>
                <a:off x="3851280" y="4086360"/>
                <a:ext cx="1720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2"/>
              <p:cNvSpPr txBox="1"/>
              <p:nvPr/>
            </p:nvSpPr>
            <p:spPr>
              <a:xfrm>
                <a:off x="5148360" y="4869000"/>
                <a:ext cx="2328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3"/>
              <p:cNvSpPr txBox="1"/>
              <p:nvPr/>
            </p:nvSpPr>
            <p:spPr>
              <a:xfrm>
                <a:off x="6659640" y="5445000"/>
                <a:ext cx="216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Picture 14" descr="j0282747"/>
          <p:cNvPicPr/>
          <p:nvPr/>
        </p:nvPicPr>
        <p:blipFill>
          <a:blip r:embed="rId1"/>
          <a:stretch/>
        </p:blipFill>
        <p:spPr>
          <a:xfrm>
            <a:off x="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ee6fd"/>
                </a:solidFill>
                <a:latin typeface="Arial Narrow"/>
              </a:rPr>
              <a:t>Р Е Ш И Т Е   З А Д А Ч У: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7499520" cy="39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Куколки бабочек выносят температуру 6</a:t>
            </a:r>
            <a:r>
              <a:rPr b="0" i="1" lang="ru-RU" sz="3300" spc="-1" strike="noStrike" baseline="30000">
                <a:solidFill>
                  <a:srgbClr val="0f496f"/>
                </a:solidFill>
                <a:latin typeface="Arial Narrow"/>
              </a:rPr>
              <a:t>0 </a:t>
            </a: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холода, то составляет 2/3</a:t>
            </a:r>
            <a:r>
              <a:rPr b="0" i="1" lang="ru-RU" sz="3300" spc="-1" strike="noStrike" baseline="30000">
                <a:solidFill>
                  <a:srgbClr val="0f496f"/>
                </a:solidFill>
                <a:latin typeface="Arial Narrow"/>
              </a:rPr>
              <a:t> </a:t>
            </a: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температуры которую выдерживают бабочки, и 2/15 температуры, которую выдерживают гусеницы бабочек. Определить сколько градусов холода выдерживают бабочки и их гусеницы.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6:42Z</dcterms:created>
  <dc:creator>Юлия</dc:creator>
  <dc:description/>
  <dc:language>en-US</dc:language>
  <cp:lastModifiedBy>user</cp:lastModifiedBy>
  <dcterms:modified xsi:type="dcterms:W3CDTF">2017-10-02T23:18:58Z</dcterms:modified>
  <cp:revision>32</cp:revision>
  <dc:subject/>
  <dc:title>Тема урока: «».</dc:title>
</cp:coreProperties>
</file>