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FE514-7548-4CA7-ADFA-3CB7B927E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0A844-43F9-42AE-B352-7BDD0626C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5C71B-0B0C-4465-93DF-7E6AE11D7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74932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96548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3316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74932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496548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47080-F366-4C0B-B151-4854CE86A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46A36-C93E-4AB0-86A9-910DDCB5C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72180-1E6D-45E3-B551-B124954F6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511C1-631D-4FED-AF85-5CB5D9CCF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05463-BFBA-4A08-B8B2-800B369A8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973D4-A594-4F69-A68C-C094AE9FC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533160" y="4495680"/>
            <a:ext cx="655452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BD4B3-C6B2-4647-9AE5-AADCD7704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7EA38-228C-472F-A937-7080D1262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C7CAA-004B-441E-BC06-DC0394658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17D91-5EA0-4C0C-9834-DFBFE6C3D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9DAF3-AD06-4025-B39D-54B3AEBB2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0FDFC-1F9C-44AE-A527-153CB1C30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0E1A6-F8E5-4E4A-A707-4917DE742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274932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96548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3316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274932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496548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70232-97E0-49B2-BACE-15E4FECD8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FEED3D-474E-44E2-BA6F-2BC569E60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931E6B-DF40-4B27-97B4-FE0C7FBCC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2F30DF-637E-48AF-99C2-19BCB7DB7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B1B8F0-505D-4BF9-8056-B407EBD02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248307-E32A-41D1-A6A2-D5BB6AF31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887DE-292E-4AE7-ADAF-CA2C35392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533160" y="4495680"/>
            <a:ext cx="655452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5DC66D-8FA1-44F2-A2F0-E768AC85E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B93E73-F19D-40FB-B820-4571BBF22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F76908-92F5-4958-B945-B75238152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F2641D-FC1F-4C97-8B25-CC5B20A2B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5834D2-4335-4968-9088-153B7A8C5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6E7541-A3B2-4510-901A-B774B5755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274932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96548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53316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274932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496548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BD1B9E-7A18-4633-9A36-DAF7DCAF5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C3457E-210E-49C0-9622-A18EAFC97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0B7BE6-E077-4095-8162-870BA1DCA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39E430-FBD5-481B-9C0C-B8E6C9DA8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60058-98B0-4126-B4F0-053C1E6EA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94551D-73EF-4B51-8BAB-FA5AD4FAF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8F5BE9-3E94-4C97-A249-509D25F79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533160" y="4495680"/>
            <a:ext cx="655452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29C153-43AC-4CF0-A43E-AAF006D4A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665F13-0CE7-474F-926D-C652BC4F3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F8B31F-563A-4B8E-B675-13E3E3DEA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B48F74-54BA-45E8-828E-664FA2A4C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500F7E-FCF2-4FA5-9DE2-BF7B28452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944F0B-162B-4144-9693-33D15055F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4932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96548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53316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4932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496548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6CBC6C-6F78-483D-8092-41C307EB6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5209C6-068C-4F52-88A1-0F9EF9C5D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767CC-7EB1-4D65-AB07-2DA8CA75C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AB0B7D-3454-4495-8FEF-F837E9C6F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7EF1BC-8E53-4CED-A09E-6C338D2E9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9CD837-EC4C-4E7E-A206-C5466065B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A08E1C-AC7C-4580-B143-D4C227187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533160" y="4495680"/>
            <a:ext cx="655452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CD65AF-C686-4580-819F-0AD27EFF2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84C868-CF18-44A9-ADE4-2D9D05BC6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E32C2A-8163-40FA-B111-805324020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A3314B-E0D1-4EED-9227-473EA77BB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622F7D-C9E7-4A62-B09E-01B981DE2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0BDAA5-478D-4A7E-BFC3-36D801BB2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533160" y="4495680"/>
            <a:ext cx="655452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F4332-64E2-49F0-8C21-B65BF2F1A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274932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96548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53316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274932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496548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573E47-855F-44CA-BA00-7F65CFC27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3F87AF-FA07-4289-9B0B-FC8673A98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67B75B-E020-44F4-BF08-72C04BB81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288799-5AB4-4A27-8E1D-543E1F305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ACE4C5-D0A2-49DE-B84A-8E54521A6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975580-E794-4C96-8526-9BF093D1F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533160" y="4495680"/>
            <a:ext cx="655452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E17ECC-8CD2-4923-991A-885B053BF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1D376E-0FC4-4168-8579-31A06EA80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431019-D82E-4F69-907A-58DE1FF3A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660E8B-F711-4278-9A0B-ECC188BE0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5589C-AB51-4623-BDC9-6D8F81A85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E20F84-B43F-4239-A3C8-59140BBC0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0052A7-6126-40EF-9D57-141BC3875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274932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96548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53316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274932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496548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DFB288-C60C-45B6-AE83-E99A9726D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66CBC-7B90-4FBC-913C-7DC6FD94C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B7B70-0654-4D2D-B561-93090CC4F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"/>
          <p:cNvGrpSpPr/>
          <p:nvPr/>
        </p:nvGrpSpPr>
        <p:grpSpPr>
          <a:xfrm>
            <a:off x="6670440" y="3894120"/>
            <a:ext cx="2470320" cy="2658960"/>
            <a:chOff x="6670440" y="3894120"/>
            <a:chExt cx="2470320" cy="2658960"/>
          </a:xfrm>
        </p:grpSpPr>
        <p:sp>
          <p:nvSpPr>
            <p:cNvPr id="1" name="Straight Connector 7"/>
            <p:cNvSpPr/>
            <p:nvPr/>
          </p:nvSpPr>
          <p:spPr>
            <a:xfrm flipH="1">
              <a:off x="8384760" y="3894120"/>
              <a:ext cx="756000" cy="75636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Straight Connector 8"/>
            <p:cNvSpPr/>
            <p:nvPr/>
          </p:nvSpPr>
          <p:spPr>
            <a:xfrm flipH="1">
              <a:off x="6670440" y="4082040"/>
              <a:ext cx="2469960" cy="247104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Straight Connector 9"/>
            <p:cNvSpPr/>
            <p:nvPr/>
          </p:nvSpPr>
          <p:spPr>
            <a:xfrm flipH="1">
              <a:off x="7569720" y="4160520"/>
              <a:ext cx="1571040" cy="157140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Straight Connector 10"/>
            <p:cNvSpPr/>
            <p:nvPr/>
          </p:nvSpPr>
          <p:spPr>
            <a:xfrm flipH="1">
              <a:off x="7694280" y="4037760"/>
              <a:ext cx="1441080" cy="14414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Straight Connector 11"/>
            <p:cNvSpPr/>
            <p:nvPr/>
          </p:nvSpPr>
          <p:spPr>
            <a:xfrm flipH="1">
              <a:off x="8088840" y="4495320"/>
              <a:ext cx="1046880" cy="10472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2" marL="12002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3" marL="15429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4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5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6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7429680" y="6172200"/>
            <a:ext cx="120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33520" y="6172200"/>
            <a:ext cx="5811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7773840" y="5578200"/>
            <a:ext cx="85752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800" spc="-1" strike="noStrike">
                <a:solidFill>
                  <a:srgbClr val="0a304a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40E72-5EC9-444D-95F3-DF0207459B6C}" type="slidenum">
              <a:rPr b="0" lang="ru-RU" sz="2800" spc="-1" strike="noStrike">
                <a:solidFill>
                  <a:srgbClr val="0a304a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15"/>
          <p:cNvGrpSpPr/>
          <p:nvPr/>
        </p:nvGrpSpPr>
        <p:grpSpPr>
          <a:xfrm>
            <a:off x="4335120" y="1170000"/>
            <a:ext cx="4815000" cy="4994280"/>
            <a:chOff x="4335120" y="1170000"/>
            <a:chExt cx="4815000" cy="4994280"/>
          </a:xfrm>
        </p:grpSpPr>
        <p:sp>
          <p:nvSpPr>
            <p:cNvPr id="48" name="Straight Connector 16"/>
            <p:cNvSpPr/>
            <p:nvPr/>
          </p:nvSpPr>
          <p:spPr>
            <a:xfrm flipH="1">
              <a:off x="6009840" y="1170000"/>
              <a:ext cx="3134880" cy="3135240"/>
            </a:xfrm>
            <a:prstGeom prst="line">
              <a:avLst/>
            </a:prstGeom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Straight Connector 18"/>
            <p:cNvSpPr/>
            <p:nvPr/>
          </p:nvSpPr>
          <p:spPr>
            <a:xfrm flipH="1">
              <a:off x="4335120" y="1348920"/>
              <a:ext cx="4815000" cy="4815360"/>
            </a:xfrm>
            <a:prstGeom prst="line">
              <a:avLst/>
            </a:prstGeom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Straight Connector 20"/>
            <p:cNvSpPr/>
            <p:nvPr/>
          </p:nvSpPr>
          <p:spPr>
            <a:xfrm flipH="1">
              <a:off x="5226120" y="1469160"/>
              <a:ext cx="3912480" cy="3912480"/>
            </a:xfrm>
            <a:prstGeom prst="line">
              <a:avLst/>
            </a:prstGeom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Straight Connector 21"/>
            <p:cNvSpPr/>
            <p:nvPr/>
          </p:nvSpPr>
          <p:spPr>
            <a:xfrm flipH="1">
              <a:off x="5304960" y="1307880"/>
              <a:ext cx="3839760" cy="3839760"/>
            </a:xfrm>
            <a:prstGeom prst="line">
              <a:avLst/>
            </a:prstGeom>
            <a:ln cap="rnd"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Straight Connector 22"/>
            <p:cNvSpPr/>
            <p:nvPr/>
          </p:nvSpPr>
          <p:spPr>
            <a:xfrm flipH="1">
              <a:off x="5707440" y="1770120"/>
              <a:ext cx="3430800" cy="3430800"/>
            </a:xfrm>
            <a:prstGeom prst="line">
              <a:avLst/>
            </a:prstGeom>
            <a:ln cap="rnd"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2" marL="12002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3" marL="15429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4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5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6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7429680" y="6172200"/>
            <a:ext cx="120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533520" y="6172200"/>
            <a:ext cx="5811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7773840" y="5578200"/>
            <a:ext cx="85752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800" spc="-1" strike="noStrike">
                <a:solidFill>
                  <a:srgbClr val="0a304a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B8364-18B8-4BB9-9C57-C63407459B6D}" type="slidenum">
              <a:rPr b="0" lang="ru-RU" sz="2800" spc="-1" strike="noStrike">
                <a:solidFill>
                  <a:srgbClr val="0a304a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Group 6"/>
          <p:cNvGrpSpPr/>
          <p:nvPr/>
        </p:nvGrpSpPr>
        <p:grpSpPr>
          <a:xfrm>
            <a:off x="6670440" y="3894120"/>
            <a:ext cx="2470320" cy="2658960"/>
            <a:chOff x="6670440" y="3894120"/>
            <a:chExt cx="2470320" cy="2658960"/>
          </a:xfrm>
        </p:grpSpPr>
        <p:sp>
          <p:nvSpPr>
            <p:cNvPr id="95" name="Straight Connector 7"/>
            <p:cNvSpPr/>
            <p:nvPr/>
          </p:nvSpPr>
          <p:spPr>
            <a:xfrm flipH="1">
              <a:off x="8384760" y="3894120"/>
              <a:ext cx="756000" cy="75636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Straight Connector 8"/>
            <p:cNvSpPr/>
            <p:nvPr/>
          </p:nvSpPr>
          <p:spPr>
            <a:xfrm flipH="1">
              <a:off x="6670440" y="4082040"/>
              <a:ext cx="2469960" cy="247104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Straight Connector 9"/>
            <p:cNvSpPr/>
            <p:nvPr/>
          </p:nvSpPr>
          <p:spPr>
            <a:xfrm flipH="1">
              <a:off x="7569720" y="4160520"/>
              <a:ext cx="1571040" cy="157140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Straight Connector 10"/>
            <p:cNvSpPr/>
            <p:nvPr/>
          </p:nvSpPr>
          <p:spPr>
            <a:xfrm flipH="1">
              <a:off x="7694280" y="4037760"/>
              <a:ext cx="1441080" cy="14414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Straight Connector 11"/>
            <p:cNvSpPr/>
            <p:nvPr/>
          </p:nvSpPr>
          <p:spPr>
            <a:xfrm flipH="1">
              <a:off x="8088840" y="4495320"/>
              <a:ext cx="1046880" cy="10472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0" name="TextBox 12"/>
          <p:cNvSpPr/>
          <p:nvPr/>
        </p:nvSpPr>
        <p:spPr>
          <a:xfrm>
            <a:off x="228600" y="711360"/>
            <a:ext cx="45720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Box 13"/>
          <p:cNvSpPr/>
          <p:nvPr/>
        </p:nvSpPr>
        <p:spPr>
          <a:xfrm>
            <a:off x="7696080" y="2768760"/>
            <a:ext cx="45720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2" marL="12002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3" marL="15429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4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5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6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7429680" y="6172200"/>
            <a:ext cx="120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533520" y="6172200"/>
            <a:ext cx="5811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7773840" y="5578200"/>
            <a:ext cx="85752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800" spc="-1" strike="noStrike">
                <a:solidFill>
                  <a:srgbClr val="0a304a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87BF1-F370-49BA-8E0F-75388A4ED3D7}" type="slidenum">
              <a:rPr b="0" lang="ru-RU" sz="2800" spc="-1" strike="noStrike">
                <a:solidFill>
                  <a:srgbClr val="0a304a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" name="Group 6"/>
          <p:cNvGrpSpPr/>
          <p:nvPr/>
        </p:nvGrpSpPr>
        <p:grpSpPr>
          <a:xfrm>
            <a:off x="6670440" y="3894120"/>
            <a:ext cx="2470320" cy="2658960"/>
            <a:chOff x="6670440" y="3894120"/>
            <a:chExt cx="2470320" cy="2658960"/>
          </a:xfrm>
        </p:grpSpPr>
        <p:sp>
          <p:nvSpPr>
            <p:cNvPr id="144" name="Straight Connector 7"/>
            <p:cNvSpPr/>
            <p:nvPr/>
          </p:nvSpPr>
          <p:spPr>
            <a:xfrm flipH="1">
              <a:off x="8384760" y="3894120"/>
              <a:ext cx="756000" cy="75636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Straight Connector 8"/>
            <p:cNvSpPr/>
            <p:nvPr/>
          </p:nvSpPr>
          <p:spPr>
            <a:xfrm flipH="1">
              <a:off x="6670440" y="4082040"/>
              <a:ext cx="2469960" cy="247104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Straight Connector 9"/>
            <p:cNvSpPr/>
            <p:nvPr/>
          </p:nvSpPr>
          <p:spPr>
            <a:xfrm flipH="1">
              <a:off x="7569720" y="4160520"/>
              <a:ext cx="1571040" cy="157140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Straight Connector 10"/>
            <p:cNvSpPr/>
            <p:nvPr/>
          </p:nvSpPr>
          <p:spPr>
            <a:xfrm flipH="1">
              <a:off x="7694280" y="4037760"/>
              <a:ext cx="1441080" cy="14414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Straight Connector 11"/>
            <p:cNvSpPr/>
            <p:nvPr/>
          </p:nvSpPr>
          <p:spPr>
            <a:xfrm flipH="1">
              <a:off x="8088840" y="4495320"/>
              <a:ext cx="1046880" cy="10472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9" name="TextBox 12"/>
          <p:cNvSpPr/>
          <p:nvPr/>
        </p:nvSpPr>
        <p:spPr>
          <a:xfrm>
            <a:off x="228600" y="711360"/>
            <a:ext cx="45720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Box 13"/>
          <p:cNvSpPr/>
          <p:nvPr/>
        </p:nvSpPr>
        <p:spPr>
          <a:xfrm>
            <a:off x="7696080" y="2768760"/>
            <a:ext cx="45720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2" marL="12002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3" marL="15429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4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5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6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7429680" y="6172200"/>
            <a:ext cx="120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533520" y="6172200"/>
            <a:ext cx="5811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7773840" y="5578200"/>
            <a:ext cx="85752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800" spc="-1" strike="noStrike">
                <a:solidFill>
                  <a:srgbClr val="0a304a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1D18F-CD33-4B9D-B6AC-56A066FAFE35}" type="slidenum">
              <a:rPr b="0" lang="ru-RU" sz="2800" spc="-1" strike="noStrike">
                <a:solidFill>
                  <a:srgbClr val="0a304a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6"/>
          <p:cNvGrpSpPr/>
          <p:nvPr/>
        </p:nvGrpSpPr>
        <p:grpSpPr>
          <a:xfrm>
            <a:off x="6670440" y="3894120"/>
            <a:ext cx="2470320" cy="2658960"/>
            <a:chOff x="6670440" y="3894120"/>
            <a:chExt cx="2470320" cy="2658960"/>
          </a:xfrm>
        </p:grpSpPr>
        <p:sp>
          <p:nvSpPr>
            <p:cNvPr id="193" name="Straight Connector 7"/>
            <p:cNvSpPr/>
            <p:nvPr/>
          </p:nvSpPr>
          <p:spPr>
            <a:xfrm flipH="1">
              <a:off x="8384760" y="3894120"/>
              <a:ext cx="756000" cy="75636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Straight Connector 8"/>
            <p:cNvSpPr/>
            <p:nvPr/>
          </p:nvSpPr>
          <p:spPr>
            <a:xfrm flipH="1">
              <a:off x="6670440" y="4082040"/>
              <a:ext cx="2469960" cy="247104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Straight Connector 9"/>
            <p:cNvSpPr/>
            <p:nvPr/>
          </p:nvSpPr>
          <p:spPr>
            <a:xfrm flipH="1">
              <a:off x="7569720" y="4160520"/>
              <a:ext cx="1571040" cy="157140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Straight Connector 10"/>
            <p:cNvSpPr/>
            <p:nvPr/>
          </p:nvSpPr>
          <p:spPr>
            <a:xfrm flipH="1">
              <a:off x="7694280" y="4037760"/>
              <a:ext cx="1441080" cy="14414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Straight Connector 11"/>
            <p:cNvSpPr/>
            <p:nvPr/>
          </p:nvSpPr>
          <p:spPr>
            <a:xfrm flipH="1">
              <a:off x="8088840" y="4495320"/>
              <a:ext cx="1046880" cy="10472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2" marL="12002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3" marL="15429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4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5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6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7429680" y="6172200"/>
            <a:ext cx="120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533520" y="6172200"/>
            <a:ext cx="5811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7773840" y="5578200"/>
            <a:ext cx="85752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800" spc="-1" strike="noStrike">
                <a:solidFill>
                  <a:srgbClr val="0a304a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3DE76-362B-4B8B-96CF-C0E949384DFE}" type="slidenum">
              <a:rPr b="0" lang="ru-RU" sz="2800" spc="-1" strike="noStrike">
                <a:solidFill>
                  <a:srgbClr val="0a304a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9" name="Group 6"/>
          <p:cNvGrpSpPr/>
          <p:nvPr/>
        </p:nvGrpSpPr>
        <p:grpSpPr>
          <a:xfrm>
            <a:off x="6670440" y="3894120"/>
            <a:ext cx="2470320" cy="2658960"/>
            <a:chOff x="6670440" y="3894120"/>
            <a:chExt cx="2470320" cy="2658960"/>
          </a:xfrm>
        </p:grpSpPr>
        <p:sp>
          <p:nvSpPr>
            <p:cNvPr id="240" name="Straight Connector 7"/>
            <p:cNvSpPr/>
            <p:nvPr/>
          </p:nvSpPr>
          <p:spPr>
            <a:xfrm flipH="1">
              <a:off x="8384760" y="3894120"/>
              <a:ext cx="756000" cy="75636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Straight Connector 8"/>
            <p:cNvSpPr/>
            <p:nvPr/>
          </p:nvSpPr>
          <p:spPr>
            <a:xfrm flipH="1">
              <a:off x="6670440" y="4082040"/>
              <a:ext cx="2469960" cy="247104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Straight Connector 9"/>
            <p:cNvSpPr/>
            <p:nvPr/>
          </p:nvSpPr>
          <p:spPr>
            <a:xfrm flipH="1">
              <a:off x="7569720" y="4160520"/>
              <a:ext cx="1571040" cy="157140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Straight Connector 10"/>
            <p:cNvSpPr/>
            <p:nvPr/>
          </p:nvSpPr>
          <p:spPr>
            <a:xfrm flipH="1">
              <a:off x="7694280" y="4037760"/>
              <a:ext cx="1441080" cy="14414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Straight Connector 11"/>
            <p:cNvSpPr/>
            <p:nvPr/>
          </p:nvSpPr>
          <p:spPr>
            <a:xfrm flipH="1">
              <a:off x="8088840" y="4495320"/>
              <a:ext cx="1046880" cy="10472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2" marL="12002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3" marL="15429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4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5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6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 type="dt" idx="16"/>
          </p:nvPr>
        </p:nvSpPr>
        <p:spPr>
          <a:xfrm>
            <a:off x="7429680" y="6172200"/>
            <a:ext cx="120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 type="ftr" idx="17"/>
          </p:nvPr>
        </p:nvSpPr>
        <p:spPr>
          <a:xfrm>
            <a:off x="533520" y="6172200"/>
            <a:ext cx="5811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 type="sldNum" idx="18"/>
          </p:nvPr>
        </p:nvSpPr>
        <p:spPr>
          <a:xfrm>
            <a:off x="7773840" y="5578200"/>
            <a:ext cx="85752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800" spc="-1" strike="noStrike">
                <a:solidFill>
                  <a:srgbClr val="0a304a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99B04-D923-43F9-8A29-14DF11F039A5}" type="slidenum">
              <a:rPr b="0" lang="ru-RU" sz="2800" spc="-1" strike="noStrike">
                <a:solidFill>
                  <a:srgbClr val="0a304a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6154560" cy="3124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Edwardian Script ITC"/>
              </a:rPr>
              <a:t>УМНОЖЕНИЕ И ДЕЛЕНИЕ ОБЫКНОВЕННЫХ ДРОБЕЙ».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33520" y="3843360"/>
            <a:ext cx="4954320" cy="191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f496f"/>
                </a:solidFill>
                <a:latin typeface="Century Gothic"/>
              </a:rPr>
              <a:t>Кузнецова А.А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1"/>
          <a:stretch/>
        </p:blipFill>
        <p:spPr>
          <a:xfrm>
            <a:off x="533160" y="533520"/>
            <a:ext cx="6554520" cy="376704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4" descr="00015950"/>
          <p:cNvPicPr/>
          <p:nvPr/>
        </p:nvPicPr>
        <p:blipFill>
          <a:blip r:embed="rId2"/>
          <a:stretch/>
        </p:blipFill>
        <p:spPr>
          <a:xfrm>
            <a:off x="-1523880" y="-623880"/>
            <a:ext cx="12191760" cy="810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77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8" dur="770" fill="hold"/>
                                        <p:tgtEl>
                                          <p:spTgt spid="36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0" dur="77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2" dur="77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5400" spc="-1" strike="noStrike" u="sng">
                <a:solidFill>
                  <a:srgbClr val="ffffff"/>
                </a:solidFill>
                <a:uFillTx/>
                <a:latin typeface="Century Gothic"/>
              </a:rPr>
              <a:t>ДОМАШНЕЕ ЗАДАНИЕ:</a:t>
            </a:r>
            <a:endParaRPr b="0" lang="en-US" sz="5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subTitle"/>
          </p:nvPr>
        </p:nvSpPr>
        <p:spPr>
          <a:xfrm>
            <a:off x="611280" y="3500280"/>
            <a:ext cx="7921440" cy="213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3600" spc="-1" strike="noStrike">
                <a:solidFill>
                  <a:srgbClr val="0f496f"/>
                </a:solidFill>
                <a:latin typeface="Century Gothic"/>
              </a:rPr>
              <a:t>Параграф 19;  № 710, №716 (в, г)</a:t>
            </a:r>
            <a:endParaRPr b="0" lang="en-US" sz="3600" spc="-1" strike="noStrike">
              <a:solidFill>
                <a:srgbClr val="0f496f"/>
              </a:solidFill>
              <a:latin typeface="Century Gothic"/>
            </a:endParaRPr>
          </a:p>
        </p:txBody>
      </p:sp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0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9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7200"/>
            </a:br>
            <a:br>
              <a:rPr sz="7200"/>
            </a:br>
            <a:br>
              <a:rPr sz="7200"/>
            </a:br>
            <a:br>
              <a:rPr sz="7200"/>
            </a:br>
            <a:r>
              <a:rPr b="0" i="1" lang="ru-RU" sz="8600" spc="-1" strike="noStrike">
                <a:solidFill>
                  <a:srgbClr val="ffffff"/>
                </a:solidFill>
                <a:latin typeface="Blackadder ITC"/>
              </a:rPr>
              <a:t>С П А С И Б О </a:t>
            </a:r>
            <a:br>
              <a:rPr sz="8600"/>
            </a:br>
            <a:r>
              <a:rPr b="0" i="1" lang="ru-RU" sz="8600" spc="-1" strike="noStrike">
                <a:solidFill>
                  <a:srgbClr val="ffffff"/>
                </a:solidFill>
                <a:latin typeface="Blackadder ITC"/>
              </a:rPr>
              <a:t> З А </a:t>
            </a:r>
            <a:br>
              <a:rPr sz="8600"/>
            </a:br>
            <a:r>
              <a:rPr b="0" i="1" lang="ru-RU" sz="8600" spc="-1" strike="noStrike">
                <a:solidFill>
                  <a:srgbClr val="ffffff"/>
                </a:solidFill>
                <a:latin typeface="Blackadder ITC"/>
              </a:rPr>
              <a:t> У Р О К.</a:t>
            </a:r>
            <a:endParaRPr b="0" lang="en-US" sz="8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0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nimMotion origin="layout" path="M 0 -0.00023 C 0.00694 -0.01341 0.01406 -0.02797 0.02101 -0.0467 C 0.03993 -0.09988 0.04497 -0.1519 0.03108 -0.15977 C 0.01701 -0.16925 -0.01007 -0.13202 -0.02899 -0.07861 C -0.03906 -0.05063 -0.44392 0.13573 -0.44601 0.15607 C -0.44896 0.17203 -0.05104 0.02798 -0.05104 0.04671 C -0.05104 0.10659 -0.17066 0.69734 -0.15556 0.69734 C -0.14062 0.69734 0.00503 0.10659 0.00503 0.04671 C 0.00503 0.01873 0.00208 -0.00809 -0.00295 -0.02659 C -0.00503 -0.04277 -0.01007 -0.06034 -0.01597 -0.07722 C -0.03594 -0.13202 -0.06302 -0.16925 -0.07708 -0.15977 C -0.09097 -0.15075 -0.08594 -0.09988 -0.06597 -0.04531 C -0.05799 -0.02011 0.2349 0.65942 0.24601 0.67399 C 0.25399 0.68717 -0.01892 0.04139 -0.00694 0.05318 C 0.02899 0.09203 0.25017 0.35168 0.26024 0.33573 C 0.26927 0.31954 0.06406 0.0333 0.02795 -0.00393 C 0.01302 -0.02011 0.43212 0.10289 0.4191 0.0948 C 0.40712 0.08671 -0.04306 -0.05479 -0.05903 -0.05919 C -0.10295 -0.0719 -0.2875 -0.07029 -0.29045 -0.04901 C -0.29444 -0.0289 -0.11493 -0.000229999999999999 -0.07101 0.01341 C -0.05104 0.01873 -0.03194 0.02127 -0.01701 0.02012 C -0.00399 0.02012 0.12153 0.06058 0.13646 0.05665 C 0.18038 0.04301 0.20729 -0.03514 0.20313 -0.05549 C 0.20017 -0.07514 0.05694 -0.07329 0.01302 -0.06034 C -0.00799 -0.05341 -0.02708 -0.04393 -0.03993 -0.03329 C -0.05104 -0.02543 -0.06198 -0.01595 -0.07396 -0.00393 C -0.10903 0.03469 -0.30538 0.26867 -0.29531 0.28509 C -0.28628 0.30104 -0.07396 0.09203 -0.03906 0.05434 C -0.02205 0.03607 -0.00799 0.01734 0.0099 0.01318 E">
                                      <p:cBhvr>
                                        <p:cTn id="111" dur="5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300" spc="-1" strike="noStrike">
                <a:solidFill>
                  <a:srgbClr val="ffffff"/>
                </a:solidFill>
                <a:latin typeface="Century Gothic"/>
              </a:rPr>
              <a:t>ДЕЙСТВИЯ С ДРОБЯМИ:</a:t>
            </a:r>
            <a:endParaRPr b="0" lang="en-US" sz="4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2000" spc="-1" strike="noStrike">
                <a:solidFill>
                  <a:srgbClr val="0f496f"/>
                </a:solidFill>
                <a:latin typeface="Century Gothic"/>
              </a:rPr>
              <a:t>Сокращение дробей;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2000" spc="-1" strike="noStrike">
                <a:solidFill>
                  <a:srgbClr val="0f496f"/>
                </a:solidFill>
                <a:latin typeface="Century Gothic"/>
              </a:rPr>
              <a:t>Сравнение дробей;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2000" spc="-1" strike="noStrike">
                <a:solidFill>
                  <a:srgbClr val="0f496f"/>
                </a:solidFill>
                <a:latin typeface="Century Gothic"/>
              </a:rPr>
              <a:t>Сложение и вычитание дробей с одинаковым и разным знаменателем;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2000" spc="-1" strike="noStrike">
                <a:solidFill>
                  <a:srgbClr val="0f496f"/>
                </a:solidFill>
                <a:latin typeface="Century Gothic"/>
              </a:rPr>
              <a:t>Сложение и вычитание дробей на числовом луче;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2000" spc="-1" strike="noStrike">
                <a:solidFill>
                  <a:srgbClr val="0f496f"/>
                </a:solidFill>
                <a:latin typeface="Century Gothic"/>
              </a:rPr>
              <a:t>Умножение и деление дробей.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</p:spTree>
  </p:cSld>
  <p:transition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2000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2000"/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2000"/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2000"/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2000"/>
                                        <p:tgtEl>
                                          <p:spTgt spid="2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23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0760" y="174240"/>
            <a:ext cx="655488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Century Gothic"/>
              </a:rPr>
              <a:t>Н А Й Д И   О Ш И Б К У: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2" name="Object 41"/>
              <p:cNvSpPr txBox="1"/>
              <p:nvPr/>
            </p:nvSpPr>
            <p:spPr>
              <a:xfrm>
                <a:off x="1258920" y="3141720"/>
                <a:ext cx="4390920" cy="94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б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2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:</m:t>
                    </m:r>
                    <m:r>
                      <m:t xml:space="preserve">5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3" name="Object 36"/>
              <p:cNvSpPr txBox="1"/>
              <p:nvPr/>
            </p:nvSpPr>
            <p:spPr>
              <a:xfrm>
                <a:off x="127080" y="1974960"/>
                <a:ext cx="3078000" cy="93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а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7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" name="Object 34"/>
              <p:cNvSpPr txBox="1"/>
              <p:nvPr/>
            </p:nvSpPr>
            <p:spPr>
              <a:xfrm>
                <a:off x="3276720" y="4208400"/>
                <a:ext cx="3311280" cy="94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в</m:t>
                    </m:r>
                    <m:r>
                      <m:t xml:space="preserve">)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: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" name="Object 33"/>
              <p:cNvSpPr txBox="1"/>
              <p:nvPr/>
            </p:nvSpPr>
            <p:spPr>
              <a:xfrm>
                <a:off x="5194440" y="5229360"/>
                <a:ext cx="3338280" cy="93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г</m:t>
                    </m:r>
                    <m:r>
                      <m:t xml:space="preserve">)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  <m:r>
                      <m:t xml:space="preserve">:</m:t>
                    </m:r>
                    <m:r>
                      <m:t xml:space="preserve">5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96" name="Rectangle 37"/>
          <p:cNvSpPr/>
          <p:nvPr/>
        </p:nvSpPr>
        <p:spPr>
          <a:xfrm>
            <a:off x="0" y="2647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Rectangle 38"/>
          <p:cNvSpPr/>
          <p:nvPr/>
        </p:nvSpPr>
        <p:spPr>
          <a:xfrm>
            <a:off x="0" y="3038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Rectangle 39"/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Rectangle 40"/>
          <p:cNvSpPr/>
          <p:nvPr/>
        </p:nvSpPr>
        <p:spPr>
          <a:xfrm>
            <a:off x="0" y="3819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4900" spc="-1" strike="noStrike">
                <a:solidFill>
                  <a:srgbClr val="ffffff"/>
                </a:solidFill>
                <a:latin typeface="Sylfaen"/>
              </a:rPr>
              <a:t>    </a:t>
            </a:r>
            <a:r>
              <a:rPr b="1" i="1" lang="ru-RU" sz="4900" spc="-1" strike="noStrike">
                <a:solidFill>
                  <a:srgbClr val="ffffff"/>
                </a:solidFill>
                <a:latin typeface="Sylfaen"/>
              </a:rPr>
              <a:t>ПОВТОРИМ ПРАВИЛА:</a:t>
            </a:r>
            <a:endParaRPr b="0" lang="en-US" sz="4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0" y="1557000"/>
            <a:ext cx="91440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3600" spc="-1" strike="noStrike">
                <a:solidFill>
                  <a:srgbClr val="76dbf4"/>
                </a:solidFill>
                <a:latin typeface="Sylfaen"/>
              </a:rPr>
              <a:t>Что значит сократить дробь?</a:t>
            </a:r>
            <a:endParaRPr b="0" lang="en-US" sz="3600" spc="-1" strike="noStrike">
              <a:solidFill>
                <a:srgbClr val="0f496f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496f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3600" spc="-1" strike="noStrike">
                <a:solidFill>
                  <a:srgbClr val="76dbf4"/>
                </a:solidFill>
                <a:latin typeface="Sylfaen"/>
              </a:rPr>
              <a:t>Как умножить дробь на дробь, дробь на целое число, смешанные числа?</a:t>
            </a:r>
            <a:endParaRPr b="0" lang="en-US" sz="3600" spc="-1" strike="noStrike">
              <a:solidFill>
                <a:srgbClr val="0f496f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496f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3600" spc="-1" strike="noStrike">
                <a:solidFill>
                  <a:srgbClr val="76dbf4"/>
                </a:solidFill>
                <a:latin typeface="Sylfaen"/>
              </a:rPr>
              <a:t>Как разделить дробь на дробь, дробь на целое число, дробь на смешанное число?</a:t>
            </a:r>
            <a:endParaRPr b="0" lang="en-US" sz="3600" spc="-1" strike="noStrike">
              <a:solidFill>
                <a:srgbClr val="0f496f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496f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3600" spc="-1" strike="noStrike">
                <a:solidFill>
                  <a:srgbClr val="76dbf4"/>
                </a:solidFill>
                <a:latin typeface="Sylfaen"/>
              </a:rPr>
              <a:t>Как найти дробь от числа, число по его дроби?</a:t>
            </a:r>
            <a:endParaRPr b="0" lang="en-US" sz="3600" spc="-1" strike="noStrike">
              <a:solidFill>
                <a:srgbClr val="0f496f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f496f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f496f"/>
              </a:solidFill>
              <a:latin typeface="Century Gothic"/>
            </a:endParaRPr>
          </a:p>
        </p:txBody>
      </p:sp>
    </p:spTree>
  </p:cSld>
  <p:transition>
    <p:fade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3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3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3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6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3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3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3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1069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ru-RU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50920" y="549000"/>
            <a:ext cx="4176720" cy="554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533520" indent="-533520" algn="ctr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800" spc="-1" strike="noStrike">
                <a:solidFill>
                  <a:srgbClr val="0f496f"/>
                </a:solidFill>
                <a:latin typeface="Century Gothic"/>
              </a:rPr>
              <a:t>Вариант 1.</a:t>
            </a:r>
            <a:endParaRPr b="0" lang="en-US" sz="28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4788000" y="620280"/>
            <a:ext cx="3898800" cy="5475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 algn="ctr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f496f"/>
                </a:solidFill>
                <a:latin typeface="Century Gothic"/>
              </a:rPr>
              <a:t>Вариант 2.</a:t>
            </a:r>
            <a:endParaRPr b="0" lang="en-US" sz="28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-285840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-285840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-285840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-285840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-285840">
              <a:spcBef>
                <a:spcPts val="451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05" name="Rectangle 8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Rectangle 8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Rectangle 9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Rectangle 9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Rectangle 9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Rectangle 9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Rectangle 9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2" name="Object 116"/>
              <p:cNvSpPr txBox="1"/>
              <p:nvPr/>
            </p:nvSpPr>
            <p:spPr>
              <a:xfrm>
                <a:off x="4932360" y="1341360"/>
                <a:ext cx="403236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Вычислите</m:t>
                    </m:r>
                    <m:r>
                      <m:t xml:space="preserve"> </m:t>
                    </m:r>
                    <m:r>
                      <m:t xml:space="preserve">2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3" name="Object 113"/>
              <p:cNvSpPr txBox="1"/>
              <p:nvPr/>
            </p:nvSpPr>
            <p:spPr>
              <a:xfrm>
                <a:off x="5003640" y="3860640"/>
                <a:ext cx="38894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Вычислите</m:t>
                    </m:r>
                    <m:r>
                      <m:t xml:space="preserve"> </m:t>
                    </m:r>
                    <m:r>
                      <m:t xml:space="preserve">3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:</m:t>
                    </m:r>
                    <m:r>
                      <m:t xml:space="preserve">2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Object 112"/>
              <p:cNvSpPr txBox="1"/>
              <p:nvPr/>
            </p:nvSpPr>
            <p:spPr>
              <a:xfrm>
                <a:off x="5076720" y="4724280"/>
                <a:ext cx="3745080" cy="74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Вычислите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от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5" name="Object 111"/>
              <p:cNvSpPr txBox="1"/>
              <p:nvPr/>
            </p:nvSpPr>
            <p:spPr>
              <a:xfrm>
                <a:off x="5148360" y="5661000"/>
                <a:ext cx="3744720" cy="74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Вычислите</m:t>
                    </m:r>
                    <m:r>
                      <m:t xml:space="preserve"> </m:t>
                    </m:r>
                    <m:r>
                      <m:t xml:space="preserve">2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: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16" name="Rectangle 1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Rectangle 118"/>
          <p:cNvSpPr/>
          <p:nvPr/>
        </p:nvSpPr>
        <p:spPr>
          <a:xfrm>
            <a:off x="0" y="390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Rectangle 119"/>
          <p:cNvSpPr/>
          <p:nvPr/>
        </p:nvSpPr>
        <p:spPr>
          <a:xfrm>
            <a:off x="0" y="781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Rectangle 120"/>
          <p:cNvSpPr/>
          <p:nvPr/>
        </p:nvSpPr>
        <p:spPr>
          <a:xfrm>
            <a:off x="0" y="1171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Rectangle 121"/>
          <p:cNvSpPr/>
          <p:nvPr/>
        </p:nvSpPr>
        <p:spPr>
          <a:xfrm>
            <a:off x="0" y="141300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Rectangle 122"/>
          <p:cNvSpPr/>
          <p:nvPr/>
        </p:nvSpPr>
        <p:spPr>
          <a:xfrm>
            <a:off x="0" y="195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Rectangle 124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3" name="Object 125"/>
              <p:cNvSpPr txBox="1"/>
              <p:nvPr/>
            </p:nvSpPr>
            <p:spPr>
              <a:xfrm>
                <a:off x="5038560" y="2997360"/>
                <a:ext cx="392616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Решите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уравнение</m:t>
                    </m:r>
                    <m:r>
                      <m:t xml:space="preserve"> </m:t>
                    </m:r>
                    <m:r>
                      <m:t xml:space="preserve">х</m:t>
                    </m:r>
                    <m:r>
                      <m:t xml:space="preserve">:</m:t>
                    </m:r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den>
                    </m:f>
                    <m:r>
                      <m:t xml:space="preserve">=</m:t>
                    </m:r>
                    <m:r>
                      <m:t xml:space="preserve">3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24" name="Rectangle 127"/>
          <p:cNvSpPr/>
          <p:nvPr/>
        </p:nvSpPr>
        <p:spPr>
          <a:xfrm>
            <a:off x="0" y="3038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Rectangle 128"/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Rectangle 13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7" name="Object 131"/>
              <p:cNvSpPr txBox="1"/>
              <p:nvPr/>
            </p:nvSpPr>
            <p:spPr>
              <a:xfrm>
                <a:off x="5003640" y="2205000"/>
                <a:ext cx="388944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Вычислите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80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8" name="Rectangle 134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9" name="Object 133"/>
              <p:cNvSpPr txBox="1"/>
              <p:nvPr/>
            </p:nvSpPr>
            <p:spPr>
              <a:xfrm>
                <a:off x="250920" y="1413000"/>
                <a:ext cx="3600360" cy="73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Вычислите</m:t>
                    </m:r>
                    <m:r>
                      <m:t xml:space="preserve"> </m:t>
                    </m:r>
                    <m:r>
                      <m:t xml:space="preserve">7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1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0" name="Rectangle 136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1" name="Object 135"/>
              <p:cNvSpPr txBox="1"/>
              <p:nvPr/>
            </p:nvSpPr>
            <p:spPr>
              <a:xfrm>
                <a:off x="250920" y="2133720"/>
                <a:ext cx="360036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Вычислите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42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2" name="Rectangle 138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Rectangle 140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4" name="Object 139"/>
              <p:cNvSpPr txBox="1"/>
              <p:nvPr/>
            </p:nvSpPr>
            <p:spPr>
              <a:xfrm>
                <a:off x="165240" y="2941560"/>
                <a:ext cx="3671640" cy="72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Решите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уравнение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х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35" name="Rectangle 142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6" name="Object 141"/>
              <p:cNvSpPr txBox="1"/>
              <p:nvPr/>
            </p:nvSpPr>
            <p:spPr>
              <a:xfrm>
                <a:off x="250920" y="3716280"/>
                <a:ext cx="360036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Вычислите</m:t>
                    </m:r>
                    <m:r>
                      <m:t xml:space="preserve">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5</m:t>
                        </m:r>
                      </m:den>
                    </m:f>
                    <m:r>
                      <m:t xml:space="preserve">:</m:t>
                    </m:r>
                    <m:r>
                      <m:t xml:space="preserve">5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7" name="Rectangle 144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8" name="Object 143"/>
              <p:cNvSpPr txBox="1"/>
              <p:nvPr/>
            </p:nvSpPr>
            <p:spPr>
              <a:xfrm>
                <a:off x="179280" y="4365720"/>
                <a:ext cx="3672000" cy="61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Вычислите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от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189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9" name="Rectangle 146"/>
          <p:cNvSpPr/>
          <p:nvPr/>
        </p:nvSpPr>
        <p:spPr>
          <a:xfrm>
            <a:off x="0" y="321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0" name="Object 145"/>
              <p:cNvSpPr txBox="1"/>
              <p:nvPr/>
            </p:nvSpPr>
            <p:spPr>
              <a:xfrm>
                <a:off x="179280" y="4941720"/>
                <a:ext cx="4176720" cy="66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Найди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число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если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его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равно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6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1" name="Rectangle 148"/>
          <p:cNvSpPr/>
          <p:nvPr/>
        </p:nvSpPr>
        <p:spPr>
          <a:xfrm>
            <a:off x="0" y="321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2" name="Object 147"/>
              <p:cNvSpPr txBox="1"/>
              <p:nvPr/>
            </p:nvSpPr>
            <p:spPr>
              <a:xfrm>
                <a:off x="250920" y="5734080"/>
                <a:ext cx="3673440" cy="64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Вычислите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: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24000" y="62064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5900" spc="-1" strike="noStrike">
                <a:solidFill>
                  <a:srgbClr val="ffffff"/>
                </a:solidFill>
                <a:latin typeface="Century Gothic"/>
              </a:rPr>
              <a:t>Т Е М А   У Р О К А:</a:t>
            </a:r>
            <a:endParaRPr b="0" lang="en-US" sz="5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1187280" y="2708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1176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4700" spc="-1" strike="noStrike">
                <a:solidFill>
                  <a:srgbClr val="0f496f"/>
                </a:solidFill>
                <a:latin typeface="Edwardian Script ITC"/>
              </a:rPr>
              <a:t>«Умножение и деление обыкновенных дробей».</a:t>
            </a:r>
            <a:endParaRPr b="0" lang="en-US" sz="4700" spc="-1" strike="noStrike">
              <a:solidFill>
                <a:srgbClr val="0f496f"/>
              </a:solidFill>
              <a:latin typeface="Century Gothic"/>
            </a:endParaRPr>
          </a:p>
        </p:txBody>
      </p:sp>
      <p:pic>
        <p:nvPicPr>
          <p:cNvPr id="345" name="Picture 4" descr="j0282747"/>
          <p:cNvPicPr/>
          <p:nvPr/>
        </p:nvPicPr>
        <p:blipFill>
          <a:blip r:embed="rId1"/>
          <a:stretch/>
        </p:blipFill>
        <p:spPr>
          <a:xfrm>
            <a:off x="6910560" y="5145120"/>
            <a:ext cx="2233440" cy="171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entury Gothic"/>
              </a:rPr>
              <a:t>О Т В Е Т Ы.</a:t>
            </a:r>
            <a:br>
              <a:rPr sz="3600"/>
            </a:br>
            <a:br>
              <a:rPr sz="1100"/>
            </a:br>
            <a:r>
              <a:rPr b="0" i="1" lang="ru-RU" sz="3200" spc="-1" strike="noStrike">
                <a:solidFill>
                  <a:srgbClr val="ffffff"/>
                </a:solidFill>
                <a:latin typeface="Century Gothic"/>
              </a:rPr>
              <a:t>ВАРИАНТ 1</a:t>
            </a:r>
            <a:r>
              <a:rPr b="0" lang="ru-RU" sz="3600" spc="-1" strike="noStrike">
                <a:solidFill>
                  <a:srgbClr val="ffffff"/>
                </a:solidFill>
                <a:latin typeface="Century Gothic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7" name="Object 218"/>
              <p:cNvSpPr txBox="1"/>
              <p:nvPr/>
            </p:nvSpPr>
            <p:spPr>
              <a:xfrm>
                <a:off x="1187280" y="2406600"/>
                <a:ext cx="1695600" cy="3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 </m:t>
                    </m:r>
                    <m:r>
                      <m:t xml:space="preserve">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8" name="Object 212"/>
              <p:cNvSpPr txBox="1"/>
              <p:nvPr/>
            </p:nvSpPr>
            <p:spPr>
              <a:xfrm>
                <a:off x="2484360" y="3479760"/>
                <a:ext cx="223056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)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 </m:t>
                    </m:r>
                    <m:r>
                      <m:t xml:space="preserve">И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9" name="Object 220"/>
              <p:cNvSpPr txBox="1"/>
              <p:nvPr/>
            </p:nvSpPr>
            <p:spPr>
              <a:xfrm>
                <a:off x="1763640" y="2967120"/>
                <a:ext cx="1806480" cy="4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 </m:t>
                    </m:r>
                    <m:r>
                      <m:t xml:space="preserve">Н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0" name="Object 222"/>
              <p:cNvSpPr txBox="1"/>
              <p:nvPr/>
            </p:nvSpPr>
            <p:spPr>
              <a:xfrm>
                <a:off x="3494160" y="4379760"/>
                <a:ext cx="2195280" cy="47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42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 </m:t>
                    </m:r>
                    <m:r>
                      <m:t xml:space="preserve">В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1" name="Object 216"/>
              <p:cNvSpPr txBox="1"/>
              <p:nvPr/>
            </p:nvSpPr>
            <p:spPr>
              <a:xfrm>
                <a:off x="250920" y="1413000"/>
                <a:ext cx="1939680" cy="77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7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 </m:t>
                    </m:r>
                    <m:r>
                      <m:t xml:space="preserve">Л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2" name="Object 224"/>
              <p:cNvSpPr txBox="1"/>
              <p:nvPr/>
            </p:nvSpPr>
            <p:spPr>
              <a:xfrm>
                <a:off x="4643280" y="5013360"/>
                <a:ext cx="2519640" cy="51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108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 </m:t>
                    </m:r>
                    <m:r>
                      <m:t xml:space="preserve">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3" name="Object 225"/>
              <p:cNvSpPr txBox="1"/>
              <p:nvPr/>
            </p:nvSpPr>
            <p:spPr>
              <a:xfrm>
                <a:off x="5940360" y="5805360"/>
                <a:ext cx="195732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5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 </m:t>
                    </m:r>
                    <m:r>
                      <m:t xml:space="preserve">Ц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354" name="Picture 226" descr="j0282747"/>
          <p:cNvPicPr/>
          <p:nvPr/>
        </p:nvPicPr>
        <p:blipFill>
          <a:blip r:embed="rId1"/>
          <a:stretch/>
        </p:blipFill>
        <p:spPr>
          <a:xfrm>
            <a:off x="0" y="5145120"/>
            <a:ext cx="2233440" cy="17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entury Gothic"/>
              </a:rPr>
              <a:t>О Т В Е Т Ы.</a:t>
            </a:r>
            <a:br>
              <a:rPr sz="3600"/>
            </a:br>
            <a:br>
              <a:rPr sz="1600"/>
            </a:br>
            <a:r>
              <a:rPr b="0" i="1" lang="ru-RU" sz="3200" spc="-1" strike="noStrike">
                <a:solidFill>
                  <a:srgbClr val="ffffff"/>
                </a:solidFill>
                <a:latin typeface="Century Gothic"/>
              </a:rPr>
              <a:t>ВАРИАНТ 2</a:t>
            </a:r>
            <a:r>
              <a:rPr b="0" lang="ru-RU" sz="36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6" name="Object 4"/>
              <p:cNvSpPr txBox="1"/>
              <p:nvPr/>
            </p:nvSpPr>
            <p:spPr>
              <a:xfrm>
                <a:off x="250920" y="1792440"/>
                <a:ext cx="1511280" cy="67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 </m:t>
                    </m:r>
                    <m:r>
                      <m:t xml:space="preserve">Г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7" name="Object 6"/>
              <p:cNvSpPr txBox="1"/>
              <p:nvPr/>
            </p:nvSpPr>
            <p:spPr>
              <a:xfrm>
                <a:off x="1403280" y="2558880"/>
                <a:ext cx="1657440" cy="65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2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 </m:t>
                    </m:r>
                    <m:r>
                      <m:t xml:space="preserve">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8" name="Object 8"/>
              <p:cNvSpPr txBox="1"/>
              <p:nvPr/>
            </p:nvSpPr>
            <p:spPr>
              <a:xfrm>
                <a:off x="2700360" y="3298680"/>
                <a:ext cx="1719360" cy="69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1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 </m:t>
                    </m:r>
                    <m:r>
                      <m:t xml:space="preserve">П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9" name="Object 10"/>
              <p:cNvSpPr txBox="1"/>
              <p:nvPr/>
            </p:nvSpPr>
            <p:spPr>
              <a:xfrm>
                <a:off x="3851280" y="4086360"/>
                <a:ext cx="1720800" cy="70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1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 </m:t>
                    </m:r>
                    <m:r>
                      <m:t xml:space="preserve">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0" name="Object 12"/>
              <p:cNvSpPr txBox="1"/>
              <p:nvPr/>
            </p:nvSpPr>
            <p:spPr>
              <a:xfrm>
                <a:off x="5148360" y="4869000"/>
                <a:ext cx="232884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 </m:t>
                    </m:r>
                    <m:r>
                      <m:t xml:space="preserve">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1" name="Object 13"/>
              <p:cNvSpPr txBox="1"/>
              <p:nvPr/>
            </p:nvSpPr>
            <p:spPr>
              <a:xfrm>
                <a:off x="6659640" y="5445000"/>
                <a:ext cx="216036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 </m:t>
                    </m:r>
                    <m:r>
                      <m:t xml:space="preserve">Д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362" name="Picture 14" descr="j0282747"/>
          <p:cNvPicPr/>
          <p:nvPr/>
        </p:nvPicPr>
        <p:blipFill>
          <a:blip r:embed="rId1"/>
          <a:stretch/>
        </p:blipFill>
        <p:spPr>
          <a:xfrm>
            <a:off x="0" y="5145120"/>
            <a:ext cx="2233440" cy="17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800" spc="-1" strike="noStrike">
                <a:solidFill>
                  <a:srgbClr val="fee6fd"/>
                </a:solidFill>
                <a:latin typeface="Arial Narrow"/>
              </a:rPr>
              <a:t>Р Е Ш И Т Е   З А Д А Ч У:</a:t>
            </a: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457200" y="1980720"/>
            <a:ext cx="7499520" cy="396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 algn="ctr">
              <a:lnSpc>
                <a:spcPct val="100000"/>
              </a:lnSpc>
              <a:spcBef>
                <a:spcPts val="825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3300" spc="-1" strike="noStrike">
                <a:solidFill>
                  <a:srgbClr val="0f496f"/>
                </a:solidFill>
                <a:latin typeface="Arial Narrow"/>
              </a:rPr>
              <a:t>Куколки бабочек выносят температуру 6</a:t>
            </a:r>
            <a:r>
              <a:rPr b="0" i="1" lang="ru-RU" sz="3300" spc="-1" strike="noStrike" baseline="30000">
                <a:solidFill>
                  <a:srgbClr val="0f496f"/>
                </a:solidFill>
                <a:latin typeface="Arial Narrow"/>
              </a:rPr>
              <a:t>0 </a:t>
            </a:r>
            <a:r>
              <a:rPr b="0" i="1" lang="ru-RU" sz="3300" spc="-1" strike="noStrike">
                <a:solidFill>
                  <a:srgbClr val="0f496f"/>
                </a:solidFill>
                <a:latin typeface="Arial Narrow"/>
              </a:rPr>
              <a:t>холода, то составляет 2/3</a:t>
            </a:r>
            <a:r>
              <a:rPr b="0" i="1" lang="ru-RU" sz="3300" spc="-1" strike="noStrike" baseline="30000">
                <a:solidFill>
                  <a:srgbClr val="0f496f"/>
                </a:solidFill>
                <a:latin typeface="Arial Narrow"/>
              </a:rPr>
              <a:t> </a:t>
            </a:r>
            <a:r>
              <a:rPr b="0" i="1" lang="ru-RU" sz="3300" spc="-1" strike="noStrike">
                <a:solidFill>
                  <a:srgbClr val="0f496f"/>
                </a:solidFill>
                <a:latin typeface="Arial Narrow"/>
              </a:rPr>
              <a:t>температуры которую выдерживают бабочки, и 2/15 температуры, которую выдерживают гусеницы бабочек. Определить сколько градусов холода выдерживают бабочки и их гусеницы.</a:t>
            </a:r>
            <a:endParaRPr b="0" lang="en-US" sz="3300" spc="-1" strike="noStrike">
              <a:solidFill>
                <a:srgbClr val="0f496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7T15:56:42Z</dcterms:created>
  <dc:creator>Юлия</dc:creator>
  <dc:description/>
  <dc:language>en-US</dc:language>
  <cp:lastModifiedBy>user</cp:lastModifiedBy>
  <dcterms:modified xsi:type="dcterms:W3CDTF">2017-10-02T23:18:58Z</dcterms:modified>
  <cp:revision>32</cp:revision>
  <dc:subject/>
  <dc:title>Тема урока: «».</dc:title>
</cp:coreProperties>
</file>