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E2B9-D1A6-4878-914B-519CEA1C1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B800-C8FD-472E-85C8-0128A11BCCEA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84B-6AAB-4CD6-9583-136A8286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D3C-71BD-4410-A063-314345EB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8A0-0C88-42CC-98D6-7A0DC276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301-F742-4304-BA0F-AB3E5DEA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1C0-58C8-4F06-9DEA-0AE19005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EA4F-50E7-44D6-80A8-EB72B0BA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2179-FE86-49B9-A214-54FBC3B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2333-7E1F-4F00-B6B4-CDB36358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366-3D37-4E40-A10F-46EA9B1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697E-FAF5-413C-BC8F-6AEED14C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243E-C291-4048-AD8B-DB02034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114-0E1A-4346-8369-CF4B3608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E5E5-3DBF-46A4-935D-179FB9AC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EAF9-6CF4-4DEE-B2C6-F1E2ADF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26DA-BD17-4B3E-9880-027578D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92C4-A303-4348-8B37-17F379DA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BBE6-F8A7-4AC0-BEC5-6F489508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0EC2-33BE-479F-B044-9EF85746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4567-410B-4EFB-84AB-93E10564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93A5-5F6A-41A9-A6BF-8022BD9A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ACEE-9A27-4926-AF58-CD5A03AA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6A07-8C5D-4FF7-84C5-97A1573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017-680D-4C3A-BC81-00E8F0F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E205-4D7B-40B5-A103-D500B2D7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BF6F-63DC-4560-A93A-5B71BBCB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991E-41F4-42F2-B762-34B3D828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4749-BDC6-4DED-9000-3FCE6F8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0B74-2CD4-44E2-AA9B-B69422B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3300-A553-436C-847E-9F62C08C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4DBE-4A2D-4707-A55A-B07947D5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8CAD-AE0A-4F29-B7C8-DC078988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030F-8802-4574-B6C9-F09C25FE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EFFD-FE54-4311-9708-D9B00EB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8DB-6213-4793-B517-41225CCF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B9D9-2BA3-47B3-8586-D9AA0D7D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D4530-AD93-4DB7-BFD6-41E21DD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F26C-ABCA-40E2-B547-952D0025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0A5B-9C28-4007-ADC8-CCBC6A3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5E00-CF7C-4452-9C46-C72275E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4372A-2616-453A-940B-310F922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4BAA-F1A8-4E3E-81F2-435035C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23C8D-FDF5-4BC9-A2D9-5F393EF2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C64F-9AF7-4395-A257-D591E905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FAB7-0868-4EE3-809E-D96A4D9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BC7-5507-411D-9333-6338756F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FF99A-E810-455C-86F9-3170EE76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247A-4B13-4746-B5E1-D7F3E24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062B3-6F22-4D9C-B8EE-DD79D10C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D4A0-202D-4D58-B2AF-FA69E740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A51C-DC6D-4248-B2D0-B7EDD8BB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6D94-1373-418C-AB82-CBC6CA6C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8ABF-B301-41F8-8968-DBA7BD2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2C25-1942-44B0-9BE1-506351C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516D-8B33-4068-98D6-50D77602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F833-3A79-491B-B8BB-1B3E3CDB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CDC-42F0-4C6D-8765-227C0717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7E07-AF24-4C0F-8E01-02ABE0FB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6F176-DBFF-4D39-8AB8-A0F0E003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63E38-E3B3-4641-A696-50BA96F1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38B9C-7F44-4C88-B5FE-714B12F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4B0D0-0A5E-4987-BC56-2BCEA911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89AA1-6187-4D61-9351-96B72C57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3C937-EB26-4EB4-8877-ABB5C1FA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26DD5-18EC-4463-8755-C7FF9E5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2F0DD-CC7C-4877-A1B0-631BB15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3E589-296B-45CB-88C9-C6BD055C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3A0-81EE-4E9E-847F-12CD488B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25404-C9DE-42A9-ADC8-78AAA080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1DC8D-12D5-475F-94A7-4C08075B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B9A3C-1B8E-4918-A6E5-71085D3C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4C5-ECB1-4115-91FB-5EB9824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5AC-3185-4B8C-8AE3-6502E7C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988F-BCBE-4266-9957-F06CDE026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2E8B-9AAB-474A-AAD1-23656C9F2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21EC-A71E-401A-87E7-549BCEEE8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E26E-F7A9-4ADE-A7D5-B6E1A953E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4A6D-64CE-4CAE-BB99-E28AC5148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DDFA-9931-4B52-95D5-BD13756D77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Вопросы </a:t>
            </a:r>
            <a:br>
              <a:rPr sz="4800"/>
            </a:br>
            <a:r>
              <a:rPr b="1" lang="ru-RU" sz="48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по оказанию первой доврачебной помощи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82692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Безопасное колес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395280" y="53006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5"/>
          <p:cNvSpPr/>
          <p:nvPr/>
        </p:nvSpPr>
        <p:spPr>
          <a:xfrm>
            <a:off x="324000" y="1197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районные соревн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Users\Владелец\Pictures\Медицина 2012 - билеты\Медицина билет №1.bmp"/>
          <p:cNvPicPr/>
          <p:nvPr/>
        </p:nvPicPr>
        <p:blipFill>
          <a:blip r:embed="rId1"/>
          <a:srcRect l="33645" t="18323" r="33704" b="75253"/>
          <a:stretch/>
        </p:blipFill>
        <p:spPr>
          <a:xfrm>
            <a:off x="4788000" y="2565360"/>
            <a:ext cx="4119480" cy="1584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Владелец\Pictures\Медицина 2012 - билеты\Медицина билет №1.bmp"/>
          <p:cNvPicPr/>
          <p:nvPr/>
        </p:nvPicPr>
        <p:blipFill>
          <a:blip r:embed="rId2"/>
          <a:srcRect l="65309" t="17952" r="2040" b="75253"/>
          <a:stretch/>
        </p:blipFill>
        <p:spPr>
          <a:xfrm>
            <a:off x="2556000" y="5013360"/>
            <a:ext cx="4157640" cy="158436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395280" y="54936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ом рисунке показано положение пострадавшего, в котором рекомендуется его транспортировать в бессознательном состоя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оугольник 10"/>
          <p:cNvSpPr/>
          <p:nvPr/>
        </p:nvSpPr>
        <p:spPr>
          <a:xfrm>
            <a:off x="219564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Прямоугольник 11"/>
          <p:cNvSpPr/>
          <p:nvPr/>
        </p:nvSpPr>
        <p:spPr>
          <a:xfrm>
            <a:off x="637236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12"/>
          <p:cNvSpPr/>
          <p:nvPr/>
        </p:nvSpPr>
        <p:spPr>
          <a:xfrm>
            <a:off x="4211640" y="4365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410508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9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ом рисунке показана расходящаяся повяз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10"/>
          <p:cNvSpPr/>
          <p:nvPr/>
        </p:nvSpPr>
        <p:spPr>
          <a:xfrm>
            <a:off x="111600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11"/>
          <p:cNvSpPr/>
          <p:nvPr/>
        </p:nvSpPr>
        <p:spPr>
          <a:xfrm>
            <a:off x="406728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12"/>
          <p:cNvSpPr/>
          <p:nvPr/>
        </p:nvSpPr>
        <p:spPr>
          <a:xfrm>
            <a:off x="709308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14" descr=""/>
          <p:cNvPicPr/>
          <p:nvPr/>
        </p:nvPicPr>
        <p:blipFill>
          <a:blip r:embed="rId1"/>
          <a:srcRect l="6697" t="0" r="5893" b="0"/>
          <a:stretch/>
        </p:blipFill>
        <p:spPr>
          <a:xfrm>
            <a:off x="6227640" y="2492280"/>
            <a:ext cx="2665440" cy="3673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663640" cy="36576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"/>
          <p:cNvPicPr/>
          <p:nvPr/>
        </p:nvPicPr>
        <p:blipFill>
          <a:blip r:embed="rId3"/>
          <a:stretch/>
        </p:blipFill>
        <p:spPr>
          <a:xfrm>
            <a:off x="3276720" y="2492280"/>
            <a:ext cx="268596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10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из медицинских средств отсутствует в современной автомобильной аптеч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10"/>
          <p:cNvSpPr/>
          <p:nvPr/>
        </p:nvSpPr>
        <p:spPr>
          <a:xfrm>
            <a:off x="1332000" y="162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11"/>
          <p:cNvSpPr/>
          <p:nvPr/>
        </p:nvSpPr>
        <p:spPr>
          <a:xfrm>
            <a:off x="7020000" y="162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оугольник 12"/>
          <p:cNvSpPr/>
          <p:nvPr/>
        </p:nvSpPr>
        <p:spPr>
          <a:xfrm>
            <a:off x="428472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18" descr="http://mashintop.ru/userfiles/203_image003.jpg"/>
          <p:cNvPicPr/>
          <p:nvPr/>
        </p:nvPicPr>
        <p:blipFill>
          <a:blip r:embed="rId1"/>
          <a:srcRect l="19947" t="8653" r="58006" b="77966"/>
          <a:stretch/>
        </p:blipFill>
        <p:spPr>
          <a:xfrm>
            <a:off x="5940360" y="2205000"/>
            <a:ext cx="2978280" cy="1944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http://mashintop.ru/userfiles/203_image003.jpg"/>
          <p:cNvPicPr/>
          <p:nvPr/>
        </p:nvPicPr>
        <p:blipFill>
          <a:blip r:embed="rId2"/>
          <a:srcRect l="80330" t="71405" r="2354" b="12855"/>
          <a:stretch/>
        </p:blipFill>
        <p:spPr>
          <a:xfrm>
            <a:off x="3132000" y="458136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"/>
          <p:cNvPicPr/>
          <p:nvPr/>
        </p:nvPicPr>
        <p:blipFill>
          <a:blip r:embed="rId3"/>
          <a:srcRect l="11811" t="0" r="13937" b="0"/>
          <a:stretch/>
        </p:blipFill>
        <p:spPr>
          <a:xfrm>
            <a:off x="179280" y="2133720"/>
            <a:ext cx="3168720" cy="20160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22"/>
          <p:cNvSpPr/>
          <p:nvPr/>
        </p:nvSpPr>
        <p:spPr>
          <a:xfrm>
            <a:off x="3132000" y="64580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г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5867280" y="4149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179280" y="4149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ид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ЗА ВНИМ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2"/>
          <a:stretch/>
        </p:blipFill>
        <p:spPr>
          <a:xfrm>
            <a:off x="7543800" y="405756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0" y="405756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1" descr=""/>
          <p:cNvPicPr/>
          <p:nvPr/>
        </p:nvPicPr>
        <p:blipFill>
          <a:blip r:embed="rId5"/>
          <a:stretch/>
        </p:blipFill>
        <p:spPr>
          <a:xfrm>
            <a:off x="1835280" y="3500280"/>
            <a:ext cx="54007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1822320"/>
                <a:gridCol w="2279880"/>
                <a:gridCol w="2460600"/>
                <a:gridCol w="2581200"/>
              </a:tblGrid>
              <a:tr h="5014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7596360" y="2421000"/>
            <a:ext cx="599760" cy="38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3"/>
          <a:stretch/>
        </p:blipFill>
        <p:spPr>
          <a:xfrm>
            <a:off x="5003640" y="292428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4"/>
          <a:stretch/>
        </p:blipFill>
        <p:spPr>
          <a:xfrm>
            <a:off x="2700360" y="342900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"/>
          <p:cNvPicPr/>
          <p:nvPr/>
        </p:nvPicPr>
        <p:blipFill>
          <a:blip r:embed="rId5"/>
          <a:stretch/>
        </p:blipFill>
        <p:spPr>
          <a:xfrm>
            <a:off x="7596360" y="3933720"/>
            <a:ext cx="599760" cy="3812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6"/>
          <a:stretch/>
        </p:blipFill>
        <p:spPr>
          <a:xfrm>
            <a:off x="5003640" y="4941720"/>
            <a:ext cx="600120" cy="381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7"/>
          <a:stretch/>
        </p:blipFill>
        <p:spPr>
          <a:xfrm>
            <a:off x="7667640" y="595008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8"/>
          <a:stretch/>
        </p:blipFill>
        <p:spPr>
          <a:xfrm>
            <a:off x="7596360" y="4437000"/>
            <a:ext cx="599760" cy="3812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9"/>
          <a:stretch/>
        </p:blipFill>
        <p:spPr>
          <a:xfrm>
            <a:off x="7667640" y="5445000"/>
            <a:ext cx="600120" cy="381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"/>
          <p:cNvPicPr/>
          <p:nvPr/>
        </p:nvPicPr>
        <p:blipFill>
          <a:blip r:embed="rId10"/>
          <a:stretch/>
        </p:blipFill>
        <p:spPr>
          <a:xfrm>
            <a:off x="2700360" y="6477120"/>
            <a:ext cx="60012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 помощь участнику конкурс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Rectangle 35"/>
          <p:cNvSpPr/>
          <p:nvPr/>
        </p:nvSpPr>
        <p:spPr>
          <a:xfrm>
            <a:off x="395280" y="692280"/>
            <a:ext cx="87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экране высвечиваются поочерёдно 10 вопро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дают ответы на специальных блан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ешение каждого вопроса дается не более  25 – 30 секун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выбрать один правильный вариант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6"/>
          <p:cNvSpPr/>
          <p:nvPr/>
        </p:nvSpPr>
        <p:spPr>
          <a:xfrm>
            <a:off x="1476360" y="6049800"/>
            <a:ext cx="66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Elephant"/>
              </a:rPr>
              <a:t>Желаем удачи! Стар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5"/>
          <p:cNvSpPr/>
          <p:nvPr/>
        </p:nvSpPr>
        <p:spPr>
          <a:xfrm>
            <a:off x="395280" y="27082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ранный тобой вариант ответа отмечай в бланке для ответов галоч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35"/>
          <p:cNvSpPr/>
          <p:nvPr/>
        </p:nvSpPr>
        <p:spPr>
          <a:xfrm>
            <a:off x="324000" y="3789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6696000" cy="222876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5"/>
          <p:cNvSpPr/>
          <p:nvPr/>
        </p:nvSpPr>
        <p:spPr>
          <a:xfrm>
            <a:off x="4356000" y="4365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гачкова 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35"/>
          <p:cNvSpPr/>
          <p:nvPr/>
        </p:nvSpPr>
        <p:spPr>
          <a:xfrm>
            <a:off x="4427640" y="472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омашев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2"/>
          <a:stretch/>
        </p:blipFill>
        <p:spPr>
          <a:xfrm>
            <a:off x="6516720" y="52671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3708360" y="5637240"/>
            <a:ext cx="503280" cy="1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395280" y="692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авильно выбрать место для наложения кровоостанавливающего жгута на конеч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1332000" y="234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оугольник 11"/>
          <p:cNvSpPr/>
          <p:nvPr/>
        </p:nvSpPr>
        <p:spPr>
          <a:xfrm>
            <a:off x="4284720" y="234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12"/>
          <p:cNvSpPr/>
          <p:nvPr/>
        </p:nvSpPr>
        <p:spPr>
          <a:xfrm>
            <a:off x="7164360" y="2349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11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2808360" cy="2735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"/>
          <p:cNvPicPr/>
          <p:nvPr/>
        </p:nvPicPr>
        <p:blipFill>
          <a:blip r:embed="rId2"/>
          <a:stretch/>
        </p:blipFill>
        <p:spPr>
          <a:xfrm>
            <a:off x="3203640" y="314172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"/>
          <p:cNvPicPr/>
          <p:nvPr/>
        </p:nvPicPr>
        <p:blipFill>
          <a:blip r:embed="rId3"/>
          <a:stretch/>
        </p:blipFill>
        <p:spPr>
          <a:xfrm>
            <a:off x="6156360" y="3141720"/>
            <a:ext cx="2808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324000" y="549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жите, как наложить транспортную шину при травме  ки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19564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6443640" y="155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4284720" y="429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249800" cy="1800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248360" cy="1800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417672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3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9"/>
          <p:cNvSpPr/>
          <p:nvPr/>
        </p:nvSpPr>
        <p:spPr>
          <a:xfrm>
            <a:off x="395280" y="620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каким признакам определяется степень тяжести ожог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оугольник 10"/>
          <p:cNvSpPr/>
          <p:nvPr/>
        </p:nvSpPr>
        <p:spPr>
          <a:xfrm>
            <a:off x="1763640" y="148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Прямоугольник 11"/>
          <p:cNvSpPr/>
          <p:nvPr/>
        </p:nvSpPr>
        <p:spPr>
          <a:xfrm>
            <a:off x="6732720" y="1484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оугольник 12"/>
          <p:cNvSpPr/>
          <p:nvPr/>
        </p:nvSpPr>
        <p:spPr>
          <a:xfrm>
            <a:off x="4211640" y="4365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13"/>
          <p:cNvSpPr/>
          <p:nvPr/>
        </p:nvSpPr>
        <p:spPr>
          <a:xfrm>
            <a:off x="1476360" y="4797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оражён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14"/>
          <p:cNvSpPr/>
          <p:nvPr/>
        </p:nvSpPr>
        <p:spPr>
          <a:xfrm>
            <a:off x="539640" y="1989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15"/>
          <p:cNvSpPr/>
          <p:nvPr/>
        </p:nvSpPr>
        <p:spPr>
          <a:xfrm>
            <a:off x="5219640" y="198900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бина ожога и  площадь поражён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14" descr=""/>
          <p:cNvPicPr/>
          <p:nvPr/>
        </p:nvPicPr>
        <p:blipFill>
          <a:blip r:embed="rId1"/>
          <a:stretch/>
        </p:blipFill>
        <p:spPr>
          <a:xfrm>
            <a:off x="5364000" y="2852640"/>
            <a:ext cx="3559320" cy="1513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5" descr=""/>
          <p:cNvPicPr/>
          <p:nvPr/>
        </p:nvPicPr>
        <p:blipFill>
          <a:blip r:embed="rId2"/>
          <a:stretch/>
        </p:blipFill>
        <p:spPr>
          <a:xfrm>
            <a:off x="2843280" y="5229360"/>
            <a:ext cx="3457440" cy="1439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600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4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ом рисунке показа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морожение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10"/>
          <p:cNvSpPr/>
          <p:nvPr/>
        </p:nvSpPr>
        <p:spPr>
          <a:xfrm>
            <a:off x="1332000" y="213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11"/>
          <p:cNvSpPr/>
          <p:nvPr/>
        </p:nvSpPr>
        <p:spPr>
          <a:xfrm>
            <a:off x="4284720" y="213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12"/>
          <p:cNvSpPr/>
          <p:nvPr/>
        </p:nvSpPr>
        <p:spPr>
          <a:xfrm>
            <a:off x="716436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http://www.farsipharm.com.ua/upload/news/150/f82eaa09897502b7beeb61bd1e6039f0.jpg"/>
          <p:cNvPicPr/>
          <p:nvPr/>
        </p:nvPicPr>
        <p:blipFill>
          <a:blip r:embed="rId1"/>
          <a:srcRect l="50398" t="22657" r="26163" b="5242"/>
          <a:stretch/>
        </p:blipFill>
        <p:spPr>
          <a:xfrm>
            <a:off x="6227640" y="2708280"/>
            <a:ext cx="2665440" cy="3816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ttp://www.farsipharm.com.ua/upload/news/150/f82eaa09897502b7beeb61bd1e6039f0.jpg"/>
          <p:cNvPicPr/>
          <p:nvPr/>
        </p:nvPicPr>
        <p:blipFill>
          <a:blip r:embed="rId2"/>
          <a:srcRect l="25788" t="22657" r="50779" b="3182"/>
          <a:stretch/>
        </p:blipFill>
        <p:spPr>
          <a:xfrm>
            <a:off x="3276720" y="2708280"/>
            <a:ext cx="2663640" cy="38322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ttp://www.farsipharm.com.ua/upload/news/150/f82eaa09897502b7beeb61bd1e6039f0.jpg"/>
          <p:cNvPicPr/>
          <p:nvPr/>
        </p:nvPicPr>
        <p:blipFill>
          <a:blip r:embed="rId3"/>
          <a:srcRect l="0" t="22657" r="75390" b="3182"/>
          <a:stretch/>
        </p:blipFill>
        <p:spPr>
          <a:xfrm>
            <a:off x="324000" y="2708280"/>
            <a:ext cx="266364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 нужно обработать рану для профилактики инфицирова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10"/>
          <p:cNvSpPr/>
          <p:nvPr/>
        </p:nvSpPr>
        <p:spPr>
          <a:xfrm>
            <a:off x="1403280" y="148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11"/>
          <p:cNvSpPr/>
          <p:nvPr/>
        </p:nvSpPr>
        <p:spPr>
          <a:xfrm>
            <a:off x="6875640" y="1484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12"/>
          <p:cNvSpPr/>
          <p:nvPr/>
        </p:nvSpPr>
        <p:spPr>
          <a:xfrm>
            <a:off x="421164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13"/>
          <p:cNvSpPr/>
          <p:nvPr/>
        </p:nvSpPr>
        <p:spPr>
          <a:xfrm>
            <a:off x="179280" y="4292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ыть водой с мыл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14"/>
          <p:cNvSpPr/>
          <p:nvPr/>
        </p:nvSpPr>
        <p:spPr>
          <a:xfrm>
            <a:off x="6443640" y="4292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ботать перекисью вод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15"/>
          <p:cNvSpPr/>
          <p:nvPr/>
        </p:nvSpPr>
        <p:spPr>
          <a:xfrm>
            <a:off x="2916360" y="64580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ходят оба вариа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17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168720" cy="22478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1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3257280" cy="2266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2" descr=""/>
          <p:cNvPicPr/>
          <p:nvPr/>
        </p:nvPicPr>
        <p:blipFill>
          <a:blip r:embed="rId3"/>
          <a:stretch/>
        </p:blipFill>
        <p:spPr>
          <a:xfrm>
            <a:off x="2843280" y="4508640"/>
            <a:ext cx="351468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6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 первая помощь оказывается при проникающем ранении грудной клет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10"/>
          <p:cNvSpPr/>
          <p:nvPr/>
        </p:nvSpPr>
        <p:spPr>
          <a:xfrm>
            <a:off x="1042920" y="155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11"/>
          <p:cNvSpPr/>
          <p:nvPr/>
        </p:nvSpPr>
        <p:spPr>
          <a:xfrm>
            <a:off x="414036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оугольник 12"/>
          <p:cNvSpPr/>
          <p:nvPr/>
        </p:nvSpPr>
        <p:spPr>
          <a:xfrm>
            <a:off x="723600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7"/>
          <p:cNvSpPr/>
          <p:nvPr/>
        </p:nvSpPr>
        <p:spPr>
          <a:xfrm>
            <a:off x="0" y="486900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ладывается стерильная салфетка, место раны забинтовыв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оугольник 13"/>
          <p:cNvSpPr/>
          <p:nvPr/>
        </p:nvSpPr>
        <p:spPr>
          <a:xfrm>
            <a:off x="2987640" y="4869000"/>
            <a:ext cx="31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ладывается материал, не пропускающий воздух, приклеивается пластырем «П» образным способ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оугольник 14"/>
          <p:cNvSpPr/>
          <p:nvPr/>
        </p:nvSpPr>
        <p:spPr>
          <a:xfrm>
            <a:off x="5975280" y="494172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ладывается материал, не пропускающий воздух, приклеивается пластырем по перимет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14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2447640" cy="2649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5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449440" cy="26496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6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44944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7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9"/>
          <p:cNvSpPr/>
          <p:nvPr/>
        </p:nvSpPr>
        <p:spPr>
          <a:xfrm>
            <a:off x="324000" y="62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жите соотношение массажных толчков и искусственных вдохов  при проведении сердечно-лёгочной реани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10"/>
          <p:cNvSpPr/>
          <p:nvPr/>
        </p:nvSpPr>
        <p:spPr>
          <a:xfrm>
            <a:off x="118728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1"/>
          <p:cNvSpPr/>
          <p:nvPr/>
        </p:nvSpPr>
        <p:spPr>
          <a:xfrm>
            <a:off x="4211640" y="213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2"/>
          <p:cNvSpPr/>
          <p:nvPr/>
        </p:nvSpPr>
        <p:spPr>
          <a:xfrm>
            <a:off x="716436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8"/>
          <p:cNvSpPr/>
          <p:nvPr/>
        </p:nvSpPr>
        <p:spPr>
          <a:xfrm>
            <a:off x="6119640" y="5516640"/>
            <a:ext cx="27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вдувание воздуха,  десять надавливаний на груд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20"/>
          <p:cNvSpPr/>
          <p:nvPr/>
        </p:nvSpPr>
        <p:spPr>
          <a:xfrm>
            <a:off x="179280" y="5516640"/>
            <a:ext cx="28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 вдувание воздуха, пять надавливаний на груд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21"/>
          <p:cNvSpPr/>
          <p:nvPr/>
        </p:nvSpPr>
        <p:spPr>
          <a:xfrm>
            <a:off x="3203640" y="5516640"/>
            <a:ext cx="273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дцать надавливаний на грудин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вдувания возду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12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2865600" cy="2735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2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808360" cy="2735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2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2792520" cy="273528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29"/>
          <p:cNvSpPr/>
          <p:nvPr/>
        </p:nvSpPr>
        <p:spPr>
          <a:xfrm>
            <a:off x="179280" y="278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 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3132000" y="2781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0 :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оугольник 31"/>
          <p:cNvSpPr/>
          <p:nvPr/>
        </p:nvSpPr>
        <p:spPr>
          <a:xfrm>
            <a:off x="6156360" y="2708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 :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5:26:56Z</dcterms:created>
  <dc:creator>Sanya</dc:creator>
  <dc:description/>
  <dc:language>en-US</dc:language>
  <cp:lastModifiedBy>Пользователь</cp:lastModifiedBy>
  <dcterms:modified xsi:type="dcterms:W3CDTF">2016-04-19T05:54:10Z</dcterms:modified>
  <cp:revision>110</cp:revision>
  <dc:subject/>
  <dc:title>Безопасное колесо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a000000000001024140</vt:lpwstr>
  </property>
</Properties>
</file>