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52C19-1C56-4675-87C5-1DF3A099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C0FC8-0A91-48AC-811F-B1F65253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D375E-01E5-4FEF-A3C9-DBBEC28D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71984-8DBE-431F-9B88-898CAD3E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9396-FFB7-4C1A-AB88-B5B56EA8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D624-2A66-4ACE-AEC1-8EC7376A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CF60-7222-4610-A805-5D57AC83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7115-1DBA-47ED-91E4-129B5408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4A07-5DB6-4DF2-BBBB-943F7B67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D64E-140D-4292-9010-0EC8C5B2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DFEA-9106-487F-B127-2EF94B71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51A8B-A42E-4D50-A237-BBC391F4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2297-E21E-49EA-B44A-1F0BA77D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BF01-8071-431F-B218-6EDD2890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D07E-C193-45F3-B079-793A94AC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3437-6FA0-4181-9E3A-A5676DA8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CD05-1EAC-4455-88BF-B18613FE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B3264-FD18-41B7-9F24-4FBCECC8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02079-575C-4C56-8743-42090BA8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3DA33-AEFE-4CF4-B0AE-3F93C390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0C7B7-DF48-489B-94CB-14B148D3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2C01E-BE13-4324-80E8-9B354655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DF954-08DC-4A5D-A6F0-CF03061C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01D41-2CA0-472D-9ECC-C160E3EB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quare721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39E0-E7B4-472B-B962-84FFF3F89C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quare7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quare721 B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quare721 B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E123-A9A6-4930-B7A5-D9F1663409F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39640" y="3141360"/>
            <a:ext cx="806472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issarov Arseni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WordArt 16"/>
          <p:cNvSpPr txBox="1"/>
          <p:nvPr/>
        </p:nvSpPr>
        <p:spPr>
          <a:xfrm>
            <a:off x="2627280" y="620640"/>
            <a:ext cx="35625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MY PET"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have got a c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16" descr="MC900438167[1]"/>
          <p:cNvPicPr/>
          <p:nvPr/>
        </p:nvPicPr>
        <p:blipFill>
          <a:blip r:embed="rId1"/>
          <a:stretch/>
        </p:blipFill>
        <p:spPr>
          <a:xfrm>
            <a:off x="4572000" y="1413000"/>
            <a:ext cx="4033800" cy="511164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cat’s nickname is Dymok.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Picture 5" descr="IMG_1658"/>
          <p:cNvPicPr/>
          <p:nvPr/>
        </p:nvPicPr>
        <p:blipFill>
          <a:blip r:embed="rId1"/>
          <a:srcRect l="-22621" t="0" r="-13244" b="-3288"/>
          <a:stretch/>
        </p:blipFill>
        <p:spPr>
          <a:xfrm>
            <a:off x="539640" y="1773360"/>
            <a:ext cx="784872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cat lives in the house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6" descr="IMG_1656"/>
          <p:cNvPicPr/>
          <p:nvPr/>
        </p:nvPicPr>
        <p:blipFill>
          <a:blip r:embed="rId1"/>
          <a:stretch/>
        </p:blipFill>
        <p:spPr>
          <a:xfrm>
            <a:off x="1562040" y="1628640"/>
            <a:ext cx="60404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ymok is my friend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.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6" descr="IMG_1654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Y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ET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37400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It is 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funny. It is grey.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It is clever and brave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It can run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 It can play. It likes   meat, fish   and milk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I feed my pet in the morning and in the evening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16" descr="MC900438167[1]"/>
          <p:cNvPicPr/>
          <p:nvPr/>
        </p:nvPicPr>
        <p:blipFill>
          <a:blip r:embed="rId1"/>
          <a:stretch/>
        </p:blipFill>
        <p:spPr>
          <a:xfrm>
            <a:off x="4572000" y="1413000"/>
            <a:ext cx="4033800" cy="511164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140" name="Picture 16" descr="MC900438167[1]"/>
          <p:cNvPicPr/>
          <p:nvPr/>
        </p:nvPicPr>
        <p:blipFill>
          <a:blip r:embed="rId2"/>
          <a:stretch/>
        </p:blipFill>
        <p:spPr>
          <a:xfrm>
            <a:off x="4572000" y="1413000"/>
            <a:ext cx="4033800" cy="511164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5:00:18Z</dcterms:created>
  <dc:creator>Пользователь</dc:creator>
  <dc:description/>
  <dc:language>en-US</dc:language>
  <cp:lastModifiedBy>Роман</cp:lastModifiedBy>
  <dcterms:modified xsi:type="dcterms:W3CDTF">2017-02-08T18:38:34Z</dcterms:modified>
  <cp:revision>11</cp:revision>
  <dc:subject/>
  <dc:title>ш</dc:title>
</cp:coreProperties>
</file>