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1242F-BDF8-4D72-B382-CEE61368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F5F01-3C2C-413D-9C81-38BC67DA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2BADE-DADA-4414-B56B-8FEF64D2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97068-7E49-4D47-99F0-6308351C4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158C-4ED2-4EEF-93E1-E5B961F0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2605-1565-4E63-9368-82F340C6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C178-F58F-4AB8-871C-CC602CC9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E6BB-90D0-48C4-8E1C-04A912A7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681B-B569-47D5-BBAD-CF28E898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5686-8196-4F7F-A9A7-CA2569DC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3676-6AFB-4D9D-A3E3-97A766B2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FB68A-CA55-48CA-979A-29E3BEE2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03B7-9831-4F6B-AA9E-E37D55B6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D04E-BD16-4E1A-A624-58566D92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E362-AC4C-4956-9A99-FACDB4C4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C6591-A8BC-47E0-9CD4-C311B76B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249C-9CCE-485A-AAED-C9440024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F5DA3-D6D6-440F-88E1-DD268DFA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B13FA-CC59-4901-9F30-E027A8CA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0817D-9A32-4B31-B832-06E5641E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A14D3-7F2D-416E-ACE7-33ECB69E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8E02B-C1D4-4BFB-A00D-30F54082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A7B0F-F87D-461E-BA8F-D96A8D4B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09525-E01A-4A7D-9E38-36368D90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quare721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6B3D-7C3F-4BC1-9497-C09F8DE1A16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quare7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Square721 BT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quare721 B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quare721 B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3F09-D462-4920-8570-4CAFFC1ACDC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539640" y="3141360"/>
            <a:ext cx="806472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omissarov Arseni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WordArt 16"/>
          <p:cNvSpPr txBox="1"/>
          <p:nvPr/>
        </p:nvSpPr>
        <p:spPr>
          <a:xfrm>
            <a:off x="2627280" y="620640"/>
            <a:ext cx="35625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MY PET"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have got a c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6" descr="MC900438167[1]"/>
          <p:cNvPicPr/>
          <p:nvPr/>
        </p:nvPicPr>
        <p:blipFill>
          <a:blip r:embed="rId1"/>
          <a:stretch/>
        </p:blipFill>
        <p:spPr>
          <a:xfrm>
            <a:off x="4572000" y="1413000"/>
            <a:ext cx="4033800" cy="5111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cat’s nickname is Dymok.</a:t>
            </a:r>
            <a:br>
              <a:rPr sz="42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Picture 5" descr="IMG_1658"/>
          <p:cNvPicPr/>
          <p:nvPr/>
        </p:nvPicPr>
        <p:blipFill>
          <a:blip r:embed="rId1"/>
          <a:srcRect l="-22621" t="0" r="-13244" b="-3288"/>
          <a:stretch/>
        </p:blipFill>
        <p:spPr>
          <a:xfrm>
            <a:off x="539640" y="1773360"/>
            <a:ext cx="784872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he cat lives in the house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4" name="Picture 6" descr="IMG_1656"/>
          <p:cNvPicPr/>
          <p:nvPr/>
        </p:nvPicPr>
        <p:blipFill>
          <a:blip r:embed="rId1"/>
          <a:stretch/>
        </p:blipFill>
        <p:spPr>
          <a:xfrm>
            <a:off x="1562040" y="1628640"/>
            <a:ext cx="60404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Dymok is my friend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6" descr="IMG_1654"/>
          <p:cNvPicPr/>
          <p:nvPr/>
        </p:nvPicPr>
        <p:blipFill>
          <a:blip r:embed="rId1"/>
          <a:stretch/>
        </p:blipFill>
        <p:spPr>
          <a:xfrm>
            <a:off x="1550880" y="1600200"/>
            <a:ext cx="6040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MY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PET</a:t>
            </a: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374004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t is 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funny. It is grey.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t is clever and brave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t can run</a:t>
            </a: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 It can play. It likes   meat, fish   and milk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ahoma"/>
              </a:rPr>
              <a:t>I feed my pet in the morning and in the evening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16" descr="MC900438167[1]"/>
          <p:cNvPicPr/>
          <p:nvPr/>
        </p:nvPicPr>
        <p:blipFill>
          <a:blip r:embed="rId1"/>
          <a:stretch/>
        </p:blipFill>
        <p:spPr>
          <a:xfrm>
            <a:off x="4572000" y="1413000"/>
            <a:ext cx="4033800" cy="5111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40" name="Picture 16" descr="MC900438167[1]"/>
          <p:cNvPicPr/>
          <p:nvPr/>
        </p:nvPicPr>
        <p:blipFill>
          <a:blip r:embed="rId2"/>
          <a:stretch/>
        </p:blipFill>
        <p:spPr>
          <a:xfrm>
            <a:off x="4572000" y="1413000"/>
            <a:ext cx="4033800" cy="511164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5:00:18Z</dcterms:created>
  <dc:creator>Пользователь</dc:creator>
  <dc:description/>
  <dc:language>en-US</dc:language>
  <cp:lastModifiedBy>Роман</cp:lastModifiedBy>
  <dcterms:modified xsi:type="dcterms:W3CDTF">2017-02-08T18:38:34Z</dcterms:modified>
  <cp:revision>11</cp:revision>
  <dc:subject/>
  <dc:title>ш</dc:title>
</cp:coreProperties>
</file>