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7E7-3EB1-4D75-B31E-0EF46ECF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47E-DE50-4163-B5FA-D02B0901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9C1-6966-48B9-BDBC-9885D60B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651-3031-4520-A916-6713D717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B0F-2B7C-4EBB-9A6B-9E9D7C4C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07C-1DF3-4785-9A75-FDD89B79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365-675C-4007-B36D-474B1D65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DA4-B7A1-4D9C-9881-B7F68E54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3B0-F77C-4DBD-AFBB-E0347AAA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5E79-C66C-4695-8AED-3B95EFC4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9EB-80DF-4CA0-B4DF-02BE61F6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3DD-47FB-4A1D-8607-47628643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6DED-B07F-4A1E-B229-66233743A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fp=1&amp;uinfo=ww-1285-wh-597-fw-1060-fh-448-pd-1&amp;p=1&amp;text=&#1082;&#1072;&#1088;&#1090;&#1080;&#1085;&#1082;&#1080;%20&#1087;&#1088;&#1086;%20&#1093;&#1083;&#1077;&#1073;&amp;noreask=1&amp;pos=42&amp;rpt=simage&amp;lr=213&amp;img_url=http://img1.liveinternet.ru/images/attach/c/2/64/815/64815830_14968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1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635040" y="3284640"/>
            <a:ext cx="4952880" cy="2590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"/>
          <p:cNvSpPr/>
          <p:nvPr/>
        </p:nvSpPr>
        <p:spPr>
          <a:xfrm>
            <a:off x="1066680" y="6094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Государственное Бюджетное Образовательное  </a:t>
            </a:r>
            <a:br>
              <a:rPr sz="1800"/>
            </a:br>
            <a:r>
              <a:rPr b="1" i="1" lang="ru-RU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учреждение детский сад № 25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5334120" y="4952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Автор проек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Мудрицкая М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1905120" y="21337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Хлеб – всему голо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1905120" y="13716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рмативный проект во второй младшей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609480" y="53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дуктивная деятельнос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3505320" y="1241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еп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4" descr=""/>
          <p:cNvPicPr/>
          <p:nvPr/>
        </p:nvPicPr>
        <p:blipFill>
          <a:blip r:embed="rId2"/>
          <a:stretch/>
        </p:blipFill>
        <p:spPr>
          <a:xfrm>
            <a:off x="1676520" y="184932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609480" y="53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дуктивная деятельнос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3505320" y="1241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еп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2971800" y="1681200"/>
            <a:ext cx="304812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533520" y="4572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летай за обе щек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растай богатыре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" descr=""/>
          <p:cNvPicPr/>
          <p:nvPr/>
        </p:nvPicPr>
        <p:blipFill>
          <a:blip r:embed="rId2"/>
          <a:stretch/>
        </p:blipFill>
        <p:spPr>
          <a:xfrm>
            <a:off x="1981080" y="1781280"/>
            <a:ext cx="518184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1828800" y="4572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http://www.dewalls.ru/wallpapers/bread/7d565fcef88d23eac48d08c866e64745.64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9040" y="1295280"/>
            <a:ext cx="7765920" cy="485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3" descr="1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1905120" y="45720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ктуальнос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4952880" y="1523880"/>
            <a:ext cx="3810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Хлеб -один из самых главных продуктов человеческого труда. Мы не можем прожить без него ни один день. Недаром народ создал пословицы: "Хлеб - кормилец", "Без золота проживешь - без хлеба - нет", "Хлеб - всему голов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416880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3" descr="1"/>
          <p:cNvPicPr/>
          <p:nvPr/>
        </p:nvPicPr>
        <p:blipFill>
          <a:blip r:embed="rId1"/>
          <a:stretch/>
        </p:blipFill>
        <p:spPr>
          <a:xfrm>
            <a:off x="-3636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2438280" y="3808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1676520" y="1089000"/>
            <a:ext cx="518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здание условий для развития познавательных и творческих способностей детей, мышления, воображения, связной речи, воспитание бережного отношения к хлебу и труду взросл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4620004150066"/>
          <p:cNvPicPr/>
          <p:nvPr/>
        </p:nvPicPr>
        <p:blipFill>
          <a:blip r:embed="rId2"/>
          <a:stretch/>
        </p:blipFill>
        <p:spPr>
          <a:xfrm rot="483000">
            <a:off x="3355920" y="3588840"/>
            <a:ext cx="2998800" cy="231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3" descr="1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2438280" y="4572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1676520" y="116532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огащение и уточнение знаний детей о хлебе, труде взросл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1676520" y="1811160"/>
            <a:ext cx="518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ормирование представлений о выращивании хлеба от зерна до коло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1676520" y="273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звитие речи, умения общ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1676520" y="337176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общ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наний, отражение детьми в рисунке и игров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167236a7e3076e514bb8bd5e61bd54fc_h"/>
          <p:cNvPicPr/>
          <p:nvPr/>
        </p:nvPicPr>
        <p:blipFill>
          <a:blip r:embed="rId2"/>
          <a:stretch/>
        </p:blipFill>
        <p:spPr>
          <a:xfrm>
            <a:off x="2104920" y="4078440"/>
            <a:ext cx="4564080" cy="201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3"/>
          <a:stretch/>
        </p:blipFill>
        <p:spPr>
          <a:xfrm>
            <a:off x="4648320" y="3295800"/>
            <a:ext cx="3987720" cy="29908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4173480" y="53352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ш обе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533520" y="3429000"/>
            <a:ext cx="403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ть такие слова: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"Он всему голова"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Хрустящей корочкой одет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чень Мягкий белый ХЛЕБ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1333440" y="150336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2362320" y="533520"/>
            <a:ext cx="383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ы кушае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"/>
          <p:cNvSpPr/>
          <p:nvPr/>
        </p:nvSpPr>
        <p:spPr>
          <a:xfrm>
            <a:off x="914400" y="533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дуктивная деятельнос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2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010640" cy="4543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2133720" y="12412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смотр мультфильма о  хл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"/>
          <p:cNvSpPr/>
          <p:nvPr/>
        </p:nvSpPr>
        <p:spPr>
          <a:xfrm>
            <a:off x="609480" y="53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южетно – ролевые иг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2" descr=""/>
          <p:cNvPicPr/>
          <p:nvPr/>
        </p:nvPicPr>
        <p:blipFill>
          <a:blip r:embed="rId2"/>
          <a:stretch/>
        </p:blipFill>
        <p:spPr>
          <a:xfrm>
            <a:off x="1752480" y="1371600"/>
            <a:ext cx="57150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5105520" cy="51051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5791320" y="762120"/>
            <a:ext cx="2590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екарь, пек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 муки испеки нам коло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a сушки - Ваню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a баранки - Таню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a бублики - Гри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a пирог –Мариш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арёна</dc:creator>
  <dc:description/>
  <dc:language>en-US</dc:language>
  <cp:lastModifiedBy>Маша</cp:lastModifiedBy>
  <dcterms:modified xsi:type="dcterms:W3CDTF">2017-10-10T10:37:2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