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735-2CD7-4E07-9B3D-E19D6C1BE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616-C38B-4A0B-8E0E-E86B3CCD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7B3-BF71-4FC8-ACE3-B8CDE102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4CA0-B92E-4288-85B1-2B867095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718-0C86-4DFF-9985-5E201CA1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7A2-832C-48EC-977F-EE0FBE4E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6741-70C0-4584-A0E3-57C727FA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D32-7FB7-498C-B288-5BE5AC23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094-0EC2-4F8F-A546-89C6976A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EDAC-F3D4-4977-AC98-4E10AFD7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77E4-FE7D-4B17-B986-7FA27031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3B9-8769-4CEB-AF22-A22D2944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147A-5550-495B-AD3F-FCFC3B0878BE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Опасный звоноче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0253f"/>
                </a:solidFill>
                <a:latin typeface="Arial"/>
              </a:rPr>
              <a:t>Коллективная</a:t>
            </a:r>
            <a:r>
              <a:rPr b="0" lang="en-US" sz="2000" spc="-1" strike="noStrike">
                <a:solidFill>
                  <a:srgbClr val="10253f"/>
                </a:solidFill>
                <a:latin typeface="Constantia"/>
              </a:rPr>
              <a:t> </a:t>
            </a:r>
            <a:r>
              <a:rPr b="0" lang="en-US" sz="2000" spc="-1" strike="noStrike">
                <a:solidFill>
                  <a:srgbClr val="10253f"/>
                </a:solidFill>
                <a:latin typeface="Arial"/>
              </a:rPr>
              <a:t>работа учеников 10 класса.</a:t>
            </a:r>
            <a:r>
              <a:rPr b="0" lang="en-US" sz="3400" spc="-1" strike="noStrike">
                <a:solidFill>
                  <a:srgbClr val="10253f"/>
                </a:solidFill>
                <a:latin typeface="Constanti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Arial"/>
              </a:rPr>
              <a:t>Учитель Петрова Н.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Признаки неблагоприятного воздействия мобильного телефона на здоровь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оловные боли и головокружени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вышенная утомляем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ушение памяти и концентрации вним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прессивные заболеван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оль и резь в глазах , сухость их слизисто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вышение артериального давления и пуль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оль суставов костей у любителей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SMS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 игр на мобильник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Риск для здоровья детей очень высок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Степень поглощения электромагнитной энергии у ребёнка значительно выше , чем у взрослого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Детский организм обладает большей чувствительностью к электромагнитному излучению , чем взрослы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Мозг детей имеет большую склонность к накоплению неблагоприятных реакций в условиях повторных облучений электромагнитным поле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Электромагнитное поле влияет на формирование процессов высшей нервной деятельност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642600"/>
            <a:ext cx="403848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овременные дети пользуются телефонами с раннего возраста и будут продолжать делать это ,став взрослыми , поэтому продолжительность контакта детей с электромагнитным излучением окажется существенного  дольше чем у современных взрослы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6" name="Содержимое 5" descr=""/>
          <p:cNvPicPr/>
          <p:nvPr/>
        </p:nvPicPr>
        <p:blipFill>
          <a:blip r:embed="rId2"/>
          <a:stretch/>
        </p:blipFill>
        <p:spPr>
          <a:xfrm>
            <a:off x="4714920" y="1928880"/>
            <a:ext cx="403848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Возможные расстройств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Ослабление памя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нижение внимания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нижение умственных и познавательных способносте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Раздражительность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арушение сн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склонность к стрессорным реакция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вышение эпилептической готов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льзуйтесь правильно…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ибольшее воздействие мобильные телефоны оказывают в момент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оединения, когда излучения в разы больше, чем во время разгово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1" name="Содержимое 7" descr=""/>
          <p:cNvPicPr/>
          <p:nvPr/>
        </p:nvPicPr>
        <p:blipFill>
          <a:blip r:embed="rId2"/>
          <a:stretch/>
        </p:blipFill>
        <p:spPr>
          <a:xfrm>
            <a:off x="4857840" y="1500120"/>
            <a:ext cx="40384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На сегодняшний день проведены исследования, доказывающие существование болезненной зависимости от мобильного телефо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3" name="Содержимое 3" descr="1268207692_iphone-addict.jpg"/>
          <p:cNvPicPr/>
          <p:nvPr/>
        </p:nvPicPr>
        <p:blipFill>
          <a:blip r:embed="rId2"/>
          <a:stretch/>
        </p:blipFill>
        <p:spPr>
          <a:xfrm>
            <a:off x="5130720" y="1600200"/>
            <a:ext cx="3073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Основные признаки зависимости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Беспокойство, если телефон долго молчит, бессознательный поиск повода для звонка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Чувство дискомфорта в ситуации с выключенным или забытым телефоном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Стремление постоянно менять телефон на более усовершенствованную модель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Невозможность контролировать свои расходы на мобильную связь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305280" indent="-3052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Разговор по мобильному телефону не должен длиться более трёх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ерерыв между звонками – не менее 15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уммарное время сеансов связи в течение суток – не более 20 мину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и любой возможности разговор лучше заменить на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ms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осите телефон в сумке, кармане верхней одежды или в руках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ельзя спать рядом с телефоном! Выключайте его перед сн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оветы учёных по уменьшению возможного вреда от мобильников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Если следовать данным советам, то можно избежать нежелательных проблем со здоровьем в настоящее время и в будущем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9" name="Содержимое 4" descr="07-01.jpg"/>
          <p:cNvPicPr/>
          <p:nvPr/>
        </p:nvPicPr>
        <p:blipFill>
          <a:blip r:embed="rId2"/>
          <a:stretch/>
        </p:blipFill>
        <p:spPr>
          <a:xfrm>
            <a:off x="4643280" y="1928880"/>
            <a:ext cx="403884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Мобильная связь не предназначена для ведения длинных, а порой и пустых телефонных бесед, она служит для экстренных и коротких сообщений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Объект 3" descr=""/>
          <p:cNvPicPr/>
          <p:nvPr/>
        </p:nvPicPr>
        <p:blipFill>
          <a:blip r:embed="rId2"/>
          <a:stretch/>
        </p:blipFill>
        <p:spPr>
          <a:xfrm>
            <a:off x="4786200" y="1857240"/>
            <a:ext cx="4000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nstantia"/>
              </a:rPr>
              <a:t>Увлечение сотовыми телефонами породило проблему – воздействие сверхчастотного (СВЧ) излучения на организм  человека, его психологической зависимости от этого вида связи. Может ли пользование мобильного телефона нанести вред здоровью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Содержимое 5" descr="1_15878.jpg"/>
          <p:cNvPicPr/>
          <p:nvPr/>
        </p:nvPicPr>
        <p:blipFill>
          <a:blip r:embed="rId2"/>
          <a:stretch/>
        </p:blipFill>
        <p:spPr>
          <a:xfrm>
            <a:off x="395280" y="1989000"/>
            <a:ext cx="2771640" cy="3810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708000" y="1341000"/>
            <a:ext cx="4303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астота сотовых телефонов  лежит в пределах 0,8-2,5 ГГц, это в десятки раз больше чем частота мед. аппаратов УВЧ-терапии. Однако известно, что чем больше частота электоромагнитных колебаний, тем больше тепловой эффект она оказывает. Поэтому телефоны опасны для живых тканей человек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0" y="148428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Частота, мощность и время воздействия СВЧ- излучения – факторы риска, которым подвержен каждый обладатель мобильного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7" name="Рисунок 7" descr="z_c81dbf15.jpg"/>
          <p:cNvPicPr/>
          <p:nvPr/>
        </p:nvPicPr>
        <p:blipFill>
          <a:blip r:embed="rId2"/>
          <a:stretch/>
        </p:blipFill>
        <p:spPr>
          <a:xfrm>
            <a:off x="4267080" y="1484280"/>
            <a:ext cx="487692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вонки за рулём опасны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7120" y="1571760"/>
            <a:ext cx="291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льзование  мобильным телефоном во время управления автомобилей увеличивает риск дорожно- транспортных происшествий в 3-4 раз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0" name="Рисунок 6" descr="61327098_1781326_source.jpg"/>
          <p:cNvPicPr/>
          <p:nvPr/>
        </p:nvPicPr>
        <p:blipFill>
          <a:blip r:embed="rId2"/>
          <a:stretch/>
        </p:blipFill>
        <p:spPr>
          <a:xfrm>
            <a:off x="3851280" y="1028880"/>
            <a:ext cx="511344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Центральная нервная систем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иболее чувствительна к электромагнитным поля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Их воздействие приводит к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ухудшению памяти, внимания, вол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нарушение с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озникновению нейроциркуляторной дистон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3" name="Содержимое 5" descr=""/>
          <p:cNvPicPr/>
          <p:nvPr/>
        </p:nvPicPr>
        <p:blipFill>
          <a:blip r:embed="rId2"/>
          <a:stretch/>
        </p:blipFill>
        <p:spPr>
          <a:xfrm>
            <a:off x="4648320" y="1714680"/>
            <a:ext cx="40384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роисходит угнетение иммуногенеза ,что приводит к ухудшению сопротивляемости организма к различным инфекциям. Мобильные телефоны провоцируют астму и экзем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2"/>
          <a:stretch/>
        </p:blipFill>
        <p:spPr>
          <a:xfrm>
            <a:off x="5286240" y="1928880"/>
            <a:ext cx="34750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00040"/>
            <a:ext cx="40384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 результате воздействия на эндокринную систему увеличивается содержание адреналина в крови (повышенное давление и хроническое нахождение организма в состоянии стресса).Происходит разрушение клеток крови – эритроцитов.(анемия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" name="Содержимое 4" descr=""/>
          <p:cNvPicPr/>
          <p:nvPr/>
        </p:nvPicPr>
        <p:blipFill>
          <a:blip r:embed="rId2"/>
          <a:stretch/>
        </p:blipFill>
        <p:spPr>
          <a:xfrm>
            <a:off x="4565520" y="1066680"/>
            <a:ext cx="43466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Основной вред для мужчин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Наблюдается  угнетение сперматогене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увеличение рождаемости девоче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повышение числа врожденных пороков развития и уродств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Содержимое 4" descr=""/>
          <p:cNvPicPr/>
          <p:nvPr/>
        </p:nvPicPr>
        <p:blipFill>
          <a:blip r:embed="rId2"/>
          <a:stretch/>
        </p:blipFill>
        <p:spPr>
          <a:xfrm>
            <a:off x="4925880" y="1994040"/>
            <a:ext cx="36687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14:00:05Z</dcterms:created>
  <dc:creator>Ляля</dc:creator>
  <dc:description/>
  <dc:language>en-US</dc:language>
  <cp:lastModifiedBy>User</cp:lastModifiedBy>
  <dcterms:modified xsi:type="dcterms:W3CDTF">2017-10-10T17:21:57Z</dcterms:modified>
  <cp:revision>21</cp:revision>
  <dc:subject/>
  <dc:title>Опасный звоночек</dc:title>
</cp:coreProperties>
</file>