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8A4C-3FEA-4B95-BEB9-C7C67E50C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1246-0BCE-4337-A773-AE35905E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8908-D2C3-4B37-A88D-8F9391D6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3244-C739-4985-9074-DAE9D8C12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C901-6CD9-4271-8E07-AA69A2D2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2C57-1D55-4296-95FB-51D63E6C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AA2D-CEE2-4E77-8CF7-1E2B2624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8449-078A-4BEE-A4DA-38D21913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432A-9CEC-4D65-B8F2-681EB512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493B-C098-48C3-B2C9-17CAA581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7D94-B1E9-473F-8D3C-0F2472A0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5B17-06AD-46C9-8FAD-B427DE83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8F6E-9186-438C-8EE8-FD1ABA979339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Опасный звоночек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253f"/>
                </a:solidFill>
                <a:latin typeface="Arial"/>
              </a:rPr>
              <a:t>Коллективная</a:t>
            </a:r>
            <a:r>
              <a:rPr b="0" lang="en-US" sz="2000" spc="-1" strike="noStrike">
                <a:solidFill>
                  <a:srgbClr val="10253f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10253f"/>
                </a:solidFill>
                <a:latin typeface="Arial"/>
              </a:rPr>
              <a:t>работа учеников 10 класса.</a:t>
            </a:r>
            <a:r>
              <a:rPr b="0" lang="en-US" sz="3400" spc="-1" strike="noStrike">
                <a:solidFill>
                  <a:srgbClr val="10253f"/>
                </a:solidFill>
                <a:latin typeface="Constanti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253f"/>
                </a:solidFill>
                <a:latin typeface="Arial"/>
              </a:rPr>
              <a:t>Учитель Петрова Н.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Признаки неблагоприятного воздействия мобильного телефона на здоровье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Головные боли и головокруже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овышенная утомляемост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арушение памяти и концентрации вниман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Депрессивные заболеван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Боль и резь в глазах , сухость их слизисто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овышение артериального давления и пульс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Боль суставов костей у любителей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MS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и игр на мобильник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Риск для здоровья детей очень высок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Степень поглощения электромагнитной энергии у ребёнка значительно выше , чем у взрослого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Детский организм обладает большей чувствительностью к электромагнитному излучению , чем взрослы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Мозг детей имеет большую склонность к накоплению неблагоприятных реакций в условиях повторных облучений электромагнитным поле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Электромагнитное поле влияет на формирование процессов высшей нервной деятельност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642600"/>
            <a:ext cx="403848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овременные дети пользуются телефонами с раннего возраста и будут продолжать делать это ,став взрослыми , поэтому продолжительность контакта детей с электромагнитным излучением окажется существенного  дольше чем у современных взрослы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6" name="Содержимое 5" descr=""/>
          <p:cNvPicPr/>
          <p:nvPr/>
        </p:nvPicPr>
        <p:blipFill>
          <a:blip r:embed="rId2"/>
          <a:stretch/>
        </p:blipFill>
        <p:spPr>
          <a:xfrm>
            <a:off x="4714920" y="1928880"/>
            <a:ext cx="403848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Возможные расстройств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Ослабление памя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Снижение внимания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Снижение умственных и познавательных способносте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Раздражительность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Нарушение сн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склонность к стрессорным реакциям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овышение эпилептической готовнос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льзуйтесь правильно…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аибольшее воздействие мобильные телефоны оказывают в момент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оединения, когда излучения в разы больше, чем во время разговор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1" name="Содержимое 7" descr=""/>
          <p:cNvPicPr/>
          <p:nvPr/>
        </p:nvPicPr>
        <p:blipFill>
          <a:blip r:embed="rId2"/>
          <a:stretch/>
        </p:blipFill>
        <p:spPr>
          <a:xfrm>
            <a:off x="4857840" y="1500120"/>
            <a:ext cx="403848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На сегодняшний день проведены исследования, доказывающие существование болезненной зависимости от мобильного телефо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3" name="Содержимое 3" descr="1268207692_iphone-addict.jpg"/>
          <p:cNvPicPr/>
          <p:nvPr/>
        </p:nvPicPr>
        <p:blipFill>
          <a:blip r:embed="rId2"/>
          <a:stretch/>
        </p:blipFill>
        <p:spPr>
          <a:xfrm>
            <a:off x="5130720" y="1600200"/>
            <a:ext cx="3073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Основные признаки зависимости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nstantia"/>
              </a:rPr>
              <a:t>Беспокойство, если телефон долго молчит, бессознательный поиск повода для звонка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305280" indent="-305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nstantia"/>
              </a:rPr>
              <a:t>Чувство дискомфорта в ситуации с выключенным или забытым телефоном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305280" indent="-305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nstantia"/>
              </a:rPr>
              <a:t>Стремление постоянно менять телефон на более усовершенствованную модель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305280" indent="-305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nstantia"/>
              </a:rPr>
              <a:t>Невозможность контролировать свои расходы на мобильную связь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305280" indent="-305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азговор по мобильному телефону не должен длиться более трёх мину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ерерыв между звонками – не менее 15 мину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уммарное время сеансов связи в течение суток – не более 20 мину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ри любой возможности разговор лучше заменить на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ms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осите телефон в сумке, кармане верхней одежды или в руках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ельзя спать рядом с телефоном! Выключайте его перед сн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Советы учёных по уменьшению возможного вреда от мобильников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Если следовать данным советам, то можно избежать нежелательных проблем со здоровьем в настоящее время и в будущем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9" name="Содержимое 4" descr="07-01.jpg"/>
          <p:cNvPicPr/>
          <p:nvPr/>
        </p:nvPicPr>
        <p:blipFill>
          <a:blip r:embed="rId2"/>
          <a:stretch/>
        </p:blipFill>
        <p:spPr>
          <a:xfrm>
            <a:off x="4643280" y="1928880"/>
            <a:ext cx="403884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ПОМНИТЕ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Мобильная связь не предназначена для ведения длинных, а порой и пустых телефонных бесед, она служит для экстренных и коротких сообщени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2" name="Объект 3" descr=""/>
          <p:cNvPicPr/>
          <p:nvPr/>
        </p:nvPicPr>
        <p:blipFill>
          <a:blip r:embed="rId2"/>
          <a:stretch/>
        </p:blipFill>
        <p:spPr>
          <a:xfrm>
            <a:off x="4786200" y="1857240"/>
            <a:ext cx="4000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Увлечение сотовыми телефонами породило проблему – воздействие сверхчастотного (СВЧ) излучения на организм  человека, его психологической зависимости от этого вида связи. Может ли пользование мобильного телефона нанести вред здоровью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Содержимое 5" descr="1_15878.jpg"/>
          <p:cNvPicPr/>
          <p:nvPr/>
        </p:nvPicPr>
        <p:blipFill>
          <a:blip r:embed="rId2"/>
          <a:stretch/>
        </p:blipFill>
        <p:spPr>
          <a:xfrm>
            <a:off x="395280" y="1989000"/>
            <a:ext cx="2771640" cy="3810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708000" y="1341000"/>
            <a:ext cx="43038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астота сотовых телефонов  лежит в пределах 0,8-2,5 ГГц, это в десятки раз больше чем частота мед. аппаратов УВЧ-терапии. Однако известно, что чем больше частота электоромагнитных колебаний, тем больше тепловой эффект она оказывает. Поэтому телефоны опасны для живых тканей челове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0" y="148428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Частота, мощность и время воздействия СВЧ- излучения – факторы риска, которым подвержен каждый обладатель мобильного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7" name="Рисунок 7" descr="z_c81dbf15.jpg"/>
          <p:cNvPicPr/>
          <p:nvPr/>
        </p:nvPicPr>
        <p:blipFill>
          <a:blip r:embed="rId2"/>
          <a:stretch/>
        </p:blipFill>
        <p:spPr>
          <a:xfrm>
            <a:off x="4267080" y="1484280"/>
            <a:ext cx="487692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вонки за рулём опасны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57120" y="1571760"/>
            <a:ext cx="291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ользование  мобильным телефоном во время управления автомобилей увеличивает риск дорожно- транспортных происшествий в 3-4 раз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" name="Рисунок 6" descr="61327098_1781326_source.jpg"/>
          <p:cNvPicPr/>
          <p:nvPr/>
        </p:nvPicPr>
        <p:blipFill>
          <a:blip r:embed="rId2"/>
          <a:stretch/>
        </p:blipFill>
        <p:spPr>
          <a:xfrm>
            <a:off x="3851280" y="1028880"/>
            <a:ext cx="511344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Центральная нервная система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аиболее чувствительна к электромагнитным полям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Их воздействие приводит к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ухудшению памяти, внимания, вол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арушение с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возникновению нейроциркуляторной дистони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3" name="Содержимое 5" descr=""/>
          <p:cNvPicPr/>
          <p:nvPr/>
        </p:nvPicPr>
        <p:blipFill>
          <a:blip r:embed="rId2"/>
          <a:stretch/>
        </p:blipFill>
        <p:spPr>
          <a:xfrm>
            <a:off x="4648320" y="1714680"/>
            <a:ext cx="40384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роисходит угнетение иммуногенеза ,что приводит к ухудшению сопротивляемости организма к различным инфекциям. Мобильные телефоны провоцируют астму и экзем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" name="Объект 3" descr=""/>
          <p:cNvPicPr/>
          <p:nvPr/>
        </p:nvPicPr>
        <p:blipFill>
          <a:blip r:embed="rId2"/>
          <a:stretch/>
        </p:blipFill>
        <p:spPr>
          <a:xfrm>
            <a:off x="5286240" y="1928880"/>
            <a:ext cx="34750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500040"/>
            <a:ext cx="40384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результате воздействия на эндокринную систему увеличивается содержание адреналина в крови (повышенное давление и хроническое нахождение организма в состоянии стресса).Происходит разрушение клеток крови – эритроцитов.(анемия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7" name="Содержимое 4" descr=""/>
          <p:cNvPicPr/>
          <p:nvPr/>
        </p:nvPicPr>
        <p:blipFill>
          <a:blip r:embed="rId2"/>
          <a:stretch/>
        </p:blipFill>
        <p:spPr>
          <a:xfrm>
            <a:off x="4565520" y="1066680"/>
            <a:ext cx="434664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Основной вред для мужчин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Наблюдается  угнетение сперматогенез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увеличение рождаемости девочек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повышение числа врожденных пороков развития и уродств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" name="Содержимое 4" descr=""/>
          <p:cNvPicPr/>
          <p:nvPr/>
        </p:nvPicPr>
        <p:blipFill>
          <a:blip r:embed="rId2"/>
          <a:stretch/>
        </p:blipFill>
        <p:spPr>
          <a:xfrm>
            <a:off x="4925880" y="1994040"/>
            <a:ext cx="366876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14:00:05Z</dcterms:created>
  <dc:creator>Ляля</dc:creator>
  <dc:description/>
  <dc:language>en-US</dc:language>
  <cp:lastModifiedBy>User</cp:lastModifiedBy>
  <dcterms:modified xsi:type="dcterms:W3CDTF">2017-10-10T17:21:57Z</dcterms:modified>
  <cp:revision>21</cp:revision>
  <dc:subject/>
  <dc:title>Опасный звоночек</dc:title>
</cp:coreProperties>
</file>