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5ED4-CD2B-4793-B6E7-7773E1857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D305-24E7-414D-BFF8-1C51DAD7E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39DF-1042-4E5D-8AD9-72751D601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9B71-2017-4F22-B5BF-7B35D5651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53D10-F8AD-4A01-8D68-E60EC3EDE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B850F-1423-4E6A-8B5C-FC5EC4191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F4FE8-FFB3-4C19-9670-BC3636CB6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0665B-EF8C-4DB2-89CE-B5598D3AF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C5CFD-02B3-43EF-A1A2-40910DA9B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12FBE-222E-4B6A-AF24-F84BA9A3D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99760-B92F-42FC-9AF0-00E4D8B7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89AD-A795-4656-8D86-925B5E6FA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34134-9671-4682-AADB-911AB2BF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A4F28-335F-4EA1-94A6-AFC90A79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81FBC-9E3B-46AC-AC98-68FE97223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5EF06-F3A1-4422-A9C1-295ECC10D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D25D1-4537-403C-BE92-92E78111F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56F0B-F620-4104-A131-91B262893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C56FF-AD73-4946-8128-393BFE059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2509D-88C2-4178-8190-64A255810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CA064-22A4-4346-9088-D4C28C6D5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47398-05B3-4DB1-852F-5CD6B8502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FF17-3A59-4D9D-B0CC-090DD54FD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F41CF-729C-454A-9642-3725E673F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FFA58-A57A-495F-942B-2621853D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FB552-E98F-4FBD-8021-553E6BE4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85085-0736-4847-81DE-2F4F5645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DB43C-39BA-4ACF-A3B2-5006598EC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464CE-0EF8-443D-B496-8A5225D81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6560B-D5EC-40CC-9C54-FF6FEF3CF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98E85-5D38-4C7F-97A4-E5257D0AF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2E3BB-F33A-429E-998D-AABC9187D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C6082-0546-418B-8A7A-D8007E4F8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DBF8-E263-4F9F-A0E9-384B6A33B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5CFC2-AAFC-47B1-AD13-3EA7D99B6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A0779-5E46-45B0-9E36-593C3F5C2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54B9A-84C3-4154-A955-6DC5F1994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C3D32-75C1-4D39-997D-785C04D9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12AEB-EC5C-415F-A8B4-0854FC26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E28E0-8E60-4A76-9029-272BCD6D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B48D6-993F-4D21-8878-85F15F1E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8D78A-BE87-49BD-9032-E4EA73071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50AA0-9E02-46B8-BA43-78CA3C016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24E4-DA78-4928-B4D2-8F73167D2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3852-FF1E-47E5-AF6B-E36D2D328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6D05-D4DB-4161-90B4-656D2F9E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64B0-29D3-49F5-9B82-09D18682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AB98-CDC5-45FE-AC6A-B2AE2A1D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BFD83-0A7E-4229-9383-3DB861D32463}" type="slidenum">
              <a:rPr b="0" lang="ru-RU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5fcbe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97B64-BB75-428A-89AD-8F2FFBA7DEFE}" type="slidenum">
              <a:rPr b="0" lang="ru-RU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705BC-4FC9-4784-9F64-D1E22730B981}" type="slidenum">
              <a:rPr b="0" lang="ru-RU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FC3FE-C018-4FFB-8120-179FEF2E3D9C}" type="slidenum">
              <a:rPr b="0" lang="ru-RU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727236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Calibri"/>
                <a:ea typeface="Calibri"/>
              </a:rPr>
              <a:t>Муниципальное автономное дошкольное образовательное </a:t>
            </a:r>
            <a:br>
              <a:rPr sz="1800"/>
            </a:br>
            <a:r>
              <a:rPr b="1" i="1" lang="ru-RU" sz="1800" spc="-1" strike="noStrike">
                <a:solidFill>
                  <a:srgbClr val="0070c0"/>
                </a:solidFill>
                <a:latin typeface="Calibri"/>
                <a:ea typeface="Calibri"/>
              </a:rPr>
              <a:t>учреждение  «Детский сад» №1</a:t>
            </a:r>
            <a:br>
              <a:rPr sz="1800"/>
            </a:br>
            <a:endParaRPr b="0" lang="en-US" sz="18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3" name="Подзаголовок 2"/>
          <p:cNvSpPr/>
          <p:nvPr/>
        </p:nvSpPr>
        <p:spPr>
          <a:xfrm>
            <a:off x="250920" y="5516640"/>
            <a:ext cx="87138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  <a:ea typeface="Calibri"/>
              </a:rPr>
              <a:t>Педагог-психолог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Calibri"/>
                <a:ea typeface="Calibri"/>
              </a:rPr>
              <a:t>Шпилевая Ирина Евген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WordArt 6"/>
          <p:cNvSpPr txBox="1"/>
          <p:nvPr/>
        </p:nvSpPr>
        <p:spPr>
          <a:xfrm>
            <a:off x="755640" y="2328840"/>
            <a:ext cx="784872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alibri"/>
              </a:rPr>
              <a:t>Профилактика жестокого обращения </a:t>
            </a:r>
            <a:endParaRPr b="0" lang="en-US" sz="6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alibri"/>
              <a:ea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alibri"/>
              </a:rPr>
              <a:t>и насилия в отношении детей</a:t>
            </a:r>
            <a:endParaRPr b="0" lang="en-US" sz="6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alibri"/>
              <a:ea typeface="Calibri"/>
            </a:endParaRPr>
          </a:p>
        </p:txBody>
      </p:sp>
      <p:pic>
        <p:nvPicPr>
          <p:cNvPr id="215" name="Рисунок 1" descr=""/>
          <p:cNvPicPr/>
          <p:nvPr/>
        </p:nvPicPr>
        <p:blipFill>
          <a:blip r:embed="rId1"/>
          <a:stretch/>
        </p:blipFill>
        <p:spPr>
          <a:xfrm>
            <a:off x="3059280" y="809640"/>
            <a:ext cx="2352600" cy="73332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20124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500" spc="-1" strike="noStrike">
                <a:solidFill>
                  <a:srgbClr val="0000ff"/>
                </a:solidFill>
                <a:latin typeface="Trebuchet MS"/>
              </a:rPr>
              <a:t>«ДЕТИ МИРА НЕВИННЫ, УЯЗВИМЫ </a:t>
            </a:r>
            <a:br>
              <a:rPr sz="2500"/>
            </a:br>
            <a:r>
              <a:rPr b="1" lang="ru-RU" sz="2500" spc="-1" strike="noStrike">
                <a:solidFill>
                  <a:srgbClr val="0000ff"/>
                </a:solidFill>
                <a:latin typeface="Trebuchet MS"/>
              </a:rPr>
              <a:t>И ЗАВИСИМЫ»</a:t>
            </a:r>
            <a:endParaRPr b="0" lang="en-US" sz="25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8" name="Picture 8" descr="3958463682"/>
          <p:cNvPicPr/>
          <p:nvPr/>
        </p:nvPicPr>
        <p:blipFill>
          <a:blip r:embed="rId1"/>
          <a:stretch/>
        </p:blipFill>
        <p:spPr>
          <a:xfrm>
            <a:off x="468360" y="1409760"/>
            <a:ext cx="3672000" cy="2448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Document"/>
          <p:cNvPicPr/>
          <p:nvPr/>
        </p:nvPicPr>
        <p:blipFill>
          <a:blip r:embed="rId2"/>
          <a:stretch/>
        </p:blipFill>
        <p:spPr>
          <a:xfrm>
            <a:off x="4140360" y="1427040"/>
            <a:ext cx="3600360" cy="24116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2" descr="Cute-Babies-Wallpaper-4-1024x576"/>
          <p:cNvPicPr/>
          <p:nvPr/>
        </p:nvPicPr>
        <p:blipFill>
          <a:blip r:embed="rId3"/>
          <a:stretch/>
        </p:blipFill>
        <p:spPr>
          <a:xfrm>
            <a:off x="492120" y="3838680"/>
            <a:ext cx="3673440" cy="2160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4" descr="bigstock-image-of-two-happy-children-ha-42544762_0"/>
          <p:cNvPicPr/>
          <p:nvPr/>
        </p:nvPicPr>
        <p:blipFill>
          <a:blip r:embed="rId4"/>
          <a:stretch/>
        </p:blipFill>
        <p:spPr>
          <a:xfrm>
            <a:off x="4137120" y="3838680"/>
            <a:ext cx="3600360" cy="21841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250" autoRev="1" fill="hold"/>
                                        <p:tgtEl>
                                          <p:spTgt spid="2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263160" y="188640"/>
            <a:ext cx="661356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4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rebuchet MS"/>
              </a:rPr>
              <a:t>МЕЖДУНАРОДНЫМ СООБЩЕСТВОМ ПО ЗАЩИТЕ ПРАВ РЕБЕНКА ПРИНЯТЫ ВАЖНЫЕ ДОКУМЕНТЫ, ПРИЗВАННЫЕ ОБЕСПЕЧИТЬ ЗАЩИТУ ПРАВ РЕБЕНКА ВО ВСЕМ МИРЕ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3" name="Picture 6" descr="happy_children"/>
          <p:cNvPicPr/>
          <p:nvPr/>
        </p:nvPicPr>
        <p:blipFill>
          <a:blip r:embed="rId1"/>
          <a:stretch/>
        </p:blipFill>
        <p:spPr>
          <a:xfrm>
            <a:off x="250920" y="3068640"/>
            <a:ext cx="4284720" cy="31687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11122015"/>
          <p:cNvPicPr/>
          <p:nvPr/>
        </p:nvPicPr>
        <p:blipFill>
          <a:blip r:embed="rId2"/>
          <a:stretch/>
        </p:blipFill>
        <p:spPr>
          <a:xfrm>
            <a:off x="4643280" y="3068640"/>
            <a:ext cx="4176720" cy="31827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250920" y="259920"/>
            <a:ext cx="6573600" cy="8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rebuchet MS"/>
              </a:rPr>
              <a:t>ПРАВА РЕБЕНКА ЗАКРЕПЛЕНЫ В СЛЕДУЮЩИХ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rebuchet MS"/>
              </a:rPr>
              <a:t>ДОКУМЕНТАХ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7" name="Заголовок 1"/>
          <p:cNvSpPr/>
          <p:nvPr/>
        </p:nvSpPr>
        <p:spPr>
          <a:xfrm>
            <a:off x="755640" y="112536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4"/>
          <p:cNvSpPr/>
          <p:nvPr/>
        </p:nvSpPr>
        <p:spPr>
          <a:xfrm>
            <a:off x="291960" y="1413000"/>
            <a:ext cx="7272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ларация прав реб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венция о правах реб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итуция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йный кодекс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об основных гарантиях прав ребенка в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4" descr="1011277272"/>
          <p:cNvPicPr/>
          <p:nvPr/>
        </p:nvPicPr>
        <p:blipFill>
          <a:blip r:embed="rId1"/>
          <a:stretch/>
        </p:blipFill>
        <p:spPr>
          <a:xfrm>
            <a:off x="7020000" y="260280"/>
            <a:ext cx="1749240" cy="2735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6" descr="20160519172531_bi"/>
          <p:cNvPicPr/>
          <p:nvPr/>
        </p:nvPicPr>
        <p:blipFill>
          <a:blip r:embed="rId2"/>
          <a:stretch/>
        </p:blipFill>
        <p:spPr>
          <a:xfrm>
            <a:off x="5003640" y="1628640"/>
            <a:ext cx="1754280" cy="28083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8" descr="1013800055"/>
          <p:cNvPicPr/>
          <p:nvPr/>
        </p:nvPicPr>
        <p:blipFill>
          <a:blip r:embed="rId3"/>
          <a:stretch/>
        </p:blipFill>
        <p:spPr>
          <a:xfrm>
            <a:off x="7020000" y="3141720"/>
            <a:ext cx="1731960" cy="280836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233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67690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rebuchet MS"/>
              </a:rPr>
              <a:t>Общие признаки жестокого обращения в отношении ребенка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95280" y="1916280"/>
            <a:ext cx="7167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лаксивость, одиночество, отсутствие друзей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жестокое обращение с животным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остоянно печальный вид, длительно сохраняющееся подавленное состояни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клонность к уединению, неумение общатьс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агрессивность и импульсивность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утомленный, сонный вид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анитарно-гигиеническая запущенность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отставание в физическом развити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частая вялотекущая заболеваемость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антиобщественное поведение, вплоть до вандализма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24000" y="259920"/>
            <a:ext cx="85168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rebuchet MS"/>
              </a:rPr>
              <a:t>Психологические признаки жестокого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rebuchet MS"/>
              </a:rPr>
              <a:t>обращения с детьми: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наличие у ребёнка стресс-синдромов Характерное выражение лица ребёнка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наличие в поведении ребёнка рефлекторные жестов и поз защиты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отсутствие сосредоточения и внимани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отсутствие интереса или эмоций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депрессия или отдаленность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негативизм, агрессивность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беспокойство, тревожность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Схема 1" descr=""/>
          <p:cNvPicPr/>
          <p:nvPr/>
        </p:nvPicPr>
        <p:blipFill>
          <a:blip r:embed="rId1"/>
          <a:stretch/>
        </p:blipFill>
        <p:spPr>
          <a:xfrm>
            <a:off x="1182600" y="1773360"/>
            <a:ext cx="610236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Рисунок 1" descr="012.jpg"/>
          <p:cNvPicPr/>
          <p:nvPr/>
        </p:nvPicPr>
        <p:blipFill>
          <a:blip r:embed="rId1"/>
          <a:stretch/>
        </p:blipFill>
        <p:spPr>
          <a:xfrm>
            <a:off x="2484360" y="404640"/>
            <a:ext cx="4680000" cy="6178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5T09:45:04Z</dcterms:created>
  <dc:creator>www.PHILka.RU</dc:creator>
  <dc:description/>
  <dc:language>en-US</dc:language>
  <cp:lastModifiedBy>upgrade</cp:lastModifiedBy>
  <dcterms:modified xsi:type="dcterms:W3CDTF">2016-10-17T04:59:22Z</dcterms:modified>
  <cp:revision>13</cp:revision>
  <dc:subject/>
  <dc:title>Камчатский Краевой психоневрологический диспансер </dc:title>
</cp:coreProperties>
</file>