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F93-E452-474B-A824-0A27125C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F2C-FAEA-49F7-B356-B5573D0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7285-138C-472F-8447-498E214C7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0E7-E413-4569-AA04-7FE00D0A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13D20-C1E4-410F-9B9E-2466CCB1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C54F-F9B9-4F95-B4A1-F76C2F46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D11F-C002-4A86-8126-F12AB881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A4C4-575E-446D-A328-1770D6BC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BA22-0547-458E-80CB-5C0F6032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0963-6D57-468B-8C89-DDF8E590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2730-D35D-41B3-B43C-29CB0F47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4CF4-9B39-4007-98EA-6109CF99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0F8F-31C5-443F-A126-534D514D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C639-9D1A-4F6D-8CDD-5BE0F940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B1F8-A628-49DF-B420-6AAA71ED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8BE-802F-43BC-B50D-C4A6DD5B6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0D53-0E31-4FC8-B1AF-E815F20C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007CD-C679-4A44-B352-5FC2B03B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C3838-65D1-4E02-A2B8-0E3ACA4D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DBCAE-6617-4DA1-9E57-58D95F9C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F9BAF-ABBF-4FC0-ACD6-54B61F5A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87985-BBA5-44A1-BEA5-EDFAF172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750-8D04-4DF2-A88E-4A3E56C0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9A19-D4EB-408B-82B2-8573AE59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BAE5-ABA5-4C8E-B4AB-E22EEFE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39990-B84F-4617-8546-CD430C64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8937-D642-4FDB-8A65-19019DBA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E040-F309-43AD-8A50-EA50E440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4BF7B-4EA1-471B-877F-7F057064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4D72-1FE0-4B4B-96F7-20B755166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8040C-A3AC-4510-B9F3-94F8C6D1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6228-3D29-4091-B087-C6C3E412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B685B-7941-46AE-B406-A89770C8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EDB-31CB-48B6-9463-5272BFB5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78B7A-BD4D-4353-BF1B-A696F5DA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2AA57-2FD9-47D8-912C-F787A265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8E65-05BF-47FB-BA5E-3A845073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DA68-5927-4B77-908D-4454F0E2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F706-A219-4680-889B-3E24D9DF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4221D-801C-44A5-94E8-2F1CB77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CDFD0-512D-4F1A-91A2-307F720E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FCF4D-3CF7-4BD5-B5FE-4D9AC6A0C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D87FC-0082-42AB-98E2-3DF42F02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1D9B-1B6B-41E3-8D07-EFEA231C8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55D-8CC2-4F0A-91A3-AACB69E7C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08D1-0C7B-4EE7-ADED-A2EAD560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839-1ED6-418B-9002-A60F571E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3D0-FB8A-4E1F-9534-262DE5C7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D6BF-A314-4ADA-ADFC-2691B382DCF8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3CA3-1EC5-430B-A26A-29D1A28FCE47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3EC5-8932-4ADF-81CF-3518B9A78956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8927-6013-4F26-A445-9F4683E862D4}" type="slidenum">
              <a:rPr b="0" lang="ru-RU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7272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Calibri"/>
              </a:rPr>
              <a:t>Муниципальное автономное дошкольное образовательное </a:t>
            </a:r>
            <a:br>
              <a:rPr sz="1800"/>
            </a:br>
            <a:r>
              <a:rPr b="1" i="1" lang="ru-RU" sz="1800" spc="-1" strike="noStrike">
                <a:solidFill>
                  <a:srgbClr val="0070c0"/>
                </a:solidFill>
                <a:latin typeface="Calibri"/>
                <a:ea typeface="Calibri"/>
              </a:rPr>
              <a:t>учреждение  «Детский сад» №1</a:t>
            </a:r>
            <a:br>
              <a:rPr sz="1800"/>
            </a:br>
            <a:endParaRPr b="0" lang="en-US" sz="18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Подзаголовок 2"/>
          <p:cNvSpPr/>
          <p:nvPr/>
        </p:nvSpPr>
        <p:spPr>
          <a:xfrm>
            <a:off x="250920" y="5516640"/>
            <a:ext cx="871380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Педагог-психолог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Шпилевая Ирина Евген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6"/>
          <p:cNvSpPr txBox="1"/>
          <p:nvPr/>
        </p:nvSpPr>
        <p:spPr>
          <a:xfrm>
            <a:off x="755640" y="2328840"/>
            <a:ext cx="7848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Профилактика жестокого обращения </a:t>
            </a:r>
            <a:endParaRPr b="0" lang="en-US" sz="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Calibri"/>
              </a:rPr>
              <a:t>и насилия в отношении детей</a:t>
            </a:r>
            <a:endParaRPr b="0" lang="en-US" sz="6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Calibri"/>
              <a:ea typeface="Calibri"/>
            </a:endParaRPr>
          </a:p>
        </p:txBody>
      </p:sp>
      <p:pic>
        <p:nvPicPr>
          <p:cNvPr id="215" name="Рисунок 1" descr=""/>
          <p:cNvPicPr/>
          <p:nvPr/>
        </p:nvPicPr>
        <p:blipFill>
          <a:blip r:embed="rId1"/>
          <a:stretch/>
        </p:blipFill>
        <p:spPr>
          <a:xfrm>
            <a:off x="3059280" y="809640"/>
            <a:ext cx="2352600" cy="733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2012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«ДЕТИ МИРА НЕВИННЫ, УЯЗВИМЫ </a:t>
            </a:r>
            <a:br>
              <a:rPr sz="2500"/>
            </a:br>
            <a:r>
              <a:rPr b="1" lang="ru-RU" sz="2500" spc="-1" strike="noStrike">
                <a:solidFill>
                  <a:srgbClr val="0000ff"/>
                </a:solidFill>
                <a:latin typeface="Trebuchet MS"/>
              </a:rPr>
              <a:t>И ЗАВИСИМЫ»</a:t>
            </a: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Picture 8" descr="3958463682"/>
          <p:cNvPicPr/>
          <p:nvPr/>
        </p:nvPicPr>
        <p:blipFill>
          <a:blip r:embed="rId1"/>
          <a:stretch/>
        </p:blipFill>
        <p:spPr>
          <a:xfrm>
            <a:off x="468360" y="14097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Document"/>
          <p:cNvPicPr/>
          <p:nvPr/>
        </p:nvPicPr>
        <p:blipFill>
          <a:blip r:embed="rId2"/>
          <a:stretch/>
        </p:blipFill>
        <p:spPr>
          <a:xfrm>
            <a:off x="4140360" y="1427040"/>
            <a:ext cx="3600360" cy="2411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Cute-Babies-Wallpaper-4-1024x576"/>
          <p:cNvPicPr/>
          <p:nvPr/>
        </p:nvPicPr>
        <p:blipFill>
          <a:blip r:embed="rId3"/>
          <a:stretch/>
        </p:blipFill>
        <p:spPr>
          <a:xfrm>
            <a:off x="492120" y="3838680"/>
            <a:ext cx="3673440" cy="2160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4" descr="bigstock-image-of-two-happy-children-ha-42544762_0"/>
          <p:cNvPicPr/>
          <p:nvPr/>
        </p:nvPicPr>
        <p:blipFill>
          <a:blip r:embed="rId4"/>
          <a:stretch/>
        </p:blipFill>
        <p:spPr>
          <a:xfrm>
            <a:off x="4137120" y="3838680"/>
            <a:ext cx="3600360" cy="218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263160" y="188640"/>
            <a:ext cx="66135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rebuchet MS"/>
              </a:rPr>
              <a:t>МЕЖДУНАРОДНЫМ СООБЩЕСТВОМ ПО ЗАЩИТЕ ПРАВ РЕБЕНКА ПРИНЯТЫ ВАЖНЫЕ ДОКУМЕНТЫ, ПРИЗВАННЫЕ ОБЕСПЕЧИТЬ ЗАЩИТУ ПРАВ РЕБЕНКА ВО ВСЕМ МИРЕ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Picture 6" descr="happy_children"/>
          <p:cNvPicPr/>
          <p:nvPr/>
        </p:nvPicPr>
        <p:blipFill>
          <a:blip r:embed="rId1"/>
          <a:stretch/>
        </p:blipFill>
        <p:spPr>
          <a:xfrm>
            <a:off x="250920" y="3068640"/>
            <a:ext cx="4284720" cy="3168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11122015"/>
          <p:cNvPicPr/>
          <p:nvPr/>
        </p:nvPicPr>
        <p:blipFill>
          <a:blip r:embed="rId2"/>
          <a:stretch/>
        </p:blipFill>
        <p:spPr>
          <a:xfrm>
            <a:off x="4643280" y="3068640"/>
            <a:ext cx="4176720" cy="3182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50920" y="259920"/>
            <a:ext cx="657360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rebuchet MS"/>
              </a:rPr>
              <a:t>ПРАВА РЕБЕНКА ЗАКРЕПЛЕНЫ В СЛЕДУЮЩИХ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rebuchet MS"/>
              </a:rPr>
              <a:t>ДОКУМЕНТАХ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755640" y="112536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4"/>
          <p:cNvSpPr/>
          <p:nvPr/>
        </p:nvSpPr>
        <p:spPr>
          <a:xfrm>
            <a:off x="291960" y="1413000"/>
            <a:ext cx="727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ация прав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венция о правах реб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я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йный кодекс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б основных гарантиях прав ребенка в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4" descr="1011277272"/>
          <p:cNvPicPr/>
          <p:nvPr/>
        </p:nvPicPr>
        <p:blipFill>
          <a:blip r:embed="rId1"/>
          <a:stretch/>
        </p:blipFill>
        <p:spPr>
          <a:xfrm>
            <a:off x="7020000" y="260280"/>
            <a:ext cx="1749240" cy="2735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20160519172531_bi"/>
          <p:cNvPicPr/>
          <p:nvPr/>
        </p:nvPicPr>
        <p:blipFill>
          <a:blip r:embed="rId2"/>
          <a:stretch/>
        </p:blipFill>
        <p:spPr>
          <a:xfrm>
            <a:off x="5003640" y="1628640"/>
            <a:ext cx="1754280" cy="28083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8" descr="1013800055"/>
          <p:cNvPicPr/>
          <p:nvPr/>
        </p:nvPicPr>
        <p:blipFill>
          <a:blip r:embed="rId3"/>
          <a:stretch/>
        </p:blipFill>
        <p:spPr>
          <a:xfrm>
            <a:off x="7020000" y="3141720"/>
            <a:ext cx="1731960" cy="2808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23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67690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rebuchet MS"/>
              </a:rPr>
              <a:t>Общие признаки жестокого обращения в отношении ребенка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916280"/>
            <a:ext cx="7167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лаксивость, одиночество, отсутствие друзе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жестокое обращение с животным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стоянно печальный вид, длительно сохраняющееся подавленное состояние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клонность к уединению, неумение общатьс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грессивность и импульсив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томленный, сонный вид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санитарно-гигиеническая запущен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ставание в физическом развитии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астая вялотекущая заболеваем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нтиобщественное поведение, вплоть до вандализма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24000" y="259920"/>
            <a:ext cx="8516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Психологические признаки жестокого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обращения с детьми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личие у ребёнка стресс-синдромов Характерное выражение лица ребёнка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аличие в поведении ребёнка рефлекторные жестов и поз защиты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сутствие сосредоточения и внимания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отсутствие интереса или эмоций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депрессия или отдаленность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негативизм, агрессивность,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еспокойство, тревожность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Схема 1" descr=""/>
          <p:cNvPicPr/>
          <p:nvPr/>
        </p:nvPicPr>
        <p:blipFill>
          <a:blip r:embed="rId1"/>
          <a:stretch/>
        </p:blipFill>
        <p:spPr>
          <a:xfrm>
            <a:off x="1182600" y="1773360"/>
            <a:ext cx="610236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012.jpg"/>
          <p:cNvPicPr/>
          <p:nvPr/>
        </p:nvPicPr>
        <p:blipFill>
          <a:blip r:embed="rId1"/>
          <a:stretch/>
        </p:blipFill>
        <p:spPr>
          <a:xfrm>
            <a:off x="2484360" y="404640"/>
            <a:ext cx="4680000" cy="6178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09:45:04Z</dcterms:created>
  <dc:creator>www.PHILka.RU</dc:creator>
  <dc:description/>
  <dc:language>en-US</dc:language>
  <cp:lastModifiedBy>upgrade</cp:lastModifiedBy>
  <dcterms:modified xsi:type="dcterms:W3CDTF">2016-10-17T04:59:22Z</dcterms:modified>
  <cp:revision>13</cp:revision>
  <dc:subject/>
  <dc:title>Камчатский Краевой психоневрологический диспансер </dc:title>
</cp:coreProperties>
</file>