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AF7-7E72-4857-A1DF-00453981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107-C8DC-4E28-B504-B034617F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C448-2222-4BFB-A7BA-49B3476A5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A1D8-8020-4C25-BA76-AB5E3EB0B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05B8-E764-4B26-8EF9-A40533226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96DF-A232-4F8C-ABBA-93F15024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11A8-424F-4384-92BE-09F38977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9871-C25A-4B38-80BC-D1497AA2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227-5B16-4D74-B82C-D18826C3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04B-9339-46F9-8E6F-2C46EC2B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EC92-3C33-4118-8E37-E8EC1349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FE3-B442-4F1C-A527-B595776B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D16F-0290-44A7-8E09-7C1FCCBB1A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440" y="259920"/>
            <a:ext cx="813420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Book Antiqua"/>
              </a:rPr>
              <a:t>«Педагогические и творческие мастерские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Book Antiqua"/>
              </a:rPr>
              <a:t>как интенсивные </a:t>
            </a:r>
            <a:br>
              <a:rPr sz="4400"/>
            </a:br>
            <a:r>
              <a:rPr b="1" i="1" lang="ru-RU" sz="4400" spc="-1" strike="noStrike">
                <a:solidFill>
                  <a:srgbClr val="c00000"/>
                </a:solidFill>
                <a:latin typeface="Book Antiqua"/>
              </a:rPr>
              <a:t>формы обучения педагогов»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410000"/>
            <a:ext cx="8066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старший методист по воспитательной  работ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СП ГБОУ СОШ № 6 г.о. Отрадный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Центр Дополнительного Образования Детей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 </a:t>
            </a:r>
            <a:r>
              <a:rPr b="0" lang="ru-RU" sz="2500" spc="-1" strike="noStrike">
                <a:solidFill>
                  <a:srgbClr val="953735"/>
                </a:solidFill>
                <a:latin typeface="Book Antiqua"/>
              </a:rPr>
              <a:t>Гоннова Юлия Алексеев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E:\11 мая 2017 года\Мастер - класс Зыбановой Е.В. 28.02.2017\DSCF7783.JPG"/>
          <p:cNvPicPr/>
          <p:nvPr/>
        </p:nvPicPr>
        <p:blipFill>
          <a:blip r:embed="rId1"/>
          <a:stretch/>
        </p:blipFill>
        <p:spPr>
          <a:xfrm>
            <a:off x="1619280" y="1341360"/>
            <a:ext cx="2689200" cy="20163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7" name="Picture 3" descr="E:\11 мая 2017 года\Мастер - класс ропись по камню 01.112016\DSCF4978.JPG"/>
          <p:cNvPicPr/>
          <p:nvPr/>
        </p:nvPicPr>
        <p:blipFill>
          <a:blip r:embed="rId2"/>
          <a:stretch/>
        </p:blipFill>
        <p:spPr>
          <a:xfrm>
            <a:off x="5580000" y="1484280"/>
            <a:ext cx="2976480" cy="2232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8" name="Picture 4" descr="E:\11 мая 2017 года\Мастер - класс Совушка 23.11.2016\DSCF5647.JPG"/>
          <p:cNvPicPr/>
          <p:nvPr/>
        </p:nvPicPr>
        <p:blipFill>
          <a:blip r:embed="rId3"/>
          <a:stretch/>
        </p:blipFill>
        <p:spPr>
          <a:xfrm>
            <a:off x="1979640" y="4005360"/>
            <a:ext cx="2868480" cy="215100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9" name="Picture 5" descr="E:\11 мая 2017 года\Мастер - класс Совушка 23.11.2016\DSCF5635.JPG"/>
          <p:cNvPicPr/>
          <p:nvPr/>
        </p:nvPicPr>
        <p:blipFill>
          <a:blip r:embed="rId4"/>
          <a:stretch/>
        </p:blipFill>
        <p:spPr>
          <a:xfrm>
            <a:off x="5651640" y="4319640"/>
            <a:ext cx="2952720" cy="22143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E:\11 мая 2017 года\ЮБИЛЕЙ 55\DSCF6099.JPG"/>
          <p:cNvPicPr/>
          <p:nvPr/>
        </p:nvPicPr>
        <p:blipFill>
          <a:blip r:embed="rId1"/>
          <a:stretch/>
        </p:blipFill>
        <p:spPr>
          <a:xfrm>
            <a:off x="1403280" y="1341360"/>
            <a:ext cx="3024360" cy="22669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2" name="Picture 3" descr="E:\11 мая 2017 года\ЮБИЛЕЙ 55\DSCF6109.JPG"/>
          <p:cNvPicPr/>
          <p:nvPr/>
        </p:nvPicPr>
        <p:blipFill>
          <a:blip r:embed="rId2"/>
          <a:stretch/>
        </p:blipFill>
        <p:spPr>
          <a:xfrm>
            <a:off x="4859280" y="1268280"/>
            <a:ext cx="3168720" cy="2376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3" name="Picture 4" descr="E:\11 мая 2017 года\ЮБИЛЕЙ 55\DSCF6118.JPG"/>
          <p:cNvPicPr/>
          <p:nvPr/>
        </p:nvPicPr>
        <p:blipFill>
          <a:blip r:embed="rId3"/>
          <a:stretch/>
        </p:blipFill>
        <p:spPr>
          <a:xfrm>
            <a:off x="5724360" y="4221000"/>
            <a:ext cx="3071880" cy="23036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4" name="Picture 7" descr="E:\11 мая 2017 года\ЮБИЛЕЙ 55\DSCF6265.JPG"/>
          <p:cNvPicPr/>
          <p:nvPr/>
        </p:nvPicPr>
        <p:blipFill>
          <a:blip r:embed="rId4"/>
          <a:stretch/>
        </p:blipFill>
        <p:spPr>
          <a:xfrm>
            <a:off x="1692360" y="4221000"/>
            <a:ext cx="3024000" cy="2268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u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5" descr="E:\11 мая 2017 года\ЮБИЛЕЙ 55\DSCF6142.JPG"/>
          <p:cNvPicPr/>
          <p:nvPr/>
        </p:nvPicPr>
        <p:blipFill>
          <a:blip r:embed="rId1"/>
          <a:stretch/>
        </p:blipFill>
        <p:spPr>
          <a:xfrm>
            <a:off x="1187280" y="1268280"/>
            <a:ext cx="3060720" cy="2295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7" name="Picture 6" descr="E:\11 мая 2017 года\ЮБИЛЕЙ 55\DSCF6188.JPG"/>
          <p:cNvPicPr/>
          <p:nvPr/>
        </p:nvPicPr>
        <p:blipFill>
          <a:blip r:embed="rId2"/>
          <a:stretch/>
        </p:blipFill>
        <p:spPr>
          <a:xfrm>
            <a:off x="5076720" y="1413000"/>
            <a:ext cx="3035520" cy="227628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8" name="Picture 8" descr="E:\11 мая 2017 года\ЮБИЛЕЙ 55\DSCF6294.JPG"/>
          <p:cNvPicPr/>
          <p:nvPr/>
        </p:nvPicPr>
        <p:blipFill>
          <a:blip r:embed="rId3"/>
          <a:stretch/>
        </p:blipFill>
        <p:spPr>
          <a:xfrm>
            <a:off x="1619280" y="4005360"/>
            <a:ext cx="3024000" cy="22683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9" name="Picture 9" descr="E:\11 мая 2017 года\ЮБИЛЕЙ 55\DSCF6300.JPG"/>
          <p:cNvPicPr/>
          <p:nvPr/>
        </p:nvPicPr>
        <p:blipFill>
          <a:blip r:embed="rId4"/>
          <a:stretch/>
        </p:blipFill>
        <p:spPr>
          <a:xfrm>
            <a:off x="5556240" y="4005360"/>
            <a:ext cx="3035160" cy="227628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240" y="1412640"/>
            <a:ext cx="723276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Book Antiqua"/>
              </a:rPr>
              <a:t>СПАСИБО 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Book Antiqua"/>
              </a:rPr>
              <a:t>ЗА </a:t>
            </a:r>
            <a:br>
              <a:rPr sz="6000"/>
            </a:br>
            <a:r>
              <a:rPr b="0" lang="ru-RU" sz="6000" spc="-1" strike="noStrike">
                <a:solidFill>
                  <a:srgbClr val="c00000"/>
                </a:solidFill>
                <a:latin typeface="Book Antiqua"/>
              </a:rPr>
              <a:t>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Копия логотип"/>
          <p:cNvPicPr/>
          <p:nvPr/>
        </p:nvPicPr>
        <p:blipFill>
          <a:blip r:embed="rId1"/>
          <a:stretch/>
        </p:blipFill>
        <p:spPr>
          <a:xfrm>
            <a:off x="3708360" y="4221000"/>
            <a:ext cx="2384640" cy="232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488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Методические объединения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2060640"/>
            <a:ext cx="7488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Book Antiqua"/>
              </a:rPr>
              <a:t>Техническ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Book Antiqua"/>
              </a:rPr>
              <a:t>Художественно –эстетически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Book Antiqua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84807"/>
                </a:solidFill>
                <a:latin typeface="Book Antiqua"/>
              </a:rPr>
              <a:t>Подростковые клуб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42560" y="259920"/>
            <a:ext cx="74898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Лаборатории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58560" y="1413000"/>
            <a:ext cx="7561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«Раннее творческое развитие»    «Музыкально – эстетическа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«Прикладное творчество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«Дизайн сред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 </a:t>
            </a: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«Спортивно - техническая» «Социализация молодеж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Педагогические мастерские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2920" y="1844640"/>
            <a:ext cx="7489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984807"/>
                </a:solidFill>
                <a:latin typeface="Book Antiqua"/>
              </a:rPr>
              <a:t>Цель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84807"/>
                </a:solidFill>
                <a:latin typeface="Book Antiqua"/>
              </a:rPr>
              <a:t>изучение, адаптация, апробация инновационных педагогических технологий в профессиональную деятельность педагогов дополнительного образ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Book Antiqua"/>
              </a:rPr>
              <a:t>Педагогические мастерск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1268280"/>
            <a:ext cx="7488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Программа осуществляется в </a:t>
            </a: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три этапа</a:t>
            </a: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 </a:t>
            </a: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вводно – мотивационный</a:t>
            </a: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 - теоретическое изучение проблемы «Внедрение инноваций в образовательный процесс», разработка планов работы педагогических мастерских «Опыт», «Результат», «Выбор», формирование мотивов к работе, развитие проектных уме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 </a:t>
            </a: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когнетивно – деятельностный</a:t>
            </a: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  -  написание конспектов занятий и проведение открытых занятий, то есть педагоги разрабатывали проекты, готовые к использованию в учебной и профессиональной деятельности, конспекты занят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984807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84807"/>
                </a:solidFill>
                <a:latin typeface="Book Antiqua"/>
              </a:rPr>
              <a:t>деятельностно – рефлексивный </a:t>
            </a:r>
            <a:r>
              <a:rPr b="0" i="1" lang="ru-RU" sz="2200" spc="-1" strike="noStrike">
                <a:solidFill>
                  <a:srgbClr val="984807"/>
                </a:solidFill>
                <a:latin typeface="Book Antiqua"/>
              </a:rPr>
              <a:t>- подведение итогов работы  и получение внутренних и внешних оценок на методическую продукцию, участие в профессиональных конкурсах, мастер – класса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c00000"/>
                </a:solidFill>
                <a:latin typeface="Book Antiqua"/>
              </a:rPr>
              <a:t>Педагогические мастерские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11 мая 2017 года\DSCF2734.JPG"/>
          <p:cNvPicPr/>
          <p:nvPr/>
        </p:nvPicPr>
        <p:blipFill>
          <a:blip r:embed="rId1"/>
          <a:stretch/>
        </p:blipFill>
        <p:spPr>
          <a:xfrm>
            <a:off x="1692360" y="1413000"/>
            <a:ext cx="2771640" cy="20779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3" name="Picture 4" descr="E:\11 мая 2017 года\DSCF7377.JPG"/>
          <p:cNvPicPr/>
          <p:nvPr/>
        </p:nvPicPr>
        <p:blipFill>
          <a:blip r:embed="rId2"/>
          <a:stretch/>
        </p:blipFill>
        <p:spPr>
          <a:xfrm>
            <a:off x="5219640" y="1773360"/>
            <a:ext cx="2948040" cy="22111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" name="Picture 5" descr="E:\11 мая 2017 года\SAM_5081.JPG"/>
          <p:cNvPicPr/>
          <p:nvPr/>
        </p:nvPicPr>
        <p:blipFill>
          <a:blip r:embed="rId3"/>
          <a:stretch/>
        </p:blipFill>
        <p:spPr>
          <a:xfrm>
            <a:off x="2340000" y="4221000"/>
            <a:ext cx="2987640" cy="2241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l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32000" y="1268280"/>
            <a:ext cx="7488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Book Antiqua"/>
              </a:rPr>
              <a:t>Цел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Book Antiqua"/>
              </a:rPr>
              <a:t>поддержка творческого потенциала обучающихся и педагогических работников через организацию и проведение  комплекса мероприятий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u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32000" y="1268280"/>
            <a:ext cx="74880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Book Antiqua"/>
              </a:rPr>
              <a:t>Реализация программы основана на работе трех основных творческих мастерски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Book Antiqua"/>
              </a:rPr>
              <a:t>«Пресс – центр «Свежий ветер» (интерактивный социум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Book Antiqua"/>
              </a:rPr>
              <a:t>«Гильдия творцов» (декоративно – прикладное творчество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3300"/>
                </a:solidFill>
                <a:latin typeface="Book Antiqua"/>
              </a:rPr>
              <a:t>«Концертная площадка «Бенефис» (концертная деятельность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333000"/>
            <a:ext cx="7489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c00000"/>
                </a:solidFill>
                <a:latin typeface="Book Antiqua"/>
              </a:rPr>
              <a:t>«Творческие мастерские»</a:t>
            </a: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E:\11 мая 2017 года\День открытых двеоей 2016\DSCF4468.JPG"/>
          <p:cNvPicPr/>
          <p:nvPr/>
        </p:nvPicPr>
        <p:blipFill>
          <a:blip r:embed="rId1"/>
          <a:stretch/>
        </p:blipFill>
        <p:spPr>
          <a:xfrm>
            <a:off x="539640" y="1341360"/>
            <a:ext cx="2627280" cy="197028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1" name="Picture 3" descr="E:\11 мая 2017 года\День открытых двеоей 2016\DSCF4481.JPG"/>
          <p:cNvPicPr/>
          <p:nvPr/>
        </p:nvPicPr>
        <p:blipFill>
          <a:blip r:embed="rId2"/>
          <a:stretch/>
        </p:blipFill>
        <p:spPr>
          <a:xfrm>
            <a:off x="6227640" y="1341360"/>
            <a:ext cx="2556000" cy="191628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2" name="Picture 4" descr="E:\11 мая 2017 года\Концерт 23.11.2016\DSCF5664.JPG"/>
          <p:cNvPicPr/>
          <p:nvPr/>
        </p:nvPicPr>
        <p:blipFill>
          <a:blip r:embed="rId3"/>
          <a:stretch/>
        </p:blipFill>
        <p:spPr>
          <a:xfrm>
            <a:off x="250920" y="4508640"/>
            <a:ext cx="2555640" cy="19177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3" name="Picture 5" descr="E:\11 мая 2017 года\Концерт 23.11.2016\DSCF5666.JPG"/>
          <p:cNvPicPr/>
          <p:nvPr/>
        </p:nvPicPr>
        <p:blipFill>
          <a:blip r:embed="rId4"/>
          <a:stretch/>
        </p:blipFill>
        <p:spPr>
          <a:xfrm>
            <a:off x="3251160" y="3429000"/>
            <a:ext cx="2497320" cy="187164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64" name="Picture 6" descr="E:\11 мая 2017 года\Концерт 23.11.2016\DSCF5670.JPG"/>
          <p:cNvPicPr/>
          <p:nvPr/>
        </p:nvPicPr>
        <p:blipFill>
          <a:blip r:embed="rId5"/>
          <a:stretch/>
        </p:blipFill>
        <p:spPr>
          <a:xfrm>
            <a:off x="5940360" y="4365720"/>
            <a:ext cx="2772000" cy="207792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>
    <p:strips dir="r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6:48:00Z</dcterms:created>
  <dc:creator>Катенок</dc:creator>
  <dc:description/>
  <dc:language>en-US</dc:language>
  <cp:lastModifiedBy>Юлия</cp:lastModifiedBy>
  <dcterms:modified xsi:type="dcterms:W3CDTF">2017-05-07T10:55:39Z</dcterms:modified>
  <cp:revision>25</cp:revision>
  <dc:subject/>
  <dc:title>Шаблон презентации</dc:title>
</cp:coreProperties>
</file>