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70E-42C9-4EE2-A482-9BD84AAA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ED2-656B-444D-9D68-A0CA989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92B-3165-4ED2-B71A-049F998F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351-AE38-4D5C-A14C-05E2B339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8C4C-42AA-4DF8-B12C-B218AEB6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85F-F864-474B-A70D-E3B0CB83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CD35-FDBC-45D9-90CA-4D928D9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2040-57F5-4C87-9F82-5067A770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F2B-09E7-48F2-B5FA-6E2DBCCE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EAD1-3AC4-46F1-9F3F-FFD46D75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E178-9C9B-48D6-9287-9BE3DCDE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DED-EB14-47E8-B722-0AD323A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DED0-87EF-411B-AAA7-D0A5BA3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6B3-1AB0-4B8E-BAE0-B9D93EC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E88-6942-4F1B-BA98-EBCEF98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66F-8BDD-4BC8-8DD1-FDA22A51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C2F-2984-4DB8-9712-37841AEC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265-5CB5-415F-ADD2-F58826A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46B-5067-4965-8801-43D0CD49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8D2-D75B-4903-AB03-CB60CCC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B8D-7CC5-4319-9146-AC2E654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808-FB38-451B-9C33-8002B36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84D-BC3C-49E8-9ADB-5CFAC98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A95-A3EF-4FB4-9138-B52782F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55F-A3EC-4E1B-85DF-7CEDC754D4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F8C-70F4-4B29-8225-2CF3954689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Теперь, когда мы научились летать по воздуху, как птицы, плавать под водой, как рыбы, нам не хватает только одного: научиться жить на земле, как люди." (Б. Шоу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ff"/>
                </a:solidFill>
                <a:latin typeface="Arial Black"/>
              </a:rPr>
              <a:t>Спасибо за внимание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42508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Понятие 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«толерантность»</a:t>
            </a: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 (от лат. toleratia) означает терпимость к иного рода взглядам, нравам, привычкам; необходима по отношению к особенностям различных народов, наций и религий; является признаком уверенности в себе и сознания надёжности своих собственных позиций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 XXI век мировое сообщество вошло с Декларацией принципов толерантности, утвержденной резолюцией Генеральной конференции ЮНЕСКО от 16 ноября 1995 года. Толерантность - ценность, необходимая для достижения мира, это минимальное требование к общественным отношениям не допускать насилия и принуждени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Felix Titling"/>
              </a:rPr>
              <a:t>Воспитание толерантной личности - процесс сложный, осуществляется всей социальной действительностью, окружающей ребенка, обществом, под влиянием взаимоотношений в семье, сложившихся взглядов и отношений ее членов к другим людям и обществу в целом, под влиянием общения со сверстниками и окружающими людьми. Для того чтобы сделать его целенаправленным, необходима организованная педагогическая деятельность в школе команды специалистов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-519480"/>
            <a:ext cx="820908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общественно-патриотическому воспит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художественно-эстетического 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формированию законопослушного поведения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физкультурно-оздоровительного 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профориентации школьников</a:t>
            </a: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7"/>
                </a:solidFill>
                <a:latin typeface="Times New Roman"/>
              </a:rPr>
              <a:t>НАЦИОНАЛЬНЫЙ СОСТАВ УЧАЩИХСЯ</a:t>
            </a:r>
            <a:br>
              <a:rPr sz="1200"/>
            </a:br>
            <a:r>
              <a:rPr b="0" lang="ru-RU" sz="1200" spc="-1" strike="noStrike">
                <a:solidFill>
                  <a:srgbClr val="ffffb7"/>
                </a:solidFill>
                <a:latin typeface="Times New Roman"/>
              </a:rPr>
              <a:t>В 2010-2011 УЧЕБНОМ ГОДУ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сские – 270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Украинцы – 60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Белорусы – 1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Дагестанц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Татары – 16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Чеченцы – 7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Чуваши – 6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Казахи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Ингуши – 5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тул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Нагайцы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Цахуры – 16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Кумыки – 3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Азербайджанцы – 25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Лезгины – 1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Агул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Авары – 1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Узбеки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Молдаване – 3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Башкиры – 9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Марийц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Таджики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Поляки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Удмурт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Хант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6.Болгары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7. Коми -  4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8. Гагаузы – 5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9. Ненцы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30. Немцы  -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сские – 48,9%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         Другие национальности – 51.1%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Book Antiqua"/>
              </a:rPr>
              <a:t>В рамках этой задачи, в школе  были проведены  мероприятия, посвященные следующим темам: Международный день родного языка, международный день коренных народов мира, международный день друзея, Европейский день языков, международный день против фашизма, расизма, антисемитизма, день прав человека</a:t>
            </a:r>
            <a:r>
              <a:rPr b="1" lang="ru-RU" sz="3200" spc="-1" strike="noStrike">
                <a:solidFill>
                  <a:srgbClr val="ffffb7"/>
                </a:solidFill>
                <a:latin typeface="Book Antiqua"/>
              </a:rPr>
              <a:t>, </a:t>
            </a:r>
            <a:r>
              <a:rPr b="0" lang="ru-RU" sz="3200" spc="-1" strike="noStrike">
                <a:solidFill>
                  <a:srgbClr val="ffffb7"/>
                </a:solidFill>
                <a:latin typeface="Book Antiqua"/>
              </a:rPr>
              <a:t>день толерантности, день прав ребенка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«Интернациональное молодежное объединение»</a:t>
            </a:r>
            <a:br>
              <a:rPr sz="3200"/>
            </a:br>
            <a:r>
              <a:rPr b="1" i="1" lang="en-US" sz="2800" spc="-1" strike="noStrike">
                <a:solidFill>
                  <a:srgbClr val="99ff66"/>
                </a:solidFill>
                <a:latin typeface="Arial Black"/>
              </a:rPr>
              <a:t>Задачи объединения: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Снижение степени  распространения негативных этнических установок и предрассудков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Формирование толерантного сознания, основанного на понимании   и принятии культурных, религиозных и социальных отличий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Консолидация многонациональной школы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Формирование и укрепление позитивной гражданской и добровольческой позиции молодеж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114480"/>
            <a:ext cx="856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Умей чувствовать рядом с собой человека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умей понимать его душу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видеть в его глазах сложный духовный мир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– радость, горе, беду, несчастье.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Думай и чувствуй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как твои поступки могут отразиться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на душевном состоянии другого человек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0:36:21Z</dcterms:created>
  <dc:creator>Admin</dc:creator>
  <dc:description/>
  <dc:language>en-US</dc:language>
  <cp:lastModifiedBy>Admin</cp:lastModifiedBy>
  <dcterms:modified xsi:type="dcterms:W3CDTF">2011-03-19T11:03:52Z</dcterms:modified>
  <cp:revision>2</cp:revision>
  <dc:subject/>
  <dc:title>"Теперь, когда мы научились летать по воздуху, как птицы, плавать под водой, как рыбы, нам не хватает только одного: научиться жить на земле, как люди." (Б. Шоу) </dc:title>
</cp:coreProperties>
</file>