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E87-9D05-4093-9555-E7FCC1B1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D77-82EF-41B3-8D0D-669960B2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2CD-8A64-454F-8F9E-31B27BF6A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8DC-C9CB-4ECD-B656-97AA5D2E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AC93-048A-48A9-B11A-FC520442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67C7-2871-43F1-B1FD-2E59D7F3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7213-5BF5-4778-B5F9-329E1BE2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70C7-DC5E-4BC5-B693-622EF041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7613D-A700-4C9D-9ED8-CBFCF990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7C70-DDC7-4228-9E8E-87527A2D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72F7-81C6-4D70-A70C-25E90695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3374-2C6D-418A-8D54-C89BF72C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4866D-FE51-49BE-AF09-67B7B741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13BCF-4EBD-489F-BB5D-1B1F420E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ECB7-04B0-450C-A326-F96BB918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91C6-131F-463B-94F1-E78ADFD6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C087-B5A1-4DCB-B9C8-8C1B44C2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4BB-9CF8-4088-BCAC-46872999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0E73-1698-4B96-A598-BCD98E58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41BC-65D5-40EC-B435-E73FB819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123-09A3-4C9F-9F86-2BDAA460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E4B2-A141-4484-9E5A-B4BE134F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9D5-19BB-4CEF-B252-4A9186F2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B88E-C7C3-493D-BE9E-4F4DA29E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680CA-C2D3-44A3-ADC4-1C382C5905D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7A138-8FBA-4A1C-B0D4-04964E19B9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"Теперь, когда мы научились летать по воздуху, как птицы, плавать под водой, как рыбы, нам не хватает только одного: научиться жить на земле, как люди." (Б. Шоу)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37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00ff"/>
                </a:solidFill>
                <a:latin typeface="Arial Black"/>
              </a:rPr>
              <a:t>Спасибо за внимание!!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42508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Book Antiqua"/>
              </a:rPr>
              <a:t>Понятие </a:t>
            </a:r>
            <a:r>
              <a:rPr b="0" lang="ru-RU" sz="3600" spc="-1" strike="noStrike">
                <a:solidFill>
                  <a:srgbClr val="ffffb7"/>
                </a:solidFill>
                <a:latin typeface="Book Antiqua"/>
              </a:rPr>
              <a:t>«толерантность»</a:t>
            </a:r>
            <a:r>
              <a:rPr b="1" lang="ru-RU" sz="3600" spc="-1" strike="noStrike">
                <a:solidFill>
                  <a:srgbClr val="ffffb7"/>
                </a:solidFill>
                <a:latin typeface="Book Antiqua"/>
              </a:rPr>
              <a:t> (от лат. toleratia) означает терпимость к иного рода взглядам, нравам, привычкам; необходима по отношению к особенностям различных народов, наций и религий; является признаком уверенности в себе и сознания надёжности своих собственных позиций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В XXI век мировое сообщество вошло с Декларацией принципов толерантности, утвержденной резолюцией Генеральной конференции ЮНЕСКО от 16 ноября 1995 года. Толерантность - ценность, необходимая для достижения мира, это минимальное требование к общественным отношениям не допускать насилия и принуждения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Felix Titling"/>
              </a:rPr>
              <a:t>Воспитание толерантной личности - процесс сложный, осуществляется всей социальной действительностью, окружающей ребенка, обществом, под влиянием взаимоотношений в семье, сложившихся взглядов и отношений ее членов к другим людям и обществу в целом, под влиянием общения со сверстниками и окружающими людьми. Для того чтобы сделать его целенаправленным, необходима организованная педагогическая деятельность в школе команды специалистов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-519480"/>
            <a:ext cx="8209080" cy="76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Программа по общественно-патриотическому воспитан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Программа художественно-эстетического восп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Программа по формированию законопослушного поведения учащих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Программа физкультурно-оздоровительного воспит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stellar"/>
              </a:rPr>
              <a:t>Программа по профориентации школьников</a:t>
            </a:r>
            <a:r>
              <a:rPr b="0" lang="en-US" sz="3200" spc="-1" strike="noStrike">
                <a:solidFill>
                  <a:srgbClr val="ffffff"/>
                </a:solidFill>
                <a:latin typeface="Castellar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277560"/>
            <a:ext cx="7570800" cy="61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7"/>
                </a:solidFill>
                <a:latin typeface="Times New Roman"/>
              </a:rPr>
              <a:t>НАЦИОНАЛЬНЫЙ СОСТАВ УЧАЩИХСЯ</a:t>
            </a:r>
            <a:br>
              <a:rPr sz="1200"/>
            </a:br>
            <a:r>
              <a:rPr b="0" lang="ru-RU" sz="1200" spc="-1" strike="noStrike">
                <a:solidFill>
                  <a:srgbClr val="ffffb7"/>
                </a:solidFill>
                <a:latin typeface="Times New Roman"/>
              </a:rPr>
              <a:t>В 2010-2011 УЧЕБНОМ ГОДУ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Русские – 270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Украинцы – 60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Белорусы – 12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Дагестанцы – 1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Татары – 16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Чеченцы – 7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Чуваши – 6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Казахи – 1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Ингуши – 5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Рутулы – 1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Нагайцы – 3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Цахуры – 16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Кумыки – 34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Азербайджанцы – 25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Лезгины – 11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 Агулы – 1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 Авары – 14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 Узбеки – 3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 Молдаване – 34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Башкиры – 9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Марийцы – 1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Таджики – 3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Поляки – 2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Удмурты – 1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Ханты – 1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26.Болгары – 2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27. Коми -  4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28. Гагаузы – 5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29. Ненцы – 2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30. Немцы  - 2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Русские – 48,9%</a:t>
            </a:r>
            <a:br>
              <a:rPr sz="1200"/>
            </a:br>
            <a:r>
              <a:rPr b="1" lang="ru-RU" sz="1200" spc="-1" strike="noStrike">
                <a:solidFill>
                  <a:srgbClr val="ffffb7"/>
                </a:solidFill>
                <a:latin typeface="Times New Roman"/>
              </a:rPr>
              <a:t>          Другие национальности – 51.1%</a:t>
            </a:r>
            <a:endParaRPr b="1" lang="en-US" sz="1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59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Book Antiqua"/>
              </a:rPr>
              <a:t>В рамках этой задачи, в школе  были проведены  мероприятия, посвященные следующим темам: Международный день родного языка, международный день коренных народов мира, международный день друзея, Европейский день языков, международный день против фашизма, расизма, антисемитизма, день прав человека</a:t>
            </a:r>
            <a:r>
              <a:rPr b="1" lang="ru-RU" sz="3200" spc="-1" strike="noStrike">
                <a:solidFill>
                  <a:srgbClr val="ffffb7"/>
                </a:solidFill>
                <a:latin typeface="Book Antiqua"/>
              </a:rPr>
              <a:t>, </a:t>
            </a:r>
            <a:r>
              <a:rPr b="0" lang="ru-RU" sz="3200" spc="-1" strike="noStrike">
                <a:solidFill>
                  <a:srgbClr val="ffffb7"/>
                </a:solidFill>
                <a:latin typeface="Book Antiqua"/>
              </a:rPr>
              <a:t>день толерантности, день прав ребенка.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4358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 Black"/>
              </a:rPr>
              <a:t>«Интернациональное молодежное объединение»</a:t>
            </a:r>
            <a:br>
              <a:rPr sz="3200"/>
            </a:br>
            <a:r>
              <a:rPr b="1" i="1" lang="en-US" sz="2800" spc="-1" strike="noStrike">
                <a:solidFill>
                  <a:srgbClr val="99ff66"/>
                </a:solidFill>
                <a:latin typeface="Arial Black"/>
              </a:rPr>
              <a:t>Задачи объединения:</a:t>
            </a:r>
            <a:br>
              <a:rPr sz="2800"/>
            </a:br>
            <a:r>
              <a:rPr b="1" lang="en-US" sz="2800" spc="-1" strike="noStrike">
                <a:solidFill>
                  <a:srgbClr val="00121e"/>
                </a:solidFill>
                <a:latin typeface="Arial Black"/>
              </a:rPr>
              <a:t>Снижение степени  распространения негативных этнических установок и предрассудков;</a:t>
            </a:r>
            <a:br>
              <a:rPr sz="2800"/>
            </a:br>
            <a:r>
              <a:rPr b="1" lang="en-US" sz="2800" spc="-1" strike="noStrike">
                <a:solidFill>
                  <a:srgbClr val="00121e"/>
                </a:solidFill>
                <a:latin typeface="Arial Black"/>
              </a:rPr>
              <a:t>Формирование толерантного сознания, основанного на понимании   и принятии культурных, религиозных и социальных отличий;</a:t>
            </a:r>
            <a:br>
              <a:rPr sz="2800"/>
            </a:br>
            <a:r>
              <a:rPr b="1" lang="en-US" sz="2800" spc="-1" strike="noStrike">
                <a:solidFill>
                  <a:srgbClr val="00121e"/>
                </a:solidFill>
                <a:latin typeface="Arial Black"/>
              </a:rPr>
              <a:t>Консолидация многонациональной школы;</a:t>
            </a:r>
            <a:br>
              <a:rPr sz="2800"/>
            </a:br>
            <a:r>
              <a:rPr b="1" lang="en-US" sz="2800" spc="-1" strike="noStrike">
                <a:solidFill>
                  <a:srgbClr val="00121e"/>
                </a:solidFill>
                <a:latin typeface="Arial Black"/>
              </a:rPr>
              <a:t>Формирование и укрепление позитивной гражданской и добровольческой позиции молодежи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95280" y="114480"/>
            <a:ext cx="8569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Умей чувствовать рядом с собой человека,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умей понимать его душу,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видеть в его глазах сложный духовный мир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– радость, горе, беду, несчастье.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Думай и чувствуй,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как твои поступки могут отразиться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Arial"/>
              </a:rPr>
              <a:t>на душевном состоянии другого человек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3200"/>
            </a:br>
            <a:r>
              <a:rPr b="1" i="1" lang="en-US" sz="3200" spc="-1" strike="noStrike">
                <a:solidFill>
                  <a:srgbClr val="ffffb7"/>
                </a:solidFill>
                <a:latin typeface="Arial"/>
              </a:rPr>
              <a:t>В.А.Сухом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9T10:36:21Z</dcterms:created>
  <dc:creator>Admin</dc:creator>
  <dc:description/>
  <dc:language>en-US</dc:language>
  <cp:lastModifiedBy>Admin</cp:lastModifiedBy>
  <dcterms:modified xsi:type="dcterms:W3CDTF">2011-03-19T11:03:52Z</dcterms:modified>
  <cp:revision>2</cp:revision>
  <dc:subject/>
  <dc:title>"Теперь, когда мы научились летать по воздуху, как птицы, плавать под водой, как рыбы, нам не хватает только одного: научиться жить на земле, как люди." (Б. Шоу) </dc:title>
</cp:coreProperties>
</file>