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0E3C-3851-47ED-AC5D-C3B3AEE9D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7536-EE17-46BE-AF4B-93DDD158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5C50-C28A-4358-B935-EE006E783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2C59-C2FA-4284-8E8E-7318E6B10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70A2-53CF-4556-8199-B09FC9A6F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50203-3182-4E50-8D87-8616DE1C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3BB0-4822-4A28-AD12-F561E14B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7CC5-6293-4969-A7AD-504B82CA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2A17-BE33-4F2E-985A-E4D8A773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CF29-4206-42A8-AE0E-103ECC17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AD36-EE43-40E3-95E1-1928DDCD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DBE2-EE19-4168-B792-8F645679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9FC23-DF4A-436F-A20C-DC094065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05F9-B012-4B75-A3D6-E7C93EEB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96B5-FCC4-4639-880D-98C578F2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7F17-54AC-465A-9244-7C1DE9461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C20C-71E9-44BE-B289-0A580DB6F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69D0D-21F5-4FFF-BD6C-C3B880902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78AA5-A2F5-4820-A186-D1971B12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33B32-1476-40EA-9F04-C76AA808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9731E-C65D-46A1-9C07-66ABC410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58021-999D-491E-9587-8F16D321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12DF-FF34-4BA6-AD25-843E7A2B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8574F-CAAA-4C93-AD7A-FEA0751A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5099D-E439-462B-AB62-53769C92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BDE22-082C-4834-B669-31FFAA53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CCF4F-E4CA-45C9-B281-EFE0FAE7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D6D12-0A89-4BE2-9AE0-AD70B33E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92BFE-5302-4B4D-A5CD-759EF75D7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982CE-0A41-4BDA-8836-58982BB77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9227F-AF69-4AC5-95BE-38C9BA828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FA3B3-0841-48DB-AA65-021D9016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0478A-FE23-40AB-851C-0EAF6337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0FEF-3801-4EF9-BBF3-DBF304A0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5EE08-BA45-426E-B41E-E4F55AF1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1ABEF-F51A-4FB5-8BB5-65FAC593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CF781-6651-4A17-8B30-8A70F4C6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C0DC2-A7F6-45F3-A06A-B3A424D9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C5B3E-F675-4E44-81ED-1E7F3731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AF74D-9C17-41CC-ADDA-93D9B8B4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E21D8-08C7-420C-961E-BF693821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4D75B-AE3B-453B-9849-67F3698E3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1943C-844F-435F-A507-5E3877BF9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4C931-1708-4B73-A1E4-B0A6CE4D9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759F-EE51-485A-85C1-4C30ABB5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F5FAB-6A8E-4D58-B0C5-11DD9C75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88350-C165-49DF-A9C2-B26E5A34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C0852-4AA6-4C3F-B85C-291E055C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1F0DB-8E82-4A60-B1DF-FA58D620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DFED8-644C-4B90-AAA8-819E9A87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AD99B-3BEA-4107-96C3-6BAFD95D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FABDF-5C4C-41D1-8DE5-769B8B6C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D8FE5-9E34-4CE4-B91E-015EEE28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572BC-8691-4D22-B0C8-805E8C37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D80C2-9670-4D5B-BD9C-363F49228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ABA2-DF4F-42B0-8045-754BCD66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9444F-FB5C-4DA2-AE06-533C84EAB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54C2D-6F9A-4F0A-AE4C-B2E6BEDD0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52F45-6EB0-49EF-9DBF-395BA284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4BAB3-B764-47FA-8CD8-D58F8233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9B494-DBB7-4B82-9EE9-5BEF7FA8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322AF-7EAC-48EA-9056-AC06B48A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B84C9-9F10-44FD-B675-D7FCC556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E9625-C924-4B3D-8963-C14B2C90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57FFC-5C12-4764-81EC-4BBC5611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CD3F1-DC49-487A-9754-858FE8C5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1CA4-99C3-49E1-BE8E-D02056DE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F124F-47FD-4D5D-935F-8BD3D001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D33AB-FB87-4663-82C8-11CCB486F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FDCCB-E18A-4213-A1EB-CFC48A413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9DC9-1D45-4FCF-AA10-CC75E451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B856-BBAA-4CEA-8C01-097B6B17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C617-738F-4AAF-8A8B-21A4628B3DDC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04F1-6305-491C-955C-1D0881D9C3E0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EF85-D96C-43E7-A0D1-30CAECC4A077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1FD3-029A-4C72-9D7C-44A15E4745A3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1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18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2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04D4-E2E3-4C37-8C44-2E6C3752647E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6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69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3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44B6-ABA7-42A7-A5F8-4C2B1EDF95AD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8" descr="C:\Users\Алексей\Desktop\2-z13-54c29850-e7ea-43f2-aae8-4e40b40c81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4"/>
          <p:cNvSpPr/>
          <p:nvPr/>
        </p:nvSpPr>
        <p:spPr>
          <a:xfrm>
            <a:off x="1547640" y="260280"/>
            <a:ext cx="66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зентация на тем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Театрализованная деятельность в младшей групп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6084720" y="3645000"/>
            <a:ext cx="266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ат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хальская Юлия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зьмина Марианна Васи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9" descr="C:\Users\Алексей\Desktop\kolobok.png"/>
          <p:cNvPicPr/>
          <p:nvPr/>
        </p:nvPicPr>
        <p:blipFill>
          <a:blip r:embed="rId2"/>
          <a:stretch/>
        </p:blipFill>
        <p:spPr>
          <a:xfrm>
            <a:off x="3567240" y="3441600"/>
            <a:ext cx="2009520" cy="17319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1" descr="C:\Users\Алексей\Desktop\repka-e1342782593447-1024x734_kopiya.jpg"/>
          <p:cNvPicPr/>
          <p:nvPr/>
        </p:nvPicPr>
        <p:blipFill>
          <a:blip r:embed="rId3"/>
          <a:stretch/>
        </p:blipFill>
        <p:spPr>
          <a:xfrm>
            <a:off x="6804000" y="5087880"/>
            <a:ext cx="2089080" cy="14414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2" descr="C:\Users\Алексей\Desktop\55d420cb3a7f1.jpg"/>
          <p:cNvPicPr/>
          <p:nvPr/>
        </p:nvPicPr>
        <p:blipFill>
          <a:blip r:embed="rId4"/>
          <a:stretch/>
        </p:blipFill>
        <p:spPr>
          <a:xfrm>
            <a:off x="12600" y="5160960"/>
            <a:ext cx="17287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Rectangle 2" descr=""/>
          <p:cNvPicPr/>
          <p:nvPr/>
        </p:nvPicPr>
        <p:blipFill>
          <a:blip r:embed="rId1"/>
          <a:stretch/>
        </p:blipFill>
        <p:spPr>
          <a:xfrm>
            <a:off x="469800" y="133200"/>
            <a:ext cx="8326440" cy="8478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68360" y="134136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18036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  <a:ea typeface="方正姚体"/>
              </a:rPr>
              <a:t>Знакомство детей с разными видами театров начала в младшей группе и заметила, что встреча с театральной куклой, особенно в адаптационный период, помогает малышам расслабиться, снять напряжение, создает радостную атмосферу, воспитывает доброту. Разыгрывая перед детьми небольшие спектакли, изменяя голос и интонацию в соответствии с героем, позволило мне в наблюдениях отметить, что малыши, играя с мелкими игрушками, могут разыгрывать хорошо знакомые им русские народные сказки ("Курочка Ряба", "Колобок", "Репка" и др.). Поэтому решила показывать маленькие спектакли, приглашая желающих детей в них играть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  <a:ea typeface="方正姚体"/>
              </a:rPr>
              <a:t>С ранних лет каждый малыш стремится проявить творчество, и поэтому важно создать в детском коллективе атмосферу свободного выражения чувств и мыслей, важно поощрять желание ребенка быть непохожим на других, важно разбудить его фантазию и попытаться максимально реализовать его способности. Театрализованные игры помогают детям  закрепить коммуникативные навыки, развить внимание, речь, память, творческое воображение. Очень важно с раннего возраста показывать детям примеры дружбы, правдивости, отзывчивости, находчивости, храбрости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  <a:ea typeface="方正姚体"/>
              </a:rPr>
              <a:t>Привычку к выразительной публичной речи можно воспитать в человеке только путём привлечения его с малолетства к выступлениям перед аудиторией. Такие игры помогают преодолевать робость, неуверенность в себе, застенчивость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1096920" y="341280"/>
            <a:ext cx="7358040" cy="11826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2421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03400" indent="-16236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  <a:ea typeface="方正姚体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  <a:ea typeface="方正姚体"/>
              </a:rPr>
              <a:t>1. Развивать внимание у ребенка, слушать речь взрослого и понимать содержание и действовать в соответствии с ним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03400" indent="-16236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  <a:ea typeface="方正姚体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  <a:ea typeface="方正姚体"/>
              </a:rPr>
              <a:t>2. Воспитывать выдержку, развивать память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03400" indent="-16236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  <a:ea typeface="方正姚体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  <a:ea typeface="方正姚体"/>
              </a:rPr>
              <a:t>3. Развитие интонационной выразительной речи (эмоциональность)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03400" indent="-16236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  <a:ea typeface="方正姚体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  <a:ea typeface="方正姚体"/>
              </a:rPr>
              <a:t>4. Развитие умственной и речевой активности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03400" indent="-16236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  <a:ea typeface="方正姚体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  <a:ea typeface="方正姚体"/>
              </a:rPr>
              <a:t>5. Развивать умение с помощью взрослого инсценировать и драматизировать небольшие отрывки из народных сказок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03400" indent="-1623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  <a:ea typeface="方正姚体"/>
              </a:rPr>
              <a:t>    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Rectangle 4" descr=""/>
          <p:cNvPicPr/>
          <p:nvPr/>
        </p:nvPicPr>
        <p:blipFill>
          <a:blip r:embed="rId1"/>
          <a:stretch/>
        </p:blipFill>
        <p:spPr>
          <a:xfrm>
            <a:off x="457200" y="317520"/>
            <a:ext cx="8358120" cy="90792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7"/>
          <p:cNvSpPr/>
          <p:nvPr/>
        </p:nvSpPr>
        <p:spPr>
          <a:xfrm>
            <a:off x="684360" y="1197000"/>
            <a:ext cx="820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方正姚体"/>
              </a:rPr>
              <a:t>Для улучшения памяти у детей в своей практике я использую приемы мнемотехники.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  <a:ea typeface="方正姚体"/>
              </a:rPr>
              <a:t>Мнемотехн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方正姚体"/>
              </a:rPr>
              <a:t> - это система методов и приемов, обеспечивающих эффективное запоминание, сохранение и воспроизведение информ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  <a:ea typeface="方正姚体"/>
              </a:rPr>
              <a:t>Цель обуч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方正姚体"/>
              </a:rPr>
              <a:t> с ее использованием - развитие памяти (разные виды: слуховая, зрительная, двигательная, тактильная), мышления, внимания, вообра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  <a:ea typeface="方正姚体"/>
              </a:rPr>
              <a:t>Основа обуч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方正姚体"/>
              </a:rPr>
              <a:t> - развитие творческого по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方正姚体"/>
              </a:rPr>
              <a:t>Дети знакомятся с окружающим не только непосредственно что-то воспринимая, но и опосредованно, с помощью прочитанных книг, рассказанных сказок. Сказка - неизменный спутник детства - играет особую роль в жизни ребенка. Воображаемая ситуация роднит сказку с игрой-главным видом деятельности дошкольника. Малыш сопереживает героям, разделяет их чувства, живет вместе с ними в мире сказки. Ему легче установить ассоциативные связи с любимыми и понятными сказочными персонаж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9"/>
          <p:cNvSpPr/>
          <p:nvPr/>
        </p:nvSpPr>
        <p:spPr>
          <a:xfrm>
            <a:off x="3564000" y="1125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Сказка «Колоб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3"/>
          <p:cNvSpPr/>
          <p:nvPr/>
        </p:nvSpPr>
        <p:spPr>
          <a:xfrm>
            <a:off x="250920" y="4292640"/>
            <a:ext cx="29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лобок: «Не ешь меня, я тебе песенку спою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4"/>
          <p:cNvSpPr/>
          <p:nvPr/>
        </p:nvSpPr>
        <p:spPr>
          <a:xfrm>
            <a:off x="2916360" y="4724280"/>
            <a:ext cx="251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лк: «Колобок, колобок я тебя съем!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5"/>
          <p:cNvSpPr/>
          <p:nvPr/>
        </p:nvSpPr>
        <p:spPr>
          <a:xfrm>
            <a:off x="5940360" y="5516640"/>
            <a:ext cx="280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са: «Садись, колобок, на мой носок, да пропой еще разок !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4" descr="DSCN0021"/>
          <p:cNvPicPr/>
          <p:nvPr/>
        </p:nvPicPr>
        <p:blipFill>
          <a:blip r:embed="rId1"/>
          <a:stretch/>
        </p:blipFill>
        <p:spPr>
          <a:xfrm>
            <a:off x="395280" y="404640"/>
            <a:ext cx="3357720" cy="2517840"/>
          </a:xfrm>
          <a:prstGeom prst="rect">
            <a:avLst/>
          </a:prstGeom>
          <a:ln w="44280">
            <a:solidFill>
              <a:srgbClr val="008000"/>
            </a:solidFill>
            <a:miter/>
          </a:ln>
        </p:spPr>
      </p:pic>
      <p:pic>
        <p:nvPicPr>
          <p:cNvPr id="334" name="Picture 5" descr="дед"/>
          <p:cNvPicPr/>
          <p:nvPr/>
        </p:nvPicPr>
        <p:blipFill>
          <a:blip r:embed="rId2"/>
          <a:stretch/>
        </p:blipFill>
        <p:spPr>
          <a:xfrm>
            <a:off x="863640" y="3716280"/>
            <a:ext cx="1116000" cy="1800360"/>
          </a:xfrm>
          <a:prstGeom prst="rect">
            <a:avLst/>
          </a:prstGeom>
          <a:ln w="44280">
            <a:solidFill>
              <a:srgbClr val="008000"/>
            </a:solidFill>
            <a:miter/>
          </a:ln>
        </p:spPr>
      </p:pic>
      <p:pic>
        <p:nvPicPr>
          <p:cNvPr id="335" name="Picture 6" descr="бабка"/>
          <p:cNvPicPr/>
          <p:nvPr/>
        </p:nvPicPr>
        <p:blipFill>
          <a:blip r:embed="rId3"/>
          <a:stretch/>
        </p:blipFill>
        <p:spPr>
          <a:xfrm>
            <a:off x="2050920" y="3716280"/>
            <a:ext cx="1187640" cy="1800360"/>
          </a:xfrm>
          <a:prstGeom prst="rect">
            <a:avLst/>
          </a:prstGeom>
          <a:ln w="44280">
            <a:solidFill>
              <a:srgbClr val="008000"/>
            </a:solidFill>
            <a:miter/>
          </a:ln>
        </p:spPr>
      </p:pic>
      <p:pic>
        <p:nvPicPr>
          <p:cNvPr id="336" name="Picture 7" descr="внучка"/>
          <p:cNvPicPr/>
          <p:nvPr/>
        </p:nvPicPr>
        <p:blipFill>
          <a:blip r:embed="rId4"/>
          <a:stretch/>
        </p:blipFill>
        <p:spPr>
          <a:xfrm>
            <a:off x="3276720" y="3716280"/>
            <a:ext cx="1158840" cy="1800360"/>
          </a:xfrm>
          <a:prstGeom prst="rect">
            <a:avLst/>
          </a:prstGeom>
          <a:ln w="44280">
            <a:solidFill>
              <a:srgbClr val="008000"/>
            </a:solidFill>
            <a:miter/>
          </a:ln>
        </p:spPr>
      </p:pic>
      <p:pic>
        <p:nvPicPr>
          <p:cNvPr id="337" name="Picture 8" descr="жучка"/>
          <p:cNvPicPr/>
          <p:nvPr/>
        </p:nvPicPr>
        <p:blipFill>
          <a:blip r:embed="rId5"/>
          <a:stretch/>
        </p:blipFill>
        <p:spPr>
          <a:xfrm>
            <a:off x="4500720" y="3716280"/>
            <a:ext cx="1141200" cy="1800360"/>
          </a:xfrm>
          <a:prstGeom prst="rect">
            <a:avLst/>
          </a:prstGeom>
          <a:ln w="44280">
            <a:solidFill>
              <a:srgbClr val="008000"/>
            </a:solidFill>
            <a:miter/>
          </a:ln>
        </p:spPr>
      </p:pic>
      <p:pic>
        <p:nvPicPr>
          <p:cNvPr id="338" name="Picture 9" descr="кошка"/>
          <p:cNvPicPr/>
          <p:nvPr/>
        </p:nvPicPr>
        <p:blipFill>
          <a:blip r:embed="rId6"/>
          <a:stretch/>
        </p:blipFill>
        <p:spPr>
          <a:xfrm>
            <a:off x="5724360" y="3716280"/>
            <a:ext cx="1155960" cy="1800360"/>
          </a:xfrm>
          <a:prstGeom prst="rect">
            <a:avLst/>
          </a:prstGeom>
          <a:ln w="44280">
            <a:solidFill>
              <a:srgbClr val="008000"/>
            </a:solidFill>
            <a:miter/>
          </a:ln>
        </p:spPr>
      </p:pic>
      <p:pic>
        <p:nvPicPr>
          <p:cNvPr id="339" name="Picture 10" descr="мышка"/>
          <p:cNvPicPr/>
          <p:nvPr/>
        </p:nvPicPr>
        <p:blipFill>
          <a:blip r:embed="rId7"/>
          <a:stretch/>
        </p:blipFill>
        <p:spPr>
          <a:xfrm>
            <a:off x="6948360" y="3716280"/>
            <a:ext cx="1162080" cy="1800360"/>
          </a:xfrm>
          <a:prstGeom prst="rect">
            <a:avLst/>
          </a:prstGeom>
          <a:ln w="44280">
            <a:solidFill>
              <a:srgbClr val="008000"/>
            </a:solidFill>
            <a:miter/>
          </a:ln>
        </p:spPr>
      </p:pic>
      <p:sp>
        <p:nvSpPr>
          <p:cNvPr id="340" name="Text Box 11"/>
          <p:cNvSpPr/>
          <p:nvPr/>
        </p:nvSpPr>
        <p:spPr>
          <a:xfrm>
            <a:off x="1042920" y="3068640"/>
            <a:ext cx="33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стольный театр «Репк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2"/>
          <p:cNvSpPr/>
          <p:nvPr/>
        </p:nvSpPr>
        <p:spPr>
          <a:xfrm>
            <a:off x="1979640" y="5867280"/>
            <a:ext cx="633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дактическая игра «Разложи по порядку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Rectangle 4" descr=""/>
          <p:cNvPicPr/>
          <p:nvPr/>
        </p:nvPicPr>
        <p:blipFill>
          <a:blip r:embed="rId1"/>
          <a:stretch/>
        </p:blipFill>
        <p:spPr>
          <a:xfrm>
            <a:off x="469800" y="-85680"/>
            <a:ext cx="8283600" cy="73188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11"/>
          <p:cNvSpPr/>
          <p:nvPr/>
        </p:nvSpPr>
        <p:spPr>
          <a:xfrm>
            <a:off x="324000" y="3141720"/>
            <a:ext cx="36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Тянут – потянут, и вытянули репку!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2"/>
          <p:cNvSpPr/>
          <p:nvPr/>
        </p:nvSpPr>
        <p:spPr>
          <a:xfrm>
            <a:off x="4788000" y="3141720"/>
            <a:ext cx="37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Уродилась репка вкусная и крепкая!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3"/>
          <p:cNvSpPr/>
          <p:nvPr/>
        </p:nvSpPr>
        <p:spPr>
          <a:xfrm>
            <a:off x="5219640" y="4365720"/>
            <a:ext cx="345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Едем, едем мы домой на машине грузовой. Урожай собирай и на зиму запасай!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WordArt 5"/>
          <p:cNvSpPr txBox="1"/>
          <p:nvPr/>
        </p:nvSpPr>
        <p:spPr>
          <a:xfrm>
            <a:off x="468360" y="2565360"/>
            <a:ext cx="8136000" cy="280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08:26:09Z</dcterms:created>
  <dc:creator>Лариса</dc:creator>
  <dc:description/>
  <dc:language>en-US</dc:language>
  <cp:lastModifiedBy>Алексей</cp:lastModifiedBy>
  <dcterms:modified xsi:type="dcterms:W3CDTF">2017-05-29T08:39:25Z</dcterms:modified>
  <cp:revision>55</cp:revision>
  <dc:subject/>
  <dc:title>Театрализованная деятельность в младшей группе</dc:title>
</cp:coreProperties>
</file>