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CAD-8D74-4437-8C05-0DD5B5FC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05BF-3E7F-4BC2-A20F-008E1EA2C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2176-0B8F-47DE-B2BE-C90FCAF6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200-93D6-49EF-823D-A157E8E9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53524-4550-4056-9117-8D01C57C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02E64-51DA-4B15-86B8-08B64008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C113-E749-4C38-9ED5-D6651EEC0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6287-1E94-4EFE-BE4A-4FF203C7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D53B-2E99-4DD2-A698-5251C5E4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38BA-0FED-4860-BBC6-6D59CFA9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0E93-6867-4407-9DBF-01B7F27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6161-DB3F-43FE-902C-DDE50617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65CD7-5248-4600-A842-B8961A9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FD5ED-F6CD-4053-B477-1FFBABCE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4153-DB0F-494C-A5EB-628010F4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AA71-6868-4917-AE55-A9982D5BC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024CD-D263-4E61-A324-5C81B526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A7CBF-5795-43FF-B1D2-FE927205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A1D57-5E6B-47A5-9523-4E9C2B98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4BB6A-C517-4D67-A709-4C031AB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A2215-979E-4ACA-A950-5FD9657A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8E4C2-6E2C-4B78-8642-2B7DED16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BE8E-9685-4606-A2C1-49EC5964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74F3D-FB42-4648-9A61-2E36E365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2B80-73FA-4F0E-8A1A-959DC60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F4B86-4E29-44E4-9F80-58723CAF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BCF71-D27E-4522-997D-F490D974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10DA5-A1A3-4E72-999D-D9841520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C1E7-7E33-4F2D-8707-140429794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2937-C998-4B0A-9A15-F79742B37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18585-463C-464E-8D66-7473090B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BCA09-FF71-4C61-9942-9D73C31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A224-8DBE-4C37-9DAC-BA8DD2CD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AEC-0ACF-4AF9-9FE5-157C7E07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169A-6698-405E-9D18-EE76DA1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EDCD5-C4B8-4490-81CC-29DCFCFB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29633-FE63-449C-B8D8-2CC8AFF7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866CC-2F3F-4D53-BC30-AE1D8F3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A66B4-DD7F-492E-9AD4-6F71D72A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368E2-2695-4F9C-838D-846543B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16B0-6D09-4547-9EC6-D228FF6A8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AF589-7D48-4F6F-BFD3-0BDE8E305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EDA4-B043-4C6F-A63A-1209115F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51258-5D53-4901-A655-E3D0D169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054-0F6C-4E13-A9A7-B94E10B3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231F3B-51E2-49DE-8A49-E72BFA123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CF320-48F7-45DB-B6E6-7C41F422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5D599-D488-4CC8-AE98-420FC91F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A94CE-A052-41D9-BF55-A1024483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12811-2D1F-4544-90D5-D768D8FC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325FF-E1DA-404F-A7B6-CDA2CDCC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9A690-A48E-476E-817F-48CFBBE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ECBE3-829E-404C-B97E-A7419A90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751AB-5CB6-4650-874C-5713C91F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D46BA-EDD4-4471-B85A-B24B665D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EB8A-C74C-4F56-84F4-CF5FF7E7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72AED-AE29-47FF-AF87-D5FFAC03A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6FADC-57FA-437D-B451-8B99C9CD1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B2AB-3A6D-465D-88B5-F17A285F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BC67C-D0BE-4F95-8DF1-4CBC7FF0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B0CE0-96AC-4254-A7AA-724AFB59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D3CD8-2D6F-44F5-88F0-5F209991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FCC6B-02A9-4D92-9EE6-7666DB73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92893-6B0C-4D4B-9047-8EEB3C2A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8C2F1-AC43-49C2-8A06-90AA4150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997B7-09CF-4C3E-B9E5-F2C3FB1E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B3E1-6357-48E1-B457-F6646771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61A2E-958B-4D2E-8744-F2ED80EF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0B3D6-D3FF-4351-BACA-6CFBF235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98268-5C42-4D97-AC68-41E4FB16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C70A-B440-43AF-B905-1684AA4A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4C99-8DE2-444D-B3B7-79C2B924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01CD-19A1-467E-AB5A-409208C194D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46AE-580A-4801-A648-A4AF2142029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1DB9-4E1B-414D-A2A8-F56FA78EC654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7960-ACFE-49C6-9C51-546066952EE6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1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18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22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FF14-4B5A-41CB-83F9-67550DCDD54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26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269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273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D602-B910-4B3A-99BF-C6F4DCD08ED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8" descr="C:\Users\Алексей\Desktop\2-z13-54c29850-e7ea-43f2-aae8-4e40b40c811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4"/>
          <p:cNvSpPr/>
          <p:nvPr/>
        </p:nvSpPr>
        <p:spPr>
          <a:xfrm>
            <a:off x="1547640" y="26028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зентация 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Театрализованная деятельность в младшей групп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084720" y="3645000"/>
            <a:ext cx="266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т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льская Юлия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зьмина Марианна Васи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9" descr="C:\Users\Алексей\Desktop\kolobok.png"/>
          <p:cNvPicPr/>
          <p:nvPr/>
        </p:nvPicPr>
        <p:blipFill>
          <a:blip r:embed="rId2"/>
          <a:stretch/>
        </p:blipFill>
        <p:spPr>
          <a:xfrm>
            <a:off x="3567240" y="3441600"/>
            <a:ext cx="2009520" cy="17319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1" descr="C:\Users\Алексей\Desktop\repka-e1342782593447-1024x734_kopiya.jpg"/>
          <p:cNvPicPr/>
          <p:nvPr/>
        </p:nvPicPr>
        <p:blipFill>
          <a:blip r:embed="rId3"/>
          <a:stretch/>
        </p:blipFill>
        <p:spPr>
          <a:xfrm>
            <a:off x="6804000" y="5087880"/>
            <a:ext cx="2089080" cy="14414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2" descr="C:\Users\Алексей\Desktop\55d420cb3a7f1.jpg"/>
          <p:cNvPicPr/>
          <p:nvPr/>
        </p:nvPicPr>
        <p:blipFill>
          <a:blip r:embed="rId4"/>
          <a:stretch/>
        </p:blipFill>
        <p:spPr>
          <a:xfrm>
            <a:off x="12600" y="5160960"/>
            <a:ext cx="17287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469800" y="133200"/>
            <a:ext cx="8326440" cy="847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68360" y="134136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方正姚体"/>
              </a:rPr>
              <a:t>Знакомство детей с разными видами театров начала в младшей группе и заметила, что встреча с театральной куклой, особенно в адаптационный период, помогает малышам расслабиться, снять напряжение, создает радостную атмосферу, воспитывает доброту. Разыгрывая перед детьми небольшие спектакли, изменяя голос и интонацию в соответствии с героем, позволило мне в наблюдениях отметить, что малыши, играя с мелкими игрушками, могут разыгрывать хорошо знакомые им русские народные сказки ("Курочка Ряба", "Колобок", "Репка" и др.). Поэтому решила показывать маленькие спектакли, приглашая желающих детей в них играть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方正姚体"/>
              </a:rPr>
              <a:t>С ранних лет каждый малыш стремится проявить творчество, и поэтому важно создать в детском коллективе атмосферу свободного выражения чувств и мыслей, важно поощрять желание ребенка быть непохожим на других, важно разбудить его фантазию и попытаться максимально реализовать его способности. Театрализованные игры помогают детям  закрепить коммуникативные навыки, развить внимание, речь, память, творческое воображение. Очень важно с раннего возраста показывать детям примеры дружбы, правдивости, отзывчивости, находчивости, храбрости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  <a:ea typeface="方正姚体"/>
              </a:rPr>
              <a:t>Привычку к выразительной публичной речи можно воспитать в человеке только путём привлечения его с малолетства к выступлениям перед аудиторией. Такие игры помогают преодолевать робость, неуверенность в себе, застенчивость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1096920" y="341280"/>
            <a:ext cx="7358040" cy="11826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2421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1. Развивать внимание у ребенка, слушать речь взрослого и понимать содержание и действовать в соответствии с ни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2. Воспитывать выдержку, развивать память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3. Развитие интонационной выразительной речи (эмоциональность)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4. Развитие умственной и речевой активности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  <a:ea typeface="方正姚体"/>
              </a:rPr>
              <a:t>5. Развивать умение с помощью взрослого инсценировать и драматизировать небольшие отрывки из народных сказок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03400" indent="-1623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  <a:ea typeface="方正姚体"/>
              </a:rPr>
              <a:t>     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457200" y="317520"/>
            <a:ext cx="8358120" cy="90792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84360" y="1197000"/>
            <a:ext cx="82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Для улучшения памяти у детей в своей практике я использую приемы мнемотехники.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Мнемотех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 - это система методов и приемов, обеспечивающих эффективное запоминание, сохранение и воспроизведение информ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Цель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 с ее использованием - развитие памяти (разные виды: слуховая, зрительная, двигательная, тактильная), мышления, внимания, вооб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  <a:ea typeface="方正姚体"/>
              </a:rPr>
              <a:t>Основа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 - развитие творческого п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方正姚体"/>
              </a:rPr>
              <a:t>Дети знакомятся с окружающим не только непосредственно что-то воспринимая, но и опосредованно, с помощью прочитанных книг, рассказанных сказок. Сказка - неизменный спутник детства - играет особую роль в жизни ребенка. Воображаемая ситуация роднит сказку с игрой-главным видом деятельности дошкольника. Малыш сопереживает героям, разделяет их чувства, живет вместе с ними в мире сказки. Ему легче установить ассоциативные связи с любимыми и понятными сказочными персонаж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9"/>
          <p:cNvSpPr/>
          <p:nvPr/>
        </p:nvSpPr>
        <p:spPr>
          <a:xfrm>
            <a:off x="3564000" y="1125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00"/>
                </a:solidFill>
                <a:latin typeface="Arial"/>
              </a:rPr>
              <a:t>Сказка «Колобо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3"/>
          <p:cNvSpPr/>
          <p:nvPr/>
        </p:nvSpPr>
        <p:spPr>
          <a:xfrm>
            <a:off x="250920" y="429264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лобок: «Не ешь меня, я тебе песенку спою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4"/>
          <p:cNvSpPr/>
          <p:nvPr/>
        </p:nvSpPr>
        <p:spPr>
          <a:xfrm>
            <a:off x="2916360" y="4724280"/>
            <a:ext cx="251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лк: «Колобок, колобок я тебя съем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5"/>
          <p:cNvSpPr/>
          <p:nvPr/>
        </p:nvSpPr>
        <p:spPr>
          <a:xfrm>
            <a:off x="5940360" y="551664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иса: «Садись, колобок, на мой носок, да пропой еще разок 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DSCN0021"/>
          <p:cNvPicPr/>
          <p:nvPr/>
        </p:nvPicPr>
        <p:blipFill>
          <a:blip r:embed="rId1"/>
          <a:stretch/>
        </p:blipFill>
        <p:spPr>
          <a:xfrm>
            <a:off x="395280" y="404640"/>
            <a:ext cx="3357720" cy="251784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4" name="Picture 5" descr="дед"/>
          <p:cNvPicPr/>
          <p:nvPr/>
        </p:nvPicPr>
        <p:blipFill>
          <a:blip r:embed="rId2"/>
          <a:stretch/>
        </p:blipFill>
        <p:spPr>
          <a:xfrm>
            <a:off x="863640" y="3716280"/>
            <a:ext cx="111600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5" name="Picture 6" descr="бабка"/>
          <p:cNvPicPr/>
          <p:nvPr/>
        </p:nvPicPr>
        <p:blipFill>
          <a:blip r:embed="rId3"/>
          <a:stretch/>
        </p:blipFill>
        <p:spPr>
          <a:xfrm>
            <a:off x="2050920" y="3716280"/>
            <a:ext cx="118764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6" name="Picture 7" descr="внучка"/>
          <p:cNvPicPr/>
          <p:nvPr/>
        </p:nvPicPr>
        <p:blipFill>
          <a:blip r:embed="rId4"/>
          <a:stretch/>
        </p:blipFill>
        <p:spPr>
          <a:xfrm>
            <a:off x="3276720" y="3716280"/>
            <a:ext cx="115884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7" name="Picture 8" descr="жучка"/>
          <p:cNvPicPr/>
          <p:nvPr/>
        </p:nvPicPr>
        <p:blipFill>
          <a:blip r:embed="rId5"/>
          <a:stretch/>
        </p:blipFill>
        <p:spPr>
          <a:xfrm>
            <a:off x="4500720" y="3716280"/>
            <a:ext cx="114120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8" name="Picture 9" descr="кошка"/>
          <p:cNvPicPr/>
          <p:nvPr/>
        </p:nvPicPr>
        <p:blipFill>
          <a:blip r:embed="rId6"/>
          <a:stretch/>
        </p:blipFill>
        <p:spPr>
          <a:xfrm>
            <a:off x="5724360" y="3716280"/>
            <a:ext cx="115596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pic>
        <p:nvPicPr>
          <p:cNvPr id="339" name="Picture 10" descr="мышка"/>
          <p:cNvPicPr/>
          <p:nvPr/>
        </p:nvPicPr>
        <p:blipFill>
          <a:blip r:embed="rId7"/>
          <a:stretch/>
        </p:blipFill>
        <p:spPr>
          <a:xfrm>
            <a:off x="6948360" y="3716280"/>
            <a:ext cx="1162080" cy="1800360"/>
          </a:xfrm>
          <a:prstGeom prst="rect">
            <a:avLst/>
          </a:prstGeom>
          <a:ln w="44280">
            <a:solidFill>
              <a:srgbClr val="008000"/>
            </a:solidFill>
            <a:miter/>
          </a:ln>
        </p:spPr>
      </p:pic>
      <p:sp>
        <p:nvSpPr>
          <p:cNvPr id="340" name="Text Box 11"/>
          <p:cNvSpPr/>
          <p:nvPr/>
        </p:nvSpPr>
        <p:spPr>
          <a:xfrm>
            <a:off x="1042920" y="306864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стольный театр «Реп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1979640" y="5867280"/>
            <a:ext cx="63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идактическая игра «Разложи по порядку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4" descr=""/>
          <p:cNvPicPr/>
          <p:nvPr/>
        </p:nvPicPr>
        <p:blipFill>
          <a:blip r:embed="rId1"/>
          <a:stretch/>
        </p:blipFill>
        <p:spPr>
          <a:xfrm>
            <a:off x="469800" y="-85680"/>
            <a:ext cx="8283600" cy="73188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1"/>
          <p:cNvSpPr/>
          <p:nvPr/>
        </p:nvSpPr>
        <p:spPr>
          <a:xfrm>
            <a:off x="324000" y="3141720"/>
            <a:ext cx="36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Тянут – потянут, и вытянули репку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2"/>
          <p:cNvSpPr/>
          <p:nvPr/>
        </p:nvSpPr>
        <p:spPr>
          <a:xfrm>
            <a:off x="4788000" y="3141720"/>
            <a:ext cx="37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Уродилась репка вкусная и крепкая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3"/>
          <p:cNvSpPr/>
          <p:nvPr/>
        </p:nvSpPr>
        <p:spPr>
          <a:xfrm>
            <a:off x="5219640" y="4365720"/>
            <a:ext cx="34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Едем, едем мы домой на машине грузовой. Урожай собирай и на зиму запасай!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5"/>
          <p:cNvSpPr txBox="1"/>
          <p:nvPr/>
        </p:nvSpPr>
        <p:spPr>
          <a:xfrm>
            <a:off x="468360" y="2565360"/>
            <a:ext cx="8136000" cy="280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8:26:09Z</dcterms:created>
  <dc:creator>Лариса</dc:creator>
  <dc:description/>
  <dc:language>en-US</dc:language>
  <cp:lastModifiedBy>Алексей</cp:lastModifiedBy>
  <dcterms:modified xsi:type="dcterms:W3CDTF">2017-05-29T08:39:25Z</dcterms:modified>
  <cp:revision>55</cp:revision>
  <dc:subject/>
  <dc:title>Театрализованная деятельность в младшей группе</dc:title>
</cp:coreProperties>
</file>