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8AA-AE74-430A-91AD-CE72ABF0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CD-457B-472D-8AC8-0AC5195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9DB-F227-415F-A70F-59E28057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2A2-C639-4FD4-B3BD-68EA907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765-82BB-409C-A561-58F632D1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CD0-C458-446D-8515-290A051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AEB-12E1-48D3-8BA3-C2BCF5E6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DA5-3D03-4259-9A23-21030FB8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B1F-A49C-4595-9AEE-AE3B0B6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E72-EDB7-40E6-A857-CC7F469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1CC-4F49-4494-873D-482588A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1A4-59F6-4151-BB27-0E863B62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0C5-CAC0-453B-A96B-3DF1D8FB14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троп"/>
          <p:cNvPicPr/>
          <p:nvPr/>
        </p:nvPicPr>
        <p:blipFill>
          <a:blip r:embed="rId1"/>
          <a:stretch/>
        </p:blipFill>
        <p:spPr>
          <a:xfrm>
            <a:off x="3348000" y="1413000"/>
            <a:ext cx="2664000" cy="309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547640" y="1052640"/>
            <a:ext cx="633744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сновные темы и мотивы лир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03280" y="4149720"/>
            <a:ext cx="662472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Александра Сергеевича Пушк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671800" y="57150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ученица 10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шина Светл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ио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 было много на челн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парус напряга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ие дружно упир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лубь мощны веслы. В тиши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уль склонясь, наш кормщик ум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олчанье правил грузный чел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я — беспечной веры полн,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вцам я пел... Вдруг лоно вол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ял с налету вихорь шумный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гиб и кормщик и пловец!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ь я, таинственный певец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ерег выброшен грозо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гимны прежние п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изу влажную м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шу на солнце под скал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6000" y="764640"/>
            <a:ext cx="478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ихотворение А.С. Пушкина «Арион» написано в 182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и стихотворения – пловцы, отправившиеся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утешествие. У каждого на корабле своя рабо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иные парус напрягали, иные дружно упирали вглуб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щны весла…» Корабельщики дружно преодолев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пятствия, их ведет «кормщик умный», а геро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беспечной веры полн», поет им, уверенный в то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то его талант, его песни помогают пловцам в и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легкой работе. Лирический герой, доверчив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крытый, свободный, безусловно, очень близ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тору. Пушкин тоже «пел, беспечной веры полн», 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ная о готовящемся восстании, о замыслах е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уководителей, не зная о том, какое «плавани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товят его друзь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нтральное событие стихотворения - «вихо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умный», разбивший корабль, унесший жизн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рмщика, и пловцов. Это метафориче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ображение восстания декабристов, его разгро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Пушкина события 1825 года были трагедие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тормом, кораблекрушением. Так же, как и поэ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ион избежал гибели в шторме, он «на бере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брошен грозою». Но эта случайность не слома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я, не заставила его отречься от друзей. «Я гим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жние пою» - в этих словах и верность декабриста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ерность своим убеждениям, вере в справедлив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476360" y="2565360"/>
            <a:ext cx="66182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66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>
                    <a:alpha val="6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ений чистой красот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>
                  <a:alpha val="6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368880" y="73692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И сердце вновь горит и любит оттого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Что не любить оно не може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Nataly"/>
          <p:cNvPicPr/>
          <p:nvPr/>
        </p:nvPicPr>
        <p:blipFill>
          <a:blip r:embed="rId1"/>
          <a:stretch/>
        </p:blipFill>
        <p:spPr>
          <a:xfrm>
            <a:off x="395280" y="62064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Vorontsova"/>
          <p:cNvPicPr/>
          <p:nvPr/>
        </p:nvPicPr>
        <p:blipFill>
          <a:blip r:embed="rId2"/>
          <a:stretch/>
        </p:blipFill>
        <p:spPr>
          <a:xfrm rot="1289400">
            <a:off x="900000" y="4292280"/>
            <a:ext cx="155412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A041"/>
          <p:cNvPicPr/>
          <p:nvPr/>
        </p:nvPicPr>
        <p:blipFill>
          <a:blip r:embed="rId3"/>
          <a:stretch/>
        </p:blipFill>
        <p:spPr>
          <a:xfrm rot="340800">
            <a:off x="6372360" y="414936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PA043"/>
          <p:cNvPicPr/>
          <p:nvPr/>
        </p:nvPicPr>
        <p:blipFill>
          <a:blip r:embed="rId4"/>
          <a:stretch/>
        </p:blipFill>
        <p:spPr>
          <a:xfrm rot="21039600">
            <a:off x="3348000" y="429228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20840" y="594936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Monotype Corsiva"/>
              </a:rPr>
              <a:t>Любовная лирика</a:t>
            </a: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жженное письм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4356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щай, письмо любви! прощай: она вел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долго медлил я! как долго не хот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а предать огню все радости мои!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полно, час настал. Гори, письмо люб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 я; ничему душа моя не внем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ламя жадное листы твои приемлет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уту!.. вспыхнули! пылают - легкий д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ясь, теряется с молением мо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ерстня верного утратя впечатлен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опленный сургуч кипит... О провидень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ршилось! Темные свернулися лист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егком пепле их заветные че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еют... Грудь моя стеснилась. Пепел мил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да бедная в судьбе моей уныл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нься век со мной на горестной груди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7280" y="549360"/>
            <a:ext cx="471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нное стихотворение было написано в 18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ду, в период ссылки Пушкина в сел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хайловское и посвящено Воронцов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ная тема любви разработана Пушки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нь своеобразно. Он пишет о сожженн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сьме, но на самом деле речь идет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а письмо является лишь способ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дачи переживаний лирического геро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ким художественным символ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стихотворение проникнуто болью и горечь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 самого начала. Настроение лирического геро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 равномерно. Едва успокоившись, он тут 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нова начинает страдать; это видно,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му, что автор использует восклицатель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ложения и умолча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живания лирического героя читател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огают понять и многочисленные эпите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жадное пламя», «милый пепел», « бед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рада», «унылая судьба», «горестная грудь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пел Пушкин неслучайно называет «милым», 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же «бедной отрадой», ведь это единствен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лед, единственное воспоминание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без которой лирический герой не види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блеска счастья в своей «унылой судьбе»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арион"/>
          <p:cNvPicPr/>
          <p:nvPr/>
        </p:nvPicPr>
        <p:blipFill>
          <a:blip r:embed="rId1"/>
          <a:stretch/>
        </p:blipFill>
        <p:spPr>
          <a:xfrm>
            <a:off x="3419640" y="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5580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н не учил людей, не проповедовал - он пробуждал "чувства добрые" в их душах, стремился дать людям мощный импульс к духовному самосовершенствованию, пробудить к жизни то доброе, что есть в каждой душе - единственное, к чему может и должно апеллировать искус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800720" y="332640"/>
            <a:ext cx="46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5481"/>
                </a:solidFill>
                <a:uFillTx/>
                <a:latin typeface="Tahoma"/>
              </a:rPr>
              <a:t>Тема поэта и поэзии</a:t>
            </a:r>
            <a:r>
              <a:rPr b="0" lang="ru-RU" sz="1800" spc="-1" strike="noStrike" u="sng">
                <a:solidFill>
                  <a:srgbClr val="2b5481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э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356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 не требует поэ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священной жертве Аполл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ботах суетного с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малодушно погруж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чит его святая л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уша вкушает хладный с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меж детей ничтожных ми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может, всех ничтожней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7280" y="691920"/>
            <a:ext cx="4716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«Поэт» было написано в 182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ду, когда Пушкин начал все ча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умываться о своем предназначе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ма поэта и поэзии прошла через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ворчество Пушкина. Стихотворение «Поэт»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м плане не является исключением. В э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и автор говорит о поэте как 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земном существе, для которого обыден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среди обычных людей – это оков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шающие проснуться его душ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деление стихотворения на две части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льзя лучше показывает изменение чувст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рического героя. Первая часть –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поэта без вдохновения, под гне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ыденности до прихода Муз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вторая часть – это период сотвор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 чего-то нового. И тогда уже ничто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лом мире не может сломить великую си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а, его голос проникающий повсюду. Он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 становится выше всех людей, для не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чезает все вокруг, и он остается один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ин со своим творчеством. Это и есть, п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нению Пушкина, истинное счастье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quot;Осенний пейзаж. Картина И. И. Шишкина.&quot;"/>
          <p:cNvPicPr/>
          <p:nvPr/>
        </p:nvPicPr>
        <p:blipFill>
          <a:blip r:embed="rId1"/>
          <a:stretch/>
        </p:blipFill>
        <p:spPr>
          <a:xfrm>
            <a:off x="4481640" y="260280"/>
            <a:ext cx="4238640" cy="5832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24000" y="1413000"/>
            <a:ext cx="385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ро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имнее утр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ор, ты помнишь, вьюга злилас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утном небе мгла носилас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на, как бледное пят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возь тучи мрачные желте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ы печальная сидела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нынче... погляди в ок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голубыми небе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лепными ковр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тя на солнце, снег лежи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зрачный лес один чер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ель сквозь иней зеле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ка подо льдом блест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040" y="836640"/>
            <a:ext cx="4800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лирике Пушкина видное место принадлежит стихотворению «Зимнее утро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исанному 3 декабря 1829 года в селе Павловском. Оно проникнуто солнеч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строением, точно передает чувства, которые одолевали авт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роизведении два героя: так называемый лирический герой, и та красавиц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торой посвящено само стихотворение, являющееся монологом лирического геро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менно эту красавицу автор называет «друг прелестный» и «друг милый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растное описание «нынче» и «вечор» занимает в стихотворении основн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сто. Великолепие зимнего утра ощущается ещё острее по сравнению со вчерашн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урей, которая описана так же точн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мый поэтичный пейзаж – во второй строфе, он насыщен сравнениям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лицетворениями, хотя и вызывает печаль герои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ретья строфа – зимний пейзаж. Картина, созданная поэтом, насыщена цветом: э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голубой, и чёрный, и зелён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о радости поэта растёт и требует движения, ему хочется навестить «по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устые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-моему, в последней строке лежит главный магнит произведения. Ведь всё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ихотворение это монолог человека, уговаривающего «друга милого» проснуть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бы сразу отправиться к берегу, дорогому для поэ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шкин вне времени, его поэзия искрення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ораживает легкостью изложения и глуби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. И как ни странно, находит отклик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ших душах! Мы тоже можем так чувств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юбить, вот только выразить ТАК не мож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исал о вечных, изначальных чер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а и общества. Антураж с ве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ется, а сущность человеческой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ется, поэтому творчество Пушкина бу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м и актуальным все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блемный вопрос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Чем актуальна лир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в наши дн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Выявить своеобраз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основных те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лирики 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тихотворения А.С.Пушки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анализировать произведения по основным темам лирики А.С.Пушкина и выявить их актуа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ть вывод по пробл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abros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Человек эпох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Monotype Corsiva"/>
              </a:rPr>
              <a:t>Творчество Пушкина – уникальное явление. Вбирая в себя все предшествующие литературные эпохи, оно завершает процесс развития литературы своего времени и в то же время, создавая новый язык, рождая новые темы и жанры, стоит у истоков современной русской литературы, открывая дорогу в будущ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546000" y="34596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1979280" y="907920"/>
            <a:ext cx="180036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4"/>
          <p:cNvSpPr/>
          <p:nvPr/>
        </p:nvSpPr>
        <p:spPr>
          <a:xfrm flipH="1">
            <a:off x="2916360" y="981000"/>
            <a:ext cx="100800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4355640" y="981000"/>
            <a:ext cx="71640" cy="34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859280" y="981000"/>
            <a:ext cx="93672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907920"/>
            <a:ext cx="1727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8"/>
          <p:cNvSpPr/>
          <p:nvPr/>
        </p:nvSpPr>
        <p:spPr>
          <a:xfrm flipV="1">
            <a:off x="395280" y="2133720"/>
            <a:ext cx="208908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9"/>
          <p:cNvSpPr/>
          <p:nvPr/>
        </p:nvSpPr>
        <p:spPr>
          <a:xfrm>
            <a:off x="1042920" y="3573360"/>
            <a:ext cx="216072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олюби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419640" y="4653000"/>
            <a:ext cx="187164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о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5364000" y="3789360"/>
            <a:ext cx="24480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 поэта и поэз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804000" y="1989000"/>
            <a:ext cx="208908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риро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it-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755640" y="-61920"/>
            <a:ext cx="7740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Философские мотив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 лирике Пушк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иск опоры "самостоянья человека", идея домостроительства - важнейшие составляющие пушкинской философской лири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   Проблемы цели и смысла жизни, соотнесения бытия и личности, самопознания, места человека в мире, отношений с Богом и природой - центральные вопросы всей русской литературы. Их называют "вечными вопросами", потому что нельзя найти на них однозначного ответа, они всегда волновали и будут волновать людей. И это залог бессмертия человечества, потому что вечная жизнь духа - в этой неуспокоенности, в этой бесконечной жажде самопозн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25240" y="32457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лософские мотив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рожу ли я вдоль улиц шум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ожу ли я вдоль улиц ш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жу ль во многолюдный хр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жу ль меж юношей без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предаюсь моим меч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говорю: промчатся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колько здесь ни видно н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все сойдем под вечны своды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чей-нибудь уж близок ч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яжу ль на дуб уедин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мыслю: патриарх л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живет мой век забв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ережил он век отцов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0720" y="69192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Пушкина «Брожу ли я вд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лиц шумных…» было написано 26 декаб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829 года. Оно представляет соб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илософское размышление на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идцатилетним итогом жизни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мысль о неизбежности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начертанности смерти. Здесь жизн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ставляется переходом к чему-то вечном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бсолютному и неизбеж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ется, что первая строфа звучит зауныв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ая «заунывность» помогает погрузится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мосферу безысходности, неотвратим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мерти. Мысли поэта устремлены лиш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му: «Мы все сойдем под вечны своды…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ысль о смерти нагнетается в стихотвор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епенно, и в каждом следующ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разительном образе чувствуется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ая неизбежность кончи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поэт передает движ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движение поэтической мысли, пут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чности через смерть. Именно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ичию движения можно понять, ка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но идейное содержание вкладывает поэ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вое стихотворе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Воспоминания о Царском Се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pushkin_03"/>
          <p:cNvPicPr/>
          <p:nvPr/>
        </p:nvPicPr>
        <p:blipFill>
          <a:blip r:embed="rId1"/>
          <a:stretch/>
        </p:blipFill>
        <p:spPr>
          <a:xfrm>
            <a:off x="468360" y="1341360"/>
            <a:ext cx="8001000" cy="428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555048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Monotype Corsiva"/>
              </a:rPr>
              <a:t>Свободолюбивая лири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8T06:43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