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6D53-DB6D-4055-9A4A-1EFECA8E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C0D5-46C6-499D-A9E4-D009D5C2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078D-0DD3-4E0A-832F-EAAAB60F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C6CA-6CA9-4836-9C81-92A82A810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3A3E-104F-4898-A27B-22FB64A34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313A-1D39-400D-8502-D48CE90A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350C-1FBE-4A5C-B4B7-EFBA2393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C616-F891-484C-A4A8-D6AD9E05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1325-7931-4522-B600-4B21E99A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DD82-B661-4270-BC89-486101BC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2994-CB42-4265-A249-28F6C8B6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41A5-42B6-4511-8DFA-BA4E149B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5AA1-A48C-4FD5-90E7-C96C30E797F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троп"/>
          <p:cNvPicPr/>
          <p:nvPr/>
        </p:nvPicPr>
        <p:blipFill>
          <a:blip r:embed="rId1"/>
          <a:stretch/>
        </p:blipFill>
        <p:spPr>
          <a:xfrm>
            <a:off x="3348000" y="1413000"/>
            <a:ext cx="2664000" cy="3097080"/>
          </a:xfrm>
          <a:prstGeom prst="rect">
            <a:avLst/>
          </a:prstGeom>
          <a:ln w="0">
            <a:noFill/>
          </a:ln>
        </p:spPr>
      </p:pic>
      <p:sp>
        <p:nvSpPr>
          <p:cNvPr id="42" name="WordArt 3"/>
          <p:cNvSpPr txBox="1"/>
          <p:nvPr/>
        </p:nvSpPr>
        <p:spPr>
          <a:xfrm>
            <a:off x="1547640" y="1052640"/>
            <a:ext cx="6337440" cy="136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Основные темы и мотивы лири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1403280" y="4149720"/>
            <a:ext cx="6624720" cy="14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Monotype Corsiva"/>
              </a:rPr>
              <a:t>Александра Сергеевича Пушки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Monotype Corsiva"/>
              <a:ea typeface="Monotype Corsiva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5671800" y="5715000"/>
            <a:ext cx="328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втор: ученица 10 класс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рошина Светлан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Арион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44956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с было много на челне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ые парус напрягали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ругие дружно упирал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глубь мощны веслы. В тишин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руль склонясь, наш кормщик умны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молчанье правил грузный челн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 я — беспечной веры полн, —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ловцам я пел... Вдруг лоно волн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мял с налету вихорь шумный..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гиб и кормщик и пловец! —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ишь я, таинственный певец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берег выброшен грозою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 гимны прежние пою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ризу влажную мою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ушу на солнце под скалою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56000" y="764640"/>
            <a:ext cx="4788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тихотворение А.С. Пушкина «Арион» написано в 1827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од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ерои стихотворения – пловцы, отправившиеся в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утешествие. У каждого на корабле своя работа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иные парус напрягали, иные дружно упирали вглуб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ощны весла…» Корабельщики дружно преодолевают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епятствия, их ведет «кормщик умный», а герой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беспечной веры полн», поет им, уверенный в том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что его талант, его песни помогают пловцам в их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елегкой работе. Лирический герой, доверчивый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ткрытый, свободный, безусловно, очень близок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втору. Пушкин тоже «пел, беспечной веры полн», н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зная о готовящемся восстании, о замыслах ег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уководителей, не зная о том, какое «плавание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отовят его друзья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Центральное событие стихотворения - «вихор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шумный», разбивший корабль, унесший жизни 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ормщика, и пловцов. Это метафорическо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зображение восстания декабристов, его разгром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Для Пушкина события 1825 года были трагедией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штормом, кораблекрушением. Так же, как и поэт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Арион избежал гибели в шторме, он «на берег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ыброшен грозою». Но эта случайность не сломал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героя, не заставила его отречься от друзей. «Я гимны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ежние пою» - в этих словах и верность декабристам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и верность своим убеждениям, вере в справедливость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2"/>
          <p:cNvSpPr txBox="1"/>
          <p:nvPr/>
        </p:nvSpPr>
        <p:spPr>
          <a:xfrm>
            <a:off x="1476360" y="2565360"/>
            <a:ext cx="66182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66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>
                    <a:alpha val="60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Гений чистой красоты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>
                  <a:alpha val="60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368880" y="736920"/>
            <a:ext cx="630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Monotype Corsiva"/>
              </a:rPr>
              <a:t>И сердце вновь горит и любит оттого,</a:t>
            </a:r>
            <a:br>
              <a:rPr sz="2400"/>
            </a:br>
            <a:r>
              <a:rPr b="1" lang="ru-RU" sz="2400" spc="-1" strike="noStrike">
                <a:solidFill>
                  <a:srgbClr val="003366"/>
                </a:solidFill>
                <a:latin typeface="Monotype Corsiva"/>
              </a:rPr>
              <a:t>Что не любить оно не может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0" name="Picture 4" descr="Nataly"/>
          <p:cNvPicPr/>
          <p:nvPr/>
        </p:nvPicPr>
        <p:blipFill>
          <a:blip r:embed="rId1"/>
          <a:stretch/>
        </p:blipFill>
        <p:spPr>
          <a:xfrm>
            <a:off x="395280" y="620640"/>
            <a:ext cx="1944720" cy="1871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Vorontsova"/>
          <p:cNvPicPr/>
          <p:nvPr/>
        </p:nvPicPr>
        <p:blipFill>
          <a:blip r:embed="rId2"/>
          <a:stretch/>
        </p:blipFill>
        <p:spPr>
          <a:xfrm rot="1289400">
            <a:off x="900000" y="4292280"/>
            <a:ext cx="1554120" cy="1728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PA041"/>
          <p:cNvPicPr/>
          <p:nvPr/>
        </p:nvPicPr>
        <p:blipFill>
          <a:blip r:embed="rId3"/>
          <a:stretch/>
        </p:blipFill>
        <p:spPr>
          <a:xfrm rot="340800">
            <a:off x="6372360" y="4149360"/>
            <a:ext cx="1800000" cy="1871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PA043"/>
          <p:cNvPicPr/>
          <p:nvPr/>
        </p:nvPicPr>
        <p:blipFill>
          <a:blip r:embed="rId4"/>
          <a:stretch/>
        </p:blipFill>
        <p:spPr>
          <a:xfrm rot="21039600">
            <a:off x="3348000" y="4292280"/>
            <a:ext cx="1944720" cy="2232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8"/>
          <p:cNvSpPr/>
          <p:nvPr/>
        </p:nvSpPr>
        <p:spPr>
          <a:xfrm>
            <a:off x="4920840" y="5949360"/>
            <a:ext cx="46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Monotype Corsiva"/>
              </a:rPr>
              <a:t>Любовная лирика</a:t>
            </a:r>
            <a:r>
              <a:rPr b="0" lang="ru-RU" sz="2800" spc="-1" strike="noStrike">
                <a:solidFill>
                  <a:srgbClr val="2b5481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Сожженное письмо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4356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щай, письмо любви! прощай: она велел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к долго медлил я! как долго не хоте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ука предать огню все радости мои!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о полно, час настал. Гори, письмо любв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отов я; ничему душа моя не внемле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ж пламя жадное листы твои приемлет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инуту!.. вспыхнули! пылают - легкий д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ясь, теряется с молением мои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ж перстня верного утратя впечатлень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стопленный сургуч кипит... О провиденье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вершилось! Темные свернулися лист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легком пепле их заветные чер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елеют... Грудь моя стеснилась. Пепел милы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трада бедная в судьбе моей унылой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танься век со мной на горестной груди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7280" y="549360"/>
            <a:ext cx="471636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анное стихотворение было написано в 1825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оду, в период ссылки Пушкина в сел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Михайловское и посвящено Воронцово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ечная тема любви разработана Пушкины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чень своеобразно. Он пишет о сожженно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исьме, но на самом деле речь идет о сгоревше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любви, а письмо является лишь способо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ередачи переживаний лирического героя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еким художественным символом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Это стихотворение проникнуто болью и горечь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 самого начала. Настроение лирического геро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е равномерно. Едва успокоившись, он тут ж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нова начинает страдать; это видно, благодар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ому, что автор использует восклицательны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едложения и умолчание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ереживания лирического героя читател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могают понять и многочисленные эпитеты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«жадное пламя», «милый пепел», « бедна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трада», «унылая судьба», «горестная грудь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епел Пушкин неслучайно называет «милым», 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акже «бедной отрадой», ведь это единственны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след, единственное воспоминание о сгоревше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любви, без которой лирический герой не видит 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облеска счастья в своей «унылой судьбе».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арион"/>
          <p:cNvPicPr/>
          <p:nvPr/>
        </p:nvPicPr>
        <p:blipFill>
          <a:blip r:embed="rId1"/>
          <a:stretch/>
        </p:blipFill>
        <p:spPr>
          <a:xfrm>
            <a:off x="3419640" y="0"/>
            <a:ext cx="5238720" cy="39337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3789360"/>
            <a:ext cx="55800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ahoma"/>
              </a:rPr>
              <a:t>он не учил людей, не проповедовал - он пробуждал "чувства добрые" в их душах, стремился дать людям мощный импульс к духовному самосовершенствованию, пробудить к жизни то доброе, что есть в каждой душе - единственное, к чему может и должно апеллировать искусств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800720" y="332640"/>
            <a:ext cx="464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2b5481"/>
                </a:solidFill>
                <a:uFillTx/>
                <a:latin typeface="Tahoma"/>
              </a:rPr>
              <a:t>Тема поэта и поэзии</a:t>
            </a:r>
            <a:r>
              <a:rPr b="0" lang="ru-RU" sz="1800" spc="-1" strike="noStrike" u="sng">
                <a:solidFill>
                  <a:srgbClr val="2b5481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оэт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43560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ка не требует поэ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священной жертве Аполлон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заботах суетного све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 малодушно погружен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олчит его святая лир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уша вкушает хладный сон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меж детей ничтожных мир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ыть может, всех ничтожней о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427280" y="691920"/>
            <a:ext cx="471636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ихотворение «Поэт» было написано в 1827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году, когда Пушкин начал все чащ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задумываться о своем предназначени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ема поэта и поэзии прошла через вс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ворчество Пушкина. Стихотворение «Поэт» 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ом плане не является исключением. В это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ихотворении автор говорит о поэте как 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еземном существе, для которого обыденна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жизнь среди обычных людей – это оковы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шающие проснуться его душе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зделение стихотворения на две части ка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ельзя лучше показывает изменение чувст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ирического героя. Первая часть – эт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жизнь поэта без вдохновения, под гнето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быденности до прихода Музы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 вторая часть – это период сотвор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этом чего-то нового. И тогда уже ничто 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целом мире не может сломить великую сил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эта, его голос проникающий повсюду. Он ка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ы становится выше всех людей, для нег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счезает все вокруг, и он остается один 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дин со своим творчеством. Это и есть, п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нению Пушкина, истинное счастье поэт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&quot;Осенний пейзаж. Картина И. И. Шишкина.&quot;"/>
          <p:cNvPicPr/>
          <p:nvPr/>
        </p:nvPicPr>
        <p:blipFill>
          <a:blip r:embed="rId1"/>
          <a:stretch/>
        </p:blipFill>
        <p:spPr>
          <a:xfrm>
            <a:off x="4481640" y="260280"/>
            <a:ext cx="4238640" cy="58327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324000" y="1413000"/>
            <a:ext cx="385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Тем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природы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имнее утро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44956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чор, ты помнишь, вьюга злилас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мутном небе мгла носилась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уна, как бледное пятно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квозь тучи мрачные желтел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ты печальная сидела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нынче... погляди в окно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 голубыми небес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ликолепными коврам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лестя на солнце, снег лежит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зрачный лес один черне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ель сквозь иней зелене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речка подо льдом блестит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43040" y="836640"/>
            <a:ext cx="4800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лирике Пушкина видное место принадлежит стихотворению «Зимнее утро»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писанному 3 декабря 1829 года в селе Павловском. Оно проникнуто солнечны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строением, точно передает чувства, которые одолевали автора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произведении два героя: так называемый лирический герой, и та красавица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торой посвящено само стихотворение, являющееся монологом лирического геро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менно эту красавицу автор называет «друг прелестный» и «друг милый»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онтрастное описание «нынче» и «вечор» занимает в стихотворении основное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место. Великолепие зимнего утра ощущается ещё острее по сравнению со вчерашне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урей, которая описана так же точно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амый поэтичный пейзаж – во второй строфе, он насыщен сравнениями и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лицетворениями, хотя и вызывает печаль героини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ретья строфа – зимний пейзаж. Картина, созданная поэтом, насыщена цветом: это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и голубой, и чёрный, и зелёный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увство радости поэта растёт и требует движения, ему хочется навестить «поля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устые»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-моему, в последней строке лежит главный магнит произведения. Ведь всё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тихотворение это монолог человека, уговаривающего «друга милого» проснуться,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тобы сразу отправиться к берегу, дорогому для поэта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ушкин вне времени, его поэзия искрення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авораживает легкостью изложения и глуби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увств. И как ни странно, находит отклик 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ших душах! Мы тоже можем так чувствов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любить, вот только выразить ТАК не мож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н писал о вечных, изначальных черта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ловека и общества. Антураж с векам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еняется, а сущность человеческой жиз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тается, поэтому творчество Пушкина буд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временным и актуальным всег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облемный вопрос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ru-RU" sz="4800" spc="-1" strike="noStrike">
                <a:solidFill>
                  <a:srgbClr val="ffcc00"/>
                </a:solidFill>
                <a:latin typeface="Tahoma"/>
              </a:rPr>
              <a:t>Чем актуальна лирик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ahoma"/>
              </a:rPr>
              <a:t>           </a:t>
            </a:r>
            <a:r>
              <a:rPr b="1" lang="ru-RU" sz="4800" spc="-1" strike="noStrike">
                <a:solidFill>
                  <a:srgbClr val="ffcc00"/>
                </a:solidFill>
                <a:latin typeface="Tahoma"/>
              </a:rPr>
              <a:t>А.С.Пушкина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Tahoma"/>
              </a:rPr>
              <a:t>            </a:t>
            </a:r>
            <a:r>
              <a:rPr b="1" lang="ru-RU" sz="4800" spc="-1" strike="noStrike">
                <a:solidFill>
                  <a:srgbClr val="ffcc00"/>
                </a:solidFill>
                <a:latin typeface="Tahoma"/>
              </a:rPr>
              <a:t>в наши дни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4800" spc="-1" strike="noStrike">
                <a:solidFill>
                  <a:srgbClr val="00ff00"/>
                </a:solidFill>
                <a:latin typeface="Tahoma"/>
              </a:rPr>
              <a:t>Выявить своеобразие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ff00"/>
                </a:solidFill>
                <a:latin typeface="Tahoma"/>
              </a:rPr>
              <a:t>           </a:t>
            </a:r>
            <a:r>
              <a:rPr b="0" lang="ru-RU" sz="4800" spc="-1" strike="noStrike">
                <a:solidFill>
                  <a:srgbClr val="00ff00"/>
                </a:solidFill>
                <a:latin typeface="Tahoma"/>
              </a:rPr>
              <a:t>основных тем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ff00"/>
                </a:solidFill>
                <a:latin typeface="Tahoma"/>
              </a:rPr>
              <a:t>      </a:t>
            </a:r>
            <a:r>
              <a:rPr b="0" lang="ru-RU" sz="4800" spc="-1" strike="noStrike">
                <a:solidFill>
                  <a:srgbClr val="00ff00"/>
                </a:solidFill>
                <a:latin typeface="Tahoma"/>
              </a:rPr>
              <a:t>лирики А.С.Пушкина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учить стихотворения А.С.Пушкин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анализировать произведения по основным темам лирики А.С.Пушкина и выявить их актуальност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делать вывод по проблем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nabroso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Monotype Corsiva"/>
              </a:rPr>
              <a:t>Человек эпох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Monotype Corsiva"/>
              </a:rPr>
              <a:t>Творчество Пушкина – уникальное явление. Вбирая в себя все предшествующие литературные эпохи, оно завершает процесс развития литературы своего времени и в то же время, создавая новый язык, рождая новые темы и жанры, стоит у истоков современной русской литературы, открывая дорогу в будуще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3546000" y="345960"/>
            <a:ext cx="18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ири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Line 3"/>
          <p:cNvSpPr/>
          <p:nvPr/>
        </p:nvSpPr>
        <p:spPr>
          <a:xfrm flipH="1">
            <a:off x="1979280" y="907920"/>
            <a:ext cx="1800360" cy="865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Line 4"/>
          <p:cNvSpPr/>
          <p:nvPr/>
        </p:nvSpPr>
        <p:spPr>
          <a:xfrm flipH="1">
            <a:off x="2916360" y="981000"/>
            <a:ext cx="100800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Line 5"/>
          <p:cNvSpPr/>
          <p:nvPr/>
        </p:nvSpPr>
        <p:spPr>
          <a:xfrm flipH="1">
            <a:off x="4355640" y="981000"/>
            <a:ext cx="71640" cy="345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Line 6"/>
          <p:cNvSpPr/>
          <p:nvPr/>
        </p:nvSpPr>
        <p:spPr>
          <a:xfrm>
            <a:off x="4859280" y="981000"/>
            <a:ext cx="936720" cy="25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Line 7"/>
          <p:cNvSpPr/>
          <p:nvPr/>
        </p:nvSpPr>
        <p:spPr>
          <a:xfrm>
            <a:off x="5292720" y="907920"/>
            <a:ext cx="172728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Oval 8"/>
          <p:cNvSpPr/>
          <p:nvPr/>
        </p:nvSpPr>
        <p:spPr>
          <a:xfrm flipV="1">
            <a:off x="395280" y="2133720"/>
            <a:ext cx="2089080" cy="1008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ска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Oval 9"/>
          <p:cNvSpPr/>
          <p:nvPr/>
        </p:nvSpPr>
        <p:spPr>
          <a:xfrm>
            <a:off x="1042920" y="3573360"/>
            <a:ext cx="2160720" cy="1079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ободолюбив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Oval 10"/>
          <p:cNvSpPr/>
          <p:nvPr/>
        </p:nvSpPr>
        <p:spPr>
          <a:xfrm>
            <a:off x="3419640" y="4653000"/>
            <a:ext cx="1871640" cy="1224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юбовна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Oval 11"/>
          <p:cNvSpPr/>
          <p:nvPr/>
        </p:nvSpPr>
        <p:spPr>
          <a:xfrm>
            <a:off x="5364000" y="3789360"/>
            <a:ext cx="2448000" cy="1081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ма поэта и поэз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Oval 12"/>
          <p:cNvSpPr/>
          <p:nvPr/>
        </p:nvSpPr>
        <p:spPr>
          <a:xfrm>
            <a:off x="6804000" y="1989000"/>
            <a:ext cx="2089080" cy="1079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 природ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Lit-4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755640" y="-61920"/>
            <a:ext cx="774072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Философские мотивы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Monotype Corsiva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Monotype Corsiva"/>
              </a:rPr>
              <a:t>в лирике Пушки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Поиск опоры "самостоянья человека", идея домостроительства - важнейшие составляющие пушкинской философской лирик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      Проблемы цели и смысла жизни, соотнесения бытия и личности, самопознания, места человека в мире, отношений с Богом и природой - центральные вопросы всей русской литературы. Их называют "вечными вопросами", потому что нельзя найти на них однозначного ответа, они всегда волновали и будут волновать людей. И это залог бессмертия человечества, потому что вечная жизнь духа - в этой неуспокоенности, в этой бесконечной жажде самопознания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225240" y="3245760"/>
            <a:ext cx="26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илософские мотив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Брожу ли я вдоль улиц шумных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44956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рожу ли я вдоль улиц шумных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хожу ль во многолюдный храм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ижу ль меж юношей безумных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 предаюсь моим мечт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 говорю: промчатся годы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сколько здесь ни видно нас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ы все сойдем под вечны своды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чей-нибудь уж близок ча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ляжу ль на дуб уединенны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Я мыслю: патриарх лес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живет мой век забвенны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пережил он век отцов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00720" y="691920"/>
            <a:ext cx="46432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ихотворение Пушкина «Брожу ли я вдол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улиц шумных…» было написано 26 декабр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829 года. Оно представляет соб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илософское размышление над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ридцатилетним итогом жизни поэт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стихотворении мысль о неизбежности 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едначертанности смерти. Здесь жизн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едставляется переходом к чему-то вечному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бсолютному и неизбежному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ажется, что первая строфа звучит заунывн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акая «заунывность» помогает погрузится 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тмосферу безысходности, неотвратимост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мерти. Мысли поэта устремлены лишь 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дному: «Мы все сойдем под вечны своды…»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ысль о смерти нагнетается в стихотворен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степенно, и в каждом следующе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ыразительном образе чувствуется вс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ольшая неизбежность кончин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стихотворении поэт передает движе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о движение поэтической мысли, путь 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ечности через смерть. Именно благодар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личию движения можно понять, како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менно идейное содержание вкладывает поэ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свое стихотворение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Monotype Corsiva"/>
              </a:rPr>
              <a:t>Воспоминания о Царском Сел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4" descr="pushkin_03"/>
          <p:cNvPicPr/>
          <p:nvPr/>
        </p:nvPicPr>
        <p:blipFill>
          <a:blip r:embed="rId1"/>
          <a:stretch/>
        </p:blipFill>
        <p:spPr>
          <a:xfrm>
            <a:off x="468360" y="1341360"/>
            <a:ext cx="8001000" cy="42832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4643280" y="5550480"/>
            <a:ext cx="344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Monotype Corsiva"/>
              </a:rPr>
              <a:t>Свободолюбивая лирик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10-28T06:43:4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