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.jpeg" ContentType="image/jpeg"/>
  <Override PartName="/ppt/media/image35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10.png" ContentType="image/png"/>
  <Override PartName="/ppt/media/image11.png" ContentType="image/png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2317-3945-48BB-BBFB-68F94F8A2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CB3B-8D8C-4C74-8540-B93B3B7C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FFA4-CDB8-4D61-A578-23E1E7570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4780-7E59-4FC6-8378-EABD3D94D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59435-DD0D-451A-828A-48D05344C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2CFC-A9D7-4F81-90EB-1CAA2A0D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B369-E9D3-4341-A233-9A6194BF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198C-2DF2-484B-B3EA-921A7190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640D-6CF9-4180-9B7C-AC5A664A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46A3-9E7E-40DF-BEA3-9A9F4790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9F213-51BF-4AC1-9E36-2127F28F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E27C-F6E5-4A1A-8553-97B21409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7418-36F0-44B7-BE36-9539D5D8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B5F0C-3F71-4C58-AB96-A7864D8C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F37A-E9C5-483C-A8E8-F8813562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2F7C-DE7E-4A99-A160-16AFB1F7A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1ADF-B70F-4C29-BE54-179D72CD2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10C9-2511-4378-AE01-59569580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12EE-9B56-4033-8964-0A10F3C4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F373-DB7D-4DFC-A6EF-84362562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988D-0350-4CF9-8E1B-9A47460F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75DE-5D1C-49EF-BE15-148DD398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4154-CAB0-4415-9A70-427CB42A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637E-6837-4D29-8B27-3A2B88DF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752F-6B3B-4CCD-9EDC-ADCEBBFD97A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5837-290B-4CB6-AFA3-FE8E560C0E0D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630440"/>
          </a:xfrm>
          <a:prstGeom prst="rect">
            <a:avLst/>
          </a:prstGeom>
          <a:gradFill rotWithShape="0">
            <a:gsLst>
              <a:gs pos="0">
                <a:srgbClr val="cc66ff">
                  <a:alpha val="40000"/>
                </a:srgbClr>
              </a:gs>
              <a:gs pos="50000">
                <a:srgbClr val="ffffff">
                  <a:alpha val="40000"/>
                </a:srgbClr>
              </a:gs>
              <a:gs pos="100000">
                <a:srgbClr val="cc66ff">
                  <a:alpha val="40000"/>
                </a:srgbClr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Times New Roman"/>
              </a:rPr>
              <a:t>УПРАВЛЕНИЕ НАРОДНОГО ОБРАЗОВАНИЯ АДМИНИСТРАЦИИ </a:t>
            </a:r>
            <a:br>
              <a:rPr sz="1600"/>
            </a:br>
            <a:r>
              <a:rPr b="0" lang="ru-RU" sz="1600" spc="-1" strike="noStrike">
                <a:solidFill>
                  <a:srgbClr val="ff3300"/>
                </a:solidFill>
                <a:latin typeface="Times New Roman"/>
              </a:rPr>
              <a:t>ГОРОДСКОГО ОКРУГА Г.БОР НИЖЕГОРОДСКОЙ ОБЛАСТИ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333399"/>
                </a:solidFill>
                <a:latin typeface="Times New Roman"/>
              </a:rPr>
              <a:t>МУНИЦИПАЛЬНОЕ БЮДЖЕТНОЕ ДОШКОЛЬНОЕ ОБРАЗОВАТЕЛЬНОЕ УЧРЕЖДЕНИЕ ДЕТСКИЙ САД КОМБИНИРОВАННОГО ВИДА</a:t>
            </a:r>
            <a:br>
              <a:rPr sz="1600"/>
            </a:br>
            <a:r>
              <a:rPr b="0" lang="ru-RU" sz="1600" spc="-1" strike="noStrike">
                <a:solidFill>
                  <a:srgbClr val="333399"/>
                </a:solidFill>
                <a:latin typeface="Times New Roman"/>
              </a:rPr>
              <a:t> №19 «ЗЕМЛЯНИЧКА»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6560" y="2017800"/>
            <a:ext cx="7993080" cy="4579920"/>
          </a:xfrm>
          <a:prstGeom prst="rect">
            <a:avLst/>
          </a:prstGeom>
          <a:gradFill rotWithShape="0">
            <a:gsLst>
              <a:gs pos="0">
                <a:srgbClr val="cc66ff">
                  <a:alpha val="40000"/>
                </a:srgbClr>
              </a:gs>
              <a:gs pos="100000">
                <a:srgbClr val="ffcf01">
                  <a:alpha val="40000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Презентация  «из опыта работы » на тему: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Особенности построения и реализации коррекционно-развивающего и воспитательно -образовательного процесса с воспитанниками с ОВЗ, имеющими сочетанные нарушения в развитии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Выполнила:</a:t>
            </a:r>
            <a:r>
              <a:rPr b="1" lang="en-US" sz="16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Учитель-логопед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Тулупова М.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Городской округ г.Бор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рограммно-методические основы коррекционно-педагогической работы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13880" y="785880"/>
            <a:ext cx="8240760" cy="58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Рекомендуемые    примерные общеобразовательные  программы, используемые в работе с детьми с ОВЗ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От рождения до школы. Примерная основная общеобразовательная программа дошкольного образования. (М.А.Васильева, Т.С.Веракса, Н.Е.Комарова, М, 201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2" descr="vas_pr_2009"/>
          <p:cNvPicPr/>
          <p:nvPr/>
        </p:nvPicPr>
        <p:blipFill>
          <a:blip r:embed="rId1"/>
          <a:stretch/>
        </p:blipFill>
        <p:spPr>
          <a:xfrm>
            <a:off x="4786200" y="4357800"/>
            <a:ext cx="1714680" cy="2346120"/>
          </a:xfrm>
          <a:prstGeom prst="rect">
            <a:avLst/>
          </a:prstGeom>
          <a:ln w="0">
            <a:noFill/>
          </a:ln>
        </p:spPr>
      </p:pic>
      <p:pic>
        <p:nvPicPr>
          <p:cNvPr id="144" name="cover_img" descr="От рождения до школы. Основная общеобразовательная программа дошкольного образования"/>
          <p:cNvPicPr/>
          <p:nvPr/>
        </p:nvPicPr>
        <p:blipFill>
          <a:blip r:embed="rId2"/>
          <a:stretch/>
        </p:blipFill>
        <p:spPr>
          <a:xfrm>
            <a:off x="7072200" y="4357800"/>
            <a:ext cx="1571760" cy="231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5869080" cy="12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ff"/>
                </a:solidFill>
                <a:latin typeface="Times New Roman"/>
              </a:rPr>
              <a:t>Программы дошкольных образовательных </a:t>
            </a:r>
            <a:br>
              <a:rPr sz="2000"/>
            </a:br>
            <a:r>
              <a:rPr b="1" i="1" lang="ru-RU" sz="2000" spc="-1" strike="noStrike">
                <a:solidFill>
                  <a:srgbClr val="cc00ff"/>
                </a:solidFill>
                <a:latin typeface="Times New Roman"/>
              </a:rPr>
              <a:t>учреждений компенсирующего вида для </a:t>
            </a:r>
            <a:br>
              <a:rPr sz="2000"/>
            </a:br>
            <a:r>
              <a:rPr b="1" i="1" lang="ru-RU" sz="2000" spc="-1" strike="noStrike">
                <a:solidFill>
                  <a:srgbClr val="cc00ff"/>
                </a:solidFill>
                <a:latin typeface="Times New Roman"/>
              </a:rPr>
              <a:t>детей с нарушениями речи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7280" y="1483920"/>
            <a:ext cx="777240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324000" y="2421360"/>
            <a:ext cx="8280360" cy="36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0" lang="ru-RU" sz="1600" spc="-1" strike="noStrike">
                <a:solidFill>
                  <a:srgbClr val="0066ff"/>
                </a:solidFill>
                <a:latin typeface="Times New Roman"/>
              </a:rPr>
              <a:t>Т.Б.Филичева, Г.В.Чиркина.Программа логопедической работы по преодолению фонетико-фонематического недоразвития речи. М.,20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-Программа логопедической работы по преодолению общего недоразвития речи у детей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Логопедическая работа с детьми 1,2,4 уровня речевого развития Т.Б.Филичева, Т.В.Туманова. М, 200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Логопедическая работа с детьми 3 уровня речевого развития Т.Б.Филичева, Г.В.Чиркин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М. ,2010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- С.А.Миронова. Программа логопедической работы с заикающимися детьми. М, 200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0" lang="ru-RU" sz="1600" spc="-1" strike="noStrike">
                <a:solidFill>
                  <a:srgbClr val="0066ff"/>
                </a:solidFill>
                <a:latin typeface="Times New Roman"/>
              </a:rPr>
              <a:t>Г.В.Чиркина, А.В.Лагутина. Программа логопедической работы с детьми, овладевающими русским (неродным) языком. М., 2009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- Программы дошкольных образовательных учреждений компенсирующего вида для детей с нарушениями речи. Автор-составитель сборника: Г. В. Чиркина.М, 20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0" lang="ru-RU" sz="1600" spc="-1" strike="noStrike">
                <a:solidFill>
                  <a:srgbClr val="0066ff"/>
                </a:solidFill>
                <a:latin typeface="Times New Roman"/>
              </a:rPr>
              <a:t>Парциальная программа комплексного развития коммуникативно-познавательных речевых способностей дошкольников «Речецветик». Г.А.Ванюхина. Новоуральск, 19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Picture 6" descr=""/>
          <p:cNvPicPr/>
          <p:nvPr/>
        </p:nvPicPr>
        <p:blipFill>
          <a:blip r:embed="rId1"/>
          <a:stretch/>
        </p:blipFill>
        <p:spPr>
          <a:xfrm>
            <a:off x="7324560" y="333360"/>
            <a:ext cx="139572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imes New Roman"/>
              </a:rPr>
              <a:t>Программы дошкольных </a:t>
            </a:r>
            <a:br>
              <a:rPr sz="2000"/>
            </a:br>
            <a:r>
              <a:rPr b="1" i="1" lang="ru-RU" sz="2000" spc="-1" strike="noStrike">
                <a:solidFill>
                  <a:srgbClr val="333399"/>
                </a:solidFill>
                <a:latin typeface="Times New Roman"/>
              </a:rPr>
              <a:t>образовательных учреждений </a:t>
            </a:r>
            <a:br>
              <a:rPr sz="2000"/>
            </a:br>
            <a:r>
              <a:rPr b="1" i="1" lang="ru-RU" sz="2000" spc="-1" strike="noStrike">
                <a:solidFill>
                  <a:srgbClr val="333399"/>
                </a:solidFill>
                <a:latin typeface="Times New Roman"/>
              </a:rPr>
              <a:t>компенсирующего вида для детей</a:t>
            </a:r>
            <a:br>
              <a:rPr sz="2000"/>
            </a:br>
            <a:r>
              <a:rPr b="1" i="1" lang="ru-RU" sz="2000" spc="-1" strike="noStrike">
                <a:solidFill>
                  <a:srgbClr val="333399"/>
                </a:solidFill>
                <a:latin typeface="Times New Roman"/>
              </a:rPr>
              <a:t> с нарушениями интеллекта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Tahoma"/>
              </a:rPr>
              <a:t>«</a:t>
            </a:r>
            <a:r>
              <a:rPr b="0" lang="ru-RU" sz="1800" spc="-1" strike="noStrike">
                <a:solidFill>
                  <a:srgbClr val="009999"/>
                </a:solidFill>
                <a:latin typeface="Times New Roman"/>
              </a:rPr>
              <a:t>Коррекционно-развивающее обучение и воспитание. Программа дошкольных образовательных учреждений компенсирующего вида для детей с нарушениями  интеллекта» (Е.А.Екжанова, Е.А. Стребелева. М, 2005г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Воспитание и обучение умственно отсталых детей дошкольного возраста. О.П.Гаврилушкина, Н.Д.Соколова.М, 199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9999"/>
                </a:solidFill>
                <a:latin typeface="Times New Roman"/>
              </a:rPr>
              <a:t>Программа воспитания и обучения дошкольников с интеллектуальной недостаточностью. Л.Б.Баряева, О.П. Гаврилушкина, А.П.Зарин, Н.Д.Соколова. Спб, 20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Программа обучения и воспитания детей дошкольного возраста с выраженной умственной отсталостью. Т.Н.Исаева, Г.Н.Багаева, Г.В.Цикото, А.А.Еремина, Н.Б.Жарова. под ред. Н.Ф.Дементьева. М, 199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1297080" cy="1290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826920" y="260280"/>
            <a:ext cx="898560" cy="1295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3"/>
          <a:stretch/>
        </p:blipFill>
        <p:spPr>
          <a:xfrm>
            <a:off x="2987640" y="260280"/>
            <a:ext cx="961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Программы дошкольных образовательных учреждений компенсирующего вида для детей с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задержкой психоречевого  развития</a:t>
            </a:r>
            <a:br>
              <a:rPr sz="2000"/>
            </a:b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484280"/>
            <a:ext cx="77724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ff"/>
                </a:solidFill>
                <a:latin typeface="Times New Roman"/>
              </a:rPr>
              <a:t>Подготовка к школе детей с задержкой психического развития. Книга 1, 2 / Под общей ред. С.Г. Шевченко. М.: Школьная Пресса, 2005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66"/>
                </a:solidFill>
                <a:latin typeface="Times New Roman"/>
              </a:rPr>
              <a:t>Ступеньки развития. Н.Ю.Борякова. М, 1999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ff"/>
                </a:solidFill>
                <a:latin typeface="Times New Roman"/>
              </a:rPr>
              <a:t>Система работы со старшими дошкольниками с ЗПР в условиях ДОУ. Г.А.Кузнецова, В.В.Колевникова и др. под ред. Т.Г.Неретина. М, 19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66"/>
                </a:solidFill>
                <a:latin typeface="Times New Roman"/>
              </a:rPr>
              <a:t>Программа и методические рекомендации для педагогов по формированию игровой и мыслительной деятельности у детей со спец.потребностями. «Играя - развиваемся». Т.Н.Бабич, С.М.Елинова, В.А.Кузнецова, Л.Э.Калмыкова, Е.Л.Кириллова. под ред. Л.Ф.Павленко.Ульяновск, 2002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1284120" y="4869000"/>
            <a:ext cx="1167120" cy="1730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2"/>
          <a:stretch/>
        </p:blipFill>
        <p:spPr>
          <a:xfrm>
            <a:off x="6881760" y="4869000"/>
            <a:ext cx="1146240" cy="1650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3"/>
          <a:stretch/>
        </p:blipFill>
        <p:spPr>
          <a:xfrm>
            <a:off x="5122800" y="4941720"/>
            <a:ext cx="1104840" cy="1727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"/>
          <p:cNvPicPr/>
          <p:nvPr/>
        </p:nvPicPr>
        <p:blipFill>
          <a:blip r:embed="rId4"/>
          <a:stretch/>
        </p:blipFill>
        <p:spPr>
          <a:xfrm>
            <a:off x="3157560" y="4797360"/>
            <a:ext cx="11746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imes New Roman"/>
              </a:rPr>
              <a:t>Программы дошкольных образовательных</a:t>
            </a:r>
            <a:br>
              <a:rPr sz="2000"/>
            </a:br>
            <a:r>
              <a:rPr b="1" i="1" lang="ru-RU" sz="2000" spc="-1" strike="noStrike">
                <a:solidFill>
                  <a:srgbClr val="333399"/>
                </a:solidFill>
                <a:latin typeface="Times New Roman"/>
              </a:rPr>
              <a:t> учреждений компенсирующего вида </a:t>
            </a:r>
            <a:br>
              <a:rPr sz="2000"/>
            </a:br>
            <a:r>
              <a:rPr b="1" i="1" lang="ru-RU" sz="2000" spc="-1" strike="noStrike">
                <a:solidFill>
                  <a:srgbClr val="333399"/>
                </a:solidFill>
                <a:latin typeface="Times New Roman"/>
              </a:rPr>
              <a:t>для детей с с нарушениями слуха</a:t>
            </a:r>
            <a:br>
              <a:rPr sz="2000"/>
            </a:b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205000"/>
            <a:ext cx="77724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66"/>
                </a:solidFill>
                <a:latin typeface="Times New Roman"/>
              </a:rPr>
              <a:t>Программа воспитания и обучения глухих детей дошкольного возраста. Л.П. Носкова, Л.А. Головчиц, Н.Д. Шматко, Т.В. Пелымская, Р.Т. Есимханова, А.А. Катаева, Г.В. Короткова, Г.В. Трофимова.М, 1991 г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Программа "Воспитание и обучение слабослышащих детей дошкольного возраста . Л.А. Головчиц, Л.П. Носкова, , Н.Д. Шматко, Г.В. Короткова, А.А. Катаева, , Г.В. Трофимова - М., 199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66"/>
                </a:solidFill>
                <a:latin typeface="Times New Roman"/>
              </a:rPr>
              <a:t>Программно-методический комплекс «Воспитание и обучение слабослышащих дошкольников со сложными (комплексными) нарушениями развития. О.П.Гаврилушкина, Л.А.Головчиц, Л.Д.Дмитриева, Н.Д.Носкова, В.М. Шатов, Н.Д.Шматко. М, 200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Авторская программа  для обучения и воспитания глух дошкольников «Я слышу и говорю» под ред. Т.В.Заварнахина, М.А.Морева, Самара, 20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7236000" y="189000"/>
            <a:ext cx="190800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imes New Roman"/>
              </a:rPr>
              <a:t>Программы дошкольных образовательных учреждений компенсирующего вида для детей с с нарушениями зрения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28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Программа специальных (коррекционных) образовательных учреждений 5 вида (для детей с нарушением зрения) В.А.Бельмер, Л.П.Григорьева, В.З.Денискина, Л.И.Плаксина и др.под ред. Л.И.Плаксиной, М,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«</a:t>
            </a:r>
            <a:r>
              <a:rPr b="0" lang="ru-RU" sz="2000" spc="-1" strike="noStrike">
                <a:solidFill>
                  <a:srgbClr val="cc00ff"/>
                </a:solidFill>
                <a:latin typeface="Times New Roman"/>
              </a:rPr>
              <a:t>Специальные коррекционные программы для дошкольников с тяжелыми нарушениями зрения /Под ред. В.А.Феоктистовой. – СПб.: Образование, 199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6948360" y="4797360"/>
            <a:ext cx="1224000" cy="1847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"/>
          <p:cNvPicPr/>
          <p:nvPr/>
        </p:nvPicPr>
        <p:blipFill>
          <a:blip r:embed="rId2"/>
          <a:stretch/>
        </p:blipFill>
        <p:spPr>
          <a:xfrm>
            <a:off x="4859280" y="4365720"/>
            <a:ext cx="12463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91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Программы дошкольных </a:t>
            </a:r>
            <a:br>
              <a:rPr sz="2400"/>
            </a:b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образовательных учреждений </a:t>
            </a:r>
            <a:br>
              <a:rPr sz="2400"/>
            </a:b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компенсирующего вида для детей </a:t>
            </a:r>
            <a:br>
              <a:rPr sz="2400"/>
            </a:b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с нарушением опорно-двигательного</a:t>
            </a:r>
            <a:br>
              <a:rPr sz="2400"/>
            </a:b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 аппарат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707920"/>
            <a:ext cx="77724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66"/>
                </a:solidFill>
                <a:latin typeface="Times New Roman"/>
              </a:rPr>
              <a:t>Программа-проект «Воспитание и обучение детей с церебральным параличем дошкольного возраста» Н.В.Симонова, М, 198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Родник. Программа социокультурного развития детей Л.Б.Баряева, Е.О.Герасимова, Г.С.Данилина, Н.А.Макарчук, О.П.Гаврилушкина. Спб, 199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572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Программы ранней помощи детям с ОВЗ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99640" y="1699920"/>
            <a:ext cx="799308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М.Питерси, Р.Трилор.  Маленькие ступеньки. Программа ранней педагогической помощи детям с отклонениями в развитии.  М.: 20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Times New Roman"/>
              </a:rPr>
              <a:t>Н.М.Джонсон-Мартин, С.М.Аттермиер, Кннет Г. Дженс, Брони Дж. Хакер. Программа «КАРОЛИНА» для младенцев и детей младшего возраста с особыми потребностями. Под ред. Н.Ю.Барановой. Спб, 2005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О.Ю.Кравец, И.А.Рыбкина, А.Е.Иванова и др. Ступеньки: комплексная коррекционно-развивающая программа для детей раннего и младшего возраста. под ред. Н.В.Серебрякова.Спб, 200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3059280" y="5084640"/>
            <a:ext cx="1128600" cy="1629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"/>
          <p:cNvPicPr/>
          <p:nvPr/>
        </p:nvPicPr>
        <p:blipFill>
          <a:blip r:embed="rId2"/>
          <a:stretch/>
        </p:blipFill>
        <p:spPr>
          <a:xfrm>
            <a:off x="5003640" y="4724280"/>
            <a:ext cx="1198800" cy="1729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"/>
          <p:cNvPicPr/>
          <p:nvPr/>
        </p:nvPicPr>
        <p:blipFill>
          <a:blip r:embed="rId3"/>
          <a:stretch/>
        </p:blipFill>
        <p:spPr>
          <a:xfrm>
            <a:off x="1187280" y="4653000"/>
            <a:ext cx="1216080" cy="1771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"/>
          <p:cNvPicPr/>
          <p:nvPr/>
        </p:nvPicPr>
        <p:blipFill>
          <a:blip r:embed="rId4"/>
          <a:stretch/>
        </p:blipFill>
        <p:spPr>
          <a:xfrm>
            <a:off x="7020000" y="5084640"/>
            <a:ext cx="116208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Условия организации квалифицированной коррекционно-педагогической помощи детям с ограниченными возможностями здоровья в условиях современного ДОУ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7" name="Diagram 7"/>
          <p:cNvGrpSpPr/>
          <p:nvPr/>
        </p:nvGrpSpPr>
        <p:grpSpPr>
          <a:xfrm>
            <a:off x="955080" y="1622880"/>
            <a:ext cx="7231320" cy="5021640"/>
            <a:chOff x="955080" y="1622880"/>
            <a:chExt cx="7231320" cy="5021640"/>
          </a:xfrm>
        </p:grpSpPr>
        <p:sp>
          <p:nvSpPr>
            <p:cNvPr id="178" name="_s3076"/>
            <p:cNvSpPr/>
            <p:nvPr/>
          </p:nvSpPr>
          <p:spPr>
            <a:xfrm>
              <a:off x="3659040" y="2337120"/>
              <a:ext cx="1825560" cy="2040840"/>
            </a:xfrm>
            <a:prstGeom prst="ellipse">
              <a:avLst/>
            </a:prstGeom>
            <a:solidFill>
              <a:srgbClr val="ffcf01">
                <a:alpha val="50000"/>
              </a:srgbClr>
            </a:solidFill>
            <a:ln w="468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_s3077"/>
            <p:cNvSpPr/>
            <p:nvPr/>
          </p:nvSpPr>
          <p:spPr>
            <a:xfrm>
              <a:off x="3659040" y="1622880"/>
              <a:ext cx="1825560" cy="510120"/>
            </a:xfrm>
            <a:prstGeom prst="rect">
              <a:avLst/>
            </a:prstGeom>
            <a:gradFill rotWithShape="0">
              <a:gsLst>
                <a:gs pos="0">
                  <a:srgbClr val="ff0000">
                    <a:alpha val="60392"/>
                  </a:srgbClr>
                </a:gs>
                <a:gs pos="100000">
                  <a:srgbClr val="fea8a8">
                    <a:alpha val="4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Разработка и утверждение нормативных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документов и локальных актов,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регулирующих организацию работы с детьми с ОВЗ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_s3078"/>
            <p:cNvSpPr/>
            <p:nvPr/>
          </p:nvSpPr>
          <p:spPr>
            <a:xfrm>
              <a:off x="4354200" y="3114720"/>
              <a:ext cx="1825560" cy="2040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" name="_s3079"/>
            <p:cNvSpPr/>
            <p:nvPr/>
          </p:nvSpPr>
          <p:spPr>
            <a:xfrm>
              <a:off x="6360840" y="3879000"/>
              <a:ext cx="1825560" cy="509400"/>
            </a:xfrm>
            <a:prstGeom prst="rect">
              <a:avLst/>
            </a:prstGeom>
            <a:gradFill rotWithShape="0">
              <a:gsLst>
                <a:gs pos="0">
                  <a:srgbClr val="339966">
                    <a:alpha val="40000"/>
                  </a:srgbClr>
                </a:gs>
                <a:gs pos="100000">
                  <a:srgbClr val="b9db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Организация работы ДОУ с семьями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воспитанников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" name="_s3080"/>
            <p:cNvSpPr/>
            <p:nvPr/>
          </p:nvSpPr>
          <p:spPr>
            <a:xfrm>
              <a:off x="3659040" y="3891960"/>
              <a:ext cx="1825560" cy="204084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4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_s3081"/>
            <p:cNvSpPr/>
            <p:nvPr/>
          </p:nvSpPr>
          <p:spPr>
            <a:xfrm>
              <a:off x="3659040" y="6135120"/>
              <a:ext cx="1825560" cy="509400"/>
            </a:xfrm>
            <a:prstGeom prst="rect">
              <a:avLst/>
            </a:prstGeom>
            <a:gradFill rotWithShape="0">
              <a:gsLst>
                <a:gs pos="0">
                  <a:srgbClr val="ff9900">
                    <a:alpha val="40000"/>
                  </a:srgbClr>
                </a:gs>
                <a:gs pos="100000">
                  <a:srgbClr val="fed598">
                    <a:alpha val="4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Осуществление интеграции и координации всех участников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коррекционно-развивающего и воспитательно-образовательного процессов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" name="_s3082"/>
            <p:cNvSpPr/>
            <p:nvPr/>
          </p:nvSpPr>
          <p:spPr>
            <a:xfrm>
              <a:off x="2963520" y="3114720"/>
              <a:ext cx="1825560" cy="204084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4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_s3083"/>
            <p:cNvSpPr/>
            <p:nvPr/>
          </p:nvSpPr>
          <p:spPr>
            <a:xfrm>
              <a:off x="955080" y="3879000"/>
              <a:ext cx="1825560" cy="509400"/>
            </a:xfrm>
            <a:prstGeom prst="rect">
              <a:avLst/>
            </a:prstGeom>
            <a:gradFill rotWithShape="0">
              <a:gsLst>
                <a:gs pos="0">
                  <a:srgbClr val="3333cc">
                    <a:alpha val="60392"/>
                  </a:srgbClr>
                </a:gs>
                <a:gs pos="100000">
                  <a:srgbClr val="c1c1ee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Создание комфортных условий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воспитания,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обучения и развития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детей с ОВЗ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" name="Rectangle 14"/>
          <p:cNvSpPr/>
          <p:nvPr/>
        </p:nvSpPr>
        <p:spPr>
          <a:xfrm>
            <a:off x="442548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87280"/>
            <a:ext cx="7792920" cy="12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Times New Roman"/>
              </a:rPr>
              <a:t>Организация коррекционно-педагогической работы с детьми с ОВЗ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4920" y="2421000"/>
            <a:ext cx="3024360" cy="3682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6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Times New Roman"/>
              </a:rPr>
              <a:t>Разработка и утверждение нормативных документов и локальных актов, регулирующих организацию работы с детьми с ОВЗ</a:t>
            </a:r>
            <a:r>
              <a:rPr b="0" i="1" lang="ru-RU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733560" y="2060640"/>
            <a:ext cx="5221080" cy="4797360"/>
          </a:xfrm>
          <a:prstGeom prst="rect">
            <a:avLst/>
          </a:prstGeom>
          <a:gradFill rotWithShape="0">
            <a:gsLst>
              <a:gs pos="0">
                <a:srgbClr val="eecbff">
                  <a:alpha val="40000"/>
                </a:srgbClr>
              </a:gs>
              <a:gs pos="50000">
                <a:srgbClr val="cc66ff">
                  <a:alpha val="40000"/>
                </a:srgbClr>
              </a:gs>
              <a:gs pos="100000">
                <a:srgbClr val="eecbff">
                  <a:alpha val="40000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Режим пребывания воспитанников в учрежден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imes New Roman"/>
              </a:rPr>
              <a:t>Учебный план воспитательно-образовательной и коррекционно-развивающей рабо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Расписание  непосредственно-образовательной деятель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imes New Roman"/>
              </a:rPr>
              <a:t>Режим двигательной актив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План физкультурно-оздоровительной работы, система закаливающих процедур и п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476280"/>
            <a:ext cx="7792920" cy="98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imes New Roman"/>
              </a:rPr>
              <a:t>Содерж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1320" y="2143080"/>
            <a:ext cx="8383320" cy="4454640"/>
          </a:xfrm>
          <a:prstGeom prst="rect">
            <a:avLst/>
          </a:prstGeom>
          <a:gradFill rotWithShape="0">
            <a:gsLst>
              <a:gs pos="0">
                <a:srgbClr val="ff6600">
                  <a:alpha val="40000"/>
                </a:srgbClr>
              </a:gs>
              <a:gs pos="100000">
                <a:srgbClr val="cc66ff">
                  <a:alpha val="40000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онятие о детях с ОВЗ, имеющих сочетанные нарушения в развитии (этиология, классификация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рмативно-правовое обеспечение коррекционно-педагогического процесс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Цели и задачи работы ДОУ с детьми с ОВЗ, имеющих сочетанные нарушения в развит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граммно- методическое  обеспечение коррекционно-педагогического процесс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рганизация квалифицированной коррекционно-педагогической помощи детям с ограниченными возможностями здоровья, имеющих сочетанные нарушения в развитии в условиях современного ДОУ (условия, структура, содержание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Педагоги, осуществляющие коррекционно-педагогическую работу в ДОУ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91" name="Diagram 4"/>
          <p:cNvGrpSpPr/>
          <p:nvPr/>
        </p:nvGrpSpPr>
        <p:grpSpPr>
          <a:xfrm>
            <a:off x="352800" y="1734480"/>
            <a:ext cx="8593200" cy="5029920"/>
            <a:chOff x="352800" y="1734480"/>
            <a:chExt cx="8593200" cy="5029920"/>
          </a:xfrm>
        </p:grpSpPr>
        <p:sp>
          <p:nvSpPr>
            <p:cNvPr id="192" name="_s4100"/>
            <p:cNvSpPr/>
            <p:nvPr/>
          </p:nvSpPr>
          <p:spPr>
            <a:xfrm flipH="1" flipV="1">
              <a:off x="3234960" y="2691360"/>
              <a:ext cx="1118160" cy="125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_s4101"/>
            <p:cNvSpPr/>
            <p:nvPr/>
          </p:nvSpPr>
          <p:spPr>
            <a:xfrm>
              <a:off x="2302920" y="1977840"/>
              <a:ext cx="1275120" cy="75132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Заведующий, 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ст.воспитатель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_s4102"/>
            <p:cNvSpPr/>
            <p:nvPr/>
          </p:nvSpPr>
          <p:spPr>
            <a:xfrm flipH="1" flipV="1">
              <a:off x="2145240" y="3260520"/>
              <a:ext cx="1980360" cy="80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_s4103"/>
            <p:cNvSpPr/>
            <p:nvPr/>
          </p:nvSpPr>
          <p:spPr>
            <a:xfrm>
              <a:off x="981360" y="2667960"/>
              <a:ext cx="1275120" cy="7506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Times New Roman"/>
                </a:rPr>
                <a:t>Тифлопедагог,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Times New Roman"/>
                </a:rPr>
                <a:t>сурдолог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_s4104"/>
            <p:cNvSpPr/>
            <p:nvPr/>
          </p:nvSpPr>
          <p:spPr>
            <a:xfrm flipH="1" flipV="1">
              <a:off x="1633680" y="4060800"/>
              <a:ext cx="2386800" cy="17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_s4105"/>
            <p:cNvSpPr/>
            <p:nvPr/>
          </p:nvSpPr>
          <p:spPr>
            <a:xfrm>
              <a:off x="352800" y="3639240"/>
              <a:ext cx="1275120" cy="75060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Инструктор 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по плаванию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_s4106"/>
            <p:cNvSpPr/>
            <p:nvPr/>
          </p:nvSpPr>
          <p:spPr>
            <a:xfrm flipH="1">
              <a:off x="1807920" y="4411080"/>
              <a:ext cx="2253600" cy="50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_s4107"/>
            <p:cNvSpPr/>
            <p:nvPr/>
          </p:nvSpPr>
          <p:spPr>
            <a:xfrm>
              <a:off x="562680" y="4671720"/>
              <a:ext cx="1275120" cy="75132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Педагог-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Эколог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_s4108"/>
            <p:cNvSpPr/>
            <p:nvPr/>
          </p:nvSpPr>
          <p:spPr>
            <a:xfrm flipH="1">
              <a:off x="2635560" y="4555080"/>
              <a:ext cx="1599840" cy="106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_s4109"/>
            <p:cNvSpPr/>
            <p:nvPr/>
          </p:nvSpPr>
          <p:spPr>
            <a:xfrm>
              <a:off x="1563480" y="5529240"/>
              <a:ext cx="1275120" cy="75132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Times New Roman"/>
                </a:rPr>
                <a:t>Руководитель 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Times New Roman"/>
                </a:rPr>
                <a:t>изодеятельности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_s4110"/>
            <p:cNvSpPr/>
            <p:nvPr/>
          </p:nvSpPr>
          <p:spPr>
            <a:xfrm flipH="1">
              <a:off x="3921120" y="4633560"/>
              <a:ext cx="582120" cy="137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_s4111"/>
            <p:cNvSpPr/>
            <p:nvPr/>
          </p:nvSpPr>
          <p:spPr>
            <a:xfrm>
              <a:off x="3129480" y="6013080"/>
              <a:ext cx="1275120" cy="75132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Руководитель 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Физ.культуры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_s4112"/>
            <p:cNvSpPr/>
            <p:nvPr/>
          </p:nvSpPr>
          <p:spPr>
            <a:xfrm>
              <a:off x="4800960" y="4633560"/>
              <a:ext cx="576720" cy="137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_s4113"/>
            <p:cNvSpPr/>
            <p:nvPr/>
          </p:nvSpPr>
          <p:spPr>
            <a:xfrm>
              <a:off x="4894560" y="6013080"/>
              <a:ext cx="1274040" cy="751320"/>
            </a:xfrm>
            <a:prstGeom prst="ellipse">
              <a:avLst/>
            </a:prstGeom>
            <a:solidFill>
              <a:srgbClr val="1a0fff"/>
            </a:solidFill>
            <a:ln w="28440">
              <a:solidFill>
                <a:srgbClr val="0a0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Times New Roman"/>
                </a:rPr>
                <a:t>Педагог-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Times New Roman"/>
                </a:rPr>
                <a:t>валеолог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_s4114"/>
            <p:cNvSpPr/>
            <p:nvPr/>
          </p:nvSpPr>
          <p:spPr>
            <a:xfrm>
              <a:off x="5068800" y="4551840"/>
              <a:ext cx="1594800" cy="106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_s4115"/>
            <p:cNvSpPr/>
            <p:nvPr/>
          </p:nvSpPr>
          <p:spPr>
            <a:xfrm>
              <a:off x="6460200" y="5529240"/>
              <a:ext cx="1275120" cy="751320"/>
            </a:xfrm>
            <a:prstGeom prst="ellipse">
              <a:avLst/>
            </a:pr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Педагог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психолог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_s4116"/>
            <p:cNvSpPr/>
            <p:nvPr/>
          </p:nvSpPr>
          <p:spPr>
            <a:xfrm>
              <a:off x="5237640" y="4403880"/>
              <a:ext cx="2252160" cy="50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_s4117"/>
            <p:cNvSpPr/>
            <p:nvPr/>
          </p:nvSpPr>
          <p:spPr>
            <a:xfrm>
              <a:off x="7461000" y="4671720"/>
              <a:ext cx="1275120" cy="75132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Мед. Персонал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(врач,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мед.сестра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_s4118"/>
            <p:cNvSpPr/>
            <p:nvPr/>
          </p:nvSpPr>
          <p:spPr>
            <a:xfrm flipV="1">
              <a:off x="5272200" y="4057560"/>
              <a:ext cx="2393280" cy="171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_s4119"/>
            <p:cNvSpPr/>
            <p:nvPr/>
          </p:nvSpPr>
          <p:spPr>
            <a:xfrm>
              <a:off x="7670880" y="3639240"/>
              <a:ext cx="1275120" cy="7506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Воспитатели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_s4120"/>
            <p:cNvSpPr/>
            <p:nvPr/>
          </p:nvSpPr>
          <p:spPr>
            <a:xfrm flipV="1">
              <a:off x="5161320" y="3257640"/>
              <a:ext cx="1985400" cy="806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3" name="_s4121"/>
            <p:cNvSpPr/>
            <p:nvPr/>
          </p:nvSpPr>
          <p:spPr>
            <a:xfrm>
              <a:off x="7042680" y="2667960"/>
              <a:ext cx="1275120" cy="75060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Муз. 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руководитель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_s4122"/>
            <p:cNvSpPr/>
            <p:nvPr/>
          </p:nvSpPr>
          <p:spPr>
            <a:xfrm flipV="1">
              <a:off x="4934160" y="2687760"/>
              <a:ext cx="1124640" cy="125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" name="_s4123"/>
            <p:cNvSpPr/>
            <p:nvPr/>
          </p:nvSpPr>
          <p:spPr>
            <a:xfrm>
              <a:off x="5721120" y="1981800"/>
              <a:ext cx="1275120" cy="75060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Учитель-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логопед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_s4124"/>
            <p:cNvSpPr/>
            <p:nvPr/>
          </p:nvSpPr>
          <p:spPr>
            <a:xfrm flipV="1">
              <a:off x="4643640" y="2481840"/>
              <a:ext cx="0" cy="142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_s4125"/>
            <p:cNvSpPr/>
            <p:nvPr/>
          </p:nvSpPr>
          <p:spPr>
            <a:xfrm>
              <a:off x="4008600" y="1734480"/>
              <a:ext cx="1275120" cy="75132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Учитель-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дефектолог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_s4126"/>
            <p:cNvSpPr/>
            <p:nvPr/>
          </p:nvSpPr>
          <p:spPr>
            <a:xfrm>
              <a:off x="4008600" y="3906000"/>
              <a:ext cx="1275120" cy="75132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Ребенок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Родители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Times New Roman"/>
              </a:rPr>
              <a:t>Осуществление взаимодействия и координации деятельности всех участников коррекционно-образовательного процесса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23640" y="2060640"/>
            <a:ext cx="4267080" cy="19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99"/>
                </a:solidFill>
                <a:uFillTx/>
                <a:latin typeface="Times New Roman"/>
              </a:rPr>
              <a:t>Интеграц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деятельности участников коррекционно-педагогического процесса  рассматривается как цель и результат взаимодействия по созданию у детей целостной картины мира, как процесс по достижению этой цел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-360" y="4076640"/>
            <a:ext cx="937260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99"/>
                </a:solidFill>
                <a:uFillTx/>
                <a:latin typeface="Times New Roman"/>
              </a:rPr>
              <a:t>Виды взаимодействи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ff"/>
                </a:solidFill>
                <a:latin typeface="Times New Roman"/>
              </a:rPr>
              <a:t>Тематическое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99"/>
                </a:solidFill>
                <a:latin typeface="Times New Roman"/>
              </a:rPr>
              <a:t>Перспективно-тематические и календарные планы работы специалистов и воспитателей группы (по блокам, неделям обучения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99"/>
                </a:solidFill>
                <a:latin typeface="Times New Roman"/>
              </a:rPr>
              <a:t>План совместной деятельности специалистов детского сада; методические разработки  к планам тематического планирования и др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ff"/>
                </a:solidFill>
                <a:latin typeface="Times New Roman"/>
              </a:rPr>
              <a:t>Проблемно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99"/>
                </a:solidFill>
                <a:latin typeface="Times New Roman"/>
              </a:rPr>
              <a:t>Тетради взаимосвязанной работы коррекционно-педагогического процесса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99"/>
                </a:solidFill>
                <a:latin typeface="Times New Roman"/>
              </a:rPr>
              <a:t>Составление сводной итоговой таблицы по результатам комплексного обследования детей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9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cc3399"/>
                </a:solidFill>
                <a:latin typeface="Times New Roman"/>
              </a:rPr>
              <a:t>Карты развития  ребенка; индивидуальные маршруты сопровождения воспитанников и пр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16360" y="1915920"/>
            <a:ext cx="4114800" cy="27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99"/>
                </a:solidFill>
                <a:uFillTx/>
                <a:latin typeface="Times New Roman"/>
              </a:rPr>
              <a:t>Координация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деятельности участников коррекционно-педагогического процесса  рассматривается как процесс связи и согласованности деятельности всех  участников коррекционно-педагогического процесса в процессе воспитания, образования и развития детей с проблемами развития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756560" cy="1271880"/>
          </a:xfrm>
          <a:prstGeom prst="rect">
            <a:avLst/>
          </a:prstGeom>
          <a:gradFill rotWithShape="0">
            <a:gsLst>
              <a:gs pos="0">
                <a:srgbClr val="00e4a8"/>
              </a:gs>
              <a:gs pos="100000">
                <a:srgbClr val="a9f6e2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Принципы построения предметно-пространственной коррекционно-развивающей среды в ДОУ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064360" cy="4651200"/>
          </a:xfrm>
          <a:prstGeom prst="rect">
            <a:avLst/>
          </a:prstGeom>
          <a:gradFill rotWithShape="0">
            <a:gsLst>
              <a:gs pos="0">
                <a:srgbClr val="00e4a8">
                  <a:alpha val="40000"/>
                </a:srgbClr>
              </a:gs>
              <a:gs pos="100000">
                <a:srgbClr val="cc66ff">
                  <a:alpha val="40000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учет возрастных и психофизических особенностей воспитанников с ОВЗ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ережающий характер содержания образования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наглядности и предметности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ибкого  зонирования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динамичности-статичности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четание привычных и неординарных элементов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индивидуальной комфортности и эмоционального благополучия, уважения к потребностям и нуждам каждого ребенка с ОВЗ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исенсорная основа и д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Макросреда в ДО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26" name="Diagram 3"/>
          <p:cNvGrpSpPr/>
          <p:nvPr/>
        </p:nvGrpSpPr>
        <p:grpSpPr>
          <a:xfrm>
            <a:off x="1023840" y="1802880"/>
            <a:ext cx="7328160" cy="4768560"/>
            <a:chOff x="1023840" y="1802880"/>
            <a:chExt cx="7328160" cy="4768560"/>
          </a:xfrm>
        </p:grpSpPr>
        <p:sp>
          <p:nvSpPr>
            <p:cNvPr id="227" name="_s5124"/>
            <p:cNvSpPr/>
            <p:nvPr/>
          </p:nvSpPr>
          <p:spPr>
            <a:xfrm>
              <a:off x="3755880" y="2492280"/>
              <a:ext cx="1860480" cy="1971360"/>
            </a:xfrm>
            <a:prstGeom prst="ellipse">
              <a:avLst/>
            </a:prstGeom>
            <a:solidFill>
              <a:srgbClr val="ffcf01">
                <a:alpha val="50000"/>
              </a:srgbClr>
            </a:solidFill>
            <a:ln w="468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" name="_s5125"/>
            <p:cNvSpPr/>
            <p:nvPr/>
          </p:nvSpPr>
          <p:spPr>
            <a:xfrm>
              <a:off x="3755880" y="1802880"/>
              <a:ext cx="1860480" cy="49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ff"/>
                  </a:solidFill>
                  <a:latin typeface="Times New Roman"/>
                </a:rPr>
                <a:t>Спортивный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ff"/>
                  </a:solidFill>
                  <a:latin typeface="Times New Roman"/>
                </a:rPr>
                <a:t>зал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_s5126"/>
            <p:cNvSpPr/>
            <p:nvPr/>
          </p:nvSpPr>
          <p:spPr>
            <a:xfrm>
              <a:off x="4138560" y="2610000"/>
              <a:ext cx="1860480" cy="197136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_s5127"/>
            <p:cNvSpPr/>
            <p:nvPr/>
          </p:nvSpPr>
          <p:spPr>
            <a:xfrm>
              <a:off x="5671800" y="2109240"/>
              <a:ext cx="1860840" cy="49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Times New Roman"/>
                </a:rPr>
                <a:t>Сенсорная комната,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Times New Roman"/>
                </a:rPr>
                <a:t>Экологическая комната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_s5128"/>
            <p:cNvSpPr/>
            <p:nvPr/>
          </p:nvSpPr>
          <p:spPr>
            <a:xfrm>
              <a:off x="4399200" y="2928600"/>
              <a:ext cx="1860480" cy="197136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_s5129"/>
            <p:cNvSpPr/>
            <p:nvPr/>
          </p:nvSpPr>
          <p:spPr>
            <a:xfrm>
              <a:off x="6343920" y="2930760"/>
              <a:ext cx="1860480" cy="49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cc33"/>
                  </a:solidFill>
                  <a:latin typeface="Times New Roman"/>
                </a:rPr>
                <a:t>Музыкальный зал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3" name="_s5130"/>
            <p:cNvSpPr/>
            <p:nvPr/>
          </p:nvSpPr>
          <p:spPr>
            <a:xfrm>
              <a:off x="4456440" y="3346560"/>
              <a:ext cx="1860480" cy="197136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4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" name="_s5131"/>
            <p:cNvSpPr/>
            <p:nvPr/>
          </p:nvSpPr>
          <p:spPr>
            <a:xfrm>
              <a:off x="6491520" y="4500720"/>
              <a:ext cx="1860480" cy="49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ff"/>
                  </a:solidFill>
                  <a:latin typeface="Times New Roman"/>
                </a:rPr>
                <a:t>Кабинет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ff"/>
                  </a:solidFill>
                  <a:latin typeface="Times New Roman"/>
                </a:rPr>
                <a:t>Учителя-логопеда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" name="_s5132"/>
            <p:cNvSpPr/>
            <p:nvPr/>
          </p:nvSpPr>
          <p:spPr>
            <a:xfrm>
              <a:off x="4291920" y="3729600"/>
              <a:ext cx="1860480" cy="1971360"/>
            </a:xfrm>
            <a:prstGeom prst="ellipse">
              <a:avLst/>
            </a:prstGeom>
            <a:solidFill>
              <a:srgbClr val="1c1c1c">
                <a:alpha val="50000"/>
              </a:srgbClr>
            </a:solidFill>
            <a:ln w="468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" name="_s5133"/>
            <p:cNvSpPr/>
            <p:nvPr/>
          </p:nvSpPr>
          <p:spPr>
            <a:xfrm>
              <a:off x="6064560" y="5490720"/>
              <a:ext cx="1860480" cy="49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e4a8"/>
                  </a:solidFill>
                  <a:latin typeface="Times New Roman"/>
                </a:rPr>
                <a:t>Кабинет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e4a8"/>
                  </a:solidFill>
                  <a:latin typeface="Times New Roman"/>
                </a:rPr>
                <a:t>учителя-дефектолога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_s5134"/>
            <p:cNvSpPr/>
            <p:nvPr/>
          </p:nvSpPr>
          <p:spPr>
            <a:xfrm>
              <a:off x="3956760" y="3958920"/>
              <a:ext cx="1860480" cy="1971720"/>
            </a:xfrm>
            <a:prstGeom prst="ellipse">
              <a:avLst/>
            </a:prstGeom>
            <a:solidFill>
              <a:srgbClr val="00e4a8">
                <a:alpha val="50000"/>
              </a:srgbClr>
            </a:solidFill>
            <a:ln w="468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" name="_s5135"/>
            <p:cNvSpPr/>
            <p:nvPr/>
          </p:nvSpPr>
          <p:spPr>
            <a:xfrm>
              <a:off x="5200920" y="6078600"/>
              <a:ext cx="186084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Times New Roman"/>
                </a:rPr>
                <a:t>Кабинет педагога психолога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_s5136"/>
            <p:cNvSpPr/>
            <p:nvPr/>
          </p:nvSpPr>
          <p:spPr>
            <a:xfrm>
              <a:off x="3558600" y="3958920"/>
              <a:ext cx="1860480" cy="1971720"/>
            </a:xfrm>
            <a:prstGeom prst="ellipse">
              <a:avLst/>
            </a:prstGeom>
            <a:solidFill>
              <a:srgbClr val="ffcf01">
                <a:alpha val="50000"/>
              </a:srgbClr>
            </a:solidFill>
            <a:ln w="468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_s5137"/>
            <p:cNvSpPr/>
            <p:nvPr/>
          </p:nvSpPr>
          <p:spPr>
            <a:xfrm>
              <a:off x="2314440" y="6078600"/>
              <a:ext cx="186048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ff"/>
                  </a:solidFill>
                  <a:latin typeface="Times New Roman"/>
                </a:rPr>
                <a:t>Прогулочные веранды,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ff"/>
                  </a:solidFill>
                  <a:latin typeface="Times New Roman"/>
                </a:rPr>
                <a:t>Цветники и пр.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_s5138"/>
            <p:cNvSpPr/>
            <p:nvPr/>
          </p:nvSpPr>
          <p:spPr>
            <a:xfrm>
              <a:off x="3223440" y="3731760"/>
              <a:ext cx="1860480" cy="197172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_s5139"/>
            <p:cNvSpPr/>
            <p:nvPr/>
          </p:nvSpPr>
          <p:spPr>
            <a:xfrm>
              <a:off x="1451160" y="5490720"/>
              <a:ext cx="1860480" cy="49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Times New Roman"/>
                </a:rPr>
                <a:t>Спортивная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Times New Roman"/>
                </a:rPr>
                <a:t>площадка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_s5140"/>
            <p:cNvSpPr/>
            <p:nvPr/>
          </p:nvSpPr>
          <p:spPr>
            <a:xfrm>
              <a:off x="3057120" y="3348360"/>
              <a:ext cx="1860480" cy="197136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_s5141"/>
            <p:cNvSpPr/>
            <p:nvPr/>
          </p:nvSpPr>
          <p:spPr>
            <a:xfrm>
              <a:off x="1023840" y="4502520"/>
              <a:ext cx="186084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996633"/>
                  </a:solidFill>
                  <a:latin typeface="Times New Roman"/>
                </a:rPr>
                <a:t>Мед.кабинет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996633"/>
                  </a:solidFill>
                  <a:latin typeface="Times New Roman"/>
                </a:rPr>
                <a:t>(процедурный, изолятор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_s5142"/>
            <p:cNvSpPr/>
            <p:nvPr/>
          </p:nvSpPr>
          <p:spPr>
            <a:xfrm>
              <a:off x="3112560" y="2930760"/>
              <a:ext cx="1860840" cy="197136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4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" name="_s5143"/>
            <p:cNvSpPr/>
            <p:nvPr/>
          </p:nvSpPr>
          <p:spPr>
            <a:xfrm>
              <a:off x="1169640" y="2932560"/>
              <a:ext cx="186048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00"/>
                  </a:solidFill>
                  <a:latin typeface="Times New Roman"/>
                </a:rPr>
                <a:t>Группа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00"/>
                  </a:solidFill>
                  <a:latin typeface="Times New Roman"/>
                </a:rPr>
                <a:t>компенсирующей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6600"/>
                  </a:solidFill>
                  <a:latin typeface="Times New Roman"/>
                </a:rPr>
                <a:t>направленности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" name="_s5144"/>
            <p:cNvSpPr/>
            <p:nvPr/>
          </p:nvSpPr>
          <p:spPr>
            <a:xfrm>
              <a:off x="3372840" y="2610000"/>
              <a:ext cx="1860480" cy="1971360"/>
            </a:xfrm>
            <a:prstGeom prst="ellipse">
              <a:avLst/>
            </a:prstGeom>
            <a:solidFill>
              <a:srgbClr val="00e4a8">
                <a:alpha val="50000"/>
              </a:srgbClr>
            </a:solidFill>
            <a:ln w="468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" name="_s5145"/>
            <p:cNvSpPr/>
            <p:nvPr/>
          </p:nvSpPr>
          <p:spPr>
            <a:xfrm>
              <a:off x="1841400" y="2111040"/>
              <a:ext cx="186084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Times New Roman"/>
                </a:rPr>
                <a:t>Бассейн,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Times New Roman"/>
                </a:rPr>
                <a:t>Тренажерный зал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1369800" y="2565000"/>
            <a:ext cx="75229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99"/>
                </a:solidFill>
                <a:latin typeface="Times New Roman"/>
              </a:rPr>
              <a:t>Использование многофункциональных пособ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Использование интерактивных панн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Использование современных ИКТ (КИС) в работе с дошкольниками с ОВЗ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Сенсорная комната в условиях современного ДО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WordArt 3"/>
          <p:cNvSpPr txBox="1"/>
          <p:nvPr/>
        </p:nvSpPr>
        <p:spPr>
          <a:xfrm>
            <a:off x="1835280" y="549360"/>
            <a:ext cx="64818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ррекционно-развивающие средства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работе с детьми с ОВЗ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0" y="0"/>
            <a:ext cx="4950000" cy="59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3399"/>
                </a:solidFill>
                <a:latin typeface="Times New Roman"/>
              </a:rPr>
              <a:t>Многофункциональные развивающие пособия: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Умная ромашка</a:t>
            </a: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»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Логическая машина</a:t>
            </a: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»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Гусеница</a:t>
            </a: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»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Волшебный экран</a:t>
            </a: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»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Паровозик</a:t>
            </a: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»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(пособия по познавательно-речевому развитию, работа с использованием карточек, картинок и схем и пр.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102280" y="0"/>
            <a:ext cx="3581280" cy="59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99"/>
                </a:solidFill>
                <a:latin typeface="Times New Roman"/>
              </a:rPr>
              <a:t>Использование интерактивных панн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3" name="Picture 4" descr=""/>
          <p:cNvPicPr/>
          <p:nvPr/>
        </p:nvPicPr>
        <p:blipFill>
          <a:blip r:embed="rId1"/>
          <a:stretch/>
        </p:blipFill>
        <p:spPr>
          <a:xfrm>
            <a:off x="250920" y="2924280"/>
            <a:ext cx="1868400" cy="17017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"/>
          <p:cNvPicPr/>
          <p:nvPr/>
        </p:nvPicPr>
        <p:blipFill>
          <a:blip r:embed="rId2"/>
          <a:stretch/>
        </p:blipFill>
        <p:spPr>
          <a:xfrm>
            <a:off x="900000" y="5084640"/>
            <a:ext cx="3240360" cy="1368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"/>
          <p:cNvPicPr/>
          <p:nvPr/>
        </p:nvPicPr>
        <p:blipFill>
          <a:blip r:embed="rId3"/>
          <a:stretch/>
        </p:blipFill>
        <p:spPr>
          <a:xfrm>
            <a:off x="2843280" y="2997360"/>
            <a:ext cx="1584360" cy="1800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"/>
          <p:cNvPicPr/>
          <p:nvPr/>
        </p:nvPicPr>
        <p:blipFill>
          <a:blip r:embed="rId4"/>
          <a:stretch/>
        </p:blipFill>
        <p:spPr>
          <a:xfrm>
            <a:off x="6804000" y="4581360"/>
            <a:ext cx="2087640" cy="1729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"/>
          <p:cNvPicPr/>
          <p:nvPr/>
        </p:nvPicPr>
        <p:blipFill>
          <a:blip r:embed="rId5"/>
          <a:stretch/>
        </p:blipFill>
        <p:spPr>
          <a:xfrm>
            <a:off x="5364000" y="2997360"/>
            <a:ext cx="2638440" cy="14284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9" descr=""/>
          <p:cNvPicPr/>
          <p:nvPr/>
        </p:nvPicPr>
        <p:blipFill>
          <a:blip r:embed="rId6"/>
          <a:stretch/>
        </p:blipFill>
        <p:spPr>
          <a:xfrm>
            <a:off x="7236000" y="148428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99"/>
                </a:solidFill>
                <a:latin typeface="Times New Roman"/>
              </a:rPr>
              <a:t>Сенсорная комната в условиях ДОУ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4103640" cy="4619520"/>
          </a:xfrm>
          <a:prstGeom prst="rect">
            <a:avLst/>
          </a:prstGeom>
          <a:gradFill rotWithShape="0">
            <a:gsLst>
              <a:gs pos="0">
                <a:srgbClr val="00ff00">
                  <a:alpha val="44313"/>
                </a:srgbClr>
              </a:gs>
              <a:gs pos="100000">
                <a:srgbClr val="3333cc">
                  <a:alpha val="14117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99"/>
                </a:solidFill>
                <a:latin typeface="Times New Roman"/>
              </a:rPr>
              <a:t>Задачи: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снятие мышечного и психоэмоционального напряжения,  привести к состоянию релаксации и душевного равновесия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активизация различных функций нервной системы за счет создания обогащенной мультисенсорной среды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стимуляция ослабленных сенсорных функций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развитие двигательных функций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создание положительного эмоционального фона, повышение мотивации к проведению других занятий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48360" y="2017800"/>
            <a:ext cx="3744720" cy="4651200"/>
          </a:xfrm>
          <a:prstGeom prst="rect">
            <a:avLst/>
          </a:prstGeom>
          <a:gradFill rotWithShape="0">
            <a:gsLst>
              <a:gs pos="0">
                <a:srgbClr val="00ff00">
                  <a:alpha val="40000"/>
                </a:srgbClr>
              </a:gs>
              <a:gs pos="100000">
                <a:srgbClr val="3333cc">
                  <a:alpha val="40000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99"/>
                </a:solidFill>
                <a:latin typeface="Times New Roman"/>
              </a:rPr>
              <a:t>Компоненты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Мягкая среда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Зрительная среда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Акустическая среда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Тактильно-кинестетическая среда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Воздушная среда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84360"/>
          </a:xfrm>
          <a:prstGeom prst="rect">
            <a:avLst/>
          </a:prstGeom>
          <a:gradFill rotWithShape="0">
            <a:gsLst>
              <a:gs pos="0">
                <a:srgbClr val="339966">
                  <a:alpha val="60392"/>
                </a:srgbClr>
              </a:gs>
              <a:gs pos="100000">
                <a:srgbClr val="baddcb">
                  <a:alpha val="40000"/>
                </a:srgbClr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Сенсорная комната в условиях ДОУ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3" name="Picture 3" descr=""/>
          <p:cNvPicPr/>
          <p:nvPr/>
        </p:nvPicPr>
        <p:blipFill>
          <a:blip r:embed="rId1"/>
          <a:stretch/>
        </p:blipFill>
        <p:spPr>
          <a:xfrm>
            <a:off x="6516720" y="836640"/>
            <a:ext cx="2376360" cy="18716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"/>
          <p:cNvPicPr/>
          <p:nvPr/>
        </p:nvPicPr>
        <p:blipFill>
          <a:blip r:embed="rId2"/>
          <a:stretch/>
        </p:blipFill>
        <p:spPr>
          <a:xfrm>
            <a:off x="3564000" y="2924280"/>
            <a:ext cx="2448000" cy="1861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"/>
          <p:cNvPicPr/>
          <p:nvPr/>
        </p:nvPicPr>
        <p:blipFill>
          <a:blip r:embed="rId3"/>
          <a:stretch/>
        </p:blipFill>
        <p:spPr>
          <a:xfrm>
            <a:off x="5867280" y="5157720"/>
            <a:ext cx="3025800" cy="14288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"/>
          <p:cNvPicPr/>
          <p:nvPr/>
        </p:nvPicPr>
        <p:blipFill>
          <a:blip r:embed="rId4"/>
          <a:stretch/>
        </p:blipFill>
        <p:spPr>
          <a:xfrm>
            <a:off x="468360" y="3068640"/>
            <a:ext cx="2521080" cy="14288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"/>
          <p:cNvPicPr/>
          <p:nvPr/>
        </p:nvPicPr>
        <p:blipFill>
          <a:blip r:embed="rId5"/>
          <a:stretch/>
        </p:blipFill>
        <p:spPr>
          <a:xfrm>
            <a:off x="324000" y="486900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" descr=""/>
          <p:cNvPicPr/>
          <p:nvPr/>
        </p:nvPicPr>
        <p:blipFill>
          <a:blip r:embed="rId6"/>
          <a:stretch/>
        </p:blipFill>
        <p:spPr>
          <a:xfrm>
            <a:off x="4067280" y="1268280"/>
            <a:ext cx="2162160" cy="14288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9" descr=""/>
          <p:cNvPicPr/>
          <p:nvPr/>
        </p:nvPicPr>
        <p:blipFill>
          <a:blip r:embed="rId7"/>
          <a:stretch/>
        </p:blipFill>
        <p:spPr>
          <a:xfrm>
            <a:off x="0" y="981000"/>
            <a:ext cx="3672000" cy="17287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" descr=""/>
          <p:cNvPicPr/>
          <p:nvPr/>
        </p:nvPicPr>
        <p:blipFill>
          <a:blip r:embed="rId8"/>
          <a:stretch/>
        </p:blipFill>
        <p:spPr>
          <a:xfrm>
            <a:off x="2340000" y="5013360"/>
            <a:ext cx="2735280" cy="14288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1" descr=""/>
          <p:cNvPicPr/>
          <p:nvPr/>
        </p:nvPicPr>
        <p:blipFill>
          <a:blip r:embed="rId9"/>
          <a:stretch/>
        </p:blipFill>
        <p:spPr>
          <a:xfrm>
            <a:off x="6300720" y="3284640"/>
            <a:ext cx="26179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gradFill rotWithShape="0">
            <a:gsLst>
              <a:gs pos="0">
                <a:srgbClr val="ff9900">
                  <a:alpha val="40000"/>
                </a:srgbClr>
              </a:gs>
              <a:gs pos="100000">
                <a:srgbClr val="ffdda9">
                  <a:alpha val="40000"/>
                </a:srgbClr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Особенности организации образовательной  деятельности с детьми с ОВЗ в ДОУ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1844280"/>
            <a:ext cx="7772400" cy="4824360"/>
          </a:xfrm>
          <a:prstGeom prst="rect">
            <a:avLst/>
          </a:prstGeom>
          <a:gradFill rotWithShape="0">
            <a:gsLst>
              <a:gs pos="0">
                <a:srgbClr val="ff9900">
                  <a:alpha val="20000"/>
                </a:srgbClr>
              </a:gs>
              <a:gs pos="100000">
                <a:srgbClr val="ff0000">
                  <a:alpha val="40000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специальное обучение ребенка с ОВЗ начинают сразу же после выявления первичного (сочетания первичных) нарушения развития;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в содержание обучения ребенка вводятся специальные разделы (коррекционные), не присутствующие в программах образования нормально развивающихся сверстников; коррекционная направленность работы  пронизывает весь восп-обр. процесс в ДОУ и дом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в работе с детьми используются специальные методы, приемы и средства обучения (в том числе специализированные компьютерные технологии), обеспечивающие реализацию «обходных путей» обучения, воспитания и развити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основные подходы к ребенку с ОВЗ – индивидуализация   процесса обучения;  гибкость  пространственной и временной организации образовательной среды (в большей степени, чем требуется для нормально развивающегося ребенка)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Коррекционно-развивающие технологии в работе с дошкольниками с ОВЗ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75" name="Diagram 7"/>
          <p:cNvGrpSpPr/>
          <p:nvPr/>
        </p:nvGrpSpPr>
        <p:grpSpPr>
          <a:xfrm>
            <a:off x="2266560" y="2343960"/>
            <a:ext cx="4284360" cy="4145040"/>
            <a:chOff x="2266560" y="2343960"/>
            <a:chExt cx="4284360" cy="4145040"/>
          </a:xfrm>
        </p:grpSpPr>
        <p:sp>
          <p:nvSpPr>
            <p:cNvPr id="276" name="_s6148"/>
            <p:cNvSpPr/>
            <p:nvPr/>
          </p:nvSpPr>
          <p:spPr>
            <a:xfrm>
              <a:off x="2951640" y="2343960"/>
              <a:ext cx="2914560" cy="2819880"/>
            </a:xfrm>
            <a:custGeom>
              <a:avLst/>
              <a:gdLst>
                <a:gd name="textAreaLeft" fmla="*/ 0 w 2914560"/>
                <a:gd name="textAreaRight" fmla="*/ 2914560 w 2914560"/>
                <a:gd name="textAreaTop" fmla="*/ 0 h 2819880"/>
                <a:gd name="textAreaBottom" fmla="*/ 2820240 h 281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_s6149"/>
            <p:cNvSpPr/>
            <p:nvPr/>
          </p:nvSpPr>
          <p:spPr>
            <a:xfrm rot="5400000">
              <a:off x="3683520" y="2959200"/>
              <a:ext cx="2819880" cy="2914560"/>
            </a:xfrm>
            <a:custGeom>
              <a:avLst/>
              <a:gdLst>
                <a:gd name="textAreaLeft" fmla="*/ 0 w 2819880"/>
                <a:gd name="textAreaRight" fmla="*/ 2820240 w 2819880"/>
                <a:gd name="textAreaTop" fmla="*/ 0 h 2914560"/>
                <a:gd name="textAreaBottom" fmla="*/ 2914560 h 291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_s6150"/>
            <p:cNvSpPr/>
            <p:nvPr/>
          </p:nvSpPr>
          <p:spPr>
            <a:xfrm rot="10800000">
              <a:off x="2951640" y="3669120"/>
              <a:ext cx="2914560" cy="2819880"/>
            </a:xfrm>
            <a:custGeom>
              <a:avLst/>
              <a:gdLst>
                <a:gd name="textAreaLeft" fmla="*/ 0 w 2914560"/>
                <a:gd name="textAreaRight" fmla="*/ 2914560 w 2914560"/>
                <a:gd name="textAreaTop" fmla="*/ 0 h 2819880"/>
                <a:gd name="textAreaBottom" fmla="*/ 2820240 h 281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" name="_s6151"/>
            <p:cNvSpPr/>
            <p:nvPr/>
          </p:nvSpPr>
          <p:spPr>
            <a:xfrm rot="16200000">
              <a:off x="2313720" y="2958840"/>
              <a:ext cx="2819880" cy="2914560"/>
            </a:xfrm>
            <a:custGeom>
              <a:avLst/>
              <a:gdLst>
                <a:gd name="textAreaLeft" fmla="*/ 0 w 2819880"/>
                <a:gd name="textAreaRight" fmla="*/ 2820240 w 2819880"/>
                <a:gd name="textAreaTop" fmla="*/ 0 h 2914560"/>
                <a:gd name="textAreaBottom" fmla="*/ 2914560 h 291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" name="_s6152"/>
            <p:cNvSpPr/>
            <p:nvPr/>
          </p:nvSpPr>
          <p:spPr>
            <a:xfrm>
              <a:off x="5185440" y="2602440"/>
              <a:ext cx="1098360" cy="10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               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Психогимнастика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_s6153"/>
            <p:cNvSpPr/>
            <p:nvPr/>
          </p:nvSpPr>
          <p:spPr>
            <a:xfrm>
              <a:off x="5187240" y="5168160"/>
              <a:ext cx="1098360" cy="10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Театрализация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_s6154"/>
            <p:cNvSpPr/>
            <p:nvPr/>
          </p:nvSpPr>
          <p:spPr>
            <a:xfrm>
              <a:off x="2534040" y="2604600"/>
              <a:ext cx="1098360" cy="10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Арттерапия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(пескотерапия, цветотерапия,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сказкотерапия, изотерапия, имаготерапия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_s6155"/>
            <p:cNvSpPr/>
            <p:nvPr/>
          </p:nvSpPr>
          <p:spPr>
            <a:xfrm>
              <a:off x="2535840" y="5169960"/>
              <a:ext cx="1098360" cy="10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Технология музыкального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воздействия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765000"/>
            <a:ext cx="7792920" cy="911520"/>
          </a:xfrm>
          <a:prstGeom prst="rect">
            <a:avLst/>
          </a:prstGeom>
          <a:gradFill rotWithShape="0">
            <a:gsLst>
              <a:gs pos="0">
                <a:srgbClr val="00e4a8">
                  <a:alpha val="40000"/>
                </a:srgbClr>
              </a:gs>
              <a:gs pos="100000">
                <a:srgbClr val="00c591">
                  <a:alpha val="60392"/>
                </a:srgbClr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Дети с ограниченными возможностями здоровь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gradFill rotWithShape="0">
            <a:gsLst>
              <a:gs pos="0">
                <a:srgbClr val="00e4a8">
                  <a:alpha val="60392"/>
                </a:srgbClr>
              </a:gs>
              <a:gs pos="100000">
                <a:srgbClr val="ffffff">
                  <a:alpha val="40000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Times New Roman"/>
              </a:rPr>
              <a:t> </a:t>
            </a:r>
            <a:r>
              <a:rPr b="1" lang="ru-RU" sz="2000" spc="-1" strike="noStrike" u="sng">
                <a:solidFill>
                  <a:srgbClr val="333399"/>
                </a:solidFill>
                <a:uFillTx/>
                <a:latin typeface="Times New Roman"/>
              </a:rPr>
              <a:t>Дети с ОВЗ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ети, состояние здоровья которых препятствует освоению образовательных программ общего образования вне специальных условий обучения и воспитания, т. е. это дети-инвалиды либо другие дети в возрасте до 18 лет, не признанные в установленном порядке детьми-инвалидами, но имеющие временные или постоянные отклонения в физическом и (или) психическом развитии и нуждающиеся в создании специальных условий обучения и воспитан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gradFill rotWithShape="0">
            <a:gsLst>
              <a:gs pos="0">
                <a:srgbClr val="00e4a8">
                  <a:alpha val="60392"/>
                </a:srgbClr>
              </a:gs>
              <a:gs pos="100000">
                <a:srgbClr val="ffffff">
                  <a:alpha val="40000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Times New Roman"/>
              </a:rPr>
              <a:t>К сложным (сочетанным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арушениям относятся такие, которые представлены несколькими первичными нарушениям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четание всех составных элементов комплексного нарушения - это сложная  структура комплексного нарушения, в которой каждое составляющее не существует само по себе, а оказывает влияние друг на друга, усугубляя их проявлени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4033800" cy="6337440"/>
          </a:xfrm>
          <a:prstGeom prst="rect">
            <a:avLst/>
          </a:prstGeom>
          <a:gradFill rotWithShape="0">
            <a:gsLst>
              <a:gs pos="0">
                <a:srgbClr val="ff0000">
                  <a:alpha val="40000"/>
                </a:srgbClr>
              </a:gs>
              <a:gs pos="100000">
                <a:srgbClr val="ffcf01">
                  <a:alpha val="40000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 способу передачи информации выделяют методы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-Нагляд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-Словес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-Практическ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1640" y="333360"/>
            <a:ext cx="4383000" cy="6120000"/>
          </a:xfrm>
          <a:prstGeom prst="rect">
            <a:avLst/>
          </a:prstGeom>
          <a:gradFill rotWithShape="0">
            <a:gsLst>
              <a:gs pos="0">
                <a:srgbClr val="ffcf01">
                  <a:alpha val="60392"/>
                </a:srgbClr>
              </a:gs>
              <a:gs pos="100000">
                <a:srgbClr val="cc66ff">
                  <a:alpha val="60392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овременные развивающие методы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-Информационно-репродуктив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-Частично-поисков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-Исследовательск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AutoShape 11"/>
          <p:cNvSpPr/>
          <p:nvPr/>
        </p:nvSpPr>
        <p:spPr>
          <a:xfrm rot="1029000">
            <a:off x="3131640" y="19159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dc08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AutoShape 13"/>
          <p:cNvSpPr/>
          <p:nvPr/>
        </p:nvSpPr>
        <p:spPr>
          <a:xfrm rot="19821600">
            <a:off x="5219640" y="18442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Times New Roman"/>
              </a:rPr>
              <a:t>Организация и содержание работы с родителями (законными представителями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39280" y="1557000"/>
            <a:ext cx="4038840" cy="2539800"/>
          </a:xfrm>
          <a:prstGeom prst="rect">
            <a:avLst/>
          </a:prstGeom>
          <a:gradFill rotWithShape="0">
            <a:gsLst>
              <a:gs pos="0">
                <a:srgbClr val="a9f6e2">
                  <a:alpha val="40000"/>
                </a:srgbClr>
              </a:gs>
              <a:gs pos="100000">
                <a:srgbClr val="00e4a8">
                  <a:alpha val="60392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99"/>
                </a:solidFill>
                <a:uFillTx/>
                <a:latin typeface="Times New Roman"/>
              </a:rPr>
              <a:t>Цель: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создание необходимых ответственных и взаимозависимых отношений с семьями воспитанников, обеспечивающих воспитание, образование и развитие воспитанников, а т.ж. обеспечения необходимой коррекции недостатков развития и пр.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09120" y="4365360"/>
            <a:ext cx="3962520" cy="2492280"/>
          </a:xfrm>
          <a:prstGeom prst="rect">
            <a:avLst/>
          </a:prstGeom>
          <a:gradFill rotWithShape="0">
            <a:gsLst>
              <a:gs pos="0">
                <a:srgbClr val="ffcf01">
                  <a:alpha val="40000"/>
                </a:srgbClr>
              </a:gs>
              <a:gs pos="100000">
                <a:srgbClr val="dcb301">
                  <a:alpha val="20000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99"/>
                </a:solidFill>
                <a:uFillTx/>
                <a:latin typeface="Times New Roman"/>
              </a:rPr>
              <a:t>Направления работы с родителями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Планирование работы с семьями воспитанников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Педагогическое просвещение родителей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Совместное творчество детей, родителей и педагогов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1" name="Rectangle 5"/>
          <p:cNvGrpSpPr/>
          <p:nvPr/>
        </p:nvGrpSpPr>
        <p:grpSpPr>
          <a:xfrm>
            <a:off x="4784760" y="1341360"/>
            <a:ext cx="4110120" cy="5516640"/>
            <a:chOff x="4784760" y="1341360"/>
            <a:chExt cx="4110120" cy="5516640"/>
          </a:xfrm>
        </p:grpSpPr>
        <p:pic>
          <p:nvPicPr>
            <p:cNvPr id="292" name="Rectangle 5" descr=""/>
            <p:cNvPicPr/>
            <p:nvPr/>
          </p:nvPicPr>
          <p:blipFill>
            <a:blip r:embed="rId1"/>
            <a:stretch/>
          </p:blipFill>
          <p:spPr>
            <a:xfrm>
              <a:off x="4784760" y="1341360"/>
              <a:ext cx="4110120" cy="551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4788000" y="1341360"/>
              <a:ext cx="4105080" cy="551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u="sng">
                  <a:solidFill>
                    <a:srgbClr val="333399"/>
                  </a:solidFill>
                  <a:uFillTx/>
                  <a:latin typeface="Times New Roman"/>
                </a:rPr>
                <a:t>Задачи работы с семьями воспитанников:</a:t>
              </a:r>
              <a:r>
                <a:rPr b="1" lang="ru-RU" sz="16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33399"/>
                  </a:solidFill>
                  <a:latin typeface="Times New Roman"/>
                </a:rPr>
                <a:t>Установление ответственных взаимозависимых отношений с семьями воспитанников ДОУ.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33399"/>
                  </a:solidFill>
                  <a:latin typeface="Times New Roman"/>
                </a:rPr>
                <a:t>Объединение усилий для воспитания, образования, развития и коррекции детей дошкольного возраста.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33399"/>
                  </a:solidFill>
                  <a:latin typeface="Times New Roman"/>
                </a:rPr>
                <a:t>Создание атмосферы взаимопонимания, общности интересов, эмоциональной поддержки воспитанников с нарушением интеллекта.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33399"/>
                  </a:solidFill>
                  <a:latin typeface="Times New Roman"/>
                </a:rPr>
                <a:t>Активизация и обогащение педагогических умений родителей в сфере воспитания, обучения,  развития и коррекции детей дошкольного возраста.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33399"/>
                  </a:solidFill>
                  <a:latin typeface="Times New Roman"/>
                </a:rPr>
                <a:t>Поддержка уверенности в собственных педагогических возможностях</a:t>
              </a:r>
              <a:r>
                <a:rPr b="0" lang="ru-RU" sz="1600" spc="-1" strike="noStrike">
                  <a:solidFill>
                    <a:srgbClr val="ff00ff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Отличительные особенности работы образовательных учреждений с воспитанниками с ОВЗ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42920" y="2017800"/>
            <a:ext cx="7912080" cy="4579920"/>
          </a:xfrm>
          <a:prstGeom prst="rect">
            <a:avLst/>
          </a:prstGeom>
          <a:gradFill rotWithShape="0">
            <a:gsLst>
              <a:gs pos="0">
                <a:srgbClr val="00e4a8">
                  <a:alpha val="40000"/>
                </a:srgbClr>
              </a:gs>
              <a:gs pos="100000">
                <a:srgbClr val="cc66ff">
                  <a:alpha val="20000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Учет общих и специальных проявлений развития детей с ОВЗ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00"/>
                </a:solidFill>
                <a:latin typeface="Times New Roman"/>
              </a:rPr>
              <a:t>Опора на сохранные возмож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Модификация содержания образования в соответствии с особыми потребностями дет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00"/>
                </a:solidFill>
                <a:latin typeface="Times New Roman"/>
              </a:rPr>
              <a:t>Дифференцированный подход к детям, применение специальных методов, приемов рабо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Работа команды специалист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00"/>
                </a:solidFill>
                <a:latin typeface="Times New Roman"/>
              </a:rPr>
              <a:t>Создание соответствующих санитарно-гигиенических услов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Создание предметно-пространственной коррекционно-развивающей среды (полисенсорной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66"/>
                </a:solidFill>
                <a:latin typeface="Times New Roman"/>
              </a:rPr>
              <a:t>Всесторонняя подготовка к жизни в современном обществ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gradFill rotWithShape="0">
            <a:gsLst>
              <a:gs pos="0">
                <a:srgbClr val="3333cc">
                  <a:alpha val="40000"/>
                </a:srgbClr>
              </a:gs>
              <a:gs pos="50000">
                <a:srgbClr val="ffffff">
                  <a:alpha val="40000"/>
                </a:srgbClr>
              </a:gs>
              <a:gs pos="100000">
                <a:srgbClr val="3333cc">
                  <a:alpha val="40000"/>
                </a:srgbClr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imes New Roman"/>
              </a:rPr>
              <a:t>Литератур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70640" cy="5084640"/>
          </a:xfrm>
          <a:prstGeom prst="rect">
            <a:avLst/>
          </a:prstGeom>
          <a:gradFill rotWithShape="0">
            <a:gsLst>
              <a:gs pos="0">
                <a:srgbClr val="3333cc">
                  <a:alpha val="20000"/>
                </a:srgbClr>
              </a:gs>
              <a:gs pos="50000">
                <a:srgbClr val="ffffff">
                  <a:alpha val="20000"/>
                </a:srgbClr>
              </a:gs>
              <a:gs pos="100000">
                <a:srgbClr val="3333cc">
                  <a:alpha val="20000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.В.Верещагина Особый ребенок в детском саду М.:Детство –Пресс, 2009 год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оловчиц, Л. А. Организация групп для детей со сложными (комплексными) нарушениями развития в дошкольных образовательных учреждениях  / Л. А. Головчиц, В. З. Денискина, А. В. Кроткова [и др.] // Воспитание и обучение детей с нарушениями развития. – 2013. – № 1. – С. 11–1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оловчиц, Л. А. Совершенствование форм коррекционно-педагогической помощи детям дошкольного возраста с комплексными нарушениями развития  / Л. А. Головчиц // Дефектология. – 2012. – № 6. – С. 25–3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онстантинова, И. С. Коррекционно-развивающие музыкальные занятия с детьми, имеющими множественные нарушения развития: активизирующий эффект и его роль в развитии ребёнка  И. С. Константинова // Дефектология. – 2011. – № 2. – С. 52–61.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аксимова, М. В. Формирование познавательного интереса у детей дошкольного возраста с комплексными нарушениями развития  / М. В. Максимова // Воспитание и обучение детей с нарушениями развития. – 2011. – № 8. – С. 45–51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Чулков В. Н. Развитие и образование детей со сложными нарушениями развития // Специальная педагогика / под ред. Н. М. Назаровой. М., 2001. С. 332-345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Diagram 6"/>
          <p:cNvGrpSpPr/>
          <p:nvPr/>
        </p:nvGrpSpPr>
        <p:grpSpPr>
          <a:xfrm>
            <a:off x="1397880" y="171720"/>
            <a:ext cx="6349680" cy="6046200"/>
            <a:chOff x="1397880" y="171720"/>
            <a:chExt cx="6349680" cy="6046200"/>
          </a:xfrm>
        </p:grpSpPr>
        <p:sp>
          <p:nvSpPr>
            <p:cNvPr id="107" name="_s1028"/>
            <p:cNvSpPr/>
            <p:nvPr/>
          </p:nvSpPr>
          <p:spPr>
            <a:xfrm flipH="1" flipV="1">
              <a:off x="3000600" y="2924640"/>
              <a:ext cx="787320" cy="25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_s1029"/>
            <p:cNvSpPr/>
            <p:nvPr/>
          </p:nvSpPr>
          <p:spPr>
            <a:xfrm>
              <a:off x="1397880" y="1860840"/>
              <a:ext cx="1648080" cy="162828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Один дефект имеет генетическое,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другой экзогенное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происхождение</a:t>
              </a: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_s1030"/>
            <p:cNvSpPr/>
            <p:nvPr/>
          </p:nvSpPr>
          <p:spPr>
            <a:xfrm flipH="1">
              <a:off x="3602160" y="4084560"/>
              <a:ext cx="485280" cy="661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_s1031"/>
            <p:cNvSpPr/>
            <p:nvPr/>
          </p:nvSpPr>
          <p:spPr>
            <a:xfrm>
              <a:off x="2295360" y="4589640"/>
              <a:ext cx="1648080" cy="162828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Оба нарушения представляют собой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разные проявления одного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и того же наследственного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синдрома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_s1032"/>
            <p:cNvSpPr/>
            <p:nvPr/>
          </p:nvSpPr>
          <p:spPr>
            <a:xfrm>
              <a:off x="5054400" y="4084560"/>
              <a:ext cx="487080" cy="66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_s1033"/>
            <p:cNvSpPr/>
            <p:nvPr/>
          </p:nvSpPr>
          <p:spPr>
            <a:xfrm>
              <a:off x="5201640" y="4589640"/>
              <a:ext cx="1648080" cy="1628280"/>
            </a:xfrm>
            <a:prstGeom prst="ellipse">
              <a:avLst/>
            </a:prstGeom>
            <a:solidFill>
              <a:srgbClr val="00e4a8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Дефекты обусловлены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одним экзогенным фактором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_s1034"/>
            <p:cNvSpPr/>
            <p:nvPr/>
          </p:nvSpPr>
          <p:spPr>
            <a:xfrm flipV="1">
              <a:off x="5352840" y="2922480"/>
              <a:ext cx="785880" cy="25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_s1035"/>
            <p:cNvSpPr/>
            <p:nvPr/>
          </p:nvSpPr>
          <p:spPr>
            <a:xfrm>
              <a:off x="6099480" y="1858680"/>
              <a:ext cx="1648080" cy="1628280"/>
            </a:xfrm>
            <a:prstGeom prst="ellipse">
              <a:avLst/>
            </a:prstGeom>
            <a:gradFill rotWithShape="0">
              <a:gsLst>
                <a:gs pos="0">
                  <a:srgbClr val="3333cc">
                    <a:alpha val="40000"/>
                  </a:srgbClr>
                </a:gs>
                <a:gs pos="100000">
                  <a:srgbClr val="ffffff">
                    <a:alpha val="6039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Каждый дефект обусловлен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экзогенными факторами,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независящими друг от друга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_s1036"/>
            <p:cNvSpPr/>
            <p:nvPr/>
          </p:nvSpPr>
          <p:spPr>
            <a:xfrm flipV="1">
              <a:off x="4570920" y="1797840"/>
              <a:ext cx="0" cy="81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_s1037"/>
            <p:cNvSpPr/>
            <p:nvPr/>
          </p:nvSpPr>
          <p:spPr>
            <a:xfrm>
              <a:off x="3747600" y="171720"/>
              <a:ext cx="1648080" cy="1627920"/>
            </a:xfrm>
            <a:prstGeom prst="ellipse">
              <a:avLst/>
            </a:prstGeom>
            <a:gradFill rotWithShape="0">
              <a:gsLst>
                <a:gs pos="0">
                  <a:srgbClr val="db8300">
                    <a:alpha val="60392"/>
                  </a:srgbClr>
                </a:gs>
                <a:gs pos="50000">
                  <a:srgbClr val="ff9900">
                    <a:alpha val="40000"/>
                  </a:srgbClr>
                </a:gs>
                <a:gs pos="100000">
                  <a:srgbClr val="db8300">
                    <a:alpha val="6039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Оба дефекта обусловлены разными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генетическими факторами,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независящими друг от друга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_s1038"/>
            <p:cNvSpPr/>
            <p:nvPr/>
          </p:nvSpPr>
          <p:spPr>
            <a:xfrm>
              <a:off x="3747600" y="2614680"/>
              <a:ext cx="1648080" cy="1628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Этиология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сочетанных нарушений</a:t>
              </a: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Organization Chart 6"/>
          <p:cNvGrpSpPr/>
          <p:nvPr/>
        </p:nvGrpSpPr>
        <p:grpSpPr>
          <a:xfrm>
            <a:off x="0" y="0"/>
            <a:ext cx="9143280" cy="6856200"/>
            <a:chOff x="0" y="0"/>
            <a:chExt cx="9143280" cy="6856200"/>
          </a:xfrm>
        </p:grpSpPr>
        <p:cxnSp>
          <p:nvCxnSpPr>
            <p:cNvPr id="119" name="_s2052"/>
            <p:cNvCxnSpPr>
              <a:stCxn id="120" idx="0"/>
              <a:endCxn id="121" idx="2"/>
            </p:cNvCxnSpPr>
            <p:nvPr/>
          </p:nvCxnSpPr>
          <p:spPr>
            <a:xfrm flipV="1" rot="16200000">
              <a:off x="5485320" y="1827360"/>
              <a:ext cx="1371960" cy="3200760"/>
            </a:xfrm>
            <a:prstGeom prst="bentConnector3">
              <a:avLst>
                <a:gd name="adj1" fmla="val 1391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2053"/>
            <p:cNvCxnSpPr>
              <a:stCxn id="123" idx="0"/>
              <a:endCxn id="121" idx="2"/>
            </p:cNvCxnSpPr>
            <p:nvPr/>
          </p:nvCxnSpPr>
          <p:spPr>
            <a:xfrm flipV="1">
              <a:off x="4571280" y="2741760"/>
              <a:ext cx="3240" cy="1371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2054"/>
            <p:cNvCxnSpPr>
              <a:stCxn id="125" idx="0"/>
              <a:endCxn id="121" idx="2"/>
            </p:cNvCxnSpPr>
            <p:nvPr/>
          </p:nvCxnSpPr>
          <p:spPr>
            <a:xfrm flipH="1" flipV="1" rot="5400000">
              <a:off x="2285280" y="1827360"/>
              <a:ext cx="1371960" cy="3200760"/>
            </a:xfrm>
            <a:prstGeom prst="bentConnector3">
              <a:avLst>
                <a:gd name="adj1" fmla="val 1391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1" name="_s2055"/>
            <p:cNvSpPr/>
            <p:nvPr/>
          </p:nvSpPr>
          <p:spPr>
            <a:xfrm>
              <a:off x="3200040" y="0"/>
              <a:ext cx="2742840" cy="2742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00">
                    <a:alpha val="60392"/>
                  </a:srgbClr>
                </a:gs>
                <a:gs pos="100000">
                  <a:srgbClr val="fe4242">
                    <a:alpha val="6039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КЛАССИФИКАЦИЯ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Дети с сочетанными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нарушениями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в развитии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_s2056"/>
            <p:cNvSpPr/>
            <p:nvPr/>
          </p:nvSpPr>
          <p:spPr>
            <a:xfrm>
              <a:off x="0" y="4113720"/>
              <a:ext cx="2742840" cy="2742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e4a8">
                    <a:alpha val="80392"/>
                  </a:srgbClr>
                </a:gs>
                <a:gs pos="100000">
                  <a:srgbClr val="00c390">
                    <a:alpha val="6039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Дети с двумя выраженными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психофизическими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нарушениями, каждое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из которых может вызвать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аномалии в развитии: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слепоглухонемые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умственно отсталые глухие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слепые с ЗПР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_s2057"/>
            <p:cNvSpPr/>
            <p:nvPr/>
          </p:nvSpPr>
          <p:spPr>
            <a:xfrm>
              <a:off x="3200040" y="4113720"/>
              <a:ext cx="2742840" cy="2742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66ff">
                    <a:alpha val="60392"/>
                  </a:srgbClr>
                </a:gs>
                <a:gs pos="100000">
                  <a:srgbClr val="af57db">
                    <a:alpha val="6039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Дети имеющие одно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существенное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психофизическое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нарушение и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сопутствующее ему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другое,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выраженное в меньшей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степени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«осложненный » дефект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_s2058"/>
            <p:cNvSpPr/>
            <p:nvPr/>
          </p:nvSpPr>
          <p:spPr>
            <a:xfrm>
              <a:off x="6400440" y="4113720"/>
              <a:ext cx="2742840" cy="2742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00">
                    <a:alpha val="60392"/>
                  </a:srgbClr>
                </a:gs>
                <a:gs pos="100000">
                  <a:srgbClr val="db8300">
                    <a:alpha val="6039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Дети с множественными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нарушениями (три и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олее первичных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нарушений,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выраженных в разной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степени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умственно отсталые,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слабовидящие,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лухие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182600" y="2492280"/>
            <a:ext cx="7772400" cy="36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пределить сложный (сочетанный) дефект как сочетание нескольких нарушений различных неодинаково выраженных функци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66"/>
                </a:solidFill>
                <a:latin typeface="Times New Roman"/>
              </a:rPr>
              <a:t>определить степень нарушения каждой функции и  выделить ведущий дефект, оказывающий наибольшее влияние на развитие ребенк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уточнить время возникновения нарушений — врожденные или приобретенные в определенном возрасте (одновременно или в разное время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1763640" y="692280"/>
            <a:ext cx="6408720" cy="1562040"/>
          </a:xfrm>
          <a:prstGeom prst="downArrowCallout">
            <a:avLst>
              <a:gd name="adj1" fmla="val 102579"/>
              <a:gd name="adj2" fmla="val 102570"/>
              <a:gd name="adj3" fmla="val 16667"/>
              <a:gd name="adj4" fmla="val 66667"/>
            </a:avLst>
          </a:prstGeom>
          <a:gradFill rotWithShape="0">
            <a:gsLst>
              <a:gs pos="0">
                <a:srgbClr val="3333cc">
                  <a:alpha val="60392"/>
                </a:srgbClr>
              </a:gs>
              <a:gs pos="100000">
                <a:srgbClr val="00e4a8">
                  <a:alpha val="40000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сихолого-педагогическая координация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оррекционно-развивающег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роцесс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Rectangle 8"/>
          <p:cNvGrpSpPr/>
          <p:nvPr/>
        </p:nvGrpSpPr>
        <p:grpSpPr>
          <a:xfrm>
            <a:off x="1152360" y="212760"/>
            <a:ext cx="7790040" cy="1463760"/>
            <a:chOff x="1152360" y="212760"/>
            <a:chExt cx="7790040" cy="1463760"/>
          </a:xfrm>
        </p:grpSpPr>
        <p:pic>
          <p:nvPicPr>
            <p:cNvPr id="129" name="Rectangle 8" descr=""/>
            <p:cNvPicPr/>
            <p:nvPr/>
          </p:nvPicPr>
          <p:blipFill>
            <a:blip r:embed="rId1"/>
            <a:stretch/>
          </p:blipFill>
          <p:spPr>
            <a:xfrm>
              <a:off x="1153440" y="212760"/>
              <a:ext cx="7787160" cy="14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152360" y="214200"/>
              <a:ext cx="7790040" cy="14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333399"/>
                  </a:solidFill>
                  <a:latin typeface="Times New Roman"/>
                </a:rPr>
                <a:t>Виды образовательных учреждений для дошкольников с ОВЗ, имеющих сочетанные нарушения в развитии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84360" y="2017800"/>
            <a:ext cx="4308480" cy="4114800"/>
          </a:xfrm>
          <a:prstGeom prst="rect">
            <a:avLst/>
          </a:prstGeom>
          <a:gradFill rotWithShape="0">
            <a:gsLst>
              <a:gs pos="0">
                <a:srgbClr val="cc66ff">
                  <a:alpha val="40000"/>
                </a:srgbClr>
              </a:gs>
              <a:gs pos="100000">
                <a:srgbClr val="ffcf01">
                  <a:alpha val="40000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детские сады комбинированного вида, группы компенсирующей направленности для детей с сочетанными нарушениями в развитии (5 детей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детские сады компенсирующего вида, группы компенсирующей направленн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группы кратковременного пребывания в ДО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реабилитационные центр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«Лекотека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консультативные центры для семей, воспитывающих детей с сочетанными нарушениями в развит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gradFill rotWithShape="0">
            <a:gsLst>
              <a:gs pos="0">
                <a:srgbClr val="cc66ff">
                  <a:alpha val="40000"/>
                </a:srgbClr>
              </a:gs>
              <a:gs pos="100000">
                <a:srgbClr val="ffcf01">
                  <a:alpha val="20000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Центры поддержки детей с ОВЗ и их семей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ссоциация "Даун-синдром" (Москва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ентр лечебной педагогики (Москва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ентр психолого-педагогической реабилитации "Родник" (Москва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Школа святого Георгия (Москва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ечебно-педагогический центр (Псков) и др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285920"/>
          </a:xfrm>
          <a:prstGeom prst="rect">
            <a:avLst/>
          </a:prstGeom>
          <a:gradFill rotWithShape="0">
            <a:gsLst>
              <a:gs pos="0">
                <a:srgbClr val="ff0000">
                  <a:alpha val="0"/>
                </a:srgbClr>
              </a:gs>
              <a:gs pos="100000">
                <a:srgbClr val="cc66ff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Times New Roman"/>
              </a:rPr>
              <a:t>Цели </a:t>
            </a:r>
            <a:br>
              <a:rPr sz="2400"/>
            </a:br>
            <a:r>
              <a:rPr b="1" lang="ru-RU" sz="2400" spc="-1" strike="noStrike">
                <a:solidFill>
                  <a:srgbClr val="9933ff"/>
                </a:solidFill>
                <a:latin typeface="Times New Roman"/>
              </a:rPr>
              <a:t>ДОУ в работе с детьми с ограниченными возможностями здоровь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4" name="Rectangle 8"/>
          <p:cNvGrpSpPr/>
          <p:nvPr/>
        </p:nvGrpSpPr>
        <p:grpSpPr>
          <a:xfrm>
            <a:off x="609480" y="1847880"/>
            <a:ext cx="8345520" cy="4748040"/>
            <a:chOff x="609480" y="1847880"/>
            <a:chExt cx="8345520" cy="4748040"/>
          </a:xfrm>
        </p:grpSpPr>
        <p:pic>
          <p:nvPicPr>
            <p:cNvPr id="135" name="Rectangle 8" descr=""/>
            <p:cNvPicPr/>
            <p:nvPr/>
          </p:nvPicPr>
          <p:blipFill>
            <a:blip r:embed="rId1"/>
            <a:stretch/>
          </p:blipFill>
          <p:spPr>
            <a:xfrm>
              <a:off x="609480" y="1850760"/>
              <a:ext cx="8345520" cy="47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611280" y="1847880"/>
              <a:ext cx="8343720" cy="474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66ff"/>
                  </a:solidFill>
                  <a:latin typeface="Times New Roman"/>
                  <a:ea typeface="Times New Roman"/>
                </a:rPr>
                <a:t>дать ребенку с ОВЗ возможность реализовать право на  образование, вне зависимости от тяжести нарушения развития и возможностей,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6600"/>
                  </a:solidFill>
                  <a:latin typeface="Times New Roman"/>
                  <a:ea typeface="Times New Roman"/>
                </a:rPr>
                <a:t>создать оптимальные условия реализации индивидуального потенциала ребенка с ОВЗ в соответствии с его психофизиологическими особенностями;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66ff"/>
                  </a:solidFill>
                  <a:latin typeface="Times New Roman"/>
                  <a:ea typeface="Times New Roman"/>
                </a:rPr>
                <a:t>гарантировать ребенку удовлетворение общих с обычными детьми и особых образовательных потребностей,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6600"/>
                  </a:solidFill>
                  <a:latin typeface="Times New Roman"/>
                  <a:ea typeface="Times New Roman"/>
                </a:rPr>
                <a:t>обеспечить механизм взаимодействия общего и специального дошкольного образования в районе, области, РФ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00080"/>
          </a:xfrm>
          <a:prstGeom prst="rect">
            <a:avLst/>
          </a:prstGeom>
          <a:gradFill rotWithShape="0">
            <a:gsLst>
              <a:gs pos="0">
                <a:srgbClr val="996633">
                  <a:alpha val="20000"/>
                </a:srgbClr>
              </a:gs>
              <a:gs pos="100000">
                <a:srgbClr val="339966">
                  <a:alpha val="20000"/>
                </a:srgbClr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Специфические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задачи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работы ДОУ  с воспитанниками, имеющими сочетанные нарушения в развити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8" name="Rectangle 3"/>
          <p:cNvGrpSpPr/>
          <p:nvPr/>
        </p:nvGrpSpPr>
        <p:grpSpPr>
          <a:xfrm>
            <a:off x="682560" y="1773360"/>
            <a:ext cx="8461440" cy="5084640"/>
            <a:chOff x="682560" y="1773360"/>
            <a:chExt cx="8461440" cy="5084640"/>
          </a:xfrm>
        </p:grpSpPr>
        <p:pic>
          <p:nvPicPr>
            <p:cNvPr id="139" name="Rectangle 3" descr=""/>
            <p:cNvPicPr/>
            <p:nvPr/>
          </p:nvPicPr>
          <p:blipFill>
            <a:blip r:embed="rId1"/>
            <a:stretch/>
          </p:blipFill>
          <p:spPr>
            <a:xfrm>
              <a:off x="682560" y="1773360"/>
              <a:ext cx="8461440" cy="508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684360" y="1773360"/>
              <a:ext cx="8459640" cy="508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расширение сферы представлений детей с ОВЗ о ближнем и дальнем окружении, развитие познавательной и речевой  активности, любознательности,  стремления к самостоятельному поиску и  размышлению;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организация интеллектуального, речевого, эмоционально-волевого и личностного развития детей с учетом коррекции нарушений развития и индивидуальных особенностей;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организация развития разных видов деятельности детей с ОВЗ, их структурных компонентов (целеполагания, регуляции,  произвольности деятельности);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социальная адаптация воспитанников с ОВЗ - становление способности к сотрудничеству со взрослыми и детьми в игре и другой совместной деятельности;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обеспечение социальной защиты детей с нарушениями развития и предоставление им равных прав с нормально развивающимися детьми;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подготовка к школьному обучению и интеграция детей в общество окружающих сверстников и взрослых,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взаимодействие с семьями воспитанников для обеспечения полноценного развития ребенка, становления  как полноценного члена общества</a:t>
              </a:r>
              <a:r>
                <a:rPr b="1" lang="ru-RU" sz="1800" spc="-1" strike="noStrike">
                  <a:solidFill>
                    <a:srgbClr val="3333cc"/>
                  </a:solidFill>
                  <a:latin typeface="Tahoma"/>
                </a:rPr>
                <a:t>.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0T08:11:40Z</dcterms:created>
  <dc:creator>Дом</dc:creator>
  <dc:description/>
  <dc:language>en-US</dc:language>
  <cp:lastModifiedBy>Пользователь</cp:lastModifiedBy>
  <dcterms:modified xsi:type="dcterms:W3CDTF">2017-10-10T10:13:08Z</dcterms:modified>
  <cp:revision>18</cp:revision>
  <dc:subject/>
  <dc:title>УНО администрации городского округа города Бор МБДОУ детский сад №19 «Земляничка» комбинированного вида    Круглый стол на тему:  «Коррекционно-педагогическая помощь детям с ограниченными возможностями здоровья в условиях современного ДОУ»</dc:title>
</cp:coreProperties>
</file>