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E8C2-48EF-4B6F-9770-BBD1E2CE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DDC1-A681-4F4A-8F1C-3530D767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75D1-133E-4645-8222-15EEDF1F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5BE3-1C83-4396-83C9-7FA3A34B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651C-36FC-40B9-954E-A5032049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F85BE-A03E-4C88-95C3-C27F46F75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4BD9-F08A-4CE7-9962-A7134D85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D7570-DFD0-4507-A53A-95519B745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34E9-4C4F-4F5D-884D-7C0B5C7B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E0DE-307A-4D8D-AA3D-D44B25FC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09D5A-ACF1-4131-8F4E-213D59CA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5B87-A833-424C-BF75-CF0790CF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C83E-0451-4827-84ED-807654F6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6F8F-356D-4593-A567-F3D4BDDB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A39C-E833-44B9-ACFC-31E8E3FF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6B2C-04E5-4C1D-A065-21760402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A018-3249-4779-AA38-354C2C2FC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73B39-BAA6-4592-B3A1-B33E720A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C793F-4A83-4363-8646-8E82FB1E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8864C-DFF2-4071-BA44-AC90A2F2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9C9AC-7A99-4D5E-B93B-CFB6B150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294D-28E3-48BF-97CE-57F0E027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261-6AFB-447D-BCDE-7A1BAFD0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2E057-CF2F-454A-A26F-70E5113E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33C16-FCC3-4FD8-ABE8-5189752C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A0DE8-04AC-4544-9C1F-E7592EBC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0C78F-DBA0-4D2A-B0B9-902643A7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6C4CE-0C82-4FB5-86FB-A92AD52D7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C7215-29E9-43B2-83A3-7B4B656D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49B77-98BD-4E4D-985A-021655B37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166A8-6896-40E9-8413-41959D7D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DEA7A-AB6B-4868-9190-47CB2A03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32734-3CE9-4D1B-9EE6-25016D41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039-685B-448C-AA17-E7F60BBA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754C4-4E18-4877-8CD5-81B6A644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A38E1-FFB8-4804-80E5-1F6FC59D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7D1D4-F206-4BDF-AFAA-E11308AF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F4D9A-D0B0-4A94-BD9B-B43BA1335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4815B-C50C-4A6E-B1ED-CC943BC0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67416-FA79-40BB-A672-B9B03D43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D654C-B0EB-47C0-8A2B-12E799408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68E8D-84C2-42B8-88AE-CA992EAB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73F93-4B18-4A31-8000-B672AF2C3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FF1B-EC89-4175-B598-065404CD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012-8943-4949-9467-5DBB6A4D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0B0-62AD-43DA-8FFA-32C17FA11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AEE9-7E0C-46B2-B0AA-C7429DE9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262-1096-4986-A137-F949C1DB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28EC-36BF-4CC6-9C50-6897CB8D500A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CE54-CAB2-45DC-8D81-44E331701777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7001-E940-428B-857B-863A061B986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BB93-CE5C-4234-9AD7-65F6FE2A39C3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gif"/><Relationship Id="rId7" Type="http://schemas.openxmlformats.org/officeDocument/2006/relationships/image" Target="../media/image17.gif"/><Relationship Id="rId8" Type="http://schemas.openxmlformats.org/officeDocument/2006/relationships/image" Target="../media/image17.gif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zreni.ru/526-elektronnye-fizminutki-dlya-glaz-chast-2-galkina-inna-anatolevna.html" TargetMode="External"/><Relationship Id="rId2" Type="http://schemas.openxmlformats.org/officeDocument/2006/relationships/hyperlink" Target="http://www.3-porosenka.ru/off-line/catalogue/3298/s-14337.jpg" TargetMode="External"/><Relationship Id="rId3" Type="http://schemas.openxmlformats.org/officeDocument/2006/relationships/hyperlink" Target="http://www.rosfoto.ru/photos/big/0079000/079513_337.jpg" TargetMode="External"/><Relationship Id="rId4" Type="http://schemas.openxmlformats.org/officeDocument/2006/relationships/hyperlink" Target="http://zverushka.org.ua/images/Trixie/Dog_Trixie_31101.jpg" TargetMode="External"/><Relationship Id="rId5" Type="http://schemas.openxmlformats.org/officeDocument/2006/relationships/hyperlink" Target="http://foto-sobaki.narod.ru/images/foto-sobaki.narod.ru3311.jpg" TargetMode="External"/><Relationship Id="rId6" Type="http://schemas.openxmlformats.org/officeDocument/2006/relationships/hyperlink" Target="http://www.ecosystema.ru/08nature/amf/33.jpg" TargetMode="External"/><Relationship Id="rId7" Type="http://schemas.openxmlformats.org/officeDocument/2006/relationships/hyperlink" Target="http://kakadu.509.com1.ru:8018/WWW/fotogal/clip/baboch/2.jpg" TargetMode="External"/><Relationship Id="rId8" Type="http://schemas.openxmlformats.org/officeDocument/2006/relationships/hyperlink" Target="http://kakadu.509.com1.ru:8018/WWW/fotogal/clip/baboch/5.jpg" TargetMode="External"/><Relationship Id="rId9" Type="http://schemas.openxmlformats.org/officeDocument/2006/relationships/hyperlink" Target="http://0lik.ru/uploads/posts/2007-12/1198423906_0lik.ru_prew.jpg" TargetMode="External"/><Relationship Id="rId10" Type="http://schemas.openxmlformats.org/officeDocument/2006/relationships/hyperlink" Target="http://www.sumka.su/products_pictures/varezki2_resize.JPG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22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b2c9"/>
                </a:solidFill>
                <a:latin typeface="Calibri"/>
              </a:rPr>
              <a:t>Урок по обучению грамоте «Звуки </a:t>
            </a:r>
            <a:r>
              <a:rPr b="1" lang="en-US" sz="4800" spc="-1" strike="noStrike">
                <a:solidFill>
                  <a:srgbClr val="21b2c9"/>
                </a:solidFill>
                <a:latin typeface="Calibri"/>
              </a:rPr>
              <a:t>[</a:t>
            </a:r>
            <a:r>
              <a:rPr b="1" lang="ru-RU" sz="4800" spc="-1" strike="noStrike">
                <a:solidFill>
                  <a:srgbClr val="21b2c9"/>
                </a:solidFill>
                <a:latin typeface="Calibri"/>
              </a:rPr>
              <a:t>п</a:t>
            </a:r>
            <a:r>
              <a:rPr b="1" lang="en-US" sz="4800" spc="-1" strike="noStrike">
                <a:solidFill>
                  <a:srgbClr val="21b2c9"/>
                </a:solidFill>
                <a:latin typeface="Calibri"/>
              </a:rPr>
              <a:t>]</a:t>
            </a:r>
            <a:r>
              <a:rPr b="1" lang="ru-RU" sz="4800" spc="-1" strike="noStrike">
                <a:solidFill>
                  <a:srgbClr val="21b2c9"/>
                </a:solidFill>
                <a:latin typeface="Calibri"/>
              </a:rPr>
              <a:t>, </a:t>
            </a:r>
            <a:r>
              <a:rPr b="1" lang="en-US" sz="4800" spc="-1" strike="noStrike">
                <a:solidFill>
                  <a:srgbClr val="21b2c9"/>
                </a:solidFill>
                <a:latin typeface="Calibri"/>
              </a:rPr>
              <a:t>[</a:t>
            </a:r>
            <a:r>
              <a:rPr b="1" lang="ru-RU" sz="4800" spc="-1" strike="noStrike">
                <a:solidFill>
                  <a:srgbClr val="21b2c9"/>
                </a:solidFill>
                <a:latin typeface="Calibri"/>
              </a:rPr>
              <a:t>п</a:t>
            </a:r>
            <a:r>
              <a:rPr b="1" lang="en-US" sz="4800" spc="-1" strike="noStrike">
                <a:solidFill>
                  <a:srgbClr val="21b2c9"/>
                </a:solidFill>
                <a:latin typeface="Calibri"/>
              </a:rPr>
              <a:t>’]</a:t>
            </a:r>
            <a:r>
              <a:rPr b="1" lang="ru-RU" sz="4800" spc="-1" strike="noStrike">
                <a:solidFill>
                  <a:srgbClr val="21b2c9"/>
                </a:solidFill>
                <a:latin typeface="Calibri"/>
              </a:rPr>
              <a:t> и буква п»</a:t>
            </a:r>
            <a:br>
              <a:rPr sz="4500"/>
            </a:b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95280" y="473724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итель начальных классов МБОУ                  «Нижнеуратьминская средняя общеобразовательная школа» НМР РТ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Oval 11"/>
          <p:cNvSpPr/>
          <p:nvPr/>
        </p:nvSpPr>
        <p:spPr>
          <a:xfrm>
            <a:off x="6732720" y="549360"/>
            <a:ext cx="1584360" cy="15843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5"/>
          <p:cNvSpPr/>
          <p:nvPr/>
        </p:nvSpPr>
        <p:spPr>
          <a:xfrm rot="669000">
            <a:off x="394920" y="475920"/>
            <a:ext cx="2158920" cy="1295280"/>
          </a:xfrm>
          <a:prstGeom prst="cloudCallout">
            <a:avLst>
              <a:gd name="adj1" fmla="val -56615"/>
              <a:gd name="adj2" fmla="val -12259"/>
            </a:avLst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lin ang="47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2" descr="5"/>
          <p:cNvPicPr/>
          <p:nvPr/>
        </p:nvPicPr>
        <p:blipFill>
          <a:blip r:embed="rId1"/>
          <a:stretch/>
        </p:blipFill>
        <p:spPr>
          <a:xfrm rot="7636800">
            <a:off x="-1804680" y="12240"/>
            <a:ext cx="1584360" cy="1359000"/>
          </a:xfrm>
          <a:prstGeom prst="rect">
            <a:avLst/>
          </a:prstGeom>
          <a:ln w="0">
            <a:noFill/>
          </a:ln>
        </p:spPr>
      </p:pic>
      <p:sp>
        <p:nvSpPr>
          <p:cNvPr id="216" name="Freeform 26"/>
          <p:cNvSpPr/>
          <p:nvPr/>
        </p:nvSpPr>
        <p:spPr>
          <a:xfrm rot="21420600">
            <a:off x="-181080" y="4331880"/>
            <a:ext cx="7489800" cy="2978280"/>
          </a:xfrm>
          <a:custGeom>
            <a:avLst/>
            <a:gdLst>
              <a:gd name="textAreaLeft" fmla="*/ 0 w 7489800"/>
              <a:gd name="textAreaRight" fmla="*/ 7490160 w 7489800"/>
              <a:gd name="textAreaTop" fmla="*/ 0 h 2978280"/>
              <a:gd name="textAreaBottom" fmla="*/ 2978640 h 2978280"/>
            </a:gdLst>
            <a:ahLst/>
            <a:rect l="textAreaLeft" t="textAreaTop" r="textAreaRight" b="textAreaBottom"/>
            <a:pathLst>
              <a:path w="3295" h="1767">
                <a:moveTo>
                  <a:pt x="82" y="0"/>
                </a:moveTo>
                <a:cubicBezTo>
                  <a:pt x="121" y="13"/>
                  <a:pt x="163" y="11"/>
                  <a:pt x="202" y="24"/>
                </a:cubicBezTo>
                <a:cubicBezTo>
                  <a:pt x="377" y="18"/>
                  <a:pt x="438" y="9"/>
                  <a:pt x="594" y="24"/>
                </a:cubicBezTo>
                <a:cubicBezTo>
                  <a:pt x="634" y="28"/>
                  <a:pt x="667" y="62"/>
                  <a:pt x="706" y="72"/>
                </a:cubicBezTo>
                <a:cubicBezTo>
                  <a:pt x="721" y="82"/>
                  <a:pt x="741" y="83"/>
                  <a:pt x="754" y="96"/>
                </a:cubicBezTo>
                <a:cubicBezTo>
                  <a:pt x="760" y="102"/>
                  <a:pt x="756" y="114"/>
                  <a:pt x="762" y="120"/>
                </a:cubicBezTo>
                <a:cubicBezTo>
                  <a:pt x="772" y="130"/>
                  <a:pt x="840" y="155"/>
                  <a:pt x="858" y="168"/>
                </a:cubicBezTo>
                <a:cubicBezTo>
                  <a:pt x="887" y="189"/>
                  <a:pt x="915" y="212"/>
                  <a:pt x="946" y="232"/>
                </a:cubicBezTo>
                <a:cubicBezTo>
                  <a:pt x="949" y="240"/>
                  <a:pt x="948" y="250"/>
                  <a:pt x="954" y="256"/>
                </a:cubicBezTo>
                <a:cubicBezTo>
                  <a:pt x="960" y="262"/>
                  <a:pt x="970" y="260"/>
                  <a:pt x="978" y="264"/>
                </a:cubicBezTo>
                <a:cubicBezTo>
                  <a:pt x="1003" y="276"/>
                  <a:pt x="1026" y="291"/>
                  <a:pt x="1050" y="304"/>
                </a:cubicBezTo>
                <a:cubicBezTo>
                  <a:pt x="1101" y="332"/>
                  <a:pt x="1129" y="380"/>
                  <a:pt x="1162" y="424"/>
                </a:cubicBezTo>
                <a:cubicBezTo>
                  <a:pt x="1165" y="432"/>
                  <a:pt x="1166" y="441"/>
                  <a:pt x="1170" y="448"/>
                </a:cubicBezTo>
                <a:cubicBezTo>
                  <a:pt x="1177" y="460"/>
                  <a:pt x="1189" y="468"/>
                  <a:pt x="1194" y="480"/>
                </a:cubicBezTo>
                <a:cubicBezTo>
                  <a:pt x="1203" y="504"/>
                  <a:pt x="1202" y="602"/>
                  <a:pt x="1242" y="608"/>
                </a:cubicBezTo>
                <a:cubicBezTo>
                  <a:pt x="1311" y="617"/>
                  <a:pt x="1381" y="613"/>
                  <a:pt x="1450" y="616"/>
                </a:cubicBezTo>
                <a:cubicBezTo>
                  <a:pt x="1481" y="631"/>
                  <a:pt x="1507" y="645"/>
                  <a:pt x="1530" y="672"/>
                </a:cubicBezTo>
                <a:cubicBezTo>
                  <a:pt x="1549" y="695"/>
                  <a:pt x="1571" y="727"/>
                  <a:pt x="1602" y="736"/>
                </a:cubicBezTo>
                <a:cubicBezTo>
                  <a:pt x="1620" y="741"/>
                  <a:pt x="1639" y="741"/>
                  <a:pt x="1658" y="744"/>
                </a:cubicBezTo>
                <a:cubicBezTo>
                  <a:pt x="1692" y="766"/>
                  <a:pt x="1713" y="769"/>
                  <a:pt x="1754" y="776"/>
                </a:cubicBezTo>
                <a:cubicBezTo>
                  <a:pt x="1781" y="787"/>
                  <a:pt x="1807" y="797"/>
                  <a:pt x="1834" y="808"/>
                </a:cubicBezTo>
                <a:cubicBezTo>
                  <a:pt x="1888" y="829"/>
                  <a:pt x="1924" y="882"/>
                  <a:pt x="1978" y="904"/>
                </a:cubicBezTo>
                <a:cubicBezTo>
                  <a:pt x="2046" y="931"/>
                  <a:pt x="2134" y="951"/>
                  <a:pt x="2186" y="1008"/>
                </a:cubicBezTo>
                <a:cubicBezTo>
                  <a:pt x="2186" y="1008"/>
                  <a:pt x="2268" y="1110"/>
                  <a:pt x="2274" y="1128"/>
                </a:cubicBezTo>
                <a:cubicBezTo>
                  <a:pt x="2277" y="1136"/>
                  <a:pt x="2277" y="1145"/>
                  <a:pt x="2282" y="1152"/>
                </a:cubicBezTo>
                <a:cubicBezTo>
                  <a:pt x="2322" y="1201"/>
                  <a:pt x="2363" y="1225"/>
                  <a:pt x="2410" y="1264"/>
                </a:cubicBezTo>
                <a:cubicBezTo>
                  <a:pt x="2438" y="1287"/>
                  <a:pt x="2452" y="1323"/>
                  <a:pt x="2482" y="1344"/>
                </a:cubicBezTo>
                <a:cubicBezTo>
                  <a:pt x="2525" y="1375"/>
                  <a:pt x="2586" y="1384"/>
                  <a:pt x="2634" y="1408"/>
                </a:cubicBezTo>
                <a:cubicBezTo>
                  <a:pt x="2759" y="1398"/>
                  <a:pt x="2777" y="1392"/>
                  <a:pt x="2930" y="1408"/>
                </a:cubicBezTo>
                <a:cubicBezTo>
                  <a:pt x="2960" y="1411"/>
                  <a:pt x="2994" y="1442"/>
                  <a:pt x="3026" y="1448"/>
                </a:cubicBezTo>
                <a:cubicBezTo>
                  <a:pt x="3103" y="1487"/>
                  <a:pt x="3081" y="1480"/>
                  <a:pt x="3202" y="1488"/>
                </a:cubicBezTo>
                <a:cubicBezTo>
                  <a:pt x="3295" y="1767"/>
                  <a:pt x="2444" y="1553"/>
                  <a:pt x="2330" y="1552"/>
                </a:cubicBezTo>
                <a:cubicBezTo>
                  <a:pt x="2266" y="1541"/>
                  <a:pt x="2210" y="1535"/>
                  <a:pt x="2146" y="1544"/>
                </a:cubicBezTo>
                <a:cubicBezTo>
                  <a:pt x="1834" y="1534"/>
                  <a:pt x="1755" y="1530"/>
                  <a:pt x="1386" y="1536"/>
                </a:cubicBezTo>
                <a:cubicBezTo>
                  <a:pt x="1323" y="1578"/>
                  <a:pt x="1232" y="1522"/>
                  <a:pt x="1162" y="1520"/>
                </a:cubicBezTo>
                <a:cubicBezTo>
                  <a:pt x="914" y="1512"/>
                  <a:pt x="666" y="1509"/>
                  <a:pt x="418" y="1504"/>
                </a:cubicBezTo>
                <a:cubicBezTo>
                  <a:pt x="329" y="1445"/>
                  <a:pt x="193" y="1462"/>
                  <a:pt x="106" y="1520"/>
                </a:cubicBezTo>
                <a:cubicBezTo>
                  <a:pt x="95" y="1517"/>
                  <a:pt x="76" y="1523"/>
                  <a:pt x="74" y="1512"/>
                </a:cubicBezTo>
                <a:cubicBezTo>
                  <a:pt x="59" y="1414"/>
                  <a:pt x="0" y="498"/>
                  <a:pt x="66" y="696"/>
                </a:cubicBezTo>
                <a:cubicBezTo>
                  <a:pt x="111" y="560"/>
                  <a:pt x="45" y="408"/>
                  <a:pt x="90" y="272"/>
                </a:cubicBezTo>
                <a:cubicBezTo>
                  <a:pt x="94" y="212"/>
                  <a:pt x="117" y="102"/>
                  <a:pt x="98" y="40"/>
                </a:cubicBezTo>
                <a:cubicBezTo>
                  <a:pt x="95" y="31"/>
                  <a:pt x="82" y="29"/>
                  <a:pt x="74" y="24"/>
                </a:cubicBezTo>
                <a:cubicBezTo>
                  <a:pt x="77" y="16"/>
                  <a:pt x="82" y="0"/>
                  <a:pt x="82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7" descr="33"/>
          <p:cNvPicPr/>
          <p:nvPr/>
        </p:nvPicPr>
        <p:blipFill>
          <a:blip r:embed="rId3">
            <a:lum bright="-18000"/>
          </a:blip>
          <a:srcRect l="55407" t="0" r="6812" b="0"/>
          <a:stretch/>
        </p:blipFill>
        <p:spPr>
          <a:xfrm>
            <a:off x="2340000" y="5589720"/>
            <a:ext cx="1295280" cy="1144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8" descr="33"/>
          <p:cNvPicPr/>
          <p:nvPr/>
        </p:nvPicPr>
        <p:blipFill>
          <a:blip r:embed="rId4">
            <a:lum bright="-18000"/>
          </a:blip>
          <a:srcRect l="55407" t="0" r="6812" b="0"/>
          <a:stretch/>
        </p:blipFill>
        <p:spPr>
          <a:xfrm rot="1489800">
            <a:off x="4003200" y="5670720"/>
            <a:ext cx="1079640" cy="95400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30"/>
          <p:cNvSpPr/>
          <p:nvPr/>
        </p:nvSpPr>
        <p:spPr>
          <a:xfrm rot="20037000">
            <a:off x="5740560" y="19843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1"/>
          <p:cNvSpPr/>
          <p:nvPr/>
        </p:nvSpPr>
        <p:spPr>
          <a:xfrm rot="21222000">
            <a:off x="4791240" y="1555920"/>
            <a:ext cx="1939680" cy="115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2"/>
          <p:cNvSpPr/>
          <p:nvPr/>
        </p:nvSpPr>
        <p:spPr>
          <a:xfrm rot="466200">
            <a:off x="5573520" y="112392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 rot="1130400">
            <a:off x="4862520" y="595440"/>
            <a:ext cx="1951200" cy="117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 rot="19072800">
            <a:off x="5297040" y="2531880"/>
            <a:ext cx="1893960" cy="136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 rot="18183000">
            <a:off x="6329880" y="2548440"/>
            <a:ext cx="115272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 rot="16833000">
            <a:off x="6263280" y="3023280"/>
            <a:ext cx="194328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 rot="15939000">
            <a:off x="7198560" y="2670480"/>
            <a:ext cx="115236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0" descr=""/>
          <p:cNvPicPr/>
          <p:nvPr/>
        </p:nvPicPr>
        <p:blipFill>
          <a:blip r:embed="rId5"/>
          <a:stretch/>
        </p:blipFill>
        <p:spPr>
          <a:xfrm>
            <a:off x="860436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2" descr="tree23"/>
          <p:cNvPicPr/>
          <p:nvPr/>
        </p:nvPicPr>
        <p:blipFill>
          <a:blip r:embed="rId6"/>
          <a:stretch/>
        </p:blipFill>
        <p:spPr>
          <a:xfrm>
            <a:off x="-252360" y="2421000"/>
            <a:ext cx="1595520" cy="259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1" descr="tree23"/>
          <p:cNvPicPr/>
          <p:nvPr/>
        </p:nvPicPr>
        <p:blipFill>
          <a:blip r:embed="rId7"/>
          <a:stretch/>
        </p:blipFill>
        <p:spPr>
          <a:xfrm>
            <a:off x="468360" y="3213000"/>
            <a:ext cx="1595520" cy="16812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3" descr="tree23"/>
          <p:cNvPicPr/>
          <p:nvPr/>
        </p:nvPicPr>
        <p:blipFill>
          <a:blip r:embed="rId8"/>
          <a:stretch/>
        </p:blipFill>
        <p:spPr>
          <a:xfrm>
            <a:off x="1116000" y="3933720"/>
            <a:ext cx="1049400" cy="11048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5" descr="kalendula_kopija"/>
          <p:cNvPicPr/>
          <p:nvPr/>
        </p:nvPicPr>
        <p:blipFill>
          <a:blip r:embed="rId9"/>
          <a:srcRect l="12994" t="0" r="11676" b="0"/>
          <a:stretch/>
        </p:blipFill>
        <p:spPr>
          <a:xfrm>
            <a:off x="395280" y="523080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6" descr="kalendula_kopija"/>
          <p:cNvPicPr/>
          <p:nvPr/>
        </p:nvPicPr>
        <p:blipFill>
          <a:blip r:embed="rId10"/>
          <a:srcRect l="12991" t="0" r="11692" b="0"/>
          <a:stretch/>
        </p:blipFill>
        <p:spPr>
          <a:xfrm>
            <a:off x="1403280" y="5919840"/>
            <a:ext cx="938160" cy="9381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7" descr="kalendula_kopija"/>
          <p:cNvPicPr/>
          <p:nvPr/>
        </p:nvPicPr>
        <p:blipFill>
          <a:blip r:embed="rId11"/>
          <a:srcRect l="13013" t="0" r="11674" b="0"/>
          <a:stretch/>
        </p:blipFill>
        <p:spPr>
          <a:xfrm>
            <a:off x="3059280" y="6021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8" descr="kalendula_kopija"/>
          <p:cNvPicPr/>
          <p:nvPr/>
        </p:nvPicPr>
        <p:blipFill>
          <a:blip r:embed="rId12"/>
          <a:srcRect l="12994" t="0" r="11676" b="0"/>
          <a:stretch/>
        </p:blipFill>
        <p:spPr>
          <a:xfrm>
            <a:off x="4643280" y="6281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9" descr="kalendula_kopija"/>
          <p:cNvPicPr/>
          <p:nvPr/>
        </p:nvPicPr>
        <p:blipFill>
          <a:blip r:embed="rId13"/>
          <a:srcRect l="12994" t="0" r="11676" b="0"/>
          <a:stretch/>
        </p:blipFill>
        <p:spPr>
          <a:xfrm>
            <a:off x="1763640" y="486900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0" descr="2"/>
          <p:cNvPicPr/>
          <p:nvPr/>
        </p:nvPicPr>
        <p:blipFill>
          <a:blip r:embed="rId14"/>
          <a:stretch/>
        </p:blipFill>
        <p:spPr>
          <a:xfrm rot="18170400">
            <a:off x="9330120" y="3638880"/>
            <a:ext cx="1544760" cy="1124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8" descr="33"/>
          <p:cNvPicPr/>
          <p:nvPr/>
        </p:nvPicPr>
        <p:blipFill>
          <a:blip r:embed="rId15">
            <a:lum bright="-18000"/>
          </a:blip>
          <a:srcRect l="55407" t="0" r="6812" b="0"/>
          <a:stretch/>
        </p:blipFill>
        <p:spPr>
          <a:xfrm>
            <a:off x="900000" y="4797360"/>
            <a:ext cx="16560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1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9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3" nodeType="afterEffect" fill="hold" presetClass="entr" presetID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1000"/>
                            </p:stCondLst>
                            <p:childTnLst>
                              <p:par>
                                <p:cTn id="15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1500"/>
                            </p:stCondLst>
                            <p:childTnLst>
                              <p:par>
                                <p:cTn id="16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65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85 -0.05232 L -0.02309 0.0868 C 0.00018 0.11759 0.03525 0.13657 0.07153 0.13657 C 0.11303 0.13657 0.14619 0.11759 0.1698 0.0868 L 0.28143 -0.05232 E">
                                      <p:cBhvr>
                                        <p:cTn id="174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0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211" dur="5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9500"/>
                            </p:stCondLst>
                            <p:childTnLst>
                              <p:par>
                                <p:cTn id="2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230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8 -0.07199 L 0.0184 -0.10718 C 0.03368 -0.12315 0.06823 -0.11505 0.08125 -0.0926 L 0.11024 -0.04283 E">
                                      <p:cBhvr>
                                        <p:cTn id="231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1000"/>
                            </p:stCondLst>
                            <p:childTnLst>
                              <p:par>
                                <p:cTn id="233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0.00046 L 0.02604 -0.07824 C 0.03819 -0.11319 0.0875 -0.1338 0.11719 -0.1162 L 0.18264 -0.07708 E">
                                      <p:cBhvr>
                                        <p:cTn id="234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1500"/>
                            </p:stCondLst>
                            <p:childTnLst>
                              <p:par>
                                <p:cTn id="23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281 -0.07731 L 0.32691 -0.07523 E">
                                      <p:cBhvr>
                                        <p:cTn id="237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2000"/>
                            </p:stCondLst>
                            <p:childTnLst>
                              <p:par>
                                <p:cTn id="239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691 -0.07523 L 0.4165 -0.20231 C 0.45729 -0.26041 0.62743 -0.17453 0.729 -0.04606 L 0.95625 0.23982 E">
                                      <p:cBhvr>
                                        <p:cTn id="240" dur="5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2500"/>
                            </p:stCondLst>
                            <p:childTnLst>
                              <p:par>
                                <p:cTn id="2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007 -0.04306 L 0.19219 0.03426 E">
                                      <p:cBhvr>
                                        <p:cTn id="243" dur="5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3000"/>
                            </p:stCondLst>
                            <p:childTnLst>
                              <p:par>
                                <p:cTn id="245" nodeType="afterEffect" fill="hold" presetClass="path" presetID="6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757 -0.01783 C 0.08507 0.01458 0.07013 0.06203 0.09948 0.08912 C 0.1401 0.12939 0.21753 -0.00209 0.26666 0.0456 C 0.31059 0.08935 0.22257 0.18379 0.2651 0.22453 C 0.30954 0.26805 0.33264 0.15972 0.38003 0.20601 C 0.42291 0.24745 0.36753 0.2824 0.40538 0.31875 C 0.44184 0.35486 0.44757 0.29259 0.48038 0.325 C 0.49948 0.34328 0.49427 0.35694 0.49079 0.36782 E">
                                      <p:cBhvr>
                                        <p:cTn id="246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2" nodeType="afterEffect" fill="hold" presetClass="path" presetID="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833 0.00278 L -0.91979 0.00278 L -0.91979 -0.43866 L -0.25833 -0.43866 L -0.25833 0.00278 Z">
                                      <p:cBhvr>
                                        <p:cTn id="253" dur="3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1000"/>
                            </p:stCondLst>
                            <p:childTnLst>
                              <p:par>
                                <p:cTn id="255" nodeType="after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3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3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900000" y="692280"/>
            <a:ext cx="7775640" cy="9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 u="sng">
                <a:solidFill>
                  <a:srgbClr val="e2d700"/>
                </a:solidFill>
                <a:uFillTx/>
                <a:latin typeface="Arial"/>
                <a:ea typeface="Arial"/>
                <a:hlinkClick r:id="rId1"/>
              </a:rPr>
              <a:t>http://zreni.ru/526-elektronnye-fizminutki-dlya-glaz-chast-2-galkina-inna-anatolevna.ht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 - «Электронные физминутки для глаз»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Галкина Инна Анатольевна, 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ртин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http://www.3-porosenka.ru/off-line/catalogue/3298/s-1433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уга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3"/>
              </a:rPr>
              <a:t>http://www.rosfoto.ru/photos/big/0079000/079513_33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лист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4"/>
              </a:rPr>
              <a:t>http://zverushka.org.ua/images/Trixie/Dog_Trixie_3110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и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5"/>
              </a:rPr>
              <a:t>http://foto-sobaki.narod.ru/images/foto-sobaki.narod.ru331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омидо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6"/>
              </a:rPr>
              <a:t>http://www.ecosystema.ru/08nature/amf/3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лягуш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7"/>
              </a:rPr>
              <a:t>http://kakadu.509.com1.ru:8018/WWW/fotogal/clip/baboch/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солныш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8"/>
              </a:rPr>
              <a:t>http://kakadu.509.com1.ru:8018/WWW/fotogal/clip/baboch/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бабо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9"/>
              </a:rPr>
              <a:t>http://0lik.ru/uploads/posts/2007-12/1198423906_0lik.ru_prew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пал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e2d700"/>
                </a:solidFill>
                <a:uFillTx/>
                <a:latin typeface="Arial"/>
                <a:hlinkClick r:id="rId10"/>
              </a:rPr>
              <a:t>http://www.sumka.su/products_pictures/varezki2_resiz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дер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lanetarium-kharkov.org/files/pictures/05_moon_meteorit_alh-81005.jpg - ребенок с отц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gifpark.ru/COSM. -  ц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doraokna.ru/img/3.jpg - обла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p-userpic.livejournal.com/81599993/12677046 - пар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узы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arkov3.narod.ru/veter.ht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1" descr=""/>
          <p:cNvPicPr/>
          <p:nvPr/>
        </p:nvPicPr>
        <p:blipFill>
          <a:blip r:embed="rId1"/>
          <a:stretch/>
        </p:blipFill>
        <p:spPr>
          <a:xfrm>
            <a:off x="401760" y="2120760"/>
            <a:ext cx="3213000" cy="15433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" descr=""/>
          <p:cNvPicPr/>
          <p:nvPr/>
        </p:nvPicPr>
        <p:blipFill>
          <a:blip r:embed="rId2"/>
          <a:stretch/>
        </p:blipFill>
        <p:spPr>
          <a:xfrm>
            <a:off x="4140360" y="1628640"/>
            <a:ext cx="3456000" cy="3676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755640" y="2637000"/>
            <a:ext cx="2232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15280" indent="-2152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1b2c9"/>
                </a:solidFill>
                <a:latin typeface="Constantia"/>
              </a:rPr>
              <a:t>У папы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4832280" cy="3672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360" y="2636640"/>
            <a:ext cx="25192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1b2c9"/>
                </a:solidFill>
                <a:latin typeface="Constantia"/>
              </a:rPr>
              <a:t>У дома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Рисунок 1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4532400" cy="3384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94920" y="2636640"/>
            <a:ext cx="352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1b2c9"/>
                </a:solidFill>
                <a:latin typeface="Constantia"/>
              </a:rPr>
              <a:t>Там растут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1" descr=""/>
          <p:cNvPicPr/>
          <p:nvPr/>
        </p:nvPicPr>
        <p:blipFill>
          <a:blip r:embed="rId1"/>
          <a:stretch/>
        </p:blipFill>
        <p:spPr>
          <a:xfrm>
            <a:off x="4140360" y="1916280"/>
            <a:ext cx="3536640" cy="2665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95280" y="2565360"/>
            <a:ext cx="4114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1b2c9"/>
                </a:solidFill>
                <a:latin typeface="Constantia"/>
              </a:rPr>
              <a:t>Папа сделал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Рисунок 1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960720" cy="3808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8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b5395"/>
                </a:solidFill>
                <a:latin typeface="Calibri"/>
              </a:rPr>
              <a:t>Мой пап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b2c9"/>
                </a:solidFill>
                <a:latin typeface="Constantia"/>
              </a:rPr>
              <a:t>Это мой</a:t>
            </a:r>
            <a:r>
              <a:rPr b="0" i="1" lang="ru-RU" sz="3200" spc="-1" strike="noStrike">
                <a:solidFill>
                  <a:srgbClr val="21b2c9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21b2c9"/>
                </a:solidFill>
                <a:latin typeface="Constantia"/>
              </a:rPr>
              <a:t>папа.У папы палки.У дома парник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b2c9"/>
                </a:solidFill>
                <a:latin typeface="Constantia"/>
              </a:rPr>
              <a:t>Там растут помидоры. Папа сделал пугало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2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1" descr=""/>
          <p:cNvPicPr/>
          <p:nvPr/>
        </p:nvPicPr>
        <p:blipFill>
          <a:blip r:embed="rId1"/>
          <a:stretch/>
        </p:blipFill>
        <p:spPr>
          <a:xfrm>
            <a:off x="2987640" y="1052640"/>
            <a:ext cx="2160720" cy="34210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3"/>
          <p:cNvSpPr/>
          <p:nvPr/>
        </p:nvSpPr>
        <p:spPr>
          <a:xfrm>
            <a:off x="3573000" y="5300640"/>
            <a:ext cx="186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1b2c9"/>
                </a:solidFill>
                <a:latin typeface="Arial"/>
              </a:rPr>
              <a:t>ПИЛ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1" descr=""/>
          <p:cNvPicPr/>
          <p:nvPr/>
        </p:nvPicPr>
        <p:blipFill>
          <a:blip r:embed="rId1"/>
          <a:stretch/>
        </p:blipFill>
        <p:spPr>
          <a:xfrm>
            <a:off x="2484360" y="1052640"/>
            <a:ext cx="3894120" cy="37447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2"/>
          <p:cNvSpPr/>
          <p:nvPr/>
        </p:nvSpPr>
        <p:spPr>
          <a:xfrm>
            <a:off x="3131640" y="5300640"/>
            <a:ext cx="261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1b2c9"/>
                </a:solidFill>
                <a:latin typeface="Arial"/>
              </a:rPr>
              <a:t>ПУГАЛ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0:34:26Z</dcterms:created>
  <dc:creator>BULAT</dc:creator>
  <dc:description/>
  <dc:language>en-US</dc:language>
  <cp:lastModifiedBy>BULAT</cp:lastModifiedBy>
  <dcterms:modified xsi:type="dcterms:W3CDTF">2012-02-02T10:27:22Z</dcterms:modified>
  <cp:revision>12</cp:revision>
  <dc:subject/>
  <dc:title>Это мой </dc:title>
</cp:coreProperties>
</file>