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077-5989-432F-A004-FC5DD6FFA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921-3CD8-46ED-B74D-D65CABF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54CE-AABF-4568-BC33-240C53EA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8066-2EA0-48D2-80D1-0E4ED107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A613-E4D6-4EC4-B807-7F9D445EC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2A9A-7B1E-4CBD-8077-7BC55B84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CFF-D6C3-46BD-A987-687A1C3AA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D1C34-85BB-4D34-A1B7-D21DDD81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F730-F540-4C26-82C9-899486DF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051B-A407-4836-991C-129B3F54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3913-720E-4463-9310-82549A82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FDA8-98CC-4170-94C8-F2123BBC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95FF2-08C4-465C-9511-F9FBB260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E269-23FB-4553-BBDE-2B0EB95A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08DF-9F70-4CC9-B5FF-D78854C3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728B-DF53-45B6-987B-33C40838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DA57-CE01-41A9-B394-2181BCA63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EA9E-D7D7-486D-8377-41134F048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BA496-D5D7-4512-833E-756FF376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A6ED-4ACC-41F8-B399-017A634B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9792-67DF-460B-8BD3-973D81DAA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5104-BD77-47D7-BB2C-D71F5542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5C5A-967B-4210-84BD-A5D0B71A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A2A15-F590-4795-B228-A4A1044C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37C45-77AE-4245-A814-F570EA41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44811-FC88-4B98-84F6-F7B0584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6A989-98DB-4D25-BBB6-26C6B41C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B4747-2256-45CA-9298-03762372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748A7-8922-4B56-BA3E-1B0D31ED6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E0AD5-C3B4-4E57-9927-AD8F09F0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2EDAE-1DAD-435D-A6F4-BEDDA5910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68B0D-8E17-49D9-8DCC-5FB4FCD1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CB432-735B-4311-9B46-57336DBA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ADF-35AC-40EA-AD99-2F9FD9D9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BD19B-CE00-4471-8B25-AF25A282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DAFB9-F97F-440C-B405-E83833B6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48C5D-CEE1-48E7-8A8B-E7D6C890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EAB96-551F-45A0-8746-3AD4788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438E5-87AD-4532-8D7C-9A53DA74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CFE2F-19BC-46E5-9807-D690A42C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5244-FA67-4F63-8204-299A709F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65DE-30D6-4AA4-873A-685C989D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D017-59B2-41A2-9C3A-5F9AC2DC7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5EE639-B82C-41B7-91CC-8B095132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E0E-B084-4C80-9F1B-C30E1B4B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EFCA2-AED8-4D3E-B631-1D26D3FA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651A-9DF9-4087-B559-0534675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0906B-DE61-42C5-82EA-7F5F5956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F1A14-4584-4183-971A-6D523980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E1750-3922-4B52-922A-D19D95C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654BF-37A3-486F-B9DD-1339AD8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4CB1B-268A-45CF-9F36-7D75236D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D946B-7485-4325-9678-AAC16296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519E4-C49A-499A-B71C-1C9B0A60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96F27-66CE-48D0-A189-3957C7E9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3DA9-1DA5-410B-AD15-CA6992F0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4D17-DB69-45F1-AB47-B3CE3A30F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45FDC-BBC5-409E-957E-999CA7EB8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3A88-6370-4ADD-8BD6-2D539511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2B091-000A-4E79-B93B-419ED6BD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667BA-0A34-4E93-9472-EEBBE799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CBED3-A766-4E17-A3B9-5B9FE2B6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96103-1F05-426E-B426-DB9F3426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F8D8-B335-49EE-BD4C-2E4D01E7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3879-6FFA-44FA-9DA2-DEE7A3B9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E0E20-C417-44E3-81BA-64A05CD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8A8-DDB7-45BE-B8CE-0E6C4A2D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F180C-D99D-4458-BBDD-25FA51B0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BDF8D-D7BE-49F1-8DD1-C89C3545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2D25D-C546-44EF-8247-D10BAE0C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5B0FF-3D84-47B9-811A-A488FDFF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54227-8006-44C5-8982-20C1A8A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A7A55-6463-4AE7-8D91-F8F0A9E7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0CD560-0394-4BB5-8545-8746945F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33833-45A5-410F-A36A-5BC516F7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ACDF-DC81-43C0-A641-D05A4D9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7DEDC-168F-4BE9-88AE-D0369C78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BFE-F585-44C3-B8A1-48BC073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7419-BF88-485D-BD33-A2E4EC5A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86F3-B9AC-46C2-9667-3F910908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C14A8-5A7C-4D91-BE28-F46926A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A9F64-B262-4738-836C-AE1BF06A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B96A-3814-449E-9A2F-1A9EC631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B86-E241-45F9-972E-8A3C6B17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DA63-74D5-4F80-BA5C-36297B3CE6F6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9BB0-7D6F-4391-828D-E274209F943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BF5C-EC9B-4BF0-BC78-D25DC981656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2251-09DB-4B09-80D5-02E84940DD1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B211-1921-4164-BB9E-BBF5899C685A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2DB-ADF4-478E-97B3-4F114FF8F394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497E-9659-48E8-8150-F75FDE997DD9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273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роение земной коры.</a:t>
            </a:r>
            <a:br>
              <a:rPr sz="3600"/>
            </a:b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емная кора на карте.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1840" y="2420640"/>
            <a:ext cx="3241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Прямоугольник 5"/>
          <p:cNvSpPr/>
          <p:nvPr/>
        </p:nvSpPr>
        <p:spPr>
          <a:xfrm>
            <a:off x="6904080" y="5267160"/>
            <a:ext cx="228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СОШ п. Пионерский 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географии Нечаева Е.В</a:t>
            </a:r>
            <a:endParaRPr b="0" lang="en-US" sz="2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755640" y="1773000"/>
            <a:ext cx="7524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атформам в рельефе соответствует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равнин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ым поясам – </a:t>
            </a:r>
            <a:r>
              <a:rPr b="1" lang="ru-RU" sz="2400" spc="-1" strike="noStrike" u="sng">
                <a:solidFill>
                  <a:srgbClr val="073e87"/>
                </a:solidFill>
                <a:uFillTx/>
                <a:latin typeface="Times New Roman"/>
                <a:ea typeface="Times New Roman"/>
              </a:rPr>
              <a:t>го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внин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Амазонская, Ла-Платская-  платформ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Щиты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– плоскогорья и возвышенности – Бразильское и Гвианско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лодая платформа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Западно – Сибирска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Молодые горы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Гималаи, Кавказ, Анды. Альпы. –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ое строение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леозойские – горы складчато- глыбовые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250920" y="1085760"/>
          <a:ext cx="8785080" cy="5438880"/>
        </p:xfrm>
        <a:graphic>
          <a:graphicData uri="http://schemas.openxmlformats.org/drawingml/2006/table">
            <a:tbl>
              <a:tblPr/>
              <a:tblGrid>
                <a:gridCol w="2241720"/>
                <a:gridCol w="218880"/>
                <a:gridCol w="1302120"/>
                <a:gridCol w="1854360"/>
                <a:gridCol w="3168000"/>
              </a:tblGrid>
              <a:tr h="97128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Тектоническая струк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Цв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Форма релье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Полезные ископ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58968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Древние платфор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Южно-Американская плат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мазонская низ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Ла-Платская низм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Нефть, каменный уго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  <a:tr h="64044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Щит Ю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Т.розов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Гвианское и … плоскогор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Алюминиевые руды и …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442080">
                <a:tc gridSpan="5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Молодая плат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Св. 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  <a:tr h="96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Область мезозойской складчат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зеле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3ff"/>
                    </a:solidFill>
                  </a:tcPr>
                </a:tc>
              </a:tr>
            </a:tbl>
          </a:graphicData>
        </a:graphic>
      </p:graphicFrame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Заполни таблицу,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Candara"/>
              </a:rPr>
              <a:t>используя карты на стр. 33 и стр. 242-243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71560" y="1773000"/>
            <a:ext cx="7408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то называется платформой? Как возникали платформы и складчатые области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ъясните, чем отличаются платформы от складчатых областей?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 каком участке земной коры расположена наша местность?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ставит синквейн «Земная кора»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807552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крепление изученного материала.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Параграф 9,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Вопросы стр.35, в.1-4 устно проработать, закончить таблицу, выучить новые определения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99640" y="1916280"/>
            <a:ext cx="7380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азовите основные геологические эры в развитии природы Земли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ак появилась гипотеза дрейфа  материков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чем суть теории литосферных плит?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Границы литосферных плит- зоны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оверим домашнее задание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Объект 3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569080" cy="4319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оение земной коры под материками и океанами неодинаково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85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08000" y="765000"/>
            <a:ext cx="9036000" cy="597708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Основные тектонические структур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Объект 3" descr=""/>
          <p:cNvPicPr/>
          <p:nvPr/>
        </p:nvPicPr>
        <p:blipFill>
          <a:blip r:embed="rId1"/>
          <a:stretch/>
        </p:blipFill>
        <p:spPr>
          <a:xfrm>
            <a:off x="871560" y="558720"/>
            <a:ext cx="7408800" cy="55580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тформа – устойчивый и неподвижный участок земной коры. Платформы имеют двухярусное строение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7644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4176720" cy="360036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48320" y="2677680"/>
            <a:ext cx="38224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645080" y="3429000"/>
            <a:ext cx="38224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Щит- Место выхода кристаллического фундамента на поверх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лита – участки, на которых фундамент погружен и покрыт слоем осадочных поро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1440" indent="-271440">
              <a:lnSpc>
                <a:spcPct val="10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99640" y="2133720"/>
            <a:ext cx="738036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кладчатые пояса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– относительно подвижные участки земной коры. Горные породы залегают в виде более или менее хорошо сохранившихся складок,  осложненных разломами и внедрениями магматических пород. 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исунок 23 стр.33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0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28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круг платформ складчатые области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Работаем с картой  «Строение земной коры» стр.33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56894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6T18:07:25Z</dcterms:created>
  <dc:creator>Мама</dc:creator>
  <dc:description/>
  <dc:language>en-US</dc:language>
  <cp:lastModifiedBy>k217</cp:lastModifiedBy>
  <dcterms:modified xsi:type="dcterms:W3CDTF">2017-10-10T10:22:54Z</dcterms:modified>
  <cp:revision>12</cp:revision>
  <dc:subject/>
  <dc:title>Презентация PowerPoint</dc:title>
</cp:coreProperties>
</file>