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65C-DAAE-4442-B055-427B7F33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1EF-0599-4C51-BF4C-7B57F19C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237-1DBA-473B-ACFB-7480FB75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079-9C3E-4A8A-A542-E28B13E1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6AD7-1F45-4883-A32E-9146C76F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1155-CEAF-41BF-AB9A-13D66306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8C59-A3EF-4761-B40C-C2E181C3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3DB1-2473-4A01-8A8C-0D91FDC8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581C-F18F-4324-96A1-18D19853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56C9-A03C-4E10-B727-B57D7378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C044-41AC-44F1-8885-93617134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E48-9123-40FC-844B-103B3C39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F972-17FA-44AA-BCE5-570C26C8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7BD8-D8CE-4322-B0A0-33748B62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9807-EE22-4E78-9B7F-7DF5A863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E788-0FC4-44B0-8138-AE5E5D7D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3D33-3AFF-4676-AC34-E035C9EB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F9710-1C02-4A34-B826-856F2B24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4B63C-034F-460D-A955-63F74D12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D219-03DE-4E74-A078-167EF47A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463A9-341A-4035-B7F3-16C9733F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C53D4-B775-4F43-A3C8-665826EC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4BB-F629-4646-A6E8-8F5A5139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0829A-4A7B-4CC0-AD0B-BFE0422D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F03E-3670-4E0F-BB7E-387520B0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3571-E0DE-4A17-B12D-8EF71780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0570-B020-41CE-8185-CD9DA5F8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CBAED-A76F-45AC-A231-9271F759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CBF06-6416-4EA9-A433-60C88C9E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B8A5-3ED6-42B9-8123-04276E8C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77D0B-6970-4D8E-96C8-8719F742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A73B3-34A8-4153-A73F-FF90198C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11C07-7E28-4AFF-93A1-B5FC4C87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E48-3123-4291-8DA9-B4897058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8E189-F3D4-4D88-86BA-2032CCBF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4262D-408A-4A33-A8C3-FD2F85F2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28089-5A9E-4684-BA69-9889358B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00123-DF8A-472C-B45A-ABC2C5DB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EB272-F2FC-4F35-9BBA-58A4DEE8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DB323-560B-47ED-BFE3-C8D97D0A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4F141-38B3-4F6F-9BEE-6F6433E0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424D2-5B48-4966-B943-0CBAD067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03B36-8ECD-4BDF-B209-C65D8C44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19ACB-EA66-4057-BA0E-948A1DC9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1F1-2886-45A0-BC50-93EE2D85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CF483-2C82-4973-AF2A-E5CCC311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4E9C2-4DD8-4B84-B440-2B4F94D8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8AD26-6F9D-4108-97D0-8AB3528A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94FA5-7CFC-43AA-9FBF-0BCD8403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7EC40-2127-4D8B-8849-884CF079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D69AF-2EE1-43BC-B4FE-AD993A75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54F0D-6524-46A5-9DDC-DCA2DBB9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0CD7E-044C-4B62-A772-30A00B72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964C7-F709-42EE-91FA-28CC95C0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CF727-E2C4-4221-845C-EEA79901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EA6-2947-474B-B67F-1A957946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21CCA-75C8-4801-BC57-68AEEABC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8C108-9CAE-4C00-B04B-87B26FA0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9C2E8-0B79-40CE-AB7F-45EE53C8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E1439-9C9C-4432-92F1-BC3440E9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270D2-4BF9-4B5C-8572-1CE7B80D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30E73-2D44-403F-A02A-CF486F9F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FC6DB-AC63-4E4D-8A64-59707FA8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F6FC7-275B-4CC5-8A3D-DF8F42A3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42E5D-0382-4D9A-ABC3-4D5F4493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E116C-E3BE-4241-BD68-F98EF321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370-79E4-475A-B07D-221828E2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16E5A-FEC0-4BFC-87FA-5C2667BA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20548-0DA1-46FE-AE46-915A01B4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2CD8B-68B2-408A-9D82-6A331EA7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913FB-F0BC-4DBD-8E18-EF5A23A9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187AE-CEEA-48E2-BC7C-7C02671F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BF5A6-9D02-4AE1-80A5-EFE906BF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9D1B6-B6CF-4D52-B9E0-0B673BCD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EFF38-6094-47BD-8D25-77629385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E75CD-7000-42A5-8EBD-0E98AA54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BAC73-F58E-4F1D-AF33-FA03692A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9E0-3E73-438C-916A-E2999666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6D4F9-3C95-4A5B-AD90-73D39714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31359-8351-420D-8FA6-92944100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E4D50-B182-4D1F-9771-E5C19751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B8DB0-64C7-4EF9-A0A9-1F6F9A80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DDFB7-3E63-483A-89F5-C785F9CA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F3A-5FC9-4556-97B5-28B700F5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13E6-20E7-4D1B-8481-DB5E36523F4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2326-1A56-4BDE-A457-51620469609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918E-2C2B-48FD-AE8C-16A206A9154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F0F7-566B-4038-9D72-26D8F9B8843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7793-63B1-469A-9053-77807CBFB2A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4E52-283E-4E9B-B474-AE714D7BE6B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CDA8-90ED-4C8E-924B-FC7AF617053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27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ение земной коры.</a:t>
            </a: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емная кора на карте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1840" y="2420640"/>
            <a:ext cx="3241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Прямоугольник 5"/>
          <p:cNvSpPr/>
          <p:nvPr/>
        </p:nvSpPr>
        <p:spPr>
          <a:xfrm>
            <a:off x="6904080" y="526716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СОШ п. Пионерски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географии Нечаева Е.В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755640" y="1773000"/>
            <a:ext cx="75247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латформам в рельефе соответствует </a:t>
            </a:r>
            <a:r>
              <a:rPr b="1" lang="ru-RU" sz="24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равнин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кладчатым поясам – </a:t>
            </a:r>
            <a:r>
              <a:rPr b="1" lang="ru-RU" sz="24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гор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внины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– Амазонская, Ла-Платская-  платформ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Щиты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– плоскогорья и возвышенности – Бразильское и Гвианское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олодая платформа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Западно – Сибирска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олодые горы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Гималаи, Кавказ, Анды. Альпы. –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кладчатое строение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алеозойские – горы складчато- глыбовые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250920" y="1085760"/>
          <a:ext cx="8785080" cy="5438880"/>
        </p:xfrm>
        <a:graphic>
          <a:graphicData uri="http://schemas.openxmlformats.org/drawingml/2006/table">
            <a:tbl>
              <a:tblPr/>
              <a:tblGrid>
                <a:gridCol w="2241720"/>
                <a:gridCol w="218880"/>
                <a:gridCol w="1302120"/>
                <a:gridCol w="1854360"/>
                <a:gridCol w="3168000"/>
              </a:tblGrid>
              <a:tr h="97128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Тектоническая струк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Форма релье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олезные ископ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589680">
                <a:tc gridSpan="5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ревние плат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Южно-Американская плат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оз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мазонская низм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Ла-Платская низм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ефть, каменный уг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4044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Щит Ю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Т.роз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Гвианское и … плоскогор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люминиевые руды и 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2080">
                <a:tc gridSpan="5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олодая плат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в. 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965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бласть мезозойской складчат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Заполни таблицу,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Candara"/>
              </a:rPr>
              <a:t>используя карты на стр. 33 и стр. 242-243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1773000"/>
            <a:ext cx="7408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Что называется платформой? Как возникали платформы и складчатые области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ъясните, чем отличаются платформы от складчатых областей?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 каком участке земной коры расположена наша местность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ставит синквейн «Земная кора»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07552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епление изученного материала.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Параграф 9,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Вопросы стр.35, в.1-4 устно проработать, закончить таблицу, выучить новые определения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99640" y="1916280"/>
            <a:ext cx="7380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зовите основные геологические эры в развитии природы Земл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ак появилась гипотеза дрейфа  материков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чем суть теории литосферных плит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Границы литосферных плит- зоны…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оверим домашнее задание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Объект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69080" cy="43196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ение земной коры под материками и океанами неодинаково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85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9036000" cy="59770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Основные тектонические структуры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Объект 3" descr=""/>
          <p:cNvPicPr/>
          <p:nvPr/>
        </p:nvPicPr>
        <p:blipFill>
          <a:blip r:embed="rId1"/>
          <a:stretch/>
        </p:blipFill>
        <p:spPr>
          <a:xfrm>
            <a:off x="871560" y="558720"/>
            <a:ext cx="7408800" cy="55580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тформа – устойчивый и неподвижный участок земной коры. Платформы имеют двухярусное строение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4176720" cy="360036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645080" y="3429000"/>
            <a:ext cx="38224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Щит- Место выхода кристаллического фундамента на поверхнос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лита – участки, на которых фундамент погружен и покрыт слоем осадочных пород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99640" y="2133720"/>
            <a:ext cx="73803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кладчатые пояса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– относительно подвижные участки земной коры. Горные породы залегают в виде более или менее хорошо сохранившихся складок,  осложненных разломами и внедрениями магматических пород. 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исунок 23 стр.3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70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круг платформ складчатые област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Работаем с картой  «Строение земной коры» стр.33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568944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6T18:07:25Z</dcterms:created>
  <dc:creator>Мама</dc:creator>
  <dc:description/>
  <dc:language>en-US</dc:language>
  <cp:lastModifiedBy>k217</cp:lastModifiedBy>
  <dcterms:modified xsi:type="dcterms:W3CDTF">2017-10-10T10:22:54Z</dcterms:modified>
  <cp:revision>12</cp:revision>
  <dc:subject/>
  <dc:title>Презентация PowerPoint</dc:title>
</cp:coreProperties>
</file>