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wmf" ContentType="image/x-wmf"/>
  <Override PartName="/ppt/media/image14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2.jpeg" ContentType="image/jpe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1DD-4879-48FB-A11D-C115CAFB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265-C5E2-49E8-8D74-E1D2DF19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012E-FA26-4C4C-AE47-2519A71A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A8C-FECF-40C8-8949-E2EE514D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B60-517B-447B-9710-4E8E48C8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7DC-A3D9-4063-9057-CF2A5ED3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A92-9BC1-4155-A0B6-D67595DA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811-0FB2-4E1A-B62F-2BDFC6B5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9E5-9EF1-4742-A61D-487BED17D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5BD6-9710-4D98-9D0A-D77EA969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FE8B-4488-4BE8-8965-7479FD2F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A917-C78F-47B9-A5D7-9E07636A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B6B9-2112-4FDC-8CEF-0C35C3108207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8"/>
          <p:cNvSpPr txBox="1"/>
          <p:nvPr/>
        </p:nvSpPr>
        <p:spPr>
          <a:xfrm>
            <a:off x="684360" y="1628640"/>
            <a:ext cx="8208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имни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ды   спорт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9"/>
          <p:cNvSpPr txBox="1"/>
          <p:nvPr/>
        </p:nvSpPr>
        <p:spPr>
          <a:xfrm>
            <a:off x="2411280" y="5373720"/>
            <a:ext cx="63248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втор:  Шумилова Вера Ивановна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структор по физической культуре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684360" y="401760"/>
            <a:ext cx="78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Муниципальное бюджетное дошкольное образовательно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Учреждение Борисоглебского городского округ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Детский сад № 16 комбинированного ви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324000" y="4437000"/>
            <a:ext cx="691200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гра между двумя командами на льду в коньках. Хоккеисты клюшками отбивают шайбу у противника. Хоккеист должен забить шайбу в ворота против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2" descr="C:\Users\Администратор\Desktop\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324000" y="0"/>
            <a:ext cx="8064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После состязаний, самые лучшие спортсмены занимают первое, второе или третье мест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В честь победителя звучит гимн его стра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4" descr="D:\Картинки\Анимирован\снежинки падают.gif"/>
          <p:cNvPicPr/>
          <p:nvPr/>
        </p:nvPicPr>
        <p:blipFill>
          <a:blip r:embed="rId1"/>
          <a:stretch/>
        </p:blipFill>
        <p:spPr>
          <a:xfrm>
            <a:off x="2556000" y="2133720"/>
            <a:ext cx="32288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1" descr=""/>
          <p:cNvPicPr/>
          <p:nvPr/>
        </p:nvPicPr>
        <p:blipFill>
          <a:blip r:embed="rId1"/>
          <a:stretch/>
        </p:blipFill>
        <p:spPr>
          <a:xfrm>
            <a:off x="639720" y="3571920"/>
            <a:ext cx="7864560" cy="1798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preinst\картинки\HOMEANIM\AG00373_.GIF"/>
          <p:cNvPicPr/>
          <p:nvPr/>
        </p:nvPicPr>
        <p:blipFill>
          <a:blip r:embed="rId2"/>
          <a:stretch/>
        </p:blipFill>
        <p:spPr>
          <a:xfrm>
            <a:off x="7500960" y="5278320"/>
            <a:ext cx="1643040" cy="1579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 rot="2872200">
            <a:off x="357120" y="428400"/>
            <a:ext cx="2284200" cy="2170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4"/>
          <a:stretch/>
        </p:blipFill>
        <p:spPr>
          <a:xfrm rot="15681000">
            <a:off x="6459120" y="207720"/>
            <a:ext cx="2284560" cy="2170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5"/>
          <a:stretch/>
        </p:blipFill>
        <p:spPr>
          <a:xfrm rot="21060600">
            <a:off x="642600" y="2490840"/>
            <a:ext cx="2284560" cy="216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6"/>
          <a:stretch/>
        </p:blipFill>
        <p:spPr>
          <a:xfrm rot="2872200">
            <a:off x="6572160" y="2774880"/>
            <a:ext cx="2284560" cy="21700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0" descr=""/>
          <p:cNvPicPr/>
          <p:nvPr/>
        </p:nvPicPr>
        <p:blipFill>
          <a:blip r:embed="rId7"/>
          <a:stretch/>
        </p:blipFill>
        <p:spPr>
          <a:xfrm>
            <a:off x="712800" y="1511280"/>
            <a:ext cx="785808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1589040" y="333360"/>
            <a:ext cx="596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Интернет ресурсы</a:t>
            </a:r>
            <a:r>
              <a:rPr b="1" i="1" lang="en-US" sz="44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619280" y="1790280"/>
            <a:ext cx="43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http://viki.rdf.ru/item/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http://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ikipedia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//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ww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kyclipfrt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u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Зима 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лыжник"/>
          <p:cNvPicPr/>
          <p:nvPr/>
        </p:nvPicPr>
        <p:blipFill>
          <a:blip r:embed="rId1"/>
          <a:stretch/>
        </p:blipFill>
        <p:spPr>
          <a:xfrm>
            <a:off x="3851280" y="1635120"/>
            <a:ext cx="4643280" cy="4457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324000" y="176040"/>
            <a:ext cx="50400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Лыжные гонки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смены бегут на лыжах, преодолевая дистанцию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на скорость, кто быстре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лыжи копия"/>
          <p:cNvPicPr/>
          <p:nvPr/>
        </p:nvPicPr>
        <p:blipFill>
          <a:blip r:embed="rId1"/>
          <a:stretch/>
        </p:blipFill>
        <p:spPr>
          <a:xfrm>
            <a:off x="-31680" y="-87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95280" y="4581360"/>
            <a:ext cx="626436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Сноубординг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смены спускаются с заснеженных склонов и гор на специальном снаряде – сноуборд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771640" y="765000"/>
            <a:ext cx="5616720" cy="19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Verdana"/>
              </a:rPr>
              <a:t>Горные лыж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Verdana"/>
              </a:rPr>
              <a:t>Спуск с гор на лыжах по специальным трасса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0" descr="MC900446502[1]"/>
          <p:cNvPicPr/>
          <p:nvPr/>
        </p:nvPicPr>
        <p:blipFill>
          <a:blip r:embed="rId1"/>
          <a:stretch/>
        </p:blipFill>
        <p:spPr>
          <a:xfrm>
            <a:off x="1116000" y="2349360"/>
            <a:ext cx="4681440" cy="381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MC900446526[1]"/>
          <p:cNvPicPr/>
          <p:nvPr/>
        </p:nvPicPr>
        <p:blipFill>
          <a:blip r:embed="rId2"/>
          <a:stretch/>
        </p:blipFill>
        <p:spPr>
          <a:xfrm>
            <a:off x="6443640" y="692280"/>
            <a:ext cx="2211480" cy="280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808200" y="176040"/>
            <a:ext cx="57798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Санный спорт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это соревнования в скоростном спуске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одноместных или двухместных, четырехместных саня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по заранее подготовленной трасс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11280" y="404640"/>
            <a:ext cx="7777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Конькобежный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спорт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смены преодолевают дистанцию на ледяно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тадионе по замкнутому кругу, кто быстре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" name="Picture 5" descr="MC900446534[1]"/>
          <p:cNvPicPr/>
          <p:nvPr/>
        </p:nvPicPr>
        <p:blipFill>
          <a:blip r:embed="rId1"/>
          <a:stretch/>
        </p:blipFill>
        <p:spPr>
          <a:xfrm>
            <a:off x="2747880" y="3141720"/>
            <a:ext cx="51008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08200" y="176040"/>
            <a:ext cx="5779800" cy="19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Фигурное катание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смены одиночки или в парах катаются на коньках по ледяному корту под музыку выполняя различные повороты, прыжки, вра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" name="Picture 5" descr="MC900446506[1]"/>
          <p:cNvPicPr/>
          <p:nvPr/>
        </p:nvPicPr>
        <p:blipFill>
          <a:blip r:embed="rId1"/>
          <a:stretch/>
        </p:blipFill>
        <p:spPr>
          <a:xfrm>
            <a:off x="5508720" y="1916280"/>
            <a:ext cx="2679480" cy="288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C900446550[1]"/>
          <p:cNvPicPr/>
          <p:nvPr/>
        </p:nvPicPr>
        <p:blipFill>
          <a:blip r:embed="rId2"/>
          <a:stretch/>
        </p:blipFill>
        <p:spPr>
          <a:xfrm>
            <a:off x="900000" y="2924280"/>
            <a:ext cx="30783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Администратор\Desktop\8275192656725059618379f24d6c91f167dbd7568982_b.jpg"/>
          <p:cNvPicPr/>
          <p:nvPr/>
        </p:nvPicPr>
        <p:blipFill>
          <a:blip r:embed="rId1"/>
          <a:stretch/>
        </p:blipFill>
        <p:spPr>
          <a:xfrm>
            <a:off x="2411280" y="2430360"/>
            <a:ext cx="5329440" cy="40100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808200" y="176040"/>
            <a:ext cx="5779800" cy="16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Командные игры</a:t>
            </a: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Спортивные игры на льду, заключающаяся в противоборстве двух команд на коньках или ног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хоккей"/>
          <p:cNvPicPr/>
          <p:nvPr/>
        </p:nvPicPr>
        <p:blipFill>
          <a:blip r:embed="rId1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324000" y="4437000"/>
            <a:ext cx="691200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Игра между двумя командами на льду в коньках. Хоккеисты клюшками отбивают шайбу у противника. Хоккеист должен забить шайбу в ворота противн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3:49:29Z</dcterms:created>
  <dc:creator>Прапор</dc:creator>
  <dc:description/>
  <dc:language>en-US</dc:language>
  <cp:lastModifiedBy>Пользователь</cp:lastModifiedBy>
  <dcterms:modified xsi:type="dcterms:W3CDTF">2017-10-10T18:27:58Z</dcterms:modified>
  <cp:revision>45</cp:revision>
  <dc:subject/>
  <dc:title>Сюжетные физкультурные занятия</dc:title>
</cp:coreProperties>
</file>