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9.wmf" ContentType="image/x-wmf"/>
  <Override PartName="/ppt/media/image14.png" ContentType="image/png"/>
  <Override PartName="/ppt/media/image17.png" ContentType="image/png"/>
  <Override PartName="/ppt/media/image16.png" ContentType="image/png"/>
  <Override PartName="/ppt/media/image15.gif" ContentType="image/gif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12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3515-E78A-466B-86C1-6EE04DD52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C22B-5DC3-45C6-B0AF-204582664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BE36-AE6A-4002-A954-E39B391FA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FF57-1888-4B48-A127-76471C27F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7905-055B-498F-A531-8E1F6E19A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9A52-E7EB-47CF-B898-ABECA7B2B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B2D1-E261-435B-AEF0-30D33767E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2A0E-7B26-4F46-83B3-AAF7A7D46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FDD3-A1C3-489A-95F2-C5919A407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C11F-1997-4C8E-8F39-5912B4E1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EEEE-56FC-4F72-908D-5B596C40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65CA-20BF-4F7C-A9B6-6E348B62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54D58-A973-436D-A437-410549CDF5C3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8"/>
          <p:cNvSpPr txBox="1"/>
          <p:nvPr/>
        </p:nvSpPr>
        <p:spPr>
          <a:xfrm>
            <a:off x="684360" y="1628640"/>
            <a:ext cx="820872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имни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иды   спорт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WordArt 9"/>
          <p:cNvSpPr txBox="1"/>
          <p:nvPr/>
        </p:nvSpPr>
        <p:spPr>
          <a:xfrm>
            <a:off x="2411280" y="5373720"/>
            <a:ext cx="632484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втор:  Шумилова Вера Ивановна</a:t>
            </a:r>
            <a:endParaRPr b="1" lang="en-US" sz="2800" spc="1" strike="noStrike">
              <a:ln w="19080">
                <a:solidFill>
                  <a:srgbClr val="000099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структор по физической культуре</a:t>
            </a:r>
            <a:endParaRPr b="1" lang="en-US" sz="2800" spc="1" strike="noStrike">
              <a:ln w="19080">
                <a:solidFill>
                  <a:srgbClr val="000099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TextBox 1"/>
          <p:cNvSpPr/>
          <p:nvPr/>
        </p:nvSpPr>
        <p:spPr>
          <a:xfrm>
            <a:off x="684360" y="401760"/>
            <a:ext cx="784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Муниципальное бюджетное дошкольное образовательно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Учреждение Борисоглебского городского округа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Детский сад № 16 комбинированного вид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6"/>
          <p:cNvSpPr/>
          <p:nvPr/>
        </p:nvSpPr>
        <p:spPr>
          <a:xfrm>
            <a:off x="324000" y="4437000"/>
            <a:ext cx="6912000" cy="21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99"/>
                </a:solidFill>
                <a:latin typeface="Arial"/>
              </a:rPr>
              <a:t>Хоккей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Игра между двумя командами на льду в коньках. Хоккеисты клюшками отбивают шайбу у противника. Хоккеист должен забить шайбу в ворота противник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3" name="Picture 2" descr="C:\Users\Администратор\Desktop\img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3657600" y="5105520"/>
            <a:ext cx="1371600" cy="1523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5029200" y="5562720"/>
            <a:ext cx="1371600" cy="10666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2209680" y="5715000"/>
            <a:ext cx="1447920" cy="9144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3886200" y="541008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5050"/>
                </a:solidFill>
                <a:latin typeface="Arial Black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5257800" y="579132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5050"/>
                </a:solidFill>
                <a:latin typeface="Arial Black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2514600" y="579132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5050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324000" y="0"/>
            <a:ext cx="80643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После состязаний, самые лучшие спортсмены занимают первое, второе или третье мест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В честь победителя звучит гимн его стран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1" name="Picture 4" descr="D:\Картинки\Анимирован\снежинки падают.gif"/>
          <p:cNvPicPr/>
          <p:nvPr/>
        </p:nvPicPr>
        <p:blipFill>
          <a:blip r:embed="rId1"/>
          <a:stretch/>
        </p:blipFill>
        <p:spPr>
          <a:xfrm>
            <a:off x="2556000" y="2133720"/>
            <a:ext cx="32288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Прямоугольник 1" descr=""/>
          <p:cNvPicPr/>
          <p:nvPr/>
        </p:nvPicPr>
        <p:blipFill>
          <a:blip r:embed="rId1"/>
          <a:stretch/>
        </p:blipFill>
        <p:spPr>
          <a:xfrm>
            <a:off x="639720" y="3571920"/>
            <a:ext cx="7864560" cy="1798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D:\preinst\картинки\HOMEANIM\AG00373_.GIF"/>
          <p:cNvPicPr/>
          <p:nvPr/>
        </p:nvPicPr>
        <p:blipFill>
          <a:blip r:embed="rId2"/>
          <a:stretch/>
        </p:blipFill>
        <p:spPr>
          <a:xfrm>
            <a:off x="7500960" y="5278320"/>
            <a:ext cx="1643040" cy="1579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3"/>
          <a:stretch/>
        </p:blipFill>
        <p:spPr>
          <a:xfrm rot="2872200">
            <a:off x="357120" y="428400"/>
            <a:ext cx="2284200" cy="2170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4"/>
          <a:stretch/>
        </p:blipFill>
        <p:spPr>
          <a:xfrm rot="15681000">
            <a:off x="6459120" y="207720"/>
            <a:ext cx="2284560" cy="2170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5"/>
          <a:stretch/>
        </p:blipFill>
        <p:spPr>
          <a:xfrm rot="21060600">
            <a:off x="642600" y="2490840"/>
            <a:ext cx="2284560" cy="2168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"/>
          <p:cNvPicPr/>
          <p:nvPr/>
        </p:nvPicPr>
        <p:blipFill>
          <a:blip r:embed="rId6"/>
          <a:stretch/>
        </p:blipFill>
        <p:spPr>
          <a:xfrm rot="2872200">
            <a:off x="6572160" y="2774880"/>
            <a:ext cx="2284560" cy="217008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10" descr=""/>
          <p:cNvPicPr/>
          <p:nvPr/>
        </p:nvPicPr>
        <p:blipFill>
          <a:blip r:embed="rId7"/>
          <a:stretch/>
        </p:blipFill>
        <p:spPr>
          <a:xfrm>
            <a:off x="712800" y="1511280"/>
            <a:ext cx="7858080" cy="184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6"/>
          <p:cNvSpPr/>
          <p:nvPr/>
        </p:nvSpPr>
        <p:spPr>
          <a:xfrm>
            <a:off x="1589040" y="333360"/>
            <a:ext cx="596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99"/>
                </a:solidFill>
                <a:latin typeface="Arial"/>
              </a:rPr>
              <a:t>Интернет ресурсы</a:t>
            </a:r>
            <a:r>
              <a:rPr b="1" i="1" lang="en-US" sz="44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619280" y="1790280"/>
            <a:ext cx="439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http://viki.rdf.ru/item/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http://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ikipedia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ttp: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//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ww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kyclipfrt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u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Зима 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лыжник"/>
          <p:cNvPicPr/>
          <p:nvPr/>
        </p:nvPicPr>
        <p:blipFill>
          <a:blip r:embed="rId1"/>
          <a:stretch/>
        </p:blipFill>
        <p:spPr>
          <a:xfrm>
            <a:off x="3851280" y="1635120"/>
            <a:ext cx="4643280" cy="44578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324000" y="176040"/>
            <a:ext cx="5040000" cy="19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99"/>
                </a:solidFill>
                <a:latin typeface="Arial"/>
              </a:rPr>
              <a:t>Лыжные гонки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Спортсмены бегут на лыжах, преодолевая дистанцию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на скорость, кто быстре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лыжи копия"/>
          <p:cNvPicPr/>
          <p:nvPr/>
        </p:nvPicPr>
        <p:blipFill>
          <a:blip r:embed="rId1"/>
          <a:stretch/>
        </p:blipFill>
        <p:spPr>
          <a:xfrm>
            <a:off x="-31680" y="-87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395280" y="4581360"/>
            <a:ext cx="6264360" cy="18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99"/>
                </a:solidFill>
                <a:latin typeface="Arial"/>
              </a:rPr>
              <a:t>Сноубординг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Спортсмены спускаются с заснеженных склонов и гор на специальном снаряде – сноуборд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2771640" y="765000"/>
            <a:ext cx="5616720" cy="19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99"/>
                </a:solidFill>
                <a:latin typeface="Verdana"/>
              </a:rPr>
              <a:t>Горные лыж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Verdana"/>
              </a:rPr>
              <a:t>Спуск с гор на лыжах по специальным трасса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0" descr="MC900446502[1]"/>
          <p:cNvPicPr/>
          <p:nvPr/>
        </p:nvPicPr>
        <p:blipFill>
          <a:blip r:embed="rId1"/>
          <a:stretch/>
        </p:blipFill>
        <p:spPr>
          <a:xfrm>
            <a:off x="1116000" y="2349360"/>
            <a:ext cx="4681440" cy="3816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MC900446526[1]"/>
          <p:cNvPicPr/>
          <p:nvPr/>
        </p:nvPicPr>
        <p:blipFill>
          <a:blip r:embed="rId2"/>
          <a:stretch/>
        </p:blipFill>
        <p:spPr>
          <a:xfrm>
            <a:off x="6443640" y="692280"/>
            <a:ext cx="2211480" cy="280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2"/>
          <p:cNvSpPr/>
          <p:nvPr/>
        </p:nvSpPr>
        <p:spPr>
          <a:xfrm>
            <a:off x="808200" y="176040"/>
            <a:ext cx="5779800" cy="19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99"/>
                </a:solidFill>
                <a:latin typeface="Arial"/>
              </a:rPr>
              <a:t>Санный спорт</a:t>
            </a: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это соревнования в скоростном спуске 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одноместных или двухместных, четырехместных санях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по заранее подготовленной трасс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611280" y="404640"/>
            <a:ext cx="77770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99"/>
                </a:solidFill>
                <a:latin typeface="Arial"/>
              </a:rPr>
              <a:t>Конькобежный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99"/>
                </a:solidFill>
                <a:latin typeface="Arial"/>
              </a:rPr>
              <a:t>спорт</a:t>
            </a: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Спортсмены преодолевают дистанцию на ледяном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стадионе по замкнутому кругу, кто быстре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" name="Picture 5" descr="MC900446534[1]"/>
          <p:cNvPicPr/>
          <p:nvPr/>
        </p:nvPicPr>
        <p:blipFill>
          <a:blip r:embed="rId1"/>
          <a:stretch/>
        </p:blipFill>
        <p:spPr>
          <a:xfrm>
            <a:off x="2747880" y="3141720"/>
            <a:ext cx="510084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808200" y="176040"/>
            <a:ext cx="5779800" cy="19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99"/>
                </a:solidFill>
                <a:latin typeface="Arial"/>
              </a:rPr>
              <a:t>Фигурное катание</a:t>
            </a: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Спортсмены одиночки или в парах катаются на коньках по ледяному корту под музыку выполняя различные повороты, прыжки, вращен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" name="Picture 5" descr="MC900446506[1]"/>
          <p:cNvPicPr/>
          <p:nvPr/>
        </p:nvPicPr>
        <p:blipFill>
          <a:blip r:embed="rId1"/>
          <a:stretch/>
        </p:blipFill>
        <p:spPr>
          <a:xfrm>
            <a:off x="5508720" y="1916280"/>
            <a:ext cx="2679480" cy="2881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MC900446550[1]"/>
          <p:cNvPicPr/>
          <p:nvPr/>
        </p:nvPicPr>
        <p:blipFill>
          <a:blip r:embed="rId2"/>
          <a:stretch/>
        </p:blipFill>
        <p:spPr>
          <a:xfrm>
            <a:off x="900000" y="2924280"/>
            <a:ext cx="30783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Users\Администратор\Desktop\8275192656725059618379f24d6c91f167dbd7568982_b.jpg"/>
          <p:cNvPicPr/>
          <p:nvPr/>
        </p:nvPicPr>
        <p:blipFill>
          <a:blip r:embed="rId1"/>
          <a:stretch/>
        </p:blipFill>
        <p:spPr>
          <a:xfrm>
            <a:off x="2411280" y="2430360"/>
            <a:ext cx="5329440" cy="40100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808200" y="176040"/>
            <a:ext cx="5779800" cy="16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99"/>
                </a:solidFill>
                <a:latin typeface="Arial"/>
              </a:rPr>
              <a:t>Командные игры</a:t>
            </a: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Спортивные игры на льду, заключающаяся в противоборстве двух команд на коньках или нога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хоккей"/>
          <p:cNvPicPr/>
          <p:nvPr/>
        </p:nvPicPr>
        <p:blipFill>
          <a:blip r:embed="rId1"/>
          <a:stretch/>
        </p:blipFill>
        <p:spPr>
          <a:xfrm>
            <a:off x="0" y="0"/>
            <a:ext cx="9144000" cy="69674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324000" y="4437000"/>
            <a:ext cx="6912000" cy="21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99"/>
                </a:solidFill>
                <a:latin typeface="Arial"/>
              </a:rPr>
              <a:t>Хоккей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Игра между двумя командами на льду в коньках. Хоккеисты клюшками отбивают шайбу у противника. Хоккеист должен забить шайбу в ворота противник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3:49:29Z</dcterms:created>
  <dc:creator>Прапор</dc:creator>
  <dc:description/>
  <dc:language>en-US</dc:language>
  <cp:lastModifiedBy>Пользователь</cp:lastModifiedBy>
  <dcterms:modified xsi:type="dcterms:W3CDTF">2017-10-10T18:27:58Z</dcterms:modified>
  <cp:revision>45</cp:revision>
  <dc:subject/>
  <dc:title>Сюжетные физкультурные занятия</dc:title>
</cp:coreProperties>
</file>