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DBD8-81D9-4F02-A31F-66ECA126EF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C755-E30D-47B8-91A1-BB768EDFD03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6A1-8F1E-475B-B883-E34200B9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C17-CB52-4D37-ACFA-885F0C05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CED-67F4-4D3F-9680-F5455317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092-43B1-4881-A2BC-9631F9E3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BD11-1DE4-47F5-9A41-B07489C4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A4E9-9F6C-478E-854A-95662D66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CD8F-A110-454F-B26F-9C32699D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195A-EC2C-473B-B4BE-A977FF43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BC57-F60E-4EA4-B442-C8677BA6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00CC-55F6-49DC-9589-403C652C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BE88-6DE9-46EB-A841-0B6E216C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65E-2C03-411C-951F-61B79C6A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6D32-83E7-44E8-8C01-BAF6698F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C83B-E924-4748-A85B-7A23A6D9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5313-FCD3-4835-ABF9-39A2B63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02E9-99DD-40C3-982A-B3CBFDDC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FFA9-E8B2-441D-B133-9AEE55DC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C90-59F4-4991-977C-D9C30791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9A1-75D4-46DA-8634-06C17F49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10C-DE2A-4AC6-9605-43AD0B7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EDD-F98D-4BA5-BD8E-FC287298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D5B-BA8B-4930-A7B6-7C0D0A38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0D0-86CE-4641-A729-AE172470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799-6B69-4BCC-AFD6-02CD44F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2C93-94DA-42C3-8076-8F4A36A6F4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98EE-B97A-4E69-9747-4EE17FBD687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125360"/>
            <a:ext cx="79740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циональные чис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Математический дик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1. Закончите предлож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циональное число – это число, которое может быть записано в виде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ое рациональное число может быть представлено в ви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440" y="428760"/>
            <a:ext cx="79801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Выделите период дроб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440" y="2000160"/>
            <a:ext cx="80262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,387427427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0,728428428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6800" y="571680"/>
            <a:ext cx="79297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3. Закончите предлож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ую бесконечную десятичную периодическую дробь можно представить в виде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якое рациональное число можно представить в вид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714240"/>
            <a:ext cx="75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4. Представьте число в виде периодической дроб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17 = …                      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 =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,8 = …                     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 =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57240" y="4714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74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ерно ли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 N                           N c 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2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  <a:ea typeface="Tahoma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Z c Q                           N c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8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8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9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9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0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0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0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3:14:05Z</dcterms:created>
  <dc:creator>***</dc:creator>
  <dc:description/>
  <dc:language>en-US</dc:language>
  <cp:lastModifiedBy>АБАК</cp:lastModifiedBy>
  <dcterms:modified xsi:type="dcterms:W3CDTF">2011-11-16T07:37:53Z</dcterms:modified>
  <cp:revision>102</cp:revision>
  <dc:subject/>
  <dc:title>Односоставные предложения</dc:title>
</cp:coreProperties>
</file>