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F8F8-9CC2-4D37-8E04-26EB5EF9E5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B9D52-FA3F-41FD-9D6F-8A54B5DE15D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1D3-DEDA-402B-B6F3-229C5668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566-BC1A-4304-924E-C7714B7D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9979-72A1-46A5-B0C5-C3D4AF3F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4156-F7D2-4CF0-A1F5-10211F382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425D-6598-41D8-86C9-D2C5F03F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1EA9-8F89-4438-B1EE-A0CA0DEE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9061-FFCA-405E-B278-E4835FD1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C611-5FA9-4CF1-84CA-34071E18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63E0-C8B8-46A2-A3C5-1E97B6949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76ED-9EF0-41E5-9E33-2E351B7B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C2F8D-84C0-4FFC-933F-B6FDD61E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296-4517-42A0-B31E-ED5016D9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3BA5-CD44-45D8-B4E2-B60E5CA3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E9077-1159-495C-866C-1F73CF6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904C-B29D-47E7-82EB-2629143E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6992-2B99-4314-8078-09CE9D2F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2740-E9E6-44EC-A357-55A12F61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9D7E-CAF3-43FC-BEB8-6277AEB6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8711-7676-497F-A12E-980FB422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85E6-9924-4A78-9A0B-2ADA7FCB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224-EBC0-4631-9B66-2E41556F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EA6-D7B2-427D-A75A-C1352461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C4BC-B9F2-46CD-9D60-3FD11833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A973-51D0-41D5-8CC3-953EEC17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C7A1-C811-4B05-82D4-811FE11857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DFCD-936C-4AD9-A78D-8EDD296E66C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125360"/>
            <a:ext cx="79740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ациональные чис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Tahoma"/>
              </a:rPr>
              <a:t>Математический дикт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2854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1. Закончите предлож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циональное число – это число, которое может быть записано в виде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ое рациональное число может быть представлено в вид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440" y="428760"/>
            <a:ext cx="798012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2. Выделите период дроб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440" y="2000160"/>
            <a:ext cx="80262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2,387427427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30,728428428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56800" y="571680"/>
            <a:ext cx="792972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3. Закончите предлож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ждую бесконечную десятичную периодическую дробь можно представить в виде…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сякое рациональное число можно представить в вид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43000" y="714240"/>
            <a:ext cx="75009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4. Представьте число в виде периодической дроб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17 = …                      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 =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0,8 = …                     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6 =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57240" y="471492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74296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5.</a:t>
            </a: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Верно ли, ч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c N                           N c Q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ahoma"/>
              </a:rPr>
              <a:t>2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  <a:ea typeface="Tahoma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Z c Q                           N c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8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8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9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9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10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10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0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3:14:05Z</dcterms:created>
  <dc:creator>***</dc:creator>
  <dc:description/>
  <dc:language>en-US</dc:language>
  <cp:lastModifiedBy>АБАК</cp:lastModifiedBy>
  <dcterms:modified xsi:type="dcterms:W3CDTF">2011-11-16T07:37:53Z</dcterms:modified>
  <cp:revision>102</cp:revision>
  <dc:subject/>
  <dc:title>Односоставные предложения</dc:title>
</cp:coreProperties>
</file>