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8BED-0741-4701-A382-894DB89F42D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0E83-503E-447E-A031-CF1C145D12F2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11B7-73A0-48A4-AF77-55F590C5B98D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A692-634B-427B-A908-76F6951F5AE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51E4-6B4F-4268-809C-02D04D3795F6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E68F-B3C0-4F00-B910-2422C4CB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42F6-BBA7-4C73-A7A2-7AA994EB6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1741-C779-4780-A092-5F522A17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AF0-BC14-42F2-96F4-199FC1B3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62ED-B854-45D4-9F58-CBEC93295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4A69-2463-4EA6-9846-E91F32F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A562-4E82-4E3E-A4BB-74BB2A37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8F6D-6549-4058-9D11-1425753B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4DE1-DDC1-4FD5-8DFC-8B50A66F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AF59-E36D-484A-892F-7A5ADB4C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5FDF-BC4D-4353-9CDD-51CA027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C17-4DCC-4E6E-9621-67B3D420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97220-A859-4ABD-895F-8FB0B383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9236E-681D-46D5-859C-EE38A786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E0AF-E324-4D41-BB4F-5B5A4415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283-3FF3-4169-AC91-E8105D3C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5CE0-59D5-48F4-B425-A9F6D6CA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5C9-47C0-43D4-8211-C854676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2D9-17C0-4200-A6B4-64B80F0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EF9E-1D8D-48C2-A453-01697D7C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E51-AB60-41B7-8AE4-28287693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39A-2470-4EB3-870B-A48EFD0B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526-97CB-44C0-A13A-304B0E1F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53D-51BB-4AC0-92EE-276DCB0A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5EE9-D0E1-495C-88D9-93249326FE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9160" y="506520"/>
                  <a:ext cx="431640" cy="695160"/>
                </a:xfrm>
                <a:custGeom>
                  <a:avLst/>
                  <a:gdLst>
                    <a:gd name="textAreaLeft" fmla="*/ 0 w 431640"/>
                    <a:gd name="textAreaRight" fmla="*/ 432000 w 4316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5680" y="26928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5520" y="141012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4320"/>
                  <a:ext cx="290520" cy="228600"/>
                </a:xfrm>
                <a:custGeom>
                  <a:avLst/>
                  <a:gdLst>
                    <a:gd name="textAreaLeft" fmla="*/ 0 w 290520"/>
                    <a:gd name="textAreaRight" fmla="*/ 290880 w 29052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9320" y="19944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8B48-8DF1-48D3-BEC8-6F564565B0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172440" y="2164680"/>
            <a:ext cx="8799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«Формирование временных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b200"/>
                </a:solidFill>
                <a:latin typeface="Arial"/>
              </a:rPr>
              <a:t>представлений у дошкольников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отеряхина Н.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Comic Sans MS"/>
              </a:rPr>
              <a:t>Фея Зи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8" descr="F:\мама сад презентация\IMG_20170119_12070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1905120" y="2133720"/>
            <a:ext cx="5486400" cy="3124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Городской конкурс</a:t>
            </a:r>
            <a:br>
              <a:rPr sz="3600"/>
            </a:b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 «С миру по кукле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C:\Users\ё\Desktop\Новая папка\6m54MV-9i_k.jpg"/>
          <p:cNvPicPr/>
          <p:nvPr/>
        </p:nvPicPr>
        <p:blipFill>
          <a:blip r:embed="rId1"/>
          <a:srcRect l="0" t="1758" r="3125" b="0"/>
          <a:stretch/>
        </p:blipFill>
        <p:spPr>
          <a:xfrm>
            <a:off x="1676520" y="1600200"/>
            <a:ext cx="2361960" cy="425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Users\ё\Desktop\Новая папка\gOWIqcmOGN8.jpg"/>
          <p:cNvPicPr/>
          <p:nvPr/>
        </p:nvPicPr>
        <p:blipFill>
          <a:blip r:embed="rId2">
            <a:lum bright="10000"/>
          </a:blip>
          <a:srcRect l="0" t="4357" r="3031" b="0"/>
          <a:stretch/>
        </p:blipFill>
        <p:spPr>
          <a:xfrm>
            <a:off x="4800600" y="1600200"/>
            <a:ext cx="2438280" cy="4275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5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представления детей о временных последовательностях, временах года и частях суток, знание своего возраста, о способах измерения времен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ить воспроизводить фиксированный порядок следования во времени разных взаимосвязанных событий и процессов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умение определять и чувствовать отрезки времени, следить за временем в процессе своей деятельности, ценить его и не тратить попусту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звать у детей интерес к накопленному человечеством опыту постижения времени через конкретные исторические фак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основе собственного опыта детей формировать у детей личную заинтересованность, желание научиться разбираться во времени, фиксировать его и определя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беспечить успешное обучение в школ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200"/>
                </a:solidFill>
                <a:latin typeface="Comic Sans MS"/>
              </a:rPr>
              <a:t>Последовательность знакомства детей с мерами времени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младшей группе уточняются и конкретизируются знания детей о частях суток, формируются навыки распознавания и умение их называть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редней группе необходимо углубить и расширить эти знания и дать представление о последовательности частей суто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старшей группе - дать представление о сутках и познакомить при помощи календаря с неделей, месяцами, годом. Параллельно надо у детей развивать и само чувство времени, начать знакомить с длительностью таких мер времени, как 1 минута, 3, 5, 10 минут, полчаса и час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Comic Sans MS"/>
              </a:rPr>
              <a:t>Формы работы с детьм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рганизованная образовательная деятельность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амостоятельная деятельность детей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вместная деятельность воспитателя с детьм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икторин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чера досуг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ечера загадок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звлеч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уклы как модели временных периодов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Семь гномов - уголок дежурства 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Какой гном сегодня дежурный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Вчера, сегодня, завтра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По порядку стройся»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4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Д</a:t>
            </a:r>
            <a:r>
              <a:rPr b="0" lang="en-US" sz="2000" spc="-1" strike="noStrike">
                <a:solidFill>
                  <a:srgbClr val="7030a0"/>
                </a:solidFill>
                <a:latin typeface="Comic Sans MS"/>
              </a:rPr>
              <a:t>/</a:t>
            </a:r>
            <a:r>
              <a:rPr b="0" lang="ru-RU" sz="2000" spc="-1" strike="noStrike">
                <a:solidFill>
                  <a:srgbClr val="7030a0"/>
                </a:solidFill>
                <a:latin typeface="Comic Sans MS"/>
              </a:rPr>
              <a:t>и «Скажи, какой твой день по счету?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- Феи времен года и их месяцы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Что сначала, что потом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Подбери месяцы для каждого времени года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Признаки времен года»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601"/>
              </a:spcBef>
              <a:buClr>
                <a:srgbClr val="b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Д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/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и «Мое любимое время года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66"/>
                </a:solidFill>
                <a:latin typeface="Comic Sans MS"/>
              </a:rPr>
              <a:t>Дни недели – семь гномов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Рисунок 4" descr="F:\мама сад презентация\IMG_20170119_114936.jpg"/>
          <p:cNvPicPr/>
          <p:nvPr/>
        </p:nvPicPr>
        <p:blipFill>
          <a:blip r:embed="rId2">
            <a:lum contrast="30000"/>
          </a:blip>
          <a:srcRect l="0" t="13619" r="5064" b="16504"/>
          <a:stretch/>
        </p:blipFill>
        <p:spPr>
          <a:xfrm>
            <a:off x="762120" y="838080"/>
            <a:ext cx="3543120" cy="4638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Фея Осени и 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Comic Sans MS"/>
              </a:rPr>
              <a:t>её месяц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Содержимое 4" descr="F:\мама сад презентация\IMG_20170119_115519.jpg"/>
          <p:cNvPicPr/>
          <p:nvPr/>
        </p:nvPicPr>
        <p:blipFill>
          <a:blip r:embed="rId1">
            <a:lum contrast="30000"/>
          </a:blip>
          <a:srcRect l="0" t="0" r="0" b="37195"/>
          <a:stretch/>
        </p:blipFill>
        <p:spPr>
          <a:xfrm>
            <a:off x="1219320" y="2438280"/>
            <a:ext cx="6095880" cy="29718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66"/>
                </a:solidFill>
                <a:latin typeface="Comic Sans MS"/>
              </a:rPr>
              <a:t>Фея Лет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F:\мама сад презентация\IMG_20170119_115650.jpg"/>
          <p:cNvPicPr/>
          <p:nvPr/>
        </p:nvPicPr>
        <p:blipFill>
          <a:blip r:embed="rId3">
            <a:lum contrast="30000"/>
          </a:blip>
          <a:srcRect l="0" t="2467" r="0" b="9857"/>
          <a:stretch/>
        </p:blipFill>
        <p:spPr>
          <a:xfrm>
            <a:off x="1523880" y="2362320"/>
            <a:ext cx="5791320" cy="335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Comic Sans MS"/>
              </a:rPr>
              <a:t>Фея Весны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Содержимое 4" descr="F:\мама сад презентация\IMG_20170119_115329.jpg"/>
          <p:cNvPicPr/>
          <p:nvPr/>
        </p:nvPicPr>
        <p:blipFill>
          <a:blip r:embed="rId1">
            <a:lum contrast="30000"/>
          </a:blip>
          <a:srcRect l="1285" t="32375" r="1923" b="11632"/>
          <a:stretch/>
        </p:blipFill>
        <p:spPr>
          <a:xfrm>
            <a:off x="2438280" y="1981080"/>
            <a:ext cx="4419720" cy="40388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ё</cp:lastModifiedBy>
  <dcterms:modified xsi:type="dcterms:W3CDTF">2017-10-11T16:15:42Z</dcterms:modified>
  <cp:revision>7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lternateThumbnailUrl">
    <vt:lpwstr/>
  </property>
  <property fmtid="{D5CDD505-2E9C-101B-9397-08002B2CF9AE}" pid="3" name="ContentType">
    <vt:lpwstr>Рисунок</vt:lpwstr>
  </property>
  <property fmtid="{D5CDD505-2E9C-101B-9397-08002B2CF9AE}" pid="4" name="Description">
    <vt:lpwstr/>
  </property>
  <property fmtid="{D5CDD505-2E9C-101B-9397-08002B2CF9AE}" pid="5" name="ImageCreateDate">
    <vt:lpwstr/>
  </property>
  <property fmtid="{D5CDD505-2E9C-101B-9397-08002B2CF9AE}" pid="6" name="Version">
    <vt:r8>1</vt:r8>
  </property>
</Properties>
</file>