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A5F7-AC2A-4FD3-A2DD-49501DABDF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7926-6B05-4009-A424-1655CBE1E4D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A4B6-F616-4673-B2F7-FE78CC69A6E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B22F-86B9-41A3-A97F-5559653C053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7649-904F-4DEE-9CF8-8D425B7148C7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AAC-68E7-49A0-8C19-0A1A4E70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D45-E0F1-43BC-9A6A-ED525205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79C-66AD-4CD5-A38D-215004D3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EAC-C81C-4E53-BDF8-E4EE790F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CE04-459E-4EA1-840D-4F3901A7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70E3-106A-4CF4-A19B-9A23F7CC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CD7A-1BB4-42C2-9C8F-612345BA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AE6A-245A-4F94-934F-9F0678E0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7D9E-5054-4863-A4C4-A7B8AD0D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09D2-5B9B-4047-8254-70D694C8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3EB1-77C6-4147-9A86-0019F153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B21-7E73-4644-84E7-A989DAFA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ADB9-24BB-4466-932C-70D5492B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E2FF-59EC-4F8D-A7F8-0547BB19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EAD8-4B71-437E-AE9E-D7C69F8B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13E9-B926-47E3-888E-5B7EB986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96D5-E1E1-4358-80CF-C1205013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DDA5-5CB9-4C9E-B719-DF29B175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41C-1AC6-45A9-8ED0-6710A34C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5BD-0E3A-430B-BBC4-804A91C5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37A-8D4C-49A8-BA9A-C1497F77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148-127A-4FEB-9638-9CB88CAE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9E6-BABF-4BB2-AE1A-09B76B3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4D0-D46B-4E3E-9938-56D788BE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09B7-1F86-4596-A091-C20D4233F6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9160" y="506520"/>
                  <a:ext cx="431640" cy="695160"/>
                </a:xfrm>
                <a:custGeom>
                  <a:avLst/>
                  <a:gdLst>
                    <a:gd name="textAreaLeft" fmla="*/ 0 w 431640"/>
                    <a:gd name="textAreaRight" fmla="*/ 432000 w 4316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35680" y="26928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35520" y="141012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64320"/>
                  <a:ext cx="290520" cy="228600"/>
                </a:xfrm>
                <a:custGeom>
                  <a:avLst/>
                  <a:gdLst>
                    <a:gd name="textAreaLeft" fmla="*/ 0 w 290520"/>
                    <a:gd name="textAreaRight" fmla="*/ 290880 w 2905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9320" y="19944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18A5-55EC-49EB-AB80-D4BC2A8275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172440" y="2164680"/>
            <a:ext cx="8799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b200"/>
                </a:solidFill>
                <a:latin typeface="Arial"/>
              </a:rPr>
              <a:t>«Формирование временны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b200"/>
                </a:solidFill>
                <a:latin typeface="Arial"/>
              </a:rPr>
              <a:t>представлений у дошкольников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Потеряхина Н.В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Фея Зи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8" descr="F:\мама сад презентация\IMG_20170119_120705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905120" y="2133720"/>
            <a:ext cx="548640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Городской конкурс</a:t>
            </a:r>
            <a:br>
              <a:rPr sz="3600"/>
            </a:b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 «С миру по кукле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C:\Users\ё\Desktop\Новая папка\6m54MV-9i_k.jpg"/>
          <p:cNvPicPr/>
          <p:nvPr/>
        </p:nvPicPr>
        <p:blipFill>
          <a:blip r:embed="rId1"/>
          <a:srcRect l="0" t="1758" r="3125" b="0"/>
          <a:stretch/>
        </p:blipFill>
        <p:spPr>
          <a:xfrm>
            <a:off x="1676520" y="1600200"/>
            <a:ext cx="2361960" cy="4259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Users\ё\Desktop\Новая папка\gOWIqcmOGN8.jpg"/>
          <p:cNvPicPr/>
          <p:nvPr/>
        </p:nvPicPr>
        <p:blipFill>
          <a:blip r:embed="rId2">
            <a:lum bright="10000"/>
          </a:blip>
          <a:srcRect l="0" t="4357" r="3031" b="0"/>
          <a:stretch/>
        </p:blipFill>
        <p:spPr>
          <a:xfrm>
            <a:off x="4800600" y="1600200"/>
            <a:ext cx="2438280" cy="427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5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вать представления детей о временных последовательностях, временах года и частях суток, знание своего возраста, о способах измерения време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ь воспроизводить фиксированный порядок следования во времени разных взаимосвязанных событий и процесс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вать умение определять и чувствовать отрезки времени, следить за временем в процессе своей деятельности, ценить его и не тратить попуст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звать у детей интерес к накопленному человечеством опыту постижения времени через конкретные исторические факт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основе собственного опыта детей формировать у детей личную заинтересованность, желание научиться разбираться во времени, фиксировать его и определя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спечить успешное обучение в шко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Последовательность знакомства детей с мерами времен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младшей группе уточняются и конкретизируются знания детей о частях суток, формируются навыки распознавания и умение их назы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редней группе необходимо углубить и расширить эти знания и дать представление о последовательности частей суток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таршей группе - дать представление о сутках и познакомить при помощи календаря с неделей, месяцами, годом. Параллельно надо у детей развивать и само чувство времени, начать знакомить с длительностью таких мер времени, как 1 минута, 3, 5, 10 минут, полчаса и час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Формы работы с детьм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ованная образовательная деятельность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остоятельная деятельность дет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местная деятельность воспитателя с деть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кторин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чера досуг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чера загадок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лечен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уклы как модели временных периодов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Семь гномов - уголок дежурства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Д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и «Какой гном сегодня дежурный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Д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и «Вчера, сегодня, завтра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Д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и «По порядку стройся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Д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и «Скажи, какой твой день по счету?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Феи времен года и их месяц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b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/</a:t>
            </a: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и «Что сначала, что потом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b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/</a:t>
            </a: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и «Подбери месяцы для каждого времени года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b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/</a:t>
            </a: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и «Признаки времен года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b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/</a:t>
            </a: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и «Мое любимое время год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Дни недели – семь гном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Рисунок 4" descr="F:\мама сад презентация\IMG_20170119_114936.jpg"/>
          <p:cNvPicPr/>
          <p:nvPr/>
        </p:nvPicPr>
        <p:blipFill>
          <a:blip r:embed="rId2">
            <a:lum contrast="30000"/>
          </a:blip>
          <a:srcRect l="0" t="13619" r="5064" b="16504"/>
          <a:stretch/>
        </p:blipFill>
        <p:spPr>
          <a:xfrm>
            <a:off x="762120" y="838080"/>
            <a:ext cx="3543120" cy="463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Фея Осени и 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её меся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Содержимое 4" descr="F:\мама сад презентация\IMG_20170119_115519.jpg"/>
          <p:cNvPicPr/>
          <p:nvPr/>
        </p:nvPicPr>
        <p:blipFill>
          <a:blip r:embed="rId1">
            <a:lum contrast="30000"/>
          </a:blip>
          <a:srcRect l="0" t="0" r="0" b="37195"/>
          <a:stretch/>
        </p:blipFill>
        <p:spPr>
          <a:xfrm>
            <a:off x="1219320" y="2438280"/>
            <a:ext cx="6095880" cy="2971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Фея Лет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F:\мама сад презентация\IMG_20170119_115650.jpg"/>
          <p:cNvPicPr/>
          <p:nvPr/>
        </p:nvPicPr>
        <p:blipFill>
          <a:blip r:embed="rId3">
            <a:lum contrast="30000"/>
          </a:blip>
          <a:srcRect l="0" t="2467" r="0" b="9857"/>
          <a:stretch/>
        </p:blipFill>
        <p:spPr>
          <a:xfrm>
            <a:off x="1523880" y="2362320"/>
            <a:ext cx="5791320" cy="335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Comic Sans MS"/>
              </a:rPr>
              <a:t>Фея Весн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Содержимое 4" descr="F:\мама сад презентация\IMG_20170119_115329.jpg"/>
          <p:cNvPicPr/>
          <p:nvPr/>
        </p:nvPicPr>
        <p:blipFill>
          <a:blip r:embed="rId1">
            <a:lum contrast="30000"/>
          </a:blip>
          <a:srcRect l="1285" t="32375" r="1923" b="11632"/>
          <a:stretch/>
        </p:blipFill>
        <p:spPr>
          <a:xfrm>
            <a:off x="2438280" y="1981080"/>
            <a:ext cx="4419720" cy="4038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ё</cp:lastModifiedBy>
  <dcterms:modified xsi:type="dcterms:W3CDTF">2017-10-11T16:15:42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lternateThumbnailUrl">
    <vt:lpwstr/>
  </property>
  <property fmtid="{D5CDD505-2E9C-101B-9397-08002B2CF9AE}" pid="3" name="ContentType">
    <vt:lpwstr>Рисунок</vt:lpwstr>
  </property>
  <property fmtid="{D5CDD505-2E9C-101B-9397-08002B2CF9AE}" pid="4" name="Description">
    <vt:lpwstr/>
  </property>
  <property fmtid="{D5CDD505-2E9C-101B-9397-08002B2CF9AE}" pid="5" name="ImageCreateDate">
    <vt:lpwstr/>
  </property>
  <property fmtid="{D5CDD505-2E9C-101B-9397-08002B2CF9AE}" pid="6" name="Version">
    <vt:r8>1</vt:r8>
  </property>
</Properties>
</file>