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309-5B6C-46E3-AD05-9D78AB10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D59-4513-4A9A-A9E4-A18ADDC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8D5-F773-4518-9034-BDDADDC1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ABE-CCEB-4B63-81C8-0EEAD3B6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F52-0C37-44D2-85B7-6877147D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D73D-FF6A-46D4-9DE4-0D4CDC2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1A8-E421-4CE1-9776-9EDB376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9AE9-81C0-4943-92E0-9D1F027D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FC04-5C3F-45A7-A5C2-DD475AD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824-1C0F-4E56-9380-B80AB7B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46A-445C-4241-8E0A-4D49D41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156-1863-441F-B88E-EC0FF5C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25B-24C7-42FE-AD63-7A99B15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7E6-17E9-47A4-8B93-3BF91E9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BA04-65ED-4177-AE0F-D552F0B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374-A77C-4FE1-BAD7-2FF73A6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72B-EECF-44F2-9A9C-4799EB70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81C-1BFE-4403-8B32-31B9BF5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D17-D652-4F05-98AF-58BFD9E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AD3-C166-4E42-A0B1-FF6F9CB3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D12-BE0B-4293-AE19-5C15EA75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AC4-42D1-40D7-81D1-80FC8B1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DFE-BA5D-412A-A343-DDC4AF0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541-1F2F-4856-91D1-642EFD8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AAC-7825-4414-8ABA-9DB4FDE52A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CFA-A4B9-453C-903B-BB96E2DCFB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BONJOUR, LA FRANC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DI, L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PTEMB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france-flag[1]"/>
          <p:cNvPicPr/>
          <p:nvPr/>
        </p:nvPicPr>
        <p:blipFill>
          <a:blip r:embed="rId1"/>
          <a:stretch/>
        </p:blipFill>
        <p:spPr>
          <a:xfrm>
            <a:off x="3029040" y="333360"/>
            <a:ext cx="3085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4" descr="лион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95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4" descr="ницца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03280" y="1484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ИЦЦ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страсбург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4853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5940360" y="141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СБУР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4" descr="тулуза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900000" y="8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УЛУЗ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4" descr="экс ан прованс"/>
          <p:cNvPicPr/>
          <p:nvPr/>
        </p:nvPicPr>
        <p:blipFill>
          <a:blip r:embed="rId1"/>
          <a:stretch/>
        </p:blipFill>
        <p:spPr>
          <a:xfrm>
            <a:off x="635040" y="965160"/>
            <a:ext cx="7873920" cy="4927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332000" y="1557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-АН-ПРОВАН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париж"/>
          <p:cNvPicPr/>
          <p:nvPr/>
        </p:nvPicPr>
        <p:blipFill>
          <a:blip r:embed="rId1"/>
          <a:stretch/>
        </p:blipFill>
        <p:spPr>
          <a:xfrm>
            <a:off x="762120" y="765000"/>
            <a:ext cx="7619760" cy="504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00000" y="522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И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РАНЦИ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ложение в м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Найдите на карте Европы Франц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страны ее окружаю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моря омывают Францию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7" descr="европа 1"/>
          <p:cNvPicPr/>
          <p:nvPr/>
        </p:nvPicPr>
        <p:blipFill>
          <a:blip r:embed="rId1"/>
          <a:stretch/>
        </p:blipFill>
        <p:spPr>
          <a:xfrm>
            <a:off x="457200" y="1658880"/>
            <a:ext cx="4038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ощадь - 674 685 кв к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 - 66 200 000 че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76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зовите известные вам французские горо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6" descr="территориальное деление франции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ОСУДАРСТВЕННАЯ СИМВОЛ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ВИЗ - Liberté, Égalité, Fraternité - Свобода, Равенство, Брат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ИМН - Марсельез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флаг"/>
          <p:cNvPicPr/>
          <p:nvPr/>
        </p:nvPicPr>
        <p:blipFill>
          <a:blip r:embed="rId1"/>
          <a:stretch/>
        </p:blipFill>
        <p:spPr>
          <a:xfrm>
            <a:off x="5138640" y="163656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ЛЬТУРА И ИСКУС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0" name="Diagram 6"/>
          <p:cNvGrpSpPr/>
          <p:nvPr/>
        </p:nvGrpSpPr>
        <p:grpSpPr>
          <a:xfrm>
            <a:off x="2630520" y="1700280"/>
            <a:ext cx="3813120" cy="4240080"/>
            <a:chOff x="2630520" y="1700280"/>
            <a:chExt cx="3813120" cy="4240080"/>
          </a:xfrm>
        </p:grpSpPr>
        <p:sp>
          <p:nvSpPr>
            <p:cNvPr id="171" name="_s1028"/>
            <p:cNvSpPr/>
            <p:nvPr/>
          </p:nvSpPr>
          <p:spPr>
            <a:xfrm flipH="1" flipV="1">
              <a:off x="3614760" y="3287520"/>
              <a:ext cx="4636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_s1029"/>
            <p:cNvSpPr/>
            <p:nvPr/>
          </p:nvSpPr>
          <p:spPr>
            <a:xfrm>
              <a:off x="2630520" y="249696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АРХИТЕКТУР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_s1030"/>
            <p:cNvSpPr/>
            <p:nvPr/>
          </p:nvSpPr>
          <p:spPr>
            <a:xfrm flipH="1">
              <a:off x="3614760" y="4084560"/>
              <a:ext cx="4651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_s1031"/>
            <p:cNvSpPr/>
            <p:nvPr/>
          </p:nvSpPr>
          <p:spPr>
            <a:xfrm>
              <a:off x="2630520" y="40863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ТЕАТР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_s1032"/>
            <p:cNvSpPr/>
            <p:nvPr/>
          </p:nvSpPr>
          <p:spPr>
            <a:xfrm>
              <a:off x="4535640" y="4346640"/>
              <a:ext cx="1440" cy="53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4006800" y="488160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КИНО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4992840" y="4083120"/>
              <a:ext cx="463320" cy="26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5384880" y="40863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МУЗЫК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_s1036"/>
            <p:cNvSpPr/>
            <p:nvPr/>
          </p:nvSpPr>
          <p:spPr>
            <a:xfrm flipV="1">
              <a:off x="4992840" y="3288960"/>
              <a:ext cx="4633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_s1037"/>
            <p:cNvSpPr/>
            <p:nvPr/>
          </p:nvSpPr>
          <p:spPr>
            <a:xfrm>
              <a:off x="5384880" y="249552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ЛИТЕРАТУР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38"/>
            <p:cNvSpPr/>
            <p:nvPr/>
          </p:nvSpPr>
          <p:spPr>
            <a:xfrm flipV="1">
              <a:off x="4535640" y="2757600"/>
              <a:ext cx="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9"/>
            <p:cNvSpPr/>
            <p:nvPr/>
          </p:nvSpPr>
          <p:spPr>
            <a:xfrm>
              <a:off x="4006800" y="170028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ЖИВОПИСЬ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40"/>
            <p:cNvSpPr/>
            <p:nvPr/>
          </p:nvSpPr>
          <p:spPr>
            <a:xfrm>
              <a:off x="4006800" y="32925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ФРАНЦИЯ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РХИТЕК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8" descr="пон дю гар"/>
          <p:cNvPicPr/>
          <p:nvPr/>
        </p:nvPicPr>
        <p:blipFill>
          <a:blip r:embed="rId1"/>
          <a:stretch/>
        </p:blipFill>
        <p:spPr>
          <a:xfrm>
            <a:off x="698400" y="1600200"/>
            <a:ext cx="355464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шамбор"/>
          <p:cNvPicPr/>
          <p:nvPr/>
        </p:nvPicPr>
        <p:blipFill>
          <a:blip r:embed="rId2"/>
          <a:stretch/>
        </p:blipFill>
        <p:spPr>
          <a:xfrm>
            <a:off x="611280" y="407664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версаль"/>
          <p:cNvPicPr/>
          <p:nvPr/>
        </p:nvPicPr>
        <p:blipFill>
          <a:blip r:embed="rId3"/>
          <a:stretch/>
        </p:blipFill>
        <p:spPr>
          <a:xfrm>
            <a:off x="4500720" y="11970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ля дефанс"/>
          <p:cNvPicPr/>
          <p:nvPr/>
        </p:nvPicPr>
        <p:blipFill>
          <a:blip r:embed="rId4"/>
          <a:stretch/>
        </p:blipFill>
        <p:spPr>
          <a:xfrm>
            <a:off x="4500720" y="4005360"/>
            <a:ext cx="410508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826920" y="429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Шамбор,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XVI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в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1512720" y="4273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900000" y="1628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 дю Гар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к н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ль Перр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XV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андр Дюма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к Бессон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шарль перро"/>
          <p:cNvPicPr/>
          <p:nvPr/>
        </p:nvPicPr>
        <p:blipFill>
          <a:blip r:embed="rId1"/>
          <a:stretch/>
        </p:blipFill>
        <p:spPr>
          <a:xfrm>
            <a:off x="539640" y="119700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сказки"/>
          <p:cNvPicPr/>
          <p:nvPr/>
        </p:nvPicPr>
        <p:blipFill>
          <a:blip r:embed="rId2"/>
          <a:stretch/>
        </p:blipFill>
        <p:spPr>
          <a:xfrm>
            <a:off x="6948360" y="1052640"/>
            <a:ext cx="155268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дюма"/>
          <p:cNvPicPr/>
          <p:nvPr/>
        </p:nvPicPr>
        <p:blipFill>
          <a:blip r:embed="rId3"/>
          <a:stretch/>
        </p:blipFill>
        <p:spPr>
          <a:xfrm>
            <a:off x="684360" y="2924280"/>
            <a:ext cx="1414440" cy="208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три мушкетера"/>
          <p:cNvPicPr/>
          <p:nvPr/>
        </p:nvPicPr>
        <p:blipFill>
          <a:blip r:embed="rId4"/>
          <a:stretch/>
        </p:blipFill>
        <p:spPr>
          <a:xfrm>
            <a:off x="7667640" y="2924280"/>
            <a:ext cx="1214280" cy="2003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бессон люк"/>
          <p:cNvPicPr/>
          <p:nvPr/>
        </p:nvPicPr>
        <p:blipFill>
          <a:blip r:embed="rId5"/>
          <a:stretch/>
        </p:blipFill>
        <p:spPr>
          <a:xfrm>
            <a:off x="777960" y="5229360"/>
            <a:ext cx="1617480" cy="162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артур и минипуты"/>
          <p:cNvPicPr/>
          <p:nvPr/>
        </p:nvPicPr>
        <p:blipFill>
          <a:blip r:embed="rId6"/>
          <a:stretch/>
        </p:blipFill>
        <p:spPr>
          <a:xfrm>
            <a:off x="5796000" y="4334040"/>
            <a:ext cx="1762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эдит пиаф"/>
          <p:cNvPicPr/>
          <p:nvPr/>
        </p:nvPicPr>
        <p:blipFill>
          <a:blip r:embed="rId1"/>
          <a:stretch/>
        </p:blipFill>
        <p:spPr>
          <a:xfrm>
            <a:off x="468360" y="1484280"/>
            <a:ext cx="2857320" cy="196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заз"/>
          <p:cNvPicPr/>
          <p:nvPr/>
        </p:nvPicPr>
        <p:blipFill>
          <a:blip r:embed="rId2"/>
          <a:stretch/>
        </p:blipFill>
        <p:spPr>
          <a:xfrm>
            <a:off x="3492360" y="2421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милен фармер"/>
          <p:cNvPicPr/>
          <p:nvPr/>
        </p:nvPicPr>
        <p:blipFill>
          <a:blip r:embed="rId3"/>
          <a:stretch/>
        </p:blipFill>
        <p:spPr>
          <a:xfrm>
            <a:off x="1042920" y="357336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стромай"/>
          <p:cNvPicPr/>
          <p:nvPr/>
        </p:nvPicPr>
        <p:blipFill>
          <a:blip r:embed="rId4"/>
          <a:stretch/>
        </p:blipFill>
        <p:spPr>
          <a:xfrm>
            <a:off x="6659640" y="2565360"/>
            <a:ext cx="1768320" cy="2652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611280" y="148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дит Пиаф 1915-196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187280" y="5589720"/>
            <a:ext cx="14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илен Фарме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Канад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148360" y="443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804000" y="42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ромай (Бельги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АМЫЕ КРАСИВЫЕ ГОР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бордо"/>
          <p:cNvPicPr/>
          <p:nvPr/>
        </p:nvPicPr>
        <p:blipFill>
          <a:blip r:embed="rId1"/>
          <a:stretch/>
        </p:blipFill>
        <p:spPr>
          <a:xfrm>
            <a:off x="539640" y="1336680"/>
            <a:ext cx="8282160" cy="5521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611280" y="184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РД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5:47:16Z</dcterms:created>
  <dc:creator>солдатовы</dc:creator>
  <dc:description/>
  <dc:language>en-US</dc:language>
  <cp:lastModifiedBy>солдатовы</cp:lastModifiedBy>
  <dcterms:modified xsi:type="dcterms:W3CDTF">2017-10-11T17:36:57Z</dcterms:modified>
  <cp:revision>10</cp:revision>
  <dc:subject/>
  <dc:title>BONJOUR, LA FRANCE!</dc:title>
</cp:coreProperties>
</file>