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6F9B-CFFB-49DC-AAC3-86CCB3EE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FA3-D55A-4811-9F5F-6CD3B24B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454-94E7-4CD5-8BAD-9AA1260F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3148-E199-4F21-94B0-8F95271D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A7C27-70CF-44B0-B3DA-DE70F099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F6EB-2507-4AEE-9051-F40781C1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4058-D637-4ADB-B8CF-C90601A1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1B09-9117-4823-B763-27397ED8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A256-5BC9-4E71-B3DA-81D4D675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E93F-D2BE-4017-A456-B6CEB702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6AA6-FB7A-425F-B56D-B6C7B0E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EA8C-1AB2-4FCF-9EDD-240553D1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B6F0-31F4-4B84-B291-B7D0CABC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3B4A-C060-40F8-B60D-20319DE2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2E54-91AF-425A-B0DC-45F735CB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6C17-F8CB-4196-B94E-4512759A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D873-7FE9-47C4-A62C-8D5AB9242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2D68-830D-4A33-970F-2EE234ABA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0B0-06A8-45A2-B672-7CD9C4B9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FF36-8BF7-45C1-A341-7AF7BB07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D49-2A1C-47F5-86AF-0DF56460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FDA-62CB-4523-8308-A5288DFD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6C41-8DC0-4007-81C2-807828D3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0FD5-06CD-47F6-9B7F-5FDEF725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CB8B-4174-4A4A-A777-DB5073605D8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10C4-8C0B-4116-B9E2-053FDBFB428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BONJOUR, LA FRANC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MEDI, LE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SEPTEMB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Picture 4" descr="france-flag[1]"/>
          <p:cNvPicPr/>
          <p:nvPr/>
        </p:nvPicPr>
        <p:blipFill>
          <a:blip r:embed="rId1"/>
          <a:stretch/>
        </p:blipFill>
        <p:spPr>
          <a:xfrm>
            <a:off x="3029040" y="333360"/>
            <a:ext cx="3085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4" descr="лион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395280" y="1916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ЛИОН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0" name="Picture 4" descr="ницца"/>
          <p:cNvPicPr/>
          <p:nvPr/>
        </p:nvPicPr>
        <p:blipFill>
          <a:blip r:embed="rId1"/>
          <a:stretch/>
        </p:blipFill>
        <p:spPr>
          <a:xfrm>
            <a:off x="285840" y="1052640"/>
            <a:ext cx="8572320" cy="4752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>
            <a:off x="1403280" y="1484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НИЦЦ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Picture 4" descr="страсбург"/>
          <p:cNvPicPr/>
          <p:nvPr/>
        </p:nvPicPr>
        <p:blipFill>
          <a:blip r:embed="rId1"/>
          <a:stretch/>
        </p:blipFill>
        <p:spPr>
          <a:xfrm>
            <a:off x="755640" y="907920"/>
            <a:ext cx="8064360" cy="48531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5940360" y="14130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ТРАСБУРГ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8" name="Picture 4" descr="тулуза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900000" y="83664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ТУЛУЗ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2" name="Picture 4" descr="экс ан прованс"/>
          <p:cNvPicPr/>
          <p:nvPr/>
        </p:nvPicPr>
        <p:blipFill>
          <a:blip r:embed="rId1"/>
          <a:stretch/>
        </p:blipFill>
        <p:spPr>
          <a:xfrm>
            <a:off x="635040" y="965160"/>
            <a:ext cx="7873920" cy="492768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5"/>
          <p:cNvSpPr/>
          <p:nvPr/>
        </p:nvSpPr>
        <p:spPr>
          <a:xfrm>
            <a:off x="1332000" y="155736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КС-АН-ПРОВАНС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6" name="Picture 4" descr="париж"/>
          <p:cNvPicPr/>
          <p:nvPr/>
        </p:nvPicPr>
        <p:blipFill>
          <a:blip r:embed="rId1"/>
          <a:stretch/>
        </p:blipFill>
        <p:spPr>
          <a:xfrm>
            <a:off x="762120" y="765000"/>
            <a:ext cx="7619760" cy="50403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900000" y="5229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АРИЖ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ФРАНЦИЯ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ложение в мире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д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 Найдите на карте Европы Франци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страны ее окружают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Какие моря омывают Францию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7" descr="европа 1"/>
          <p:cNvPicPr/>
          <p:nvPr/>
        </p:nvPicPr>
        <p:blipFill>
          <a:blip r:embed="rId1"/>
          <a:stretch/>
        </p:blipFill>
        <p:spPr>
          <a:xfrm>
            <a:off x="457200" y="1658880"/>
            <a:ext cx="403848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РАНЦ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ощадь - 674 685 кв к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еление - 66 200 000 че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b76"/>
                </a:solidFill>
                <a:latin typeface="Verdana"/>
              </a:rPr>
              <a:t>Задание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зовите известные вам французские горо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4" name="Picture 6" descr="территориальное деление франции"/>
          <p:cNvPicPr/>
          <p:nvPr/>
        </p:nvPicPr>
        <p:blipFill>
          <a:blip r:embed="rId1"/>
          <a:stretch/>
        </p:blipFill>
        <p:spPr>
          <a:xfrm>
            <a:off x="4648320" y="1341360"/>
            <a:ext cx="40384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ГОСУДАРСТВЕННАЯ СИМВОЛИ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5627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ЛА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ВИЗ - Liberté, Égalité, Fraternité - Свобода, Равенство, Братство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ИМН - Марсельез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8320" y="394128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8" name="Picture 8" descr="флаг"/>
          <p:cNvPicPr/>
          <p:nvPr/>
        </p:nvPicPr>
        <p:blipFill>
          <a:blip r:embed="rId1"/>
          <a:stretch/>
        </p:blipFill>
        <p:spPr>
          <a:xfrm>
            <a:off x="5138640" y="1636560"/>
            <a:ext cx="304812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УЛЬТУРА И ИСКУС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0" name="Diagram 6"/>
          <p:cNvGrpSpPr/>
          <p:nvPr/>
        </p:nvGrpSpPr>
        <p:grpSpPr>
          <a:xfrm>
            <a:off x="2630520" y="1700280"/>
            <a:ext cx="3813120" cy="4240080"/>
            <a:chOff x="2630520" y="1700280"/>
            <a:chExt cx="3813120" cy="4240080"/>
          </a:xfrm>
        </p:grpSpPr>
        <p:sp>
          <p:nvSpPr>
            <p:cNvPr id="171" name="_s1028"/>
            <p:cNvSpPr/>
            <p:nvPr/>
          </p:nvSpPr>
          <p:spPr>
            <a:xfrm flipH="1" flipV="1">
              <a:off x="3614760" y="3287520"/>
              <a:ext cx="463680" cy="269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_s1029"/>
            <p:cNvSpPr/>
            <p:nvPr/>
          </p:nvSpPr>
          <p:spPr>
            <a:xfrm>
              <a:off x="2630520" y="2496960"/>
              <a:ext cx="1058760" cy="105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АРХИТЕКТУР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_s1030"/>
            <p:cNvSpPr/>
            <p:nvPr/>
          </p:nvSpPr>
          <p:spPr>
            <a:xfrm flipH="1">
              <a:off x="3614760" y="4084560"/>
              <a:ext cx="4651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4" name="_s1031"/>
            <p:cNvSpPr/>
            <p:nvPr/>
          </p:nvSpPr>
          <p:spPr>
            <a:xfrm>
              <a:off x="2630520" y="408636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ТЕАТР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5" name="_s1032"/>
            <p:cNvSpPr/>
            <p:nvPr/>
          </p:nvSpPr>
          <p:spPr>
            <a:xfrm>
              <a:off x="4535640" y="4346640"/>
              <a:ext cx="1440" cy="536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_s1033"/>
            <p:cNvSpPr/>
            <p:nvPr/>
          </p:nvSpPr>
          <p:spPr>
            <a:xfrm>
              <a:off x="4006800" y="488160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КИНО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7" name="_s1034"/>
            <p:cNvSpPr/>
            <p:nvPr/>
          </p:nvSpPr>
          <p:spPr>
            <a:xfrm>
              <a:off x="4992840" y="4083120"/>
              <a:ext cx="463320" cy="268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_s1035"/>
            <p:cNvSpPr/>
            <p:nvPr/>
          </p:nvSpPr>
          <p:spPr>
            <a:xfrm>
              <a:off x="5384880" y="408636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МУЗЫК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9" name="_s1036"/>
            <p:cNvSpPr/>
            <p:nvPr/>
          </p:nvSpPr>
          <p:spPr>
            <a:xfrm flipV="1">
              <a:off x="4992840" y="3288960"/>
              <a:ext cx="46332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0" name="_s1037"/>
            <p:cNvSpPr/>
            <p:nvPr/>
          </p:nvSpPr>
          <p:spPr>
            <a:xfrm>
              <a:off x="5384880" y="249552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ЛИТЕРАТУРА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1" name="_s1038"/>
            <p:cNvSpPr/>
            <p:nvPr/>
          </p:nvSpPr>
          <p:spPr>
            <a:xfrm flipV="1">
              <a:off x="4535640" y="2757600"/>
              <a:ext cx="0" cy="534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2" name="_s1039"/>
            <p:cNvSpPr/>
            <p:nvPr/>
          </p:nvSpPr>
          <p:spPr>
            <a:xfrm>
              <a:off x="4006800" y="170028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ЖИВОПИСЬ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3" name="_s1040"/>
            <p:cNvSpPr/>
            <p:nvPr/>
          </p:nvSpPr>
          <p:spPr>
            <a:xfrm>
              <a:off x="4006800" y="3292560"/>
              <a:ext cx="1058760" cy="10587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ФРАНЦИЯ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АРХИТЕКТУР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Picture 8" descr="пон дю гар"/>
          <p:cNvPicPr/>
          <p:nvPr/>
        </p:nvPicPr>
        <p:blipFill>
          <a:blip r:embed="rId1"/>
          <a:stretch/>
        </p:blipFill>
        <p:spPr>
          <a:xfrm>
            <a:off x="698400" y="1600200"/>
            <a:ext cx="3554640" cy="21891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шамбор"/>
          <p:cNvPicPr/>
          <p:nvPr/>
        </p:nvPicPr>
        <p:blipFill>
          <a:blip r:embed="rId2"/>
          <a:stretch/>
        </p:blipFill>
        <p:spPr>
          <a:xfrm>
            <a:off x="611280" y="4076640"/>
            <a:ext cx="3208320" cy="2405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версаль"/>
          <p:cNvPicPr/>
          <p:nvPr/>
        </p:nvPicPr>
        <p:blipFill>
          <a:blip r:embed="rId3"/>
          <a:stretch/>
        </p:blipFill>
        <p:spPr>
          <a:xfrm>
            <a:off x="4500720" y="1197000"/>
            <a:ext cx="4038480" cy="2692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ля дефанс"/>
          <p:cNvPicPr/>
          <p:nvPr/>
        </p:nvPicPr>
        <p:blipFill>
          <a:blip r:embed="rId4"/>
          <a:stretch/>
        </p:blipFill>
        <p:spPr>
          <a:xfrm>
            <a:off x="4500720" y="4005360"/>
            <a:ext cx="4105080" cy="259236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3"/>
          <p:cNvSpPr/>
          <p:nvPr/>
        </p:nvSpPr>
        <p:spPr>
          <a:xfrm>
            <a:off x="826920" y="429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Шамбор, </a:t>
            </a: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XVI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век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1512720" y="4273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900000" y="162864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н дю Гар,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ек нэ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Шарль Перро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– XVII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лександр Дюма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юк Бессон –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X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4" descr="шарль перро"/>
          <p:cNvPicPr/>
          <p:nvPr/>
        </p:nvPicPr>
        <p:blipFill>
          <a:blip r:embed="rId1"/>
          <a:stretch/>
        </p:blipFill>
        <p:spPr>
          <a:xfrm>
            <a:off x="539640" y="1197000"/>
            <a:ext cx="1656000" cy="1592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сказки"/>
          <p:cNvPicPr/>
          <p:nvPr/>
        </p:nvPicPr>
        <p:blipFill>
          <a:blip r:embed="rId2"/>
          <a:stretch/>
        </p:blipFill>
        <p:spPr>
          <a:xfrm>
            <a:off x="6948360" y="1052640"/>
            <a:ext cx="1552680" cy="1655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дюма"/>
          <p:cNvPicPr/>
          <p:nvPr/>
        </p:nvPicPr>
        <p:blipFill>
          <a:blip r:embed="rId3"/>
          <a:stretch/>
        </p:blipFill>
        <p:spPr>
          <a:xfrm>
            <a:off x="684360" y="2924280"/>
            <a:ext cx="1414440" cy="2089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три мушкетера"/>
          <p:cNvPicPr/>
          <p:nvPr/>
        </p:nvPicPr>
        <p:blipFill>
          <a:blip r:embed="rId4"/>
          <a:stretch/>
        </p:blipFill>
        <p:spPr>
          <a:xfrm>
            <a:off x="7667640" y="2924280"/>
            <a:ext cx="1214280" cy="2003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8" descr="бессон люк"/>
          <p:cNvPicPr/>
          <p:nvPr/>
        </p:nvPicPr>
        <p:blipFill>
          <a:blip r:embed="rId5"/>
          <a:stretch/>
        </p:blipFill>
        <p:spPr>
          <a:xfrm>
            <a:off x="777960" y="5229360"/>
            <a:ext cx="1617480" cy="1628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9" descr="артур и минипуты"/>
          <p:cNvPicPr/>
          <p:nvPr/>
        </p:nvPicPr>
        <p:blipFill>
          <a:blip r:embed="rId6"/>
          <a:stretch/>
        </p:blipFill>
        <p:spPr>
          <a:xfrm>
            <a:off x="5796000" y="4334040"/>
            <a:ext cx="176220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ЗЫ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эдит пиаф"/>
          <p:cNvPicPr/>
          <p:nvPr/>
        </p:nvPicPr>
        <p:blipFill>
          <a:blip r:embed="rId1"/>
          <a:stretch/>
        </p:blipFill>
        <p:spPr>
          <a:xfrm>
            <a:off x="468360" y="1484280"/>
            <a:ext cx="2857320" cy="196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заз"/>
          <p:cNvPicPr/>
          <p:nvPr/>
        </p:nvPicPr>
        <p:blipFill>
          <a:blip r:embed="rId2"/>
          <a:stretch/>
        </p:blipFill>
        <p:spPr>
          <a:xfrm>
            <a:off x="3492360" y="242100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милен фармер"/>
          <p:cNvPicPr/>
          <p:nvPr/>
        </p:nvPicPr>
        <p:blipFill>
          <a:blip r:embed="rId3"/>
          <a:stretch/>
        </p:blipFill>
        <p:spPr>
          <a:xfrm>
            <a:off x="1042920" y="357336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стромай"/>
          <p:cNvPicPr/>
          <p:nvPr/>
        </p:nvPicPr>
        <p:blipFill>
          <a:blip r:embed="rId4"/>
          <a:stretch/>
        </p:blipFill>
        <p:spPr>
          <a:xfrm>
            <a:off x="6659640" y="2565360"/>
            <a:ext cx="1768320" cy="2652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8"/>
          <p:cNvSpPr/>
          <p:nvPr/>
        </p:nvSpPr>
        <p:spPr>
          <a:xfrm>
            <a:off x="611280" y="148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Эдит Пиаф 1915-196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187280" y="5589720"/>
            <a:ext cx="1440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Милен Фармер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(Канада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5148360" y="4437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Заз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804000" y="422100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тромай (Бельгия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АМЫЕ КРАСИВЫЕ ГОРО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4" descr="бордо"/>
          <p:cNvPicPr/>
          <p:nvPr/>
        </p:nvPicPr>
        <p:blipFill>
          <a:blip r:embed="rId1"/>
          <a:stretch/>
        </p:blipFill>
        <p:spPr>
          <a:xfrm>
            <a:off x="539640" y="1336680"/>
            <a:ext cx="8282160" cy="5521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>
            <a:off x="611280" y="1844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БОРДО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1T15:47:16Z</dcterms:created>
  <dc:creator>солдатовы</dc:creator>
  <dc:description/>
  <dc:language>en-US</dc:language>
  <cp:lastModifiedBy>солдатовы</cp:lastModifiedBy>
  <dcterms:modified xsi:type="dcterms:W3CDTF">2017-10-11T17:36:57Z</dcterms:modified>
  <cp:revision>10</cp:revision>
  <dc:subject/>
  <dc:title>BONJOUR, LA FRANCE!</dc:title>
</cp:coreProperties>
</file>