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04B2-C279-4D69-8A5A-E2470B44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4137-D79A-4FF8-80EC-9C373FE2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09DD-E0C2-4ED7-A216-A7DB2A50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C74-D559-4FB9-9CB4-4798E326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4FAC-D9C7-49F7-A316-FE22378A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115D-DA6C-4F35-8B82-4F01D8E3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5773-0C12-47B8-8DBD-1F4E0239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E99B-35AC-467F-9BD8-07D56B85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E654-75AC-4241-A96E-B2154F6D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A2A6-71C7-4D42-802D-17ACAD72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47D9-21B8-4589-A338-A6F3BD8A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5BF7-0915-4BB2-AFC0-9415E770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2D66-94B2-4971-9987-CAB44053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A973-C001-4A10-803E-D75EF3AF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E1EC-BEE8-4292-940D-5C4F753C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C3C0-6386-44D7-A6E5-6E745070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AB02-4E61-40AE-B2FA-08BD471F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6AF-090D-443E-9B91-9E18DE00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33D5-0519-4DBD-9775-17B86450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B260-6D4A-483E-B761-D8888D83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B8EC-2326-446C-861C-CC6B8FD1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F2A8-12B0-43B3-9550-E8649BCB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76DB-E418-4D8E-AECF-1F23AC54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5656-BE7D-4CB8-A293-C3CCD43F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D909-B449-43B1-B72D-09D0C495AE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5AC5-E583-4BAE-8CD0-6192C3ED4E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2268360" y="1197000"/>
            <a:ext cx="516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ждик босиком по земле проше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лены по плечам хлопал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 ясный день, это хорош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когда наоборот - плох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ышишь, как звенят в небе высо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лнечных лучей струн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 добрый ты, то всегда легк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когда наоборот - труд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 каждым поделись радостью сво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ыпая смех звучно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 песни петь, с ними весел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когда наоборот - скучно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Сказка «Вежливый кролик»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052280"/>
            <a:ext cx="8007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л- был кролик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н был очень воспитанный и вежливы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днажды кролик шел из чащи леса домо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ак вдруг небо потемнел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солнце надвинулись туч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полил дожд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 его пути была огромная пещер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которой кролик решил укрыться от дожд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о он не знал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что в этой пещере живет старая ядовитая зме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на редко выползала из не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тому что не любила солнц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е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елен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расоту вокруг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ролик не сразу вошел в пеще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н вежливо спроси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важаемая пещер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зрешите мне войти и переждать под вашими сводами дожд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лышав голос кролик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ме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достно ответил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ход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ролик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 голоса змеи кролик испугалс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о не подал вид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н вежливо сказа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стит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я не знал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что здесь занят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что здесь кто-то живе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сего доброг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о свида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е смею вас беспокои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со всех ног бросился бежать домо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мея разозлившис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 ужасом зашипел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    О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ж эти мне вежливые кролик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Доброта» … - что скрыто за этим слово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219640" y="0"/>
            <a:ext cx="3625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сь секрет в том, что только вежливому, воспитанному и доброму человеку окружающие люди всегда относятся по-доброму. Только такого человека все любят, уважают. Если я хочу чтобы мне было хорошо, я должен относиться к окружающим так, как мне хотелось бы чтобы они относились ко мне. Драться с друзьями нельз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ткин Ро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Изображение 004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-608472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3280" y="0"/>
            <a:ext cx="450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брый человек не спорит с учителями, воспитателями. Он слушается своих родителей, не грубит. Добрый человек здоровается со всеми, в автобусе уступает свое место старикам и старухам. Он делится со всеми, не жаднич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тряшов Арт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Изображение 005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8385120" y="-1432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16000" y="0"/>
            <a:ext cx="4427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брый человек никого не обижает, слушает что говорят взрослые. Добрый человек всегда вежлив. Старается помогать своим друзьям, пожилым людям. Добрым быть очень не прост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менова Крист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Изображение 006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-5875200"/>
            <a:ext cx="206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79440" y="549360"/>
            <a:ext cx="42642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брый человек готов заступиться за товарища, с которым поступили неправильно. В общественных местах громко не говорит, чтобы не мешать другим. Хорошо что на свете больше добрых людей, чем злых. Добро всегда побеждает зло. Будьте добре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ргеева Екатер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Изображение 008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71640" y="404640"/>
            <a:ext cx="800712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каждом из нас есть маленькое солнц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солнце- доброта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обрый человек- то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кто любит людей и помогает им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обрый человек любит природу и сохраняет е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 любовь и помощь согревают как солнц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820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 улыбки хмурый день светле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 улыбки в небе радуга проснётся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елись улыбкою своей —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она к тебе не раз еще вернё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тогда наверня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друг запляшут обла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кузнечик запиликает на скрипк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 голубого ручей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ачинается ре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у а дружба начинается с улыб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 улыбки солнечной од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станет плакать самый грустный дожд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онный лес простится с тиши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захлопает в зелёные ладош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 улыбки станет всем теплей —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слону, и даже маленькой улитк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 пускай повсюду на земл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удто лампочки, включаются улыбк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«Чтобы радость людям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арить,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адо добрым и вежливым быть.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добр_ryo-rrrsrss_0011"/>
          <p:cNvPicPr/>
          <p:nvPr/>
        </p:nvPicPr>
        <p:blipFill>
          <a:blip r:embed="rId1"/>
          <a:stretch/>
        </p:blipFill>
        <p:spPr>
          <a:xfrm>
            <a:off x="971640" y="0"/>
            <a:ext cx="74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ила вежливос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вежливости проявляется отношение к другим людя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жливый человек не причиняет другому неприятностей и оби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жливый человек всегда здоровается и прощаетс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жливый человек не отвечает грубостью на грубост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жливый человек приветлив и внимателен к други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ловарь вежливых сл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Словарь вежливых слов.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ает глыба, от слова доброго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зеленеет старый пень, когда услышит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больше есть не в силах, скажем маме мы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765000"/>
            <a:ext cx="8007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ьчик вежливый и развитый,говорит при встрече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гда нас бранят за шалости, говорим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во Франции, и в Дании на прощанье говорят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добр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2f4fcc0e372d6e.mp3" descr=""/>
          <p:cNvPicPr/>
          <p:nvPr/>
        </p:nvPicPr>
        <p:blipFill>
          <a:blip r:embed="rId2"/>
          <a:stretch/>
        </p:blipFill>
        <p:spPr>
          <a:xfrm>
            <a:off x="6215040" y="5643720"/>
            <a:ext cx="3571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884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Игра: вежливо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-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невежливо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дороваться при встреч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лкнут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е извинитьс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встат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бращаясь к взрослом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очь поднять упавшую вещ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уступить место пожилом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пустить вперед девоче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огда вы заходите в клас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помещени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крикивать с места во время уро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10:14:04Z</dcterms:created>
  <dc:creator>SamLab.ws</dc:creator>
  <dc:description/>
  <dc:language>en-US</dc:language>
  <cp:lastModifiedBy>Admin</cp:lastModifiedBy>
  <dcterms:modified xsi:type="dcterms:W3CDTF">2017-10-11T12:15:27Z</dcterms:modified>
  <cp:revision>21</cp:revision>
  <dc:subject/>
  <dc:title>“Чтобы радость людям      дарить, надо добрым и вежливым быть.”</dc:title>
</cp:coreProperties>
</file>