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094D-5FFB-4355-AE76-7C45EBD5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315-7353-4523-B3E1-850D1A4E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615A-CBD5-477D-9ECF-7E1B08E4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6B0-BF37-431B-838A-012E2979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7D24-A4D8-43EA-90E1-F263824B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B76B-CF19-46E9-89D2-FA70F30D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E3BB-9E27-4BEB-B0D4-FE564FFF0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49C4-1B90-4F48-81DE-47A3B8A1C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0EAA-A7D7-49FE-912A-3FAC5142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E350-2C4C-4148-89E7-FE48299F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5E7D-36FB-455E-837C-A8B3363B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FE3-AB14-4D69-A9B1-F778163B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34C3-F05B-451B-AD6F-07A9BCC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365F-D381-4F4A-BCC4-0E0B05FE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FD97-5AA4-4595-838E-420DA0F9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02BD-CFEA-4EF3-97D0-374D7403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B80E-7EF9-4EC7-964C-155882516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EC90-6977-4379-AD7E-BFED3053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22D-A38F-4ADB-A217-DA4CE4B9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648-BCA7-4966-A003-1D2E3339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25B-873B-432B-8BF3-ED0F2F53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9F2-78BE-4D77-9FE8-213268CF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A29-04C9-484C-8E83-55F87628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C60-C263-4229-9406-52332952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6D792-356D-4AA4-B794-E3D569B7B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E721-8CE9-4B5A-A9E5-A4565CA05FF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268360" y="1197000"/>
            <a:ext cx="516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ождик босиком по земле прошел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лены по плечам хлопал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ясный день, это хорош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огда наоборот - плох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лышишь, как звенят в небе высок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лнечных лучей стру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добрый ты, то всегда легко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огда наоборот - труд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 каждым поделись радостью сво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ыпая смех звучно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ли песни петь, с ними весел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когда наоборот - скучн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Сказка «Вежливый кролик»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052280"/>
            <a:ext cx="80074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л- был кроли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был очень воспитанный и вежливы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днажды кролик шел из чащи леса дом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ак вдруг небо потемнел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олнце надвинулись туч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полил дожд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а его пути была огромная пеще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 которой кролик решил укрыться от дожд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о он не зна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то в этой пещере живет старая ядовитая зме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а редко выползала из не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тому что не любила солнц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в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елен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асоту вокру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олик не сразу вошел в пеще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вежливо спроси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важаемая пещер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разрешите мне войти и переждать под вашими сводами дожд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лышав голос кроли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ме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достно ответила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ход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кролик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голоса змеи кролик испугалс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о не подал вид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н вежливо сказа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тит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я не знал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что здесь занят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что здесь кто-то живе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всего доброго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до свидани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не смею вас беспокоит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и со всех ног бросился бежать домо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мея разозлившис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ужасом зашипел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   О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уж эти мне вежливые крол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Доброта» … - что скрыто за этим словом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219640" y="0"/>
            <a:ext cx="36259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ь секрет в том, что только вежливому, воспитанному и доброму человеку окружающие люди всегда относятся по-доброму. Только такого человека все любят, уважают. Если я хочу чтобы мне было хорошо, я должен относиться к окружающим так, как мне хотелось бы чтобы они относились ко мне. Драться с друзьями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ткин Ром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5" descr="Изображение 004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-60847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3280" y="0"/>
            <a:ext cx="4500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й человек не спорит с учителями, воспитателями. Он слушается своих родителей, не грубит. Добрый человек здоровается со всеми, в автобусе уступает свое место старикам и старухам. Он делится со всеми, не жаднича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утряшов Арт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Изображение 005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8385120" y="-1432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16000" y="0"/>
            <a:ext cx="442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брый человек никого не обижает, слушает что говорят взрослые. Добрый человек всегда вежлив. Старается помогать своим друзьям, пожилым людям. Добрым быть очень не про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менова Кристи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Изображение 00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-5875200"/>
            <a:ext cx="206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79440" y="549360"/>
            <a:ext cx="42642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обрый человек готов заступиться за товарища, с которым поступили неправильно. В общественных местах громко не говорит, чтобы не мешать другим. Хорошо что на свете больше добрых людей, чем злых. Добро всегда побеждает зло. Будьте добре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ргеева Екатер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Изображение 008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640" y="404640"/>
            <a:ext cx="8007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каждом из нас есть маленькое солнц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солнце- доброта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брый человек- то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кто любит людей и помогает и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брый человек любит природу и сохраняет 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 любовь и помощь согревают как солнц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42560" y="0"/>
            <a:ext cx="820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хмурый день светле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в небе радуга проснёт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елись улыбкою своей —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она к тебе не раз еще вернё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огда наверня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друг запляшут обла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кузнечик запиликает на скрипк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 голубого ручей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ачинается рек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Hу а дружба начинается с улыб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солнечной од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естанет плакать самый грустный дожд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Cонный лес простится с тишин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захлопает в зелёные ладош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улыбки станет всем теплей —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слону, и даже маленькой улитке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ак пускай повсюду на земл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удто лампочки, включаются улыбк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«Чтобы радость людям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дарить,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надо добрым и вежливым быть.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добр_ryo-rrrsrss_0011"/>
          <p:cNvPicPr/>
          <p:nvPr/>
        </p:nvPicPr>
        <p:blipFill>
          <a:blip r:embed="rId1"/>
          <a:stretch/>
        </p:blipFill>
        <p:spPr>
          <a:xfrm>
            <a:off x="971640" y="0"/>
            <a:ext cx="74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авила вежлив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вежливости проявляется отношение к другим людя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не причиняет другому неприятностей и обид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всегда здоровается и прощает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не отвечает грубостью на грубос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жливый человек приветлив и внимателен к други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ловарь вежливых с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ловарь вежливых слов.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ает глыба, от слова доброго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зеленеет старый пень, когда услыши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больше есть не в силах, скажем маме мы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765000"/>
            <a:ext cx="800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ьчик вежливый и развитый,говорит при встреч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нас бранят за шалости, говорим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о Франции, и в Дании на прощанье говоря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добр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2f4fcc0e372d6e.mp3" descr=""/>
          <p:cNvPicPr/>
          <p:nvPr/>
        </p:nvPicPr>
        <p:blipFill>
          <a:blip r:embed="rId2"/>
          <a:stretch/>
        </p:blipFill>
        <p:spPr>
          <a:xfrm>
            <a:off x="6215040" y="5643720"/>
            <a:ext cx="3571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84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Игра: вежливо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-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 невежливо</a:t>
            </a:r>
            <a:r>
              <a:rPr b="1" lang="en-US" sz="3600" spc="-1" strike="noStrike">
                <a:solidFill>
                  <a:srgbClr val="ffffb7"/>
                </a:solidFill>
                <a:latin typeface="Arial Black"/>
              </a:rPr>
              <a:t>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здороваться при встреч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кну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не извинитьс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встат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бращаясь к взросло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очь поднять упавшую вещ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уступить место пожилому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пустить вперед девоче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когда вы заходите в клас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в помещение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крикивать с места во время урок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10:14:04Z</dcterms:created>
  <dc:creator>SamLab.ws</dc:creator>
  <dc:description/>
  <dc:language>en-US</dc:language>
  <cp:lastModifiedBy>Admin</cp:lastModifiedBy>
  <dcterms:modified xsi:type="dcterms:W3CDTF">2017-10-11T12:15:27Z</dcterms:modified>
  <cp:revision>21</cp:revision>
  <dc:subject/>
  <dc:title>“Чтобы радость людям      дарить, надо добрым и вежливым быть.”</dc:title>
</cp:coreProperties>
</file>