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28.jpeg" ContentType="image/jpeg"/>
  <Override PartName="/ppt/media/image26.jpeg" ContentType="image/jpe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7.png" ContentType="image/pn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31D-5955-4DF0-AD14-FE8AE75D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B14-AE50-4326-9124-03BCD5A1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2D91-12B7-4869-89E4-B4620E12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A79-076A-4EA7-B263-676943383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8EBAF-925B-432D-A19C-23D0001B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40726-220D-455B-B85A-D911E893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1B2C-A411-4099-9472-7D2F37E9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1FEA-00A4-4802-8AD8-1953473C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CF99-9596-465D-A7A7-B603EA5B0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76E9-B298-485C-A77C-B3DD2DCE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EC22-B19A-40CD-B3B0-B1ABEDA9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03C-A419-4283-9635-CBDC6A43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C0F6-E0BF-417E-8BB2-3CD05256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36B1-6C22-4851-9BAB-6591B4B9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5434-1297-4817-B5DE-429603C8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01DC-4201-4222-8D4F-9FA48E2A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06E6-4212-477E-AE91-5B5F39A5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FA65-6124-4330-A75E-BCC0CB19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F3C8-0CB4-4EC5-983D-90DEF36B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7AE82-A675-42BC-BCA9-03D550552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3BC17-68AA-4FA2-B263-0B230613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DA26-98B3-412E-9BC2-AB4EFD6B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305D-C9E3-4ABD-9D07-313753B9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D4F3-6BDB-48D4-8E46-0C1015B6E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23029-B0AB-4F4B-99DB-99B425A0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C09AF-5C58-4A79-B066-6E34494D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28F4-C3AF-4B06-A36A-6F10B13F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69560-0B46-4FDA-B984-EF9B66C1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ACEC-AA34-4115-A9AE-AEC5B4A7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91875-FE8C-47ED-9E99-4D22C50FC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C4CAB-A47A-4C3A-9F80-2441CBD1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9599-5FB4-43ED-A7B4-76DB6B3B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5636C-F8FB-42AC-BA2C-8A8A2E7BB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9C6A-B36B-4CED-A026-ED728A1D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F11EB-D0F2-4BCD-8B62-17F44ECB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8BFC2-2EE2-41F3-8407-25F9C4E3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38960-8199-4A18-8525-B9B5FAF9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AE965-C689-49C3-8715-63896ED0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0B88E-F54C-4DC7-AF18-0114D48A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8E2A-52A4-4403-8F51-E01D7A32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7C2FA-D288-4615-BDDB-BC0EEBA9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3E5A9-BAA8-4D31-8562-1D59963D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A571-3903-4E09-9B01-4F859ED8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3F3F0-1D6B-400B-83A4-3FF02761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FC4-5F97-4A8B-A56A-09B989A3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AAF27-0612-4298-9DED-D5ACD182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19B28-F6D9-4B14-8B2D-F9A95E27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86AC0-81AC-46FB-87DC-DFF9913B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91967-0CE4-44D8-94D8-2059EB2C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FF932-9C85-41D4-9628-3D242EC0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5980-F5E8-4FA3-A3E7-A53F53B1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7D5F-F9FC-4F86-9052-678579EB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8C5AA-43FE-45F6-873E-B8732E3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007F6-15D6-462F-82BB-0076B31A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C0890-AEA6-4418-8A0B-7EF9C18D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E5CC-C44E-43E4-B42A-2D0DECEE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6B402-9EAD-47F5-99F4-C98982356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0EF7-2F87-41FA-BF2F-29BE8571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D219-E9FC-46EA-A47D-00E5DAC0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53D-8D79-4BCB-AEFF-AAC47F4A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8A31-91E2-494F-AE92-0F026242B238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ad010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ad010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ad010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ad0101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ad010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ad010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ad010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ad010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726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726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7260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BFF8-7B39-4749-9B49-D17196927420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ad010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ad010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ad0101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ad0101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ad0101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ad0101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ad010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ad0101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ad0101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ad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ad0101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ad0101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ad010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CF2E-F129-45A2-950B-169D59ABEF92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ad010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0B60-5CEF-4E61-9E40-220CC4758D83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ad0101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7260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fe37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7260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808d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0303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D510-5D6F-434F-8473-F7FCA83164BA}" type="slidenum">
              <a:rPr b="0" lang="ru-RU" sz="1200" spc="-1" strike="noStrike">
                <a:solidFill>
                  <a:srgbClr val="30303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5"/>
          <p:cNvSpPr/>
          <p:nvPr/>
        </p:nvSpPr>
        <p:spPr>
          <a:xfrm>
            <a:off x="3733920" y="259092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3876840" y="26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7" descr="http://rf.boom.ru/rus/russia15.gif"/>
          <p:cNvPicPr/>
          <p:nvPr/>
        </p:nvPicPr>
        <p:blipFill>
          <a:blip r:embed="rId1"/>
          <a:stretch/>
        </p:blipFill>
        <p:spPr>
          <a:xfrm>
            <a:off x="2916360" y="2492280"/>
            <a:ext cx="3375000" cy="40417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3" descr="C:\Program Files\Xara\Webstyle\Export\din.gif"/>
          <p:cNvPicPr/>
          <p:nvPr/>
        </p:nvPicPr>
        <p:blipFill>
          <a:blip r:embed="rId2"/>
          <a:stretch/>
        </p:blipFill>
        <p:spPr>
          <a:xfrm>
            <a:off x="457200" y="600120"/>
            <a:ext cx="8381880" cy="1676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2"/>
          <p:cNvSpPr txBox="1"/>
          <p:nvPr/>
        </p:nvSpPr>
        <p:spPr>
          <a:xfrm>
            <a:off x="22860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Елизавета Петровн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3" name="Rectangle 3"/>
          <p:cNvSpPr/>
          <p:nvPr/>
        </p:nvSpPr>
        <p:spPr>
          <a:xfrm>
            <a:off x="2591280" y="12193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09-1761, царствовала: 1741-176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7" descr="http://home.comset.net/gals/el.jpg"/>
          <p:cNvPicPr/>
          <p:nvPr/>
        </p:nvPicPr>
        <p:blipFill>
          <a:blip r:embed="rId1"/>
          <a:srcRect l="13748" t="4984" r="12913" b="5847"/>
          <a:stretch/>
        </p:blipFill>
        <p:spPr>
          <a:xfrm>
            <a:off x="324000" y="1752480"/>
            <a:ext cx="3163680" cy="411660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2"/>
          <p:cNvSpPr/>
          <p:nvPr/>
        </p:nvSpPr>
        <p:spPr>
          <a:xfrm>
            <a:off x="3657600" y="2219400"/>
            <a:ext cx="518148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машнее образование, обучалась иностранным языкам, танц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оронница петровских преобразований, тяги к занятиям государственной деятельностью не им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ы: русско-шведская, участие в Семилетней вой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иквидация Кабинета, отмена внутренних таможен, учреждение дворянского и купеческого банков ,монетная реформа, передача заводов в частные руки ,подготовка уложения. Создание Московского университета ,учреждение Академии художеств, возникновение первого русского театра, возобновление изданий журнал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ереписывалась с французским королем.  Посещала Москву, Троицу, Царское Село, Укра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ридворные развлечения, охота , слушала чтение сказок, много времени уделяла нарядам, украшениям, собственной внешности. Велела обрить головы придворным дам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высокая, очень полная, внешне весела, легкомысленна ,но в реальности упряма, мнительна, суеверна, к концу жизни замкнут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WordArt 2"/>
          <p:cNvSpPr txBox="1"/>
          <p:nvPr/>
        </p:nvSpPr>
        <p:spPr>
          <a:xfrm>
            <a:off x="3505320" y="380880"/>
            <a:ext cx="3352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етр I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7" name="Rectangle 3"/>
          <p:cNvSpPr/>
          <p:nvPr/>
        </p:nvSpPr>
        <p:spPr>
          <a:xfrm>
            <a:off x="2734560" y="12193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28-1762, царствовал: 1761-176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Picture 7" descr="http://home.comset.net/gals/p3.jpg"/>
          <p:cNvPicPr/>
          <p:nvPr/>
        </p:nvPicPr>
        <p:blipFill>
          <a:blip r:embed="rId1"/>
          <a:stretch/>
        </p:blipFill>
        <p:spPr>
          <a:xfrm>
            <a:off x="324000" y="1752480"/>
            <a:ext cx="3249360" cy="361656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12"/>
          <p:cNvSpPr/>
          <p:nvPr/>
        </p:nvSpPr>
        <p:spPr>
          <a:xfrm>
            <a:off x="3657600" y="2371680"/>
            <a:ext cx="52578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омашнее образование, обучался иностранным языкам ,основам математики, географии, истор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оронник абсолютной самодержавной вла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лючил мир с Пруссией, чем закончил Семилетнюю войн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анифест о вольности дворян, ликвидация Тайной канцелярии, секуляризация церковных земел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Будучи великим князем, сопровождал Елизавету Петровну в поездках в Москву и на Украин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Любил парады, проводил время в попойках, курении табака, любил играть на скрипк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высокий, худой, с длинными руками и маленькой головкой, вспыльчив ,но отходчив, нервен, непостоянен, трусли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WordArt 2"/>
          <p:cNvSpPr txBox="1"/>
          <p:nvPr/>
        </p:nvSpPr>
        <p:spPr>
          <a:xfrm>
            <a:off x="2895480" y="380880"/>
            <a:ext cx="4496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Екатерина 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2743560" y="121932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29-1796, царствовала: 1762-17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Picture 8" descr="http://home.comset.net/gals/ek2.jpg"/>
          <p:cNvPicPr/>
          <p:nvPr/>
        </p:nvPicPr>
        <p:blipFill>
          <a:blip r:embed="rId1"/>
          <a:stretch/>
        </p:blipFill>
        <p:spPr>
          <a:xfrm>
            <a:off x="176040" y="1698480"/>
            <a:ext cx="3635640" cy="40449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14"/>
          <p:cNvSpPr/>
          <p:nvPr/>
        </p:nvSpPr>
        <p:spPr>
          <a:xfrm>
            <a:off x="3809880" y="1676520"/>
            <a:ext cx="510552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машнее образование, обучали иностранным языкам, танцам, историей, философией, экономик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оронница самодержавной формой 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ы с Турцией, Швецией, участие в трех разделах Польши – присоединение Крыма, значительных территорий в Белоруссии, Литве, Западной Украине, Курлянд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Реформы органов центрального и местного управления, секуляризация церковных земель, унификация управления национальными окраинами, выработка законодательства о сословиях, судебная реформа, законодательное закрепление частной собственности, введение бумажных дене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оздание Российской академии, Вольного Российского собрания ,Вольного экономического общества, основание журналов, создание системы народного образования, основание Эрмитажа, открытие публичных театров, появление русской оперы, расцвет живопис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Ежедневные занятия государственными делами, писанием писем ,работа над законодательством. Развлечения: маскарады, балы, игра в кар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полная, с красивыми чертами лица, выдержанная, владеющая собой, поддерживает беседу, терпелива, умела быть жестоко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WordArt 2"/>
          <p:cNvSpPr txBox="1"/>
          <p:nvPr/>
        </p:nvSpPr>
        <p:spPr>
          <a:xfrm>
            <a:off x="3657600" y="38088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авел 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5" name="Rectangle 3"/>
          <p:cNvSpPr/>
          <p:nvPr/>
        </p:nvSpPr>
        <p:spPr>
          <a:xfrm>
            <a:off x="2886840" y="11430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54-1801, царствовал: 1796-18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Picture 7" descr="http://home.comset.net/gals/pav.jpg"/>
          <p:cNvPicPr/>
          <p:nvPr/>
        </p:nvPicPr>
        <p:blipFill>
          <a:blip r:embed="rId1"/>
          <a:stretch/>
        </p:blipFill>
        <p:spPr>
          <a:xfrm>
            <a:off x="250920" y="1620720"/>
            <a:ext cx="3330360" cy="420048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12"/>
          <p:cNvSpPr/>
          <p:nvPr/>
        </p:nvSpPr>
        <p:spPr>
          <a:xfrm>
            <a:off x="3581280" y="2100240"/>
            <a:ext cx="53341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шел курс наук – общеобразовательных (русский язык, словесность, иностранные языки – немецкий, французский, латынь – история, география, математика) и политических, хорошо начитан. Увлекся военным дел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ойны: участие  во 2 антифранцузской коалиции (1798). Взятие русским флотом по командованием Ф.Ф.Ушакова крепости на о.Корфу; кампания в Италии под руководством А.В.Суворова – разгром французских войск при р.Адде, р.Треббии, г.Нови; переход Суворова через Аль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 об ограничении барщины 3 днями в неделю (1797); закон о престолонаследии, ликвидация дворянских губернских собраний, лишение дворян права избирать должностных лиц в уезде ,восстановление телесных наказаний для дворя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ездка в Берлин, путешествие по Европе (Австрия, Италия, Франция), поездка на театр боевых действий в Финляндию во время войны со Шве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юбил военное дело ,пара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Характеристика: некрасив (курнос, с широкими скулами), нервный, раздражите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WordArt 2"/>
          <p:cNvSpPr txBox="1"/>
          <p:nvPr/>
        </p:nvSpPr>
        <p:spPr>
          <a:xfrm>
            <a:off x="2556000" y="3808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лександр 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59" name="Rectangle 3"/>
          <p:cNvSpPr/>
          <p:nvPr/>
        </p:nvSpPr>
        <p:spPr>
          <a:xfrm>
            <a:off x="2412360" y="12193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77-1825, царствовал: 1801-18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7" descr="http://home.comset.net/gals/alek1.jpg"/>
          <p:cNvPicPr/>
          <p:nvPr/>
        </p:nvPicPr>
        <p:blipFill>
          <a:blip r:embed="rId1"/>
          <a:stretch/>
        </p:blipFill>
        <p:spPr>
          <a:xfrm>
            <a:off x="257040" y="2133720"/>
            <a:ext cx="2963880" cy="30906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"/>
          <p:cNvSpPr/>
          <p:nvPr/>
        </p:nvSpPr>
        <p:spPr>
          <a:xfrm>
            <a:off x="3200400" y="2133720"/>
            <a:ext cx="56386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ностороннее образование: история, словесность, география, математика, ботаника, физика, языки 9французский, немецкий, английский, латынь), государственный и политические нау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лагополучные войны с Ираном и Турцией. Неудачное для Росси участие в 3  и 4 антифранцузских коалициях. Война со Швецией и присоединение Финляндии. Разгром Наполеона в ходе Отечественной войны 1812 г. и заграничных походов 1813 и 1814 год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каз о вольных хлебопашцах, освобождение крестьян в Прибалтике, учреждение министерств, Государственного совета. Введение военных поселений. Судебная реформа. Создание сети духовно-учебных заведений. Основание Дерптского, Харьковского, Виленского, Казанского, Петербургского университетов, лицеев. Введение университетского устава. 1814 – основание Публичной библиоте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Характер: красив с оттенком некоторой изнеженности, часто производил впечатление вялого и нерешительного человека, упря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2"/>
          <p:cNvSpPr txBox="1"/>
          <p:nvPr/>
        </p:nvSpPr>
        <p:spPr>
          <a:xfrm>
            <a:off x="3505320" y="380880"/>
            <a:ext cx="3809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Николай 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3" name="Rectangle 3"/>
          <p:cNvSpPr/>
          <p:nvPr/>
        </p:nvSpPr>
        <p:spPr>
          <a:xfrm>
            <a:off x="2972520" y="129528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96-1855, царствовал: 1825-18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Picture 7" descr="http://home.comset.net/gals/nik1.jpg"/>
          <p:cNvPicPr/>
          <p:nvPr/>
        </p:nvPicPr>
        <p:blipFill>
          <a:blip r:embed="rId1"/>
          <a:stretch/>
        </p:blipFill>
        <p:spPr>
          <a:xfrm>
            <a:off x="331920" y="1968480"/>
            <a:ext cx="3241440" cy="36082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10"/>
          <p:cNvSpPr/>
          <p:nvPr/>
        </p:nvSpPr>
        <p:spPr>
          <a:xfrm>
            <a:off x="3581280" y="1828800"/>
            <a:ext cx="53341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ние обширное, усваивал предметы плохо. Увлекался военно-инженерными науками. Языки: английский, французский, немецкий, латынь, древнегреческ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преклонный сторонник самодержавия ,военной дисципли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спешные для России войны с Ираком и Турцией. Разгром польского восстания. Помощь Австрии в подавлении венгерского восстания. 1853 – начало Крымской войны с Англией, Францией, Турцией и Сардини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средоточение кодификации и высшей политической полиции во 2 и 3 отделениях собственной канцелярии императора. 1826 – цензурный устав, 1828 – учебная реформа, 1835 – университетский устав. Кодификация законов. 1842 – указ об обязанных крестьянах. Основан ряд высших учебных заведе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арактеристика: величественная, царственная внешность, отличался сильной волей ,непреклонностью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WordArt 2"/>
          <p:cNvSpPr txBox="1"/>
          <p:nvPr/>
        </p:nvSpPr>
        <p:spPr>
          <a:xfrm>
            <a:off x="2971800" y="3808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лександр 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2896200" y="12193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818-1881, царствовал: 1855-18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7" descr="http://home.comset.net/gals/al2.jpg"/>
          <p:cNvPicPr/>
          <p:nvPr/>
        </p:nvPicPr>
        <p:blipFill>
          <a:blip r:embed="rId1"/>
          <a:stretch/>
        </p:blipFill>
        <p:spPr>
          <a:xfrm>
            <a:off x="287280" y="1752480"/>
            <a:ext cx="3446640" cy="3835440"/>
          </a:xfrm>
          <a:prstGeom prst="rect">
            <a:avLst/>
          </a:prstGeom>
          <a:ln w="0">
            <a:noFill/>
          </a:ln>
        </p:spPr>
      </p:pic>
      <p:sp>
        <p:nvSpPr>
          <p:cNvPr id="469" name="Rectangle 10"/>
          <p:cNvSpPr/>
          <p:nvPr/>
        </p:nvSpPr>
        <p:spPr>
          <a:xfrm>
            <a:off x="3733920" y="1828800"/>
            <a:ext cx="51051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лучил прекрасное воспитание. Изучение общеобразовательных, политических и военных наук. Воспитатель: В.А.Жуковский, наставник – М.М.Сперанский. языки: англ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й, французский, немецкий, польск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Участие в неудачной для Росси Крымской Войне и завершил ее. Окончательное завоевание Кавказа , присоединение к России Средней Азии. Война с Турцией 1877-1878, победа Ро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и. Подавление восстания в Польш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еформы: отмена крепостного права, введение местного самоуправления, судебная новый университетский устав, военная, финансовая реформы. Ликвидация 3 отделения. Рост числа издательст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Любил военное дело, охоту, светские развлеч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арактеристика: отличался красотой, военной выправкой, прекрасными манерами, с детства вялы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патичный, нерешительный, но упрямый и скрытны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WordArt 2"/>
          <p:cNvSpPr txBox="1"/>
          <p:nvPr/>
        </p:nvSpPr>
        <p:spPr>
          <a:xfrm>
            <a:off x="2971800" y="380880"/>
            <a:ext cx="4572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лександр I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1" name="Rectangle 3"/>
          <p:cNvSpPr/>
          <p:nvPr/>
        </p:nvSpPr>
        <p:spPr>
          <a:xfrm>
            <a:off x="2820240" y="121932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845-1894, царствовал: 1881-18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7" descr="http://home.comset.net/gals/al3.jpg"/>
          <p:cNvPicPr/>
          <p:nvPr/>
        </p:nvPicPr>
        <p:blipFill>
          <a:blip r:embed="rId1"/>
          <a:stretch/>
        </p:blipFill>
        <p:spPr>
          <a:xfrm>
            <a:off x="317520" y="1905120"/>
            <a:ext cx="3305160" cy="367812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0"/>
          <p:cNvSpPr/>
          <p:nvPr/>
        </p:nvSpPr>
        <p:spPr>
          <a:xfrm>
            <a:off x="3657600" y="1905120"/>
            <a:ext cx="52578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пособностями не отличался, получил умеренное образование. Языки: французский, немецк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вершил присоединение Средней Аз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нтрреформы: временные правила о печати 1882, университетский устав, ограничение приема в гимназии детей низших сословий – циркуляр «о кухаркиных детях», закон о земских начальниках, земская и городская контрреформы; ограничение в суде, русификация окраин, но ввел фабричное законодательств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ездки по России и Европ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Характеристика: большой рост, тучный, неуклюж, лишен хороших манер, упорный и твердый, на вид спокойный, медлительный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WordArt 2"/>
          <p:cNvSpPr txBox="1"/>
          <p:nvPr/>
        </p:nvSpPr>
        <p:spPr>
          <a:xfrm>
            <a:off x="3276720" y="380880"/>
            <a:ext cx="3962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Николай 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5" name="Rectangle 3"/>
          <p:cNvSpPr/>
          <p:nvPr/>
        </p:nvSpPr>
        <p:spPr>
          <a:xfrm>
            <a:off x="2820240" y="13716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868-1918, царствовал: 1894-19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Picture 7" descr="http://home.comset.net/gals/nik2.jpg"/>
          <p:cNvPicPr/>
          <p:nvPr/>
        </p:nvPicPr>
        <p:blipFill>
          <a:blip r:embed="rId1"/>
          <a:stretch/>
        </p:blipFill>
        <p:spPr>
          <a:xfrm>
            <a:off x="277920" y="1838160"/>
            <a:ext cx="3406680" cy="37911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1"/>
          <p:cNvSpPr/>
          <p:nvPr/>
        </p:nvSpPr>
        <p:spPr>
          <a:xfrm>
            <a:off x="3657600" y="2057400"/>
            <a:ext cx="5257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лучил прекрасное разностороннее образование, знал английский, французский, немецкий язы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еудачная для России война с Японией, вступление в 1 мировую войну против Германии, Австро-Венгрии, Турции в союзе с Англией и Франци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1897 – введение в обращение золотой валюты. 1905 – учреждение парламента, дарование демократических свобод, 1906 – начало аграрной реформ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ткрытие музея Александр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осударственный Русский музей), музея изящных искусств в Москв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Путешествовал на Восток, по Европ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Любил физический труд, спорт, чтение вслух, в кругу семь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красив, правильные черты лица, небольшой рост, слабоволен, проявлял растерянность и апатию, но был упрям, скрытен, коварен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5" descr="http://home.comset.net/gals/g3.gif"/>
          <p:cNvPicPr/>
          <p:nvPr/>
        </p:nvPicPr>
        <p:blipFill>
          <a:blip r:embed="rId1"/>
          <a:stretch/>
        </p:blipFill>
        <p:spPr>
          <a:xfrm>
            <a:off x="468360" y="30492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home.comset.net/gals/g4.gif"/>
          <p:cNvPicPr/>
          <p:nvPr/>
        </p:nvPicPr>
        <p:blipFill>
          <a:blip r:embed="rId2"/>
          <a:stretch/>
        </p:blipFill>
        <p:spPr>
          <a:xfrm>
            <a:off x="2050920" y="304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://home.comset.net/gals/g5.gif"/>
          <p:cNvPicPr/>
          <p:nvPr/>
        </p:nvPicPr>
        <p:blipFill>
          <a:blip r:embed="rId3"/>
          <a:stretch/>
        </p:blipFill>
        <p:spPr>
          <a:xfrm>
            <a:off x="3780000" y="304920"/>
            <a:ext cx="1295280" cy="12189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home.comset.net/gals/g6.gif"/>
          <p:cNvPicPr/>
          <p:nvPr/>
        </p:nvPicPr>
        <p:blipFill>
          <a:blip r:embed="rId4"/>
          <a:stretch/>
        </p:blipFill>
        <p:spPr>
          <a:xfrm>
            <a:off x="5364000" y="304920"/>
            <a:ext cx="1447920" cy="12189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3" descr="http://home.comset.net/gals/g7.gif"/>
          <p:cNvPicPr/>
          <p:nvPr/>
        </p:nvPicPr>
        <p:blipFill>
          <a:blip r:embed="rId5"/>
          <a:stretch/>
        </p:blipFill>
        <p:spPr>
          <a:xfrm>
            <a:off x="7093080" y="304920"/>
            <a:ext cx="1447560" cy="1258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5" descr="http://home.comset.net/gals/g8.gif"/>
          <p:cNvPicPr/>
          <p:nvPr/>
        </p:nvPicPr>
        <p:blipFill>
          <a:blip r:embed="rId6"/>
          <a:stretch/>
        </p:blipFill>
        <p:spPr>
          <a:xfrm>
            <a:off x="743040" y="1676520"/>
            <a:ext cx="1668240" cy="14475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http://home.comset.net/gals/g9.gif"/>
          <p:cNvPicPr/>
          <p:nvPr/>
        </p:nvPicPr>
        <p:blipFill>
          <a:blip r:embed="rId7"/>
          <a:stretch/>
        </p:blipFill>
        <p:spPr>
          <a:xfrm>
            <a:off x="2835360" y="1676520"/>
            <a:ext cx="1592280" cy="14875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9" descr="http://home.comset.net/gals/g10.gif"/>
          <p:cNvPicPr/>
          <p:nvPr/>
        </p:nvPicPr>
        <p:blipFill>
          <a:blip r:embed="rId8"/>
          <a:stretch/>
        </p:blipFill>
        <p:spPr>
          <a:xfrm>
            <a:off x="4859280" y="160020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http://home.comset.net/gals/g12.gif"/>
          <p:cNvPicPr/>
          <p:nvPr/>
        </p:nvPicPr>
        <p:blipFill>
          <a:blip r:embed="rId9"/>
          <a:stretch/>
        </p:blipFill>
        <p:spPr>
          <a:xfrm>
            <a:off x="6875640" y="1600200"/>
            <a:ext cx="1584000" cy="16002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22"/>
          <p:cNvSpPr/>
          <p:nvPr/>
        </p:nvSpPr>
        <p:spPr>
          <a:xfrm>
            <a:off x="622440" y="3645000"/>
            <a:ext cx="8001000" cy="25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МАНОВЫ,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ярский род, царская (с 1613), императорская (1721-1917) фамилия. Первым известным предком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овых был Андрей Иванович Кобыл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м. до 1350-51)До нач. 16 в. именовались Кошкиными, затем Захарьиными-Кошки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ыми и Захарьиными-Юрьевыми. Родоначальник Романовыхбоярин Никита Романович Захарьин-Юрьев (ум. 1586). Его сын Ф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 — будущий патриарх Филарет. На Земском соборе 1613 Михаил Федорович избран царем. Из дома Романовых царствовали Алексей Михайлович, Федор Алексеевич. В годы малолетства царей Ивана V и Петра I правительницей была Софья Алексеевна. В 1721 Петр I провозглашен императором. Екатерина I (Марта Скавронская) стала первой российской императрицей. Со смертью Петра II династия Романовых пресеклась в прямом мужском поколении. После смерти Анны Ивановны правительницей при м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летнем Иване VI Антоновиче была Анна Леопольдовна. Со смертью Елизаветы Петровны династия Романовых пресеклась в прямой женской линии. Однако фамилию Романовых носили Петр III (сын герцога Голштейн-Готторпского Фридриха Карла и Анны, дочери Петра I) и его жена Екатерина II (урожденная Анхальт-Цербстская), их сын Павел I и его потомки (одно из назва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й династии в литературе — Голштейн-Готторпские-Романовы): Александр I, Николай I, Александр II, Александр III и Ник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й II, отрекшийся от престола в ходе Февральской революции 1917. В 1918 Николай Александрович Романов и его семья рас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яны в Екатеринбурге; другие Романовы убиты в 1918-19, многие эмигрировал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WordArt 3"/>
          <p:cNvSpPr txBox="1"/>
          <p:nvPr/>
        </p:nvSpPr>
        <p:spPr>
          <a:xfrm>
            <a:off x="1835280" y="228600"/>
            <a:ext cx="5562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96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Михаил Федорович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411480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1523880" y="12193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596-1645, царствовал: 1613-164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2"/>
          <p:cNvSpPr/>
          <p:nvPr/>
        </p:nvSpPr>
        <p:spPr>
          <a:xfrm>
            <a:off x="3276720" y="1752480"/>
            <a:ext cx="54864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ведения об уровне образования и знаний иностранных языков не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торонник взаимодействия царской власти с сословно-представительными институтами (Боярская дума, Земский собор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йны: с Польшей 1632-1634 (Смоленская война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ововведения: сыски сошедших с посадов тяглых людей с целью их возвращения, повсеместное введение воеводского управления, испомещение на землю «вольных» казаков, начало создания войск нового строя, строительство новой оборонительной линии на юге стран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овершал поездки на богомолье в монастыр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Близок был с родителями и жен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ворцовые развлечения – слушание сказаний и рассказов живших во дворе стариков. Любил охот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Характеристика: высокий, в конце жизни тучный, лицо продолговатое, открытое, с усами и круглой бородой, слабый и безвольный, легко подчинявшийся влияни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4" descr="http://catalog.aport.ru/path/path155/Image84.jpg"/>
          <p:cNvPicPr/>
          <p:nvPr/>
        </p:nvPicPr>
        <p:blipFill>
          <a:blip r:embed="rId1"/>
          <a:stretch/>
        </p:blipFill>
        <p:spPr>
          <a:xfrm>
            <a:off x="352440" y="1676520"/>
            <a:ext cx="2771640" cy="374328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19"/>
          <p:cNvSpPr/>
          <p:nvPr/>
        </p:nvSpPr>
        <p:spPr>
          <a:xfrm>
            <a:off x="3124080" y="17524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3657600" y="1660680"/>
            <a:ext cx="5029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3809880" y="1812960"/>
            <a:ext cx="5029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3962520" y="1965240"/>
            <a:ext cx="5029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3"/>
          <p:cNvSpPr txBox="1"/>
          <p:nvPr/>
        </p:nvSpPr>
        <p:spPr>
          <a:xfrm>
            <a:off x="22860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лексей Михайлович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4" name="Rectangle 4"/>
          <p:cNvSpPr/>
          <p:nvPr/>
        </p:nvSpPr>
        <p:spPr>
          <a:xfrm>
            <a:off x="2678760" y="13716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29-1676, царствовал: 1645-16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3876840" y="262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Picture 8" descr="http://catalog.aport.ru/path/path155/Image86.jpg"/>
          <p:cNvPicPr/>
          <p:nvPr/>
        </p:nvPicPr>
        <p:blipFill>
          <a:blip r:embed="rId1"/>
          <a:stretch/>
        </p:blipFill>
        <p:spPr>
          <a:xfrm>
            <a:off x="441360" y="2205000"/>
            <a:ext cx="2654280" cy="3532320"/>
          </a:xfrm>
          <a:prstGeom prst="rect">
            <a:avLst/>
          </a:prstGeom>
          <a:ln w="0">
            <a:noFill/>
          </a:ln>
        </p:spPr>
      </p:pic>
      <p:sp>
        <p:nvSpPr>
          <p:cNvPr id="417" name="Rectangle 16"/>
          <p:cNvSpPr/>
          <p:nvPr/>
        </p:nvSpPr>
        <p:spPr>
          <a:xfrm>
            <a:off x="3200400" y="1600200"/>
            <a:ext cx="5715000" cy="43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альная грамотность: иностранные языки (греческий, польский), богословие, философия, духовная музыка. Дядьки-воспитатели: боярин Б.И.Морозов, В.Н.Стрешнев. учителя: дьяк В.С.Проковьев, подьячий Г.В.Льв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йны: с Польшей 1654-1667. признание Польшей присоединения Украины к России со Швецией 1656-1658 за выход к Балтийскому морю и овладение Ливонией. Констатация границ 1617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здание кодекса государственных законов («Уложение» 1649 г.), денежная реформа, организация массового сыска беглых крестьян, реорганизация таможенных сборов в интересах отечественного купечества, введение войск нового стро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рганизация государственных школ для обучения подьячих при Заиконоспасском монастыре. Дворцовые теат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лизок с патриархом Никоном ,архиепископом Л.Барановичем, А.С.Матвеевым, А.Л.Ордин-Нащокиным, сестр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 время войны посетил ряд литовских городов. Поездки на богомолье в дальние монастыр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лечения: охота, придворный театр, шахматы. Строжайшее соблюдение всех религиозных обря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стика: несколько грубоватый, невысокий, коренастый, лицо немного одутловатое, низкий лоб, черты мягкие, приятные, носил небольшую бороду и усы, добродушен, жизнерадостен, вспыльчив, но отходчи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WordArt 3"/>
          <p:cNvSpPr txBox="1"/>
          <p:nvPr/>
        </p:nvSpPr>
        <p:spPr>
          <a:xfrm>
            <a:off x="2590920" y="380880"/>
            <a:ext cx="49528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53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Федор Алексеевич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2743920" y="1600200"/>
            <a:ext cx="47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61-1682, царствовал: 1676-168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6"/>
          <p:cNvSpPr/>
          <p:nvPr/>
        </p:nvSpPr>
        <p:spPr>
          <a:xfrm>
            <a:off x="3876840" y="269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http://catalog.aport.ru/path/path155/Image91.jpg"/>
          <p:cNvPicPr/>
          <p:nvPr/>
        </p:nvPicPr>
        <p:blipFill>
          <a:blip r:embed="rId1"/>
          <a:stretch/>
        </p:blipFill>
        <p:spPr>
          <a:xfrm>
            <a:off x="306360" y="2438280"/>
            <a:ext cx="2665440" cy="322272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4"/>
          <p:cNvSpPr/>
          <p:nvPr/>
        </p:nvSpPr>
        <p:spPr>
          <a:xfrm>
            <a:off x="2971800" y="1998720"/>
            <a:ext cx="6172200" cy="37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ал языки (латинский , польский), риторику, поэтику, историю и богословие, церковное пение, имеет начальное образование. Воспитатели: Ф.Ф.Куракин, И.Б.Хитрово. учителя: П.Т.Белянинов, С.Полоцк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Сторонник абсолютной власти царя и его окружения, стремление к ослаблению Боярской думы и власти Патриарх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ойны: с Турцией 1676-1681 против турецкой агрессии на Украине. Признание Турцией прав России на Украи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ведение новой прямой подати (стрелецких денег) вместо многочисленных сборов, новая структура организации военных сил, усиление власти воевод на местах, отмена местничества. Организация школы при Печатном дворе, попытка создания школ общего и производственного обучения при богодельнях, создание «Верхней» (Дворцовой) типограф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торонники: С.С.Медведев, патриарх Иоки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овершал поездки на богомолье в ближние к Москве монастыр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Много внимание уделял одежде, ввел западные кафтаны и прически. Любил смотреть на лошадей, обучал их «фокусам». Беседовал со стариками, слушал сказите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Характеристика: высокий и худой, с длинн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лосами, глаза немного припухшие, меланхоличный и мягкий ,но  в определенных ситуациях решительны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2"/>
          <p:cNvSpPr txBox="1"/>
          <p:nvPr/>
        </p:nvSpPr>
        <p:spPr>
          <a:xfrm>
            <a:off x="2590920" y="457200"/>
            <a:ext cx="5029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60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етр Алексеевич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1219320" y="1523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1672-1725, Царь с 1682 по1696 – совместно с Иваном Алексеевичем, император с 17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8" descr="http://www.shiphistory.navy.ru/peter/peter1sm.jpg"/>
          <p:cNvPicPr/>
          <p:nvPr/>
        </p:nvPicPr>
        <p:blipFill>
          <a:blip r:embed="rId1"/>
          <a:stretch/>
        </p:blipFill>
        <p:spPr>
          <a:xfrm>
            <a:off x="284040" y="2133720"/>
            <a:ext cx="2764080" cy="35528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16"/>
          <p:cNvSpPr/>
          <p:nvPr/>
        </p:nvSpPr>
        <p:spPr>
          <a:xfrm>
            <a:off x="2987640" y="2219400"/>
            <a:ext cx="6095880" cy="32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учен начальной грамоте. Воспитатель – Р.М.Стрешнев, учителя: Н.М.Зотов, А.Нестеров. Языки: польский, немецкий, голландск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а абсолютизм, сторонник неограниченной власти царя. Политика разделения законодательной и исполнительной власти в организации системы управ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ы: Крымские походы 1687 и 1689 гг.,  Азовские походы 1695-1696гг.,завершившиеся взятием Азова. Северная война 1700-1721 гг., выход России к Балтийскому морю. Война с Турцией 1710-1713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новой сети государственных учреждений: Сената, коллег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а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одского управления. Разделение страны на губернии, позднее – провинции. «Табель о рангах». Создание регулярной армии и флота, введение подушной подати, монетная реформа, отмена патриаршества, организация школьного обучения. Введение школ разного типа – цифирных, артиллерийских, инженер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остоянные разъезды по европейской части стра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Введение западных обычаев, ассамбл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Характеристика: грубоватый юмор, высок ростом ,узок в плечах, лицо круглое с выпуклыми глазами, носил длинные волосы и подбритые усы, вспыльчив, горяч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2"/>
          <p:cNvSpPr txBox="1"/>
          <p:nvPr/>
        </p:nvSpPr>
        <p:spPr>
          <a:xfrm>
            <a:off x="2666880" y="380880"/>
            <a:ext cx="5105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Екатерина 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8" name="Rectangle 3"/>
          <p:cNvSpPr/>
          <p:nvPr/>
        </p:nvSpPr>
        <p:spPr>
          <a:xfrm>
            <a:off x="2829240" y="129528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84-1727, царствовала: 1725-17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359100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8" descr="Екатерина Алексеевна Михайлова (Марта Скавронская) - вторая жена Петра I"/>
          <p:cNvPicPr/>
          <p:nvPr/>
        </p:nvPicPr>
        <p:blipFill>
          <a:blip r:embed="rId1"/>
          <a:stretch/>
        </p:blipFill>
        <p:spPr>
          <a:xfrm>
            <a:off x="266760" y="1770120"/>
            <a:ext cx="2781360" cy="381960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13"/>
          <p:cNvSpPr/>
          <p:nvPr/>
        </p:nvSpPr>
        <p:spPr>
          <a:xfrm>
            <a:off x="3048120" y="2133720"/>
            <a:ext cx="60958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ния практически не име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таралась не отступать от политической линией Петр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ередоверив управление страной  А.Д.Меншиков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 не вело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 Верховный Тайный совет, уменьшена подушная подат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ткрыта Петербургская Академия нау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провождала Петра во многих его поездках и военных поход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Развлечения: балы, маскарады, прогулки по Неве, сопровождаемые пушечной стрельб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евысокая, кряжистая, полная, по характеру типичная домашняя хозяйка.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WordArt 2"/>
          <p:cNvSpPr txBox="1"/>
          <p:nvPr/>
        </p:nvSpPr>
        <p:spPr>
          <a:xfrm>
            <a:off x="3352680" y="38088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Петр I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2514600" y="1143000"/>
            <a:ext cx="47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715-1730, царствовал: 1727-17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6"/>
          <p:cNvSpPr/>
          <p:nvPr/>
        </p:nvSpPr>
        <p:spPr>
          <a:xfrm>
            <a:off x="3591000" y="236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8" descr="Петр II Алексеевич"/>
          <p:cNvPicPr/>
          <p:nvPr/>
        </p:nvPicPr>
        <p:blipFill>
          <a:blip r:embed="rId1"/>
          <a:stretch/>
        </p:blipFill>
        <p:spPr>
          <a:xfrm>
            <a:off x="404640" y="1687680"/>
            <a:ext cx="3100680" cy="367956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13"/>
          <p:cNvSpPr/>
          <p:nvPr/>
        </p:nvSpPr>
        <p:spPr>
          <a:xfrm>
            <a:off x="3505320" y="1981080"/>
            <a:ext cx="53337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Домашнее образование. Владел иностранными языками, основами наук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ходился под влиянием А.Д.Меньшикова, затем князей Долгоруких, стремившихся к ревизии петровских преобразований и к аристократическому правлени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 не велось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ереезд двора в Москву, создание Комиссий о коммерции и о конфискации, издание Вексельного устава. Создан первый русский журнал – «Примечания к Ведомостям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Путешествовал по окрестностям Москвы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амое любимое занятие – охота, придворные развлеч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Стройный. Худощавый, правильные черты лица, капризный, злобный, жестокий, склонный к интригам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WordArt 2"/>
          <p:cNvSpPr txBox="1"/>
          <p:nvPr/>
        </p:nvSpPr>
        <p:spPr>
          <a:xfrm>
            <a:off x="2438280" y="380880"/>
            <a:ext cx="53341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24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нна Иоановна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2676960" y="1295280"/>
            <a:ext cx="49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93-1740, царствовала: 1730-174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3591000" y="23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8" descr="Анна Иоановна"/>
          <p:cNvPicPr/>
          <p:nvPr/>
        </p:nvPicPr>
        <p:blipFill>
          <a:blip r:embed="rId1"/>
          <a:stretch/>
        </p:blipFill>
        <p:spPr>
          <a:xfrm>
            <a:off x="307800" y="1908000"/>
            <a:ext cx="3044880" cy="375624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3"/>
          <p:cNvSpPr/>
          <p:nvPr/>
        </p:nvSpPr>
        <p:spPr>
          <a:xfrm>
            <a:off x="3352680" y="1905120"/>
            <a:ext cx="556272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бразование домашнее, училась русскому языку по Кариону Истомину, знала немецкий и французский языки, танц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ыла сторонницей неограниченного самодержав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йна за польское наследство, русско-турецкая война; возвращен Азов и некоторые территории на Укра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Ликвидирован Верховный Тайный совет, учрежден Кабинет министров, обязательная дворянская служба ограничена 25 годами, ликвидирован майорат, издан указ о признании всех работных людей собственностью фабрикантов ,изменен Берг-регламент – открыта дорога к приватизации государственной промышл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ткрыта астрономическая обсерватория Де Лиля Де Ла Кроера, создана школа балета Ланде, осуществлена 2 Камчатская экспедиция, открыта Кунсткамера в новом зд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ездки в Москву, Троицу, Петергоф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Развлечения: балы, маскарады, любила слушать чтение сказок, предпочитала пышность наряд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Характеристика: высокая, полная, с грубыми мужскими чертами лица, малочувствительна ,холодна, груба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2T10:08:04Z</dcterms:created>
  <dc:creator>Слушатель № 2-9</dc:creator>
  <dc:description/>
  <dc:language>en-US</dc:language>
  <cp:lastModifiedBy>RePack by Diakov</cp:lastModifiedBy>
  <dcterms:modified xsi:type="dcterms:W3CDTF">2017-05-25T14:03:02Z</dcterms:modified>
  <cp:revision>22</cp:revision>
  <dc:subject/>
  <dc:title>Презентация PowerPoint</dc:title>
</cp:coreProperties>
</file>