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6.jpeg" ContentType="image/jpe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7.png" ContentType="image/pn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2E0-4424-4E91-9622-52D5CF83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B16-BE29-4B0D-967F-F51AD2E9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44F-6FFC-429F-B22D-9C0F3F57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FBB-C2F0-49F4-A399-494FF340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4755-CA4E-4849-929B-C7CCB432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4FBD-B16A-4E69-BD39-C918AD2C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8A2C-41DB-4216-B40A-9D557256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C6C8-BB9C-4CC9-A641-094BEEDA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A1A8-3348-4DEB-97E7-56671206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FEBD-5676-410D-AE67-B4F5E566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791D-DF34-4AAA-B294-2EAF4AE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306-784E-4C19-90DD-8AD6F9C5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777F-3649-4615-8E4C-0C976A07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FC9A-C2F4-49B7-AB3B-5E32A2C0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FA4D-AA7C-401A-AC10-7C78EEE3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B17F-4B97-4BDE-80A9-52A5ED5A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C06A-2467-4DB6-918A-F1877855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9DC7-4943-435F-B496-C9907E7B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E6661-B189-4207-98B9-63E3059B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BE99-E052-4AE4-9561-B045E3FC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867C-24E7-413B-9EC7-BDF348D6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9D52-7490-4366-9C3F-0491E367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1ED-8B50-41C6-A231-59541F2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F77B-EE39-47EA-863B-CCE3A4BF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4B5C-BC72-49B3-9953-D43A73A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54F6-6E92-44A5-8853-BA2C3CCD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29F1-EB93-4650-8F96-E85FBAF1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5823-0ED8-4932-A13B-B2FC9176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78245-C8AE-4FDD-B943-7BFBCDCC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5F113-AE20-43A0-AC14-8C73519C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8DE2-3AC8-4489-8DFE-82105F97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E7E7D-8CF8-4E0F-AD82-56E2A5E2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FA097-CFCA-4CE2-9826-AB5885F1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0C4-F9F9-4CC1-B7C8-65C05FD3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B6256-E815-4A48-938C-1BDBA191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7DF2B-89D7-46EC-85A7-5AC06322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EBFDA-4CF8-4DF2-8192-5DC547E5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FEDAA-CCF5-4BF6-85C5-25315208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AE914-7228-4150-A6EB-4A196E2B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B1214-854F-4601-A37E-CC6FED5A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2F45F-9850-437C-B0AF-25D5BA4E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E1BB6-2E93-4C4D-8FC0-F526D18E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FED3-4295-4BFE-8C40-7C864B20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B41A-A75C-4CFA-8ADC-22179F47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5BF-54E0-4A3B-9626-B3C3C646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08AFC-FAFA-4D01-9EB1-202A6D27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0C9C-CC5B-4D5F-8B53-2C2A4274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FA13-B8D5-4560-B052-169D2906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B82EE-AA95-4731-9F29-742887E6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8EC62-AF96-4EE6-9447-72FC8CBA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2C4B4-8009-4E81-8729-22BEF848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3591B-96E1-4158-A978-E3E730A4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78FDD-A930-4B12-A59C-E2FBF1A4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93495-E744-43C0-A3E8-7A682773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6EDE2-EA8F-4DEA-A0AD-9A0522E9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77C-ECB0-478F-906E-AE5D41EC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480A5-A1B7-4D2C-A8D1-516C71C2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B67-6072-4FEB-991D-5FF75AE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0B0-3FEE-4075-973A-EE060892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1B0-7B09-4CC8-959D-4C189DB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C686-6432-4785-B16C-123C3F3E0835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ad010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ad010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ad010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ad0101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ad010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ad010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ad010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ad010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726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726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726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68C2-28F3-49F6-8B4F-AC69D1F2A155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ad010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ad010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ad010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ad0101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ad010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ad010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ad010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ad010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8491-A9CA-49B7-8331-2DE7B202928B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ad010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3EF4-7E33-4D79-B33B-1FB5ADB6A98E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ad010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18FD-F83C-4CF8-A0A9-C6F1BE819AAF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5"/>
          <p:cNvSpPr/>
          <p:nvPr/>
        </p:nvSpPr>
        <p:spPr>
          <a:xfrm>
            <a:off x="3733920" y="25909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387684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7" descr="http://rf.boom.ru/rus/russia15.gif"/>
          <p:cNvPicPr/>
          <p:nvPr/>
        </p:nvPicPr>
        <p:blipFill>
          <a:blip r:embed="rId1"/>
          <a:stretch/>
        </p:blipFill>
        <p:spPr>
          <a:xfrm>
            <a:off x="2916360" y="2492280"/>
            <a:ext cx="3375000" cy="4041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3" descr="C:\Program Files\Xara\Webstyle\Export\din.gif"/>
          <p:cNvPicPr/>
          <p:nvPr/>
        </p:nvPicPr>
        <p:blipFill>
          <a:blip r:embed="rId2"/>
          <a:stretch/>
        </p:blipFill>
        <p:spPr>
          <a:xfrm>
            <a:off x="457200" y="600120"/>
            <a:ext cx="8381880" cy="1676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2"/>
          <p:cNvSpPr txBox="1"/>
          <p:nvPr/>
        </p:nvSpPr>
        <p:spPr>
          <a:xfrm>
            <a:off x="22860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Елизавета Петровн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2591280" y="12193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09-1761, царствовала: 1741-17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7" descr="http://home.comset.net/gals/el.jpg"/>
          <p:cNvPicPr/>
          <p:nvPr/>
        </p:nvPicPr>
        <p:blipFill>
          <a:blip r:embed="rId1"/>
          <a:srcRect l="13748" t="4984" r="12913" b="5847"/>
          <a:stretch/>
        </p:blipFill>
        <p:spPr>
          <a:xfrm>
            <a:off x="324000" y="1752480"/>
            <a:ext cx="3163680" cy="41166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2"/>
          <p:cNvSpPr/>
          <p:nvPr/>
        </p:nvSpPr>
        <p:spPr>
          <a:xfrm>
            <a:off x="3657600" y="2219400"/>
            <a:ext cx="51814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омашнее образование, обучалась иностранным языкам, танц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оронница петровских преобразований, тяги к занятиям государственной деятельностью не им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ы: русско-шведская, участие в Семилетней вой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иквидация Кабинета, отмена внутренних таможен, учреждение дворянского и купеческого банков ,монетная реформа, передача заводов в частные руки ,подготовка уложения. Создание Московского университета ,учреждение Академии художеств, возникновение первого русского театра, возобновление изданий журна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ереписывалась с французским королем.  Посещала Москву, Троицу, Царское Село, Укра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идворные развлечения, охота , слушала чтение сказок, много времени уделяла нарядам, украшениям, собственной внешности. Велела обрить головы придворным дам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Характеристика: высокая, очень полная, внешне весела, легкомысленна ,но в реальности упряма, мнительна, суеверна, к концу жизни замкнут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WordArt 2"/>
          <p:cNvSpPr txBox="1"/>
          <p:nvPr/>
        </p:nvSpPr>
        <p:spPr>
          <a:xfrm>
            <a:off x="3505320" y="3808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етр I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2734560" y="121932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28-1762, царствовал: 1761-17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7" descr="http://home.comset.net/gals/p3.jpg"/>
          <p:cNvPicPr/>
          <p:nvPr/>
        </p:nvPicPr>
        <p:blipFill>
          <a:blip r:embed="rId1"/>
          <a:stretch/>
        </p:blipFill>
        <p:spPr>
          <a:xfrm>
            <a:off x="324000" y="1752480"/>
            <a:ext cx="3249360" cy="36165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2"/>
          <p:cNvSpPr/>
          <p:nvPr/>
        </p:nvSpPr>
        <p:spPr>
          <a:xfrm>
            <a:off x="3657600" y="2371680"/>
            <a:ext cx="5257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омашнее образование, обучался иностранным языкам ,основам математики, географии, истор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оронник абсолютной самодержавной вла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лючил мир с Пруссией, чем закончил Семилетнюю войн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анифест о вольности дворян, ликвидация Тайной канцелярии, секуляризация церковных земел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удучи великим князем, сопровождал Елизавету Петровну в поездках в Москву и на Украин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юбил парады, проводил время в попойках, курении табака, любил играть на скрип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Характеристика: высокий, худой, с длинными руками и маленькой головкой, вспыльчив ,но отходчив, нервен, непостоянен, трусли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895480" y="380880"/>
            <a:ext cx="4496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Екатерина 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2743560" y="12193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29-1796, царствовала: 1762-17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8" descr="http://home.comset.net/gals/ek2.jpg"/>
          <p:cNvPicPr/>
          <p:nvPr/>
        </p:nvPicPr>
        <p:blipFill>
          <a:blip r:embed="rId1"/>
          <a:stretch/>
        </p:blipFill>
        <p:spPr>
          <a:xfrm>
            <a:off x="176040" y="1698480"/>
            <a:ext cx="3635640" cy="40449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4"/>
          <p:cNvSpPr/>
          <p:nvPr/>
        </p:nvSpPr>
        <p:spPr>
          <a:xfrm>
            <a:off x="3809880" y="1676520"/>
            <a:ext cx="510552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омашнее образование, обучали иностранным языкам, танцам, историей, философией, экономи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оронница самодержавной формой 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ы с Турцией, Швецией, участие в трех разделах Польши – присоединение Крыма, значительных территорий в Белоруссии, Литве, Западной Украине, Курлянд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формы органов центрального и местного управления, секуляризация церковных земель, унификация управления национальными окраинами, выработка законодательства о сословиях, судебная реформа, законодательное закрепление частной собственности, введение бумажных дене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здание Российской академии, Вольного Российского собрания ,Вольного экономического общества, основание журналов, создание системы народного образования, основание Эрмитажа, открытие публичных театров, появление русской оперы, расцвет живопис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Ежедневные занятия государственными делами, писанием писем ,работа над законодательством. Развлечения: маскарады, балы, игра в кар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Характеристика: полная, с красивыми чертами лица, выдержанная, владеющая собой, поддерживает беседу, терпелива, умела быть жестокой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2"/>
          <p:cNvSpPr txBox="1"/>
          <p:nvPr/>
        </p:nvSpPr>
        <p:spPr>
          <a:xfrm>
            <a:off x="3657600" y="38088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авел 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2886840" y="11430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54-1801, царствовал: 1796-18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7" descr="http://home.comset.net/gals/pav.jpg"/>
          <p:cNvPicPr/>
          <p:nvPr/>
        </p:nvPicPr>
        <p:blipFill>
          <a:blip r:embed="rId1"/>
          <a:stretch/>
        </p:blipFill>
        <p:spPr>
          <a:xfrm>
            <a:off x="250920" y="1620720"/>
            <a:ext cx="3330360" cy="420048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2"/>
          <p:cNvSpPr/>
          <p:nvPr/>
        </p:nvSpPr>
        <p:spPr>
          <a:xfrm>
            <a:off x="3581280" y="2100240"/>
            <a:ext cx="53341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шел курс наук – общеобразовательных (русский язык, словесность, иностранные языки – немецкий, французский, латынь – история, география, математика) и политических, хорошо начитан. Увлекся военным д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йны: участие  во 2 антифранцузской коалиции (1798). Взятие русским флотом по командованием Ф.Ф.Ушакова крепости на о.Корфу; кампания в Италии под руководством А.В.Суворова – разгром французских войск при р.Адде, р.Треббии, г.Нови; переход Суворова через Аль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з об ограничении барщины 3 днями в неделю (1797); закон о престолонаследии, ликвидация дворянских губернских собраний, лишение дворян права избирать должностных лиц в уезде ,восстановление телесных наказаний для дворя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ездка в Берлин, путешествие по Европе (Австрия, Италия, Франция), поездка на театр боевых действий в Финляндию во время войны со Шве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Любил военное дело ,пара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Характеристика: некрасив (курнос, с широкими скулами), нервный, раздражите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2"/>
          <p:cNvSpPr txBox="1"/>
          <p:nvPr/>
        </p:nvSpPr>
        <p:spPr>
          <a:xfrm>
            <a:off x="2556000" y="380880"/>
            <a:ext cx="4572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лександр 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2412360" y="121932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77-1825, царствовал: 1801-18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7" descr="http://home.comset.net/gals/alek1.jpg"/>
          <p:cNvPicPr/>
          <p:nvPr/>
        </p:nvPicPr>
        <p:blipFill>
          <a:blip r:embed="rId1"/>
          <a:stretch/>
        </p:blipFill>
        <p:spPr>
          <a:xfrm>
            <a:off x="257040" y="2133720"/>
            <a:ext cx="2963880" cy="30906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"/>
          <p:cNvSpPr/>
          <p:nvPr/>
        </p:nvSpPr>
        <p:spPr>
          <a:xfrm>
            <a:off x="3200400" y="2133720"/>
            <a:ext cx="56386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ностороннее образование: история, словесность, география, математика, ботаника, физика, языки 9французский, немецкий, английский, латынь), государственный и политические нау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лагополучные войны с Ираном и Турцией. Неудачное для Росси участие в 3  и 4 антифранцузских коалициях. Война со Швецией и присоединение Финляндии. Разгром Наполеона в ходе Отечественной войны 1812 г. и заграничных походов 1813 и 1814 год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з о вольных хлебопашцах, освобождение крестьян в Прибалтике, учреждение министерств, Государственного совета. Введение военных поселений. Судебная реформа. Создание сети духовно-учебных заведений. Основание Дерптского, Харьковского, Виленского, Казанского, Петербургского университетов, лицеев. Введение университетского устава. 1814 – основание Публичной библиоте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Характер: красив с оттенком некоторой изнеженности, часто производил впечатление вялого и нерешительного человека, упря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2"/>
          <p:cNvSpPr txBox="1"/>
          <p:nvPr/>
        </p:nvSpPr>
        <p:spPr>
          <a:xfrm>
            <a:off x="3505320" y="380880"/>
            <a:ext cx="3809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Николай 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2972520" y="129528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96-1855, царствовал: 1825-18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7" descr="http://home.comset.net/gals/nik1.jpg"/>
          <p:cNvPicPr/>
          <p:nvPr/>
        </p:nvPicPr>
        <p:blipFill>
          <a:blip r:embed="rId1"/>
          <a:stretch/>
        </p:blipFill>
        <p:spPr>
          <a:xfrm>
            <a:off x="331920" y="1968480"/>
            <a:ext cx="3241440" cy="36082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10"/>
          <p:cNvSpPr/>
          <p:nvPr/>
        </p:nvSpPr>
        <p:spPr>
          <a:xfrm>
            <a:off x="3581280" y="1828800"/>
            <a:ext cx="53341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ние обширное, усваивал предметы плохо. Увлекался военно-инженерными науками. Языки: английский, французский, немецкий, латынь, древнегреческ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преклонный сторонник самодержавия ,военной дисциплин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спешные для России войны с Ираком и Турцией. Разгром польского восстания. Помощь Австрии в подавлении венгерского восстания. 1853 – начало Крымской войны с Англией, Францией, Турцией и Сардини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средоточение кодификации и высшей политической полиции во 2 и 3 отделениях собственной канцелярии императора. 1826 – цензурный устав, 1828 – учебная реформа, 1835 – университетский устав. Кодификация законов. 1842 – указ об обязанных крестьянах. Основан ряд высших учебных заведе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Характеристика: величественная, царственная внешность, отличался сильной волей ,непреклонностью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2971800" y="380880"/>
            <a:ext cx="4572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лександр 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2896200" y="121932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818-1881, царствовал: 1855-18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7" descr="http://home.comset.net/gals/al2.jpg"/>
          <p:cNvPicPr/>
          <p:nvPr/>
        </p:nvPicPr>
        <p:blipFill>
          <a:blip r:embed="rId1"/>
          <a:stretch/>
        </p:blipFill>
        <p:spPr>
          <a:xfrm>
            <a:off x="287280" y="1752480"/>
            <a:ext cx="3446640" cy="3835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10"/>
          <p:cNvSpPr/>
          <p:nvPr/>
        </p:nvSpPr>
        <p:spPr>
          <a:xfrm>
            <a:off x="3733920" y="1828800"/>
            <a:ext cx="5105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лучил прекрасное воспитание. Изучение общеобразовательных, политических и военных наук. Воспитатель: В.А.Жуковский, наставник – М.М.Сперанский. языки: англ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й, французский, немецкий, польск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астие в неудачной для Росси Крымской Войне и завершил ее. Окончательное завоевание Кавказа , присоединение к России Средней Азии. Война с Турцией 1877-1878, победа Ро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и. Подавление восстания в Польш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формы: отмена крепостного права, введение местного самоуправления, судебная новый университетский устав, военная, финансовая реформы. Ликвидация 3 отделения. Рост числа издательст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Любил военное дело, охоту, светские развлеч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Характеристика: отличался красотой, военной выправкой, прекрасными манерами, с детства вялы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патичный, нерешительный, но упрямый и скрытный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2971800" y="380880"/>
            <a:ext cx="4572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лександр I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820240" y="121932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845-1894, царствовал: 1881-18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http://home.comset.net/gals/al3.jpg"/>
          <p:cNvPicPr/>
          <p:nvPr/>
        </p:nvPicPr>
        <p:blipFill>
          <a:blip r:embed="rId1"/>
          <a:stretch/>
        </p:blipFill>
        <p:spPr>
          <a:xfrm>
            <a:off x="317520" y="1905120"/>
            <a:ext cx="3305160" cy="367812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0"/>
          <p:cNvSpPr/>
          <p:nvPr/>
        </p:nvSpPr>
        <p:spPr>
          <a:xfrm>
            <a:off x="3657600" y="1905120"/>
            <a:ext cx="5257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особностями не отличался, получил умеренное образование. Языки: французский, немецк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вершил присоединение Средней Аз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нтрреформы: временные правила о печати 1882, университетский устав, ограничение приема в гимназии детей низших сословий – циркуляр «о кухаркиных детях», закон о земских начальниках, земская и городская контрреформы; ограничение в суде, русификация окраин, но ввел фабричное законодательств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ездки по России и Европ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Характеристика: большой рост, тучный, неуклюж, лишен хороших манер, упорный и твердый, на вид спокойный, медлительный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2"/>
          <p:cNvSpPr txBox="1"/>
          <p:nvPr/>
        </p:nvSpPr>
        <p:spPr>
          <a:xfrm>
            <a:off x="3276720" y="380880"/>
            <a:ext cx="3962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Николай 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2820240" y="13716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868-1918, царствовал: 1894-19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7" descr="http://home.comset.net/gals/nik2.jpg"/>
          <p:cNvPicPr/>
          <p:nvPr/>
        </p:nvPicPr>
        <p:blipFill>
          <a:blip r:embed="rId1"/>
          <a:stretch/>
        </p:blipFill>
        <p:spPr>
          <a:xfrm>
            <a:off x="277920" y="1838160"/>
            <a:ext cx="3406680" cy="37911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1"/>
          <p:cNvSpPr/>
          <p:nvPr/>
        </p:nvSpPr>
        <p:spPr>
          <a:xfrm>
            <a:off x="3657600" y="2057400"/>
            <a:ext cx="5257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лучил прекрасное разностороннее образование, знал английский, французский, немецкий язы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удачная для России война с Японией, вступление в 1 мировую войну против Германии, Австро-Венгрии, Турции в союзе с Англией и Франци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1897 – введение в обращение золотой валюты. 1905 – учреждение парламента, дарование демократических свобод, 1906 – начало аграрной рефор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ткрытие музея Александр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осударственный Русский музей), музея изящных искусств в Москв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Путешествовал на Восток, по Европ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Любил физический труд, спорт, чтение вслух, в кругу семь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Характеристика: красив, правильные черты лица, небольшой рост, слабоволен, проявлял растерянность и апатию, но был упрям, скрытен, коварен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5" descr="http://home.comset.net/gals/g3.gif"/>
          <p:cNvPicPr/>
          <p:nvPr/>
        </p:nvPicPr>
        <p:blipFill>
          <a:blip r:embed="rId1"/>
          <a:stretch/>
        </p:blipFill>
        <p:spPr>
          <a:xfrm>
            <a:off x="468360" y="30492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http://home.comset.net/gals/g4.gif"/>
          <p:cNvPicPr/>
          <p:nvPr/>
        </p:nvPicPr>
        <p:blipFill>
          <a:blip r:embed="rId2"/>
          <a:stretch/>
        </p:blipFill>
        <p:spPr>
          <a:xfrm>
            <a:off x="2050920" y="304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http://home.comset.net/gals/g5.gif"/>
          <p:cNvPicPr/>
          <p:nvPr/>
        </p:nvPicPr>
        <p:blipFill>
          <a:blip r:embed="rId3"/>
          <a:stretch/>
        </p:blipFill>
        <p:spPr>
          <a:xfrm>
            <a:off x="3780000" y="30492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ttp://home.comset.net/gals/g6.gif"/>
          <p:cNvPicPr/>
          <p:nvPr/>
        </p:nvPicPr>
        <p:blipFill>
          <a:blip r:embed="rId4"/>
          <a:stretch/>
        </p:blipFill>
        <p:spPr>
          <a:xfrm>
            <a:off x="5364000" y="304920"/>
            <a:ext cx="1447920" cy="1218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3" descr="http://home.comset.net/gals/g7.gif"/>
          <p:cNvPicPr/>
          <p:nvPr/>
        </p:nvPicPr>
        <p:blipFill>
          <a:blip r:embed="rId5"/>
          <a:stretch/>
        </p:blipFill>
        <p:spPr>
          <a:xfrm>
            <a:off x="7093080" y="304920"/>
            <a:ext cx="1447560" cy="1258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http://home.comset.net/gals/g8.gif"/>
          <p:cNvPicPr/>
          <p:nvPr/>
        </p:nvPicPr>
        <p:blipFill>
          <a:blip r:embed="rId6"/>
          <a:stretch/>
        </p:blipFill>
        <p:spPr>
          <a:xfrm>
            <a:off x="743040" y="1676520"/>
            <a:ext cx="1668240" cy="1447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http://home.comset.net/gals/g9.gif"/>
          <p:cNvPicPr/>
          <p:nvPr/>
        </p:nvPicPr>
        <p:blipFill>
          <a:blip r:embed="rId7"/>
          <a:stretch/>
        </p:blipFill>
        <p:spPr>
          <a:xfrm>
            <a:off x="2835360" y="1676520"/>
            <a:ext cx="1592280" cy="14875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9" descr="http://home.comset.net/gals/g10.gif"/>
          <p:cNvPicPr/>
          <p:nvPr/>
        </p:nvPicPr>
        <p:blipFill>
          <a:blip r:embed="rId8"/>
          <a:stretch/>
        </p:blipFill>
        <p:spPr>
          <a:xfrm>
            <a:off x="4859280" y="160020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http://home.comset.net/gals/g12.gif"/>
          <p:cNvPicPr/>
          <p:nvPr/>
        </p:nvPicPr>
        <p:blipFill>
          <a:blip r:embed="rId9"/>
          <a:stretch/>
        </p:blipFill>
        <p:spPr>
          <a:xfrm>
            <a:off x="6875640" y="1600200"/>
            <a:ext cx="1584000" cy="16002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22"/>
          <p:cNvSpPr/>
          <p:nvPr/>
        </p:nvSpPr>
        <p:spPr>
          <a:xfrm>
            <a:off x="622440" y="3645000"/>
            <a:ext cx="8001000" cy="25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МАНОВЫ,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рский род, царская (с 1613), императорская (1721-1917) фамилия. Первым известным предком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овых был Андрей Иванович Кобыл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м. до 1350-51)До нач. 16 в. именовались Кошкиными, затем Захарьиными-Кошк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ми и Захарьиными-Юрьевыми. Родоначальник Романовыхбоярин Никита Романович Захарьин-Юрьев (ум. 1586). Его сын Фе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 — будущий патриарх Филарет. На Земском соборе 1613 Михаил Федорович избран царем. Из дома Романовых царствовали Алексей Михайлович, Федор Алексеевич. В годы малолетства царей Ивана V и Петра I правительницей была Софья Алексеевна. В 1721 Петр I провозглашен императором. Екатерина I (Марта Скавронская) стала первой российской императрицей. Со смертью Петра II династия Романовых пресеклась в прямом мужском поколении. После смерти Анны Ивановны правительницей при м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летнем Иване VI Антоновиче была Анна Леопольдовна. Со смертью Елизаветы Петровны династия Романовых пресеклась в прямой женской линии. Однако фамилию Романовых носили Петр III (сын герцога Голштейн-Готторпского Фридриха Карла и Анны, дочери Петра I) и его жена Екатерина II (урожденная Анхальт-Цербстская), их сын Павел I и его потомки (одно из назв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й династии в литературе — Голштейн-Готторпские-Романовы): Александр I, Николай I, Александр II, Александр III и Н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й II, отрекшийся от престола в ходе Февральской революции 1917. В 1918 Николай Александрович Романов и его семья рас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яны в Екатеринбурге; другие Романовы убиты в 1918-19, многие эмигрировал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3"/>
          <p:cNvSpPr txBox="1"/>
          <p:nvPr/>
        </p:nvSpPr>
        <p:spPr>
          <a:xfrm>
            <a:off x="1835280" y="228600"/>
            <a:ext cx="5562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96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Михаил Федорович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4114800" y="19051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1523880" y="1219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596-1645, царствовал: 1613-16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3276720" y="1752480"/>
            <a:ext cx="54864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ведения об уровне образования и знаний иностранных языков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торонник взаимодействия царской власти с сословно-представительными институтами (Боярская дума, Земский собор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йны: с Польшей 1632-1634 (Смоленская войн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ововведения: сыски сошедших с посадов тяглых людей с целью их возвращения, повсеместное введение воеводского управления, испомещение на землю «вольных» казаков, начало создания войск нового строя, строительство новой оборонительной линии на юге стран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овершал поездки на богомолье в монастыр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Близок был с родителями и жен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ворцовые развлечения – слушание сказаний и рассказов живших во дворе стариков. Любил охот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Характеристика: высокий, в конце жизни тучный, лицо продолговатое, открытое, с усами и круглой бородой, слабый и безвольный, легко подчинявшийся влияни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4" descr="http://catalog.aport.ru/path/path155/Image84.jpg"/>
          <p:cNvPicPr/>
          <p:nvPr/>
        </p:nvPicPr>
        <p:blipFill>
          <a:blip r:embed="rId1"/>
          <a:stretch/>
        </p:blipFill>
        <p:spPr>
          <a:xfrm>
            <a:off x="352440" y="1676520"/>
            <a:ext cx="2771640" cy="374328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19"/>
          <p:cNvSpPr/>
          <p:nvPr/>
        </p:nvSpPr>
        <p:spPr>
          <a:xfrm>
            <a:off x="3124080" y="17524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3657600" y="1660680"/>
            <a:ext cx="5029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3809880" y="1812960"/>
            <a:ext cx="5029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3962520" y="1965240"/>
            <a:ext cx="5029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3"/>
          <p:cNvSpPr txBox="1"/>
          <p:nvPr/>
        </p:nvSpPr>
        <p:spPr>
          <a:xfrm>
            <a:off x="22860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лексей Михайлович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2678760" y="13716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29-1676, царствовал: 1645-16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3876840" y="26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8" descr="http://catalog.aport.ru/path/path155/Image86.jpg"/>
          <p:cNvPicPr/>
          <p:nvPr/>
        </p:nvPicPr>
        <p:blipFill>
          <a:blip r:embed="rId1"/>
          <a:stretch/>
        </p:blipFill>
        <p:spPr>
          <a:xfrm>
            <a:off x="441360" y="2205000"/>
            <a:ext cx="2654280" cy="35323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6"/>
          <p:cNvSpPr/>
          <p:nvPr/>
        </p:nvSpPr>
        <p:spPr>
          <a:xfrm>
            <a:off x="3200400" y="1600200"/>
            <a:ext cx="57150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чальная грамотность: иностранные языки (греческий, польский), богословие, философия, духовная музыка. Дядьки-воспитатели: боярин Б.И.Морозов, В.Н.Стрешнев. учителя: дьяк В.С.Проковьев, подьячий Г.В.Ль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йны: с Польшей 1654-1667. признание Польшей присоединения Украины к России со Швецией 1656-1658 за выход к Балтийскому морю и овладение Ливонией. Констатация границ 161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здание кодекса государственных законов («Уложение» 1649 г.), денежная реформа, организация массового сыска беглых крестьян, реорганизация таможенных сборов в интересах отечественного купечества, введение войск нового стр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рганизация государственных школ для обучения подьячих при Заиконоспасском монастыре. Дворцовые теат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лизок с патриархом Никоном ,архиепископом Л.Барановичем, А.С.Матвеевым, А.Л.Ордин-Нащокиным, сест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 время войны посетил ряд литовских городов. Поездки на богомолье в дальние монастыр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лечения: охота, придворный театр, шахматы. Строжайшее соблюдение всех религиозных обря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стика: несколько грубоватый, невысокий, коренастый, лицо немного одутловатое, низкий лоб, черты мягкие, приятные, носил небольшую бороду и усы, добродушен, жизнерадостен, вспыльчив, но отходчи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3"/>
          <p:cNvSpPr txBox="1"/>
          <p:nvPr/>
        </p:nvSpPr>
        <p:spPr>
          <a:xfrm>
            <a:off x="2590920" y="380880"/>
            <a:ext cx="4952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53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Федор Алексеевич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2743920" y="16002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61-1682, царствовал: 1676-16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387684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http://catalog.aport.ru/path/path155/Image91.jpg"/>
          <p:cNvPicPr/>
          <p:nvPr/>
        </p:nvPicPr>
        <p:blipFill>
          <a:blip r:embed="rId1"/>
          <a:stretch/>
        </p:blipFill>
        <p:spPr>
          <a:xfrm>
            <a:off x="306360" y="2438280"/>
            <a:ext cx="2665440" cy="322272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4"/>
          <p:cNvSpPr/>
          <p:nvPr/>
        </p:nvSpPr>
        <p:spPr>
          <a:xfrm>
            <a:off x="2971800" y="1998720"/>
            <a:ext cx="617220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учал языки (латинский , польский), риторику, поэтику, историю и богословие, церковное пение, имеет начальное образование. Воспитатели: Ф.Ф.Куракин, И.Б.Хитрово. учителя: П.Т.Белянинов, С.Полоцк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торонник абсолютной власти царя и его окружения, стремление к ослаблению Боярской думы и власти Патриар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йны: с Турцией 1676-1681 против турецкой агрессии на Украине. Признание Турцией прав России на Укра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ведение новой прямой подати (стрелецких денег) вместо многочисленных сборов, новая структура организации военных сил, усиление власти воевод на местах, отмена местничества. Организация школы при Печатном дворе, попытка создания школ общего и производственного обучения при богодельнях, создание «Верхней» (Дворцовой) типограф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торонники: С.С.Медведев, патриарх Иок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овершал поездки на богомолье в ближние к Москве монастыр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ного внимание уделял одежде, ввел западные кафтаны и прически. Любил смотреть на лошадей, обучал их «фокусам». Беседовал со стариками, слушал сказит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Характеристика: высокий и худой, с длинн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лосами, глаза немного припухшие, меланхоличный и мягкий ,но  в определенных ситуациях решительны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2"/>
          <p:cNvSpPr txBox="1"/>
          <p:nvPr/>
        </p:nvSpPr>
        <p:spPr>
          <a:xfrm>
            <a:off x="2590920" y="45720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60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етр Алексеевич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1219320" y="1523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672-1725, Царь с 1682 по1696 – совместно с Иваном Алексеевичем, император с 17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8" descr="http://www.shiphistory.navy.ru/peter/peter1sm.jpg"/>
          <p:cNvPicPr/>
          <p:nvPr/>
        </p:nvPicPr>
        <p:blipFill>
          <a:blip r:embed="rId1"/>
          <a:stretch/>
        </p:blipFill>
        <p:spPr>
          <a:xfrm>
            <a:off x="284040" y="2133720"/>
            <a:ext cx="2764080" cy="35528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6"/>
          <p:cNvSpPr/>
          <p:nvPr/>
        </p:nvSpPr>
        <p:spPr>
          <a:xfrm>
            <a:off x="2987640" y="2219400"/>
            <a:ext cx="6095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учен начальной грамоте. Воспитатель – Р.М.Стрешнев, учителя: Н.М.Зотов, А.Нестеров. Языки: польский, немецкий, голландск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 абсолютизм, сторонник неограниченной власти царя. Политика разделения законодательной и исполнительной власти в организации системы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ы: Крымские походы 1687 и 1689 гг.,  Азовские походы 1695-1696гг.,завершившиеся взятием Азова. Северная война 1700-1721 гг., выход России к Балтийскому морю. Война с Турцией 1710-1713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ие новой сети государственных учреждений: Сената, коллег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одского управления. Разделение страны на губернии, позднее – провинции. «Табель о рангах». Создание регулярной армии и флота, введение подушной подати, монетная реформа, отмена патриаршества, организация школьного обучения. Введение школ разного типа – цифирных, артиллерийских, инженер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тоянные разъезды по европейской части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ведение западных обычаев, ассамб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Характеристика: грубоватый юмор, высок ростом ,узок в плечах, лицо круглое с выпуклыми глазами, носил длинные волосы и подбритые усы, вспыльчив, горяч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2"/>
          <p:cNvSpPr txBox="1"/>
          <p:nvPr/>
        </p:nvSpPr>
        <p:spPr>
          <a:xfrm>
            <a:off x="2666880" y="380880"/>
            <a:ext cx="5105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Екатерина 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829240" y="129528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84-1727, царствовала: 1725-17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359100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8" descr="Екатерина Алексеевна Михайлова (Марта Скавронская) - вторая жена Петра I"/>
          <p:cNvPicPr/>
          <p:nvPr/>
        </p:nvPicPr>
        <p:blipFill>
          <a:blip r:embed="rId1"/>
          <a:stretch/>
        </p:blipFill>
        <p:spPr>
          <a:xfrm>
            <a:off x="266760" y="1770120"/>
            <a:ext cx="2781360" cy="38196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3"/>
          <p:cNvSpPr/>
          <p:nvPr/>
        </p:nvSpPr>
        <p:spPr>
          <a:xfrm>
            <a:off x="3048120" y="2133720"/>
            <a:ext cx="6095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ния практически не име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аралась не отступать от политической линией Петр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доверив управление страной  А.Д.Меншиков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 не вело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 Верховный Тайный совет, уменьшена подушная пода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ткрыта Петербургская Академия нау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провождала Петра во многих его поездках и военных похода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Развлечения: балы, маскарады, прогулки по Неве, сопровождаемые пушечной стрельб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высокая, кряжистая, полная, по характеру типичная домашняя хозяйка.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WordArt 2"/>
          <p:cNvSpPr txBox="1"/>
          <p:nvPr/>
        </p:nvSpPr>
        <p:spPr>
          <a:xfrm>
            <a:off x="3352680" y="3808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етр 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2514600" y="114300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15-1730, царствовал: 1727-17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591000" y="236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8" descr="Петр II Алексеевич"/>
          <p:cNvPicPr/>
          <p:nvPr/>
        </p:nvPicPr>
        <p:blipFill>
          <a:blip r:embed="rId1"/>
          <a:stretch/>
        </p:blipFill>
        <p:spPr>
          <a:xfrm>
            <a:off x="404640" y="1687680"/>
            <a:ext cx="3100680" cy="36795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3"/>
          <p:cNvSpPr/>
          <p:nvPr/>
        </p:nvSpPr>
        <p:spPr>
          <a:xfrm>
            <a:off x="3505320" y="1981080"/>
            <a:ext cx="53337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омашнее образование. Владел иностранными языками, основами нау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ходился под влиянием А.Д.Меньшикова, затем князей Долгоруких, стремившихся к ревизии петровских преобразований и к аристократическому правлени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 не вело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ереезд двора в Москву, создание Комиссий о коммерции и о конфискации, издание Вексельного устава. Создан первый русский журнал – «Примечания к Ведомостям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утешествовал по окрестностям Москв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амое любимое занятие – охота, придворные развлеч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тройный. Худощавый, правильные черты лица, капризный, злобный, жестокий, склонный к интрига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WordArt 2"/>
          <p:cNvSpPr txBox="1"/>
          <p:nvPr/>
        </p:nvSpPr>
        <p:spPr>
          <a:xfrm>
            <a:off x="2438280" y="38088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нна Иоановн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2676960" y="129528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93-1740, царствовала: 1730-17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3591000" y="23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8" descr="Анна Иоановна"/>
          <p:cNvPicPr/>
          <p:nvPr/>
        </p:nvPicPr>
        <p:blipFill>
          <a:blip r:embed="rId1"/>
          <a:stretch/>
        </p:blipFill>
        <p:spPr>
          <a:xfrm>
            <a:off x="307800" y="1908000"/>
            <a:ext cx="3044880" cy="37562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3"/>
          <p:cNvSpPr/>
          <p:nvPr/>
        </p:nvSpPr>
        <p:spPr>
          <a:xfrm>
            <a:off x="3352680" y="1905120"/>
            <a:ext cx="556272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ние домашнее, училась русскому языку по Кариону Истомину, знала немецкий и французский языки, тан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ыла сторонницей неограниченного самодержа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а за польское наследство, русско-турецкая война; возвращен Азов и некоторые территории на Укра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иквидирован Верховный Тайный совет, учрежден Кабинет министров, обязательная дворянская служба ограничена 25 годами, ликвидирован майорат, издан указ о признании всех работных людей собственностью фабрикантов ,изменен Берг-регламент – открыта дорога к приватизации государственной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ткрыта астрономическая обсерватория Де Лиля Де Ла Кроера, создана школа балета Ланде, осуществлена 2 Камчатская экспедиция, открыта Кунсткамера в новом зд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ездки в Москву, Троицу, Петерго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азвлечения: балы, маскарады, любила слушать чтение сказок, предпочитала пышность наря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Характеристика: высокая, полная, с грубыми мужскими чертами лица, малочувствительна ,холодна, груб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10:08:04Z</dcterms:created>
  <dc:creator>Слушатель № 2-9</dc:creator>
  <dc:description/>
  <dc:language>en-US</dc:language>
  <cp:lastModifiedBy>RePack by Diakov</cp:lastModifiedBy>
  <dcterms:modified xsi:type="dcterms:W3CDTF">2017-05-25T14:03:02Z</dcterms:modified>
  <cp:revision>22</cp:revision>
  <dc:subject/>
  <dc:title>Презентация PowerPoint</dc:title>
</cp:coreProperties>
</file>