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58E6-7340-4FFC-9148-19C30D54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3C60-AF5B-4FC3-BD3F-40602B53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044-96B8-49D3-83F7-652FDAFE7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4AC-4927-4B7D-AAB3-943F4793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566-0FD8-46C0-A6E4-A9AA8003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190-F74C-4508-8D03-188E45895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AB51-C36A-443D-BFE8-0FE5C75A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D32-D263-4F51-B14B-17BCA996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E79-7732-4EA1-8CC8-33C80607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4F8-4F21-40BF-9B22-2667A70B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9889-BB47-40B2-BF74-5B4ADE27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85F3-1AF3-4D97-B10F-899ABBC7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C754-5023-4E56-BE55-816B4ED76E1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wmf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2320" y="836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Je fais connaissance avec les curiosités de </a:t>
            </a:r>
            <a:endParaRPr b="0" lang="en-US" sz="6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971640" y="2924280"/>
            <a:ext cx="3095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Mo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sc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u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TextBox 2"/>
          <p:cNvSpPr/>
          <p:nvPr/>
        </p:nvSpPr>
        <p:spPr>
          <a:xfrm>
            <a:off x="3816360" y="292428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et</a:t>
            </a:r>
            <a:r>
              <a:rPr b="0" lang="en-US" sz="60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47ffd1"/>
                </a:solidFill>
                <a:latin typeface="Arial"/>
              </a:rPr>
              <a:t>de</a:t>
            </a:r>
            <a:r>
              <a:rPr b="0" lang="en-US" sz="6000" spc="-1" strike="noStrike">
                <a:solidFill>
                  <a:srgbClr val="47ffd1"/>
                </a:solidFill>
                <a:latin typeface="Times New Roman"/>
              </a:rPr>
              <a:t> 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P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364000" y="502920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итель французского язы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БОУ Школы № 1210 г. Москв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еонова Ирина Геннадьев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ffcd"/>
                </a:solidFill>
                <a:latin typeface="Times New Roman"/>
              </a:rPr>
              <a:t>MOSCOU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713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33"/>
                </a:solidFill>
                <a:latin typeface="Times New Roman"/>
              </a:rPr>
              <a:t>J’ai reconnu 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Kremlin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емл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Place Roug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расная площад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’église Basile-le-Bienheureux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–    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обор Василия Блаженног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Bolchoï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Большой теат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Galerie Trétiakov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етьяковская галере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6032520" y="0"/>
            <a:ext cx="307656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cffcd"/>
                </a:solidFill>
                <a:latin typeface="Times New Roman"/>
              </a:rPr>
              <a:t>PARIS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08000" y="1052640"/>
            <a:ext cx="9036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33"/>
                </a:solidFill>
                <a:latin typeface="Times New Roman"/>
              </a:rPr>
              <a:t>J’ai reconnu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e Louvre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Лув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a Tour Eiffel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Эйфелева башн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L’Arc de Triomphe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риумфальная ар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cffcd"/>
                </a:solidFill>
                <a:latin typeface="Times New Roman"/>
              </a:rPr>
              <a:t>La cathédrale de </a:t>
            </a:r>
            <a:r>
              <a:rPr b="1" lang="fr-FR" sz="4400" spc="-1" strike="noStrike">
                <a:solidFill>
                  <a:srgbClr val="3cffcd"/>
                </a:solidFill>
                <a:latin typeface="Times New Roman"/>
              </a:rPr>
              <a:t>Notre-Dame de Paris</a:t>
            </a:r>
            <a:r>
              <a:rPr b="1" lang="ru-RU" sz="4400" spc="-1" strike="noStrike">
                <a:solidFill>
                  <a:srgbClr val="3cffcd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– Собор Парижской Богоматер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</a:rPr>
              <a:t>Monmartr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онмартр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11" descr=""/>
          <p:cNvPicPr/>
          <p:nvPr/>
        </p:nvPicPr>
        <p:blipFill>
          <a:blip r:embed="rId1"/>
          <a:stretch/>
        </p:blipFill>
        <p:spPr>
          <a:xfrm>
            <a:off x="6805440" y="0"/>
            <a:ext cx="23385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1280" y="333360"/>
          <a:ext cx="7848360" cy="6264360"/>
        </p:xfrm>
        <a:graphic>
          <a:graphicData uri="http://schemas.openxmlformats.org/drawingml/2006/table">
            <a:tbl>
              <a:tblPr/>
              <a:tblGrid>
                <a:gridCol w="787320"/>
                <a:gridCol w="797040"/>
                <a:gridCol w="796680"/>
                <a:gridCol w="797040"/>
                <a:gridCol w="682560"/>
                <a:gridCol w="795240"/>
                <a:gridCol w="798840"/>
                <a:gridCol w="798480"/>
                <a:gridCol w="799920"/>
                <a:gridCol w="795240"/>
              </a:tblGrid>
              <a:tr h="744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16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33"/>
                          </a:solidFill>
                          <a:latin typeface="Times New Roman"/>
                          <a:ea typeface="Calibri"/>
                        </a:rPr>
                        <a:t>ï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38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É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8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640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2480"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440" rIns="28440" tIns="28440" bIns="284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33"/>
                          </a:solidFill>
                          <a:latin typeface="Times New Roman"/>
                          <a:ea typeface="Times New Roman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82520" y="22320"/>
            <a:ext cx="889164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Mardi, nous avons __________ le bus et nous sommes ___________ pour Marseille. Nous avons________________les beaux paysages; des rivieres, des villages. Nos amis de Marseille sont ___________________ à la g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 _____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COURU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______ensemble. Puis, nous avons _______________ beaucoup de monuments interessa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___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__ toutes les affiches, mais nous ne sommes pas________________ au theat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ous avons ________________au bord de la mer .Que c’est beau! Puis, nous avons __________________«au revoir» a la mer et à nos amis. Nous sommes_______________ chez nous. Samedi, nous avons _______________ une lettre a nos amis mais ils n’ont pas encore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Paule et Marinette viennent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3059280" y="22320"/>
            <a:ext cx="6643440" cy="795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95120" y="549360"/>
            <a:ext cx="6643800" cy="792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3"/>
          <a:stretch/>
        </p:blipFill>
        <p:spPr>
          <a:xfrm>
            <a:off x="5651640" y="549360"/>
            <a:ext cx="6813360" cy="79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4"/>
          <a:stretch/>
        </p:blipFill>
        <p:spPr>
          <a:xfrm>
            <a:off x="971640" y="1484280"/>
            <a:ext cx="695628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"/>
          <p:cNvPicPr/>
          <p:nvPr/>
        </p:nvPicPr>
        <p:blipFill>
          <a:blip r:embed="rId5"/>
          <a:stretch/>
        </p:blipFill>
        <p:spPr>
          <a:xfrm>
            <a:off x="0" y="2330280"/>
            <a:ext cx="6811920" cy="1074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"/>
          <p:cNvPicPr/>
          <p:nvPr/>
        </p:nvPicPr>
        <p:blipFill>
          <a:blip r:embed="rId6"/>
          <a:stretch/>
        </p:blipFill>
        <p:spPr>
          <a:xfrm>
            <a:off x="1908000" y="2886120"/>
            <a:ext cx="6912000" cy="903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7"/>
          <a:stretch/>
        </p:blipFill>
        <p:spPr>
          <a:xfrm>
            <a:off x="971640" y="3405240"/>
            <a:ext cx="6799320" cy="920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"/>
          <p:cNvPicPr/>
          <p:nvPr/>
        </p:nvPicPr>
        <p:blipFill>
          <a:blip r:embed="rId8"/>
          <a:stretch/>
        </p:blipFill>
        <p:spPr>
          <a:xfrm>
            <a:off x="2484360" y="3881520"/>
            <a:ext cx="6805800" cy="92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8" descr=""/>
          <p:cNvPicPr/>
          <p:nvPr/>
        </p:nvPicPr>
        <p:blipFill>
          <a:blip r:embed="rId9"/>
          <a:stretch/>
        </p:blipFill>
        <p:spPr>
          <a:xfrm>
            <a:off x="3516480" y="4325760"/>
            <a:ext cx="6867360" cy="82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"/>
          <p:cNvPicPr/>
          <p:nvPr/>
        </p:nvPicPr>
        <p:blipFill>
          <a:blip r:embed="rId10"/>
          <a:stretch/>
        </p:blipFill>
        <p:spPr>
          <a:xfrm>
            <a:off x="3516480" y="4824360"/>
            <a:ext cx="6867360" cy="908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"/>
          <p:cNvPicPr/>
          <p:nvPr/>
        </p:nvPicPr>
        <p:blipFill>
          <a:blip r:embed="rId11"/>
          <a:stretch/>
        </p:blipFill>
        <p:spPr>
          <a:xfrm>
            <a:off x="1809720" y="5267160"/>
            <a:ext cx="6643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Mo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sc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ou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     </a:t>
            </a:r>
            <a:r>
              <a:rPr b="1" lang="en-US" sz="6600" spc="-1" strike="noStrike">
                <a:solidFill>
                  <a:srgbClr val="00b0f0"/>
                </a:solidFill>
                <a:latin typeface="Times New Roman"/>
              </a:rPr>
              <a:t>P</a:t>
            </a: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ar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104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cffcd"/>
                </a:solidFill>
                <a:latin typeface="Times New Roman"/>
                <a:ea typeface="Times New Roman"/>
              </a:rPr>
              <a:t>FAISONS LE PROJET 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332000" y="2781360"/>
            <a:ext cx="7488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Votre ville russe ou fran</a:t>
            </a:r>
            <a:r>
              <a:rPr b="0" lang="en-US" sz="3600" spc="-1" strike="noStrike">
                <a:solidFill>
                  <a:srgbClr val="ffff33"/>
                </a:solidFill>
                <a:latin typeface="Times New Roman"/>
                <a:ea typeface="Calibri"/>
              </a:rPr>
              <a:t>ç</a:t>
            </a: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ais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Quels monuments et curiosité y a-t-il dans votre ville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Est-ce que beaucoup de touristes viennent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Votre ville est vieille ou modern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33"/>
                </a:solidFill>
                <a:latin typeface="Times New Roman"/>
              </a:rPr>
              <a:t>Y a-t-il une rivièr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3T05:22:42Z</dcterms:created>
  <dc:creator>Фр.язык</dc:creator>
  <dc:description/>
  <dc:language>en-US</dc:language>
  <cp:lastModifiedBy>K1-9</cp:lastModifiedBy>
  <dcterms:modified xsi:type="dcterms:W3CDTF">2017-10-11T09:04:14Z</dcterms:modified>
  <cp:revision>40</cp:revision>
  <dc:subject/>
  <dc:title>VOYAGES</dc:title>
</cp:coreProperties>
</file>