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CD7-322A-4AB2-9327-A19E70D6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B5B-8C9A-4FF8-93A8-D320743C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6F2-A438-4402-A1F7-60373CB6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28C-22CE-42F5-8664-BAD8380C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742-17A4-4CA4-BF18-B73C0A7C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5AD-1E1E-428D-BCE4-34BCB80D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152-D67D-48F8-AA8E-A57AE768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EF3-8649-4C9A-B5F5-9152FE0D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4C7-C4FD-491A-AC8F-B2D9CC52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980-1BE3-43F5-9B9B-F41C669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381-D556-4ACF-A8CA-BB5FD310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32A-D72C-447F-BF9E-BD8D520E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D49C-C7CA-4F28-AA02-2602262679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836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7ffd1"/>
                </a:solidFill>
                <a:latin typeface="Arial"/>
              </a:rPr>
              <a:t>Je fais connaissance avec les curiosités de 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971640" y="292428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Mo</a:t>
            </a:r>
            <a:r>
              <a:rPr b="1" lang="en-US" sz="6600" spc="-1" strike="noStrike">
                <a:solidFill>
                  <a:srgbClr val="00b0f0"/>
                </a:solidFill>
                <a:latin typeface="Times New Roman"/>
              </a:rPr>
              <a:t>sc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ou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816360" y="292428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7ffd1"/>
                </a:solidFill>
                <a:latin typeface="Arial"/>
              </a:rPr>
              <a:t>et</a:t>
            </a:r>
            <a:r>
              <a:rPr b="0" lang="en-US" sz="6000" spc="-1" strike="noStrike">
                <a:solidFill>
                  <a:srgbClr val="47ffd1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47ffd1"/>
                </a:solidFill>
                <a:latin typeface="Arial"/>
              </a:rPr>
              <a:t>de</a:t>
            </a:r>
            <a:r>
              <a:rPr b="0" lang="en-US" sz="6000" spc="-1" strike="noStrike">
                <a:solidFill>
                  <a:srgbClr val="47ffd1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b0f0"/>
                </a:solidFill>
                <a:latin typeface="Times New Roman"/>
              </a:rPr>
              <a:t>P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ar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364000" y="50292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французского язы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БОУ Школы № 1210 г. Москв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онова Ирина Геннадье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ffcd"/>
                </a:solidFill>
                <a:latin typeface="Times New Roman"/>
              </a:rPr>
              <a:t>MOSCOU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33"/>
                </a:solidFill>
                <a:latin typeface="Times New Roman"/>
              </a:rPr>
              <a:t>J’ai reconnu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e Kremlin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рем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a Place Roug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расная площад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’église Basile-le-Bienheureux</a:t>
            </a: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–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обор Василия Блаженног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e Bolchoï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ольшой теат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a Galerie Trétiakov</a:t>
            </a: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етьяковская галере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6032520" y="0"/>
            <a:ext cx="30765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ffcd"/>
                </a:solidFill>
                <a:latin typeface="Times New Roman"/>
              </a:rPr>
              <a:t>PARIS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8000" y="1052640"/>
            <a:ext cx="9036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33"/>
                </a:solidFill>
                <a:latin typeface="Times New Roman"/>
              </a:rPr>
              <a:t>J’ai reconnu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e Louvr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в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a Tour Eiffel</a:t>
            </a: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– Эйфелева башн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’Arc de Triomphe</a:t>
            </a: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умфальная ар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cffcd"/>
                </a:solidFill>
                <a:latin typeface="Times New Roman"/>
              </a:rPr>
              <a:t>La cathédrale de </a:t>
            </a:r>
            <a:r>
              <a:rPr b="1" lang="fr-FR" sz="4400" spc="-1" strike="noStrike">
                <a:solidFill>
                  <a:srgbClr val="3cffcd"/>
                </a:solidFill>
                <a:latin typeface="Times New Roman"/>
              </a:rPr>
              <a:t>Notre-Dame de Paris</a:t>
            </a: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– Собор Парижской Богоматер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Monmartr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онмарт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6805440" y="0"/>
            <a:ext cx="23385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1280" y="333360"/>
          <a:ext cx="7848360" cy="6264360"/>
        </p:xfrm>
        <a:graphic>
          <a:graphicData uri="http://schemas.openxmlformats.org/drawingml/2006/table">
            <a:tbl>
              <a:tblPr/>
              <a:tblGrid>
                <a:gridCol w="787320"/>
                <a:gridCol w="797040"/>
                <a:gridCol w="796680"/>
                <a:gridCol w="797040"/>
                <a:gridCol w="682560"/>
                <a:gridCol w="795240"/>
                <a:gridCol w="798840"/>
                <a:gridCol w="798480"/>
                <a:gridCol w="799920"/>
                <a:gridCol w="795240"/>
              </a:tblGrid>
              <a:tr h="744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16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33"/>
                          </a:solidFill>
                          <a:latin typeface="Times New Roman"/>
                          <a:ea typeface="Calibri"/>
                        </a:rPr>
                        <a:t>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É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64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2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82520" y="22320"/>
            <a:ext cx="889164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di, nous avons __________ le bus et nous sommes ___________ pour Marseille. Nous avons________________les beaux paysages; des rivieres, des villages. Nos amis de Marseille sont ___________________ à la g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ous avons _____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OURU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______ensemble. Puis, nous avons _______________ beaucoup de monuments interess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ous avons___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__ toutes les affiches, mais nous ne sommes pas________________ au thea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ous avons ________________au bord de la mer .Que c’est beau! Puis, nous avons __________________«au revoir» a la mer et à nos amis. Nous sommes_______________ chez nous. Samedi, nous avons _______________ une lettre a nos amis mais ils n’ont pas encore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Paule et Marinette viennent de Par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1"/>
          <a:stretch/>
        </p:blipFill>
        <p:spPr>
          <a:xfrm>
            <a:off x="3059280" y="22320"/>
            <a:ext cx="6643440" cy="795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95120" y="549360"/>
            <a:ext cx="664380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3"/>
          <a:stretch/>
        </p:blipFill>
        <p:spPr>
          <a:xfrm>
            <a:off x="5651640" y="549360"/>
            <a:ext cx="6813360" cy="79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4"/>
          <a:stretch/>
        </p:blipFill>
        <p:spPr>
          <a:xfrm>
            <a:off x="971640" y="1484280"/>
            <a:ext cx="6956280" cy="84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5"/>
          <a:stretch/>
        </p:blipFill>
        <p:spPr>
          <a:xfrm>
            <a:off x="0" y="2330280"/>
            <a:ext cx="6811920" cy="107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"/>
          <p:cNvPicPr/>
          <p:nvPr/>
        </p:nvPicPr>
        <p:blipFill>
          <a:blip r:embed="rId6"/>
          <a:stretch/>
        </p:blipFill>
        <p:spPr>
          <a:xfrm>
            <a:off x="1908000" y="2886120"/>
            <a:ext cx="6912000" cy="90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7"/>
          <a:stretch/>
        </p:blipFill>
        <p:spPr>
          <a:xfrm>
            <a:off x="971640" y="3405240"/>
            <a:ext cx="6799320" cy="92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"/>
          <p:cNvPicPr/>
          <p:nvPr/>
        </p:nvPicPr>
        <p:blipFill>
          <a:blip r:embed="rId8"/>
          <a:stretch/>
        </p:blipFill>
        <p:spPr>
          <a:xfrm>
            <a:off x="2484360" y="3881520"/>
            <a:ext cx="6805800" cy="92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"/>
          <p:cNvPicPr/>
          <p:nvPr/>
        </p:nvPicPr>
        <p:blipFill>
          <a:blip r:embed="rId9"/>
          <a:stretch/>
        </p:blipFill>
        <p:spPr>
          <a:xfrm>
            <a:off x="3516480" y="4325760"/>
            <a:ext cx="6867360" cy="8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"/>
          <p:cNvPicPr/>
          <p:nvPr/>
        </p:nvPicPr>
        <p:blipFill>
          <a:blip r:embed="rId10"/>
          <a:stretch/>
        </p:blipFill>
        <p:spPr>
          <a:xfrm>
            <a:off x="3516480" y="4824360"/>
            <a:ext cx="6867360" cy="90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"/>
          <p:cNvPicPr/>
          <p:nvPr/>
        </p:nvPicPr>
        <p:blipFill>
          <a:blip r:embed="rId11"/>
          <a:stretch/>
        </p:blipFill>
        <p:spPr>
          <a:xfrm>
            <a:off x="1809720" y="5267160"/>
            <a:ext cx="6643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Mo</a:t>
            </a:r>
            <a:r>
              <a:rPr b="1" lang="en-US" sz="6600" spc="-1" strike="noStrike">
                <a:solidFill>
                  <a:srgbClr val="00b0f0"/>
                </a:solidFill>
                <a:latin typeface="Times New Roman"/>
              </a:rPr>
              <a:t>sc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f0"/>
                </a:solidFill>
                <a:latin typeface="Times New Roman"/>
              </a:rPr>
              <a:t>     </a:t>
            </a:r>
            <a:r>
              <a:rPr b="1" lang="en-US" sz="6600" spc="-1" strike="noStrike">
                <a:solidFill>
                  <a:srgbClr val="00b0f0"/>
                </a:solidFill>
                <a:latin typeface="Times New Roman"/>
              </a:rPr>
              <a:t>P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ar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  <a:ea typeface="Times New Roman"/>
              </a:rPr>
              <a:t>FAISONS LE PROJET 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332000" y="2781360"/>
            <a:ext cx="748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Votre ville russe ou fran</a:t>
            </a:r>
            <a:r>
              <a:rPr b="0" lang="en-US" sz="3600" spc="-1" strike="noStrike">
                <a:solidFill>
                  <a:srgbClr val="ffff33"/>
                </a:solidFill>
                <a:latin typeface="Times New Roman"/>
                <a:ea typeface="Calibri"/>
              </a:rPr>
              <a:t>ç</a:t>
            </a: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aise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Quels monuments et curiosité y a-t-il dans votre ville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Est-ce que beaucoup de touristes viennent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Votre ville est vieille ou moder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Y a-t-il une riviè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5:22:42Z</dcterms:created>
  <dc:creator>Фр.язык</dc:creator>
  <dc:description/>
  <dc:language>en-US</dc:language>
  <cp:lastModifiedBy>K1-9</cp:lastModifiedBy>
  <dcterms:modified xsi:type="dcterms:W3CDTF">2017-10-11T09:04:14Z</dcterms:modified>
  <cp:revision>40</cp:revision>
  <dc:subject/>
  <dc:title>VOYAGES</dc:title>
</cp:coreProperties>
</file>