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4BAC-9E56-44EB-8B1F-AF020887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C07-DDA7-4E5D-8A2A-D17E794A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845-F15F-4B0A-8951-F628CE6D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4411-877C-430A-9AA7-91EB31EB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59E-9D92-409E-A9FE-C77D1FC8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FE2-F14E-4895-9BB1-6926A5ED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7EF-4763-4AAA-B633-3FD31044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450-88B0-4DCE-8D57-36183BFB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5BD-3D97-47F2-9C31-AD0502CA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0DF-8FC6-4C6A-B886-6C97AE52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397-348E-4571-97EA-7659528E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376-5DAC-459C-9166-C671D158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0D02-7A1B-4184-80AB-7AAA94C9D2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://artnow.ru/img/472000/4725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Всемирное наследие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ыдающиеся природные и культурные ценности, составляющие достояние всего человечест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sstu.ru/upload/iblock/612/unesco.png"/>
          <p:cNvPicPr/>
          <p:nvPr/>
        </p:nvPicPr>
        <p:blipFill>
          <a:blip r:embed="rId1"/>
          <a:stretch/>
        </p:blipFill>
        <p:spPr>
          <a:xfrm>
            <a:off x="-3959280" y="0"/>
            <a:ext cx="16062480" cy="6864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5400" y="38844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ЮНЕСКО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205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организация по вопросам образования, науки и культу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vokrugmira.info/wp-content/uploads/2014/09/ozero-bajkal-rossiya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Озеро Байка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factoped.com/uploads/posts/2015-01/1421951253_1.jpg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0" y="528480"/>
            <a:ext cx="5389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Московский Кремль и Красная площад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www.greenpeace.org/russia/Global/russia/image/world-heritage/PutoranaPlateau/05PutoranaPlateau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0" y="409680"/>
            <a:ext cx="883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лато Путора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8560" y="360000"/>
            <a:ext cx="7886880" cy="58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ы во власти мятежного, страстного хме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усть кричат нам: «Вы палачи красоты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о имя нашего Завтра – сожжём Рафаэл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зрушим музеи, растопчем искусства цветы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А. Кирил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Направления накопления и сохранения культурных ценностей (развитие культуры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1825560"/>
          <a:ext cx="9144000" cy="5032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емств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копление художественных цен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аторство и культу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0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ача культурных ценностей от одного поколения к другому. Культурные традиции – наиболее устойчивая сторона культуры (традиционные ценности, идеи, обряды, обычаи и т.д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новременное существование и взаимодействие в условиях современной цивилизации художественных произведений, созданных в различные эпох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 новаторства и творчества. Общественная значимость произведений куль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chgpk.ru/biblioteka/biblioteka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s://encrypted-tbn0.gstatic.com/images?q=tbn:ANd9GcR5B_cej9UPqxeEL79YwgEaZ7euckQZJUC8U6IpRNntz8JvWtDn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4040280" y="5595840"/>
            <a:ext cx="49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лександрийская библиот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russian7.ru/wp-content/uploads/2013/08/%D0%BC%D1%83%D0%B7%D0%B5%D0%B9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97040" y="348624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Духовные богатства общества и культурное наследие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§10, вопросы 1-4, практикум 3 или 4 на выб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Скругленный прямоугольник 3"/>
          <p:cNvSpPr/>
          <p:nvPr/>
        </p:nvSpPr>
        <p:spPr>
          <a:xfrm>
            <a:off x="3271680" y="2246400"/>
            <a:ext cx="2471760" cy="14587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3240000" y="2325600"/>
            <a:ext cx="255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уховные богат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Скругленный прямоугольник 9"/>
          <p:cNvSpPr/>
          <p:nvPr/>
        </p:nvSpPr>
        <p:spPr>
          <a:xfrm>
            <a:off x="5999040" y="4524480"/>
            <a:ext cx="2855880" cy="10746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кругленный прямоугольник 10"/>
          <p:cNvSpPr/>
          <p:nvPr/>
        </p:nvSpPr>
        <p:spPr>
          <a:xfrm>
            <a:off x="304920" y="633240"/>
            <a:ext cx="2278080" cy="10749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кругленный прямоугольник 11"/>
          <p:cNvSpPr/>
          <p:nvPr/>
        </p:nvSpPr>
        <p:spPr>
          <a:xfrm>
            <a:off x="3368520" y="657360"/>
            <a:ext cx="2278080" cy="10746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12"/>
          <p:cNvSpPr/>
          <p:nvPr/>
        </p:nvSpPr>
        <p:spPr>
          <a:xfrm>
            <a:off x="6392880" y="633240"/>
            <a:ext cx="2278080" cy="10749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кругленный прямоугольник 13"/>
          <p:cNvSpPr/>
          <p:nvPr/>
        </p:nvSpPr>
        <p:spPr>
          <a:xfrm>
            <a:off x="3240000" y="4603680"/>
            <a:ext cx="2278080" cy="10749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14"/>
          <p:cNvSpPr/>
          <p:nvPr/>
        </p:nvSpPr>
        <p:spPr>
          <a:xfrm>
            <a:off x="441360" y="4579920"/>
            <a:ext cx="2278080" cy="10746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кругленный прямоугольник 16"/>
          <p:cNvSpPr/>
          <p:nvPr/>
        </p:nvSpPr>
        <p:spPr>
          <a:xfrm>
            <a:off x="6408720" y="2543040"/>
            <a:ext cx="2278080" cy="10749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17"/>
          <p:cNvSpPr/>
          <p:nvPr/>
        </p:nvSpPr>
        <p:spPr>
          <a:xfrm>
            <a:off x="320760" y="2614680"/>
            <a:ext cx="2278080" cy="10746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368280" y="722160"/>
            <a:ext cx="208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адиции и обыча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3481560" y="754200"/>
            <a:ext cx="205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ральные нор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0"/>
          <p:cNvSpPr/>
          <p:nvPr/>
        </p:nvSpPr>
        <p:spPr>
          <a:xfrm>
            <a:off x="6416640" y="722160"/>
            <a:ext cx="22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лигиозные запов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528480" y="4844880"/>
            <a:ext cx="21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ни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3160800" y="4668840"/>
            <a:ext cx="24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изведения искус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5888160" y="45878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разовательные учреж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4"/>
          <p:cNvSpPr/>
          <p:nvPr/>
        </p:nvSpPr>
        <p:spPr>
          <a:xfrm>
            <a:off x="336600" y="280656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иту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5"/>
          <p:cNvSpPr/>
          <p:nvPr/>
        </p:nvSpPr>
        <p:spPr>
          <a:xfrm>
            <a:off x="6481800" y="2774880"/>
            <a:ext cx="21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зд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1981080" y="324000"/>
            <a:ext cx="4705560" cy="108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2057400" y="533520"/>
            <a:ext cx="468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уховное богат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1847880" y="2381400"/>
            <a:ext cx="5010120" cy="8571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6"/>
          <p:cNvSpPr/>
          <p:nvPr/>
        </p:nvSpPr>
        <p:spPr>
          <a:xfrm>
            <a:off x="5219640" y="4648320"/>
            <a:ext cx="3257640" cy="16002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7"/>
          <p:cNvSpPr/>
          <p:nvPr/>
        </p:nvSpPr>
        <p:spPr>
          <a:xfrm>
            <a:off x="571680" y="4591080"/>
            <a:ext cx="3409920" cy="16192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Прямая со стрелкой 13"/>
          <p:cNvCxnSpPr>
            <a:stCxn id="67" idx="2"/>
            <a:endCxn id="69" idx="0"/>
          </p:cNvCxnSpPr>
          <p:nvPr/>
        </p:nvCxnSpPr>
        <p:spPr>
          <a:xfrm>
            <a:off x="4334040" y="1409400"/>
            <a:ext cx="19440" cy="972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Прямая со стрелкой 15"/>
          <p:cNvCxnSpPr>
            <a:stCxn id="69" idx="2"/>
          </p:cNvCxnSpPr>
          <p:nvPr/>
        </p:nvCxnSpPr>
        <p:spPr>
          <a:xfrm flipH="1">
            <a:off x="2152080" y="3238200"/>
            <a:ext cx="2200680" cy="1353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Прямая со стрелкой 17"/>
          <p:cNvCxnSpPr>
            <a:stCxn id="69" idx="2"/>
            <a:endCxn id="70" idx="0"/>
          </p:cNvCxnSpPr>
          <p:nvPr/>
        </p:nvCxnSpPr>
        <p:spPr>
          <a:xfrm>
            <a:off x="4351680" y="3238560"/>
            <a:ext cx="2496600" cy="1410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TextBox 18"/>
          <p:cNvSpPr/>
          <p:nvPr/>
        </p:nvSpPr>
        <p:spPr>
          <a:xfrm>
            <a:off x="2000160" y="2228760"/>
            <a:ext cx="476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то все наиболее важное и цен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9"/>
          <p:cNvSpPr/>
          <p:nvPr/>
        </p:nvSpPr>
        <p:spPr>
          <a:xfrm>
            <a:off x="685800" y="46674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человечество создало  за долгую историю своего существ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0"/>
          <p:cNvSpPr/>
          <p:nvPr/>
        </p:nvSpPr>
        <p:spPr>
          <a:xfrm>
            <a:off x="5372280" y="4724280"/>
            <a:ext cx="299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зультаты духовной деятельности чело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 Light"/>
              </a:rPr>
              <a:t>п.1 §10 (с.78-79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культурные ценности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ведите при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культурное наследие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ведите при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ультурные ценност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ности, имеющие историческое, художественное, научное или иное культурное знач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ультурное наслед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асть материальной и духовной культуры, созданная прошлыми поколениями, выдержавшая испытание временем и передающаяся следующим поколениям как нечто ценное и почитаем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v-izhikowa.ru/wp-content/uploads/2014/03/anypics.ru-551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www.e-reading.club/illustrations/1025/1025213-i_036.png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2T11:50:06Z</dcterms:created>
  <dc:creator>Dmytro</dc:creator>
  <dc:description/>
  <dc:language>en-US</dc:language>
  <cp:lastModifiedBy>Admin</cp:lastModifiedBy>
  <dcterms:modified xsi:type="dcterms:W3CDTF">2017-10-11T08:10:45Z</dcterms:modified>
  <cp:revision>14</cp:revision>
  <dc:subject/>
  <dc:title>Презентация PowerPoint</dc:title>
</cp:coreProperties>
</file>