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AA42-462B-41B7-90C3-10D9A751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BA4-58BC-4FA2-8295-6ED0C332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0BC0-F6F2-4932-AEBF-BD7FBC432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169-37A7-4E78-8ECE-DB2F6968B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83D-9905-43A1-BE82-C69263F4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45FA-B725-44DD-A2AD-1841495A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4811-AABF-448A-A6D5-A15F62E7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8160-FA29-4A9B-93F6-880AFC0C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B2C0-A0A3-478F-AA16-71E153D1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62C4-5FE0-4F2C-9C5A-BFCB9DF5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71F7-B3A6-4308-803C-85D61790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80F4-EC1E-45A0-A75D-19A4BF33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3E35-8936-41EF-B5D2-ABF975F54A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http://artnow.ru/img/472000/4725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 Light"/>
              </a:rPr>
              <a:t>Всемирное наследие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ыдающиеся природные и культурные ценности, составляющие достояние всего человечеств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sstu.ru/upload/iblock/612/unesco.png"/>
          <p:cNvPicPr/>
          <p:nvPr/>
        </p:nvPicPr>
        <p:blipFill>
          <a:blip r:embed="rId1"/>
          <a:stretch/>
        </p:blipFill>
        <p:spPr>
          <a:xfrm>
            <a:off x="-3959280" y="0"/>
            <a:ext cx="16062480" cy="6864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5400" y="38844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ЮНЕСКО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205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организация по вопросам образования, науки и культур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://vokrugmira.info/wp-content/uploads/2014/09/ozero-bajkal-rossiya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Озеро Байка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factoped.com/uploads/posts/2015-01/1421951253_1.jpg"/>
          <p:cNvPicPr/>
          <p:nvPr/>
        </p:nvPicPr>
        <p:blipFill>
          <a:blip r:embed="rId1"/>
          <a:stretch/>
        </p:blipFill>
        <p:spPr>
          <a:xfrm>
            <a:off x="0" y="37620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0" y="528480"/>
            <a:ext cx="5389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Московский Кремль и Красная площад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http://www.greenpeace.org/russia/Global/russia/image/world-heritage/PutoranaPlateau/05PutoranaPlateau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1149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4"/>
          <p:cNvSpPr/>
          <p:nvPr/>
        </p:nvSpPr>
        <p:spPr>
          <a:xfrm>
            <a:off x="0" y="409680"/>
            <a:ext cx="883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Плато Путора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8560" y="360000"/>
            <a:ext cx="7886880" cy="58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Мы во власти мятежного, страстного хмел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усть кричат нам: «Вы палачи красоты!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о имя нашего Завтра – сожжём Рафаэл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зрушим музеи, растопчем искусства цветы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А. Кирил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 Light"/>
              </a:rPr>
              <a:t>Направления накопления и сохранения культурных ценностей (развитие культуры)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1825560"/>
          <a:ext cx="9144000" cy="5032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емстве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копление художественных цен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аторство и культур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0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дача культурных ценностей от одного поколения к другому. Культурные традиции – наиболее устойчивая сторона культуры (традиционные ценности, идеи, обряды, обычаи и т.д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новременное существование и взаимодействие в условиях современной цивилизации художественных произведений, созданных в различные эпох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отношение новаторства и творчества. Общественная значимость произведений культу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http://chgpk.ru/biblioteka/biblioteka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https://encrypted-tbn0.gstatic.com/images?q=tbn:ANd9GcR5B_cej9UPqxeEL79YwgEaZ7euckQZJUC8U6IpRNntz8JvWtDn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4040280" y="5595840"/>
            <a:ext cx="49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лександрийская библиоте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http://russian7.ru/wp-content/uploads/2013/08/%D0%BC%D1%83%D0%B7%D0%B5%D0%B9.jpg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97040" y="3486240"/>
            <a:ext cx="77724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Духовные богатства общества и культурное наследие 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§10, вопросы 1-4, практикум 3 или 4 на выбо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Скругленный прямоугольник 3"/>
          <p:cNvSpPr/>
          <p:nvPr/>
        </p:nvSpPr>
        <p:spPr>
          <a:xfrm>
            <a:off x="3271680" y="2246400"/>
            <a:ext cx="2471760" cy="145872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3240000" y="2325600"/>
            <a:ext cx="2551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уховные богат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Скругленный прямоугольник 9"/>
          <p:cNvSpPr/>
          <p:nvPr/>
        </p:nvSpPr>
        <p:spPr>
          <a:xfrm>
            <a:off x="5999040" y="4524480"/>
            <a:ext cx="2855880" cy="10746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Скругленный прямоугольник 10"/>
          <p:cNvSpPr/>
          <p:nvPr/>
        </p:nvSpPr>
        <p:spPr>
          <a:xfrm>
            <a:off x="304920" y="633240"/>
            <a:ext cx="2278080" cy="10749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кругленный прямоугольник 11"/>
          <p:cNvSpPr/>
          <p:nvPr/>
        </p:nvSpPr>
        <p:spPr>
          <a:xfrm>
            <a:off x="3368520" y="657360"/>
            <a:ext cx="2278080" cy="10746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12"/>
          <p:cNvSpPr/>
          <p:nvPr/>
        </p:nvSpPr>
        <p:spPr>
          <a:xfrm>
            <a:off x="6392880" y="633240"/>
            <a:ext cx="2278080" cy="10749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Скругленный прямоугольник 13"/>
          <p:cNvSpPr/>
          <p:nvPr/>
        </p:nvSpPr>
        <p:spPr>
          <a:xfrm>
            <a:off x="3240000" y="4603680"/>
            <a:ext cx="2278080" cy="10749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Скругленный прямоугольник 14"/>
          <p:cNvSpPr/>
          <p:nvPr/>
        </p:nvSpPr>
        <p:spPr>
          <a:xfrm>
            <a:off x="441360" y="4579920"/>
            <a:ext cx="2278080" cy="10746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кругленный прямоугольник 16"/>
          <p:cNvSpPr/>
          <p:nvPr/>
        </p:nvSpPr>
        <p:spPr>
          <a:xfrm>
            <a:off x="6408720" y="2543040"/>
            <a:ext cx="2278080" cy="10749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17"/>
          <p:cNvSpPr/>
          <p:nvPr/>
        </p:nvSpPr>
        <p:spPr>
          <a:xfrm>
            <a:off x="320760" y="2614680"/>
            <a:ext cx="2278080" cy="10746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18"/>
          <p:cNvSpPr/>
          <p:nvPr/>
        </p:nvSpPr>
        <p:spPr>
          <a:xfrm>
            <a:off x="368280" y="722160"/>
            <a:ext cx="208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радиции и обыча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3481560" y="754200"/>
            <a:ext cx="205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ральные нор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0"/>
          <p:cNvSpPr/>
          <p:nvPr/>
        </p:nvSpPr>
        <p:spPr>
          <a:xfrm>
            <a:off x="6416640" y="722160"/>
            <a:ext cx="22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лигиозные запове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1"/>
          <p:cNvSpPr/>
          <p:nvPr/>
        </p:nvSpPr>
        <p:spPr>
          <a:xfrm>
            <a:off x="528480" y="4844880"/>
            <a:ext cx="21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ни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22"/>
          <p:cNvSpPr/>
          <p:nvPr/>
        </p:nvSpPr>
        <p:spPr>
          <a:xfrm>
            <a:off x="3160800" y="4668840"/>
            <a:ext cx="248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изведения искус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5888160" y="458784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разовательные учреж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4"/>
          <p:cNvSpPr/>
          <p:nvPr/>
        </p:nvSpPr>
        <p:spPr>
          <a:xfrm>
            <a:off x="336600" y="280656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итуа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5"/>
          <p:cNvSpPr/>
          <p:nvPr/>
        </p:nvSpPr>
        <p:spPr>
          <a:xfrm>
            <a:off x="6481800" y="2774880"/>
            <a:ext cx="211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здн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1981080" y="324000"/>
            <a:ext cx="4705560" cy="1085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1a6db"/>
              </a:gs>
              <a:gs pos="100000">
                <a:srgbClr val="438ac9"/>
              </a:gs>
            </a:gsLst>
            <a:lin ang="5400000"/>
          </a:gradFill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2057400" y="533520"/>
            <a:ext cx="468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уховное богат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1847880" y="2381400"/>
            <a:ext cx="5010120" cy="8571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Скругленный прямоугольник 6"/>
          <p:cNvSpPr/>
          <p:nvPr/>
        </p:nvSpPr>
        <p:spPr>
          <a:xfrm>
            <a:off x="5219640" y="4648320"/>
            <a:ext cx="3257640" cy="160020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кругленный прямоугольник 7"/>
          <p:cNvSpPr/>
          <p:nvPr/>
        </p:nvSpPr>
        <p:spPr>
          <a:xfrm>
            <a:off x="571680" y="4591080"/>
            <a:ext cx="3409920" cy="161928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Прямая со стрелкой 13"/>
          <p:cNvCxnSpPr>
            <a:stCxn id="67" idx="2"/>
            <a:endCxn id="69" idx="0"/>
          </p:cNvCxnSpPr>
          <p:nvPr/>
        </p:nvCxnSpPr>
        <p:spPr>
          <a:xfrm>
            <a:off x="4334040" y="1409400"/>
            <a:ext cx="19440" cy="972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Прямая со стрелкой 15"/>
          <p:cNvCxnSpPr>
            <a:stCxn id="69" idx="2"/>
          </p:cNvCxnSpPr>
          <p:nvPr/>
        </p:nvCxnSpPr>
        <p:spPr>
          <a:xfrm flipH="1">
            <a:off x="2152080" y="3238200"/>
            <a:ext cx="2200680" cy="1353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Прямая со стрелкой 17"/>
          <p:cNvCxnSpPr>
            <a:stCxn id="69" idx="2"/>
            <a:endCxn id="70" idx="0"/>
          </p:cNvCxnSpPr>
          <p:nvPr/>
        </p:nvCxnSpPr>
        <p:spPr>
          <a:xfrm>
            <a:off x="4351680" y="3238560"/>
            <a:ext cx="2496600" cy="1410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TextBox 18"/>
          <p:cNvSpPr/>
          <p:nvPr/>
        </p:nvSpPr>
        <p:spPr>
          <a:xfrm>
            <a:off x="2000160" y="2228760"/>
            <a:ext cx="476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то все наиболее важное и ценн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9"/>
          <p:cNvSpPr/>
          <p:nvPr/>
        </p:nvSpPr>
        <p:spPr>
          <a:xfrm>
            <a:off x="685800" y="46674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человечество создало  за долгую историю своего существ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0"/>
          <p:cNvSpPr/>
          <p:nvPr/>
        </p:nvSpPr>
        <p:spPr>
          <a:xfrm>
            <a:off x="5372280" y="4724280"/>
            <a:ext cx="2990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зультаты духовной деятельности челове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 Light"/>
              </a:rPr>
              <a:t>п.1 §10 (с.78-79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культурные ценности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ведите при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такое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культурное наследие»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ведите приме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ультурные ценност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нности, имеющие историческое, художественное, научное или иное культурное значени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Культурное наследи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асть материальной и духовной культуры, созданная прошлыми поколениями, выдержавшая испытание временем и передающаяся следующим поколениям как нечто ценное и почитаем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http://v-izhikowa.ru/wp-content/uploads/2014/03/anypics.ru-5513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www.e-reading.club/illustrations/1025/1025213-i_036.png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2T11:50:06Z</dcterms:created>
  <dc:creator>Dmytro</dc:creator>
  <dc:description/>
  <dc:language>en-US</dc:language>
  <cp:lastModifiedBy>Admin</cp:lastModifiedBy>
  <dcterms:modified xsi:type="dcterms:W3CDTF">2017-10-11T08:10:45Z</dcterms:modified>
  <cp:revision>14</cp:revision>
  <dc:subject/>
  <dc:title>Презентация PowerPoint</dc:title>
</cp:coreProperties>
</file>