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2.png" ContentType="image/png"/>
  <Override PartName="/ppt/media/image16.jpeg" ContentType="image/jpeg"/>
  <Override PartName="/ppt/media/image15.jpeg" ContentType="image/jpeg"/>
  <Override PartName="/ppt/media/image5.png" ContentType="image/png"/>
  <Override PartName="/ppt/media/image7.png" ContentType="image/png"/>
  <Override PartName="/ppt/media/image1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10.png" ContentType="image/png"/>
  <Override PartName="/ppt/media/image6.jpeg" ContentType="image/jpeg"/>
  <Override PartName="/ppt/media/image13.png" ContentType="image/png"/>
  <Override PartName="/ppt/media/image8.png" ContentType="image/png"/>
  <Override PartName="/ppt/media/image1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F4F8E-161E-472B-A600-79D10D1B0C9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F7B62-DD8A-4222-9D03-88EBAF03D7B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6F122-5C73-4887-902B-92F8EF1D6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E38A4-A498-4046-B1BC-83ACA4D9A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81410-D414-49AC-9E2A-DEB9B0238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98CBD-49AE-42A9-A859-295C74102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B9E47-EDBD-4FF3-B60D-4AF83D2BF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E4058-D447-476F-9329-F0E585CDE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ED13F-AACF-484C-A764-6886BF99E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0DA7B-33F6-4F9E-894F-EB6696F63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A579E-996D-4DD1-8DD5-08CA48BD5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29E47-342C-423E-9A9B-57AAAEC66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542DB-7CF1-4756-B651-CFD19E0A8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3B467-E264-4A3B-900D-4CDEB7143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4BAEF-C76E-4BBB-A048-8992BB23565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2636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00000"/>
                </a:solidFill>
                <a:latin typeface="Arial"/>
              </a:rPr>
              <a:t>Food, food, food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1" descr="clip3807"/>
          <p:cNvPicPr/>
          <p:nvPr/>
        </p:nvPicPr>
        <p:blipFill>
          <a:blip r:embed="rId1"/>
          <a:stretch/>
        </p:blipFill>
        <p:spPr>
          <a:xfrm>
            <a:off x="324000" y="404640"/>
            <a:ext cx="3024000" cy="24177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2" descr="debcfb53e46b"/>
          <p:cNvPicPr/>
          <p:nvPr/>
        </p:nvPicPr>
        <p:blipFill>
          <a:blip r:embed="rId2"/>
          <a:stretch/>
        </p:blipFill>
        <p:spPr>
          <a:xfrm>
            <a:off x="2700360" y="4292640"/>
            <a:ext cx="2879640" cy="20890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3" descr="2b430230146f78838deabdff3c16a8a6"/>
          <p:cNvPicPr/>
          <p:nvPr/>
        </p:nvPicPr>
        <p:blipFill>
          <a:blip r:embed="rId3"/>
          <a:stretch/>
        </p:blipFill>
        <p:spPr>
          <a:xfrm>
            <a:off x="6084720" y="260280"/>
            <a:ext cx="2541600" cy="254160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сканирование0004"/>
          <p:cNvPicPr/>
          <p:nvPr/>
        </p:nvPicPr>
        <p:blipFill>
          <a:blip r:embed="rId1"/>
          <a:stretch/>
        </p:blipFill>
        <p:spPr>
          <a:xfrm>
            <a:off x="0" y="-243000"/>
            <a:ext cx="9144000" cy="753264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6073920" cy="8683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Arial"/>
              </a:rPr>
              <a:t>Convers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 is the person in the first picture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does he have breakfa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oes he always have for breakfa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es he have a banana for breakfa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oes he never have for breakfast? Wh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Рисунок 4" descr="разговор.jpg"/>
          <p:cNvPicPr/>
          <p:nvPr/>
        </p:nvPicPr>
        <p:blipFill>
          <a:blip r:embed="rId1"/>
          <a:stretch/>
        </p:blipFill>
        <p:spPr>
          <a:xfrm>
            <a:off x="6534000" y="5175360"/>
            <a:ext cx="2610000" cy="168264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do you have breakfa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o you always have for breakfa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you have a banana for breakfa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o you never have for breakfast? Wh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vers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Рисунок 4" descr="разговор.jpg"/>
          <p:cNvPicPr/>
          <p:nvPr/>
        </p:nvPicPr>
        <p:blipFill>
          <a:blip r:embed="rId1"/>
          <a:stretch/>
        </p:blipFill>
        <p:spPr>
          <a:xfrm>
            <a:off x="6534000" y="5175360"/>
            <a:ext cx="2610000" cy="168264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5543280" cy="79704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Arial"/>
              </a:rPr>
              <a:t>Relax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28760" y="18572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ook at my finger: to the right, to the left, up and d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Рисунок 3" descr="указ палец.jpg"/>
          <p:cNvPicPr/>
          <p:nvPr/>
        </p:nvPicPr>
        <p:blipFill>
          <a:blip r:embed="rId1"/>
          <a:stretch/>
        </p:blipFill>
        <p:spPr>
          <a:xfrm>
            <a:off x="3252960" y="3143160"/>
            <a:ext cx="2390760" cy="314352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0040" y="213840"/>
            <a:ext cx="5757840" cy="93996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Arial"/>
              </a:rPr>
              <a:t>Imagin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up the breakfast of your drea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6" descr="Breakfast-Table-2-F85HBREI93-1600x1200"/>
          <p:cNvPicPr/>
          <p:nvPr/>
        </p:nvPicPr>
        <p:blipFill>
          <a:blip r:embed="rId1"/>
          <a:stretch/>
        </p:blipFill>
        <p:spPr>
          <a:xfrm>
            <a:off x="1547640" y="2276640"/>
            <a:ext cx="5472360" cy="4105080"/>
          </a:xfrm>
          <a:prstGeom prst="rect">
            <a:avLst/>
          </a:prstGeom>
          <a:ln w="0">
            <a:noFill/>
          </a:ln>
        </p:spPr>
      </p:pic>
      <p:pic>
        <p:nvPicPr>
          <p:cNvPr id="90" name="audio.wma" descr=""/>
          <p:cNvPicPr/>
          <p:nvPr/>
        </p:nvPicPr>
        <p:blipFill>
          <a:blip r:embed="rId2"/>
          <a:stretch/>
        </p:blipFill>
        <p:spPr>
          <a:xfrm>
            <a:off x="7885080" y="3645000"/>
            <a:ext cx="574560" cy="57456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112" dur="indefinite" restart="never" nodeType="tmRoot">
          <p:childTnLst>
            <p:seq>
              <p:cTn id="113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114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7" dur="61933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786040" y="285480"/>
            <a:ext cx="3857760" cy="7966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ivity book-page 3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6" descr="1598db40a2fc987d05a8297c8ddaa9f6"/>
          <p:cNvPicPr/>
          <p:nvPr/>
        </p:nvPicPr>
        <p:blipFill>
          <a:blip r:embed="rId1"/>
          <a:stretch/>
        </p:blipFill>
        <p:spPr>
          <a:xfrm>
            <a:off x="1332000" y="2349360"/>
            <a:ext cx="6408720" cy="384516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0" y="148428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2000"/>
          </a:bodyPr>
          <a:p>
            <a:pPr marL="2124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[ a: ]- banana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[ </a:t>
            </a:r>
            <a:r>
              <a:rPr b="1" lang="he-IL" sz="3200" spc="-1" strike="noStrike">
                <a:solidFill>
                  <a:srgbClr val="000000"/>
                </a:solidFill>
                <a:latin typeface="Arial"/>
              </a:rPr>
              <a:t>ו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]- milk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[ e ]-brea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…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[ju:]- juice…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[ r ]- fruit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2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ucumber, butter, lettuce, breakfast, tomatoes, eggs, crisp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2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rawberry, cheese, half, biscuits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Рисунок 6" descr="лекс.jpg"/>
          <p:cNvPicPr/>
          <p:nvPr/>
        </p:nvPicPr>
        <p:blipFill>
          <a:blip r:embed="rId1"/>
          <a:stretch/>
        </p:blipFill>
        <p:spPr>
          <a:xfrm>
            <a:off x="6108840" y="0"/>
            <a:ext cx="3035160" cy="195120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2"/>
          <p:cNvSpPr/>
          <p:nvPr/>
        </p:nvSpPr>
        <p:spPr>
          <a:xfrm>
            <a:off x="684360" y="404640"/>
            <a:ext cx="5500440" cy="8575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Continue the list of wor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5500440" cy="8575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Arial"/>
              </a:rPr>
              <a:t>Phonet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24000" y="1341360"/>
            <a:ext cx="88200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[ a:] – banana, tomatoes, half                                                                                                                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[ </a:t>
            </a:r>
            <a:r>
              <a:rPr b="1" lang="he-IL" sz="4400" spc="-1" strike="noStrike">
                <a:solidFill>
                  <a:srgbClr val="000000"/>
                </a:solidFill>
                <a:latin typeface="Arial"/>
              </a:rPr>
              <a:t>ו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]- milk, biscuits, cris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[ ju:]- juice, cucumbe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[ r ]- fruit, strawberry, breakfa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[ e ]-bread, eggs, lettu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8" descr="224_foto_large_656614"/>
          <p:cNvPicPr/>
          <p:nvPr/>
        </p:nvPicPr>
        <p:blipFill>
          <a:blip r:embed="rId1"/>
          <a:stretch/>
        </p:blipFill>
        <p:spPr>
          <a:xfrm>
            <a:off x="6732720" y="-243000"/>
            <a:ext cx="2411280" cy="207828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85880" y="571680"/>
            <a:ext cx="6686640" cy="65376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Arial"/>
              </a:rPr>
              <a:t>Convers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o you like fruit and vegetables? Wh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o you like apples and onion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ave you got any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orridge and lemons for breakfas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hat would you like to eat right now? Wh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Рисунок 4" descr="разговор.jpg"/>
          <p:cNvPicPr/>
          <p:nvPr/>
        </p:nvPicPr>
        <p:blipFill>
          <a:blip r:embed="rId5"/>
          <a:stretch/>
        </p:blipFill>
        <p:spPr>
          <a:xfrm>
            <a:off x="6534000" y="5175360"/>
            <a:ext cx="2610000" cy="168264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solidFill>
            <a:srgbClr val="92d050"/>
          </a:solidFill>
          <a:ln w="9360">
            <a:solidFill>
              <a:srgbClr val="92d05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Listening comprehensio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9" descr="3913_big"/>
          <p:cNvPicPr/>
          <p:nvPr/>
        </p:nvPicPr>
        <p:blipFill>
          <a:blip r:embed="rId1"/>
          <a:stretch/>
        </p:blipFill>
        <p:spPr>
          <a:xfrm>
            <a:off x="2556000" y="1274760"/>
            <a:ext cx="3722400" cy="5583240"/>
          </a:xfrm>
          <a:prstGeom prst="rect">
            <a:avLst/>
          </a:prstGeom>
          <a:ln w="0">
            <a:noFill/>
          </a:ln>
        </p:spPr>
      </p:pic>
      <p:pic>
        <p:nvPicPr>
          <p:cNvPr id="63" name="MVI_5333.avi" descr=""/>
          <p:cNvPicPr/>
          <p:nvPr/>
        </p:nvPicPr>
        <p:blipFill>
          <a:blip r:embed="rId2"/>
          <a:stretch/>
        </p:blipFill>
        <p:spPr>
          <a:xfrm>
            <a:off x="8028000" y="5499000"/>
            <a:ext cx="684360" cy="51300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94" dur="indefinite" restart="never" nodeType="tmRoot">
          <p:childTnLst>
            <p:seq>
              <p:cTn id="95" restart="whenNotActive" nodeType="interactiveSeq" fill="hold">
                <p:stCondLst>
                  <p:cond evt="onClick">
                    <p:tgtEl>
                      <p:spTgt spid="63"/>
                    </p:tgtEl>
                  </p:cond>
                </p:stCondLst>
                <p:childTnLst>
                  <p:par>
                    <p:cTn id="96" fill="hold">
                      <p:stCondLst>
                        <p:cond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99" dur="1" fill="hold"/>
                                        <p:tgtEl>
                                          <p:spTgt spid="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It’s 8 o’clock in the mor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Polly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oesn’t want to get u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She wants to re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.She doesn’t want to play with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er toys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.She doesn’t want to have milk and t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.She wants porrid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7.She wants 2 ice-creams and ju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8.She is not i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9.She doesn’t want to go to school.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92d050"/>
          </a:solidFill>
          <a:ln w="9360">
            <a:solidFill>
              <a:srgbClr val="92d05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es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Keys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8748720" cy="475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.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.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.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7.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8.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9.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57160" y="500040"/>
            <a:ext cx="6329520" cy="79704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Arial"/>
              </a:rPr>
              <a:t>Let’s s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6" descr="images"/>
          <p:cNvPicPr/>
          <p:nvPr/>
        </p:nvPicPr>
        <p:blipFill>
          <a:blip r:embed="rId1"/>
          <a:stretch/>
        </p:blipFill>
        <p:spPr>
          <a:xfrm>
            <a:off x="684360" y="1341360"/>
            <a:ext cx="6913440" cy="5159520"/>
          </a:xfrm>
          <a:prstGeom prst="rect">
            <a:avLst/>
          </a:prstGeom>
          <a:ln w="0">
            <a:noFill/>
          </a:ln>
        </p:spPr>
      </p:pic>
      <p:pic>
        <p:nvPicPr>
          <p:cNvPr id="71" name="audio.wma" descr=""/>
          <p:cNvPicPr/>
          <p:nvPr/>
        </p:nvPicPr>
        <p:blipFill>
          <a:blip r:embed="rId2"/>
          <a:stretch/>
        </p:blipFill>
        <p:spPr>
          <a:xfrm>
            <a:off x="7885080" y="3141720"/>
            <a:ext cx="647640" cy="64764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7" restart="whenNotActive" nodeType="interactiveSeq" fill="hold">
                <p:stCondLst>
                  <p:cond evt="onClick">
                    <p:tgtEl>
                      <p:spTgt spid="71"/>
                    </p:tgtEl>
                  </p:cond>
                </p:stCondLst>
                <p:childTnLst>
                  <p:par>
                    <p:cTn id="108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1" dur="61933" fill="hold"/>
                                        <p:tgtEl>
                                          <p:spTgt spid="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619280" y="115560"/>
            <a:ext cx="5043600" cy="10825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Arial"/>
              </a:rPr>
              <a:t>Rea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95280" y="981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Рисунок 5" descr="читает.jpg"/>
          <p:cNvPicPr/>
          <p:nvPr/>
        </p:nvPicPr>
        <p:blipFill>
          <a:blip r:embed="rId1"/>
          <a:stretch/>
        </p:blipFill>
        <p:spPr>
          <a:xfrm>
            <a:off x="1133640" y="1219320"/>
            <a:ext cx="6383160" cy="484020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7T13:41:37Z</dcterms:created>
  <dc:creator>Admin</dc:creator>
  <dc:description/>
  <dc:language>en-US</dc:language>
  <cp:lastModifiedBy>admin</cp:lastModifiedBy>
  <dcterms:modified xsi:type="dcterms:W3CDTF">2017-10-11T11:18:54Z</dcterms:modified>
  <cp:revision>81</cp:revision>
  <dc:subject/>
  <dc:title>Flat</dc:title>
</cp:coreProperties>
</file>