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2.jpeg" ContentType="image/jpeg"/>
  <Override PartName="/ppt/media/image19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9B7-A07B-41E5-88EA-E813B685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2BE-0358-4764-A6E8-162F74A4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72D-50F3-427A-811E-23D00599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CB6-D02B-438A-8239-81B92F50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EF4-7C9A-4B72-BF75-C041EB93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D36-A86E-4A8D-A779-CBAF8625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45B-FA32-4FDD-8CB8-9AB71FE8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B39-79E6-40DE-95A9-42A2D1B3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2F5-0DA5-4354-B3D3-34790FFF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009-56D5-46DD-B2D2-355A165D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94A-D28E-4A01-B5FE-986F4109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701-5552-4125-AE3F-15429DB8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4542-584C-4309-A3ED-35810942D4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7280" y="2060640"/>
            <a:ext cx="88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 нашего От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уценко Александр Алексее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zamvr1\Desktop\Луценко\Сканирован07-11-20 1128.tif"/>
          <p:cNvPicPr/>
          <p:nvPr/>
        </p:nvPicPr>
        <p:blipFill>
          <a:blip r:embed="rId1"/>
          <a:stretch/>
        </p:blipFill>
        <p:spPr>
          <a:xfrm>
            <a:off x="1908000" y="304920"/>
            <a:ext cx="612000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zamvr1\Desktop\Луценко\Сканирован07-11-20 1131.tif"/>
          <p:cNvPicPr/>
          <p:nvPr/>
        </p:nvPicPr>
        <p:blipFill>
          <a:blip r:embed="rId1"/>
          <a:stretch/>
        </p:blipFill>
        <p:spPr>
          <a:xfrm>
            <a:off x="1403280" y="638280"/>
            <a:ext cx="63374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рабочий компьютер\конкурс  тропа памяти\а. а. луценко\луценко2а.jpg"/>
          <p:cNvPicPr/>
          <p:nvPr/>
        </p:nvPicPr>
        <p:blipFill>
          <a:blip r:embed="rId1"/>
          <a:stretch/>
        </p:blipFill>
        <p:spPr>
          <a:xfrm>
            <a:off x="1332000" y="399960"/>
            <a:ext cx="6696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рабочий компьютер\конкурс  тропа памяти\а. а. луценко\луценко3 001.jpg"/>
          <p:cNvPicPr/>
          <p:nvPr/>
        </p:nvPicPr>
        <p:blipFill>
          <a:blip r:embed="rId1"/>
          <a:stretch/>
        </p:blipFill>
        <p:spPr>
          <a:xfrm>
            <a:off x="971640" y="907920"/>
            <a:ext cx="684036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рабочий компьютер\конкурс  тропа памяти\а. а. луценко\луценко3 002.jpg"/>
          <p:cNvPicPr/>
          <p:nvPr/>
        </p:nvPicPr>
        <p:blipFill>
          <a:blip r:embed="rId1"/>
          <a:stretch/>
        </p:blipFill>
        <p:spPr>
          <a:xfrm>
            <a:off x="1263600" y="1197000"/>
            <a:ext cx="60609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:\рабочий компьютер\конкурс  тропа памяти\а. а. луценко\луценко3 006.jpg"/>
          <p:cNvPicPr/>
          <p:nvPr/>
        </p:nvPicPr>
        <p:blipFill>
          <a:blip r:embed="rId1"/>
          <a:stretch/>
        </p:blipFill>
        <p:spPr>
          <a:xfrm>
            <a:off x="987480" y="544680"/>
            <a:ext cx="69692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zamvr1\Desktop\ф г.tif"/>
          <p:cNvPicPr/>
          <p:nvPr/>
        </p:nvPicPr>
        <p:blipFill>
          <a:blip r:embed="rId1"/>
          <a:stretch/>
        </p:blipFill>
        <p:spPr>
          <a:xfrm>
            <a:off x="2340000" y="620640"/>
            <a:ext cx="446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рабочий компьютер\конкурс  тропа памяти\а. а. луценко\луценко2 003.jpg"/>
          <p:cNvPicPr/>
          <p:nvPr/>
        </p:nvPicPr>
        <p:blipFill>
          <a:blip r:embed="rId1"/>
          <a:stretch/>
        </p:blipFill>
        <p:spPr>
          <a:xfrm>
            <a:off x="1116000" y="639720"/>
            <a:ext cx="2970360" cy="408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F:\рабочий компьютер\конкурс  тропа памяти\а. а. луценко\луценко2 004.jpg"/>
          <p:cNvPicPr/>
          <p:nvPr/>
        </p:nvPicPr>
        <p:blipFill>
          <a:blip r:embed="rId2"/>
          <a:stretch/>
        </p:blipFill>
        <p:spPr>
          <a:xfrm>
            <a:off x="5219640" y="736560"/>
            <a:ext cx="2808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рабочий компьютер\конкурс  тропа памяти\а. а. луценко\S5002861.JPG"/>
          <p:cNvPicPr/>
          <p:nvPr/>
        </p:nvPicPr>
        <p:blipFill>
          <a:blip r:embed="rId1"/>
          <a:stretch/>
        </p:blipFill>
        <p:spPr>
          <a:xfrm>
            <a:off x="1692360" y="765000"/>
            <a:ext cx="6456240" cy="48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:\рабочий компьютер\конкурс  тропа памяти\а. а. луценко\луценко1.jpg"/>
          <p:cNvPicPr/>
          <p:nvPr/>
        </p:nvPicPr>
        <p:blipFill>
          <a:blip r:embed="rId1"/>
          <a:stretch/>
        </p:blipFill>
        <p:spPr>
          <a:xfrm>
            <a:off x="2171880" y="841320"/>
            <a:ext cx="51368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55640" y="2060280"/>
            <a:ext cx="338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рой России Александр Алексеевич Луцен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zamvr1\Desktop\Рисунок1.jpg"/>
          <p:cNvPicPr/>
          <p:nvPr/>
        </p:nvPicPr>
        <p:blipFill>
          <a:blip r:embed="rId1"/>
          <a:stretch/>
        </p:blipFill>
        <p:spPr>
          <a:xfrm>
            <a:off x="600120" y="260280"/>
            <a:ext cx="39006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zamvr1\Desktop\Сканирован07-11-20 1133.tif"/>
          <p:cNvPicPr/>
          <p:nvPr/>
        </p:nvPicPr>
        <p:blipFill>
          <a:blip r:embed="rId1"/>
          <a:stretch/>
        </p:blipFill>
        <p:spPr>
          <a:xfrm>
            <a:off x="2195640" y="595440"/>
            <a:ext cx="48974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zamvr1\Desktop\2013-2014 уч год\2013-14 уч г\3 четверть 2013-2014\Герой России\Рисунок5.jpg"/>
          <p:cNvPicPr/>
          <p:nvPr/>
        </p:nvPicPr>
        <p:blipFill>
          <a:blip r:embed="rId1"/>
          <a:stretch/>
        </p:blipFill>
        <p:spPr>
          <a:xfrm>
            <a:off x="826920" y="907920"/>
            <a:ext cx="2978280" cy="2233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zamvr1\Desktop\2013-2014 уч год\2013-14 уч г\3 четверть 2013-2014\Герой России\Рисунок4.jpg"/>
          <p:cNvPicPr/>
          <p:nvPr/>
        </p:nvPicPr>
        <p:blipFill>
          <a:blip r:embed="rId2"/>
          <a:stretch/>
        </p:blipFill>
        <p:spPr>
          <a:xfrm>
            <a:off x="3332160" y="3789360"/>
            <a:ext cx="2608200" cy="195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F:\рабочий компьютер\конкурс  тропа памяти\луценко а\S5002866.JPG"/>
          <p:cNvPicPr/>
          <p:nvPr/>
        </p:nvPicPr>
        <p:blipFill>
          <a:blip r:embed="rId3"/>
          <a:stretch/>
        </p:blipFill>
        <p:spPr>
          <a:xfrm>
            <a:off x="5300640" y="836640"/>
            <a:ext cx="3124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zamvr1\Desktop\Луценко\ЭТОЙ.tif"/>
          <p:cNvPicPr/>
          <p:nvPr/>
        </p:nvPicPr>
        <p:blipFill>
          <a:blip r:embed="rId1"/>
          <a:stretch/>
        </p:blipFill>
        <p:spPr>
          <a:xfrm>
            <a:off x="2070000" y="682560"/>
            <a:ext cx="61246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рабочий компьютер\конкурс  тропа памяти\а. а. луценко\письмо.tif"/>
          <p:cNvPicPr/>
          <p:nvPr/>
        </p:nvPicPr>
        <p:blipFill>
          <a:blip r:embed="rId1"/>
          <a:stretch/>
        </p:blipFill>
        <p:spPr>
          <a:xfrm>
            <a:off x="2876400" y="549360"/>
            <a:ext cx="3297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zamvr1\Desktop\о Е 412.tif"/>
          <p:cNvPicPr/>
          <p:nvPr/>
        </p:nvPicPr>
        <p:blipFill>
          <a:blip r:embed="rId1"/>
          <a:stretch/>
        </p:blipFill>
        <p:spPr>
          <a:xfrm>
            <a:off x="287280" y="1181160"/>
            <a:ext cx="766944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:\рабочий компьютер\конкурс  тропа памяти\а. а. луценко\луценко 001.jpg"/>
          <p:cNvPicPr/>
          <p:nvPr/>
        </p:nvPicPr>
        <p:blipFill>
          <a:blip r:embed="rId1"/>
          <a:stretch/>
        </p:blipFill>
        <p:spPr>
          <a:xfrm>
            <a:off x="1547640" y="1413000"/>
            <a:ext cx="2826000" cy="388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F:\рабочий компьютер\конкурс  тропа памяти\а. а. луценко\луценко.jpg"/>
          <p:cNvPicPr/>
          <p:nvPr/>
        </p:nvPicPr>
        <p:blipFill>
          <a:blip r:embed="rId2"/>
          <a:stretch/>
        </p:blipFill>
        <p:spPr>
          <a:xfrm>
            <a:off x="5292720" y="1268280"/>
            <a:ext cx="29750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8840" y="5592240"/>
            <a:ext cx="382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мориальная доска на втором этаже шк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zamvr1\Desktop\Рисунок2.jpg"/>
          <p:cNvPicPr/>
          <p:nvPr/>
        </p:nvPicPr>
        <p:blipFill>
          <a:blip r:embed="rId1"/>
          <a:stretch/>
        </p:blipFill>
        <p:spPr>
          <a:xfrm>
            <a:off x="2627280" y="189000"/>
            <a:ext cx="1465200" cy="257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zamvr1\Desktop\Рисунок3.jpg"/>
          <p:cNvPicPr/>
          <p:nvPr/>
        </p:nvPicPr>
        <p:blipFill>
          <a:blip r:embed="rId2"/>
          <a:stretch/>
        </p:blipFill>
        <p:spPr>
          <a:xfrm>
            <a:off x="5940360" y="620640"/>
            <a:ext cx="2759040" cy="244152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3"/>
          <p:cNvSpPr/>
          <p:nvPr/>
        </p:nvSpPr>
        <p:spPr>
          <a:xfrm>
            <a:off x="4675320" y="4467240"/>
            <a:ext cx="3825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мориальная доска  на доме, где жил Александ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78800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именем названа улица в микрорайоне Амурсельма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zamvr1\Desktop\Л ‘i11’’.tif"/>
          <p:cNvPicPr/>
          <p:nvPr/>
        </p:nvPicPr>
        <p:blipFill>
          <a:blip r:embed="rId1"/>
          <a:stretch/>
        </p:blipFill>
        <p:spPr>
          <a:xfrm>
            <a:off x="2797200" y="592200"/>
            <a:ext cx="37908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музей Луценко\IMG_0686.jpg"/>
          <p:cNvPicPr/>
          <p:nvPr/>
        </p:nvPicPr>
        <p:blipFill>
          <a:blip r:embed="rId1"/>
          <a:stretch/>
        </p:blipFill>
        <p:spPr>
          <a:xfrm>
            <a:off x="1501920" y="1052640"/>
            <a:ext cx="5951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рабочий компьютер\фото\фото меропр 2009-2010 уч г\№3  мероприят 2009 - 2010\луценко\день Памяти Луценко 2010\IMG_4100.JPG"/>
          <p:cNvPicPr/>
          <p:nvPr/>
        </p:nvPicPr>
        <p:blipFill>
          <a:blip r:embed="rId1"/>
          <a:stretch/>
        </p:blipFill>
        <p:spPr>
          <a:xfrm>
            <a:off x="2365200" y="3429000"/>
            <a:ext cx="220680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F:\рабочий компьютер\фото\фото меропр 2009-2010 уч г\№3  мероприят 2009 - 2010\луценко\день Памяти Луценко 2010\IMG_4134.JPG"/>
          <p:cNvPicPr/>
          <p:nvPr/>
        </p:nvPicPr>
        <p:blipFill>
          <a:blip r:embed="rId2"/>
          <a:stretch/>
        </p:blipFill>
        <p:spPr>
          <a:xfrm>
            <a:off x="1197000" y="260280"/>
            <a:ext cx="3166920" cy="2376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5219640" y="26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ейка Памя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F:\рабочий компьютер\2011-2012 уч.г\ЧТО СОХРАНЕНО\линейка Памяти\1 линейка памяти\DSC05030.JPG"/>
          <p:cNvPicPr/>
          <p:nvPr/>
        </p:nvPicPr>
        <p:blipFill>
          <a:blip r:embed="rId3"/>
          <a:stretch/>
        </p:blipFill>
        <p:spPr>
          <a:xfrm>
            <a:off x="6300720" y="1427040"/>
            <a:ext cx="23446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zamvr1\Desktop\Луценко\с с.tif"/>
          <p:cNvPicPr/>
          <p:nvPr/>
        </p:nvPicPr>
        <p:blipFill>
          <a:blip r:embed="rId1"/>
          <a:stretch/>
        </p:blipFill>
        <p:spPr>
          <a:xfrm>
            <a:off x="1403280" y="476280"/>
            <a:ext cx="69739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:\рабочий компьютер\2011-2012 уч.г\ЧТО СОХРАНЕНО\линейка Памяти\материал по луценко\DSC04342.JPG"/>
          <p:cNvPicPr/>
          <p:nvPr/>
        </p:nvPicPr>
        <p:blipFill>
          <a:blip r:embed="rId1"/>
          <a:stretch/>
        </p:blipFill>
        <p:spPr>
          <a:xfrm>
            <a:off x="1785960" y="765000"/>
            <a:ext cx="2786040" cy="209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F:\рабочий компьютер\конкурс  тропа памяти\а. а. луценко\S5002877.JPG"/>
          <p:cNvPicPr/>
          <p:nvPr/>
        </p:nvPicPr>
        <p:blipFill>
          <a:blip r:embed="rId2"/>
          <a:stretch/>
        </p:blipFill>
        <p:spPr>
          <a:xfrm>
            <a:off x="5792760" y="2940120"/>
            <a:ext cx="2666880" cy="2268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5076720" y="1268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ные часы в день Героя Оте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фото\день Героя Отеч - 08 дек\S5000609.JPG"/>
          <p:cNvPicPr/>
          <p:nvPr/>
        </p:nvPicPr>
        <p:blipFill>
          <a:blip r:embed="rId3"/>
          <a:stretch/>
        </p:blipFill>
        <p:spPr>
          <a:xfrm>
            <a:off x="1116000" y="3141720"/>
            <a:ext cx="42688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zamvr1\Desktop\2013-2014 уч год\2013-14 уч г\3 четверть 2013-2014\линейка Памяти 2014\IMG_7316.JPG"/>
          <p:cNvPicPr/>
          <p:nvPr/>
        </p:nvPicPr>
        <p:blipFill>
          <a:blip r:embed="rId1"/>
          <a:stretch/>
        </p:blipFill>
        <p:spPr>
          <a:xfrm>
            <a:off x="2027160" y="1557360"/>
            <a:ext cx="43102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zamvr1\Desktop\2013-2014 уч год\2013-14 уч г\3 четверть 2013-2014\линейка Памяти 2014\IMG_7331.JPG"/>
          <p:cNvPicPr/>
          <p:nvPr/>
        </p:nvPicPr>
        <p:blipFill>
          <a:blip r:embed="rId1"/>
          <a:stretch/>
        </p:blipFill>
        <p:spPr>
          <a:xfrm>
            <a:off x="2411280" y="1413000"/>
            <a:ext cx="5085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zamvr1\Desktop\2013-2014 уч год\2013-14 уч г\3 четверть 2013-2014\линейка Памяти 2014\на сайт линейка памяти\IMG_7343.JPG"/>
          <p:cNvPicPr/>
          <p:nvPr/>
        </p:nvPicPr>
        <p:blipFill>
          <a:blip r:embed="rId1"/>
          <a:stretch/>
        </p:blipFill>
        <p:spPr>
          <a:xfrm>
            <a:off x="4788000" y="2205000"/>
            <a:ext cx="3959280" cy="299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zamvr1\Desktop\2013-2014 уч год\2013-14 уч г\3 четверть 2013-2014\линейка Памяти 2014\IMG_7334.JPG"/>
          <p:cNvPicPr/>
          <p:nvPr/>
        </p:nvPicPr>
        <p:blipFill>
          <a:blip r:embed="rId2"/>
          <a:stretch/>
        </p:blipFill>
        <p:spPr>
          <a:xfrm>
            <a:off x="1476360" y="692280"/>
            <a:ext cx="384336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1042920" y="4373640"/>
            <a:ext cx="72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Имя его вечно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двиг его бессмерте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zamvr1\Desktop\Рисунок1.jpg"/>
          <p:cNvPicPr/>
          <p:nvPr/>
        </p:nvPicPr>
        <p:blipFill>
          <a:blip r:embed="rId1"/>
          <a:stretch/>
        </p:blipFill>
        <p:spPr>
          <a:xfrm>
            <a:off x="3564000" y="660240"/>
            <a:ext cx="2592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zamvr1\Desktop\1.tif"/>
          <p:cNvPicPr/>
          <p:nvPr/>
        </p:nvPicPr>
        <p:blipFill>
          <a:blip r:embed="rId1"/>
          <a:stretch/>
        </p:blipFill>
        <p:spPr>
          <a:xfrm>
            <a:off x="1373040" y="754200"/>
            <a:ext cx="586296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:\Users\zamvr1\Desktop\хорошую УЧЕБУ.tif"/>
          <p:cNvPicPr/>
          <p:nvPr/>
        </p:nvPicPr>
        <p:blipFill>
          <a:blip r:embed="rId1"/>
          <a:stretch/>
        </p:blipFill>
        <p:spPr>
          <a:xfrm>
            <a:off x="1547640" y="838080"/>
            <a:ext cx="6193080" cy="466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zamvr1\Desktop\ДЕЛО.tif"/>
          <p:cNvPicPr/>
          <p:nvPr/>
        </p:nvPicPr>
        <p:blipFill>
          <a:blip r:embed="rId2"/>
          <a:stretch/>
        </p:blipFill>
        <p:spPr>
          <a:xfrm rot="1435800">
            <a:off x="7183080" y="3389400"/>
            <a:ext cx="1128600" cy="160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1501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zamvr1\Desktop\1 (2).tif"/>
          <p:cNvPicPr/>
          <p:nvPr/>
        </p:nvPicPr>
        <p:blipFill>
          <a:blip r:embed="rId1"/>
          <a:stretch/>
        </p:blipFill>
        <p:spPr>
          <a:xfrm>
            <a:off x="770040" y="496800"/>
            <a:ext cx="68976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:\Users\zamvr1\Desktop\Луценко\Сканирован07-11-20 1123.tif"/>
          <p:cNvPicPr/>
          <p:nvPr/>
        </p:nvPicPr>
        <p:blipFill>
          <a:blip r:embed="rId1"/>
          <a:stretch/>
        </p:blipFill>
        <p:spPr>
          <a:xfrm>
            <a:off x="1112760" y="836640"/>
            <a:ext cx="64375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zamvr1\Desktop\Луценко\Сканирован07-11-20 1124.tif"/>
          <p:cNvPicPr/>
          <p:nvPr/>
        </p:nvPicPr>
        <p:blipFill>
          <a:blip r:embed="rId1"/>
          <a:stretch/>
        </p:blipFill>
        <p:spPr>
          <a:xfrm>
            <a:off x="650880" y="549360"/>
            <a:ext cx="7184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zamvr1\Desktop\Луценко\Сканирован07-11-20 1127.tif"/>
          <p:cNvPicPr/>
          <p:nvPr/>
        </p:nvPicPr>
        <p:blipFill>
          <a:blip r:embed="rId1"/>
          <a:stretch/>
        </p:blipFill>
        <p:spPr>
          <a:xfrm>
            <a:off x="1287360" y="322200"/>
            <a:ext cx="63802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8:00:14Z</dcterms:created>
  <dc:creator>zamvr1</dc:creator>
  <dc:description/>
  <dc:language>en-US</dc:language>
  <cp:lastModifiedBy>технология</cp:lastModifiedBy>
  <dcterms:modified xsi:type="dcterms:W3CDTF">2001-12-31T17:15:25Z</dcterms:modified>
  <cp:revision>56</cp:revision>
  <dc:subject/>
  <dc:title>Герой России Александр Алексеевич Луценко</dc:title>
</cp:coreProperties>
</file>