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2.jpeg" ContentType="image/jpeg"/>
  <Override PartName="/ppt/media/image19.jpeg" ContentType="image/jpeg"/>
  <Override PartName="/ppt/media/image6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4223-31A0-4DB3-B920-FCFC0684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0DD-B78C-4FBE-B84B-86F6128F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78B-DE04-492A-8AB9-FC710F06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C82-626D-48D2-AF8E-3F18A48C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239-58B5-4C5F-8223-CE18AC30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EC7-8F6D-4562-8F83-2F99C882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51C3-D2E8-4B0F-9175-27B58142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28E-233A-4495-A2FC-514080D5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6887-DD70-43D7-95E2-C4C2BA24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6AA-75E4-4130-8151-0EC9326A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143-0C7F-4B2D-AD33-5E89FAFA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8D7-5827-4C8F-A286-5A7DA5DA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9710-519C-4A5F-AFA7-FF9CCC4154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87280" y="2060640"/>
            <a:ext cx="885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и нашего От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уценко Александр Алексее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Users\zamvr1\Desktop\Луценко\Сканирован07-11-20 1128.tif"/>
          <p:cNvPicPr/>
          <p:nvPr/>
        </p:nvPicPr>
        <p:blipFill>
          <a:blip r:embed="rId1"/>
          <a:stretch/>
        </p:blipFill>
        <p:spPr>
          <a:xfrm>
            <a:off x="1908000" y="304920"/>
            <a:ext cx="612000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zamvr1\Desktop\Луценко\Сканирован07-11-20 1131.tif"/>
          <p:cNvPicPr/>
          <p:nvPr/>
        </p:nvPicPr>
        <p:blipFill>
          <a:blip r:embed="rId1"/>
          <a:stretch/>
        </p:blipFill>
        <p:spPr>
          <a:xfrm>
            <a:off x="1403280" y="638280"/>
            <a:ext cx="633744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F:\рабочий компьютер\конкурс  тропа памяти\а. а. луценко\луценко2а.jpg"/>
          <p:cNvPicPr/>
          <p:nvPr/>
        </p:nvPicPr>
        <p:blipFill>
          <a:blip r:embed="rId1"/>
          <a:stretch/>
        </p:blipFill>
        <p:spPr>
          <a:xfrm>
            <a:off x="1332000" y="399960"/>
            <a:ext cx="669600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F:\рабочий компьютер\конкурс  тропа памяти\а. а. луценко\луценко3 001.jpg"/>
          <p:cNvPicPr/>
          <p:nvPr/>
        </p:nvPicPr>
        <p:blipFill>
          <a:blip r:embed="rId1"/>
          <a:stretch/>
        </p:blipFill>
        <p:spPr>
          <a:xfrm>
            <a:off x="971640" y="907920"/>
            <a:ext cx="684036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рабочий компьютер\конкурс  тропа памяти\а. а. луценко\луценко3 002.jpg"/>
          <p:cNvPicPr/>
          <p:nvPr/>
        </p:nvPicPr>
        <p:blipFill>
          <a:blip r:embed="rId1"/>
          <a:stretch/>
        </p:blipFill>
        <p:spPr>
          <a:xfrm>
            <a:off x="1263600" y="1197000"/>
            <a:ext cx="60609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:\рабочий компьютер\конкурс  тропа памяти\а. а. луценко\луценко3 006.jpg"/>
          <p:cNvPicPr/>
          <p:nvPr/>
        </p:nvPicPr>
        <p:blipFill>
          <a:blip r:embed="rId1"/>
          <a:stretch/>
        </p:blipFill>
        <p:spPr>
          <a:xfrm>
            <a:off x="987480" y="544680"/>
            <a:ext cx="6969240" cy="51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zamvr1\Desktop\ф г.tif"/>
          <p:cNvPicPr/>
          <p:nvPr/>
        </p:nvPicPr>
        <p:blipFill>
          <a:blip r:embed="rId1"/>
          <a:stretch/>
        </p:blipFill>
        <p:spPr>
          <a:xfrm>
            <a:off x="2340000" y="620640"/>
            <a:ext cx="446400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F:\рабочий компьютер\конкурс  тропа памяти\а. а. луценко\луценко2 003.jpg"/>
          <p:cNvPicPr/>
          <p:nvPr/>
        </p:nvPicPr>
        <p:blipFill>
          <a:blip r:embed="rId1"/>
          <a:stretch/>
        </p:blipFill>
        <p:spPr>
          <a:xfrm>
            <a:off x="1116000" y="639720"/>
            <a:ext cx="2970360" cy="408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F:\рабочий компьютер\конкурс  тропа памяти\а. а. луценко\луценко2 004.jpg"/>
          <p:cNvPicPr/>
          <p:nvPr/>
        </p:nvPicPr>
        <p:blipFill>
          <a:blip r:embed="rId2"/>
          <a:stretch/>
        </p:blipFill>
        <p:spPr>
          <a:xfrm>
            <a:off x="5219640" y="736560"/>
            <a:ext cx="28083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:\рабочий компьютер\конкурс  тропа памяти\а. а. луценко\S5002861.JPG"/>
          <p:cNvPicPr/>
          <p:nvPr/>
        </p:nvPicPr>
        <p:blipFill>
          <a:blip r:embed="rId1"/>
          <a:stretch/>
        </p:blipFill>
        <p:spPr>
          <a:xfrm>
            <a:off x="1692360" y="765000"/>
            <a:ext cx="6456240" cy="48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F:\рабочий компьютер\конкурс  тропа памяти\а. а. луценко\луценко1.jpg"/>
          <p:cNvPicPr/>
          <p:nvPr/>
        </p:nvPicPr>
        <p:blipFill>
          <a:blip r:embed="rId1"/>
          <a:stretch/>
        </p:blipFill>
        <p:spPr>
          <a:xfrm>
            <a:off x="2171880" y="841320"/>
            <a:ext cx="513684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355640" y="2060280"/>
            <a:ext cx="338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ерой России Александр Алексеевич Луцен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zamvr1\Desktop\Рисунок1.jpg"/>
          <p:cNvPicPr/>
          <p:nvPr/>
        </p:nvPicPr>
        <p:blipFill>
          <a:blip r:embed="rId1"/>
          <a:stretch/>
        </p:blipFill>
        <p:spPr>
          <a:xfrm>
            <a:off x="600120" y="260280"/>
            <a:ext cx="39006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zamvr1\Desktop\Сканирован07-11-20 1133.tif"/>
          <p:cNvPicPr/>
          <p:nvPr/>
        </p:nvPicPr>
        <p:blipFill>
          <a:blip r:embed="rId1"/>
          <a:stretch/>
        </p:blipFill>
        <p:spPr>
          <a:xfrm>
            <a:off x="2195640" y="595440"/>
            <a:ext cx="48974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Users\zamvr1\Desktop\2013-2014 уч год\2013-14 уч г\3 четверть 2013-2014\Герой России\Рисунок5.jpg"/>
          <p:cNvPicPr/>
          <p:nvPr/>
        </p:nvPicPr>
        <p:blipFill>
          <a:blip r:embed="rId1"/>
          <a:stretch/>
        </p:blipFill>
        <p:spPr>
          <a:xfrm>
            <a:off x="826920" y="907920"/>
            <a:ext cx="2978280" cy="2233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zamvr1\Desktop\2013-2014 уч год\2013-14 уч г\3 четверть 2013-2014\Герой России\Рисунок4.jpg"/>
          <p:cNvPicPr/>
          <p:nvPr/>
        </p:nvPicPr>
        <p:blipFill>
          <a:blip r:embed="rId2"/>
          <a:stretch/>
        </p:blipFill>
        <p:spPr>
          <a:xfrm>
            <a:off x="3332160" y="3789360"/>
            <a:ext cx="2608200" cy="195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F:\рабочий компьютер\конкурс  тропа памяти\луценко а\S5002866.JPG"/>
          <p:cNvPicPr/>
          <p:nvPr/>
        </p:nvPicPr>
        <p:blipFill>
          <a:blip r:embed="rId3"/>
          <a:stretch/>
        </p:blipFill>
        <p:spPr>
          <a:xfrm>
            <a:off x="5300640" y="836640"/>
            <a:ext cx="3124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zamvr1\Desktop\Луценко\ЭТОЙ.tif"/>
          <p:cNvPicPr/>
          <p:nvPr/>
        </p:nvPicPr>
        <p:blipFill>
          <a:blip r:embed="rId1"/>
          <a:stretch/>
        </p:blipFill>
        <p:spPr>
          <a:xfrm>
            <a:off x="2070000" y="682560"/>
            <a:ext cx="61246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F:\рабочий компьютер\конкурс  тропа памяти\а. а. луценко\письмо.tif"/>
          <p:cNvPicPr/>
          <p:nvPr/>
        </p:nvPicPr>
        <p:blipFill>
          <a:blip r:embed="rId1"/>
          <a:stretch/>
        </p:blipFill>
        <p:spPr>
          <a:xfrm>
            <a:off x="2876400" y="549360"/>
            <a:ext cx="32972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zamvr1\Desktop\о Е 412.tif"/>
          <p:cNvPicPr/>
          <p:nvPr/>
        </p:nvPicPr>
        <p:blipFill>
          <a:blip r:embed="rId1"/>
          <a:stretch/>
        </p:blipFill>
        <p:spPr>
          <a:xfrm>
            <a:off x="287280" y="1181160"/>
            <a:ext cx="766944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F:\рабочий компьютер\конкурс  тропа памяти\а. а. луценко\луценко 001.jpg"/>
          <p:cNvPicPr/>
          <p:nvPr/>
        </p:nvPicPr>
        <p:blipFill>
          <a:blip r:embed="rId1"/>
          <a:stretch/>
        </p:blipFill>
        <p:spPr>
          <a:xfrm>
            <a:off x="1547640" y="1413000"/>
            <a:ext cx="2826000" cy="38890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F:\рабочий компьютер\конкурс  тропа памяти\а. а. луценко\луценко.jpg"/>
          <p:cNvPicPr/>
          <p:nvPr/>
        </p:nvPicPr>
        <p:blipFill>
          <a:blip r:embed="rId2"/>
          <a:stretch/>
        </p:blipFill>
        <p:spPr>
          <a:xfrm>
            <a:off x="5292720" y="1268280"/>
            <a:ext cx="2975040" cy="40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8840" y="5592240"/>
            <a:ext cx="382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мориальная доска на втором этаже шко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Users\zamvr1\Desktop\Рисунок2.jpg"/>
          <p:cNvPicPr/>
          <p:nvPr/>
        </p:nvPicPr>
        <p:blipFill>
          <a:blip r:embed="rId1"/>
          <a:stretch/>
        </p:blipFill>
        <p:spPr>
          <a:xfrm>
            <a:off x="2627280" y="189000"/>
            <a:ext cx="1465200" cy="2570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zamvr1\Desktop\Рисунок3.jpg"/>
          <p:cNvPicPr/>
          <p:nvPr/>
        </p:nvPicPr>
        <p:blipFill>
          <a:blip r:embed="rId2"/>
          <a:stretch/>
        </p:blipFill>
        <p:spPr>
          <a:xfrm>
            <a:off x="5940360" y="620640"/>
            <a:ext cx="2759040" cy="2441520"/>
          </a:xfrm>
          <a:prstGeom prst="rect">
            <a:avLst/>
          </a:prstGeom>
          <a:ln w="0">
            <a:noFill/>
          </a:ln>
        </p:spPr>
      </p:pic>
      <p:sp>
        <p:nvSpPr>
          <p:cNvPr id="76" name="Заголовок 3"/>
          <p:cNvSpPr/>
          <p:nvPr/>
        </p:nvSpPr>
        <p:spPr>
          <a:xfrm>
            <a:off x="4675320" y="4467240"/>
            <a:ext cx="3825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мориальная доска  на доме, где жил Александ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4788000" y="5805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го именем названа улица в микрорайоне Амурсельма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zamvr1\Desktop\Л ‘i11’’.tif"/>
          <p:cNvPicPr/>
          <p:nvPr/>
        </p:nvPicPr>
        <p:blipFill>
          <a:blip r:embed="rId1"/>
          <a:stretch/>
        </p:blipFill>
        <p:spPr>
          <a:xfrm>
            <a:off x="2797200" y="592200"/>
            <a:ext cx="37908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E:\музей Луценко\IMG_0686.jpg"/>
          <p:cNvPicPr/>
          <p:nvPr/>
        </p:nvPicPr>
        <p:blipFill>
          <a:blip r:embed="rId1"/>
          <a:stretch/>
        </p:blipFill>
        <p:spPr>
          <a:xfrm>
            <a:off x="1501920" y="1052640"/>
            <a:ext cx="59515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:\рабочий компьютер\фото\фото меропр 2009-2010 уч г\№3  мероприят 2009 - 2010\луценко\день Памяти Луценко 2010\IMG_4100.JPG"/>
          <p:cNvPicPr/>
          <p:nvPr/>
        </p:nvPicPr>
        <p:blipFill>
          <a:blip r:embed="rId1"/>
          <a:stretch/>
        </p:blipFill>
        <p:spPr>
          <a:xfrm>
            <a:off x="2365200" y="3429000"/>
            <a:ext cx="2206800" cy="16556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F:\рабочий компьютер\фото\фото меропр 2009-2010 уч г\№3  мероприят 2009 - 2010\луценко\день Памяти Луценко 2010\IMG_4134.JPG"/>
          <p:cNvPicPr/>
          <p:nvPr/>
        </p:nvPicPr>
        <p:blipFill>
          <a:blip r:embed="rId2"/>
          <a:stretch/>
        </p:blipFill>
        <p:spPr>
          <a:xfrm>
            <a:off x="1197000" y="260280"/>
            <a:ext cx="3166920" cy="2376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3"/>
          <p:cNvSpPr/>
          <p:nvPr/>
        </p:nvSpPr>
        <p:spPr>
          <a:xfrm>
            <a:off x="5219640" y="260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нейка Памя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F:\рабочий компьютер\2011-2012 уч.г\ЧТО СОХРАНЕНО\линейка Памяти\1 линейка памяти\DSC05030.JPG"/>
          <p:cNvPicPr/>
          <p:nvPr/>
        </p:nvPicPr>
        <p:blipFill>
          <a:blip r:embed="rId3"/>
          <a:stretch/>
        </p:blipFill>
        <p:spPr>
          <a:xfrm>
            <a:off x="6300720" y="1427040"/>
            <a:ext cx="234468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Users\zamvr1\Desktop\Луценко\с с.tif"/>
          <p:cNvPicPr/>
          <p:nvPr/>
        </p:nvPicPr>
        <p:blipFill>
          <a:blip r:embed="rId1"/>
          <a:stretch/>
        </p:blipFill>
        <p:spPr>
          <a:xfrm>
            <a:off x="1403280" y="476280"/>
            <a:ext cx="697392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F:\рабочий компьютер\2011-2012 уч.г\ЧТО СОХРАНЕНО\линейка Памяти\материал по луценко\DSC04342.JPG"/>
          <p:cNvPicPr/>
          <p:nvPr/>
        </p:nvPicPr>
        <p:blipFill>
          <a:blip r:embed="rId1"/>
          <a:stretch/>
        </p:blipFill>
        <p:spPr>
          <a:xfrm>
            <a:off x="1785960" y="765000"/>
            <a:ext cx="2786040" cy="209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F:\рабочий компьютер\конкурс  тропа памяти\а. а. луценко\S5002877.JPG"/>
          <p:cNvPicPr/>
          <p:nvPr/>
        </p:nvPicPr>
        <p:blipFill>
          <a:blip r:embed="rId2"/>
          <a:stretch/>
        </p:blipFill>
        <p:spPr>
          <a:xfrm>
            <a:off x="5792760" y="2940120"/>
            <a:ext cx="2666880" cy="226836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5076720" y="12682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лассные часы в день Героя Оте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D:\фото\день Героя Отеч - 08 дек\S5000609.JPG"/>
          <p:cNvPicPr/>
          <p:nvPr/>
        </p:nvPicPr>
        <p:blipFill>
          <a:blip r:embed="rId3"/>
          <a:stretch/>
        </p:blipFill>
        <p:spPr>
          <a:xfrm>
            <a:off x="1116000" y="3141720"/>
            <a:ext cx="42688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zamvr1\Desktop\2013-2014 уч год\2013-14 уч г\3 четверть 2013-2014\линейка Памяти 2014\IMG_7316.JPG"/>
          <p:cNvPicPr/>
          <p:nvPr/>
        </p:nvPicPr>
        <p:blipFill>
          <a:blip r:embed="rId1"/>
          <a:stretch/>
        </p:blipFill>
        <p:spPr>
          <a:xfrm>
            <a:off x="2027160" y="1557360"/>
            <a:ext cx="43102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zamvr1\Desktop\2013-2014 уч год\2013-14 уч г\3 четверть 2013-2014\линейка Памяти 2014\IMG_7331.JPG"/>
          <p:cNvPicPr/>
          <p:nvPr/>
        </p:nvPicPr>
        <p:blipFill>
          <a:blip r:embed="rId1"/>
          <a:stretch/>
        </p:blipFill>
        <p:spPr>
          <a:xfrm>
            <a:off x="2411280" y="1413000"/>
            <a:ext cx="5085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zamvr1\Desktop\2013-2014 уч год\2013-14 уч г\3 четверть 2013-2014\линейка Памяти 2014\на сайт линейка памяти\IMG_7343.JPG"/>
          <p:cNvPicPr/>
          <p:nvPr/>
        </p:nvPicPr>
        <p:blipFill>
          <a:blip r:embed="rId1"/>
          <a:stretch/>
        </p:blipFill>
        <p:spPr>
          <a:xfrm>
            <a:off x="4788000" y="2205000"/>
            <a:ext cx="3959280" cy="299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C:\Users\zamvr1\Desktop\2013-2014 уч год\2013-14 уч г\3 четверть 2013-2014\линейка Памяти 2014\IMG_7334.JPG"/>
          <p:cNvPicPr/>
          <p:nvPr/>
        </p:nvPicPr>
        <p:blipFill>
          <a:blip r:embed="rId2"/>
          <a:stretch/>
        </p:blipFill>
        <p:spPr>
          <a:xfrm>
            <a:off x="1476360" y="692280"/>
            <a:ext cx="384336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1042920" y="4373640"/>
            <a:ext cx="720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Имя его вечно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Подвиг его бессмерте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C:\Users\zamvr1\Desktop\Рисунок1.jpg"/>
          <p:cNvPicPr/>
          <p:nvPr/>
        </p:nvPicPr>
        <p:blipFill>
          <a:blip r:embed="rId1"/>
          <a:stretch/>
        </p:blipFill>
        <p:spPr>
          <a:xfrm>
            <a:off x="3564000" y="660240"/>
            <a:ext cx="2592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Users\zamvr1\Desktop\1.tif"/>
          <p:cNvPicPr/>
          <p:nvPr/>
        </p:nvPicPr>
        <p:blipFill>
          <a:blip r:embed="rId1"/>
          <a:stretch/>
        </p:blipFill>
        <p:spPr>
          <a:xfrm>
            <a:off x="1373040" y="754200"/>
            <a:ext cx="586296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:\Users\zamvr1\Desktop\хорошую УЧЕБУ.tif"/>
          <p:cNvPicPr/>
          <p:nvPr/>
        </p:nvPicPr>
        <p:blipFill>
          <a:blip r:embed="rId1"/>
          <a:stretch/>
        </p:blipFill>
        <p:spPr>
          <a:xfrm>
            <a:off x="1547640" y="838080"/>
            <a:ext cx="6193080" cy="46659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Users\zamvr1\Desktop\ДЕЛО.tif"/>
          <p:cNvPicPr/>
          <p:nvPr/>
        </p:nvPicPr>
        <p:blipFill>
          <a:blip r:embed="rId2"/>
          <a:stretch/>
        </p:blipFill>
        <p:spPr>
          <a:xfrm rot="1435800">
            <a:off x="7183080" y="3389400"/>
            <a:ext cx="1128600" cy="160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1501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zamvr1\Desktop\1 (2).tif"/>
          <p:cNvPicPr/>
          <p:nvPr/>
        </p:nvPicPr>
        <p:blipFill>
          <a:blip r:embed="rId1"/>
          <a:stretch/>
        </p:blipFill>
        <p:spPr>
          <a:xfrm>
            <a:off x="770040" y="496800"/>
            <a:ext cx="6897600" cy="50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C:\Users\zamvr1\Desktop\Луценко\Сканирован07-11-20 1123.tif"/>
          <p:cNvPicPr/>
          <p:nvPr/>
        </p:nvPicPr>
        <p:blipFill>
          <a:blip r:embed="rId1"/>
          <a:stretch/>
        </p:blipFill>
        <p:spPr>
          <a:xfrm>
            <a:off x="1112760" y="836640"/>
            <a:ext cx="64375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zamvr1\Desktop\Луценко\Сканирован07-11-20 1124.tif"/>
          <p:cNvPicPr/>
          <p:nvPr/>
        </p:nvPicPr>
        <p:blipFill>
          <a:blip r:embed="rId1"/>
          <a:stretch/>
        </p:blipFill>
        <p:spPr>
          <a:xfrm>
            <a:off x="650880" y="549360"/>
            <a:ext cx="71848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zamvr1\Desktop\Луценко\Сканирован07-11-20 1127.tif"/>
          <p:cNvPicPr/>
          <p:nvPr/>
        </p:nvPicPr>
        <p:blipFill>
          <a:blip r:embed="rId1"/>
          <a:stretch/>
        </p:blipFill>
        <p:spPr>
          <a:xfrm>
            <a:off x="1287360" y="322200"/>
            <a:ext cx="638028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08:00:14Z</dcterms:created>
  <dc:creator>zamvr1</dc:creator>
  <dc:description/>
  <dc:language>en-US</dc:language>
  <cp:lastModifiedBy>технология</cp:lastModifiedBy>
  <dcterms:modified xsi:type="dcterms:W3CDTF">2001-12-31T17:15:25Z</dcterms:modified>
  <cp:revision>56</cp:revision>
  <dc:subject/>
  <dc:title>Герой России Александр Алексеевич Луценко</dc:title>
</cp:coreProperties>
</file>