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C97E-9237-4E6B-A721-522CEBEF7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FB1-92F8-4240-A22D-A18F6EFF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7AF-71E4-4EB4-9195-C4B0890E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A5F-8084-4443-80B5-DBDF11A9E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C116-BE98-4568-A380-4AECF7AC1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4A933-55C7-4CFF-A137-D543E7E8C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17C8-B896-432F-8EFD-1BD34553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0B3C-D7FB-46EA-A20E-02C9761D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82FF-510D-49BA-A8E3-C9260AEE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6A2-6BD4-49B6-8D6D-BD100558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524E-8228-42B4-BC39-9A14AC57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856-1854-4F27-A1A9-266C6145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A25F-B51F-4553-867E-8A546DAC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AC12-8B04-4B71-BDD9-512EDB2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8C3B-A6F7-4821-BD9D-BEF42AF37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85EE-29E2-4FC9-9051-4C43C447E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B05C-0061-42DB-A62A-72EE4D16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3B8-795C-4725-903C-90AF8461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E28C-7D9B-4745-A6F7-D1B9289E0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4272-3801-4B7B-A954-7ED24C89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5A6D-D1C6-4237-91B3-AC18778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2877-251B-49FF-99C9-F4FE0BE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A32C-F67D-413F-926A-A250B67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C43-AB5E-407F-8051-41F4259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25FE-CE91-4A5A-BF28-31B8258A61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EDCF-7650-4752-B691-4F087177AD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1511280"/>
            <a:ext cx="6629400" cy="3137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амятники города Ноябрьск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Comic Sans MS"/>
              </a:rPr>
              <a:t>Пониванов Александр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gfvznybr zvfk"/>
          <p:cNvPicPr/>
          <p:nvPr/>
        </p:nvPicPr>
        <p:blipFill>
          <a:blip r:embed="rId1"/>
          <a:stretch/>
        </p:blipFill>
        <p:spPr>
          <a:xfrm>
            <a:off x="4572000" y="990720"/>
            <a:ext cx="3857760" cy="51242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Памятник «Ямал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4724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установлен у одноименного культурно-спортивного комплекса. Высота скульптуры чуть больше 8-ми метров. Сам монумент выполнен из бронзы, а постамент облицован натуральным камнем. Автор - ноябрьский скульптор, директор Городского Центра ремёсел Кирилл Никифоров. По его словам, в этом памятнике он постарался объединить всю историю и культуру Ямало-Ненецкого автономного округа. Есть там и мамонты, которые держат ладью, и земной шар, и птица глухарка, и даже нефтяные задвижки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4dcb9b6aa15d6"/>
          <p:cNvPicPr/>
          <p:nvPr/>
        </p:nvPicPr>
        <p:blipFill>
          <a:blip r:embed="rId1"/>
          <a:stretch/>
        </p:blipFill>
        <p:spPr>
          <a:xfrm>
            <a:off x="3733920" y="2590920"/>
            <a:ext cx="5029200" cy="37638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Памятник читающей пар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4572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30 мая 2008 года в Ноябрьске открылся необычный памятник. Он называется "Памятник читающей паре". Над эскизом скульптурной композиции работал художник города Ноябрьска – Валерий Анатольевич Чалы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Изготовили скульптуру в г. Озерск Челябинской обла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90520" y="223920"/>
            <a:ext cx="85629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290520" y="223920"/>
            <a:ext cx="8562960" cy="64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5" descr="1348"/>
          <p:cNvPicPr/>
          <p:nvPr/>
        </p:nvPicPr>
        <p:blipFill>
          <a:blip r:embed="rId1"/>
          <a:stretch/>
        </p:blipFill>
        <p:spPr>
          <a:xfrm>
            <a:off x="4495680" y="1676520"/>
            <a:ext cx="3886200" cy="3581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Comic Sans MS"/>
              </a:rPr>
              <a:t>Монумент «Хлеб нашей памят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1 октября у подножия лестницы, ведущей к храму Архистратига Михаила, открыт памятник, посвященный 200-летию Отечественной войны 1812 года, были также заложены капсулы с землей, привезенной с Бородинского пол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dff"/>
                </a:solidFill>
                <a:latin typeface="Comic Sans MS"/>
              </a:rPr>
              <a:t>Поклонный крес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4038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августа 2003 года на въезде в город Ноябрьск был установлен Поклонный Крест, посвященный 100-летию канонизации в лике святых преподобного Серафима Саровского. Установка Поклонного Креста явилась знаменательным событием в общественной и религиозной жизни Ноябрьска,  символизирующим духовно-нравственное обновление его жителей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Picture 4" descr="foto2"/>
          <p:cNvPicPr/>
          <p:nvPr/>
        </p:nvPicPr>
        <p:blipFill>
          <a:blip r:embed="rId1"/>
          <a:stretch/>
        </p:blipFill>
        <p:spPr>
          <a:xfrm>
            <a:off x="4800600" y="1219320"/>
            <a:ext cx="3276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foto3"/>
          <p:cNvPicPr/>
          <p:nvPr/>
        </p:nvPicPr>
        <p:blipFill>
          <a:blip r:embed="rId1"/>
          <a:stretch/>
        </p:blipFill>
        <p:spPr>
          <a:xfrm>
            <a:off x="5257800" y="1523880"/>
            <a:ext cx="3036960" cy="40388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omic Sans MS"/>
              </a:rPr>
              <a:t>Монументальная композиция, посвященная первопроходцам Ноябрьского нефтегазового комплекс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конце 1996 года администрацией города Ноябрьска было принято решение о сооружении Монументальной композиции, посвященной первопроходцам Ноябрьского нефтегазового комплекса. 4 сентября 1997 года на месте слияния дорог при въезде в аэропорт в канун праздника Дня города, а также Дня работников нефтегазовой промышленности состоялось открытие Монументальной композиции, посвященной первопроходцам Ноябрьского нефтегазового комплекса. Автором этой композиции является ноябрьский художник Зиангиров Гайса Рсалиевич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Памятник авиаторам, романтикам, первооткрывателям Тюменского Севера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14800" y="1371600"/>
            <a:ext cx="4191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 1987 году в Ноябрьске организовался авиаотряд. Первой техникой в авиаотряде был вертолет Ми-8. Сейчас уже Ноябрьский филиал ОАО «Авиакомпания ЮТэйр» оснащен современной техникой. В 1997 году по инициативе главы администрации Ноябрьска принято решение о воздвижении памятника авиаторам, первооткрывателям Тюменского Севера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foto4"/>
          <p:cNvPicPr/>
          <p:nvPr/>
        </p:nvPicPr>
        <p:blipFill>
          <a:blip r:embed="rId1"/>
          <a:stretch/>
        </p:blipFill>
        <p:spPr>
          <a:xfrm>
            <a:off x="228600" y="1752480"/>
            <a:ext cx="41911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foto5"/>
          <p:cNvPicPr/>
          <p:nvPr/>
        </p:nvPicPr>
        <p:blipFill>
          <a:blip r:embed="rId1"/>
          <a:stretch/>
        </p:blipFill>
        <p:spPr>
          <a:xfrm>
            <a:off x="4343400" y="2057400"/>
            <a:ext cx="4191120" cy="3083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68709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dff"/>
                </a:solidFill>
                <a:latin typeface="Comic Sans MS"/>
              </a:rPr>
              <a:t>Памятный комплекс защитникам, павшим в Великой Отечественной войн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ервый  исторический памятник в городе. Сибиряки и представители коренных народов Севера сражались на всех фронтах, участвовали в крупных сражениях. В память обо всех защитниках Отечества, павших во время войны, в 1985 году был открыт в центре Ноябрьска по улице Ленина Памятный комплекс. Авторами-исполнителями являются художники города Швец Н.С. и Шпилевой А.П. В стену, построенную вокруг стелы, были заложены капсулы с землей городов-героев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foto6"/>
          <p:cNvPicPr/>
          <p:nvPr/>
        </p:nvPicPr>
        <p:blipFill>
          <a:blip r:embed="rId1"/>
          <a:stretch/>
        </p:blipFill>
        <p:spPr>
          <a:xfrm>
            <a:off x="228600" y="213372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cc33"/>
                </a:solidFill>
                <a:latin typeface="Comic Sans MS"/>
              </a:rPr>
              <a:t>Памятный комплекс «Боевая разведывательная десантная машина». Площадь Опаленной Юности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85840" y="175248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С апреля 1978 по 1997 год через горячие точки Афганистана, Чечни, Приднестровья и Таджикистана прошли более двух тысяч парней с Ямала. Из них около 300 юношей из нашего города. Открыт памятник в сентябре 1997 года в память обо всех тех, кто отдал свои молодые годы жизни, честно исполнив воинский долг перед Родиной, в знак уважения к живущим воинам-интернационалистам. Возведенная боевая машина с надписью на пьедестале «Не забыть нам той войны и тех, кого нет рядом» получила статус Памятного комплекса, а прилегающая к нему территория названа площадью Опаленной Юности. Инициатором возведения комплекса является Ноябрьское общественное объединение ветеранов Афганистана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foto7"/>
          <p:cNvPicPr/>
          <p:nvPr/>
        </p:nvPicPr>
        <p:blipFill>
          <a:blip r:embed="rId1"/>
          <a:stretch/>
        </p:blipFill>
        <p:spPr>
          <a:xfrm>
            <a:off x="4191120" y="1905120"/>
            <a:ext cx="4267080" cy="3809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ff"/>
                </a:solidFill>
                <a:latin typeface="Comic Sans MS"/>
              </a:rPr>
              <a:t>Памятник героям-ликвидаторам чернобыльской аварии «Чернобыль. 20 лет трагедии» 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14 октября 2006 года в сквере на улице Ленина был торжественно открыт монумент под названием  «Чернобыль. 20 лет трагедии». Это первый на Ямале памятник, увековечивший подвиг героев-ликвидаторов чернобыльской аварии. Инициатором строительства монумента выступила общественная организация «Союз Чернобыль» (председатель – Игорь Астапчук). Памятник был освящен отцом Сергием, настоятелем храма Архистратига Божия Михаил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Информация предоставлена музеем городской истории Музейного ресурсного центр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4267080" y="1676520"/>
            <a:ext cx="4114800" cy="3352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амятник комар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44960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окрестностях города Ноябрьск в поселке Ладный в 2006 году установили памятник комару в Сквере ветеранов. Его установили рабочие компрессорной станции № 1 Ноябрьского управления магистральных трубопроводов «Сургутгазпрома». Автором оригинальной композиции, выполненной из списанных металлических деталей, стал местный скульптор Валерий Чалый.  Высота комара достигает человеческого роста. Монумент напоминает, что самое страшное в Сибири — не морозы, а комары. Самый большой памятник комару в России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Памятник находится возле проходной КС-1 на территории станции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33"/>
                </a:solidFill>
                <a:latin typeface="Comic Sans MS"/>
              </a:rPr>
              <a:t>Памятник матер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кульптурная композиция представляет собой женщину, сидящую на камне, а на ее коленях малыш протянул руку и на ладонь садится голуб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 наше время все стремятся поставить как можно больше памятников старине или на военную тематику, зачастую забывая о самых дорогих моментах в жизни каждого. У памятника несколько строгие черты, но это и привносит некоторый шарм. С этим у скульптуры появляется некоторая простота и душевность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едь в этом нет ничего залихватского или вычурного, а как раз наоборот по-семейному простое и добро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72000" y="990720"/>
            <a:ext cx="3657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Бережнев</dc:creator>
  <dc:description/>
  <dc:language>en-US</dc:language>
  <cp:lastModifiedBy>Админ</cp:lastModifiedBy>
  <dcterms:modified xsi:type="dcterms:W3CDTF">2017-10-03T09:07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