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ED4-BEAB-4D24-9F1F-288A50A9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57C-59D5-46FB-93B2-4C97548C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FF1-68E9-4B05-A7D1-91436CB6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444-2976-4BAB-99DD-1B71C588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FD10-24EC-4915-807C-57070102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6E50-6A43-4588-9A1F-7DF2F581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5F88-985E-4915-A527-62D5C8DE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1D4F-3CC2-484E-A252-5AD911CC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2B9E-397C-4BEF-8347-2E632416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641F-26A6-4019-859F-45832EFD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7D53-BB8C-4971-ABCE-31D6E4D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39B-7F03-418E-AA2A-ADC239AD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6664-3365-41B9-98AD-4C473518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33C7-502E-44AE-8F28-E59472E9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5D22-6A69-483B-84BD-9E40602D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5205-834D-4F87-BBAD-51633A71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6387-CBAA-49BD-97F6-398653EF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ED2-E069-4823-89E2-711EE9DF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79C-F248-4DBF-BCDF-905E1274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055-DBE9-4205-993F-6824FEBA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302-8862-45B9-8044-26BA60F0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349-CEF2-4422-B36B-29EC9915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D4D-4E0C-428E-8855-F0FA1EE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827-0451-4F5E-AACC-BAACA18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45FB-8DC2-449E-A4F5-543FD900F7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F05A-6F18-4045-B18D-177BAB6C0C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1511280"/>
            <a:ext cx="6629400" cy="3137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амятники города Ноябрьск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ониванов Александ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gfvznybr zvfk"/>
          <p:cNvPicPr/>
          <p:nvPr/>
        </p:nvPicPr>
        <p:blipFill>
          <a:blip r:embed="rId1"/>
          <a:stretch/>
        </p:blipFill>
        <p:spPr>
          <a:xfrm>
            <a:off x="4572000" y="990720"/>
            <a:ext cx="3857760" cy="51242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амятник «Ямал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установлен у одноименного культурно-спортивного комплекса. Высота скульптуры чуть больше 8-ми метров. Сам монумент выполнен из бронзы, а постамент облицован натуральным камнем. Автор - ноябрьский скульптор, директор Городского Центра ремёсел Кирилл Никифоров. По его словам, в этом памятнике он постарался объединить всю историю и культуру Ямало-Ненецкого автономного округа. Есть там и мамонты, которые держат ладью, и земной шар, и птица глухарка, и даже нефтяные задвиж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4dcb9b6aa15d6"/>
          <p:cNvPicPr/>
          <p:nvPr/>
        </p:nvPicPr>
        <p:blipFill>
          <a:blip r:embed="rId1"/>
          <a:stretch/>
        </p:blipFill>
        <p:spPr>
          <a:xfrm>
            <a:off x="3733920" y="2590920"/>
            <a:ext cx="5029200" cy="3763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Памятник читающей па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0 мая 2008 года в Ноябрьске открылся необычный памятник. Он называется "Памятник читающей паре". Над эскизом скульптурной композиции работал художник города Ноябрьска – Валерий Анатольевич Чалы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зготовили скульптуру в г. Озерск Челябинской обл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290520" y="223920"/>
            <a:ext cx="85629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290520" y="223920"/>
            <a:ext cx="85629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1348"/>
          <p:cNvPicPr/>
          <p:nvPr/>
        </p:nvPicPr>
        <p:blipFill>
          <a:blip r:embed="rId1"/>
          <a:stretch/>
        </p:blipFill>
        <p:spPr>
          <a:xfrm>
            <a:off x="4495680" y="167652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Монумент «Хлеб нашей памят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1 октября у подножия лестницы, ведущей к храму Архистратига Михаила, открыт памятник, посвященный 200-летию Отечественной войны 1812 года, были также заложены капсулы с землей, привезенной с Бородинского пол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оклонный крес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августа 2003 года на въезде в город Ноябрьск был установлен Поклонный Крест, посвященный 100-летию канонизации в лике святых преподобного Серафима Саровского. Установка Поклонного Креста явилась знаменательным событием в общественной и религиозной жизни Ноябрьска,  символизирующим духовно-нравственное обновление его жителе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foto2"/>
          <p:cNvPicPr/>
          <p:nvPr/>
        </p:nvPicPr>
        <p:blipFill>
          <a:blip r:embed="rId1"/>
          <a:stretch/>
        </p:blipFill>
        <p:spPr>
          <a:xfrm>
            <a:off x="4800600" y="1219320"/>
            <a:ext cx="32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foto3"/>
          <p:cNvPicPr/>
          <p:nvPr/>
        </p:nvPicPr>
        <p:blipFill>
          <a:blip r:embed="rId1"/>
          <a:stretch/>
        </p:blipFill>
        <p:spPr>
          <a:xfrm>
            <a:off x="5257800" y="1523880"/>
            <a:ext cx="3036960" cy="4038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Comic Sans MS"/>
              </a:rPr>
              <a:t>Монументальная композиция, посвященная первопроходцам Ноябрьского нефтегазового комплекс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конце 1996 года администрацией города Ноябрьска было принято решение о сооружении Монументальной композиции, посвященной первопроходцам Ноябрьского нефтегазового комплекса. 4 сентября 1997 года на месте слияния дорог при въезде в аэропорт в канун праздника Дня города, а также Дня работников нефтегазовой промышленности состоялось открытие Монументальной композиции, посвященной первопроходцам Ноябрьского нефтегазового комплекса. Автором этой композиции является ноябрьский художник Зиангиров Гайса Рсалиевич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Памятник авиаторам, романтикам, первооткрывателям Тюменского Север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14800" y="137160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 1987 году в Ноябрьске организовался авиаотряд. Первой техникой в авиаотряде был вертолет Ми-8. Сейчас уже Ноябрьский филиал ОАО «Авиакомпания ЮТэйр» оснащен современной техникой. В 1997 году по инициативе главы администрации Ноябрьска принято решение о воздвижении памятника авиаторам, первооткрывателям Тюменского Север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foto4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oto5"/>
          <p:cNvPicPr/>
          <p:nvPr/>
        </p:nvPicPr>
        <p:blipFill>
          <a:blip r:embed="rId1"/>
          <a:stretch/>
        </p:blipFill>
        <p:spPr>
          <a:xfrm>
            <a:off x="4343400" y="2057400"/>
            <a:ext cx="4191120" cy="3083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Памятный комплекс защитникам, павшим в Великой Отечественной войн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вый  исторический памятник в городе. Сибиряки и представители коренных народов Севера сражались на всех фронтах, участвовали в крупных сражениях. В память обо всех защитниках Отечества, павших во время войны, в 1985 году был открыт в центре Ноябрьска по улице Ленина Памятный комплекс. Авторами-исполнителями являются художники города Швец Н.С. и Шпилевой А.П. В стену, построенную вокруг стелы, были заложены капсулы с землей городов-герое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oto6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Памятный комплекс «Боевая разведывательная десантная машина». Площадь Опаленной Ю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85840" y="17524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 апреля 1978 по 1997 год через горячие точки Афганистана, Чечни, Приднестровья и Таджикистана прошли более двух тысяч парней с Ямала. Из них около 300 юношей из нашего города. Открыт памятник в сентябре 1997 года в память обо всех тех, кто отдал свои молодые годы жизни, честно исполнив воинский долг перед Родиной, в знак уважения к живущим воинам-интернационалистам. Возведенная боевая машина с надписью на пьедестале «Не забыть нам той войны и тех, кого нет рядом» получила статус Памятного комплекса, а прилегающая к нему территория названа площадью Опаленной Юности. Инициатором возведения комплекса является Ноябрьское общественное объединение ветеранов Афганистан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foto7"/>
          <p:cNvPicPr/>
          <p:nvPr/>
        </p:nvPicPr>
        <p:blipFill>
          <a:blip r:embed="rId1"/>
          <a:stretch/>
        </p:blipFill>
        <p:spPr>
          <a:xfrm>
            <a:off x="419112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Comic Sans MS"/>
              </a:rPr>
              <a:t>Памятник героям-ликвидаторам чернобыльской аварии «Чернобыль. 20 лет трагедии» 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4 октября 2006 года в сквере на улице Ленина был торжественно открыт монумент под названием  «Чернобыль. 20 лет трагедии». Это первый на Ямале памятник, увековечивший подвиг героев-ликвидаторов чернобыльской аварии. Инициатором строительства монумента выступила общественная организация «Союз Чернобыль» (председатель – Игорь Астапчук). Памятник был освящен отцом Сергием, настоятелем храма Архистратига Божия Михаил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Информация предоставлена музеем городской истории Музейного ресурсного центр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114800" cy="3352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амятник комар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496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окрестностях города Ноябрьск в поселке Ладный в 2006 году установили памятник комару в Сквере ветеранов. Его установили рабочие компрессорной станции № 1 Ноябрьского управления магистральных трубопроводов «Сургутгазпрома». Автором оригинальной композиции, выполненной из списанных металлических деталей, стал местный скульптор Валерий Чалый.  Высота комара достигает человеческого роста. Монумент напоминает, что самое страшное в Сибири — не морозы, а комары. Самый большой памятник комару в Росси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амятник находится возле проходной КС-1 на территории станци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Comic Sans MS"/>
              </a:rPr>
              <a:t>Памятник матер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кульптурная композиция представляет собой женщину, сидящую на камне, а на ее коленях малыш протянул руку и на ладонь садится голуб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наше время все стремятся поставить как можно больше памятников старине или на военную тематику, зачастую забывая о самых дорогих моментах в жизни каждого. У памятника несколько строгие черты, но это и привносит некоторый шарм. С этим у скульптуры появляется некоторая простота и душевнос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дь в этом нет ничего залихватского или вычурного, а как раз наоборот по-семейному простое и добро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Бережнев</dc:creator>
  <dc:description/>
  <dc:language>en-US</dc:language>
  <cp:lastModifiedBy>Админ</cp:lastModifiedBy>
  <dcterms:modified xsi:type="dcterms:W3CDTF">2017-10-03T09:07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