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7F7-BE01-43D7-804C-11A95EBD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9BD-20F5-4512-A597-2BD938A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A7171-9A06-4525-9FEB-C982BB6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DA987-72AC-4464-9745-046CDC8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EEA6E-846D-4E7D-9D85-AB54166D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966BA-490B-411D-B315-D7057A7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3701B-F366-4BA7-B802-3AFABE8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7F808-33B2-4928-9BB4-69B490B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5322-7D7B-403B-8235-7C626BA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752E2-A735-4269-8F38-C03B6F58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CE175-D45C-4E5A-8691-CCDE5A6C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7209F-BF0E-4052-8342-347A624B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41A-9074-4135-B47E-6CC03F1C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F5927-81BA-4E9B-9283-40E5DCF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69D0E-9E5D-4D69-8C07-D411DEF3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BA52-D584-4FF8-BB34-DC6091D0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4E0ED-16D1-49AE-9D24-19E02FAF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EFF25-B2E0-471A-B8B8-E1F29958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EAAA-59B1-4903-B721-6058F06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ED7E7-5648-4135-9A1E-9F14A21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745DB-3D76-441F-9C2E-9FC7E8E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20B6-5EE2-4482-B9CD-7753332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2613B-6D69-4FC8-A86E-66D3758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367-BDDA-444F-BBEC-FDC3C6CD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9C016-3CA3-4FBA-A0BB-365FF2BF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5ADD7-903A-4A77-A0F6-D731DEE3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C093C-8460-43B8-939F-557B2DD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8EF3-B13C-47E0-B519-5955050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5C7D-5331-4C75-ACE0-BDCAD35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F3893-9AF0-46CD-B34B-B8ADD75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2C168-6C5B-4E68-92E2-7BE1838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D3F65-AD01-4388-A1F0-7359E57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9DEDA-A210-4B5F-9712-45BFE00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BD88-5491-4D81-B097-4CAF9B3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2DB-F68E-4F47-A9B1-C1D95991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2A4B0-F1FB-41E2-A3AE-3CE75D5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A544A-6C64-4B1E-8379-79FE4365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EB5FC-CEFE-47F5-87AB-1D47BF1F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880AB-FAB5-41A2-A3A8-EEBF90EF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AB8CA-047A-4D26-96A2-B27CCD20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B2354-8B2E-406E-843D-396B2A19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5FD37-C061-4062-B326-ED76F152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6E747-1FBD-47AD-8454-C6DD6D47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FE758-8A70-4988-B8D2-0F5B2B8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D958-5EF4-4B5B-B05C-9EC2DE2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D624-4B44-4ECE-8C1F-A32B6B4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80D70-75AB-4248-8474-8E022BEA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F0D7B-D5EF-4A1D-B2D6-3963BC5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2B425-DDA7-4C65-92C2-0A63569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EFBDA-E7B2-413D-B467-4ED574D8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5B3F7-0294-4327-A8D3-CF832FF8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0441-8FE4-472B-BCA8-CAD506C2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F78-2E0C-4841-B83B-92EC739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B8C-672D-417D-9C94-80FBED30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F779-A64A-4DC6-9ED2-4F4BB97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27CB-CBF6-4AF9-8A32-CE71A82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40E-8701-4F80-8D4B-A1F699CE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C58-CF45-4F41-9E1D-C638519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FF10-9EE1-420D-BDF8-CA56532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7B3-6635-4A56-82BD-0C5ED752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726-A897-4B0B-9FB8-27E8D369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A9EC-4C15-4B46-91EA-036C517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FB6B-608F-4F4C-BC4E-2315659C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D215-99DA-4509-8991-F7ACAD70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9A75-BEEF-446D-B4D0-40C3BBB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60F5-0C4C-46CC-8D3A-6751A538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2911-57B9-4C6A-9BB2-F4F6254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5BE-BFBB-4CEE-9435-F49D28E9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4855-F15B-4993-9CB2-52D62AD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18FD-C5F6-4952-8CCB-522AC6E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3984-9321-42C9-81D2-D823A5F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D798-8450-4066-B0FD-BC32135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3577-CC7C-46D2-94C0-4EB83DB6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26AE-87EA-45F0-9E23-FC12F2E3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382A-0EAE-452E-B3A6-7175BBB1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A170-6293-4FF2-BF3F-61AA5DC3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1C95-9961-4C59-B053-36EDF314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376E-C3EB-4A46-A36A-E24C6ED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15D-F07B-4623-8F25-79BBF16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ABF3-286C-4025-8A0E-9D049C6D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582B-90D6-4832-B560-CE53AC1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5EA5-3617-4442-83E1-8C319BB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53F7-BBC6-4F6B-98C1-86B6C2C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5839-FE89-4045-AA85-FB52B9F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848D-37DB-4F22-9AE6-024A42B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4088-0E8E-45CA-A79C-D3118AE1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2579-82F3-4B74-A409-24E5D992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93D6-E18A-4228-A1E1-D7636EC5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563F-0BDE-4564-ADB7-A466591E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70D-3E53-4287-8E35-2C0EB400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94CB-99B1-462E-BCE8-3B7A7AA4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4095-C652-4E8D-BB51-29524C46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1CF0-367E-4572-A084-A30A604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0662-BA72-4AC4-B769-35EC02A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B221-F140-4416-8E38-9D7C757E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04E3-7506-4429-A989-13EE632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4AD0-9A8D-4587-8CE9-0D88858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0096-465D-46B9-8402-7291301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BBC7-8847-45AD-9C59-C5087757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6B59-C5A7-4D84-BA67-60AF01A9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AAE-6986-4446-B4D6-B381BF02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F76E9-CF2C-4F6E-AE0B-B1231177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9630-05C2-4CEB-B604-053F9F19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7B46-E429-44E6-8A82-CF71F5E3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783F-434A-4477-9CC4-86192AC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8DCA-3015-4536-9073-FD39328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B9144-1156-482D-AA24-A034121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68DAB-175F-4347-BC7A-8F6F702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03D9-BF75-409B-9A4A-529D7E1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1067-DD56-410E-A0B1-FE3A332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27F6-9151-4C9B-AF55-D2FE052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A44-6CF6-4784-AAA2-C8209E1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74B5-24F3-400B-B93D-920D68D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8738-A708-4BAB-A954-FE6426F4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7C352-8A9E-4848-A1F4-6A2D8361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A6026-C3C5-4AAC-83C5-48A76453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1293-28AD-4795-90F7-23297D5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2E582-58A9-4E71-BD11-41A2FD9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2A5DB-A19D-427C-8353-722AEDF5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54A9-A278-4B76-B8B0-B73E5E1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1A2C-E18E-4F5A-8295-3486A90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29076-F20B-4843-A1BA-32146B8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2C2-7EA9-4152-9A4F-EF04E6A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456C3-3EBE-40DA-BAD2-07A47899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D01A-3878-4A89-837A-E9D33E8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AD03-E905-4A3D-9009-6A7C393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64BA-5E0E-4539-9A75-D3A52C17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A108-48FA-4A0C-AB44-5422648C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B5B6-58E8-4EB2-8B71-090CA59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E76C-C91A-47D4-98C9-3B804AE7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2E629-634C-4210-AC13-7961402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B8DE7-56BA-49D5-B13C-3F8709B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9972-B724-49ED-AA79-740E148A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A07-9692-4315-861F-7976B93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B80F-D890-4784-BF82-D5B3762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4F976-B249-4E4A-B3FA-C8238F7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B1035-405B-434C-A4A8-99D6178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2030-DDD1-410B-B2D0-C127CC8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4F08-0EF8-4C3B-8F9B-57BC1B9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EA65C-1936-40F3-AFD5-6FE47F0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0B4D-BA9A-4538-A3EC-89E2E799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B6478-622B-4EDD-8775-53E74A51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1EC46-C6B9-491A-987B-74F0445E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6748A-7F5B-410F-AA3A-2921BDB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7C14-6FA1-4F4B-8343-266BFE03BF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223-DF92-41FA-972E-A7E0AC0000E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706-EB46-4427-9CA8-751E1CBBE7B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CBC-4540-4137-98BF-D5468AA5076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C74-E018-4093-94CA-FBF5F51CE6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376-8D07-4EBF-8A45-872B775B75C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509-9521-48FA-AD73-FABC86F3C7F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1FA-5619-46B0-975A-4C5CF7287A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0B2-54B4-4DA3-B8B5-74F29A9DDE7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BB1-FDA1-4F8B-8EF9-95CB9F55A9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895-B8A9-4507-A923-814F99DBE76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9FB-3D64-4002-A6C2-11806D46EBD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907920" y="774720"/>
            <a:ext cx="83883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Воздух в тропосфере перемещается в горизонтальном и вертикальном направлениях. Большие объемы воздуха тропосферы, обладающие однородными свойствами, называются 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воздушными массами</a:t>
            </a: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. Взаимодействие воздушных масс приводит к образованию гигантских вихрей – 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циклонов и антициклон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9" name="Picture 9" descr="04040304"/>
          <p:cNvPicPr/>
          <p:nvPr/>
        </p:nvPicPr>
        <p:blipFill>
          <a:blip r:embed="rId1"/>
          <a:stretch/>
        </p:blipFill>
        <p:spPr>
          <a:xfrm>
            <a:off x="4800600" y="380880"/>
            <a:ext cx="3962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Consolas"/>
              </a:rPr>
              <a:t>Циклон</a:t>
            </a:r>
            <a:r>
              <a:rPr b="0" lang="ru-RU" sz="22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– это область пониженного давления в атмосфере с минимумом в центре. Погода при циклоне преобладает пасмурная. С сильными ветрами.</a:t>
            </a:r>
            <a:br>
              <a:rPr sz="2200"/>
            </a:br>
            <a:r>
              <a:rPr b="0" lang="ru-RU" sz="2200" spc="-1" strike="noStrike">
                <a:solidFill>
                  <a:srgbClr val="ff3300"/>
                </a:solidFill>
                <a:latin typeface="Consolas"/>
              </a:rPr>
              <a:t>Антициклон</a:t>
            </a:r>
            <a:r>
              <a:rPr b="0" lang="ru-RU" sz="22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– область повышенного давления в атмосфере с максимумом в центре. Погода при антициклоне малооблачная, без осадков, ветер слабый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1" name="Picture 9" descr="антициклон"/>
          <p:cNvPicPr/>
          <p:nvPr/>
        </p:nvPicPr>
        <p:blipFill>
          <a:blip r:embed="rId1"/>
          <a:stretch/>
        </p:blipFill>
        <p:spPr>
          <a:xfrm>
            <a:off x="0" y="3048120"/>
            <a:ext cx="7543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К опасным метеорологическим явлениям относятся тайфуны, ураганы, бури, смерчи, грозы, засухи, сильные морозы и туманы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3" name="Picture 14" descr="tornado-2"/>
          <p:cNvPicPr/>
          <p:nvPr/>
        </p:nvPicPr>
        <p:blipFill>
          <a:blip r:embed="rId1"/>
          <a:stretch/>
        </p:blipFill>
        <p:spPr>
          <a:xfrm>
            <a:off x="457200" y="2401920"/>
            <a:ext cx="40384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Гидрологические природные явл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3581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Все воды Земли объединяются понятием </a:t>
            </a:r>
            <a:r>
              <a:rPr b="0" lang="ru-RU" sz="2800" spc="-1" strike="noStrike">
                <a:solidFill>
                  <a:srgbClr val="ff3300"/>
                </a:solidFill>
                <a:latin typeface="Corbel"/>
              </a:rPr>
              <a:t>«гидросфера».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 Вода находится в постоянном </a:t>
            </a:r>
            <a:r>
              <a:rPr b="0" lang="ru-RU" sz="2800" spc="-1" strike="noStrike">
                <a:solidFill>
                  <a:srgbClr val="ff3300"/>
                </a:solidFill>
                <a:latin typeface="Corbel"/>
              </a:rPr>
              <a:t>круговороте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. Движущей силой круговорота является солнечная энергия и сила тяже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47" name="Picture 8" descr="кругов"/>
          <p:cNvPicPr/>
          <p:nvPr/>
        </p:nvPicPr>
        <p:blipFill>
          <a:blip r:embed="rId1"/>
          <a:stretch/>
        </p:blipFill>
        <p:spPr>
          <a:xfrm>
            <a:off x="3962520" y="1752480"/>
            <a:ext cx="49528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onsolas"/>
              </a:rPr>
              <a:t>К опасным природным явлениям гидрологического характера относятся 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наводнения, цунами, сели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9" name="Picture 8" descr="наводн"/>
          <p:cNvPicPr/>
          <p:nvPr/>
        </p:nvPicPr>
        <p:blipFill>
          <a:blip r:embed="rId1"/>
          <a:stretch/>
        </p:blipFill>
        <p:spPr>
          <a:xfrm>
            <a:off x="5486400" y="1676520"/>
            <a:ext cx="3241800" cy="2171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sel"/>
          <p:cNvPicPr/>
          <p:nvPr/>
        </p:nvPicPr>
        <p:blipFill>
          <a:blip r:embed="rId2"/>
          <a:stretch/>
        </p:blipFill>
        <p:spPr>
          <a:xfrm>
            <a:off x="1371600" y="3276720"/>
            <a:ext cx="2903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onsolas"/>
              </a:rPr>
              <a:t>Лесные и торфяные пожары</a:t>
            </a:r>
            <a:br>
              <a:rPr sz="2200"/>
            </a:br>
            <a:r>
              <a:rPr b="1" lang="ru-RU" sz="2200" spc="-1" strike="noStrike">
                <a:solidFill>
                  <a:srgbClr val="ff3300"/>
                </a:solidFill>
                <a:latin typeface="Consolas"/>
              </a:rPr>
              <a:t>Лесной пожар</a:t>
            </a:r>
            <a:r>
              <a:rPr b="1" lang="ru-RU" sz="2200" spc="-1" strike="noStrike">
                <a:solidFill>
                  <a:srgbClr val="ffff00"/>
                </a:solidFill>
                <a:latin typeface="Consolas"/>
              </a:rPr>
              <a:t> – это неконтролируемое горение растительности, стихийно распространяющееся по лесной территории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52" name="Picture 7" descr="les_pogar"/>
          <p:cNvPicPr/>
          <p:nvPr/>
        </p:nvPicPr>
        <p:blipFill>
          <a:blip r:embed="rId1"/>
          <a:stretch/>
        </p:blipFill>
        <p:spPr>
          <a:xfrm>
            <a:off x="3049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торф"/>
          <p:cNvPicPr/>
          <p:nvPr/>
        </p:nvPicPr>
        <p:blipFill>
          <a:blip r:embed="rId2"/>
          <a:stretch/>
        </p:blipFill>
        <p:spPr>
          <a:xfrm>
            <a:off x="4724280" y="365760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4"/>
          <p:cNvSpPr/>
          <p:nvPr/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Consolas"/>
              </a:rPr>
              <a:t>Биологические опасные природные явлени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Эпидемия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широкое  распространение инфекционной болезни среди людей, значительно превышающее обычно регистрируемый на данной территории уровень заболеваемости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Инфекционные болезни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 –</a:t>
            </a: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группа болезней, которые вызываются специфическими возбудителями (бактериями, вирусами и грибками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7" name="Picture 7" descr="gripp_main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59" name="Picture 8" descr="птица"/>
          <p:cNvPicPr/>
          <p:nvPr/>
        </p:nvPicPr>
        <p:blipFill>
          <a:blip r:embed="rId1"/>
          <a:stretch/>
        </p:blipFill>
        <p:spPr>
          <a:xfrm>
            <a:off x="457200" y="228600"/>
            <a:ext cx="3352680" cy="2781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саранча"/>
          <p:cNvPicPr/>
          <p:nvPr/>
        </p:nvPicPr>
        <p:blipFill>
          <a:blip r:embed="rId2"/>
          <a:stretch/>
        </p:blipFill>
        <p:spPr>
          <a:xfrm>
            <a:off x="380880" y="3429000"/>
            <a:ext cx="3983040" cy="2438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Эпизоотии –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 массовые инфекционные болезни животных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Эпифитотии –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 массовые болезни растени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Космические природные яв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3" name="Picture 7" descr="астероидl"/>
          <p:cNvPicPr/>
          <p:nvPr/>
        </p:nvPicPr>
        <p:blipFill>
          <a:blip r:embed="rId1"/>
          <a:stretch/>
        </p:blipFill>
        <p:spPr>
          <a:xfrm>
            <a:off x="457200" y="1371600"/>
            <a:ext cx="3370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1eeff"/>
                </a:solidFill>
                <a:latin typeface="Consolas"/>
              </a:rPr>
              <a:t>Геологические оболочки и геосферы Земли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0" name="Picture 9" descr="сферы"/>
          <p:cNvPicPr/>
          <p:nvPr/>
        </p:nvPicPr>
        <p:blipFill>
          <a:blip r:embed="rId1"/>
          <a:stretch/>
        </p:blipFill>
        <p:spPr>
          <a:xfrm>
            <a:off x="2895480" y="235584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Метеоры и метеориты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5" name="Picture 7" descr="179_item_pict_big"/>
          <p:cNvPicPr/>
          <p:nvPr/>
        </p:nvPicPr>
        <p:blipFill>
          <a:blip r:embed="rId1"/>
          <a:stretch/>
        </p:blipFill>
        <p:spPr>
          <a:xfrm>
            <a:off x="228600" y="137160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Кометы и астерои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7" name="Picture 7" descr="meteor"/>
          <p:cNvPicPr/>
          <p:nvPr/>
        </p:nvPicPr>
        <p:blipFill>
          <a:blip r:embed="rId1"/>
          <a:stretch/>
        </p:blipFill>
        <p:spPr>
          <a:xfrm>
            <a:off x="228600" y="13716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asteroid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rbel"/>
              </a:rPr>
              <a:t>Параграф 1.2 учить, подготовить в тетради конспект параграфа 1.3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Классификация природных явлений по месту возникнов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еологические (землетрясения, извержения вулканов, оползни, обвалы, снежные лавины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етеорологические (ураганы, бури, смерч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дрологические (наводнения, цунами, сел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иологические (эпидемии, эпизоотии, эпифитоти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смически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4" name="Picture 7" descr="w06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4419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181120" y="45720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Земная кора вместе с частью верхней мантии не является монолитным панцирем планеты, а состоит из нескольких больших плит. Выделяют 7 громадных плит и десятки плит поменьш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olas"/>
              </a:rPr>
              <a:t>Пограничные области между литосферными плитами называют сейсмическими поясами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7" name="Picture 6" descr="K-0604"/>
          <p:cNvPicPr/>
          <p:nvPr/>
        </p:nvPicPr>
        <p:blipFill>
          <a:blip r:embed="rId1"/>
          <a:stretch/>
        </p:blipFill>
        <p:spPr>
          <a:xfrm>
            <a:off x="1943280" y="207000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onsolas"/>
              </a:rPr>
              <a:t>Землетрясение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9" name="Picture 6" descr="48475220_1252379212_buildings"/>
          <p:cNvPicPr/>
          <p:nvPr/>
        </p:nvPicPr>
        <p:blipFill>
          <a:blip r:embed="rId1"/>
          <a:stretch/>
        </p:blipFill>
        <p:spPr>
          <a:xfrm>
            <a:off x="304920" y="1447920"/>
            <a:ext cx="4343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Обвал              Оползень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1" name="Picture 7" descr="obval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5d98cc6d0339"/>
          <p:cNvPicPr/>
          <p:nvPr/>
        </p:nvPicPr>
        <p:blipFill>
          <a:blip r:embed="rId2"/>
          <a:stretch/>
        </p:blipFill>
        <p:spPr>
          <a:xfrm>
            <a:off x="4876920" y="2286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olas"/>
              </a:rPr>
              <a:t>Извержение вулкана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4" name="Picture 11" descr="KP_1-034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Метеорологические природные явл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6" name="Picture 7" descr="смерч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0:45Z</dcterms:created>
  <dc:creator>Сергей</dc:creator>
  <dc:description/>
  <dc:language>en-US</dc:language>
  <cp:lastModifiedBy>user</cp:lastModifiedBy>
  <dcterms:modified xsi:type="dcterms:W3CDTF">2017-10-10T20:45:09Z</dcterms:modified>
  <cp:revision>11</cp:revision>
  <dc:subject/>
  <dc:title>Урок 2</dc:title>
</cp:coreProperties>
</file>