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4053-34EE-49FB-B46C-94950D56A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A274-F4BE-4E3F-80E7-635D3CC08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7F7315-EE60-4F46-A425-0CB3F7126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314779-B3A8-45B0-A24A-6CDEB5959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3EACE3-F545-47AA-B852-E5664C8B6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E39230-4899-4038-A3D1-F6DF76C2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95E1CE-F547-4A26-AC5B-3255E64D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EBBCF6-C432-4970-8E0F-0E638B6D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C6B50C-B048-46D6-9122-817F636FF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66F73B-8162-4AE3-96BA-D464BD70D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279AAF-F57F-4F14-B418-86B3DD4FE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B27147-A5DC-4668-B555-9D9A94AAF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F896-E12D-4C18-B646-B991E5E22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5C947F-3B06-46E9-B734-A9FF331F5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81AA64-D271-4223-944D-1FF531A65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EA1EBF-53BD-4455-947B-EC841E4AB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A297CD-7A8D-453A-A6B7-68F467567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2573C7-26FD-4C61-90F6-E7396C74D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B8A298-B93C-4BD6-A6DC-17F3812A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D61D1F-D931-49DC-B4FA-55D02EBD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115403-A033-4BF0-8E50-D46948FA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00F69E-E3DB-463F-8969-0798BF734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A31CAF-C773-4FB0-871F-B3AB28388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4D9E-EB38-4BF5-AC2C-73D697FE2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4C00A3-EE47-4DB8-8858-68D5E7C36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8D85FC-3B77-44A0-BD3F-9D61819D8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520A7F-5134-4EA5-952D-89BFC4044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9FB425-E3CC-442E-941B-5ECCBCDBE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2E452E-E244-4B29-B5F4-6D8BD8CF4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F63F4B-0540-4BA9-A553-AB68CC5BD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495BB8-A35C-4F1A-ABC0-295EFABA7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B79207-1FFB-48D2-9A0B-7EA3B00B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69DEA7-BD7E-4D09-9B86-400001A7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8E1E7F-820F-461A-9F46-E6972E96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9CC1B-A410-48EE-A1B3-E00757E51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6EBD50-A2A1-4635-AEBC-5366C4638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435F53-CD88-436C-AF5A-87F084C6A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596D75-2A19-4099-A3C3-8F49F67B9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C9B632-6CF9-48C1-9FA9-66F19516A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CF9AC1-1743-4FFE-A6A9-A5D441B74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22DF9A-2A08-48C8-9505-1F27A666E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B2FBC1-BF05-4F15-BFAA-76F0D4704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EFBE2D-E4F9-4BD3-A6C9-306082066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94D598-DBE6-4351-9839-C4EFA293B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53C15F-4840-4D72-96FD-33721E1A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0F079-1F93-45B2-9CB8-643426D80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52436F-F561-49FF-A1F3-6108ECCC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4C3E15-F9AC-4247-9150-447E6D75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D3DE96-2BF2-477F-A54B-3328D273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D11A92-6120-4C8F-AFD4-122B80241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733EB4-9A71-41D0-B628-F5BCB1C90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10665-AFBB-4F19-A7FC-34FF5AA63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B278A-2E3E-4F45-AD9C-A9CD6B47E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DFC0C-6A54-4EE0-93BB-3F5995E96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AEFF8-8104-4BFF-8B62-8367081F0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8B5AF-923B-401E-B88E-8B47BC14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BB21-8359-4FC9-937A-A49353A39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32C70-6F6B-439B-A6B1-A3B47DB8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E4CD0-09BF-40CD-82CB-F38248E4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7C7D9-EA86-4BFD-9802-796A9216E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13643-D73E-4BD0-A5CF-524C7E286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29D9A-0016-461A-AAD1-ACF1BB7D5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8492D-65F4-46BF-AB39-8125D8A51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BCF49-297A-4F97-B3B2-102789D57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A1F42-79BD-4711-9FA8-B8E802945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29D1C-88EF-4296-94FC-BF168213F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074B8-BF11-4D92-881B-EA209E34D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431F-46F9-496C-BAA6-FB4459DA0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95FCA-3302-4A0F-963A-59B2DE6E0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84BBF-27EE-4381-9708-58FD91AC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C857C-49BB-4830-9E04-BA630E9A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9867F-30C7-4BEF-8450-FFF1888D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1A7F9-06C5-4F8E-9842-62771DE36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09A75-DB90-4ADE-8949-87F8AE9E1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D590F-5F34-49B6-A78D-3A3266531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6E3E0-E125-4FB6-A42A-F5FE66B09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612EC-2575-4BAF-A4FC-694BF894E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CD234-0378-418C-B477-91A8A0B20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1A2D-07F3-4449-8415-6E7702CC7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9692B-E139-457F-A301-56333CDB1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6F9CA-9C8B-4A83-889F-E30CFDE22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19C21-D1B8-49C2-BA54-EB8913CA4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11307-DE46-44EE-BB94-AFAF14DF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CD1AF-7589-4921-A9CB-2CAB0AD6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FAF1D-A3DB-4D33-BAF6-3B2B6A5D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A6C76-C0E6-48B4-A51C-166C0AD4F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9A545-97AB-4F0E-AAB5-C65C038F2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21096-C620-4E72-82D7-9FA5836D7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CD455-D282-4870-9D60-9392EFC03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4C51-1820-4E30-ABE6-B26D3D465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66A7F-B5DA-4148-8287-77D7A80BE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92F03-637C-427C-97B6-5CD6CA155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3B495-4BDA-422D-B6B3-225D0BDEB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1415D-08FF-46EE-B754-DB4AB5DF2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33FBF-E32A-4581-8171-82028881B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ED22D-B064-460F-9B6D-74B7FFAB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DBB92-267D-4308-97ED-F555A01E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008D4-C072-4FD4-B803-1AE87792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02B8F-9D28-488A-999D-6D68ACEE3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A3171-AAB2-4040-AE8B-F860C5906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F688-447B-4234-8E5B-18729352C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AD4DD-C1C4-41B6-AA2B-CE4A15F42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4B8ECE-D47F-4A19-82F6-3C9F975BF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B01D7-EB07-419C-B2FE-D67AC5AE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30416-5521-4347-A466-6A8E8E1A0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0785F-8787-4016-9C53-3A4FC6A10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7932A4-254A-43F4-A607-936805B1F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1AD88-3C3D-46DC-A6F2-DA0EC75F8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BFCB8-BFBA-49F9-A8C6-CAE549A8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DD28D7-8005-42FC-84E2-2A3D39B7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4B7B9-A162-44A0-8CE8-365B1C83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E197-13D1-49D1-AA60-F12E506A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10F70-CE42-49B3-AD62-B4EFFA95E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21B0B-AEBC-48B7-A457-A89A22F6E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3A0D7-F0D1-4817-B9FD-BD8E3CD35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336E38-CEA9-4FA1-BFCF-51F4D098A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2EB34C-2AFF-42C7-83FB-A1177DC8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7497F2-C316-4AC2-AB4E-B8F37C269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039B2-3BE3-49FC-82EA-3EAC5DF52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E6E731-091E-49F0-8A12-D3FCF27B4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59BB26-212A-4CF5-836F-FF0392F91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71EBD2-EAB0-46EC-BE1F-7A15ACE5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F05E-3732-4C2F-80E4-79314507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7FD1F6-2E3D-487C-88D7-BDBA02D4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2D56F1-061F-4600-A848-48214700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1AE7EB-059D-4EF3-87B7-C51E0E88B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9CCFAB-0762-4CAE-BA47-FE156EF82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A638AE-87B8-4145-817F-9E4FC4A60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9C7B5C-D5AE-4752-9D1D-7079BD7D9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B21083-3151-4D82-98C1-79F5B6584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496AEE-16D7-4E3B-B45E-28B7BF532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B9F390-FACD-4BE4-B2F0-05B99E091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0747CC-EFB2-493F-A195-857B315F1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5FFA-7777-401D-A4FF-BEE4C350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5730C3-7FA6-477B-82A9-2A775B208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101E4D-53BB-40A3-9EFF-1D64CACB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6D2B58-6007-4E35-A220-D0CAE469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4B09AE-8D4A-406F-B15A-8FFC3F92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F2EC44-B997-4E66-8B3D-5553775F1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32C6DA-BFE3-443E-97C4-4475722E8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DB30B1-B9DA-4C12-9D38-83438DE14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536619-5DEB-4D12-812A-1F1D58AB3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2FA52C-507A-4750-A82F-10F5CA03B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66ABFB-7BAF-4DF0-AE38-FAC898173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707E7-CD9D-481E-9CCB-B09E2BBC12B7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8FD6E-A0FC-4033-9C24-3E4ADBBDD20C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C16C8-EAB4-45C8-831F-5EB660558BFB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77590-BCEA-476A-B8D5-BAAB4AE7A461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9F963-5701-4F6F-85DF-E651EC4FEA77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9D6F6-B06C-4B7F-B507-5A29DA370A94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3CA3-5981-4173-92A3-64FD8B3AD548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18975-B194-41C9-8EF6-3A3E43DDBFD2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29C97-D681-4D33-8915-C5AD65DB5DF5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520" y="1217520"/>
            <a:ext cx="128880" cy="131400"/>
            <a:chOff x="8516520" y="1217520"/>
            <a:chExt cx="12888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6640" y="1217520"/>
              <a:ext cx="687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520" y="1282680"/>
              <a:ext cx="972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6640" y="1282320"/>
              <a:ext cx="687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8920" y="1370160"/>
              <a:ext cx="691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520" y="1435320"/>
              <a:ext cx="9756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8920" y="1434960"/>
              <a:ext cx="691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400" y="1473120"/>
            <a:ext cx="128880" cy="131400"/>
            <a:chOff x="8321400" y="1473120"/>
            <a:chExt cx="12888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81520" y="1473120"/>
              <a:ext cx="687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400" y="1538280"/>
              <a:ext cx="972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81520" y="1537920"/>
              <a:ext cx="687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7BE7E-150C-40E2-AF52-98CCF5D46C37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ED5B4-198B-490C-ABC4-3DFFF45FD723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E08C9-AC6A-460D-9B52-2103D20015C4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0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2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Rectangle 2" descr=""/>
          <p:cNvPicPr/>
          <p:nvPr/>
        </p:nvPicPr>
        <p:blipFill>
          <a:blip r:embed="rId1"/>
          <a:stretch/>
        </p:blipFill>
        <p:spPr>
          <a:xfrm>
            <a:off x="907920" y="774720"/>
            <a:ext cx="8388360" cy="55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09480" y="-114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4724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86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rbel"/>
              </a:rPr>
              <a:t>Воздух в тропосфере перемещается в горизонтальном и вертикальном направлениях. Большие объемы воздуха тропосферы, обладающие однородными свойствами, называются </a:t>
            </a:r>
            <a:r>
              <a:rPr b="1" lang="ru-RU" sz="2400" spc="-1" strike="noStrike">
                <a:solidFill>
                  <a:srgbClr val="ff3300"/>
                </a:solidFill>
                <a:latin typeface="Corbel"/>
              </a:rPr>
              <a:t>воздушными массами</a:t>
            </a:r>
            <a:r>
              <a:rPr b="1" lang="ru-RU" sz="2400" spc="-1" strike="noStrike">
                <a:solidFill>
                  <a:srgbClr val="ffff00"/>
                </a:solidFill>
                <a:latin typeface="Corbel"/>
              </a:rPr>
              <a:t>. Взаимодействие воздушных масс приводит к образованию гигантских вихрей – </a:t>
            </a:r>
            <a:r>
              <a:rPr b="1" lang="ru-RU" sz="2400" spc="-1" strike="noStrike">
                <a:solidFill>
                  <a:srgbClr val="ff3300"/>
                </a:solidFill>
                <a:latin typeface="Corbel"/>
              </a:rPr>
              <a:t>циклонов и антициклонов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39" name="Picture 9" descr="04040304"/>
          <p:cNvPicPr/>
          <p:nvPr/>
        </p:nvPicPr>
        <p:blipFill>
          <a:blip r:embed="rId1"/>
          <a:stretch/>
        </p:blipFill>
        <p:spPr>
          <a:xfrm>
            <a:off x="4800600" y="380880"/>
            <a:ext cx="396252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3300"/>
                </a:solidFill>
                <a:latin typeface="Consolas"/>
              </a:rPr>
              <a:t>Циклон</a:t>
            </a:r>
            <a:r>
              <a:rPr b="0" lang="ru-RU" sz="2200" spc="-1" strike="noStrike">
                <a:solidFill>
                  <a:srgbClr val="c1eeff"/>
                </a:solidFill>
                <a:latin typeface="Consolas"/>
              </a:rPr>
              <a:t> </a:t>
            </a:r>
            <a:r>
              <a:rPr b="0" lang="ru-RU" sz="2200" spc="-1" strike="noStrike">
                <a:solidFill>
                  <a:srgbClr val="ffff00"/>
                </a:solidFill>
                <a:latin typeface="Consolas"/>
              </a:rPr>
              <a:t>– это область пониженного давления в атмосфере с минимумом в центре. Погода при циклоне преобладает пасмурная. С сильными ветрами.</a:t>
            </a:r>
            <a:br>
              <a:rPr sz="2200"/>
            </a:br>
            <a:r>
              <a:rPr b="0" lang="ru-RU" sz="2200" spc="-1" strike="noStrike">
                <a:solidFill>
                  <a:srgbClr val="ff3300"/>
                </a:solidFill>
                <a:latin typeface="Consolas"/>
              </a:rPr>
              <a:t>Антициклон</a:t>
            </a:r>
            <a:r>
              <a:rPr b="0" lang="ru-RU" sz="2200" spc="-1" strike="noStrike">
                <a:solidFill>
                  <a:srgbClr val="c1eeff"/>
                </a:solidFill>
                <a:latin typeface="Consolas"/>
              </a:rPr>
              <a:t> </a:t>
            </a:r>
            <a:r>
              <a:rPr b="0" lang="ru-RU" sz="2200" spc="-1" strike="noStrike">
                <a:solidFill>
                  <a:srgbClr val="ffff00"/>
                </a:solidFill>
                <a:latin typeface="Consolas"/>
              </a:rPr>
              <a:t>– область повышенного давления в атмосфере с максимумом в центре. Погода при антициклоне малооблачная, без осадков, ветер слабый.</a:t>
            </a:r>
            <a:endParaRPr b="0" lang="en-US" sz="22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641" name="Picture 9" descr="антициклон"/>
          <p:cNvPicPr/>
          <p:nvPr/>
        </p:nvPicPr>
        <p:blipFill>
          <a:blip r:embed="rId1"/>
          <a:stretch/>
        </p:blipFill>
        <p:spPr>
          <a:xfrm>
            <a:off x="0" y="3048120"/>
            <a:ext cx="75438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00"/>
                </a:solidFill>
                <a:latin typeface="Consolas"/>
              </a:rPr>
              <a:t>К опасным метеорологическим явлениям относятся тайфуны, ураганы, бури, смерчи, грозы, засухи, сильные морозы и туманы.</a:t>
            </a:r>
            <a:endParaRPr b="0" lang="en-US" sz="22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643" name="Picture 14" descr="tornado-2"/>
          <p:cNvPicPr/>
          <p:nvPr/>
        </p:nvPicPr>
        <p:blipFill>
          <a:blip r:embed="rId1"/>
          <a:stretch/>
        </p:blipFill>
        <p:spPr>
          <a:xfrm>
            <a:off x="457200" y="2401920"/>
            <a:ext cx="4038480" cy="28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2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914400" y="2362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Consolas"/>
              </a:rPr>
              <a:t>Гидрологические природные явления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-571680"/>
            <a:ext cx="82296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35812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02840" indent="-3355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orbel"/>
              </a:rPr>
              <a:t>Все воды Земли объединяются понятием </a:t>
            </a:r>
            <a:r>
              <a:rPr b="0" lang="ru-RU" sz="2800" spc="-1" strike="noStrike">
                <a:solidFill>
                  <a:srgbClr val="ff3300"/>
                </a:solidFill>
                <a:latin typeface="Corbel"/>
              </a:rPr>
              <a:t>«гидросфера».</a:t>
            </a:r>
            <a:r>
              <a:rPr b="0" lang="ru-RU" sz="2800" spc="-1" strike="noStrike">
                <a:solidFill>
                  <a:srgbClr val="ffff00"/>
                </a:solidFill>
                <a:latin typeface="Corbel"/>
              </a:rPr>
              <a:t> Вода находится в постоянном </a:t>
            </a:r>
            <a:r>
              <a:rPr b="0" lang="ru-RU" sz="2800" spc="-1" strike="noStrike">
                <a:solidFill>
                  <a:srgbClr val="ff3300"/>
                </a:solidFill>
                <a:latin typeface="Corbel"/>
              </a:rPr>
              <a:t>круговороте</a:t>
            </a:r>
            <a:r>
              <a:rPr b="0" lang="ru-RU" sz="2800" spc="-1" strike="noStrike">
                <a:solidFill>
                  <a:srgbClr val="ffff00"/>
                </a:solidFill>
                <a:latin typeface="Corbel"/>
              </a:rPr>
              <a:t>. Движущей силой круговорота является солнечная энергия и сила тяжести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47" name="Picture 8" descr="кругов"/>
          <p:cNvPicPr/>
          <p:nvPr/>
        </p:nvPicPr>
        <p:blipFill>
          <a:blip r:embed="rId1"/>
          <a:stretch/>
        </p:blipFill>
        <p:spPr>
          <a:xfrm>
            <a:off x="3962520" y="1752480"/>
            <a:ext cx="4952880" cy="35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00"/>
                </a:solidFill>
                <a:latin typeface="Consolas"/>
              </a:rPr>
              <a:t>К опасным природным явлениям гидрологического характера относятся </a:t>
            </a:r>
            <a:r>
              <a:rPr b="1" lang="ru-RU" sz="2500" spc="-1" strike="noStrike">
                <a:solidFill>
                  <a:srgbClr val="ff3300"/>
                </a:solidFill>
                <a:latin typeface="Consolas"/>
              </a:rPr>
              <a:t>наводнения, цунами, сели</a:t>
            </a:r>
            <a:endParaRPr b="0" lang="en-US" sz="25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649" name="Picture 8" descr="наводн"/>
          <p:cNvPicPr/>
          <p:nvPr/>
        </p:nvPicPr>
        <p:blipFill>
          <a:blip r:embed="rId1"/>
          <a:stretch/>
        </p:blipFill>
        <p:spPr>
          <a:xfrm>
            <a:off x="5486400" y="1676520"/>
            <a:ext cx="3241800" cy="217152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9" descr="sel"/>
          <p:cNvPicPr/>
          <p:nvPr/>
        </p:nvPicPr>
        <p:blipFill>
          <a:blip r:embed="rId2"/>
          <a:stretch/>
        </p:blipFill>
        <p:spPr>
          <a:xfrm>
            <a:off x="1371600" y="3276720"/>
            <a:ext cx="290340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80880" y="1676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3300"/>
                </a:solidFill>
                <a:latin typeface="Consolas"/>
              </a:rPr>
              <a:t>Лесные и торфяные пожары</a:t>
            </a:r>
            <a:br>
              <a:rPr sz="2200"/>
            </a:br>
            <a:r>
              <a:rPr b="1" lang="ru-RU" sz="2200" spc="-1" strike="noStrike">
                <a:solidFill>
                  <a:srgbClr val="ff3300"/>
                </a:solidFill>
                <a:latin typeface="Consolas"/>
              </a:rPr>
              <a:t>Лесной пожар</a:t>
            </a:r>
            <a:r>
              <a:rPr b="1" lang="ru-RU" sz="2200" spc="-1" strike="noStrike">
                <a:solidFill>
                  <a:srgbClr val="ffff00"/>
                </a:solidFill>
                <a:latin typeface="Consolas"/>
              </a:rPr>
              <a:t> – это неконтролируемое горение растительности, стихийно распространяющееся по лесной территории.</a:t>
            </a:r>
            <a:endParaRPr b="0" lang="en-US" sz="22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652" name="Picture 7" descr="les_pogar"/>
          <p:cNvPicPr/>
          <p:nvPr/>
        </p:nvPicPr>
        <p:blipFill>
          <a:blip r:embed="rId1"/>
          <a:stretch/>
        </p:blipFill>
        <p:spPr>
          <a:xfrm>
            <a:off x="304920" y="373392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8" descr="торф"/>
          <p:cNvPicPr/>
          <p:nvPr/>
        </p:nvPicPr>
        <p:blipFill>
          <a:blip r:embed="rId2"/>
          <a:stretch/>
        </p:blipFill>
        <p:spPr>
          <a:xfrm>
            <a:off x="4724280" y="3657600"/>
            <a:ext cx="4038840" cy="3030480"/>
          </a:xfrm>
          <a:prstGeom prst="rect">
            <a:avLst/>
          </a:prstGeom>
          <a:ln w="0">
            <a:noFill/>
          </a:ln>
        </p:spPr>
      </p:pic>
      <p:sp>
        <p:nvSpPr>
          <p:cNvPr id="654" name="Rectangle 4"/>
          <p:cNvSpPr/>
          <p:nvPr/>
        </p:nvSpPr>
        <p:spPr>
          <a:xfrm>
            <a:off x="53352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00"/>
                </a:solidFill>
                <a:latin typeface="Consolas"/>
              </a:rPr>
              <a:t>Биологические опасные природные явления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40384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0240" indent="-325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Corbel"/>
              </a:rPr>
              <a:t>Эпидемия</a:t>
            </a:r>
            <a:r>
              <a:rPr b="0" lang="ru-RU" sz="2400" spc="-1" strike="noStrike">
                <a:solidFill>
                  <a:srgbClr val="ffff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ff3300"/>
                </a:solidFill>
                <a:latin typeface="Corbel"/>
              </a:rPr>
              <a:t>– </a:t>
            </a:r>
            <a:r>
              <a:rPr b="0" lang="ru-RU" sz="2400" spc="-1" strike="noStrike">
                <a:solidFill>
                  <a:srgbClr val="ffff00"/>
                </a:solidFill>
                <a:latin typeface="Corbel"/>
              </a:rPr>
              <a:t>широкое  распространение инфекционной болезни среди людей, значительно превышающее обычно регистрируемый на данной территории уровень заболеваемости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Corbel"/>
              </a:rPr>
              <a:t>Инфекционные болезни</a:t>
            </a:r>
            <a:r>
              <a:rPr b="0" lang="ru-RU" sz="2400" spc="-1" strike="noStrike">
                <a:solidFill>
                  <a:srgbClr val="ffff00"/>
                </a:solidFill>
                <a:latin typeface="Corbel"/>
              </a:rPr>
              <a:t> –</a:t>
            </a:r>
            <a:r>
              <a:rPr b="0" lang="ru-RU" sz="2400" spc="-1" strike="noStrike">
                <a:solidFill>
                  <a:srgbClr val="ff33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Corbel"/>
              </a:rPr>
              <a:t>группа болезней, которые вызываются специфическими возбудителями (бактериями, вирусами и грибками)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57" name="Picture 7" descr="gripp_main"/>
          <p:cNvPicPr/>
          <p:nvPr/>
        </p:nvPicPr>
        <p:blipFill>
          <a:blip r:embed="rId1"/>
          <a:stretch/>
        </p:blipFill>
        <p:spPr>
          <a:xfrm>
            <a:off x="4495680" y="1676520"/>
            <a:ext cx="46483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-571680"/>
            <a:ext cx="82296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659" name="Picture 8" descr="птица"/>
          <p:cNvPicPr/>
          <p:nvPr/>
        </p:nvPicPr>
        <p:blipFill>
          <a:blip r:embed="rId1"/>
          <a:stretch/>
        </p:blipFill>
        <p:spPr>
          <a:xfrm>
            <a:off x="457200" y="228600"/>
            <a:ext cx="3352680" cy="278136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9" descr="саранча"/>
          <p:cNvPicPr/>
          <p:nvPr/>
        </p:nvPicPr>
        <p:blipFill>
          <a:blip r:embed="rId2"/>
          <a:stretch/>
        </p:blipFill>
        <p:spPr>
          <a:xfrm>
            <a:off x="380880" y="3429000"/>
            <a:ext cx="3983040" cy="2438280"/>
          </a:xfrm>
          <a:prstGeom prst="rect">
            <a:avLst/>
          </a:prstGeom>
          <a:ln w="0">
            <a:noFill/>
          </a:ln>
        </p:spPr>
      </p:pic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648320" y="228600"/>
            <a:ext cx="40384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orbel"/>
              </a:rPr>
              <a:t>Эпизоотии –</a:t>
            </a:r>
            <a:r>
              <a:rPr b="0" lang="ru-RU" sz="3600" spc="-1" strike="noStrike">
                <a:solidFill>
                  <a:srgbClr val="ffff00"/>
                </a:solidFill>
                <a:latin typeface="Corbel"/>
              </a:rPr>
              <a:t> массовые инфекционные болезни животных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Corbel"/>
              </a:rPr>
              <a:t>Эпифитотии –</a:t>
            </a:r>
            <a:r>
              <a:rPr b="0" lang="ru-RU" sz="3600" spc="-1" strike="noStrike">
                <a:solidFill>
                  <a:srgbClr val="ffff00"/>
                </a:solidFill>
                <a:latin typeface="Corbel"/>
              </a:rPr>
              <a:t> массовые болезни растений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2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onsolas"/>
              </a:rPr>
              <a:t>Космические природные явления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663" name="Picture 7" descr="астероидl"/>
          <p:cNvPicPr/>
          <p:nvPr/>
        </p:nvPicPr>
        <p:blipFill>
          <a:blip r:embed="rId1"/>
          <a:stretch/>
        </p:blipFill>
        <p:spPr>
          <a:xfrm>
            <a:off x="457200" y="1371600"/>
            <a:ext cx="33703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c1eeff"/>
                </a:solidFill>
                <a:latin typeface="Consolas"/>
              </a:rPr>
              <a:t>Геологические оболочки и геосферы Земли</a:t>
            </a:r>
            <a:endParaRPr b="0" lang="en-US" sz="43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620" name="Picture 9" descr="сферы"/>
          <p:cNvPicPr/>
          <p:nvPr/>
        </p:nvPicPr>
        <p:blipFill>
          <a:blip r:embed="rId1"/>
          <a:stretch/>
        </p:blipFill>
        <p:spPr>
          <a:xfrm>
            <a:off x="2895480" y="2355840"/>
            <a:ext cx="3810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onsolas"/>
              </a:rPr>
              <a:t>Метеоры и метеориты</a:t>
            </a: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665" name="Picture 7" descr="179_item_pict_big"/>
          <p:cNvPicPr/>
          <p:nvPr/>
        </p:nvPicPr>
        <p:blipFill>
          <a:blip r:embed="rId1"/>
          <a:stretch/>
        </p:blipFill>
        <p:spPr>
          <a:xfrm>
            <a:off x="228600" y="1371600"/>
            <a:ext cx="441972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onsolas"/>
              </a:rPr>
              <a:t>Кометы и астероиды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667" name="Picture 7" descr="meteor"/>
          <p:cNvPicPr/>
          <p:nvPr/>
        </p:nvPicPr>
        <p:blipFill>
          <a:blip r:embed="rId1"/>
          <a:stretch/>
        </p:blipFill>
        <p:spPr>
          <a:xfrm>
            <a:off x="228600" y="1371600"/>
            <a:ext cx="4038480" cy="403848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8" descr="asteroid"/>
          <p:cNvPicPr/>
          <p:nvPr/>
        </p:nvPicPr>
        <p:blipFill>
          <a:blip r:embed="rId2"/>
          <a:stretch/>
        </p:blipFill>
        <p:spPr>
          <a:xfrm>
            <a:off x="4876920" y="1981080"/>
            <a:ext cx="396216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Corbel"/>
              </a:rPr>
              <a:t>Домашнее задание: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rbel"/>
              </a:rPr>
              <a:t>Параграф 1.2 учить, подготовить в тетради конспект параграфа 1.3</a:t>
            </a:r>
            <a:endParaRPr b="0" lang="en-US" sz="4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Consolas"/>
              </a:rPr>
              <a:t>Классификация природных явлений по месту возникновения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Геологические (землетрясения, извержения вулканов, оползни, обвалы, снежные лавины);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Метеорологические (ураганы, бури, смерчи);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Гидрологические (наводнения, цунами, сели);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Биологические (эпидемии, эпизоотии, эпифитотии);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Космические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-3049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624" name="Picture 7" descr="w06"/>
          <p:cNvPicPr/>
          <p:nvPr/>
        </p:nvPicPr>
        <p:blipFill>
          <a:blip r:embed="rId1"/>
          <a:stretch/>
        </p:blipFill>
        <p:spPr>
          <a:xfrm>
            <a:off x="304920" y="1066680"/>
            <a:ext cx="4647960" cy="4419720"/>
          </a:xfrm>
          <a:prstGeom prst="rect">
            <a:avLst/>
          </a:prstGeom>
          <a:ln w="0">
            <a:noFill/>
          </a:ln>
        </p:spPr>
      </p:pic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181120" y="457200"/>
            <a:ext cx="35053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Corbel"/>
              </a:rPr>
              <a:t>Земная кора вместе с частью верхней мантии не является монолитным панцирем планеты, а состоит из нескольких больших плит. Выделяют 7 громадных плит и десятки плит поменьше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Consolas"/>
              </a:rPr>
              <a:t>Пограничные области между литосферными плитами называют сейсмическими поясами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627" name="Picture 6" descr="K-0604"/>
          <p:cNvPicPr/>
          <p:nvPr/>
        </p:nvPicPr>
        <p:blipFill>
          <a:blip r:embed="rId1"/>
          <a:stretch/>
        </p:blipFill>
        <p:spPr>
          <a:xfrm>
            <a:off x="1943280" y="2070000"/>
            <a:ext cx="571500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Consolas"/>
              </a:rPr>
              <a:t>Землетрясение </a:t>
            </a: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629" name="Picture 6" descr="48475220_1252379212_buildings"/>
          <p:cNvPicPr/>
          <p:nvPr/>
        </p:nvPicPr>
        <p:blipFill>
          <a:blip r:embed="rId1"/>
          <a:stretch/>
        </p:blipFill>
        <p:spPr>
          <a:xfrm>
            <a:off x="304920" y="1447920"/>
            <a:ext cx="43434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2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onsolas"/>
              </a:rPr>
              <a:t>Обвал              Оползень</a:t>
            </a: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 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631" name="Picture 7" descr="obval"/>
          <p:cNvPicPr/>
          <p:nvPr/>
        </p:nvPicPr>
        <p:blipFill>
          <a:blip r:embed="rId1"/>
          <a:stretch/>
        </p:blipFill>
        <p:spPr>
          <a:xfrm>
            <a:off x="457200" y="1828800"/>
            <a:ext cx="4038480" cy="403848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8" descr="5d98cc6d0339"/>
          <p:cNvPicPr/>
          <p:nvPr/>
        </p:nvPicPr>
        <p:blipFill>
          <a:blip r:embed="rId2"/>
          <a:stretch/>
        </p:blipFill>
        <p:spPr>
          <a:xfrm>
            <a:off x="4876920" y="228600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" dur="2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nsolas"/>
              </a:rPr>
              <a:t>Извержение вулкана</a:t>
            </a:r>
            <a:endParaRPr b="0" lang="en-US" sz="32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634" name="Picture 11" descr="KP_1-034"/>
          <p:cNvPicPr/>
          <p:nvPr/>
        </p:nvPicPr>
        <p:blipFill>
          <a:blip r:embed="rId1"/>
          <a:stretch/>
        </p:blipFill>
        <p:spPr>
          <a:xfrm>
            <a:off x="380880" y="1371600"/>
            <a:ext cx="403884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2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Consolas"/>
              </a:rPr>
              <a:t>Метеорологические природные явления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636" name="Picture 7" descr="смерч"/>
          <p:cNvPicPr/>
          <p:nvPr/>
        </p:nvPicPr>
        <p:blipFill>
          <a:blip r:embed="rId1"/>
          <a:stretch/>
        </p:blipFill>
        <p:spPr>
          <a:xfrm>
            <a:off x="304920" y="160020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0T17:20:45Z</dcterms:created>
  <dc:creator>Сергей</dc:creator>
  <dc:description/>
  <dc:language>en-US</dc:language>
  <cp:lastModifiedBy>user</cp:lastModifiedBy>
  <dcterms:modified xsi:type="dcterms:W3CDTF">2017-10-10T20:45:09Z</dcterms:modified>
  <cp:revision>11</cp:revision>
  <dc:subject/>
  <dc:title>Урок 2</dc:title>
</cp:coreProperties>
</file>